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7BB-984D-4AB5-9E81-DBAE0B1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882-7D88-467D-B1E7-65F851B0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67B-DBB2-494F-BD49-D3DDB75C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DF4-ABF7-412D-AAA2-DA25595E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34E2-7167-4ADB-AD2A-055311DC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5606-B2D5-4062-A941-65A49BA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591-CEB6-4BA6-9218-834E10D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341-9991-4DAB-A1B6-148341F9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55F-0C55-4881-9827-9CC024D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420-2266-4EC0-B97F-02D6630F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A5D6-083D-49B1-B774-89AE2A45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E80-DEBC-431E-8B4B-81AB0D5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277-C3B2-4C7C-818E-1E35007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4A71-024F-450F-B94D-92A2189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6A4-9FAD-4ADE-B872-0CA94F8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1B1-4B13-40D0-A4CF-3DA299CC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A40-A0CB-48D8-AAD4-01ADD93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C4A-E65A-4C4D-8CAC-A3954C7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C86-59A9-4153-9BDB-56D9ED59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467-ED4C-4B07-BEC9-D9A11CB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EA7-CD0A-430F-8C99-C496D74C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EDE-FDB7-444A-8CAA-CA1CF4B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38D-BEC6-46ED-AF30-9183A92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D5D-474D-4E05-AB54-1E384C2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E68-982A-4BF0-B29D-D2C34FBCD5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99D-468A-43AB-8196-7DCDEFCFB9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573912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офилактика ранних половых связей среди</a:t>
            </a:r>
            <a:br>
              <a:rPr sz="3600"/>
            </a:b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одростков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4400a8"/>
                </a:solidFill>
                <a:latin typeface="Arial"/>
              </a:rPr>
              <a:t>социальный педагог МБОУ СОШ № 13</a:t>
            </a:r>
            <a:br>
              <a:rPr sz="1800"/>
            </a:br>
            <a:r>
              <a:rPr b="0" lang="ru-RU" sz="1800" spc="-1" strike="noStrike">
                <a:solidFill>
                  <a:srgbClr val="4400a8"/>
                </a:solidFill>
                <a:latin typeface="Arial"/>
              </a:rPr>
              <a:t>Канагина Т.Н.</a:t>
            </a:r>
            <a:br>
              <a:rPr sz="1800"/>
            </a:br>
            <a:endParaRPr b="0" lang="en-US" sz="1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31640" y="4589280"/>
            <a:ext cx="5378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:\ноябрь 2018\гендерное\Новая папка\2516940.jpg"/>
          <p:cNvPicPr/>
          <p:nvPr/>
        </p:nvPicPr>
        <p:blipFill>
          <a:blip r:embed="rId1"/>
          <a:stretch/>
        </p:blipFill>
        <p:spPr>
          <a:xfrm>
            <a:off x="3132000" y="3789360"/>
            <a:ext cx="53787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Родительские перемены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е консультации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проект продолжается! За актуальной информацией о предстоящих консультациях вы можете следить на страниц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lfa-dialog.ru/roditeli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3889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Советы</a:t>
            </a:r>
            <a:br>
              <a:rPr sz="3200"/>
            </a:b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 родителям подростков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пускайте, чтобы ваш ребенок получал информацию о половой жизни из уст своих свер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ремя для откровенного разговора, не ставьте табу на темах полов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дите с ним его успехи, достижения, возможные планы на будущее, традиции своей семьи (недопущение ранних половых отношений, зрелый возраст вступления в брак, родительская ответственнос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вьте ценностные приоритеты на данном этапе взросления (здоровье, образование, спорт, путешеств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 ему, что только половая зрелость и настоящая любовь дают человеку право на полов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абота  с педколлективом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447560"/>
            <a:ext cx="64008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вещение педагогов в вопросе предупреждения беременности несовершеннолетних, оказание помощи в проведении мероприятий по профилактике преступлений против половой неприкосновенности несовершеннолетних, по воспитанию морально-нравственных отношений сред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еречень мероприяти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я на педагогических сове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проведение семин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изучение личностных особенностей обучающихся и выявление причин неадекватного поведения; дезадаптации, конфликтности, слабой успеваемости и неуспеваемости, изучение семейных взаимоотношений, социального окружени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онсультации для классных руководителей, направленные на профилактику вредных привычек, заболеваний, передающихся половым путем, нежелательной беременности, або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абота с учащимися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8280" y="1773360"/>
            <a:ext cx="640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популяризация здорового образа жизни, овладение школьниками знаниями в области медицины, права; формирование у подростков осознанного отношения к своему физическому и психическому здоровью, негативного отношения к вредным привычкам, ответственности за св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Беседы: 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здоровья. Репродуктивное здоровье девушки и юноши» (7-9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семьи «Семья- колыбель сча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-дискуссия «Ранние половые связи: риск или норма»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ие половые связи и их последств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00a8"/>
                </a:solidFill>
                <a:latin typeface="Arial"/>
              </a:rPr>
              <a:t>Классные часы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нужно знать подросткам о ранней беременност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Юношеская беременность: причины и последств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бор за тобой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говорим о сокровенно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еседы о главно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асные связи»(7-11 класс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о мальчишек и девчонок» (5-6 класс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Мероприятия 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социально-психологического тес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ностика ценностных ориентаций личности школьника (1-11 клас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ренинги  «Лики любви»(профилактика ранних половых связей и ВИЧ-инфек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овые занятия «О дружбе и любви», «Всему своё время!» (5-9 клас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анятия кружка «Этика и нравственность будущего семьянин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сероссийский день правовой помощи детям. «Вопрос — отве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Мероприяти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ые занятия «Конструктор отнош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сультации «Несколько ответов на конкретные вопросы» (7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терактивное занятие «Правила счастлив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спространение памяток для подростков «Последствия ранней половой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и со специалистам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26" name="Picture 5" descr="C:\Users\user\Desktop\0106_seo_zog_620.jpg"/>
          <p:cNvPicPr/>
          <p:nvPr/>
        </p:nvPicPr>
        <p:blipFill>
          <a:blip r:embed="rId1"/>
          <a:stretch/>
        </p:blipFill>
        <p:spPr>
          <a:xfrm>
            <a:off x="2438280" y="228600"/>
            <a:ext cx="3313080" cy="305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user\Desktop\8f4d05a28bad87249952f2f1aeefa946.jpg"/>
          <p:cNvPicPr/>
          <p:nvPr/>
        </p:nvPicPr>
        <p:blipFill>
          <a:blip r:embed="rId2"/>
          <a:stretch/>
        </p:blipFill>
        <p:spPr>
          <a:xfrm>
            <a:off x="5751360" y="228600"/>
            <a:ext cx="3087720" cy="305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ttps://cdn.culture.ru/images/48974e85-6968-5ab5-bff3-c2f972e2b6be"/>
          <p:cNvPicPr/>
          <p:nvPr/>
        </p:nvPicPr>
        <p:blipFill>
          <a:blip r:embed="rId3"/>
          <a:stretch/>
        </p:blipFill>
        <p:spPr>
          <a:xfrm>
            <a:off x="2438280" y="328464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1" descr="8 советов для здорового образа жизни."/>
          <p:cNvPicPr/>
          <p:nvPr/>
        </p:nvPicPr>
        <p:blipFill>
          <a:blip r:embed="rId4"/>
          <a:stretch/>
        </p:blipFill>
        <p:spPr>
          <a:xfrm>
            <a:off x="5751360" y="3284640"/>
            <a:ext cx="3087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Эпиграф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равственная чистота вовсе не заключается в неведении, а подразумевает сохранение добродетели при достаточной осведомлен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765000"/>
            <a:ext cx="6400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а хочет, чтобы дети были детьми, прежде чем быть взрослыми. Если мы хотим нарушить этот порядок, мы произведем скороспелые плоды, которые не будут иметь ни зрелости, ни вкуса и не замедлят испортиться. Дайте детству созреть в детя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-Жак Рус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6" descr=""/>
          <p:cNvPicPr/>
          <p:nvPr/>
        </p:nvPicPr>
        <p:blipFill>
          <a:blip r:embed="rId1"/>
          <a:stretch/>
        </p:blipFill>
        <p:spPr>
          <a:xfrm>
            <a:off x="2627280" y="1600200"/>
            <a:ext cx="604836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7e"/>
                </a:solidFill>
                <a:latin typeface="Arial"/>
              </a:rPr>
              <a:t>Ситуации</a:t>
            </a:r>
            <a:r>
              <a:rPr b="0" lang="ru-RU" sz="3200" spc="-1" strike="noStrike">
                <a:solidFill>
                  <a:srgbClr val="33007e"/>
                </a:solidFill>
                <a:latin typeface="Arial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33007e"/>
                </a:solidFill>
                <a:latin typeface="Arial"/>
              </a:rPr>
              <a:t>которые провоцируют на интимную близость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557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уединение вдв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й выезд на дачу, природу с ноче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 в манерах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ющая сексуальность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опьянение, воздействие нарко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порнографической проду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ые разговоры на сексуальны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инки в отсутств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9560" y="442800"/>
            <a:ext cx="6400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00a8"/>
                </a:solidFill>
                <a:latin typeface="Arial"/>
              </a:rPr>
              <a:t>Причины, побуждающие подростков  к раннему вступлению в половые связи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24000" y="2060640"/>
            <a:ext cx="6912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-14 лет- интерес и любопы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лет-жажда переживаний и потребность в сексуальной раз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лет и старше доминирует люб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Je te confirme par ailleurs que si tu le fais avant d’aller chez le gynéco,..."/>
          <p:cNvPicPr/>
          <p:nvPr/>
        </p:nvPicPr>
        <p:blipFill>
          <a:blip r:embed="rId1"/>
          <a:stretch/>
        </p:blipFill>
        <p:spPr>
          <a:xfrm>
            <a:off x="2340000" y="4076640"/>
            <a:ext cx="6480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4792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Последствия ранних половых связей</a:t>
            </a: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1125360"/>
            <a:ext cx="6400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беременность, которая чаще всего заканчивается абортом со всеми его негативными последств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и, заключенные между юношами и девушками, не достигшими полов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редко бывают бесплодными, дети, рождающиеся у таких родителей, — слаб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ительные заболевания половых путей и опасность заражения болезнями, передающимися половым пу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екологические заболевания как следствие аборта, беременности и родов в подростков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разрешимые социальные и морально-этические проблемы, связанные с ранним материн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гормональной регуляции репродуктивн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ексуальный опыт остается в памяти на всю жизнь. И именно от него зависит дальнейшее отношение к сек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Цель полового воспитания школьников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38280" y="2133360"/>
            <a:ext cx="6400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 для привития учащимся определенных , связанных с полом гигиенических знаний и навыков, воспитание ответственности за жизнь и здоровье будуще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Задачи полового воспитания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981000"/>
            <a:ext cx="6526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подростков понимания необходимости ответственного сексуального поведения, отрицательного отношения к раннему началу половой жизни, ответственного отношения к своему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информированности подростков по вопросам пола и тех изменений, которые происходят с ними в подростковы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основным навыкам общения и принятия осознанных решений в вопросах взаимоотношений с представителями другого 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подростков позитивного отношения  к здоровому образу жизни, планированию семьи и ответственному роди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Взаимодействие с родителям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социально-психологической помощи в вопросах воспитания детей, предупреждения раннего материнства, сохранения физического, эмоционального, психического, нравственного и духовного здоровь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40080" y="333360"/>
            <a:ext cx="6400800" cy="17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4400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  <a:ea typeface="Times New Roman"/>
              </a:rPr>
              <a:t>Тематические родительские собр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одростковая беременность. Кто виноват и что делать?» (8-9 кл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8280" y="1484280"/>
            <a:ext cx="6400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офилактика ранних сексуальных         связей» (10-11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бота родительских лектор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змещение информации сайте школы</a:t>
            </a:r>
            <a:r>
              <a:rPr b="0" lang="ru-RU" sz="2400" spc="-1" strike="noStrike">
                <a:solidFill>
                  <a:srgbClr val="4400a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Распространение памяток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Оформление  «Уголков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a8"/>
                </a:solidFill>
                <a:latin typeface="Arial"/>
              </a:rPr>
              <a:t>Проведение индивидуальных консуль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7:49:24Z</dcterms:created>
  <dc:creator>Student</dc:creator>
  <dc:description/>
  <dc:language>en-US</dc:language>
  <cp:lastModifiedBy>user</cp:lastModifiedBy>
  <dcterms:modified xsi:type="dcterms:W3CDTF">2022-11-23T09:59:31Z</dcterms:modified>
  <cp:revision>43</cp:revision>
  <dc:subject/>
  <dc:title>Отчет </dc:title>
</cp:coreProperties>
</file>