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949-2C40-4280-818E-C99EACDA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F9A-1531-4867-93BA-9F672571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761-8085-4397-8CC7-ADDD757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7CA-67F6-43F1-896A-153C0810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F2D-629E-47C8-BDB0-7D09B559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03C4-CB8B-4E4B-969F-68DCE84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C46B-B9E7-4CCD-995D-6D32756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2305-375E-4174-AE07-A6FADD0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D2E-9A25-4337-AA70-1991382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56B-7631-4A22-AABA-8850C70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7147-E5F7-4484-825F-741DF66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785-28F4-4FF6-8A40-3B13C44D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2E6-4229-4280-B09B-A815BD3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A08-1740-4F8A-B2E3-3FEC64B8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D89B-0154-4512-8238-5690E56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D20A-1ADC-41D6-B4DF-5F3097A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E74-BB37-4543-8FA8-6E77F5B4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ECA-8F86-4591-8E04-B467BF22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D32-CC0B-4633-A580-6E050E96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545-B9E3-403C-9FEA-7EC80F8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DE2-B516-4E55-98EE-E0A08A42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BFC-4C61-48B2-A3ED-C1C17F9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2DD-43D9-4134-A677-2E547EE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FFB-B8C1-4AA7-893E-DB10840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BAF1-3E25-4015-B170-85B83FE43A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CD42-2487-4C54-8411-D05EE7321D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573912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офилактика ранних половых связей среди</a:t>
            </a:r>
            <a:br>
              <a:rPr sz="3600"/>
            </a:b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одростков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4400a8"/>
                </a:solidFill>
                <a:latin typeface="Arial"/>
              </a:rPr>
              <a:t>социальный педагог МБОУ СОШ № 13</a:t>
            </a:r>
            <a:br>
              <a:rPr sz="1800"/>
            </a:br>
            <a:r>
              <a:rPr b="0" lang="ru-RU" sz="1800" spc="-1" strike="noStrike">
                <a:solidFill>
                  <a:srgbClr val="4400a8"/>
                </a:solidFill>
                <a:latin typeface="Arial"/>
              </a:rPr>
              <a:t>Канагина Т.Н.</a:t>
            </a:r>
            <a:br>
              <a:rPr sz="1800"/>
            </a:br>
            <a:endParaRPr b="0" lang="en-US" sz="1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31640" y="4589280"/>
            <a:ext cx="5378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:\ноябрь 2018\гендерное\Новая папка\2516940.jpg"/>
          <p:cNvPicPr/>
          <p:nvPr/>
        </p:nvPicPr>
        <p:blipFill>
          <a:blip r:embed="rId1"/>
          <a:stretch/>
        </p:blipFill>
        <p:spPr>
          <a:xfrm>
            <a:off x="3132000" y="3789360"/>
            <a:ext cx="53787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Родительские перемены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е консультации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проект продолжается! За актуальной информацией о предстоящих консультациях вы можете следить на страниц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lfa-dialog.ru/roditeli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3889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Советы</a:t>
            </a:r>
            <a:br>
              <a:rPr sz="3200"/>
            </a:b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 родителям подростков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пускайте, чтобы ваш ребенок получал информацию о половой жизни из уст своих свер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ремя для откровенного разговора, не ставьте табу на темах полов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дите с ним его успехи, достижения, возможные планы на будущее, традиции своей семьи (недопущение ранних половых отношений, зрелый возраст вступления в брак, родительская ответственнос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ьте ценностные приоритеты на данном этапе взросления (здоровье, образование, спорт, путешеств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 ему, что только половая зрелость и настоящая любовь дают человеку право на полов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абота  с педколлективом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447560"/>
            <a:ext cx="64008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вещение педагогов в вопросе предупреждения беременности несовершеннолетних, оказание помощи в проведении мероприятий по профилактике преступлений против половой неприкосновенности несовершеннолетних, по воспитанию морально-нравственных отношений сред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еречень мероприяти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я на педагогических сове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проведение семин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изучение личностных особенностей обучающихся и выявление причин неадекватного поведения; дезадаптации, конфликтности, слабой успеваемости и неуспеваемости, изучение семейных взаимоотношений, социального окружени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онсультации для классных руководителей, направленные на профилактику вредных привычек, заболеваний, передающихся половым путем, нежелательной беременности, або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абота с учащимися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8280" y="1773360"/>
            <a:ext cx="640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популяризация здорового образа жизни, овладение школьниками знаниями в области медицины, права; формирование у подростков осознанного отношения к своему физическому и психическому здоровью, негативного отношения к вредным привычкам, ответственности за св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Беседы: 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здоровья. Репродуктивное здоровье девушки и юноши» (7-9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семьи «Семья- колыбель сча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-дискуссия «Ранние половые связи: риск или норма»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ие половые связи и их последств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Классные часы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нужно знать подросткам о ранней беременност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Юношеская беременность: причины и последств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бор за тобой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говорим о сокровенно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еседы о главно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асные связи»(7-11 класс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о мальчишек и девчонок» (5-6 класс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Мероприятия 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социально-психологического тес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ностика ценностных ориентаций личности школьника (1-11 клас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енинги  «Лики любви»(профилактика ранних половых связей и ВИЧ-инфек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овые занятия «О дружбе и любви», «Всему своё время!» (5-9 клас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нятия кружка «Этика и нравственность будущего семьянин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сероссийский день правовой помощи детям. «Вопрос — отве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Мероприяти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ые занятия «Конструктор отнош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сультации «Несколько ответов на конкретные вопросы» (7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терактивное занятие «Правила счастлив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спространение памяток для подростков «Последствия ранней половой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и со специалистам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6" name="Picture 5" descr="C:\Users\user\Desktop\0106_seo_zog_620.jpg"/>
          <p:cNvPicPr/>
          <p:nvPr/>
        </p:nvPicPr>
        <p:blipFill>
          <a:blip r:embed="rId1"/>
          <a:stretch/>
        </p:blipFill>
        <p:spPr>
          <a:xfrm>
            <a:off x="2438280" y="228600"/>
            <a:ext cx="3313080" cy="305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user\Desktop\8f4d05a28bad87249952f2f1aeefa946.jpg"/>
          <p:cNvPicPr/>
          <p:nvPr/>
        </p:nvPicPr>
        <p:blipFill>
          <a:blip r:embed="rId2"/>
          <a:stretch/>
        </p:blipFill>
        <p:spPr>
          <a:xfrm>
            <a:off x="5751360" y="228600"/>
            <a:ext cx="3087720" cy="305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s://cdn.culture.ru/images/48974e85-6968-5ab5-bff3-c2f972e2b6be"/>
          <p:cNvPicPr/>
          <p:nvPr/>
        </p:nvPicPr>
        <p:blipFill>
          <a:blip r:embed="rId3"/>
          <a:stretch/>
        </p:blipFill>
        <p:spPr>
          <a:xfrm>
            <a:off x="2438280" y="328464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1" descr="8 советов для здорового образа жизни."/>
          <p:cNvPicPr/>
          <p:nvPr/>
        </p:nvPicPr>
        <p:blipFill>
          <a:blip r:embed="rId4"/>
          <a:stretch/>
        </p:blipFill>
        <p:spPr>
          <a:xfrm>
            <a:off x="5751360" y="3284640"/>
            <a:ext cx="3087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Эпиграф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равственная чистота вовсе не заключается в неведении, а подразумевает сохранение добродетели при достаточной осведомлен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765000"/>
            <a:ext cx="6400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а хочет, чтобы дети были детьми, прежде чем быть взрослыми. Если мы хотим нарушить этот порядок, мы произведем скороспелые плоды, которые не будут иметь ни зрелости, ни вкуса и не замедлят испортиться. Дайте детству созреть в детя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-Жак Рус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6" descr=""/>
          <p:cNvPicPr/>
          <p:nvPr/>
        </p:nvPicPr>
        <p:blipFill>
          <a:blip r:embed="rId1"/>
          <a:stretch/>
        </p:blipFill>
        <p:spPr>
          <a:xfrm>
            <a:off x="2627280" y="1600200"/>
            <a:ext cx="604836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7e"/>
                </a:solidFill>
                <a:latin typeface="Arial"/>
              </a:rPr>
              <a:t>Ситуации</a:t>
            </a:r>
            <a:r>
              <a:rPr b="0" lang="ru-RU" sz="3200" spc="-1" strike="noStrike">
                <a:solidFill>
                  <a:srgbClr val="33007e"/>
                </a:solidFill>
                <a:latin typeface="Arial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33007e"/>
                </a:solidFill>
                <a:latin typeface="Arial"/>
              </a:rPr>
              <a:t>которые провоцируют на интимную близость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557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уединение вдв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й выезд на дачу, природу с ноче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 в манерах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ющая сексуальность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опьянение, воздействие нарко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порнографической проду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ые разговоры на сексуальны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инки в отсутств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9560" y="44280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Причины, побуждающие подростков  к раннему вступлению в половые связи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24000" y="2060640"/>
            <a:ext cx="6912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-14 лет- интерес и любопы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лет-жажда переживаний и потребность в сексуальной раз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лет и старше доминирует люб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Je te confirme par ailleurs que si tu le fais avant d’aller chez le gynéco,..."/>
          <p:cNvPicPr/>
          <p:nvPr/>
        </p:nvPicPr>
        <p:blipFill>
          <a:blip r:embed="rId1"/>
          <a:stretch/>
        </p:blipFill>
        <p:spPr>
          <a:xfrm>
            <a:off x="2340000" y="4076640"/>
            <a:ext cx="6480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4792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Последствия ранних половых связей</a:t>
            </a: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1125360"/>
            <a:ext cx="6400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беременность, которая чаще всего заканчивается абортом со всеми его негативными последств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и, заключенные между юношами и девушками, не достигшими полов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редко бывают бесплодными, дети, рождающиеся у таких родителей, — слаб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ительные заболевания половых путей и опасность заражения болезнями, передающимися половым пу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екологические заболевания как следствие аборта, беременности и родов в подростков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разрешимые социальные и морально-этические проблемы, связанные с ранним материн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гормональной регуляции репродуктивн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ексуальный опыт остается в памяти на всю жизнь. И именно от него зависит дальнейшее отношение к сек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Цель полового воспитания школьников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38280" y="2133360"/>
            <a:ext cx="6400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 для привития учащимся определенных , связанных с полом гигиенических знаний и навыков, воспитание ответственности за жизнь и здоровье будуще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Задачи полового воспитания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981000"/>
            <a:ext cx="6526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подростков понимания необходимости ответственного сексуального поведения, отрицательного отношения к раннему началу половой жизни, ответственного отношения к своему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информированности подростков по вопросам пола и тех изменений, которые происходят с ними в подростковы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основным навыкам общения и принятия осознанных решений в вопросах взаимоотношений с представителями другого 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подростков позитивного отношения  к здоровому образу жизни, планированию семьи и ответственному роди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Взаимодействие с родителям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социально-психологической помощи в вопросах воспитания детей, предупреждения раннего материнства, сохранения физического, эмоционального, психического, нравственного и духовного здоровь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40080" y="333360"/>
            <a:ext cx="6400800" cy="17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4400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  <a:ea typeface="Times New Roman"/>
              </a:rPr>
              <a:t>Тематические родительские собр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одростковая беременность. Кто виноват и что делать?» (8-9 кл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8280" y="1484280"/>
            <a:ext cx="6400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офилактика ранних сексуальных         связей» (10-11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бота родительских лектор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змещение информации сайте школы</a:t>
            </a:r>
            <a:r>
              <a:rPr b="0" lang="ru-RU" sz="2400" spc="-1" strike="noStrike">
                <a:solidFill>
                  <a:srgbClr val="4400a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спространение памяток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Оформление  «Уголков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Проведение индивидуальных консуль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7:49:24Z</dcterms:created>
  <dc:creator>Student</dc:creator>
  <dc:description/>
  <dc:language>en-US</dc:language>
  <cp:lastModifiedBy>user</cp:lastModifiedBy>
  <dcterms:modified xsi:type="dcterms:W3CDTF">2022-11-23T09:59:31Z</dcterms:modified>
  <cp:revision>43</cp:revision>
  <dc:subject/>
  <dc:title>Отчет </dc:title>
</cp:coreProperties>
</file>