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9EF0-29F3-4911-83E8-58BCC04C8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C309-266E-4B1A-8E88-07A3D46F6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C3D0-243E-49D3-84B3-094998FD0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E850-8677-45A4-8AAD-2DEB2252F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409A4-FE89-4B03-AA27-53DDFD153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66EEB-027B-4454-9ACE-21FCEABD7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36BEE-EB1B-4DF8-9543-5280E825B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06CFE-B1EC-4D60-B292-1288DE71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4183A-89F1-416C-B34C-C11BA4419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62E48-0A9F-4A5A-A330-5EAA9F493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3869A-0731-4A62-9786-D05C5C0D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9C83-6E14-4296-A3EB-53CA7E115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FDDA3-5548-4AD3-A26B-C3162842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90FAB-2197-40E1-BB55-7E666048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9DBFA-E8AE-402F-86BA-F9A16DFD6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87519-FF83-4F1D-9C5F-8A4FFA4B4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49164-4829-47DA-B862-29CFD19B0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1067-9FA0-4A8D-A19B-DE590AC8A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0490-29EE-4ABA-AEC6-E5632E8C6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A6F4-AE13-4812-9FB2-FB6D74D30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6C99-D7C0-4690-9572-50A6BB3AC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3621-7B28-492A-9ADC-198E2C6F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0283-C3CE-4BF3-A921-95C0493F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6943-D0DC-4F53-98B1-15003148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39320" cy="2589480"/>
            <a:chOff x="3240" y="4267080"/>
            <a:chExt cx="9139320" cy="258948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39320" cy="258948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5680" cy="825480"/>
              <a:chOff x="5600880" y="5897520"/>
              <a:chExt cx="1255680" cy="825480"/>
            </a:xfrm>
          </p:grpSpPr>
          <p:sp>
            <p:nvSpPr>
              <p:cNvPr id="4" name=""/>
              <p:cNvSpPr/>
              <p:nvPr/>
            </p:nvSpPr>
            <p:spPr>
              <a:xfrm>
                <a:off x="5853240" y="6048360"/>
                <a:ext cx="842760" cy="517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6040" cy="4352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4680" cy="3272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4360" cy="25092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3480" cy="168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6600" cy="25416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3440" cy="1029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39680" cy="3412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480" y="5945040"/>
                <a:ext cx="1189080" cy="73044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0840" cy="457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1760" cy="824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79400" cy="1082520"/>
              <a:chOff x="2819520" y="5764320"/>
              <a:chExt cx="2579400" cy="10825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1240" cy="5968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0400" cy="5252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3800" cy="473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3440" cy="40788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4120" cy="3794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4200" cy="3031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58920" cy="21276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1120" cy="936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1360" cy="29376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4440" cy="7318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4400" cy="7700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69920" cy="39852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4080" cy="23652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0000" cy="7300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69880" cy="8920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09640" cy="6728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3720" cy="3697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1760" cy="10159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3080" cy="1301760"/>
              <a:chOff x="6553080" y="5334120"/>
              <a:chExt cx="2143080" cy="130176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5120" cy="115884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2200" cy="116856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5520" cy="39852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2680" cy="838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7440" cy="16992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5360" cy="5396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29960" cy="1411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6880" cy="68292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1440" cy="8445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7800" cy="1029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2960" cy="745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0440" cy="505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6320" cy="42876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1280" cy="3686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1600" cy="27936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0640" cy="2192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198360" cy="1270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3200" cy="407880"/>
              <a:chOff x="8381880" y="4800600"/>
              <a:chExt cx="673200" cy="4078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6600" cy="1508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7880" cy="8424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3600" cy="24624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3480" cy="2700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4160" cy="2937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3760" cy="33192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3040" cy="29376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58560" cy="208080"/>
                <a:chOff x="8542440" y="4897440"/>
                <a:chExt cx="358560" cy="2080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58560" cy="208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7280" cy="16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6920" cy="12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4480" cy="73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53637EC-2C41-4733-BC08-567436E6F548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39320" cy="2589480"/>
            <a:chOff x="3240" y="4267080"/>
            <a:chExt cx="9139320" cy="258948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39320" cy="258948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5680" cy="825480"/>
              <a:chOff x="5600880" y="5897520"/>
              <a:chExt cx="1255680" cy="8254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3240" y="6048360"/>
                <a:ext cx="842760" cy="517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6040" cy="4352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4680" cy="3272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4360" cy="25092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3480" cy="168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6600" cy="25416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3440" cy="1029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39680" cy="3412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480" y="5945040"/>
                <a:ext cx="1189080" cy="73044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0840" cy="457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1760" cy="824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79400" cy="1082520"/>
              <a:chOff x="2819520" y="5764320"/>
              <a:chExt cx="2579400" cy="10825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1240" cy="5968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0400" cy="5252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3800" cy="473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3440" cy="40788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4120" cy="3794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4200" cy="3031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58920" cy="21276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1120" cy="936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1360" cy="29376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4440" cy="7318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4400" cy="7700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69920" cy="39852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4080" cy="23652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0000" cy="7300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69880" cy="8920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09640" cy="6728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3720" cy="3697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1760" cy="10159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3080" cy="1301760"/>
              <a:chOff x="6553080" y="5334120"/>
              <a:chExt cx="2143080" cy="130176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5120" cy="115884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2200" cy="116856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5520" cy="39852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2680" cy="838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7440" cy="16992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5360" cy="5396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29960" cy="1411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6880" cy="68292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1440" cy="8445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7800" cy="1029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2960" cy="745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0440" cy="505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6320" cy="42876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1280" cy="3686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1600" cy="27936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0640" cy="2192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198360" cy="1270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3200" cy="407880"/>
              <a:chOff x="8381880" y="4800600"/>
              <a:chExt cx="673200" cy="4078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6600" cy="1508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7880" cy="8424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3600" cy="24624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3480" cy="2700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4160" cy="2937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3760" cy="33192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3040" cy="29376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58560" cy="208080"/>
                <a:chOff x="8542440" y="4897440"/>
                <a:chExt cx="358560" cy="2080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58560" cy="208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7280" cy="16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6920" cy="12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4480" cy="73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48FE864-987F-4D5D-B391-E60AD6F3854E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Самые большие острова и моря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9. Виктор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=217,291 км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на: Кана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селение: 1,875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мый населенный город: Кеймбридж-Бей (147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4572000" y="1413000"/>
            <a:ext cx="4361040" cy="37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10. Элсмир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=196,236 км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на: Кана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селение:146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мый населенный город: Грис-Фьор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4716360" y="1557360"/>
            <a:ext cx="4195800" cy="35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1. Саргассов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69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6-7 млн км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ибольшая глубина - 6995 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лёность 36,5-37 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5103720" y="2205000"/>
            <a:ext cx="4040280" cy="228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2. Филиппинско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76244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=5 726 тыс. км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ибольшая глубина - 11 022 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лёность 34,3 -35,1 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делено от океана группами островов: Японскими, Филиппинскими, Марианскими и т.д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5148360" y="2195640"/>
            <a:ext cx="3995640" cy="250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3. Кораллово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515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4791 тыс. км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ибольшая глубина – 9140 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лёность 34.5-35.5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его территории расположен Большой Барьерный риф -  самый большой коралловый риф в мир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5302080" y="1557360"/>
            <a:ext cx="3841920" cy="384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4. Аравийско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5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=3 832 тыс. км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ибольшая глубина – 4 652 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лёность 35-36 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ругие назва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Эритрейское мор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море Синдх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Зелёное мор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Оманское мор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Персидское мор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Индо-Арабское мор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5435640" y="1773360"/>
            <a:ext cx="3492360" cy="315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5. Южно-Китайско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3 537 тыс. км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ибольшая глубина – 5560 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лёность 32-34 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асто происходят тайфу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5292720" y="1773360"/>
            <a:ext cx="3549600" cy="330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6. Море Уэдделл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2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2 920 тыс. км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ибольшая глубина – 6820 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вое название: море Георга I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4284720" y="1844640"/>
            <a:ext cx="476244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7. Карибское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2 754 тыс. км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ибольшая глубина – 7686 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лёность 36,0 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ругое название: Антильское мор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4897440" y="1700280"/>
            <a:ext cx="4246560" cy="382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8. Средиземно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5988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=2 500 тыс. км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ибольшая глубина – 5121 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лёность  36 до 39,5 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ругие названия: Великое, Западное, Филистимско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2195640" y="3716280"/>
            <a:ext cx="5145120" cy="300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1. Гренланд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=2,166,086 км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на: Гренландия (автономная провинция Дани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селение: 56,96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мый населенный город: Нуук (16,464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76720" y="1413000"/>
            <a:ext cx="3643560" cy="49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9. Берингов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2 315  тыс. км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ибольшая глубина – 4151 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лёность 33—34,7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ругие названия: Камчатское, Бобров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292720" y="2133720"/>
            <a:ext cx="3619440" cy="247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10. Тасманов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7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 300 тыс. км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ибольшая глубина – 5200 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лёность 35-35,5 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5508720" y="2133720"/>
            <a:ext cx="3456000" cy="24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роисхождение названий морей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ргассово – от названия бурых водорослей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саргасс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илиппинское - в честь испанского монарха Филиппа I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ралловое - из-за обилия в нем как живых коралловых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лони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ре Уэдделла – в честь первооткрывателя, британского мореплавателя Джеймса Уэддел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роисхождение названий морей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рибское – от группы индейских народов – кариб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редиземное – из-за положения среди земель, составлявших весь известный древним мир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сманово – в честь голландского мореплавателя Абеля Тасма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ерингово - в честь мореплавателя Витуса Беринг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2. Новая Гвине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71516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=786,000 км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на: Индонези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апуа-Новая Гвине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селение: 11,306,94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мый населенный город: Порт-Морсби (364,12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258920" y="3213000"/>
            <a:ext cx="6469200" cy="337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3. Калимантан ( Борнео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=743,330 км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на: Бруней, Индонезия, Малайз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селение: 19,804,064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мый населенный город: Самаринда (726,223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788000" y="1484280"/>
            <a:ext cx="3935160" cy="44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4. Мадагаскар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=587,041  км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на: Мадагаска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селение: 22,599,098 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мый населенный город: Антананарив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1,4 млн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5796000" y="1413000"/>
            <a:ext cx="2455920" cy="487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5. Баффинова Земл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=507,451  км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на: Кана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селение: 11,0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мый населенный город: Икалуит (6,69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788000" y="1916280"/>
            <a:ext cx="4194000" cy="355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6. Суматр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=480,847  км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на: Индонез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селение: 50,365,538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мый населенный город: Мед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2,097,61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4859280" y="1989000"/>
            <a:ext cx="3635280" cy="36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7. Великобрита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=229,848 км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на: Великобрит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селение: 60,800,0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мый населенный город: Лондо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8,615,246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5508720" y="1700280"/>
            <a:ext cx="262548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8. Хонсю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=227,962 км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рана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по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селение: 103,000,000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мый населенный город: Токио (12,570,00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364000" y="1989000"/>
            <a:ext cx="3573720" cy="3227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1T16:06:58Z</dcterms:created>
  <dc:creator>V</dc:creator>
  <dc:description/>
  <dc:language>en-US</dc:language>
  <cp:lastModifiedBy>Екатерина Охотникова</cp:lastModifiedBy>
  <dcterms:modified xsi:type="dcterms:W3CDTF">2022-11-28T14:49:50Z</dcterms:modified>
  <cp:revision>18</cp:revision>
  <dc:subject/>
  <dc:title>Острова и моря</dc:title>
</cp:coreProperties>
</file>