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F2A-0197-4EE8-BCF8-6AAA7260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82D-3D03-4D01-89C6-A20705F8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D42-6B11-4AA9-AE52-39EBA515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176-180B-4BB1-9FC8-9C21CA76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DFBC-082F-4629-B38B-2B55BE00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2931-C541-4EA3-9D97-584C2730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3E60-4C59-4D18-B33C-7790877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26BF-D7BF-428C-A759-1416B0ED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7813-6124-4D76-A01D-28F41203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83D7-7BEA-46F8-9D04-A82A59D3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E707-DC46-444F-9F32-0CF7679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3DF-82C0-487C-84D6-C70CACDB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D6D3-FA82-49E6-8EE5-043310FF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EE86-1743-40F4-9F26-D881F5F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5B3-E06D-4FE4-BCD0-24801E06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E864-D445-41D6-A76E-C9410009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3225-B180-46B6-A5CB-9D1410B1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4F0-79EE-4EDB-8378-26800BB4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0CC-A3C0-4AE7-85DC-88BDF5D0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E6E-9362-460E-BCED-0ECA52C2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818-6FF0-4637-8F7E-3BB63FA4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54F-F7D1-41FA-BDA0-AF5A8A4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76F-00AA-492A-80F7-391954DA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834-9512-4C7E-A6FD-134F9F3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836290-AFF9-4ADB-BE1F-C5CD3A2B34C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CD5FC4-1372-47DA-8F75-5DE6D612B34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амые большие острова и мор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9. Виктор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217,291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,87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Кеймбридж-Бей (147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6104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0. Элсми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196,236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146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Грис-Фь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1958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Саргасс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6-7 млн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- 6995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6,5-37 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03720" y="2205000"/>
            <a:ext cx="404028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Филиппинс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5 726 тыс. км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ая глубина - 11 022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ёность 34,3 -35,1 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делено от океана группами островов: Японскими, Филиппинскими, Марианскими и т.д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48360" y="2195640"/>
            <a:ext cx="39956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Кораллов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4791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914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4.5-35.5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его территории расположен Большой Барьерный риф -  самый большой коралловый риф в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02080" y="1557360"/>
            <a:ext cx="384192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Аравийс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3 832 тыс. км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ьшая глубина – 4 652 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лёность 35-36 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е наз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ритрейск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оре Синдх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Зелён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манск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рсидское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ндо-Арабское мо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49236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Южно-Китайс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 537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556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2-34 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 происходят тайфу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54960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Море Уэддел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 920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682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е название: море Георга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7624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7. Карибско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 754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7686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 36,0 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ое название: Антильское мо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97440" y="1700280"/>
            <a:ext cx="424656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8. Средиземн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тыс. км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ая глубина – 5121 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ёность  36 до 39,5 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ие названия: Великое, Западное, Филистим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514512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 Гренланд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2,166,086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Гренландия (автономная провинция Дан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56,9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Нуук (16,46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64356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9. Беринг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2 315 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4151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3—34,7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ие названия: Камчатское, Бобр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61944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0. Тасман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 300 тыс. км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– 5200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ёность 35-35,5 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560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исхождение названий мор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ргассово – от названия бурых водорослей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арг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липпинское - в честь испанского монарха Филиппа 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алловое - из-за обилия в нем как живых коралловых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о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е Уэдделла – в честь первооткрывателя, британского мореплавателя Джеймса Уэдде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исхождение названий мор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ибское – от группы индейских народов – кариб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иземное – из-за положения среди земель, составлявших весь известный древним ми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сманово – в честь голландского мореплавателя Абеля Тасм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ингово - в честь мореплавателя Витуса Берин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Новая Гвине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786,000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Индонез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апуа-Новая Гвине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1,306,94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Порт-Морсби (364,1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646920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Калимантан ( Борне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743,330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Бруней, Индонезия, Малайз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9,804,064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Самаринда (726,22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93516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Мадагаска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587,041 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Мадагаск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22,599,098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Антананари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,4 мл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2455920" cy="48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Баффинова Зем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507,451 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11,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Икалуит (6,6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419400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6. Сумат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480,847  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50,365,53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Ме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2,097,61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3528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7. Великобр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229,848 км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: Великобр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: 60,800,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населенный город: Лондо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8,615,24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625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8. Хонс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27,962 км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н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еление: 103,000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населенный город: Токио (12,570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3573720" cy="32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6:06:58Z</dcterms:created>
  <dc:creator>V</dc:creator>
  <dc:description/>
  <dc:language>en-US</dc:language>
  <cp:lastModifiedBy>Екатерина Охотникова</cp:lastModifiedBy>
  <dcterms:modified xsi:type="dcterms:W3CDTF">2022-11-28T14:49:50Z</dcterms:modified>
  <cp:revision>18</cp:revision>
  <dc:subject/>
  <dc:title>Острова и моря</dc:title>
</cp:coreProperties>
</file>