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7B5-EF89-43ED-B831-33DF7C14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F5B-B8E8-4CE8-A24A-8C5888C9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7AD2-10EA-4044-A7E5-E3488E6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55ED0-9D17-4A0B-B1FA-3DD1B7A2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1EF98-3C54-4B3D-AA46-A99A1FBB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BFC9E-BDA1-4D89-8F5B-4C88C03B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59790-049D-41E8-BF78-7D0513FA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1990E-A1AC-4ACF-8BEF-67F2D6C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8AD01-CAE6-4916-9F58-E1256ADE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2B9B0-DCA0-4DAB-8072-3B72CD4C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823C2-11C0-4356-AF4F-53C84AF2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9C4C7-9C33-44C2-A056-84D6A0A7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AEB-20F2-4963-BB9F-4848E513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6E3FD-D215-46C1-BB7E-F1A6FDB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51143-8BA4-4810-8459-81826BFB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402F9-726A-4048-BE7C-A7D5EF55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47CB2-48AB-48CE-A508-A9FB5F9E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DB7EF-516A-49B0-88F0-4543F64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49DA3-7AE6-492B-931C-052C628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BFCC2-9B8A-4FF8-8B63-52344077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BB1A8-5A55-4BB1-A6C1-9BF5904F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3FDF4-E1B4-474B-A13C-5242A3F5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D8B66-B5C3-4F9A-BB33-CA454436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99E-4A32-459E-AB11-2E9F2BF7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F6B84-6F46-40C9-88CE-8C606313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EB8FE-D54D-4DB2-B0FC-6272486A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4765E-1442-4426-83FE-C4BA435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7D312-73C7-41A6-8482-5FC58CAE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F7BB8-0B2A-4A44-9725-E7AE18E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19BC3-1117-4048-B3D2-C3384EA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04F80-9DB0-4598-9133-E3A5381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5A469-A22E-4096-AE89-850CDAF5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32C09-CFCA-446C-8C1A-48114D43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35FBA-DDD2-4097-9A8C-BE6778B0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6E65-A37B-44A9-A8CC-EE12BE08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BA715-62EE-43A4-9C96-B104193C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938F5-14DE-4B0B-92FB-021EA757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C72B8-A49E-4853-A6F8-7C01CD0F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7AF6D-6716-4BD7-824C-813B6226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DF4F6-74E8-404D-B354-ED3C29C8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8F0E0-1AED-4015-9C55-94F03505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D2C29-DDE6-4F83-9EDC-1634617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432D0-E765-4F6E-808B-A4EA31AD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60BAF-5C26-4B53-B9A2-B0A82BBA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6CA8A-3D1D-4390-910E-2F2531D1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F16A-43EB-473D-BCFD-4DD64231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4D5BD-2938-4BC4-96A6-929A8428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B93B6-7526-448E-888D-2DCD17C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EB4D0-F882-4186-9B28-C720535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0CDDE-5054-4D71-9668-2460A309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ED6B5-1EA0-454B-8DA6-4BE44499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3BD5-38D3-4A81-86B0-FE3E9593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FD49-A21A-47B9-9E94-4EA0E951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29DE-B667-482B-ACDE-80DFE76D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BA1A-6CCA-4801-A5B1-F5727465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74D7-D696-48D4-BDDB-6234951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0A2-750D-4E9B-A56A-45E783F6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4C5F-9186-41AE-80F2-2A3CE2C8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9928-70F0-4791-8920-87C2A7F7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0E15-0724-4E6B-B3BB-ACD20322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DEE2-CB46-4718-8E85-C307EB51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9DF4-1309-4B45-87C1-4EF9A39C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BD36-FC55-4030-AD5E-1F2205F5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FFDF-633D-46D5-BCE2-D011D17C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0C64-0938-4C59-86F5-F3C1CAD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97ED-6CDD-4E2D-B87B-E0B2F440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B1F7-10E4-40E7-A391-EBC911C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D12-D2FE-4B7D-ABD9-8F868566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C2B9-5752-4908-8157-83F6BD5F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27BA-6626-4ECC-861C-0C82CBA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236D-3313-45DB-B05D-88FFAAC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425F-3B87-47B5-B0BA-A9415FA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B4A8-9635-4E63-AE18-3152B9F6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F38F-64AA-4D4B-B6A3-F4752B9C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07CC-A887-4B36-A0CB-3D6BEF64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64A4-8AB8-4909-B5E0-F7DE54A6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7A63B-3755-4BD2-AC5C-4B0137D0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86BB-8A31-4BA3-AF44-B51281F6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530-F2E5-4EB4-B983-3D98BFF9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0953-04DC-46AD-AC7D-97FAD918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C2F7-A2E3-4F56-ACAE-553DDCA0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80D9-D6DA-4BCD-AC20-C72E246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DDFA-6A17-4FB7-A275-C75B50C5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233B-37BD-40FF-9D7B-91454294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8C024-ECF6-4966-8BA0-42D33728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5EFFD-5620-4567-95B0-782C287E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67CA-8C79-4E5A-9378-5A365E33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1057-A928-4149-8C8B-A3D1932C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DBAE4-BE66-4F40-A81B-EE28B2F1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E2A-7CB4-4A06-98B9-832D66B0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91802-2009-433C-89FA-52E879F6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F6AB3-081D-4082-9D4C-57D2F769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A137-03B5-410B-8C31-83708248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B89A-4D42-4665-9493-BE4DD14B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61F7A-DAC9-4E8A-AA8A-DA1E4386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D640-AFF5-4653-972E-8C5DC4EF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8BAC-ABEA-459C-A83B-DED3D1D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0094-5678-49AB-8903-F803D842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0115F-FB98-46A2-80F7-FB01305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68A9-DA13-4905-92A4-52A64C52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F7A-4A2C-4B8E-A0AD-80CCE2EE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5F80-F215-45C3-8A52-371B8439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C100-5E18-4FFE-978F-375D9211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5375-2FE8-43DF-A272-518E809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82D4-8B26-44BB-B1D2-CCF7F2E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9D4B-285F-470A-8153-55113E82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DE751-3A39-4297-8843-25ADA298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85A8-D2DA-4BF6-8518-CD2DB9E1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15A9F-E1AA-45CC-A830-7931ACE3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E121D-BE34-4457-A978-5FDB623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B7966-AF93-4888-A333-CDDA7C6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571-013E-4C20-944F-FB68C59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4611F-B264-4A5A-A0F6-5700C5C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3F467-E371-40C1-87B0-0598E393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D3EE4-04AE-465E-AD7E-2A5B5E1D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54296-EF08-45D6-931A-9C21EC75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BED6-3754-4D4E-B020-3ED81FC3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D053-9B32-4513-9FC1-347C9C66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205D3-2ECB-4F91-A811-E89710D6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F98BB-F121-4E10-9B88-3FAF6939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74868-020A-4BE0-90B1-F2CB27C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47B59-C952-40B3-899A-9AEE8F9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5E5-C6AF-4AC1-A773-CB0EED53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1FD9-6541-43B1-9DDD-97D6E75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9B797-5648-4C9B-AB92-042E3C9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672A-2235-4839-AFFB-7471C3F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8434-A6E1-49FD-93D8-BD956071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0F96C-40A4-442C-92A8-BC262FFA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685AD-7181-49F9-A87C-305E7B9F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53BF-1BDD-4F42-A1D0-BA6F6A81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E9ADD-702F-45B5-8983-AC979D0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09DEF-B83B-46F5-B824-AEE7193E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5F5C3-D54C-48E3-99E8-7B37627A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D30-A143-40E4-B265-E0DE6D3F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0660-7D15-4FDD-A593-5838A6DE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AD5C2-B539-4941-BE5E-BD95F22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34121-259C-40A2-88EC-A1B1A83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6845B-FE4B-4E75-A82E-56A4B45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E403C-4255-487C-97DC-37CFE759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45D33-A32C-467F-85AB-4D232E05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0CA60-B4AB-4EA6-A1B5-2C672AF3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9D6E2-2789-431E-B501-553A7824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CA270-BBFB-4DA7-A682-ACC6A076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759BB-8D02-4883-BF59-21D5AE6E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4FDF-56DD-46A3-B042-EF973A27261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5DB0-1D9B-4349-A76E-7C8F25EF11A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428D-B016-4E5F-855E-09EDC454988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99CE-66D0-4184-9B36-AF618277B52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2EF-BFFB-43B1-9A24-C63715067D6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BC19-62D1-493B-A178-9936E7544EF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5DCB-D0B3-40F2-B4CC-5A3A9CABD81A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9F39-ECDB-4A4C-B1EE-7582AE5B4DD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5CCF-8BC6-48A5-85CC-8289E5DC021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7620-1BD7-4ABB-8065-7E64B1F4560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8000" y="857160"/>
            <a:ext cx="5664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5e3c"/>
                </a:solidFill>
                <a:latin typeface="Calibri"/>
              </a:rPr>
              <a:t>МУНИЦИПАЛЬНОЕ АВТОНОМНОЕ ДОШКОЛЬНОЕ ОБРАЗОВАТЕЛЬНОЕ УЧРЕЖДЕНИЕ </a:t>
            </a:r>
            <a:r>
              <a:rPr b="1" lang="ru-RU" sz="2400" spc="-1" strike="noStrike">
                <a:solidFill>
                  <a:srgbClr val="4f5e3c"/>
                </a:solidFill>
                <a:latin typeface="Calibri"/>
              </a:rPr>
              <a:t>г.Нягани «Детский сад №5 «Дубрав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10920" y="2786040"/>
            <a:ext cx="799308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Использование 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</a:rPr>
              <a:t>Lego-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констру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в образовательной работе с дошкольника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одзаголовок 6"/>
          <p:cNvSpPr/>
          <p:nvPr/>
        </p:nvSpPr>
        <p:spPr>
          <a:xfrm>
            <a:off x="2928960" y="4759200"/>
            <a:ext cx="55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Подготовили: Гаджиева Ф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Самсонова М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826920" y="1197000"/>
            <a:ext cx="734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тор Лего (LEGO) - давно уже легендарный бренд и по-прежнему обыкновенное чудо: интерес к нему не затухает много десятилетий — с момента его появления в Дании в 194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го дня и вплоть до настоящего времени 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LEGO) ни разу не изменил своему девизу «Играй с удовольств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лова Лего два значения: «я учусь» и «я складыв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– неутомимые конструкторы, их творческие способности оригинальны. Они конструируют постепенно, «шаг за шагом», что позволяет двигаться, развиваться в собственном темпе, стимулирует решать новые, более сложные задачи. Конструирование помогает ребенку воплощать в жизнь свои идеи, строить и фантазировать. А любой успех побуждает желание уч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5343480" y="5157720"/>
            <a:ext cx="16905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"/>
          <p:cNvSpPr/>
          <p:nvPr/>
        </p:nvSpPr>
        <p:spPr>
          <a:xfrm>
            <a:off x="684360" y="620640"/>
            <a:ext cx="799128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играх с лего-конструктором большая роль принадлежит деятельности руки, связанной с активной работой сознания. Благодаря совместной деятельности руки, мозга и речевого аппарата человек имеет возможность воздействовать на внешний мир, познавая законы 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условиях детского сада строительные игры способствуют совершенствованию речи у детей: они делятся своими замыслами, объясняют свои действия, подсказывают то или иное решение. Расширяется словарный запас. При помощи деталей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можно познакомить детей не только с формой,величиной, но и с цветами. Усвоить такое понятие  как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чередование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Также конструктор можно использовать для изучения цветов и закрепления.  Например, «Игра «цветные домики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гаражи, заборчики и т. д.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 Использовать в рисовании вместо штамп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умения воспринимать, чувствовать и понимать прекрасное в окружающем мире; замечать хорошее и плохое; творчески самостоятельно дей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4022640" y="5157720"/>
            <a:ext cx="1881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1816200" y="1487520"/>
            <a:ext cx="5084640" cy="74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Admin</cp:lastModifiedBy>
  <dcterms:modified xsi:type="dcterms:W3CDTF">2022-11-28T18:14:18Z</dcterms:modified>
  <cp:revision>89</cp:revision>
  <dc:subject/>
  <dc:title>Слайд 1</dc:title>
</cp:coreProperties>
</file>