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01C-BE7B-484C-A9A8-D045C1DC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B94-7A2B-4621-B03E-72882A68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CFF40-AF08-4D26-99E6-C96D8783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52710-E1E3-4D23-BBC6-D0228BC8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48C61-D2B9-4322-B500-1B7B3B6F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AECB9-B5FC-45CD-92C7-13DB9087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53C53-96AD-426E-9243-D3C480E5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26DDE-B02D-42A6-886B-50A5A69D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550F7-5232-40F9-A03B-1DE2EC41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1FD7E-2CCB-4729-BF33-6468FB64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BC36C-9E8A-4139-B37D-FE176B04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8A5C3-296F-4DBA-9855-16D1B705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EFD-1B0A-4185-B02B-06D27962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F4DF5-EEA0-4D39-ABBD-E1F25A16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F1139-CD75-4218-9820-6FAEC148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1EE2C-3DFE-4CDD-9DD2-240FA393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6A0EA-920D-464C-94CB-41F749DA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25F8F-0724-4974-A4A7-D73F10C6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8A207-A737-4F6C-BACF-2B1DCA72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3A8DD-13AF-49FE-81D0-297CB932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10C08-E2A8-4F02-9751-E6B515F8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925E3-086D-49DD-93B0-A1E678A5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AAAFA-20B3-4F36-8F09-90FCCB81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8C3-466E-4933-9E37-F927691A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E2E86-1FDE-444B-8BE7-20827160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E54E2-6729-4925-8EF2-25518991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7F9DC-E1DC-4B94-8F04-55B74748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7AE8C-A00B-4E9D-B4C7-8EAB9D99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63125-73BE-4931-B5FB-E2B1852B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C3D2B-0C99-4E93-973C-828C2733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A3D5D-10E5-413C-81F9-2D2B344F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1D5C0-3CF7-4ABD-9BE2-974B5F00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6DA2C-BE61-4B8A-A62C-8929DCD2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770DA-8221-4F6E-9F60-41876779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F224-E01D-4821-902C-74A99A2E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695C0-864D-42EC-9A97-1A948EFB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61737-2E3D-4B89-A0C0-FBDA8CFB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F7929-ED53-4904-9847-F4BCC902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EF586-04E8-4ED2-A7C2-1263ECC2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97610-8B6D-468B-B54F-9FCB1CDC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8AD50-BC73-4E7E-9FBA-9E9D41F3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9B277-829F-4744-A519-9555776C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59F26-BFD4-40F4-B1BC-0D48E1D6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E5DA9-3D83-4F8D-8F67-9BAB7471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AB74C-7892-470D-A77B-EDF3AB6B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25F5-E048-430D-B3F9-56E2B46F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DDDA4-E952-4AF3-91AE-92EC7764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5775C-7072-46EC-9F26-D63ADD14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87439-0019-4EEF-8537-FFA4BD2D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C00CB-FE37-4F33-BC59-3C166CBD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EF893-8AFC-4FC0-BF62-721E41B8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7441-6D6C-4127-B1EF-C29B80D6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06AE-0341-47B1-BAB4-75DC104F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2842-CEFB-4FE5-B238-5E327038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71CF-5454-425B-8CB1-893D6750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CD76-CBF9-4449-B6C7-670C4FA7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180-E07C-4E9F-9A27-63FC1244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77E7-79DD-477E-BE9F-E15EE6E7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4409-D584-476E-9004-4CBAC187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B5BD-E50E-465A-976D-643ABF93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B3ED-420E-40B7-89A7-3F4234E9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A120-69C3-4455-94A2-B1945835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B7B42-D432-41E4-A194-4CAFAD78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D1FB6-1944-4A97-A2EA-CE505687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9DDF6-1477-400E-A11E-85DC762E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31D68-5B32-42FA-8AC6-E860EBCA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C5E2F-62BD-4F72-9711-E77D1DD8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0C2-D7CE-4540-A83A-A05B802D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0180C-50E9-4650-8D97-A426D4CC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E46DD-67D1-4AC4-BC1F-4ADD57EF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15FC-3CD8-458D-ACDB-A1605ACF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FCCE9-4E99-4A1F-91DD-07933F27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6B840-79F8-44A5-8F70-37F67C93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D691-68A5-4F6B-8984-370AC481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2044C-1099-4B89-94B0-1B595AC7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2E336-2887-4E48-B654-01BCC83D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284A0-C6C6-4DEC-AF4A-06BA9178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51AEC-B2A7-4E06-8E65-7628D978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0C0-B9C3-4377-8029-50E11D48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61D5-386E-4A52-A5CC-28DF1CB5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C18C2-1534-424C-83E8-F34385B6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8AC06-2858-40A7-A74D-229171F0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A7E28-4D3A-44E9-852B-F6CB4063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BB32E-67C7-4E0D-894F-7FCBC94C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4F331-2666-41C7-8118-88C988D3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F26CC-13BA-4703-A691-0779A9BD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B3509-80FB-4609-9536-92E10F89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71ECB-A794-4131-B3F1-0194FA83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AEA03-40BB-4350-B544-D9C56F24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DC8-B310-4D5D-8C2E-0B37E9B7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230D3-B0BB-48D9-ACCB-25202AA7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03878-C9E5-4A6D-94DA-B318D0B0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CF4EA-CC66-4D86-8C27-961DF037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C2661-C218-4FDF-BCA0-97B9968C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43A9B-AD9F-4FF4-B237-341760F3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461BC-00E9-4D6C-B6A4-A7EFC6E3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7CD70-9AA9-44F8-970A-A9A430A1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26499-FF8C-4831-90EA-C94975B3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586AD-C917-4491-92F4-93CFC704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AB314-AC05-4871-BE3D-C4785336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543-2A18-462A-B30B-82BB5732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77575-05D6-4F48-9791-0B0C7EBB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B77ED-22D1-4513-A3E1-3EB921B2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F29E3-D8A6-46B3-AB91-13E46D4A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40243-BEDC-43FC-939A-4A4FC6C3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784F4-7E9E-4DD8-97D9-BDE8D76E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B169D-CDE4-41A4-BB8B-969717B5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14B56-32E3-4DF2-893A-D97E7A1D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1664B-DF05-462C-B562-D4202390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A04D7-BEB4-4D53-ABFC-F82F4E12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D191A-B5E6-4110-8A00-47A05604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AD17-9CDE-4801-8DBB-C1CC85DA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6A06A-CDC1-45DA-9A52-007FC747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D52D2-B83B-4B59-9F24-59E31C43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B5218-5DE5-4A77-B31D-1E8E8804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6C890-DC78-4DC9-89C8-E36D918B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204DE-09BB-4B81-A5AD-111BEA83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1B88C-DDEA-4D2F-B827-C852CA43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48194-58B7-4A8B-8114-B4A5B694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870C6-8302-4AD5-A832-6270A174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498F1-EE09-4073-A6B1-874E8812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4EF18-C4B4-4957-A10D-6FCF80FB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FD42-5651-44E2-8AB0-0DC0E78C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3D768-B71D-4BD0-962D-B4CC1D70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8C118-5EDF-474E-9C1A-314D1AD7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363E8-D2F0-4F12-96C0-F0082DAC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D95A4-3F55-45F9-9BD3-AFF75586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0E9BD-D1A2-4F8E-913C-BA79FA04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988E5-CBA6-4F84-B994-43CD65FA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A289B-659E-4FC6-8F9B-3249683C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AAA80-B37A-403B-80EC-A817AADE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39BBD-ADB5-483E-938B-9AFA4E88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A65DB-28E1-4475-B149-117D4CEF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708-F529-4259-A194-1EE6A777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66649-E3BC-452E-84A1-42F4E677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071A6-6776-4006-A89F-B15A91EE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F59CA-280C-4115-86FF-73CC4F5E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A98C4-8DDC-4DF8-AE0D-F6D5E69B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D6F42-E854-4E77-94C9-284E2D63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164DF-D68C-400D-AB46-41AE118D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DC736-47E6-45FF-987A-C203E2D9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616D6-336C-450F-9638-C6F709E5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3A630-EE67-46E7-9E13-6544E35D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1FEAC-6E4F-4E47-80B9-3DB90B48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5764-71A6-4E7E-8F37-23BFB79B8E0B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5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333C-851B-475E-91C6-B9B07BDF2AAA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9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80D4-2606-4E4A-AA5E-0ECDDC332CAE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AB53-9F8E-432E-9498-2FEE93D51AED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3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7311-3992-4927-A75A-A63A71EBAAFE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D6C6-65D2-496C-91AB-61D72D1D9E6E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FFC6-50CB-4717-8E9B-C214829C8C6D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F520-9346-4194-8CD1-96BEE0713ABC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31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2B52-27E3-4D1F-95FA-75C002C8E0B5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36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078B-587E-4950-9B0B-D58306B51850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Горизонтальный свиток 4"/>
          <p:cNvSpPr/>
          <p:nvPr/>
        </p:nvSpPr>
        <p:spPr>
          <a:xfrm>
            <a:off x="1714680" y="571680"/>
            <a:ext cx="5857560" cy="221436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08000" y="857160"/>
            <a:ext cx="56642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5e3c"/>
                </a:solidFill>
                <a:latin typeface="Calibri"/>
              </a:rPr>
              <a:t>МУНИЦИПАЛЬНОЕ АВТОНОМНОЕ ДОШКОЛЬНОЕ ОБРАЗОВАТЕЛЬНОЕ УЧРЕЖДЕНИЕ </a:t>
            </a:r>
            <a:r>
              <a:rPr b="1" lang="ru-RU" sz="2400" spc="-1" strike="noStrike">
                <a:solidFill>
                  <a:srgbClr val="4f5e3c"/>
                </a:solidFill>
                <a:latin typeface="Calibri"/>
              </a:rPr>
              <a:t>г.Нягани «Детский сад №5 «Дубравуш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10920" y="2786040"/>
            <a:ext cx="799308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Использование </a:t>
            </a:r>
            <a:r>
              <a:rPr b="1" lang="en-US" sz="2800" spc="-1" strike="noStrike">
                <a:solidFill>
                  <a:srgbClr val="003300"/>
                </a:solidFill>
                <a:latin typeface="Calibri"/>
              </a:rPr>
              <a:t>Lego-</a:t>
            </a: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констру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в образовательной работе с дошкольникам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одзаголовок 6"/>
          <p:cNvSpPr/>
          <p:nvPr/>
        </p:nvSpPr>
        <p:spPr>
          <a:xfrm>
            <a:off x="2928960" y="4759200"/>
            <a:ext cx="55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alibri"/>
              </a:rPr>
              <a:t>Подготовили: Гаджиева Ф.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alibri"/>
              </a:rPr>
              <a:t>Самсонова М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1"/>
          <p:cNvSpPr/>
          <p:nvPr/>
        </p:nvSpPr>
        <p:spPr>
          <a:xfrm>
            <a:off x="826920" y="1197000"/>
            <a:ext cx="734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руктор Лего (LEGO) - давно уже легендарный бренд и по-прежнему обыкновенное чудо: интерес к нему не затухает много десятилетий — с момента его появления в Дании в 1949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го дня и вплоть до настоящего времени 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LEGO) ни разу не изменил своему девизу «Играй с удовольствие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слова Лего два значения: «я учусь» и «я складыва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– неутомимые конструкторы, их творческие способности оригинальны. Они конструируют постепенно, «шаг за шагом», что позволяет двигаться, развиваться в собственном темпе, стимулирует решать новые, более сложные задачи. Конструирование помогает ребенку воплощать в жизнь свои идеи, строить и фантазировать. А любой успех побуждает желание уч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5343480" y="5157720"/>
            <a:ext cx="16905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1"/>
          <p:cNvSpPr/>
          <p:nvPr/>
        </p:nvSpPr>
        <p:spPr>
          <a:xfrm>
            <a:off x="684360" y="620640"/>
            <a:ext cx="799128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играх с лего-конструктором большая роль принадлежит деятельности руки, связанной с активной работой сознания. Благодаря совместной деятельности руки, мозга и речевого аппарата человек имеет возможность воздействовать на внешний мир, познавая законы его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условиях детского сада строительные игры способствуют совершенствованию речи у детей: они делятся своими замыслами, объясняют свои действия, подсказывают то или иное решение. Расширяется словарный запас. При помощи деталей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г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можно познакомить детей не только с формой,величиной, но и с цветами. Усвоить такое понятие  как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чередование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Также конструктор можно использовать для изучения цветов и закрепления.  Например, «Игра «цветные домики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гаражи, заборчики и т. д.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. Использовать в рисовании вместо штамп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умения воспринимать, чувствовать и понимать прекрасное в окружающем мире; замечать хорошее и плохое; творчески самостоятельно действо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4022640" y="5157720"/>
            <a:ext cx="188136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1816200" y="1487520"/>
            <a:ext cx="5084640" cy="741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0:00:02Z</dcterms:created>
  <dc:creator>Admin</dc:creator>
  <dc:description/>
  <dc:language>en-US</dc:language>
  <cp:lastModifiedBy>Admin</cp:lastModifiedBy>
  <dcterms:modified xsi:type="dcterms:W3CDTF">2022-11-28T18:14:18Z</dcterms:modified>
  <cp:revision>89</cp:revision>
  <dc:subject/>
  <dc:title>Слайд 1</dc:title>
</cp:coreProperties>
</file>