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6F5-1AD4-4136-8D7E-DF5F6662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E80-2A71-446F-A25D-6938E075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270-3B7F-42C6-8CEE-2387FF46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8C3-D5BA-407A-8B29-8C6F08BA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66A-CD19-4CA1-AEFD-6136AE0C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192-7C76-4394-90E6-A9B20ED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21E-07F6-4657-879B-E20C9B2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B65-C330-4D33-838D-9A744F09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A11-BC9C-4E7F-8776-E0371318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FA-44BC-4FDC-B1C6-9DFD7B6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BD2-0048-4388-A18E-AEE76BF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875-5B5E-44DF-9483-5627B3A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017C-8FC7-4029-82B7-50E0B3095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00" y="1989000"/>
            <a:ext cx="8640720" cy="26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юмерная «Тайна образа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а реализации воспитательного потенциала в системе внеурочной деятельности шк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229360"/>
            <a:ext cx="813600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ыкова Ирина Мироно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МБОШИ  «Аскизский лицей-интернат» им.М.И.Чебода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95280" y="260280"/>
            <a:ext cx="83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ключение разных видов искусства в учебно-воспитательный процесс как форма эстетического воспитания современного школьника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базе МБОУ Усть-Есинская СОШ» им.М.Г.Торосова Аскизского района РХ), 16.01.202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643280" y="1503360"/>
            <a:ext cx="4222800" cy="381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76720" cy="3668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3972240" cy="362736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G:\Viber\IMG-641c2e9304a623d82afd85963b4bdc57-V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63" name="Picture 4" descr="G:\Viber\IMG-7931024906c004642d66eed2a5ba0746-V.jpg"/>
          <p:cNvPicPr/>
          <p:nvPr/>
        </p:nvPicPr>
        <p:blipFill>
          <a:blip r:embed="rId2"/>
          <a:stretch/>
        </p:blipFill>
        <p:spPr>
          <a:xfrm>
            <a:off x="179280" y="1387440"/>
            <a:ext cx="4392720" cy="4314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виды искусств служат величайшему из искусств – искусству жить на земл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71600" y="4286160"/>
            <a:ext cx="46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поэт и драматур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тольд Брех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граммы внеурочной деятельности «Костюмерная «Тайна образ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общества в развитии нравственных, эстетических качеств личности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 активной творческой личности, способной понимать общечеловеческие ценности, гордиться достижениями отечественной культуры и искусства, способной к творческому труду, сочинительству,  фантазированию средствами театральной деятель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редназначена для реализации в группе воспитанников Аскизского пришкольного интерната, обучающихся 10 клас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рограммы: общекультурно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еализации программы: круж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– 1 г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 нагрузка: 34 часа, 1 час в нед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художественно-эстетического восприятия окружающего мира, самовыражения и самореализации путем участия в творческих массовых мероприятиях, углубление знаний и представлений школьников о театральном искусстве посредством приобщения к общечеловеческим культурным ценност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обро, любовь к ближним, внимание к людям, родной земле, неравнодушное отношение к окружающему мир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равственно-эстетическую отзывчивость на прекрасное и безобразное в жизни и в искус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особенностями развития театрального костюма разных исторических эпох, с историей и развитием театрального искус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представлений о театральных профессиях (костюмер, швея, портной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программ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троятся на основе предметно-практической деятельности и способствуют развитию художественно-творческой деятельность ребёнка, направленной на познание мира (созерцание, размышление и практическая реализация замысла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приобретают навыки художественного творчества, получают представление о пропорциях, выразительности формы, отделки, декоративных свойствах материал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89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с другими школьными предмет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образительное искусство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хнолог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ование средств художественной выразительности в целях гармонизации форм и конструкций, изготовление изделий на основе правил конструирования и моделирования одежд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составная часть практических рабо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своение отдельных приёмов изобразительной деятельности по разработке эскиза театрального костюм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воение основных технологических приёмов и операций, лежащих в основе обработки текстильных материал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уделяется вопросу контроля и оценке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1800" cy="5549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464000" cy="528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5T05:37:10Z</dcterms:created>
  <dc:creator>Euroset</dc:creator>
  <dc:description/>
  <dc:language>en-US</dc:language>
  <cp:lastModifiedBy>Пользователь</cp:lastModifiedBy>
  <dcterms:modified xsi:type="dcterms:W3CDTF">2022-11-28T15:16:30Z</dcterms:modified>
  <cp:revision>24</cp:revision>
  <dc:subject/>
  <dc:title>Эстетическое воспитание школьников посредствам привлечения к организации кукольного театра</dc:title>
</cp:coreProperties>
</file>