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18C-D55B-48B8-B804-1B9306BA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106-B22D-423E-9548-D6E4C335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50A-6394-472A-A77B-507182CD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CEB-B3FA-4649-B6EE-B2245CD3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A2F-186A-4895-B338-C252C7F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988-3391-46C7-8335-88A25049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668-1BDE-4DD1-90CE-38412D3B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1C9-F842-4C06-80B0-F7CFB10F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4C3-77BC-4C38-A1C2-E6AA9DA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18B-7118-4F07-AEE7-7E85B37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D3F-5C6A-4B76-8DF7-F1D68E71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EC5-F821-4AAE-9C3E-E14BEC0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344-A60F-4A37-A651-7F3BFFBBF8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00" y="1989000"/>
            <a:ext cx="8640720" cy="26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юмерная «Тайна образа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орма реализации воспитательного потенциала в системе внеурочной деятельности шк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229360"/>
            <a:ext cx="8136000" cy="14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ыкова Ирина Мироно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МБОШИ  «Аскизский лицей-интернат» им.М.И.Чебода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95280" y="260280"/>
            <a:ext cx="83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ключение разных видов искусства в учебно-воспитательный процесс как форма эстетического воспитания современного школьника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базе МБОУ Усть-Есинская СОШ» им.М.Г.Торосова Аскизского района РХ), 16.01.202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643280" y="1503360"/>
            <a:ext cx="4222800" cy="381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76720" cy="3668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187280" y="3284640"/>
            <a:ext cx="3972240" cy="362736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G:\Viber\IMG-641c2e9304a623d82afd85963b4bdc57-V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63" name="Picture 4" descr="G:\Viber\IMG-7931024906c004642d66eed2a5ba0746-V.jpg"/>
          <p:cNvPicPr/>
          <p:nvPr/>
        </p:nvPicPr>
        <p:blipFill>
          <a:blip r:embed="rId2"/>
          <a:stretch/>
        </p:blipFill>
        <p:spPr>
          <a:xfrm>
            <a:off x="179280" y="1387440"/>
            <a:ext cx="4392720" cy="4314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виды искусств служат величайшему из искусств – искусству жить на земл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071600" y="4286160"/>
            <a:ext cx="46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 поэт и драматур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тольд Брех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граммы внеурочной деятельности «Костюмерная «Тайна образ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общества в развитии нравственных, эстетических качеств личности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ально активной творческой личности, способной понимать общечеловеческие ценности, гордиться достижениями отечественной культуры и искусства, способной к творческому труду, сочинительству,  фантазированию средствами театральной деятельн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редназначена для реализации в группе воспитанников Аскизского пришкольного интерната, обучающихся 10 клас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рограммы: общекультурно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еализации программы: круж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– 1 г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 нагрузка: 34 часа, 1 час в нед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72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художественно-эстетического восприятия окружающего мира, самовыражения и самореализации путем участия в творческих массовых мероприятиях, углубление знаний и представлений школьников о театральном искусстве посредством приобщения к общечеловеческим культурным ценност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добро, любовь к ближним, внимание к людям, родной земле, неравнодушное отношение к окружающему мир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равственно-эстетическую отзывчивость на прекрасное и безобразное в жизни и в искус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особенностями развития театрального костюма разных исторических эпох, с историей и развитием театрального искус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сширению представлений о театральных профессиях (костюмер, швея, портной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89856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программ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строятся на основе предметно-практической деятельности и способствуют развитию художественно-творческой деятельность ребёнка, направленной на познание мира (созерцание, размышление и практическая реализация замысла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приобретают навыки художественного творчества, получают представление о пропорциях, выразительности формы, отделки, декоративных свойствах материал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89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с другими школьными предмет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образительное искусство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ык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хнолог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ование средств художественной выразительности в целях гармонизации форм и конструкций, изготовление изделий на основе правил конструирования и моделирования одежд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составная часть практических рабо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своение отдельных приёмов изобразительной деятельности по разработке эскиза театрального костюм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своение основных технологических приёмов и операций, лежащих в основе обработки текстильных материал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уделяется вопросу контроля и оценке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1800" cy="5549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464000" cy="528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5T05:37:10Z</dcterms:created>
  <dc:creator>Euroset</dc:creator>
  <dc:description/>
  <dc:language>en-US</dc:language>
  <cp:lastModifiedBy>Пользователь</cp:lastModifiedBy>
  <dcterms:modified xsi:type="dcterms:W3CDTF">2022-11-28T15:16:30Z</dcterms:modified>
  <cp:revision>24</cp:revision>
  <dc:subject/>
  <dc:title>Эстетическое воспитание школьников посредствам привлечения к организации кукольного театра</dc:title>
</cp:coreProperties>
</file>