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2B5-B7DE-4BF1-A7E9-FA7562C5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7080"/>
            <a:ext cx="822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88C-5E01-434B-A0E4-1DAEB95F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CFB-DA20-41CD-9EF7-7B0666BF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70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70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70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CFF-7619-4804-9D2B-02F3D475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D5E-7582-4DD7-A966-61CE263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D0B-0DB8-4274-9A27-EC600278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ECA-DEAE-4D90-9090-130E9623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143-1F53-427B-9874-DAB75B9F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F06-036C-4C3C-9EFA-F6F374C0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822-0AC0-4866-BFE7-CFBDCCA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70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F90-E3A1-4302-BEA9-EB431260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822960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6DF-019C-479B-9C08-2655EC4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spcBef>
                <a:spcPts val="697"/>
              </a:spcBef>
              <a:buClr>
                <a:srgbClr val="000000"/>
              </a:buClr>
              <a:buFont typeface="Arial"/>
              <a:buChar char="–"/>
              <a:tabLst>
                <a:tab algn="l" pos="171360"/>
                <a:tab algn="l" pos="1085760"/>
                <a:tab algn="l" pos="2000160"/>
                <a:tab algn="l" pos="2914560"/>
                <a:tab algn="l" pos="3828960"/>
                <a:tab algn="l" pos="4743360"/>
                <a:tab algn="l" pos="5657760"/>
                <a:tab algn="l" pos="6572160"/>
                <a:tab algn="l" pos="7486560"/>
                <a:tab algn="l" pos="8400960"/>
                <a:tab algn="l" pos="9315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98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  <a:tab algn="l" pos="8915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600200"/>
                <a:tab algn="l" pos="2514600"/>
                <a:tab algn="l" pos="3429000"/>
                <a:tab algn="l" pos="4343400"/>
                <a:tab algn="l" pos="5257800"/>
                <a:tab algn="l" pos="6172200"/>
                <a:tab algn="l" pos="7086600"/>
                <a:tab algn="l" pos="8001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A4D-A383-498A-B7E3-BD52748107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яя олимпиад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нобль (155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Гренобль на карте"/>
          <p:cNvPicPr/>
          <p:nvPr/>
        </p:nvPicPr>
        <p:blipFill>
          <a:blip r:embed="rId1"/>
          <a:stretch/>
        </p:blipFill>
        <p:spPr>
          <a:xfrm>
            <a:off x="4356000" y="1700280"/>
            <a:ext cx="4319640" cy="415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51640" y="414972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524720" y="4221000"/>
            <a:ext cx="719280" cy="194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Саппоро на карте"/>
          <p:cNvPicPr/>
          <p:nvPr/>
        </p:nvPicPr>
        <p:blipFill>
          <a:blip r:embed="rId1"/>
          <a:stretch/>
        </p:blipFill>
        <p:spPr>
          <a:xfrm>
            <a:off x="4500720" y="1989000"/>
            <a:ext cx="3933720" cy="355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ппоро (1900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вся Япония -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Саппоро на карте"/>
          <p:cNvPicPr/>
          <p:nvPr/>
        </p:nvPicPr>
        <p:blipFill>
          <a:blip r:embed="rId2"/>
          <a:stretch/>
        </p:blipFill>
        <p:spPr>
          <a:xfrm>
            <a:off x="4500720" y="1989000"/>
            <a:ext cx="3933720" cy="3552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48360" y="2565360"/>
            <a:ext cx="7164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019640" y="2637000"/>
            <a:ext cx="165564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ево (275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 с влиянием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земноморског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кан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Сараево на карте"/>
          <p:cNvPicPr/>
          <p:nvPr/>
        </p:nvPicPr>
        <p:blipFill>
          <a:blip r:embed="rId1"/>
          <a:stretch/>
        </p:blipFill>
        <p:spPr>
          <a:xfrm>
            <a:off x="4140360" y="1844640"/>
            <a:ext cx="4487760" cy="428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093080" y="3933720"/>
            <a:ext cx="142920" cy="14472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235640" y="4076280"/>
            <a:ext cx="1081080" cy="2305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гари (1400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исты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и по запросу карта канады вики"/>
          <p:cNvPicPr/>
          <p:nvPr/>
        </p:nvPicPr>
        <p:blipFill>
          <a:blip r:embed="rId1"/>
          <a:stretch/>
        </p:blipFill>
        <p:spPr>
          <a:xfrm>
            <a:off x="4140360" y="2205000"/>
            <a:ext cx="4825800" cy="408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3640" y="5084640"/>
            <a:ext cx="7308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076720" y="5229000"/>
            <a:ext cx="503280" cy="1368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бервиль (175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Гренобль на карте"/>
          <p:cNvPicPr/>
          <p:nvPr/>
        </p:nvPicPr>
        <p:blipFill>
          <a:blip r:embed="rId1"/>
          <a:stretch/>
        </p:blipFill>
        <p:spPr>
          <a:xfrm>
            <a:off x="4356000" y="1700280"/>
            <a:ext cx="4319640" cy="4155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67640" y="400536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740720" y="4149720"/>
            <a:ext cx="792000" cy="20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ллехаммер (275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ая местность Шуше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Осло на карте"/>
          <p:cNvPicPr/>
          <p:nvPr/>
        </p:nvPicPr>
        <p:blipFill>
          <a:blip r:embed="rId1"/>
          <a:stretch/>
        </p:blipFill>
        <p:spPr>
          <a:xfrm>
            <a:off x="4643280" y="1844640"/>
            <a:ext cx="3943440" cy="418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08720" y="4869000"/>
            <a:ext cx="71280" cy="7272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580000" y="4941360"/>
            <a:ext cx="720720" cy="1366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ано (378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вся Япония -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Саппоро на карте"/>
          <p:cNvPicPr/>
          <p:nvPr/>
        </p:nvPicPr>
        <p:blipFill>
          <a:blip r:embed="rId1"/>
          <a:stretch/>
        </p:blipFill>
        <p:spPr>
          <a:xfrm>
            <a:off x="4500720" y="1989000"/>
            <a:ext cx="3933720" cy="3552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72360" y="4005360"/>
            <a:ext cx="712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443640" y="4149360"/>
            <a:ext cx="6494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т-Лейк-Сити (186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исты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Картинки по запросу карта сша вики"/>
          <p:cNvPicPr/>
          <p:nvPr/>
        </p:nvPicPr>
        <p:blipFill>
          <a:blip r:embed="rId1"/>
          <a:stretch/>
        </p:blipFill>
        <p:spPr>
          <a:xfrm>
            <a:off x="4284720" y="2421000"/>
            <a:ext cx="4610160" cy="2855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64000" y="3500280"/>
            <a:ext cx="7164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435280" y="3573000"/>
            <a:ext cx="865080" cy="2087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н (891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 с влиянием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земноморског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ортина-д’Ампеццо на карте"/>
          <p:cNvPicPr/>
          <p:nvPr/>
        </p:nvPicPr>
        <p:blipFill>
          <a:blip r:embed="rId1"/>
          <a:stretch/>
        </p:blipFill>
        <p:spPr>
          <a:xfrm>
            <a:off x="5148360" y="2205000"/>
            <a:ext cx="3335400" cy="4183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08720" y="2924280"/>
            <a:ext cx="144360" cy="14436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651280" y="3068280"/>
            <a:ext cx="1368360" cy="2305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нкувер (631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исты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и по запросу карта канады вики"/>
          <p:cNvPicPr/>
          <p:nvPr/>
        </p:nvPicPr>
        <p:blipFill>
          <a:blip r:embed="rId1"/>
          <a:stretch/>
        </p:blipFill>
        <p:spPr>
          <a:xfrm>
            <a:off x="4140360" y="1989000"/>
            <a:ext cx="4825800" cy="4089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27640" y="4869000"/>
            <a:ext cx="73080" cy="7272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500360" y="4941360"/>
            <a:ext cx="647640" cy="1582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мони-де-Монблан (98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е Альпы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Шамони-Мон-Блан на карте"/>
          <p:cNvPicPr/>
          <p:nvPr/>
        </p:nvPicPr>
        <p:blipFill>
          <a:blip r:embed="rId1"/>
          <a:stretch/>
        </p:blipFill>
        <p:spPr>
          <a:xfrm>
            <a:off x="4572000" y="1989000"/>
            <a:ext cx="4032360" cy="388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740720" y="4005360"/>
            <a:ext cx="7128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7811640" y="4149720"/>
            <a:ext cx="360360" cy="194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 (412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вказски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Сочи (Россия)"/>
          <p:cNvPicPr/>
          <p:nvPr/>
        </p:nvPicPr>
        <p:blipFill>
          <a:blip r:embed="rId1"/>
          <a:stretch/>
        </p:blipFill>
        <p:spPr>
          <a:xfrm>
            <a:off x="3564000" y="1989000"/>
            <a:ext cx="5364000" cy="3030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51280" y="4076640"/>
            <a:ext cx="7308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924360" y="4149360"/>
            <a:ext cx="792000" cy="180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хенчханг (44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ссонны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очно-Корейские гор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хёнчхан на карте"/>
          <p:cNvPicPr/>
          <p:nvPr/>
        </p:nvPicPr>
        <p:blipFill>
          <a:blip r:embed="rId1"/>
          <a:stretch/>
        </p:blipFill>
        <p:spPr>
          <a:xfrm>
            <a:off x="4356000" y="1700280"/>
            <a:ext cx="4203720" cy="3970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43640" y="263700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16360" y="2781000"/>
            <a:ext cx="360360" cy="3311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28 и 1948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кт-Мориц (51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вейцар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и по запросу карты швейцарии вики"/>
          <p:cNvPicPr/>
          <p:nvPr/>
        </p:nvPicPr>
        <p:blipFill>
          <a:blip r:embed="rId1"/>
          <a:stretch/>
        </p:blipFill>
        <p:spPr>
          <a:xfrm>
            <a:off x="4284720" y="2381400"/>
            <a:ext cx="4390920" cy="281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812000" y="4221000"/>
            <a:ext cx="7308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7884720" y="4365360"/>
            <a:ext cx="358920" cy="1584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32 и 1980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к-Плэсид (2600 чел.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Аппалачи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 самом деле нет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и по запросу карта сша вики"/>
          <p:cNvPicPr/>
          <p:nvPr/>
        </p:nvPicPr>
        <p:blipFill>
          <a:blip r:embed="rId1"/>
          <a:stretch/>
        </p:blipFill>
        <p:spPr>
          <a:xfrm>
            <a:off x="3743280" y="2349360"/>
            <a:ext cx="5400720" cy="334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172360" y="3141720"/>
            <a:ext cx="730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8243640" y="3284280"/>
            <a:ext cx="431640" cy="2592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3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миш-Партенкирхен (26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вар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Гармиш-Партенкирхен на карте"/>
          <p:cNvPicPr/>
          <p:nvPr/>
        </p:nvPicPr>
        <p:blipFill>
          <a:blip r:embed="rId1"/>
          <a:stretch/>
        </p:blipFill>
        <p:spPr>
          <a:xfrm>
            <a:off x="4500720" y="2060640"/>
            <a:ext cx="3686040" cy="436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16720" y="6237360"/>
            <a:ext cx="71280" cy="712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588000" y="4941720"/>
            <a:ext cx="1944720" cy="1295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52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ло (635 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ж совсем точно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Холменколен (пригород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ло-фьорд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Осло на карте"/>
          <p:cNvPicPr/>
          <p:nvPr/>
        </p:nvPicPr>
        <p:blipFill>
          <a:blip r:embed="rId1"/>
          <a:stretch/>
        </p:blipFill>
        <p:spPr>
          <a:xfrm>
            <a:off x="4643280" y="1844640"/>
            <a:ext cx="3943440" cy="4183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08720" y="5300640"/>
            <a:ext cx="142920" cy="14436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651280" y="5445000"/>
            <a:ext cx="649080" cy="1152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тина 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пеццо (58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 с влиянием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земноморског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ортина-д’Ампеццо на карте"/>
          <p:cNvPicPr/>
          <p:nvPr/>
        </p:nvPicPr>
        <p:blipFill>
          <a:blip r:embed="rId1"/>
          <a:stretch/>
        </p:blipFill>
        <p:spPr>
          <a:xfrm>
            <a:off x="5148360" y="2205000"/>
            <a:ext cx="3335400" cy="4183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32720" y="2492280"/>
            <a:ext cx="7128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6803640" y="2565000"/>
            <a:ext cx="18716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во-Вэлли (32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 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ерра-Невад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и по запросу карта сша вики"/>
          <p:cNvPicPr/>
          <p:nvPr/>
        </p:nvPicPr>
        <p:blipFill>
          <a:blip r:embed="rId1"/>
          <a:stretch/>
        </p:blipFill>
        <p:spPr>
          <a:xfrm>
            <a:off x="4284720" y="2421000"/>
            <a:ext cx="4610160" cy="2855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3500280"/>
            <a:ext cx="71640" cy="7308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787640" y="3573360"/>
            <a:ext cx="863640" cy="194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64 и 1976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нсбрук (130000 чел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ый поя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инентальны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598"/>
              </a:spcBef>
              <a:buNone/>
              <a:tabLst>
                <a:tab algn="l" pos="571320"/>
                <a:tab algn="l" pos="1485720"/>
                <a:tab algn="l" pos="2400120"/>
                <a:tab algn="l" pos="3314520"/>
                <a:tab algn="l" pos="4228920"/>
                <a:tab algn="l" pos="5143320"/>
                <a:tab algn="l" pos="6057720"/>
                <a:tab algn="l" pos="6972120"/>
                <a:tab algn="l" pos="7886520"/>
                <a:tab algn="l" pos="8800920"/>
                <a:tab algn="l" pos="9715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ийские Альп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Иннсбрук на карте"/>
          <p:cNvPicPr/>
          <p:nvPr/>
        </p:nvPicPr>
        <p:blipFill>
          <a:blip r:embed="rId1"/>
          <a:stretch/>
        </p:blipFill>
        <p:spPr>
          <a:xfrm>
            <a:off x="4643280" y="2708280"/>
            <a:ext cx="4283280" cy="239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940360" y="4221000"/>
            <a:ext cx="71640" cy="7164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012000" y="4292280"/>
            <a:ext cx="792000" cy="1152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21:16:13Z</dcterms:created>
  <dc:creator>1</dc:creator>
  <dc:description/>
  <dc:language>en-US</dc:language>
  <cp:lastModifiedBy>Екатерина Охотникова</cp:lastModifiedBy>
  <dcterms:modified xsi:type="dcterms:W3CDTF">2022-11-28T20:04:10Z</dcterms:modified>
  <cp:revision>3</cp:revision>
  <dc:subject/>
  <dc:title>Зимняя олимпиада</dc:title>
</cp:coreProperties>
</file>