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8C8-FCCD-4F63-8F86-1867D1AA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08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902-E8FB-4194-9B34-C5A7469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179-00F3-40E3-A573-DB6D13CD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E7E-CBDA-4E36-A85F-5C8C01CD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777-FE84-448B-9EA4-05D4710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9A2-C45C-4480-91B6-B027FCB7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367-BE0F-4C37-B7C2-D3175E2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875-BE80-4638-9D61-FABC029E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5AB-C9BC-4C48-84A1-6596D2E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F34-01D3-4D84-A2CB-EBFBC54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D4A-1736-4B2D-AF64-F30D583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7D3-5B61-42C8-AF27-C0A0606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Arial"/>
              <a:buChar char="–"/>
              <a:tabLst>
                <a:tab algn="l" pos="171360"/>
                <a:tab algn="l" pos="1085760"/>
                <a:tab algn="l" pos="2000160"/>
                <a:tab algn="l" pos="2914560"/>
                <a:tab algn="l" pos="3828960"/>
                <a:tab algn="l" pos="4743360"/>
                <a:tab algn="l" pos="5657760"/>
                <a:tab algn="l" pos="6572160"/>
                <a:tab algn="l" pos="7486560"/>
                <a:tab algn="l" pos="8400960"/>
                <a:tab algn="l" pos="9315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4539-073A-4B57-9460-3301DD3725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яя олимпиад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нобль (155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Гренобль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319640" cy="415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51640" y="414972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524720" y="4221000"/>
            <a:ext cx="719280" cy="194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Саппоро на карте"/>
          <p:cNvPicPr/>
          <p:nvPr/>
        </p:nvPicPr>
        <p:blipFill>
          <a:blip r:embed="rId1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ппоро (190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я Япония -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Саппоро на карте"/>
          <p:cNvPicPr/>
          <p:nvPr/>
        </p:nvPicPr>
        <p:blipFill>
          <a:blip r:embed="rId2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48360" y="2565360"/>
            <a:ext cx="7164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019640" y="2637000"/>
            <a:ext cx="16556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ево (275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кан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Сараево на карте"/>
          <p:cNvPicPr/>
          <p:nvPr/>
        </p:nvPicPr>
        <p:blipFill>
          <a:blip r:embed="rId1"/>
          <a:stretch/>
        </p:blipFill>
        <p:spPr>
          <a:xfrm>
            <a:off x="4140360" y="1844640"/>
            <a:ext cx="4487760" cy="428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93080" y="3933720"/>
            <a:ext cx="142920" cy="144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235640" y="4076280"/>
            <a:ext cx="1081080" cy="2305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гари (140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и по запросу карта канады вики"/>
          <p:cNvPicPr/>
          <p:nvPr/>
        </p:nvPicPr>
        <p:blipFill>
          <a:blip r:embed="rId1"/>
          <a:stretch/>
        </p:blipFill>
        <p:spPr>
          <a:xfrm>
            <a:off x="4140360" y="2205000"/>
            <a:ext cx="4825800" cy="408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5084640"/>
            <a:ext cx="7308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076720" y="5229000"/>
            <a:ext cx="503280" cy="1368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ервиль (175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Гренобль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319640" cy="4155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67640" y="400536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740720" y="4149720"/>
            <a:ext cx="792000" cy="20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ллехаммер (275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ая местность Шуше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Осло на карте"/>
          <p:cNvPicPr/>
          <p:nvPr/>
        </p:nvPicPr>
        <p:blipFill>
          <a:blip r:embed="rId1"/>
          <a:stretch/>
        </p:blipFill>
        <p:spPr>
          <a:xfrm>
            <a:off x="4643280" y="1844640"/>
            <a:ext cx="3943440" cy="418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08720" y="4869000"/>
            <a:ext cx="71280" cy="72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580000" y="4941360"/>
            <a:ext cx="720720" cy="1366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ано (378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я Япония -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Саппоро на карте"/>
          <p:cNvPicPr/>
          <p:nvPr/>
        </p:nvPicPr>
        <p:blipFill>
          <a:blip r:embed="rId1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72360" y="4005360"/>
            <a:ext cx="712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43640" y="4149360"/>
            <a:ext cx="649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т-Лейк-Сити (186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4284720" y="2421000"/>
            <a:ext cx="4610160" cy="285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64000" y="3500280"/>
            <a:ext cx="7164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435280" y="3573000"/>
            <a:ext cx="865080" cy="2087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н (891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ортина-д’Ампеццо на карте"/>
          <p:cNvPicPr/>
          <p:nvPr/>
        </p:nvPicPr>
        <p:blipFill>
          <a:blip r:embed="rId1"/>
          <a:stretch/>
        </p:blipFill>
        <p:spPr>
          <a:xfrm>
            <a:off x="5148360" y="2205000"/>
            <a:ext cx="3335400" cy="4183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08720" y="2924280"/>
            <a:ext cx="144360" cy="14436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651280" y="3068280"/>
            <a:ext cx="1368360" cy="2305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нкувер (631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и по запросу карта канады вики"/>
          <p:cNvPicPr/>
          <p:nvPr/>
        </p:nvPicPr>
        <p:blipFill>
          <a:blip r:embed="rId1"/>
          <a:stretch/>
        </p:blipFill>
        <p:spPr>
          <a:xfrm>
            <a:off x="4140360" y="1989000"/>
            <a:ext cx="4825800" cy="408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4869000"/>
            <a:ext cx="73080" cy="72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500360" y="4941360"/>
            <a:ext cx="647640" cy="1582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мони-де-Монблан (98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Шамони-Мон-Блан на карте"/>
          <p:cNvPicPr/>
          <p:nvPr/>
        </p:nvPicPr>
        <p:blipFill>
          <a:blip r:embed="rId1"/>
          <a:stretch/>
        </p:blipFill>
        <p:spPr>
          <a:xfrm>
            <a:off x="4572000" y="1989000"/>
            <a:ext cx="4032360" cy="38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740720" y="4005360"/>
            <a:ext cx="712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7811640" y="4149720"/>
            <a:ext cx="360360" cy="194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 (412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казски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Сочи (Россия)"/>
          <p:cNvPicPr/>
          <p:nvPr/>
        </p:nvPicPr>
        <p:blipFill>
          <a:blip r:embed="rId1"/>
          <a:stretch/>
        </p:blipFill>
        <p:spPr>
          <a:xfrm>
            <a:off x="3564000" y="1989000"/>
            <a:ext cx="536400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51280" y="4076640"/>
            <a:ext cx="730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924360" y="4149360"/>
            <a:ext cx="792000" cy="180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хенчханг (44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ссо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о-Корейски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хёнчхан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203720" cy="397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3640" y="263700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16360" y="2781000"/>
            <a:ext cx="360360" cy="331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28 и 194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кт-Мориц (51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вейцар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и по запросу карты швейцарии вики"/>
          <p:cNvPicPr/>
          <p:nvPr/>
        </p:nvPicPr>
        <p:blipFill>
          <a:blip r:embed="rId1"/>
          <a:stretch/>
        </p:blipFill>
        <p:spPr>
          <a:xfrm>
            <a:off x="4284720" y="2381400"/>
            <a:ext cx="4390920" cy="281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12000" y="4221000"/>
            <a:ext cx="7308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884720" y="4365360"/>
            <a:ext cx="358920" cy="158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32 и 198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-Плэсид (2600 чел.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Аппалачи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самом деле нет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3743280" y="2349360"/>
            <a:ext cx="540072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172360" y="314172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8243640" y="3284280"/>
            <a:ext cx="431640" cy="2592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миш-Партенкирхен (26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вар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Гармиш-Партенкирхен на карте"/>
          <p:cNvPicPr/>
          <p:nvPr/>
        </p:nvPicPr>
        <p:blipFill>
          <a:blip r:embed="rId1"/>
          <a:stretch/>
        </p:blipFill>
        <p:spPr>
          <a:xfrm>
            <a:off x="4500720" y="2060640"/>
            <a:ext cx="3686040" cy="436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16720" y="6237360"/>
            <a:ext cx="712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588000" y="4941720"/>
            <a:ext cx="1944720" cy="1295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ло (635 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ж совсем точно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Холменколен (пригород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ло-фьорд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сло на карте"/>
          <p:cNvPicPr/>
          <p:nvPr/>
        </p:nvPicPr>
        <p:blipFill>
          <a:blip r:embed="rId1"/>
          <a:stretch/>
        </p:blipFill>
        <p:spPr>
          <a:xfrm>
            <a:off x="4643280" y="1844640"/>
            <a:ext cx="3943440" cy="4183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08720" y="5300640"/>
            <a:ext cx="142920" cy="14436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651280" y="5445000"/>
            <a:ext cx="649080" cy="1152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тина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пеццо (58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ортина-д’Ампеццо на карте"/>
          <p:cNvPicPr/>
          <p:nvPr/>
        </p:nvPicPr>
        <p:blipFill>
          <a:blip r:embed="rId1"/>
          <a:stretch/>
        </p:blipFill>
        <p:spPr>
          <a:xfrm>
            <a:off x="5148360" y="2205000"/>
            <a:ext cx="3335400" cy="418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32720" y="2492280"/>
            <a:ext cx="712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803640" y="2565000"/>
            <a:ext cx="18716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во-Вэлли (32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ерра-Невад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4284720" y="2421000"/>
            <a:ext cx="4610160" cy="2855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3500280"/>
            <a:ext cx="7164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787640" y="3573360"/>
            <a:ext cx="863640" cy="194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4 и 197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нсбрук (13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ий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Иннсбрук на карте"/>
          <p:cNvPicPr/>
          <p:nvPr/>
        </p:nvPicPr>
        <p:blipFill>
          <a:blip r:embed="rId1"/>
          <a:stretch/>
        </p:blipFill>
        <p:spPr>
          <a:xfrm>
            <a:off x="4643280" y="2708280"/>
            <a:ext cx="4283280" cy="239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940360" y="4221000"/>
            <a:ext cx="7164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12000" y="4292280"/>
            <a:ext cx="792000" cy="1152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21:16:13Z</dcterms:created>
  <dc:creator>1</dc:creator>
  <dc:description/>
  <dc:language>en-US</dc:language>
  <cp:lastModifiedBy>Екатерина Охотникова</cp:lastModifiedBy>
  <dcterms:modified xsi:type="dcterms:W3CDTF">2022-11-28T20:04:10Z</dcterms:modified>
  <cp:revision>3</cp:revision>
  <dc:subject/>
  <dc:title>Зимняя олимпиада</dc:title>
</cp:coreProperties>
</file>