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B6E-B1EA-4FC5-A3F7-9046A4A8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0CE-4C6A-4DD8-A491-00A9485A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555-E18C-4457-A003-1B03F5E7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A12-E35F-4BE3-9401-14AF9539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309-D6CE-45D8-83E1-C060CC28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2C8-33F3-4976-951D-8BBB4634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81E-864E-42ED-8BF8-71360F9F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0D9-C568-4E18-90B5-4F62EE20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C5F-B0B0-4B35-A4D2-D2457F6B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80F-5A2C-434C-BDB4-C9E565F9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B0B-3B6C-4B4C-B9C8-E8596C80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D11-F538-423B-8BF3-9898B45E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45D9-F6AF-44F5-92E2-9F29DD338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Вячеслав\Desktop\1614672698_17-p-sportivnii-fon-dlya-teksta-17.jpg"/>
          <p:cNvPicPr/>
          <p:nvPr/>
        </p:nvPicPr>
        <p:blipFill>
          <a:blip r:embed="rId1"/>
          <a:stretch/>
        </p:blipFill>
        <p:spPr>
          <a:xfrm>
            <a:off x="19080" y="-41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2305080" y="76500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№ 95 г Иркутска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1908000" y="2416320"/>
            <a:ext cx="56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здание интеллектуальной карты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истематизации привычки здорового образа жизни у детей дошкольного возраст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4067280" y="458136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и (организаторы): воспитате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нчук Анастасия Леонид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ульшина Елена Анатол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465280" y="55166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кутск 20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Вячеслав\Desktop\1614672698_17-p-sportivnii-fon-dlya-teksta-17.jpg"/>
          <p:cNvPicPr/>
          <p:nvPr/>
        </p:nvPicPr>
        <p:blipFill>
          <a:blip r:embed="rId1"/>
          <a:stretch/>
        </p:blipFill>
        <p:spPr>
          <a:xfrm>
            <a:off x="19080" y="-41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230508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1062000" y="995400"/>
            <a:ext cx="7056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интеллект-карт был предложен и разработан американским ученым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и Бьюзен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метод используется в разных сферах деятельности, а также и в образова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 – карта (или карта ума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метод графического выражения процессов восприятия, обработки и запоминания информации, творческих задач, инструмент развития памяти и мышл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Users\Вячеслав\Desktop\1217374_3.png"/>
          <p:cNvPicPr/>
          <p:nvPr/>
        </p:nvPicPr>
        <p:blipFill>
          <a:blip r:embed="rId2"/>
          <a:stretch/>
        </p:blipFill>
        <p:spPr>
          <a:xfrm>
            <a:off x="1039680" y="3375000"/>
            <a:ext cx="3000600" cy="199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Вячеслав\Desktop\yolyyo.jpg"/>
          <p:cNvPicPr/>
          <p:nvPr/>
        </p:nvPicPr>
        <p:blipFill>
          <a:blip r:embed="rId3"/>
          <a:stretch/>
        </p:blipFill>
        <p:spPr>
          <a:xfrm>
            <a:off x="6262560" y="3587760"/>
            <a:ext cx="1887840" cy="1785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Вячеслав\Desktop\2471280.jpg"/>
          <p:cNvPicPr/>
          <p:nvPr/>
        </p:nvPicPr>
        <p:blipFill>
          <a:blip r:embed="rId4"/>
          <a:stretch/>
        </p:blipFill>
        <p:spPr>
          <a:xfrm>
            <a:off x="4041720" y="3584520"/>
            <a:ext cx="21877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Вячеслав\Desktop\1614672698_17-p-sportivnii-fon-dlya-teksta-17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1187280" y="1052640"/>
            <a:ext cx="67694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ые свойства интеллект-кар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 - вся проблема с ее многочисленными сторонами и гранями оказывается прямо перед вами, ее можно окинуть одним взгляд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тельность- хорошая интеллектуальная карта имеет свою эстетику, ее рассматривать не только интересно, но и прият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инаемость- благодаря работе обоих полушарий мозга, использованию образов и цвета интеллект-карта легко запомин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Users\Вячеслав\Desktop\1614672698_17-p-sportivnii-fon-dlya-teksta-17.jpg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1187280" y="1052640"/>
            <a:ext cx="6769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792000" y="923760"/>
            <a:ext cx="756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м мы и предлагаем заняться: попробуйте составить комплексный план по поддержанию хорошей физической и психологической формы — в виде интеллект-карты. Так вы ничего не упустите из виду и сможете увидеть все причинно-следственные связ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187280" y="2492280"/>
            <a:ext cx="3097440" cy="3756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4572000" y="2360520"/>
            <a:ext cx="36720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Вячеслав\Desktop\1614672698_17-p-sportivnii-fon-dlya-teksta-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900000" y="1316160"/>
            <a:ext cx="777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ре заполнения дополнительных ветвей вы сможете проанализировать, что способствует вашему здоровью, а что мешает, и понять, как определенные виды деятельности идут вам на пользу в самых разных отношен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, физические упражнения не только помогают вам обрести хорошую физическую форму, но и улучшают сон, помогают бороться со стрессом, что, в свою очередь, делает вас более счастлив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уделите достаточно времени и внимания созданию такой интеллект-карты, вы получите все необходимые рекомендации по комплексному улучшению собственного здоровья. Держите ее под рукой — чтобы не упускать всё из ви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Вячеслав\Desktop\1614672698_17-p-sportivnii-fon-dlya-teksta-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Вячеслав\Desktop\1614672698_17-p-sportivnii-fon-dlya-teksta-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901800" y="981000"/>
            <a:ext cx="7340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1T02:35:30Z</dcterms:created>
  <dc:creator>Вячеслав</dc:creator>
  <dc:description/>
  <dc:language>en-US</dc:language>
  <cp:lastModifiedBy>Вячеслав</cp:lastModifiedBy>
  <dcterms:modified xsi:type="dcterms:W3CDTF">2022-11-11T04:47:21Z</dcterms:modified>
  <cp:revision>8</cp:revision>
  <dc:subject/>
  <dc:title>Презентация PowerPoint</dc:title>
</cp:coreProperties>
</file>