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9E9-449A-4D8F-B70E-FC0B4712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B26-5BED-4933-AA94-A9E6C440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750-91FB-4707-8387-14FEBC09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3C5-D2DE-46E0-A560-7831C63A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DD7-7A2B-4F27-9BF9-B0BC766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07E-558C-4274-BE02-9629E5E6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D48-CB22-42D7-BD24-44A756C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F99-D242-40B0-865B-296C7D5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C78-BBF1-4366-BCA9-BFF7601F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3E5-B149-4AE7-8C6D-892B051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FAD-9BF1-408D-840E-F254D5D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5AA-ED59-4593-B0EC-2FF4559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F4E4-C4CF-4C71-BC57-F7CA36E3A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1908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2305080" y="765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95 г Иркутск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908000" y="2416320"/>
            <a:ext cx="56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интеллектуальной карты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истематизации привычки здорового образа жизни у детей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067280" y="4581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(организаторы): воспита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нчук Анастасия Леонид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ульшина Елена Анатол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465280" y="5516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кутск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1908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30508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062000" y="995400"/>
            <a:ext cx="7056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нтеллект-карт был предложен и разработан американским учены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метод используется в разных сферах деятельности, а также и в образо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 – карта (или карта ума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метод графического выражения процессов восприятия, обработки и запоминания информации, творческих задач, инструмент развития памяти и мыш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Вячеслав\Desktop\1217374_3.png"/>
          <p:cNvPicPr/>
          <p:nvPr/>
        </p:nvPicPr>
        <p:blipFill>
          <a:blip r:embed="rId2"/>
          <a:stretch/>
        </p:blipFill>
        <p:spPr>
          <a:xfrm>
            <a:off x="1039680" y="3375000"/>
            <a:ext cx="300060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Вячеслав\Desktop\yolyyo.jpg"/>
          <p:cNvPicPr/>
          <p:nvPr/>
        </p:nvPicPr>
        <p:blipFill>
          <a:blip r:embed="rId3"/>
          <a:stretch/>
        </p:blipFill>
        <p:spPr>
          <a:xfrm>
            <a:off x="6262560" y="3587760"/>
            <a:ext cx="188784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Вячеслав\Desktop\2471280.jpg"/>
          <p:cNvPicPr/>
          <p:nvPr/>
        </p:nvPicPr>
        <p:blipFill>
          <a:blip r:embed="rId4"/>
          <a:stretch/>
        </p:blipFill>
        <p:spPr>
          <a:xfrm>
            <a:off x="4041720" y="3584520"/>
            <a:ext cx="2187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1187280" y="1052640"/>
            <a:ext cx="6769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свойства интеллект-кар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- вся проблема с ее многочисленными сторонами и гранями оказывается прямо перед вами, ее можно окинуть одним взгляд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ельность- хорошая интеллектуальная карта имеет свою эстетику, ее рассматривать не только интересно, но и прия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емость- благодаря работе обоих полушарий мозга, использованию образов и цвета интеллект-карта легко запомин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187280" y="1052640"/>
            <a:ext cx="6769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92000" y="923760"/>
            <a:ext cx="756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мы и предлагаем заняться: попробуйте составить комплексный план по поддержанию хорошей физической и психологической формы — в виде интеллект-карты. Так вы ничего не упустите из виду и сможете увидеть все причинно-следственные связ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3097440" cy="375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4572000" y="2360520"/>
            <a:ext cx="36720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900000" y="1316160"/>
            <a:ext cx="777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заполнения дополнительных ветвей вы сможете проанализировать, что способствует вашему здоровью, а что мешает, и понять, как определенные виды деятельности идут вам на пользу в самых разных отноше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физические упражнения не только помогают вам обрести хорошую физическую форму, но и улучшают сон, помогают бороться со стрессом, что, в свою очередь, делает вас более счастли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уделите достаточно времени и внимания созданию такой интеллект-карты, вы получите все необходимые рекомендации по комплексному улучшению собственного здоровья. Держите ее под рукой — чтобы не упускать всё из ви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901800" y="981000"/>
            <a:ext cx="7340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1T02:35:30Z</dcterms:created>
  <dc:creator>Вячеслав</dc:creator>
  <dc:description/>
  <dc:language>en-US</dc:language>
  <cp:lastModifiedBy>Вячеслав</cp:lastModifiedBy>
  <dcterms:modified xsi:type="dcterms:W3CDTF">2022-11-11T04:47:21Z</dcterms:modified>
  <cp:revision>8</cp:revision>
  <dc:subject/>
  <dc:title>Презентация PowerPoint</dc:title>
</cp:coreProperties>
</file>