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E21-E477-4D00-ABD9-56B1E640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951-3073-48C8-B6EE-ACBC0C74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B05-8007-42E2-B336-E396A49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8E2-C0C7-4B92-A816-EFF7F8B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D286-AA41-4121-9306-917930ED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D28B-5332-4AEC-BAF0-02EAA5A7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D8A9-6884-4191-98AF-F633F60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435-72D8-4DDA-9A64-050AFEC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C2D1-6BF3-4076-B059-12380AC5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BEEC-8722-4013-AF26-0516A98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139B-89BB-4EB5-9A19-2E04444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DB-BC68-4670-AC0E-EAB58274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A062-549A-4348-80FD-07FEA77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83A6-D00E-40B5-AF56-3B62B68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2935-F51C-4439-87B1-E8D3B93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896-0A5E-4C2F-9BD3-E2D2C201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8AF-8870-4998-9B9A-252850A3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B867-BF88-4508-B4AC-82195B1E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1399-1423-4CCF-8E0A-8D396C3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1B2C-042A-4CD7-A464-C3B6A2A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360D-78FD-4207-A4CB-BC151B9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A4D6-8E69-4899-BE0F-0A208315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07F-F26C-424E-A5C8-16757CA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AC0E-254D-43CD-988A-1BAD41C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84C7-064F-425B-865F-0F64821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68D0-B2B0-4DA1-939C-A6CD654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D7F6-7C34-49F5-8333-47F4203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CE78-F7BA-45BF-9EE2-966E9D40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8657-08C4-4FBE-99CB-DC1BB5DF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C6B9-F5BE-4453-A4DF-DFB23A72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AB61-F6A4-486E-AD4D-65075C6E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DCCE-C54F-4065-B459-FBD14571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A301-0DF4-4C0B-9431-8DBE148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079-B559-4B29-9909-F95BE882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3A93-8C11-4CA7-BBF6-A0FAE820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9720-F9E1-422F-8824-63E48FF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B6D6-73D5-4F6A-8D02-C2CE6E6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B79A-3FDA-4808-AB04-467E46A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0C1F-DF5C-4423-A466-BE3A9B0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C6D8-54E2-4560-B9E3-7A966432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5C28-1192-4799-BC75-764520E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DA20-D565-4FAB-A960-DA77DD0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C9A2-DEA8-4FE8-80A9-A913320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C23B-6AD2-43FF-B73A-D6CDF253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DFB-DA9D-4802-9453-BD90F84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A770-A6A4-4640-A22F-F480783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19A1-2F1F-4895-AAC6-F0AE539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F918-5D22-46B3-A562-50EFA71A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458F-516D-45BC-A03C-981EA26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CDF8-61F1-4EA9-A5CB-EC4E14B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41C9-9D20-43E8-8493-4517585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9568-EF46-478A-B0B3-E1D4950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8EDB-E0FC-4782-8186-ED7DFAC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DB46-5508-46B0-A2EE-BAE9B57D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2129-1199-4927-8D56-C43F5FDA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2E1-AA2A-45E7-A697-EC348FFE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312D-D810-4DE2-ADD5-3A969340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8706-479E-41A7-BE0D-6653528D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2EEA8-6A18-4551-A795-2FD291F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DDE6-B66E-4C13-AC24-09CD337F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A2B4-1982-4803-9D63-16C9188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D69A-B7E9-4D21-82A3-9E2BFF41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7F84-7150-4AE3-89C4-E4D488E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33E1-7F86-45D1-BCCF-E1CC612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61F4-529E-4778-BEB6-151BC41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BD489-0ABA-4C4D-9B87-1E94C06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F3A-B525-4008-BD4B-3219AB3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C11BF-3291-498A-ACE2-84E025B1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F275-26DC-424F-84FC-CFB8E6B9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2B95-BE79-4CF4-9C3F-2AA7F918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C0DF-B3C4-4C84-B9BB-09B8D89D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D94C1-C1C1-46DB-B165-8AC1E8D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3EAF-583C-4F92-B892-D51E7FE0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D31D-9757-4671-8DD6-32E5496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C563-EE4F-4907-A862-C3FB8A7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5D16-978D-41E8-95F6-2A7B189E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4A2A-8C97-4A5E-9890-CC01DD6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B8B-84F3-4E87-B5E8-ABE3329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5CD2-EDA6-4115-AB71-272BDEF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3468-9508-41CC-99F2-9B2F8455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205B-7CEA-46AD-A560-C1ABD0D8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4F4A-8511-4BA1-BCA8-1BEB11CD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DF32-4405-4888-98A9-366CBE52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C506-191E-4D74-AFC9-7FE67B10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B152F-33E3-4C48-9C40-84378101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A0999-7525-4FAF-AEB0-60DD153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056D-70F1-466F-A500-238A5215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CC20-D04B-4388-8F91-E9CCF1E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FFB-BC09-46E7-A991-EA84FA5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92A4-94BC-4DC6-B3D6-E4E5EF65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503E-7CD2-4311-B377-57A4FBD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3969-3AD5-498B-A1EE-0B53763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4E65C-BDEA-4CA1-AE7B-95ABE86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63750-F336-4797-B5BC-35C941E7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28B28-9432-4BAB-AC79-CB8FC570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1593-F561-464E-8015-3D10133E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A2CAC-FF73-49AE-9973-040A0EDC037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53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5B8BA-AD3E-4461-8B5A-1378965EEFB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05" name="Straight Connector 31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sosceles Triangle 26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sosceles Triangle 30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Isosceles Triangle 18" descr=""/>
            <p:cNvPicPr/>
            <p:nvPr/>
          </p:nvPicPr>
          <p:blipFill>
            <a:blip r:embed="rId11"/>
            <a:stretch/>
          </p:blipFill>
          <p:spPr>
            <a:xfrm>
              <a:off x="0" y="39600"/>
              <a:ext cx="871560" cy="55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1E08-C19A-4186-A160-FA5F821E925E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57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2A611-6C05-4C42-9977-E0D8B62381B3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21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67D8E-A903-4E97-AC04-0CDBD7EA240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265" name="Straight Connector 31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Isosceles Triangle 26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Isosceles Triangle 30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Isosceles Triangle 18" descr=""/>
            <p:cNvPicPr/>
            <p:nvPr/>
          </p:nvPicPr>
          <p:blipFill>
            <a:blip r:embed="rId11"/>
            <a:stretch/>
          </p:blipFill>
          <p:spPr>
            <a:xfrm>
              <a:off x="0" y="39600"/>
              <a:ext cx="871560" cy="55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949B6-1D0F-4ADA-9F55-9540CED6505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317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A4D49-DF87-4E22-BE2E-5EB23CB3BE3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37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D80F4-36A1-4A3A-A91A-B28DE417538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3520" y="331920"/>
            <a:ext cx="10107720" cy="6262560"/>
          </a:xfrm>
          <a:prstGeom prst="rect">
            <a:avLst/>
          </a:prstGeom>
          <a:solidFill>
            <a:srgbClr val="eaf6d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5400"/>
            </a:br>
            <a:r>
              <a:rPr b="0" lang="ru-RU" sz="2800" spc="-1" strike="noStrike">
                <a:solidFill>
                  <a:srgbClr val="6c911d"/>
                </a:solidFill>
                <a:latin typeface="Arial"/>
                <a:ea typeface="Arial"/>
              </a:rPr>
              <a:t>«НЕОБХОДИМОСТЬ МЕЖДИСЦИПЛИНАРНОЙ СУПЕРВИЗИИ В ВОСПИТАТЕЛЬНО-ОБРАЗОВАТЕЛЬНОМ ПРОЦЕССЕ»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Азарова Н.В., дефектолог, учитель-логопед, педагог-психолог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г. о Серпухов</a:t>
            </a: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2022 г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3520" y="331920"/>
            <a:ext cx="10107720" cy="6262560"/>
          </a:xfrm>
          <a:prstGeom prst="rect">
            <a:avLst/>
          </a:prstGeom>
          <a:solidFill>
            <a:srgbClr val="eaf6d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5400"/>
            </a:br>
            <a:r>
              <a:rPr b="0" lang="ru-RU" sz="2800" spc="-1" strike="noStrike">
                <a:solidFill>
                  <a:srgbClr val="6c911d"/>
                </a:solidFill>
                <a:latin typeface="Arial"/>
                <a:ea typeface="Arial"/>
              </a:rPr>
              <a:t>«НЕОБХОДИМОСТЬ МЕЖДИСЦИПЛИНАРНОЙ СУПЕРВИЗИИ В ВОСПИТАТЕЛЬНО-ОБРАЗОВАТЕЛЬНОМ ПРОЦЕССЕ»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Азарова Н.В., дефектолог, учитель-логопед, педагог-психолог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г. о Серпухов</a:t>
            </a: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2022 г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77520" y="512280"/>
            <a:ext cx="859644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Воспитательно-образовательный процесс - комплекс мероприятий, направленный на всестороннее развитие личности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Образовательный процесс направлен на освоение образовательной программы.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        </a:t>
            </a: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Индивидуализация образовательного процесса и зависимость от индивидуальных особенностей, способностей, возможностей, личного опыта обучаемого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119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Супервизия как наиболее целесообразный метод повышения уровня деятель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7520" y="2160360"/>
            <a:ext cx="11223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В супервизии есть возможность систематически видеть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осознавать, понимать и анализировать свои профессиональные           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действия и свое профессиональное поведение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Сложности, возникающие в процессе профессиональной деятельности (актуальный конфликт), стимулируют внутренний конфликт консультанта, механизмы его психологической защиты и совладания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Поэтому супервизия, наряду с обучением (в смысле передачи новых знаний и навыков), включает элемент психологическог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развития специалист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7000" y="568440"/>
            <a:ext cx="11277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0" lang="ru-RU" sz="2400" spc="-1" strike="noStrike">
                <a:solidFill>
                  <a:srgbClr val="2a5010"/>
                </a:solidFill>
                <a:latin typeface="Trebuchet MS"/>
              </a:rPr>
              <a:t>Супервизия — это процесс, во время которого супервизор и супервизируемый вместе узнают что-то новое о клиенте, друг о друге, о себе. Это сотрудничество двух профессионалов (более опытного и менее опытного или равных по опыту), в ходе которого консультант может описать и проанализировать свою работу в условиях конфиденциальности. Сколь бы компетентным ни был совет супервизора, он полезен лишь в том случае, когда обучаемый в состоянии воспринять его. Иногда он не может этого. Он не в состоянии отдать себе отчет в определенной информации о себе, о других или об отношениях, которая позволила бы ему продвинуться вперед. Такая супервизорская рекомендация не соответствует его “карте территории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9353520" cy="23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Образовательные области разнообразны. Образование как процесс затрагивает целый ряд необходимых навыков и знаний, выходящих за пределы конкретных изучаемых предметов и процессов, в том числе не педагогических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Поэтому междисциплинарная  супервизия может стать необходимым звеном в работе педагога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Супервизорство помогает адекватнее  увидеть и повлиять на особенности восприятия педагогом себя из роли специалиста.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Исследования показали, что с ростом опыта супервизируемого менялось поведение супервизора и их взаимоотношения. Так появилась научная основа эволюционных тенденций и паттернов в супервизии.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омощь супервизируемым в осознании их сильных сторон и зон развития, делает нас ответственными за их дальнейшее развитие и как специалистов помогающих профессий, и как супервизоров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5998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                         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Итоговые заключения: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1. Междисциплинарная супервизия на уровне общего образования в настоящее время достаточно проводится редко 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и для педагогов, и для психологов, работающих в сфере образования, и для обучаемых.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2. Практически не встречается разграничение по специализациям, работа проводится многопрофильными специалистами.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3. Место супервизии в образовательном процессе на начальных и средних ступенях образовательных уровней не предусмотрено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7T22:05:06Z</dcterms:created>
  <dc:creator>azar</dc:creator>
  <dc:description/>
  <dc:language>en-US</dc:language>
  <cp:lastModifiedBy>asv</cp:lastModifiedBy>
  <dcterms:modified xsi:type="dcterms:W3CDTF">2022-11-27T06:48:36Z</dcterms:modified>
  <cp:revision>51</cp:revision>
  <dc:subject/>
  <dc:title>Муниципальное дошкольное образовательное учреждение детский сад комбинированного вида № 29 «Пчёлка   Сообщение педагога-психолога на городском  методическом объединении Тема: «Деятельностный  подход в развитии речи дошкольников младшего возраста».    Подготовила Азарова Н.В., педагог-психолог   г.о Серпухов 2020 г</dc:title>
</cp:coreProperties>
</file>