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DFB-7954-4B0A-BA8A-8E3D983D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F54-1967-43BF-877B-A6703BBF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51A-5EB1-4149-AF6B-54616F2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F3A-49D7-4134-9AC6-20BAC5BA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5461-C63D-470C-BCBE-AAD25240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349B-99A1-453C-8708-B4706476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B9E-93C4-4555-AB64-6B0874A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3B33-E023-44CD-BF13-C51B2B3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B70-2984-41C6-A5C1-B1B8008B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D41-2759-4710-BA97-1631DE8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2A5-F4D0-40EE-B8EC-E9B9A7AF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050-982A-4610-8FC4-1BB9F15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916-FFBC-4107-A816-6967447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AA1A-6283-4A5D-AE04-531C103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3D11-628A-4E41-98D2-137D9323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EF29-0513-40F0-BD05-EA42A2D3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D65A-F53D-4EDD-9E20-866FC54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9FCB-01AD-4F4B-8ACF-C13C093F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A879-9D44-4E00-AC10-95924A9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8113-E309-4DE4-AE87-3D103A7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8F05-4A99-4E3E-9CF4-A02971DF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52E0-F6AD-48C7-8171-5AAC0B18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22E-8482-46F4-B0F6-A30FD174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1331-5B8C-422D-9FED-A396AC58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6022-E687-424C-A288-CF27934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72C9-6826-436B-A301-D2D7194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24E3-855F-4A10-A0D3-36656BE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5F99-8105-496C-AD6E-8F6CBE3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E7C4-C157-4540-960F-02EFD1CF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2185-0EE3-4541-81EF-2C1AD507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544E-9352-43D3-881A-D222089D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4E8D-EF77-4E74-951B-C24B73D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9D6A-CB3A-4409-A8B0-B5ECD9FC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C8D-92A8-4AD8-B10B-EB768DCD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DFC2-AA9B-4A5B-8EAD-8F8FB93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1139-DBBB-4E64-B2BA-D3514972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589F-FD51-4DF4-8C62-7FAE1D6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0DF8-0E08-431C-BB0C-543CF54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B8617-0C02-48CB-93A1-598A334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CA2E-2225-4968-8403-D53A410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F827-39B3-420F-BF89-E461DCCE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7CE88-9774-43C9-A7C0-49ECBE36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B9AB-BB40-4BA8-9E8C-E7C180A9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BAD7-8D80-47EB-BDF3-55CAA350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040-10F3-4188-86F9-E305163B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44C0-1A7C-40EE-97A6-123CADEF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4A3C-0430-4114-B2E3-3FA6D274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C274-C9DE-42C4-8E45-41372C5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959A-0F76-475B-B6D7-1CC5EDB8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AAAE-CF74-49B9-8FF9-0947ABA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4F3F9-3D57-46CE-832D-6F6DD267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F7D0-ED34-44A9-A691-DC98986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D638-A7D0-435D-ADBD-D301573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2763-68C6-4CB4-840C-1674152D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2863-D020-4E7A-8F21-E081C6CA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FB8-14A0-483F-99C3-ECDE1B0F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40AA-1DB7-42E5-BA50-6331C080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FECD-5747-41DA-806F-96DF3DCF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5C524-D58C-4075-8498-73AD95B5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68B6-2262-4141-9C40-345D970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E4F7-5949-4A98-8EA3-380B908C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BAD94-5629-4283-BAA8-72C4A6B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24A86-9F33-4ADB-A238-6344A0C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D99F-9320-4524-8771-3862846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6364E-B786-47F2-91FD-68F7DEB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C414-70D3-4297-923C-DF47F10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666-D91E-4584-A7CB-7CD27E7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F3C0-229A-416E-88EA-F47EFE4B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B396-D47B-4D99-9F86-89799803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E14E-D8EE-43F1-B1CF-C1CDEEC7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428DA-2C22-4F8F-9D37-53C7AD9B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9D77F-DF7E-4B68-8CE6-614273F0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0F2CD-EB9D-47F6-B509-15E6C28F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3014A-1025-4598-9670-FB5CC7C4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792B-684F-4077-9D41-83C975EE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AE30-F687-4D7D-8C39-9165E44A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1BD1-DDB5-4A26-9532-2008378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CB5-5254-4AED-A77E-0F4565F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62ACE-3C60-401E-AC9A-4A44008F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1E7E-2171-436A-90E5-8FE8E00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87963-62B3-4153-91A7-4B1B3BB8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C2C1-D6DC-4110-9F7C-7515F46E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BB5A-572A-4816-8B75-814105BE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215E-6A09-46E8-A286-FBC817BC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71BD-941A-46D8-AC65-0FF59F7F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C78A4-93DB-4E2B-A30E-2AD8932F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6BA4-D78A-4CE7-9ED8-301B686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05F0-89A7-4260-ADEF-4067D0B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BDC-A754-4A4D-BAF8-CC70891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3D90-7C17-4335-9245-B83B4753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14B00-B7D2-42E1-8B6D-B3C70D5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96FFD-95B5-472F-B879-320672F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F3705-7646-48D2-9DCA-13700CA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56B6-E8B7-441A-97F1-671EE3F2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4454E-E61C-445B-9FF9-DF88D178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CF6C7-FFBD-4032-BE0F-E6800FEB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1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5599D-2102-48A6-AEAE-2CD7892332D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53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6F2CE-CF72-45E2-B225-F3C14F1EEB3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105" name="Straight Connector 31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sosceles Triangle 26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Isosceles Triangle 30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Isosceles Triangle 18" descr=""/>
            <p:cNvPicPr/>
            <p:nvPr/>
          </p:nvPicPr>
          <p:blipFill>
            <a:blip r:embed="rId11"/>
            <a:stretch/>
          </p:blipFill>
          <p:spPr>
            <a:xfrm>
              <a:off x="0" y="39600"/>
              <a:ext cx="871560" cy="55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FC0E5-9ACE-4548-AA66-363CA46F82F0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157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15B9B-43CB-45C7-872D-B27CA713D9E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211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F2997-A33C-4EA3-BC71-EB38AFB240D2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265" name="Straight Connector 31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Isosceles Triangle 26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Isosceles Triangle 30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Isosceles Triangle 18" descr=""/>
            <p:cNvPicPr/>
            <p:nvPr/>
          </p:nvPicPr>
          <p:blipFill>
            <a:blip r:embed="rId11"/>
            <a:stretch/>
          </p:blipFill>
          <p:spPr>
            <a:xfrm>
              <a:off x="0" y="39600"/>
              <a:ext cx="871560" cy="55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E0150-E904-45F8-915E-647AB80649F0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317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10118-583E-4AA2-ACF0-4827C9E2E24A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pic>
          <p:nvPicPr>
            <p:cNvPr id="371" name="Straight Connector 19" descr=""/>
            <p:cNvPicPr/>
            <p:nvPr/>
          </p:nvPicPr>
          <p:blipFill>
            <a:blip r:embed="rId2"/>
            <a:stretch/>
          </p:blipFill>
          <p:spPr>
            <a:xfrm>
              <a:off x="9250200" y="-7920"/>
              <a:ext cx="1355760" cy="68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7324920" y="3598560"/>
              <a:ext cx="4867200" cy="32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Rectangle 23" descr=""/>
            <p:cNvPicPr/>
            <p:nvPr/>
          </p:nvPicPr>
          <p:blipFill>
            <a:blip r:embed="rId4"/>
            <a:stretch/>
          </p:blipFill>
          <p:spPr>
            <a:xfrm>
              <a:off x="9123120" y="33840"/>
              <a:ext cx="3014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Rectangle 25" descr=""/>
            <p:cNvPicPr/>
            <p:nvPr/>
          </p:nvPicPr>
          <p:blipFill>
            <a:blip r:embed="rId5"/>
            <a:stretch/>
          </p:blipFill>
          <p:spPr>
            <a:xfrm>
              <a:off x="9540720" y="33840"/>
              <a:ext cx="25970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Isosceles Triangle 23" descr=""/>
            <p:cNvPicPr/>
            <p:nvPr/>
          </p:nvPicPr>
          <p:blipFill>
            <a:blip r:embed="rId6"/>
            <a:stretch/>
          </p:blipFill>
          <p:spPr>
            <a:xfrm>
              <a:off x="8874720" y="3036240"/>
              <a:ext cx="3262680" cy="37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Rectangle 27" descr=""/>
            <p:cNvPicPr/>
            <p:nvPr/>
          </p:nvPicPr>
          <p:blipFill>
            <a:blip r:embed="rId7"/>
            <a:stretch/>
          </p:blipFill>
          <p:spPr>
            <a:xfrm>
              <a:off x="9274320" y="33840"/>
              <a:ext cx="2863440" cy="67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28" descr=""/>
            <p:cNvPicPr/>
            <p:nvPr/>
          </p:nvPicPr>
          <p:blipFill>
            <a:blip r:embed="rId8"/>
            <a:stretch/>
          </p:blipFill>
          <p:spPr>
            <a:xfrm>
              <a:off x="10824120" y="33840"/>
              <a:ext cx="131364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Rectangle 29" descr=""/>
            <p:cNvPicPr/>
            <p:nvPr/>
          </p:nvPicPr>
          <p:blipFill>
            <a:blip r:embed="rId9"/>
            <a:stretch/>
          </p:blipFill>
          <p:spPr>
            <a:xfrm>
              <a:off x="10866600" y="33840"/>
              <a:ext cx="1271160" cy="67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Isosceles Triangle 27" descr=""/>
            <p:cNvPicPr/>
            <p:nvPr/>
          </p:nvPicPr>
          <p:blipFill>
            <a:blip r:embed="rId10"/>
            <a:stretch/>
          </p:blipFill>
          <p:spPr>
            <a:xfrm>
              <a:off x="10303560" y="3562560"/>
              <a:ext cx="1834200" cy="32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Isosceles Triangle 28" descr=""/>
            <p:cNvPicPr/>
            <p:nvPr/>
          </p:nvPicPr>
          <p:blipFill>
            <a:blip r:embed="rId11"/>
            <a:stretch/>
          </p:blipFill>
          <p:spPr>
            <a:xfrm>
              <a:off x="0" y="3981240"/>
              <a:ext cx="478080" cy="28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1A2F6-5B68-4D9A-9705-835572B02C93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3520" y="331920"/>
            <a:ext cx="10107720" cy="6262560"/>
          </a:xfrm>
          <a:prstGeom prst="rect">
            <a:avLst/>
          </a:prstGeom>
          <a:solidFill>
            <a:srgbClr val="eaf6d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5400"/>
            </a:br>
            <a:r>
              <a:rPr b="0" lang="ru-RU" sz="2800" spc="-1" strike="noStrike">
                <a:solidFill>
                  <a:srgbClr val="6c911d"/>
                </a:solidFill>
                <a:latin typeface="Arial"/>
                <a:ea typeface="Arial"/>
              </a:rPr>
              <a:t>«НЕОБХОДИМОСТЬ МЕЖДИСЦИПЛИНАРНОЙ СУПЕРВИЗИИ В ВОСПИТАТЕЛЬНО-ОБРАЗОВАТЕЛЬНОМ ПРОЦЕССЕ»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Азарова Н.В., дефектолог, учитель-логопед, педагог-психолог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г. о Серпухов</a:t>
            </a: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2022 г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a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3520" y="331920"/>
            <a:ext cx="10107720" cy="6262560"/>
          </a:xfrm>
          <a:prstGeom prst="rect">
            <a:avLst/>
          </a:prstGeom>
          <a:solidFill>
            <a:srgbClr val="eaf6d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5400"/>
            </a:br>
            <a:r>
              <a:rPr b="0" lang="ru-RU" sz="2800" spc="-1" strike="noStrike">
                <a:solidFill>
                  <a:srgbClr val="6c911d"/>
                </a:solidFill>
                <a:latin typeface="Arial"/>
                <a:ea typeface="Arial"/>
              </a:rPr>
              <a:t>«НЕОБХОДИМОСТЬ МЕЖДИСЦИПЛИНАРНОЙ СУПЕРВИЗИИ В ВОСПИТАТЕЛЬНО-ОБРАЗОВАТЕЛЬНОМ ПРОЦЕССЕ»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Азарова Н.В., дефектолог, учитель-логопед, педагог-психолог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г. о Серпухов</a:t>
            </a:r>
            <a:br>
              <a:rPr sz="2000"/>
            </a:br>
            <a:r>
              <a:rPr b="0" lang="ru-RU" sz="2000" spc="-1" strike="noStrike">
                <a:solidFill>
                  <a:srgbClr val="6c911d"/>
                </a:solidFill>
                <a:latin typeface="Arial"/>
                <a:ea typeface="Arial"/>
              </a:rPr>
              <a:t>2022 г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77520" y="512280"/>
            <a:ext cx="859644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Воспитательно-образовательный процесс - комплекс мероприятий, направленный на всестороннее развитие личности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Образовательный процесс направлен на освоение образовательной программы.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        </a:t>
            </a: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Индивидуализация образовательного процесса и зависимость от индивидуальных особенностей, способностей, возможностей, личного опыта обучаемого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119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Супервизия как наиболее целесообразный метод повышения уровня деятель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77520" y="2160360"/>
            <a:ext cx="11223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В супервизии есть возможность систематически видеть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осознавать, понимать и анализировать свои профессиональные           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действия и свое профессиональное поведение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Сложности, возникающие в процессе профессиональной деятельности (актуальный конфликт), стимулируют внутренний конфликт консультанта, механизмы его психологической защиты и совладания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Поэтому супервизия, наряду с обучением (в смысле передачи новых знаний и навыков), включает элемент психологическог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12120" indent="-31212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2a5010"/>
                </a:solidFill>
                <a:latin typeface="Trebuchet MS"/>
              </a:rPr>
              <a:t>развития специалистов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7000" y="568440"/>
            <a:ext cx="11277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0" lang="ru-RU" sz="2400" spc="-1" strike="noStrike">
                <a:solidFill>
                  <a:srgbClr val="2a5010"/>
                </a:solidFill>
                <a:latin typeface="Trebuchet MS"/>
              </a:rPr>
              <a:t>Супервизия — это процесс, во время которого супервизор и супервизируемый вместе узнают что-то новое о клиенте, друг о друге, о себе. Это сотрудничество двух профессионалов (более опытного и менее опытного или равных по опыту), в ходе которого консультант может описать и проанализировать свою работу в условиях конфиденциальности. Сколь бы компетентным ни был совет супервизора, он полезен лишь в том случае, когда обучаемый в состоянии воспринять его. Иногда он не может этого. Он не в состоянии отдать себе отчет в определенной информации о себе, о других или об отношениях, которая позволила бы ему продвинуться вперед. Такая супервизорская рекомендация не соответствует его “карте территории»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9353520" cy="23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Образовательные области разнообразны. Образование как процесс затрагивает целый ряд необходимых навыков и знаний, выходящих за пределы конкретных изучаемых предметов и процессов, в том числе не педагогических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Поэтому междисциплинарная  супервизия может стать необходимым звеном в работе педагога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Супервизорство помогает адекватнее  увидеть и повлиять на особенности восприятия педагогом себя из роли специалиста. 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Исследования показали, что с ростом опыта супервизируемого менялось поведение супервизора и их взаимоотношения. Так появилась научная основа эволюционных тенденций и паттернов в супервизии.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Помощь супервизируемым в осознании их сильных сторон и зон развития, делает нас ответственными за их дальнейшее развитие и как специалистов помогающих профессий, и как супервизоров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105998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                              </a:t>
            </a:r>
            <a:r>
              <a:rPr b="1" lang="ru-RU" sz="2800" spc="-1" strike="noStrike">
                <a:solidFill>
                  <a:srgbClr val="2a5010"/>
                </a:solidFill>
                <a:latin typeface="Trebuchet MS"/>
              </a:rPr>
              <a:t>Итоговые заключения: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1. Междисциплинарная супервизия на уровне общего образования в настоящее время достаточно проводится редко 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и для педагогов, и для психологов, работающих в сфере образования, и для обучаемых.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2. Практически не встречается разграничение по специализациям, работа проводится многопрофильными специалистами.</a:t>
            </a:r>
            <a:br>
              <a:rPr sz="2800"/>
            </a:br>
            <a:r>
              <a:rPr b="0" lang="ru-RU" sz="2800" spc="-1" strike="noStrike">
                <a:solidFill>
                  <a:srgbClr val="2a5010"/>
                </a:solidFill>
                <a:latin typeface="Trebuchet MS"/>
              </a:rPr>
              <a:t>3. Место супервизии в образовательном процессе на начальных и средних ступенях образовательных уровней не предусмотрено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7T22:05:06Z</dcterms:created>
  <dc:creator>azar</dc:creator>
  <dc:description/>
  <dc:language>en-US</dc:language>
  <cp:lastModifiedBy>asv</cp:lastModifiedBy>
  <dcterms:modified xsi:type="dcterms:W3CDTF">2022-11-27T06:48:36Z</dcterms:modified>
  <cp:revision>51</cp:revision>
  <dc:subject/>
  <dc:title>Муниципальное дошкольное образовательное учреждение детский сад комбинированного вида № 29 «Пчёлка   Сообщение педагога-психолога на городском  методическом объединении Тема: «Деятельностный  подход в развитии речи дошкольников младшего возраста».    Подготовила Азарова Н.В., педагог-психолог   г.о Серпухов 2020 г</dc:title>
</cp:coreProperties>
</file>