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CA3-7DBB-4D2A-AC76-049ED5E6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7FE-F6DD-46E9-9AEB-DCAF42F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362-A94A-48F2-85F5-3DA901F9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4C2-AAC5-4C3C-BC47-BCBC187B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833-A41B-4FD3-9173-735C28EC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700-41E9-4744-BDC7-AC57DFB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4E2-D89C-45A3-850E-534322C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44F-8967-41BF-A466-5D3DB21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5F3-A0C5-411F-A336-8A880165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AB0-FE40-4E96-ADDD-2F0B234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43F-B826-4253-91E6-53C500F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77F-2CED-4FFD-9257-4E4B705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DFE0-C0DD-4199-BE26-16D2DAD52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19700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42920" y="285264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(Электронное приложение к циклу уро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24000" y="5589720"/>
            <a:ext cx="655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042920" y="1628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снулся: в широкие щели сарая глядятся весёлого солнца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761920" y="3213000"/>
            <a:ext cx="47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620440" y="283068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и увидел, и услышал, и почувствовал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284720" y="383868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f102"/>
          <p:cNvPicPr/>
          <p:nvPr/>
        </p:nvPicPr>
        <p:blipFill>
          <a:blip r:embed="rId3"/>
          <a:stretch/>
        </p:blipFill>
        <p:spPr>
          <a:xfrm>
            <a:off x="395280" y="33336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455840" y="423720"/>
            <a:ext cx="71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расставьте знаки препинания, объясните их постан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9640" y="1484280"/>
            <a:ext cx="808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икогда не отказывайтесь от малого в работе  из малого строится вели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икогда не отказывайтесь от малого в работе:  из малого строится вели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Темные ели о чём-то шепчутся между собой на пригорке расправив кроны стоят могуче дубы и кивают нам с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Темные ели о чём-то шепчутся меж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ой; на пригорке, расправив кроны,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чие дубы и кивают н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1763640" y="40464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39640" y="17938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жизнь покидаем – слово остается и служ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вым после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678320" y="3645000"/>
            <a:ext cx="65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46560" y="42703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500720" y="335772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а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195640" y="333360"/>
            <a:ext cx="55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78320" y="3429000"/>
            <a:ext cx="65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92360" y="1989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ули осенние ветры – конец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50560" y="31194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когда, если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22920" y="405432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 / 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1908000" y="404640"/>
            <a:ext cx="554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ре в бессоюзном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342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95280" y="1916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кушка закуковала – наступила глубокая ве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51280" y="31194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так чт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796720" y="391176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468360" y="1268280"/>
            <a:ext cx="820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Подмосковье есть у меня заветное место — лесная поляна вдали от дор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Особенно хорошо здесь ранней осе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На рябину прилетают кормиться дрозды, в сухих листьях ежевики шуршат ежи, осенью сюда приходят ло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Я не сразу догадался, почему под вечер почти всегда вижу тут двух-трех ло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) Однажды все прояснилось: они приходили пожевать ябл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) Деревья в нем выродились, и плоды дают только растущие от корней в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) Охотников до нестерпимо кислых яблок в лесу, кажется, не бы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 Однажды, присев на краю сада, я услышал: яблоки похрустывали на чьих-то зубах. 10) Я приподнялся и увидел: один лось, задир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голову, мягкой губой захватывал яблоки, другой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собирал яблоки, лежащ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58920" y="40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выпишите БСП, объясните постановку знаков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468360" y="774720"/>
            <a:ext cx="820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 объяснить постановку двоеточия в данном пред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аляться было не время: начиналась весенняя суета перед се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Первая часть бессоюзного сложного предложения указывает на условие того, о чём говорится во втор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Вторая часть бессоюзного сложного предложения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еред однородными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торая часть бессоюзного сложного предложения поясняет, раскрывает содержание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360" y="549360"/>
            <a:ext cx="8207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ак объяснить постановку двоеточия в данном предлож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друг слышу: кто-то зовёт меня по имени, тихонько так, почти шёп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Первая часть бессоюзного сложного предложения указывает на условие того, о чём говорится во втор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Вторая часть бессоюзного сложного предложения поясняет, раскрывает содержание того, о чём говорится в первой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Вторая часть бессоюзного сложного предложения дополняет смысл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Обобщающее слово стоит перед однородными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>
            <a:off x="3203640" y="141300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39840" y="352440"/>
            <a:ext cx="72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ое предложение является бессоюзным? (Знаки препинания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16000" y="1268280"/>
            <a:ext cx="750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росы и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В их сенях ветра шум и свежее дыханье и мглой волнистою покрыты неб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Куска лишь хлеба он просил и взор являл живую му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Пословица гласит  и незаряженное ружьё однажды может выстр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4051 L -0.00052 0.54467 E">
                                      <p:cBhvr>
                                        <p:cTn id="8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611280" y="126828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Кто помогает людям у того свои желания сбыв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Брат отказался от моей помощи и хотел все сделать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Сквозь серый камень вода сочилась и было душно в ущелье тесном и пахло гнилью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Берег где остановилась машина был низкий и илист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Математику уже затем учить надо что она ум в порядок привод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) Ты уверен что все будет в порядк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) Я знаю чем ты увлеч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436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ДАНИЕ: выписать СПП, расставить знаки препинания, обозначить границы простых предлож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f102"/>
          <p:cNvPicPr/>
          <p:nvPr/>
        </p:nvPicPr>
        <p:blipFill>
          <a:blip r:embed="rId2"/>
          <a:stretch/>
        </p:blipFill>
        <p:spPr>
          <a:xfrm>
            <a:off x="250920" y="189000"/>
            <a:ext cx="8762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50920" y="333360"/>
            <a:ext cx="63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каком предложении знаки препинания расставлены не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32000" y="1268280"/>
            <a:ext cx="734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Сейчас вода в озере была очень черная, прозрачная: вся ряска к зиме спустилась на 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Наступал вечер: шел дождь, с севера порывисто дул ве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Только шагнули мы вперед – из-за куста раздался выс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0.00052 0.40787 E">
                                      <p:cBhvr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166760" y="352440"/>
            <a:ext cx="75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кажите правильное объяснение постановки двоеточия в дан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79480" y="1144440"/>
            <a:ext cx="77961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Собака была славная: ушки торчком, хвост колечком, глаза умные-у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Вторая часть БСП указывает на причину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Вторая часть БСП поясняет, раскрывает содержание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еред однородным членам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торая часть БСП указывает на следствие того, о че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0.00052 0.35555 E">
                                      <p:cBhvr>
                                        <p:cTn id="10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f102"/>
          <p:cNvPicPr/>
          <p:nvPr/>
        </p:nvPicPr>
        <p:blipFill>
          <a:blip r:embed="rId3"/>
          <a:stretch/>
        </p:blipFill>
        <p:spPr>
          <a:xfrm>
            <a:off x="250920" y="260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кажите правильное объяснение постановки тире в дан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42920" y="1125360"/>
            <a:ext cx="75805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Шестнадцать лет служу – такого со мной не быв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Вторая часть БСП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Тире ставится между подлежащим и сказуемым , выраженными одной частью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Обобщающее слово стоит после однородных членов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Содержание второй части БСП противопоставляется содержанию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00052 0.60902 E">
                                      <p:cBhvr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11а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реди предложений 11-15 найдите сложное бессоюзное предлож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042920" y="1125360"/>
            <a:ext cx="7580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)И   вывалила наших червей в глубоченную яму, приготовленную для силоса.  (12) Мы с Мишкой  ахнули: этих червей мы, может, с полчаса копали у конюшн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3) Я бы показал Наташке за эти штучки, но из-за Мишки не стал. (14) В последнее время я заметил, что Мишка перестал возражать  Наташке.  (15)  А когда она улыбается и её насмешливые глаза   смотрят на него, он отворачивается, даже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429240" y="52862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11а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095480" y="3524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реди предложений 20-26 найдите сложное бессоюзное предлож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42920" y="1214280"/>
            <a:ext cx="758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и назначили свидание в детском отделе универмага, у бассейна, где вместе с зелёными шарами мячей плавали зелёные крокодилы, горбились киты, громоздились черепахи. (21)  Рома и Юлька садились на кафельные берега бассейна и пропадали. (22) Люди становились природой, и совершенно не имело значение их количество. (23) А может, чем больше, тем было даже лучше.  (24) Роман и Юлька только меняли место на своем «берегу»  в зависимости  от того, как в универмаге выстраивалась очередь. (25)  Они сидели с авоськами для хлеба, молока, как с неводами, а люди шуршали, бушевали, как деревья, как море, как вете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6)  А вот крокодилы были живые 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е, звали их Сеня и В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7072200" y="55720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2124000" y="1557360"/>
            <a:ext cx="53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вка зелене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сточка с в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ени к нам ле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А.Плеще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684360" y="476280"/>
            <a:ext cx="80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оюзное сложное предложени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4437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ссоюзное сложное предложение – это сложное предложение, части которого связаны по смыслу и инто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116000" y="141300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ысловые отношения между час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оследова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еречис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дн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684360" y="549360"/>
            <a:ext cx="7991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ятая в бессоюзном 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3284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( можно поставить союз 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71640" y="479736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88000" y="4365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780000" y="551664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116000" y="177336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мрудные лягушата прыгают под ногами; между корней, подняв голову, лежит уж и стережёт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050920" y="47628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 с запятой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484360" y="400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,   ,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851280" y="4653000"/>
            <a:ext cx="25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860360" y="36450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и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102"/>
          <p:cNvPicPr/>
          <p:nvPr/>
        </p:nvPicPr>
        <p:blipFill>
          <a:blip r:embed="rId2"/>
          <a:stretch/>
        </p:blipFill>
        <p:spPr>
          <a:xfrm>
            <a:off x="395280" y="33336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527120" y="496800"/>
            <a:ext cx="70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расставить знаки препинания, начертить схему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68360" y="1413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я вижу эти далёкие суровые неприступные горы мне хочется взобраться на них и посмотреть какой мир откроется моим глазам за г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0686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гда я вижу эти далёкие, суровые, неприступные горы, мне хочется взобраться на них и посмотреть, какой мир откроется моим глазам за г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539640" y="1628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ите книгу: она поможет вам разобраться в пёстрой путанице мы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835280" y="333360"/>
            <a:ext cx="5905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979640" y="3213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706920" y="28306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потому чт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996000" y="38606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900000" y="16286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кусство выполняет работу памяти: оно выбирает из потока времен наиболее яркое, волнующее, значительное и запечатлевает в кни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44480" y="3933720"/>
            <a:ext cx="53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354920" y="3500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а именно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501800" y="4702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1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11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76364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еточие в бессоюзном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м предложении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403280" y="177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ню я : тени ложились косые на свежевымытый п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473560" y="3357720"/>
            <a:ext cx="51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139640" y="31194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/ что, как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95640" y="39337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7:01:15Z</dcterms:created>
  <dc:creator>Евгения</dc:creator>
  <dc:description/>
  <dc:language>en-US</dc:language>
  <cp:lastModifiedBy>User</cp:lastModifiedBy>
  <dcterms:modified xsi:type="dcterms:W3CDTF">2011-04-28T19:33:48Z</dcterms:modified>
  <cp:revision>71</cp:revision>
  <dc:subject/>
  <dc:title>Слайд 1</dc:title>
</cp:coreProperties>
</file>