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6090-7293-4E93-927C-5D23402E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70E-0A77-4F0E-B60F-77B958AF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56D0-8A2C-43AD-8AF3-FE83FEE0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62E2-3D04-4F19-82A1-60C55054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1881-303F-412D-8590-78C0DFF6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90A-728C-468C-8916-5AAC23CB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88A9-6B55-429E-B99E-EB2754BF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9E8D-9F88-45ED-ABDE-7D89188C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F803-BB79-48C7-897A-2E6C6518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5795-F849-4C1C-889F-EAD551BD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791D-E287-4DB9-AF42-7493EA18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3794-0184-45B9-AB28-08B8CDF1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6FEC-2745-484E-8A86-1F01967A53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611280" y="1197000"/>
            <a:ext cx="7921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ссоюзное сложное предложение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042920" y="2852640"/>
            <a:ext cx="72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(Электронное приложение к циклу урок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124000" y="5589720"/>
            <a:ext cx="6551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4"/>
          <p:cNvSpPr txBox="1"/>
          <p:nvPr/>
        </p:nvSpPr>
        <p:spPr>
          <a:xfrm>
            <a:off x="1763640" y="404640"/>
            <a:ext cx="5761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оеточие в бессоюзном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ном предложении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042920" y="162864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снулся: в широкие щели сарая глядятся весёлого солнца лу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761920" y="3213000"/>
            <a:ext cx="47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620440" y="2830680"/>
            <a:ext cx="47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/ и увидел, и услышал, и почувствовал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4284720" y="383868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по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f102"/>
          <p:cNvPicPr/>
          <p:nvPr/>
        </p:nvPicPr>
        <p:blipFill>
          <a:blip r:embed="rId3"/>
          <a:stretch/>
        </p:blipFill>
        <p:spPr>
          <a:xfrm>
            <a:off x="395280" y="333360"/>
            <a:ext cx="876240" cy="8859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1455840" y="423720"/>
            <a:ext cx="71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: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расставьте знаки препинания, объясните их постано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39640" y="1484280"/>
            <a:ext cx="8085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Никогда не отказывайтесь от малого в работе  из малого строится вели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Никогда не отказывайтесь от малого в работе:  из малого строится вели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Темные ели о чём-то шепчутся между собой на пригорке расправив кроны стоят могуче дубы и кивают нам свыс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Темные ели о чём-то шепчутся межд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бой; на пригорке, расправив кроны,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я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гучие дубы и кивают на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ыс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5"/>
          <p:cNvSpPr txBox="1"/>
          <p:nvPr/>
        </p:nvSpPr>
        <p:spPr>
          <a:xfrm>
            <a:off x="1763640" y="404640"/>
            <a:ext cx="58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ире в бессоюзном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ном предложении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539640" y="179388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 жизнь покидаем – слово остается и служ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ивым после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1678320" y="3645000"/>
            <a:ext cx="65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346560" y="427032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тивопост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500720" y="3357720"/>
            <a:ext cx="5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/а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5"/>
          <p:cNvSpPr txBox="1"/>
          <p:nvPr/>
        </p:nvSpPr>
        <p:spPr>
          <a:xfrm>
            <a:off x="2195640" y="333360"/>
            <a:ext cx="5543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ире в бессоюзном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ном предложении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678320" y="3429000"/>
            <a:ext cx="65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692360" y="198900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ули осенние ветры – конец л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3850560" y="311940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/ когда, если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122920" y="4054320"/>
            <a:ext cx="19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ремя / усло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WordArt 4"/>
          <p:cNvSpPr txBox="1"/>
          <p:nvPr/>
        </p:nvSpPr>
        <p:spPr>
          <a:xfrm>
            <a:off x="1908000" y="404640"/>
            <a:ext cx="5543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ире в бессоюзном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ном предложении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403280" y="34290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395280" y="19162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кушка закуковала – наступила глубокая вес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851280" y="311940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/ так что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5796720" y="3911760"/>
            <a:ext cx="90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f102"/>
          <p:cNvPicPr/>
          <p:nvPr/>
        </p:nvPicPr>
        <p:blipFill>
          <a:blip r:embed="rId3"/>
          <a:stretch/>
        </p:blipFill>
        <p:spPr>
          <a:xfrm>
            <a:off x="250920" y="260280"/>
            <a:ext cx="876240" cy="8859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468360" y="1268280"/>
            <a:ext cx="8207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 Подмосковье есть у меня заветное место — лесная поляна вдали от доро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) Особенно хорошо здесь ранней осен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) На рябину прилетают кормиться дрозды, в сухих листьях ежевики шуршат ежи, осенью сюда приходят ло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) Я не сразу догадался, почему под вечер почти всегда вижу тут двух-трех лос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) Однажды все прояснилось: они приходили пожевать ябло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) Деревья в нем выродились, и плоды дают только растущие от корней ве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) Охотников до нестерпимо кислых яблок в лесу, кажется, не бы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) Однажды, присев на краю сада, я услышал: яблоки похрустывали на чьих-то зубах. 10) Я приподнялся и увидел: один лось, задира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голову, мягкой губой захватывал яблоки, другой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собирал яблоки, лежащие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258920" y="4046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: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выпишите БСП, объясните постановку знаков препи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"/>
          <p:cNvSpPr/>
          <p:nvPr/>
        </p:nvSpPr>
        <p:spPr>
          <a:xfrm>
            <a:off x="468360" y="774720"/>
            <a:ext cx="8207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Как объяснить постановку двоеточия в данном предлож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Валяться было не время: начиналась весенняя суета перед се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) Первая часть бессоюзного сложного предложения указывает на условие того, о чём говорится во второй ч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) Вторая часть бессоюзного сложного предложения указывает на причину того, о чём говорится в перв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) Обобщающее слово стоит перед однородными членами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) Вторая часть бессоюзного сложного предложения поясняет, раскрывает содержание того, о чём говорится в перв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468360" y="549360"/>
            <a:ext cx="8207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Как объяснить постановку двоеточия в данном предлож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Вдруг слышу: кто-то зовёт меня по имени, тихонько так, почти шёпо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) Первая часть бессоюзного сложного предложения указывает на условие того, о чём говорится во второй ч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) Вторая часть бессоюзного сложного предложения поясняет, раскрывает содержание того, о чём говорится в первой ч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) Вторая часть бессоюзного сложного предложения дополняет смысл перв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) Обобщающее слово стоит перед однородными членами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4"/>
          <p:cNvSpPr txBox="1"/>
          <p:nvPr/>
        </p:nvSpPr>
        <p:spPr>
          <a:xfrm>
            <a:off x="3203640" y="1413000"/>
            <a:ext cx="280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ст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f102"/>
          <p:cNvPicPr/>
          <p:nvPr/>
        </p:nvPicPr>
        <p:blipFill>
          <a:blip r:embed="rId3"/>
          <a:stretch/>
        </p:blipFill>
        <p:spPr>
          <a:xfrm>
            <a:off x="250920" y="260280"/>
            <a:ext cx="876240" cy="8859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239840" y="352440"/>
            <a:ext cx="72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акое предложение является бессоюзным? (Знаки препинания не расставле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116000" y="1268280"/>
            <a:ext cx="750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 росы и трава не раст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В их сенях ветра шум и свежее дыханье и мглой волнистою покрыты неб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Куска лишь хлеба он просил и взор являл живую му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Пословица гласит  и незаряженное ружьё однажды может выстрел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4051 L -0.00052 0.54467 E">
                                      <p:cBhvr>
                                        <p:cTn id="8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611280" y="1268280"/>
            <a:ext cx="813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Кто помогает людям у того свои желания сбываю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Брат отказался от моей помощи и хотел все сделать с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Сквозь серый камень вода сочилась и было душно в ущелье тесном и пахло гнилью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Берег где остановилась машина был низкий и илист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) Математику уже затем учить надо что она ум в порядок привод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) Ты уверен что все будет в порядке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) Я знаю чем ты увлеч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684360" y="476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ЗАДАНИЕ: выписать СПП, расставить знаки препинания, обозначить границы простых предложени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f102"/>
          <p:cNvPicPr/>
          <p:nvPr/>
        </p:nvPicPr>
        <p:blipFill>
          <a:blip r:embed="rId2"/>
          <a:stretch/>
        </p:blipFill>
        <p:spPr>
          <a:xfrm>
            <a:off x="250920" y="189000"/>
            <a:ext cx="87624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f102"/>
          <p:cNvPicPr/>
          <p:nvPr/>
        </p:nvPicPr>
        <p:blipFill>
          <a:blip r:embed="rId3"/>
          <a:stretch/>
        </p:blipFill>
        <p:spPr>
          <a:xfrm>
            <a:off x="250920" y="260280"/>
            <a:ext cx="876240" cy="8859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050920" y="333360"/>
            <a:ext cx="632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 каком предложении знаки препинания расставлены неправиль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332000" y="1268280"/>
            <a:ext cx="7343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юбишь кататься – люби и саночки воз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Сейчас вода в озере была очень черная, прозрачная: вся ряска к зиме спустилась на 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Наступал вечер: шел дождь, с севера порывисто дул ве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Только шагнули мы вперед – из-за куста раздался выстр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037E-006 L -0.00052 0.40787 E">
                                      <p:cBhvr>
                                        <p:cTn id="95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f102"/>
          <p:cNvPicPr/>
          <p:nvPr/>
        </p:nvPicPr>
        <p:blipFill>
          <a:blip r:embed="rId3"/>
          <a:stretch/>
        </p:blipFill>
        <p:spPr>
          <a:xfrm>
            <a:off x="250920" y="260280"/>
            <a:ext cx="876240" cy="885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166760" y="352440"/>
            <a:ext cx="750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Укажите правильное объяснение постановки двоеточия в данном предло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879480" y="1144440"/>
            <a:ext cx="779616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Собака была славная: ушки торчком, хвост колечком, глаза умные-ум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)Вторая часть БСП указывает на причину того, о чем говорится в перв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)Вторая часть БСП поясняет, раскрывает содержание того, о чем говорится в перв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) Обобщающее слово стоит перед однородным членами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) Вторая часть БСП указывает на следствие того, о чем говорится в перв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037E-006 L -0.00052 0.35555 E">
                                      <p:cBhvr>
                                        <p:cTn id="101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f102"/>
          <p:cNvPicPr/>
          <p:nvPr/>
        </p:nvPicPr>
        <p:blipFill>
          <a:blip r:embed="rId3"/>
          <a:stretch/>
        </p:blipFill>
        <p:spPr>
          <a:xfrm>
            <a:off x="250920" y="260280"/>
            <a:ext cx="876240" cy="8859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1095480" y="352440"/>
            <a:ext cx="758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Укажите правильное объяснение постановки тире в данном предло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042920" y="1125360"/>
            <a:ext cx="758052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Шестнадцать лет служу – такого со мной не быва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) Вторая часть БСП указывает на причину того, о чём говорится в перв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) Тире ставится между подлежащим и сказуемым , выраженными одной частью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) Обобщающее слово стоит после однородных членов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) Содержание второй части БСП противопоставляется содержанию перв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-0.00052 0.60902 E">
                                      <p:cBhvr>
                                        <p:cTn id="107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11а"/>
          <p:cNvPicPr/>
          <p:nvPr/>
        </p:nvPicPr>
        <p:blipFill>
          <a:blip r:embed="rId2"/>
          <a:stretch/>
        </p:blipFill>
        <p:spPr>
          <a:xfrm>
            <a:off x="0" y="-214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1095480" y="352440"/>
            <a:ext cx="758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реди предложений 11-15 найдите сложное бессоюзное предложени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042920" y="1125360"/>
            <a:ext cx="7580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1)И   вывалила наших червей в глубоченную яму, приготовленную для силоса.  (12) Мы с Мишкой  ахнули: этих червей мы, может, с полчаса копали у конюшн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13) Я бы показал Наташке за эти штучки, но из-за Мишки не стал. (14) В последнее время я заметил, что Мишка перестал возражать  Наташке.  (15)  А когда она улыбается и её насмешливые глаза   смотрят на него, он отворачивается, даже красн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6429240" y="528624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11а"/>
          <p:cNvPicPr/>
          <p:nvPr/>
        </p:nvPicPr>
        <p:blipFill>
          <a:blip r:embed="rId2"/>
          <a:stretch/>
        </p:blipFill>
        <p:spPr>
          <a:xfrm>
            <a:off x="0" y="-214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1095480" y="352440"/>
            <a:ext cx="758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реди предложений 20-26 найдите сложное бессоюзное предложени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042920" y="1214280"/>
            <a:ext cx="7580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ни назначили свидание в детском отделе универмага, у бассейна, где вместе с зелёными шарами мячей плавали зелёные крокодилы, горбились киты, громоздились черепахи. (21)  Рома и Юлька садились на кафельные берега бассейна и пропадали. (22) Люди становились природой, и совершенно не имело значение их количество. (23) А может, чем больше, тем было даже лучше.  (24) Роман и Юлька только меняли место на своем «берегу»  в зависимости  от того, как в универмаге выстраивалась очередь. (25)  Они сидели с авоськами для хлеба, молока, как с неводами, а люди шуршали, бушевали, как деревья, как море, как ветер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26)  А вот крокодилы были живые и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стоящие, звали их Сеня и Ве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7072200" y="55720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2124000" y="1557360"/>
            <a:ext cx="532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равка зелене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лнышко блес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асточка с вес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сени к нам ле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А.Плещее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684360" y="476280"/>
            <a:ext cx="806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ссоюзное сложное предложение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24000" y="443700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Бессоюзное сложное предложение – это сложное предложение, части которого связаны по смыслу и интон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1116000" y="1413000"/>
            <a:ext cx="69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ысловые отношения между частя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последова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перечисл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одноврем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684360" y="549360"/>
            <a:ext cx="7991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ятая в бессоюзном сложном предложении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124000" y="328464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( можно поставить союз 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771640" y="4797360"/>
            <a:ext cx="46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788000" y="4365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780000" y="5516640"/>
            <a:ext cx="25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дова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1116000" y="1773360"/>
            <a:ext cx="74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умрудные лягушата прыгают под ногами; между корней, подняв голову, лежит уж и стережёт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2050920" y="476280"/>
            <a:ext cx="5257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чка с запятой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484360" y="400536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,   ,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3851280" y="4653000"/>
            <a:ext cx="250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дова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860360" y="364500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/и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f102"/>
          <p:cNvPicPr/>
          <p:nvPr/>
        </p:nvPicPr>
        <p:blipFill>
          <a:blip r:embed="rId2"/>
          <a:stretch/>
        </p:blipFill>
        <p:spPr>
          <a:xfrm>
            <a:off x="395280" y="333360"/>
            <a:ext cx="876240" cy="8859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1527120" y="496800"/>
            <a:ext cx="700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: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расставить знаки препинания, начертить схему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468360" y="141300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гда я вижу эти далёкие суровые неприступные горы мне хочется взобраться на них и посмотреть какой мир откроется моим глазам за го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24000" y="306864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Когда я вижу эти далёкие, суровые, неприступные горы, мне хочется взобраться на них и посмотреть, какой мир откроется моим глазам за го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539640" y="162864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юбите книгу: она поможет вам разобраться в пёстрой путанице мыс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6"/>
          <p:cNvSpPr txBox="1"/>
          <p:nvPr/>
        </p:nvSpPr>
        <p:spPr>
          <a:xfrm>
            <a:off x="1835280" y="333360"/>
            <a:ext cx="5905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оеточие в бессоюзном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ном предложении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979640" y="321300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706920" y="283068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/ потому что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996000" y="386064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ч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900000" y="1628640"/>
            <a:ext cx="756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кусство выполняет работу памяти: оно выбирает из потока времен наиболее яркое, волнующее, значительное и запечатлевает в книг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6"/>
          <p:cNvSpPr txBox="1"/>
          <p:nvPr/>
        </p:nvSpPr>
        <p:spPr>
          <a:xfrm>
            <a:off x="1763640" y="404640"/>
            <a:ext cx="5761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оеточие в бессоюзном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ном предложении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544480" y="3933720"/>
            <a:ext cx="535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4354920" y="350028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/ а именно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4501800" y="470232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яс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4"/>
          <p:cNvSpPr txBox="1"/>
          <p:nvPr/>
        </p:nvSpPr>
        <p:spPr>
          <a:xfrm>
            <a:off x="1763640" y="404640"/>
            <a:ext cx="5761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оеточие в бессоюзном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ном предложении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403280" y="177336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мню я : тени ложились косые на свежевымытый п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2473560" y="3357720"/>
            <a:ext cx="51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4139640" y="311940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/ что, как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3995640" y="393372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по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7:01:15Z</dcterms:created>
  <dc:creator>Евгения</dc:creator>
  <dc:description/>
  <dc:language>en-US</dc:language>
  <cp:lastModifiedBy>User</cp:lastModifiedBy>
  <dcterms:modified xsi:type="dcterms:W3CDTF">2011-04-28T19:33:48Z</dcterms:modified>
  <cp:revision>71</cp:revision>
  <dc:subject/>
  <dc:title>Слайд 1</dc:title>
</cp:coreProperties>
</file>