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D72314-D084-4555-BB95-B1CA9E356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24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CAF02D-A7CA-4422-8F1B-18CB574408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834-2473-47B2-9542-EFBEA15E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47D-2C90-4E46-8A98-BFB5AA2F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98F-2B63-44B5-B85C-BE90B7B0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60D-DC21-4C83-A651-3E689190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F99C-3E47-4452-B42C-5F8B2E30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534B-7431-46D8-A23F-17BF49DB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F938-3B20-498B-A1BA-5DE4113E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B8C6-197A-42EA-983E-3D2A1D6A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1955-BDD9-4AEC-A8BB-736AB54D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0654-7FE8-4BA5-9CAC-CDA79B8E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4EAB-303C-4FCA-B039-F6998860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8CB-ECB9-4CE2-8583-4006659F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FB4F-B76B-4910-9E6D-6975866B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B4CE-04BD-43CE-AFB5-DB154CED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A663-A4A8-43D0-A548-E7C5B448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F44E-F596-4666-8E96-929623EB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BE06-CC0D-42A9-954D-3FBE9FE9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230E3-FB26-4235-B0D9-A1206F03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67DD7-044B-4AD3-8A38-4223F179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F56C6-F442-4ADE-B9B0-32770AC6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4FC3-B02B-49D9-8190-6C5711A9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971EB-2993-4DEA-80A5-3230555A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92D-82E0-4DEC-8106-8148243A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BC15A-4149-4D1F-A029-88FBE456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12239-B2CC-426B-8A95-37F4A147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E7E2D-DDE5-4765-8D2F-9410E9CB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C38E9-754B-4CF9-A293-870BD790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1A9D5-A178-42B4-977C-9D30B927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8603-86A3-42CC-AA87-29AAE625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7AEBC-7F86-4CA4-92D4-E2F2B1B3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D88-6423-4E9C-B6BB-59606314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6D64-978B-4B48-8E69-8736FDC2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3AF-2924-4A9A-A33D-9B758294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836-674A-46C7-A11E-01DA4941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BE6-E0EB-4E59-8DE6-96D75B50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A79-201A-487B-9C7D-1D87F206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3640" cy="4046400"/>
            <a:chOff x="0" y="2438280"/>
            <a:chExt cx="9143640" cy="404640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560" cy="609120"/>
            </a:xfrm>
            <a:prstGeom prst="rect">
              <a:avLst/>
            </a:prstGeom>
            <a:gradFill rotWithShape="0">
              <a:gsLst>
                <a:gs pos="0">
                  <a:srgbClr val="780000"/>
                </a:gs>
                <a:gs pos="50000">
                  <a:srgbClr val="800000"/>
                </a:gs>
                <a:gs pos="100000">
                  <a:srgbClr val="78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6720" cy="1942920"/>
            </a:xfrm>
            <a:custGeom>
              <a:avLst/>
              <a:gdLst>
                <a:gd name="textAreaLeft" fmla="*/ 0 w 4266720"/>
                <a:gd name="textAreaRight" fmla="*/ 4267080 w 426672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320" cy="1955520"/>
            </a:xfrm>
            <a:custGeom>
              <a:avLst/>
              <a:gdLst>
                <a:gd name="textAreaLeft" fmla="*/ 0 w 3811320"/>
                <a:gd name="textAreaRight" fmla="*/ 3811680 w 3811320"/>
                <a:gd name="textAreaTop" fmla="*/ 0 h 1955520"/>
                <a:gd name="textAreaBottom" fmla="*/ 1955880 h 195552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3720" cy="1209240"/>
            </a:xfrm>
            <a:custGeom>
              <a:avLst/>
              <a:gdLst>
                <a:gd name="textAreaLeft" fmla="*/ 0 w 3123720"/>
                <a:gd name="textAreaRight" fmla="*/ 3124080 w 3123720"/>
                <a:gd name="textAreaTop" fmla="*/ 0 h 1209240"/>
                <a:gd name="textAreaBottom" fmla="*/ 1209600 h 120924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4840" cy="1900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400" cy="1900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7720" cy="43632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080" cy="485280"/>
            </a:xfrm>
            <a:custGeom>
              <a:avLst/>
              <a:gdLst>
                <a:gd name="textAreaLeft" fmla="*/ 0 w 1144080"/>
                <a:gd name="textAreaRight" fmla="*/ 1144440 w 114408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520" cy="1398240"/>
            </a:xfrm>
            <a:custGeom>
              <a:avLst/>
              <a:gdLst>
                <a:gd name="textAreaLeft" fmla="*/ 0 w 3809520"/>
                <a:gd name="textAreaRight" fmla="*/ 3809880 w 3809520"/>
                <a:gd name="textAreaTop" fmla="*/ 0 h 1398240"/>
                <a:gd name="textAreaBottom" fmla="*/ 1398600 h 139824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480" cy="40932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560" cy="10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160" cy="60768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360" cy="35676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120" cy="1480680"/>
            </a:xfrm>
            <a:custGeom>
              <a:avLst/>
              <a:gdLst>
                <a:gd name="textAreaLeft" fmla="*/ 0 w 4119120"/>
                <a:gd name="textAreaRight" fmla="*/ 4119480 w 4119120"/>
                <a:gd name="textAreaTop" fmla="*/ 0 h 1480680"/>
                <a:gd name="textAreaBottom" fmla="*/ 1481040 h 148068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520" cy="1731600"/>
            </a:xfrm>
            <a:custGeom>
              <a:avLst/>
              <a:gdLst>
                <a:gd name="textAreaLeft" fmla="*/ 0 w 4322520"/>
                <a:gd name="textAreaRight" fmla="*/ 4322880 w 4322520"/>
                <a:gd name="textAreaTop" fmla="*/ 0 h 1731600"/>
                <a:gd name="textAreaBottom" fmla="*/ 1731960 h 173160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Образец заголовка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22372B-58D5-4681-8BF4-BC7AD6A5F7A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3640" cy="4046400"/>
            <a:chOff x="0" y="2438280"/>
            <a:chExt cx="9143640" cy="404640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560" cy="609120"/>
            </a:xfrm>
            <a:prstGeom prst="rect">
              <a:avLst/>
            </a:prstGeom>
            <a:gradFill rotWithShape="0">
              <a:gsLst>
                <a:gs pos="0">
                  <a:srgbClr val="780000"/>
                </a:gs>
                <a:gs pos="50000">
                  <a:srgbClr val="800000"/>
                </a:gs>
                <a:gs pos="100000">
                  <a:srgbClr val="78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6720" cy="1942920"/>
            </a:xfrm>
            <a:custGeom>
              <a:avLst/>
              <a:gdLst>
                <a:gd name="textAreaLeft" fmla="*/ 0 w 4266720"/>
                <a:gd name="textAreaRight" fmla="*/ 4267080 w 426672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320" cy="1955520"/>
            </a:xfrm>
            <a:custGeom>
              <a:avLst/>
              <a:gdLst>
                <a:gd name="textAreaLeft" fmla="*/ 0 w 3811320"/>
                <a:gd name="textAreaRight" fmla="*/ 3811680 w 3811320"/>
                <a:gd name="textAreaTop" fmla="*/ 0 h 1955520"/>
                <a:gd name="textAreaBottom" fmla="*/ 1955880 h 195552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3720" cy="1209240"/>
            </a:xfrm>
            <a:custGeom>
              <a:avLst/>
              <a:gdLst>
                <a:gd name="textAreaLeft" fmla="*/ 0 w 3123720"/>
                <a:gd name="textAreaRight" fmla="*/ 3124080 w 3123720"/>
                <a:gd name="textAreaTop" fmla="*/ 0 h 1209240"/>
                <a:gd name="textAreaBottom" fmla="*/ 1209600 h 120924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4840" cy="1900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400" cy="1900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7720" cy="43632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080" cy="485280"/>
            </a:xfrm>
            <a:custGeom>
              <a:avLst/>
              <a:gdLst>
                <a:gd name="textAreaLeft" fmla="*/ 0 w 1144080"/>
                <a:gd name="textAreaRight" fmla="*/ 1144440 w 114408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520" cy="1398240"/>
            </a:xfrm>
            <a:custGeom>
              <a:avLst/>
              <a:gdLst>
                <a:gd name="textAreaLeft" fmla="*/ 0 w 3809520"/>
                <a:gd name="textAreaRight" fmla="*/ 3809880 w 3809520"/>
                <a:gd name="textAreaTop" fmla="*/ 0 h 1398240"/>
                <a:gd name="textAreaBottom" fmla="*/ 1398600 h 139824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480" cy="40932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560" cy="10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160" cy="60768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360" cy="35676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120" cy="1480680"/>
            </a:xfrm>
            <a:custGeom>
              <a:avLst/>
              <a:gdLst>
                <a:gd name="textAreaLeft" fmla="*/ 0 w 4119120"/>
                <a:gd name="textAreaRight" fmla="*/ 4119480 w 4119120"/>
                <a:gd name="textAreaTop" fmla="*/ 0 h 1480680"/>
                <a:gd name="textAreaBottom" fmla="*/ 1481040 h 148068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520" cy="1731600"/>
            </a:xfrm>
            <a:custGeom>
              <a:avLst/>
              <a:gdLst>
                <a:gd name="textAreaLeft" fmla="*/ 0 w 4322520"/>
                <a:gd name="textAreaRight" fmla="*/ 4322880 w 4322520"/>
                <a:gd name="textAreaTop" fmla="*/ 0 h 1731600"/>
                <a:gd name="textAreaBottom" fmla="*/ 1731960 h 173160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Образец заголовка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разец текс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торой уровен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ретий уровен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твертый уровен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ятый уровен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EF26DF-AA82-4572-AFA0-A23AA070C6D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3640" cy="4046400"/>
            <a:chOff x="0" y="2438280"/>
            <a:chExt cx="9143640" cy="404640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560" cy="609120"/>
            </a:xfrm>
            <a:prstGeom prst="rect">
              <a:avLst/>
            </a:prstGeom>
            <a:gradFill rotWithShape="0">
              <a:gsLst>
                <a:gs pos="0">
                  <a:srgbClr val="780000"/>
                </a:gs>
                <a:gs pos="50000">
                  <a:srgbClr val="800000"/>
                </a:gs>
                <a:gs pos="100000">
                  <a:srgbClr val="78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6720" cy="1942920"/>
            </a:xfrm>
            <a:custGeom>
              <a:avLst/>
              <a:gdLst>
                <a:gd name="textAreaLeft" fmla="*/ 0 w 4266720"/>
                <a:gd name="textAreaRight" fmla="*/ 4267080 w 426672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320" cy="1955520"/>
            </a:xfrm>
            <a:custGeom>
              <a:avLst/>
              <a:gdLst>
                <a:gd name="textAreaLeft" fmla="*/ 0 w 3811320"/>
                <a:gd name="textAreaRight" fmla="*/ 3811680 w 3811320"/>
                <a:gd name="textAreaTop" fmla="*/ 0 h 1955520"/>
                <a:gd name="textAreaBottom" fmla="*/ 1955880 h 195552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3720" cy="1209240"/>
            </a:xfrm>
            <a:custGeom>
              <a:avLst/>
              <a:gdLst>
                <a:gd name="textAreaLeft" fmla="*/ 0 w 3123720"/>
                <a:gd name="textAreaRight" fmla="*/ 3124080 w 3123720"/>
                <a:gd name="textAreaTop" fmla="*/ 0 h 1209240"/>
                <a:gd name="textAreaBottom" fmla="*/ 1209600 h 120924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4840" cy="1900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400" cy="1900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7720" cy="43632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080" cy="485280"/>
            </a:xfrm>
            <a:custGeom>
              <a:avLst/>
              <a:gdLst>
                <a:gd name="textAreaLeft" fmla="*/ 0 w 1144080"/>
                <a:gd name="textAreaRight" fmla="*/ 1144440 w 114408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520" cy="1398240"/>
            </a:xfrm>
            <a:custGeom>
              <a:avLst/>
              <a:gdLst>
                <a:gd name="textAreaLeft" fmla="*/ 0 w 3809520"/>
                <a:gd name="textAreaRight" fmla="*/ 3809880 w 3809520"/>
                <a:gd name="textAreaTop" fmla="*/ 0 h 1398240"/>
                <a:gd name="textAreaBottom" fmla="*/ 1398600 h 139824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480" cy="40932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560" cy="10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160" cy="60768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360" cy="35676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120" cy="1480680"/>
            </a:xfrm>
            <a:custGeom>
              <a:avLst/>
              <a:gdLst>
                <a:gd name="textAreaLeft" fmla="*/ 0 w 4119120"/>
                <a:gd name="textAreaRight" fmla="*/ 4119480 w 4119120"/>
                <a:gd name="textAreaTop" fmla="*/ 0 h 1480680"/>
                <a:gd name="textAreaBottom" fmla="*/ 1481040 h 148068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520" cy="1731600"/>
            </a:xfrm>
            <a:custGeom>
              <a:avLst/>
              <a:gdLst>
                <a:gd name="textAreaLeft" fmla="*/ 0 w 4322520"/>
                <a:gd name="textAreaRight" fmla="*/ 4322880 w 4322520"/>
                <a:gd name="textAreaTop" fmla="*/ 0 h 1731600"/>
                <a:gd name="textAreaBottom" fmla="*/ 1731960 h 173160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7282F0-7C13-414C-AB87-592E99F259C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2"/>
          <p:cNvSpPr/>
          <p:nvPr/>
        </p:nvSpPr>
        <p:spPr>
          <a:xfrm>
            <a:off x="391320" y="685800"/>
            <a:ext cx="563832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7200" spc="-1" strike="noStrike">
                <a:solidFill>
                  <a:srgbClr val="ffcc00"/>
                </a:solidFill>
                <a:latin typeface="Times New Roman"/>
              </a:rPr>
              <a:t>ЛЕГКАЯ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7200" spc="-1" strike="noStrike">
                <a:solidFill>
                  <a:srgbClr val="ffcc00"/>
                </a:solidFill>
                <a:latin typeface="Times New Roman"/>
              </a:rPr>
              <a:t>АТЛЕТИК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228600" y="3143520"/>
            <a:ext cx="7467120" cy="3295440"/>
          </a:xfrm>
          <a:prstGeom prst="rect">
            <a:avLst/>
          </a:prstGeom>
          <a:ln w="9525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EBDE28-4903-42CF-B305-8248FED69BE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5" descr="bd0149-005"/>
          <p:cNvPicPr/>
          <p:nvPr/>
        </p:nvPicPr>
        <p:blipFill>
          <a:blip r:embed="rId1"/>
          <a:stretch/>
        </p:blipFill>
        <p:spPr>
          <a:xfrm>
            <a:off x="304920" y="3276720"/>
            <a:ext cx="3276360" cy="2455560"/>
          </a:xfrm>
          <a:prstGeom prst="rect">
            <a:avLst/>
          </a:prstGeom>
          <a:ln w="9525">
            <a:noFill/>
          </a:ln>
        </p:spPr>
      </p:pic>
      <p:pic>
        <p:nvPicPr>
          <p:cNvPr id="200" name="Picture 6" descr="bd0149-004"/>
          <p:cNvPicPr/>
          <p:nvPr/>
        </p:nvPicPr>
        <p:blipFill>
          <a:blip r:embed="rId2"/>
          <a:stretch/>
        </p:blipFill>
        <p:spPr>
          <a:xfrm>
            <a:off x="5562720" y="609480"/>
            <a:ext cx="3276360" cy="2457000"/>
          </a:xfrm>
          <a:prstGeom prst="rect">
            <a:avLst/>
          </a:prstGeom>
          <a:ln w="9525">
            <a:noFill/>
          </a:ln>
        </p:spPr>
      </p:pic>
      <p:sp>
        <p:nvSpPr>
          <p:cNvPr id="201" name="Rectangle 7"/>
          <p:cNvSpPr/>
          <p:nvPr/>
        </p:nvSpPr>
        <p:spPr>
          <a:xfrm>
            <a:off x="304920" y="457200"/>
            <a:ext cx="5257440" cy="2252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400" spc="-1" strike="noStrike">
                <a:solidFill>
                  <a:srgbClr val="ffcc00"/>
                </a:solidFill>
                <a:latin typeface="Times New Roman"/>
              </a:rPr>
              <a:t>Заключительным усилием для сохранения скорости бега является</a:t>
            </a:r>
            <a:r>
              <a:rPr b="1" lang="ru-RU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ccff"/>
                </a:solidFill>
                <a:latin typeface="Times New Roman"/>
              </a:rPr>
              <a:t>ФИНИШИРОВАНИЕ.</a:t>
            </a:r>
            <a:r>
              <a:rPr b="1" lang="ru-RU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886200" y="3505320"/>
            <a:ext cx="5257440" cy="267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400" spc="-1" strike="noStrike">
                <a:solidFill>
                  <a:srgbClr val="ffcc00"/>
                </a:solidFill>
                <a:latin typeface="Times New Roman"/>
              </a:rPr>
              <a:t>Финишировать нельзя прыжком. После финиша нужно постепенно, замедляя бег, перейти на ходьбу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Виды легкой атлетики принято подразделять на пять разделов: ходьбу, бег, прыжки, метания и многоборья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2760" cy="533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ортивная ходьба - на 20 км (мужчины и женщины) и 50 км (мужчины). Спортивная ходьба - это циклическое локомоторное движение умеренной интенсивности, которое состоит из чередования шагов, при котором спортсмен должен постоянно осуществлять контакт с землей и при этом вынесенная вперед нога должна быть полностью выпрямлена с момента касания земли и до момента вертикал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ABA895-C3CC-4176-A175-5D0FBBB6D26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276720" y="3886200"/>
            <a:ext cx="5125680" cy="270468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7658D3-0E82-4016-94D3-2140922DA0D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52280"/>
            <a:ext cx="8686440" cy="655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Бег - на короткие (100, 200, 400 м), средние (800 и 1500 м), длинные (5000 и 10 000 м) и сверхдлинные дистанции (марафонский бег - 42 км 195 м), эстафетный бег (4 х 100 и 4 х 400 м), бег с барьерами (100 м - женщины, ПО м - мужчины, 400 м - мужчины и женщины) и бег с препятствиями (3000 м). Соревнования по бегу — один из самых старых видов спорта, по которым были утверждены официальные правила соревнований, и были включены в программу с самых первых олимпийских игр 1896 год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6233760" cy="281916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51EA55-E06F-45AB-812C-18EE7337771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240" cy="6400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ыжок в длину. При выполнении прыжка атлеты в первой стадии совершают разбег по дорожке, затем отталкиваются одной ногой от специальной доски и прыгают в яму с песко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ания - толкание ядра, метание копья, метание диска и метание молота. В 1896 г. в программу Игр включили метание диска и толкание ядра; в 1900 г. – метание молота, в 1906 г. – метание копь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ногоборья - десятиборье (мужской вид) и семиборье (женский вид), которые проводятся в течение двух дней подряд в следующем порядк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2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авила в легкой атлетики довольно просты: победителем считается атлет или команда, которые показали лучшие результаты в финальном забеге или финальной попытке технических дисциплин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31BBF6-8BB6-4CCF-94A0-EA2403B6E9F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 flipV="1" rot="10800000">
            <a:off x="457560" y="1569960"/>
            <a:ext cx="8157960" cy="301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ffcc00"/>
                </a:solidFill>
                <a:latin typeface="Times New Roman"/>
              </a:rPr>
              <a:t>Спорт –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ffcc00"/>
                </a:solidFill>
                <a:latin typeface="Times New Roman"/>
              </a:rPr>
              <a:t>сильнее слов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240" cy="6171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гкая атлетика - один из основных и наиболее массовых видов спорта, объединяющий ходьбу и бег на различные дистанции, прыжки в длину и высоту, метания диска, копья, молота, гранаты (толкание ядра), а также легкоатлетического многоборья — десятиборье, пятиборье и др. В современной спортивной классификации насчитывается свыше 60 разновидностей легкоатлетических упражне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950C8D-38D3-46CA-BCD6-666DAD50A96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240" cy="6248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ые Олимпийские игры древности, о которых сохранилась достоверная запись, состоялись в 776 г. до н.э. Тогда в программу состязаний входил лишь бег на 1 стадий (192 м 27 см). В 724 г. до н.э. проводился бег уже на 2 стадия, а еще через четыре года состоялся первый олимпийский забег на длинную дистанцию - 24 стадия. Победа на играх ценилась очень высоко. Чемпионам оказывали большие почести, избирали на почетные должности, в их честь возводили монумен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240" cy="6324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ой популярностью в Древней Греции пользовались прыжки в длину и эстафетный бег (лампадериомас), участники которого передавали друг другу горящий факел. Позднее в программу Олимпийских игр были включены метание диска и метание копья, а в 708 г. до н.э. впервые были проведены состязания по многоборью - пентатлону, в который входили бег на 1 стадий, метание диска, копья, прыжок в длину (во время разбега атлет держал в руках гантели массой от 1,5 до 4,5 кг) и борьба (панкратион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Легкая атлетика как вид спорта начала складываться лишь к концу первой половины XIX века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C6E0B2-62A2-4D57-AEA1-4ACD3CDE349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14AC06-F17D-440E-9659-AA12E0DE80F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304920" y="1676520"/>
            <a:ext cx="8686440" cy="3200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Book Antiqua"/>
              </a:rPr>
              <a:t>ЛЕГКАЯ АТЛЕТИКА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Book Antiqua"/>
              </a:rPr>
              <a:t>(техника бега на короткие дистанции)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80CA42-3E59-4991-937C-48EBF7E1AE3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048120" y="457200"/>
            <a:ext cx="586692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Бег – естественный способ передвижения, входящий во многие виды спорт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8600" y="3200400"/>
            <a:ext cx="655272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В легкой атлетике, бег  делится на гладки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с препятствиями, эстафетный и по пересечённой местности.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8" descr="888155-003"/>
          <p:cNvPicPr/>
          <p:nvPr/>
        </p:nvPicPr>
        <p:blipFill>
          <a:blip r:embed="rId1"/>
          <a:stretch/>
        </p:blipFill>
        <p:spPr>
          <a:xfrm>
            <a:off x="6629400" y="2819520"/>
            <a:ext cx="2295000" cy="2590560"/>
          </a:xfrm>
          <a:prstGeom prst="rect">
            <a:avLst/>
          </a:prstGeom>
          <a:ln w="9525">
            <a:noFill/>
          </a:ln>
        </p:spPr>
      </p:pic>
      <p:pic>
        <p:nvPicPr>
          <p:cNvPr id="191" name="Picture 9" descr="888155-004"/>
          <p:cNvPicPr/>
          <p:nvPr/>
        </p:nvPicPr>
        <p:blipFill>
          <a:blip r:embed="rId2"/>
          <a:stretch/>
        </p:blipFill>
        <p:spPr>
          <a:xfrm>
            <a:off x="228600" y="457200"/>
            <a:ext cx="2666520" cy="221436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Num" idx="17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5CCF7E-96FA-48AE-A9E2-17135EE2362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80880" y="990720"/>
            <a:ext cx="8534160" cy="502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Характерная особенность бега – </a:t>
            </a:r>
            <a:r>
              <a:rPr b="1" lang="ru-RU" sz="3600" spc="-1" strike="noStrike">
                <a:solidFill>
                  <a:srgbClr val="00ccff"/>
                </a:solidFill>
                <a:latin typeface="Times New Roman"/>
              </a:rPr>
              <a:t>наличие фазы полета.</a:t>
            </a: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 Бег выполняется широким шагом на передней части стопы, с полным выпрямлением ноги в момент отталкивания от земли и выносом бедра другой ноги вперед-вверх, туловище слегка наклонено вперёд, руки согнуты в локтях, дыхание свободно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FCF08C-AC08-439F-A836-562835E13A0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ccff"/>
                </a:solidFill>
                <a:latin typeface="Times New Roman"/>
              </a:rPr>
              <a:t>БЕГ ПО ДИСТАНЦИ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95720" cy="2558520"/>
          </a:xfrm>
          <a:prstGeom prst="rect">
            <a:avLst/>
          </a:prstGeom>
          <a:ln w="9525">
            <a:noFill/>
          </a:ln>
        </p:spPr>
      </p:pic>
      <p:sp>
        <p:nvSpPr>
          <p:cNvPr id="197" name="Rectangle 10"/>
          <p:cNvSpPr/>
          <p:nvPr/>
        </p:nvSpPr>
        <p:spPr>
          <a:xfrm>
            <a:off x="304920" y="4038480"/>
            <a:ext cx="8686440" cy="203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бег по дистанции должен быть</a:t>
            </a:r>
            <a:r>
              <a:rPr b="1" lang="ru-RU" sz="3200" spc="-1" strike="noStrike">
                <a:solidFill>
                  <a:schemeClr val="folHlink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ccff"/>
                </a:solidFill>
                <a:latin typeface="Times New Roman"/>
              </a:rPr>
              <a:t>ритмичным</a:t>
            </a:r>
            <a:r>
              <a:rPr b="1" lang="ru-RU" sz="3200" spc="-1" strike="noStrike">
                <a:solidFill>
                  <a:schemeClr val="folHlink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и </a:t>
            </a:r>
            <a:r>
              <a:rPr b="1" lang="ru-RU" sz="3200" spc="-1" strike="noStrike">
                <a:solidFill>
                  <a:srgbClr val="00ccff"/>
                </a:solidFill>
                <a:latin typeface="Times New Roman"/>
              </a:rPr>
              <a:t>свободным,</a:t>
            </a:r>
            <a:r>
              <a:rPr b="1" lang="ru-RU" sz="3200" spc="-1" strike="noStrike">
                <a:solidFill>
                  <a:schemeClr val="folHlink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с небольшим</a:t>
            </a:r>
            <a:r>
              <a:rPr b="1" lang="ru-RU" sz="3200" spc="-1" strike="noStrike">
                <a:solidFill>
                  <a:schemeClr val="folHlink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ccff"/>
                </a:solidFill>
                <a:latin typeface="Times New Roman"/>
              </a:rPr>
              <a:t>наклоном туловища вперед</a:t>
            </a:r>
            <a:r>
              <a:rPr b="1" lang="ru-RU" sz="3200" spc="-1" strike="noStrike">
                <a:solidFill>
                  <a:schemeClr val="folHlink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(взгляд устремлен вперед); нога</a:t>
            </a:r>
            <a:r>
              <a:rPr b="1" lang="ru-RU" sz="3200" spc="-1" strike="noStrike">
                <a:solidFill>
                  <a:schemeClr val="folHlink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касается дорожки передней частью сто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Сотрудничество">
  <a:themeElements>
    <a:clrScheme name="Сотрудничество 9">
      <a:dk1>
        <a:srgbClr val="8a0000"/>
      </a:dk1>
      <a:lt1>
        <a:srgbClr val="ffffff"/>
      </a:lt1>
      <a:dk2>
        <a:srgbClr val="800000"/>
      </a:dk2>
      <a:lt2>
        <a:srgbClr val="ffffcc"/>
      </a:lt2>
      <a:accent1>
        <a:srgbClr val="ff5831"/>
      </a:accent1>
      <a:accent2>
        <a:srgbClr val="c5543d"/>
      </a:accent2>
      <a:accent3>
        <a:srgbClr val="c0aaaa"/>
      </a:accent3>
      <a:accent4>
        <a:srgbClr val="dadada"/>
      </a:accent4>
      <a:accent5>
        <a:srgbClr val="ffb4ad"/>
      </a:accent5>
      <a:accent6>
        <a:srgbClr val="b24b36"/>
      </a:accent6>
      <a:hlink>
        <a:srgbClr val="ffffcc"/>
      </a:hlink>
      <a:folHlink>
        <a:srgbClr val="ff99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трудничество">
  <a:themeElements>
    <a:clrScheme name="Сотрудничество 9">
      <a:dk1>
        <a:srgbClr val="8a0000"/>
      </a:dk1>
      <a:lt1>
        <a:srgbClr val="ffffff"/>
      </a:lt1>
      <a:dk2>
        <a:srgbClr val="800000"/>
      </a:dk2>
      <a:lt2>
        <a:srgbClr val="ffffcc"/>
      </a:lt2>
      <a:accent1>
        <a:srgbClr val="ff5831"/>
      </a:accent1>
      <a:accent2>
        <a:srgbClr val="c5543d"/>
      </a:accent2>
      <a:accent3>
        <a:srgbClr val="c0aaaa"/>
      </a:accent3>
      <a:accent4>
        <a:srgbClr val="dadada"/>
      </a:accent4>
      <a:accent5>
        <a:srgbClr val="ffb4ad"/>
      </a:accent5>
      <a:accent6>
        <a:srgbClr val="b24b36"/>
      </a:accent6>
      <a:hlink>
        <a:srgbClr val="ffffcc"/>
      </a:hlink>
      <a:folHlink>
        <a:srgbClr val="ff99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трудничество">
  <a:themeElements>
    <a:clrScheme name="Сотрудничество 9">
      <a:dk1>
        <a:srgbClr val="8a0000"/>
      </a:dk1>
      <a:lt1>
        <a:srgbClr val="ffffff"/>
      </a:lt1>
      <a:dk2>
        <a:srgbClr val="800000"/>
      </a:dk2>
      <a:lt2>
        <a:srgbClr val="ffffcc"/>
      </a:lt2>
      <a:accent1>
        <a:srgbClr val="ff5831"/>
      </a:accent1>
      <a:accent2>
        <a:srgbClr val="c5543d"/>
      </a:accent2>
      <a:accent3>
        <a:srgbClr val="c0aaaa"/>
      </a:accent3>
      <a:accent4>
        <a:srgbClr val="dadada"/>
      </a:accent4>
      <a:accent5>
        <a:srgbClr val="ffb4ad"/>
      </a:accent5>
      <a:accent6>
        <a:srgbClr val="b24b36"/>
      </a:accent6>
      <a:hlink>
        <a:srgbClr val="ffffcc"/>
      </a:hlink>
      <a:folHlink>
        <a:srgbClr val="ff99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800000"/>
      </a:dk2>
      <a:lt2>
        <a:srgbClr val="ffffcc"/>
      </a:lt2>
      <a:accent1>
        <a:srgbClr val="ff5831"/>
      </a:accent1>
      <a:accent2>
        <a:srgbClr val="c5543d"/>
      </a:accent2>
      <a:accent3>
        <a:srgbClr val="c0aaaa"/>
      </a:accent3>
      <a:accent4>
        <a:srgbClr val="dadada"/>
      </a:accent4>
      <a:accent5>
        <a:srgbClr val="ffb4ad"/>
      </a:accent5>
      <a:accent6>
        <a:srgbClr val="b24b36"/>
      </a:accent6>
      <a:hlink>
        <a:srgbClr val="ffffcc"/>
      </a:hlink>
      <a:folHlink>
        <a:srgbClr val="ff99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amwork</Template>
  <TotalTime>287</TotalTime>
  <Application>LibreOffice/7.4.7.2$Linux_X86_64 LibreOffice_project/40$Build-2</Application>
  <AppVersion>15.0000</AppVersion>
  <Words>729</Words>
  <Paragraphs>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User</dc:creator>
  <dc:description/>
  <dc:language>en-US</dc:language>
  <cp:lastModifiedBy>1</cp:lastModifiedBy>
  <cp:lastPrinted>1601-01-01T00:00:00Z</cp:lastPrinted>
  <dcterms:modified xsi:type="dcterms:W3CDTF">2022-01-11T11:34:4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15</vt:r8>
  </property>
  <property fmtid="{D5CDD505-2E9C-101B-9397-08002B2CF9AE}" pid="6" name="Version">
    <vt:r8>3</vt:r8>
  </property>
</Properties>
</file>