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512525-DEB0-43B7-B24D-3D2622376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579C5-3049-471F-9865-F207058744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975-16DE-4067-96D3-029CCC66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3EC-9532-44A5-BAFC-0E01EB4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EE0-85D9-4073-8DDC-3874ACC0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373-FCFD-4ED8-BA6C-E1DD7F05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776A-10B6-4F30-9583-B23ADDE1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C47-1623-4E55-9C36-C85B8ACA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F860-5EDB-4096-B060-52036EAA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FB93-CDE1-4E3C-B99E-438FE22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C711-1B70-44EF-9F9C-94398AA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E10-6A87-45C0-8159-1F29BA49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1B78-98F8-42DF-9D6E-18D2C27D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EBD-7C6E-447F-B904-80AF9768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745D-CF9A-41CB-9693-1FA96120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BBF-0822-4AB9-B5F1-03E339D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1CEA-A717-4ED7-964F-0F35D1BE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859-3C3E-46F3-926B-F1207DE0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8552-C254-4334-9B66-0049F7C4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CA1A-7615-4F19-ADA3-E3F63A95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DA0B-C20C-4112-93CC-DB6E4DE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94DD-CC48-412D-B5FD-3B0413D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CD99-D6CB-465D-B988-CAE20CC7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21CD-6A30-4223-8DEA-20877A1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372-131A-4978-8641-52EB139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7971-F3D3-427C-8B97-8DBB877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CD92-1565-42C7-B6B5-7452FF5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160F-D890-45DE-8343-8783377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6756-3000-4A04-BBF9-6995AFE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ADBC-EEFE-4B92-B1FD-182E68C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B586-4FDF-4196-9070-35515B95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57DB-965E-40C7-8A03-5510B137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8BC-CEF3-4395-BF84-F577E8F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9C2-FB01-41E2-B6A9-A8A5777C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068-3643-49BF-B746-544B4944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6AE-A428-4A90-A7FA-DBC923A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533-A963-42F9-9F52-94E92FAA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FCF-6522-440F-8A37-35C0EB8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73C8BA-9B88-44A9-83B7-BBE289649A9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ец тек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торой уровен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AA6E14-DDC5-4EB4-A573-B9E79909868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3640" cy="4046400"/>
            <a:chOff x="0" y="2438280"/>
            <a:chExt cx="9143640" cy="404640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560" cy="60912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6720" cy="1942920"/>
            </a:xfrm>
            <a:custGeom>
              <a:avLst/>
              <a:gdLst>
                <a:gd name="textAreaLeft" fmla="*/ 0 w 4266720"/>
                <a:gd name="textAreaRight" fmla="*/ 4267080 w 426672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320" cy="195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1955520"/>
                <a:gd name="textAreaBottom" fmla="*/ 1955880 h 195552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3720" cy="1209240"/>
            </a:xfrm>
            <a:custGeom>
              <a:avLst/>
              <a:gdLst>
                <a:gd name="textAreaLeft" fmla="*/ 0 w 3123720"/>
                <a:gd name="textAreaRight" fmla="*/ 3124080 w 312372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4840" cy="1900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400" cy="190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7720" cy="4363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080" cy="485280"/>
            </a:xfrm>
            <a:custGeom>
              <a:avLst/>
              <a:gdLst>
                <a:gd name="textAreaLeft" fmla="*/ 0 w 1144080"/>
                <a:gd name="textAreaRight" fmla="*/ 1144440 w 114408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520" cy="1398240"/>
            </a:xfrm>
            <a:custGeom>
              <a:avLst/>
              <a:gdLst>
                <a:gd name="textAreaLeft" fmla="*/ 0 w 3809520"/>
                <a:gd name="textAreaRight" fmla="*/ 3809880 w 3809520"/>
                <a:gd name="textAreaTop" fmla="*/ 0 h 1398240"/>
                <a:gd name="textAreaBottom" fmla="*/ 1398600 h 139824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480" cy="40932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560" cy="10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160" cy="60768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360" cy="3567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00f0f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120" cy="1480680"/>
            </a:xfrm>
            <a:custGeom>
              <a:avLst/>
              <a:gdLst>
                <a:gd name="textAreaLeft" fmla="*/ 0 w 4119120"/>
                <a:gd name="textAreaRight" fmla="*/ 4119480 w 411912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520" cy="1731600"/>
            </a:xfrm>
            <a:custGeom>
              <a:avLst/>
              <a:gdLst>
                <a:gd name="textAreaLeft" fmla="*/ 0 w 4322520"/>
                <a:gd name="textAreaRight" fmla="*/ 4322880 w 432252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3E8272-CB96-489A-975B-C856E46CE54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391320" y="685800"/>
            <a:ext cx="56383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ЛЕГКА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АТЛЕТИ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228600" y="3143520"/>
            <a:ext cx="7467120" cy="3295440"/>
          </a:xfrm>
          <a:prstGeom prst="rect">
            <a:avLst/>
          </a:prstGeom>
          <a:ln w="9525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463AA4-D0EE-4EA6-9F68-2E20B72517A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000"/>
          </a:xfrm>
          <a:prstGeom prst="rect">
            <a:avLst/>
          </a:prstGeom>
          <a:ln w="9525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304920" y="457200"/>
            <a:ext cx="5257440" cy="225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ffcc00"/>
                </a:solidFill>
                <a:latin typeface="Times New Roman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Times New Roman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886200" y="3505320"/>
            <a:ext cx="5257440" cy="267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ffcc00"/>
                </a:solidFill>
                <a:latin typeface="Times New Roman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иды легкой атлетики принято подразделять на пять разделов: ходьбу, бег, прыжки, метания и многоборья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276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ртивная ходьба - на 20 км (мужчины и женщины) и 50 км (мужчины). Спортивная ходьба - это циклическое локомоторное движение умеренной интенсивности, которое состоит из чередования шагов, при котором спортсмен должен постоянно осуществлять контакт с землей и при этом вынесенная вперед нога должна быть полностью выпрямлена с момента касания земли и до момента вертик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20DEF-BA7E-4341-A90A-ECC63B6A7A2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5125680" cy="270468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81144A-2E45-4220-9FF0-CD3BC8A2DDF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8686440" cy="655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Бег - на короткие (100, 200, 400 м), средние (800 и 1500 м), длинные (5000 и 10 000 м) и сверхдлинные дистанции (марафонский бег - 42 км 195 м), эстафетный бег (4 х 100 и 4 х 400 м), бег с барьерами (100 м - женщины, ПО м - мужчины, 400 м - мужчины и женщины) и бег с препятствиями (3000 м). Соревнования по бегу — один из самых старых видов спорта, по которым были утверждены официальные правила соревнований, и были включены в программу с самых первых олимпийских игр 1896 год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6233760" cy="281916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1A5E46-08B0-4050-B215-C2DBDBC310C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240" cy="64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ыжок в длину. При выполнении прыжка атлеты в первой стадии совершают разбег по дорожке, затем отталкиваются одной ногой от специальной доски и прыгают в яму с песк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ния - толкание ядра, метание копья, метание диска и метание молота. В 1896 г. в программу Игр включили метание диска и толкание ядра; в 1900 г. – метание молота, в 1906 г. – метание коп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оборья - десятиборье (мужской вид) и семиборье (женский вид), которые проводятся в течение двух дней подряд в следующем поряд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авила в легкой атлетики довольно просты: победителем считается атлет или команда, которые показали лучшие результаты в финальном забеге или финальной попытке технических дисциплин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45E024-F226-4EB7-A003-8D585C6F888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 flipV="1" rot="10800000">
            <a:off x="457560" y="1569960"/>
            <a:ext cx="815796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cc00"/>
                </a:solidFill>
                <a:latin typeface="Times New Roman"/>
              </a:rPr>
              <a:t>Спорт –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cc00"/>
                </a:solidFill>
                <a:latin typeface="Times New Roman"/>
              </a:rPr>
              <a:t>сильнее слов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6171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гкая атлетика - один из основных и наиболее массовых видов спорта, объединяющий ходьбу и бег на различные дистанции, прыжки в длину и высоту, метания диска, копья, молота, гранаты (толкание ядра), а также легкоатлетического многоборья — десятиборье, пятиборье и др. В современной спортивной классификации насчитывается свыше 60 разновидностей легкоатлетических упражн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C2E3A0-B300-4777-8F82-3E5C6BBBC0F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6248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Олимпийские игры древности, о которых сохранилась достоверная запись, состоялись в 776 г. до н.э. Тогда в программу состязаний входил лишь бег на 1 стадий (192 м 27 см). В 724 г. до н.э. проводился бег уже на 2 стадия, а еще через четыре года состоялся первый олимпийский забег на длинную дистанцию - 24 стадия. Победа на играх ценилась очень высоко. Чемпионам оказывали большие почести, избирали на почетные должности, в их честь возводили монумен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6324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ой популярностью в Древней Греции пользовались прыжки в длину и эстафетный бег (лампадериомас), участники которого передавали друг другу горящий факел. Позднее в программу Олимпийских игр были включены метание диска и метание копья, а в 708 г. до н.э. впервые были проведены состязания по многоборью - пентатлону, в который входили бег на 1 стадий, метание диска, копья, прыжок в длину (во время разбега атлет держал в руках гантели массой от 1,5 до 4,5 кг) и борьба (панкратион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егкая атлетика как вид спорта начала складываться лишь к концу первой половины XIX века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B7515C-A5AA-4321-9954-1DFAF84EAFF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105F68-4526-4602-9E28-59AC196E00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304920" y="1676520"/>
            <a:ext cx="8686440" cy="3200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 Antiqua"/>
              </a:rPr>
              <a:t>ЛЕГКАЯ АТЛЕТИКА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Book Antiqua"/>
              </a:rPr>
              <a:t>(техника бега на короткие дистанции)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79FB4B-E815-4A3A-9AE9-CE3DFB8532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048120" y="457200"/>
            <a:ext cx="58669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8600" y="3200400"/>
            <a:ext cx="65527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000" cy="259056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520" cy="221436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E660B2-FA31-4FBB-8853-98E26210AFC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80880" y="990720"/>
            <a:ext cx="853416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Характерная особенность бега – </a:t>
            </a:r>
            <a:r>
              <a:rPr b="1" lang="ru-RU" sz="3600" spc="-1" strike="noStrike">
                <a:solidFill>
                  <a:srgbClr val="00ccff"/>
                </a:solidFill>
                <a:latin typeface="Times New Roman"/>
              </a:rPr>
              <a:t>наличие фазы полета.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Бег выполняется широким шагом на передней части стопы, с полным выпрямлением ноги в момент отталкивания от земли и выносом бедра другой ноги вперед-вверх, туловище слегка наклонено вперёд, руки согнуты в локтях, дыхание свободн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585758-4E44-49B6-A22A-17C287F2A6B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БЕГ ПО ДИСТАН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5720" cy="2558520"/>
          </a:xfrm>
          <a:prstGeom prst="rect">
            <a:avLst/>
          </a:prstGeom>
          <a:ln w="9525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304920" y="4038480"/>
            <a:ext cx="868644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бег по дистанции должен быть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ритмичным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свободным,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 небольшим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наклоном туловища вперед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(взгляд устремлен вперед); нога</a:t>
            </a:r>
            <a:r>
              <a:rPr b="1" lang="ru-RU" sz="3200" spc="-1" strike="noStrike">
                <a:solidFill>
                  <a:schemeClr val="folHlink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Сотрудничество">
  <a:themeElements>
    <a:clrScheme name="Сотрудничество 9">
      <a:dk1>
        <a:srgbClr val="8a0000"/>
      </a:dk1>
      <a:lt1>
        <a:srgbClr val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трудничество">
  <a:themeElements>
    <a:clrScheme name="Сотрудничество 9">
      <a:dk1>
        <a:srgbClr val="8a0000"/>
      </a:dk1>
      <a:lt1>
        <a:srgbClr val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трудничество">
  <a:themeElements>
    <a:clrScheme name="Сотрудничество 9">
      <a:dk1>
        <a:srgbClr val="8a0000"/>
      </a:dk1>
      <a:lt1>
        <a:srgbClr val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00000"/>
      </a:dk2>
      <a:lt2>
        <a:srgbClr val="ffffcc"/>
      </a:lt2>
      <a:accent1>
        <a:srgbClr val="ff5831"/>
      </a:accent1>
      <a:accent2>
        <a:srgbClr val="c5543d"/>
      </a:accent2>
      <a:accent3>
        <a:srgbClr val="c0aaaa"/>
      </a:accent3>
      <a:accent4>
        <a:srgbClr val="dadada"/>
      </a:accent4>
      <a:accent5>
        <a:srgbClr val="ffb4ad"/>
      </a:accent5>
      <a:accent6>
        <a:srgbClr val="b24b36"/>
      </a:accent6>
      <a:hlink>
        <a:srgbClr val="ffffcc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amwork</Template>
  <TotalTime>287</TotalTime>
  <Application>LibreOffice/7.4.7.2$Linux_X86_64 LibreOffice_project/40$Build-2</Application>
  <AppVersion>15.0000</AppVersion>
  <Words>729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User</dc:creator>
  <dc:description/>
  <dc:language>en-US</dc:language>
  <cp:lastModifiedBy>1</cp:lastModifiedBy>
  <cp:lastPrinted>1601-01-01T00:00:00Z</cp:lastPrinted>
  <dcterms:modified xsi:type="dcterms:W3CDTF">2022-01-11T11:34:4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5</vt:r8>
  </property>
  <property fmtid="{D5CDD505-2E9C-101B-9397-08002B2CF9AE}" pid="6" name="Version">
    <vt:r8>3</vt:r8>
  </property>
</Properties>
</file>