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EFA-EF27-416C-B03B-24D26705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AD1-AC8A-4F5D-BD04-B480CD5A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BA1-38E0-4249-9185-731084CF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ACC-E089-46AB-89A8-84CDB7A2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4A5B-A6AF-434E-80A6-73A52905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FA13-E761-436F-BAEE-5E181F96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E2BD-5FEF-4641-A110-8E3785CA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E515-FC80-41D1-AA87-01C71E4F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B6DD-A4AC-4599-BBE0-46ED1147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F8C6-0C66-4EEE-94FE-B8151859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84B2-EAF1-4862-A758-4AACE66E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0DE5-7252-4C14-857C-0105D2B1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DA43-A30A-4F6A-880E-DCA83E88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06A6-37C4-49A0-9CFD-2EA92FDC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8E5B-E731-4F94-8585-F6E0A0F5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3AEE-47DA-455E-B76D-8A6B9375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A83C-A28D-43AA-B19F-06074739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49497-0057-4683-BB03-F847168E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C0F8C-46DD-4564-9839-62A6DB0C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DC904-9F6E-4246-87B1-1BD386CF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43ED2-4063-43E4-84B9-2DAEC13A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85BAF-3253-44E9-9673-62CE75D0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8B7-1771-4E45-8365-07AA1612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0D3B4-1BAD-4CB4-AE75-8BA4A9BD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114D3-619E-484E-A863-1E9CDAFD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3344B-0026-462D-8D24-51DB8631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38D4A-99A6-42C2-B9F7-7BC24776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76BDC-9EA2-4189-908F-6F9A94B9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017BF-2D88-4F95-A522-246B05F6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A8F6B-71FC-4C64-83CF-75159B6F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7B2F4-3B05-4580-828A-325DC27B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4AB83-72CB-413F-8374-E81660AC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EADF0-BDA2-45EA-92B8-E4D34308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C91-3865-4F4C-BA84-5057079F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FE828-4CFF-4874-A9A1-2FB27A7B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1F5FA-52DC-4F3B-A522-B9B44228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E81A1-84A4-4051-A558-9A3F6A48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D54F7-CA8A-43CE-BCD7-C80445FB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7A545-3416-410F-88B2-694C71E2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9AB82-9770-4A0E-936F-5E6C1EBE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AC65B-8E17-475A-98A8-979D12C7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342D8-C9CF-4C00-8B3A-70101D27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6E2B9-94BE-4EC7-ADBB-78FB6EA4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3B58E-D080-4C03-9957-3FA27CCA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945-AEE6-4095-8EFA-60180FAB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38795-3E44-46FF-9354-8838B0A1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4C637-3FB1-4EC8-A86B-16E8C76E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33C2B-025E-4723-80AE-13B72D2B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6B61D-3616-476E-841E-C241B067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53FC6-BA9A-4DA6-8834-46FBF309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C2497-E43D-4FE5-A436-E97281EF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1C084-5534-4CD8-AE2E-0B9D6ED5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DCD28-9EBB-406F-BC02-26DB30CB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36D53-46D1-4955-9286-C8FC190A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A8221-8B7D-433C-9E55-625CD0F9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FC1-49BC-460F-A645-FB03EFCE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BE21D-478E-46DB-94B6-69098ECC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FD03-39A3-4423-AB35-4BDA209B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301F-C8C2-4D87-A849-8AC8D30E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6CD-2F6B-4A2B-8019-ADB0BF7E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DC14-5F42-4227-9415-DE26AC7E5A7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F202-CEE0-47AC-B913-876E5DB5469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D6FB-E121-4F5C-BE5C-7155E77D1DD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F81F-51EE-46C3-AC15-45F02581052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EF87-7672-411B-9D46-423AD4B2864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3920" y="856800"/>
            <a:ext cx="6983640" cy="247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553"/>
                </a:solidFill>
                <a:latin typeface="Times New Roman"/>
                <a:ea typeface="Times New Roman"/>
              </a:rPr>
              <a:t>«ЛЮБОВЬ, </a:t>
            </a:r>
            <a:br>
              <a:rPr sz="4400"/>
            </a:br>
            <a:r>
              <a:rPr b="1" lang="ru-RU" sz="4400" spc="-1" strike="noStrike">
                <a:solidFill>
                  <a:srgbClr val="ff9553"/>
                </a:solidFill>
                <a:latin typeface="Times New Roman"/>
                <a:ea typeface="Times New Roman"/>
              </a:rPr>
              <a:t>КАК ВЫСШЕЕ ЧЕЛОВЕЧЕСКОЕ ЧУВСТВО»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505320" y="4196880"/>
            <a:ext cx="4876560" cy="8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2214720" y="3444840"/>
            <a:ext cx="51894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и любви: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92852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47840" indent="-382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, симпатия, влечен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хищение, восторженность, влюбленность, стра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лонение, уважение, предан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7840" indent="-3826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714240" y="4929120"/>
            <a:ext cx="77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Times New Roman"/>
                <a:ea typeface="Times New Roman"/>
              </a:rPr>
              <a:t>Любовь, прошедшая все три фаз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Times New Roman"/>
                <a:ea typeface="Times New Roman"/>
              </a:rPr>
              <a:t>развитое и мощное чув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07264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553"/>
                </a:solidFill>
                <a:latin typeface="Times New Roman"/>
                <a:ea typeface="Times New Roman"/>
              </a:rPr>
              <a:t>Как меняется поведение влюбленных юноши и девушки? 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2428920" y="2643120"/>
            <a:ext cx="4716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643880" cy="30718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е периоды проявления полового влечения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568840" y="4589280"/>
            <a:ext cx="2941920" cy="1500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3929040" y="2428920"/>
            <a:ext cx="350064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43040" y="436680"/>
            <a:ext cx="6081840" cy="2063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года</a:t>
            </a:r>
            <a:br>
              <a:rPr sz="49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ание объектом, расспросы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568840" y="4589280"/>
            <a:ext cx="2941920" cy="1500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285840" y="2643120"/>
            <a:ext cx="3582720" cy="2714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3214800" y="4000680"/>
            <a:ext cx="2997000" cy="2428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>
            <a:off x="5929200" y="2492280"/>
            <a:ext cx="27734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85960" y="285840"/>
            <a:ext cx="6081840" cy="2063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-8 лет</a:t>
            </a:r>
            <a:br>
              <a:rPr sz="49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рки, причинение обиды, боли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568840" y="4589280"/>
            <a:ext cx="2941920" cy="1500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341280" y="2357280"/>
            <a:ext cx="3730680" cy="3071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5214960" y="2428920"/>
            <a:ext cx="3460680" cy="2595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3"/>
          <a:stretch/>
        </p:blipFill>
        <p:spPr>
          <a:xfrm>
            <a:off x="3714840" y="3857760"/>
            <a:ext cx="178596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572240" cy="27147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2-13 лет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местные игры, общение, взаимная помощь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568840" y="4589280"/>
            <a:ext cx="2941920" cy="1500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2928960" y="2857680"/>
            <a:ext cx="350028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8001000" cy="2500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5-17 лет</a:t>
            </a:r>
            <a:br>
              <a:rPr sz="49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е общение, взаимное уединение (прогулки, разговоры, обсуждение проблем)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568840" y="4589280"/>
            <a:ext cx="2941920" cy="1500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2071800" y="3286080"/>
            <a:ext cx="51433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072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553"/>
                </a:solidFill>
                <a:latin typeface="Times New Roman"/>
                <a:ea typeface="Times New Roman"/>
              </a:rPr>
              <a:t>Что мешает любви, </a:t>
            </a:r>
            <a:br>
              <a:rPr sz="4400"/>
            </a:br>
            <a:r>
              <a:rPr b="1" lang="ru-RU" sz="4400" spc="-1" strike="noStrike">
                <a:solidFill>
                  <a:srgbClr val="ff9553"/>
                </a:solidFill>
                <a:latin typeface="Times New Roman"/>
                <a:ea typeface="Times New Roman"/>
              </a:rPr>
              <a:t>делает ее несчастной?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2357280" y="2357280"/>
            <a:ext cx="495144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07264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553"/>
                </a:solidFill>
                <a:latin typeface="Times New Roman"/>
                <a:ea typeface="Times New Roman"/>
              </a:rPr>
              <a:t>Чем Любовь отличается от Влюбленности?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6" name="Picture 7" descr=""/>
          <p:cNvPicPr/>
          <p:nvPr/>
        </p:nvPicPr>
        <p:blipFill>
          <a:blip r:embed="rId1"/>
          <a:stretch/>
        </p:blipFill>
        <p:spPr>
          <a:xfrm>
            <a:off x="2349360" y="2071800"/>
            <a:ext cx="50086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500040" y="1571760"/>
          <a:ext cx="8215200" cy="4214520"/>
        </p:xfrm>
        <a:graphic>
          <a:graphicData uri="http://schemas.openxmlformats.org/drawingml/2006/table">
            <a:tbl>
              <a:tblPr/>
              <a:tblGrid>
                <a:gridCol w="4106880"/>
                <a:gridCol w="4108320"/>
              </a:tblGrid>
              <a:tr h="601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юбленн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юбов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молетное чув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лговечное чув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ерхностно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убок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жит голов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звее и реалистич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Розовые очки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ит недостат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оции, стра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койное чув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расстоянии прохо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расстоянии остае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2"/>
          <p:cNvSpPr/>
          <p:nvPr/>
        </p:nvSpPr>
        <p:spPr>
          <a:xfrm>
            <a:off x="571680" y="642960"/>
            <a:ext cx="81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9b268"/>
                </a:solidFill>
                <a:uFillTx/>
                <a:latin typeface="Times New Roman"/>
                <a:ea typeface="Times New Roman"/>
              </a:rPr>
              <a:t>ОТЛИЧИЕ ЛЮБВИ ОТ ВЛЮБ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85600" y="142920"/>
            <a:ext cx="57769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553"/>
                </a:solidFill>
                <a:latin typeface="Times New Roman"/>
                <a:ea typeface="Times New Roman"/>
              </a:rPr>
              <a:t>ЧТО ТАКОЕ ЛЮБОВЬ?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500200" y="2251080"/>
            <a:ext cx="471492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, кто не умеет любить себя, никогда не сможет по-настоящему полюбить другого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3880" y="4857480"/>
            <a:ext cx="7796520" cy="150012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95c00"/>
                </a:solidFill>
                <a:latin typeface="Times New Roman"/>
                <a:ea typeface="Times New Roman"/>
              </a:rPr>
              <a:t>Любовь к себе также отражается в отношении к окружающим. Уважающий себя человек никогда не будет унижать другого, так как такое поведение, в первую очередь, унижает его человеческое достоинст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2643120" y="1785960"/>
            <a:ext cx="3554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152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ссказ О. Генри </a:t>
            </a:r>
            <a:br>
              <a:rPr sz="4400"/>
            </a:br>
            <a:r>
              <a:rPr b="1" lang="ru-RU" sz="4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«Дары волхвов»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Прямоугольник 4"/>
          <p:cNvSpPr/>
          <p:nvPr/>
        </p:nvSpPr>
        <p:spPr>
          <a:xfrm>
            <a:off x="714240" y="1954080"/>
            <a:ext cx="79297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стория двух бедных супругов, которые сделали друг другу рождественские подарки. Муж восхищался роскошными волосами жены и решил продать свои великолепные часы, чтобы подарить ей гребень. А жена решила обрезать волосы и продать их, чтобы купить ремешок к великолепным часам мужа. В результате оба супруга получили на Рождество абсолютно бесполезные вещи. Но они были самыми счастливыми людьми на Земл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2071800" y="578628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Times New Roman"/>
                <a:ea typeface="Times New Roman"/>
              </a:rPr>
              <a:t>Как вы думаете,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643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ЛЮБИТЕ И БУДЬТЕ ЛЮБИМЫ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2200320" y="1143000"/>
            <a:ext cx="48006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45828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– это…</a:t>
            </a:r>
            <a:endParaRPr b="1" lang="en-US" sz="6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окое эмоциональное влечение, сильное сердечное чувство.   (Ожегов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привязанности, основанное на общности интересов, идеалов, на готовности отдать свои силы общему делу.   (Ушаков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6000840" y="4500720"/>
            <a:ext cx="271440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152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Любовь всегда связывалась с величием личности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714240" y="1954080"/>
            <a:ext cx="7929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олько влюбленный имеет право на звание человека» (А. Блок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ловек без любви – не вполне человек, он неполноценен ни физически, ни эмоционально» (Р. Ролла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 только любящий безгрешен» (Р. Гамзат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714920" y="4572000"/>
            <a:ext cx="385776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ли демонстрировать свою любовь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571680" y="2857680"/>
            <a:ext cx="4095720" cy="3071520"/>
          </a:xfrm>
          <a:prstGeom prst="rect">
            <a:avLst/>
          </a:prstGeom>
          <a:ln w="0">
            <a:noFill/>
          </a:ln>
        </p:spPr>
      </p:pic>
      <p:sp>
        <p:nvSpPr>
          <p:cNvPr id="232" name="Выноска-облако 7"/>
          <p:cNvSpPr/>
          <p:nvPr/>
        </p:nvSpPr>
        <p:spPr>
          <a:xfrm>
            <a:off x="3429000" y="428760"/>
            <a:ext cx="4857840" cy="3357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овь - это тайна, и от всех людских глаз должна быть закр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28480" y="214200"/>
            <a:ext cx="6396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553"/>
                </a:solidFill>
                <a:latin typeface="Times New Roman"/>
                <a:ea typeface="Times New Roman"/>
              </a:rPr>
              <a:t>ЛЮБОВЬ…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7078680" y="4792680"/>
            <a:ext cx="1968480" cy="19684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3"/>
          <p:cNvSpPr/>
          <p:nvPr/>
        </p:nvSpPr>
        <p:spPr>
          <a:xfrm>
            <a:off x="2071800" y="1643040"/>
            <a:ext cx="20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3857760" y="2286000"/>
            <a:ext cx="20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р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3000240" y="3214800"/>
            <a:ext cx="42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5429160" y="1714680"/>
            <a:ext cx="20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5000760" y="4000680"/>
            <a:ext cx="35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2143080" y="4786200"/>
            <a:ext cx="317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07f09"/>
                </a:solidFill>
                <a:latin typeface="Times New Roman"/>
                <a:ea typeface="Times New Roman"/>
              </a:rPr>
              <a:t>ВЫБ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1428840" y="5643720"/>
            <a:ext cx="45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ие одного человека среди друг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56880" y="428760"/>
            <a:ext cx="5776920" cy="18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553"/>
                </a:solidFill>
                <a:latin typeface="Times New Roman"/>
                <a:ea typeface="Times New Roman"/>
              </a:rPr>
              <a:t>ПОЧЕМУ ЛЮБЯТ ОДНОГО И НЕ ЛЮБЯТ ДРУГОГО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2428920" y="2428920"/>
            <a:ext cx="50371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33280" y="564840"/>
            <a:ext cx="6338880" cy="222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9553"/>
                </a:solidFill>
                <a:latin typeface="Times New Roman"/>
                <a:ea typeface="Times New Roman"/>
              </a:rPr>
              <a:t>У каждого человека в юности есть идеал противоположного пола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255840" y="3655800"/>
            <a:ext cx="5430960" cy="27018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лижение идеала к действительности вызывает интерес, а полное совпадение – любов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357120" y="3571920"/>
            <a:ext cx="39229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86800" cy="18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553"/>
                </a:solidFill>
                <a:latin typeface="Times New Roman"/>
                <a:ea typeface="Times New Roman"/>
              </a:rPr>
              <a:t>ИДЕАЛ ПРОТИВОПОЛОЖНОГО ПОЛ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2643120" y="2446200"/>
            <a:ext cx="43862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7T14:33:04Z</dcterms:created>
  <dc:creator>Натали</dc:creator>
  <dc:description/>
  <dc:language>en-US</dc:language>
  <cp:lastModifiedBy>Денис</cp:lastModifiedBy>
  <dcterms:modified xsi:type="dcterms:W3CDTF">2022-08-02T16:41:49Z</dcterms:modified>
  <cp:revision>34</cp:revision>
  <dc:subject/>
  <dc:title>КУЛЬТУРА ДОБРАЧНЫХ ОТНОШЕНИЙ</dc:title>
</cp:coreProperties>
</file>