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0AB-AC6D-43D1-9964-49A7AED5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6EF-9A06-4577-B688-EB62ADF3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1A8-3FEA-4007-B1B2-57183DC2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030-390B-46F9-8916-B182F258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9264-2294-4410-95AE-1A9758A0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5222-51AC-460C-A789-3A0F866D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8398-A44E-45BC-94A0-4E134A5F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0E48-3AEB-4903-99E6-3C7FDFA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DF2A-3D10-4660-B5A3-00230E3D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B088-7C4A-4CD7-867C-9E5D3836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2633-EC83-4801-82D7-93D9667E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FE7-DFFE-4393-9AFE-1E76A1F9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6A34-D3E2-48FC-9675-6606AEA3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119C-B784-4949-A7E4-A6CB3782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48B5-9BC0-42FE-92A6-22970FCB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B693-06F8-419C-B151-B28AF1BB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6AB8-7C05-437C-A95B-DB71644F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CA7B-643B-4904-BB7E-E512086A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CF2E-3291-42D6-9CEE-9F11306B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1FDDB-E6B0-4BDA-8720-97DFED3C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FB8B-387F-4C53-8C9F-56815E60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F185-F0DC-4AD5-B6E2-4FF041F0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327-CD86-46C2-9F9A-A3A3FD01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39F0D-33C5-46B6-BDAE-0E404C8D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288A-2354-442E-9E1C-A0F5A1AD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1AC02-AB84-4EE1-AAAC-B664286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A451-AC2E-4B2D-9A59-A5BA3103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5AEB-993C-407B-9093-630CA33A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AE24-37FF-4FA1-A920-97F4EFE1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6A55-B558-4CB6-8675-9C9A11BC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4B177-E8CD-4B00-91EB-D9684C84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46EAD-0E65-4598-8F69-ABB13991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4720-593D-438C-B653-3C6DA7BE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071-0475-493A-8256-DCDE9DBB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2FF1-6C8E-40B0-98E1-3441DF5E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7D9B-74D4-430A-9504-3D18D746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6255B-E093-44C0-80F3-B2BCF9A4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8E719-9AD5-4C12-90B1-B9C15E4B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CB2F-030E-4EBC-BA55-22FC560D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B8E5C-6D14-4D22-99A1-26B2C957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E271A-341A-43DF-93CB-8FE47F2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D265-730E-4FE7-B0AB-65E55FBF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90D3-B108-4E35-B037-47C99C0F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AFE9-ECCC-4B83-900A-E579F7A9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32F-B724-4143-B981-73B30383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7E79F-A502-4BEA-839E-EDA7401F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4EE4B-833B-4640-BA45-6A3DAC88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8FE4-E75E-4550-B8EE-443CFD6A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F47A0-AC75-49CE-B301-2FADA656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9F606-E272-4AC1-A4BB-66089C9F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0ED7B-21DE-46DC-BE22-787BC2EF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E6D9A-6450-4F78-9468-203D91AE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993F2-EC7E-412A-9018-37111E3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AA303-58A2-4687-BDB5-D778868F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68E96-CEFC-4559-AC68-4CB3566F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347-4696-425B-83C2-FE687A8F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56BE1-45CA-4387-9E82-BF3D649D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753-9F32-4320-AEE0-BEAF6591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04B-19C0-4DFE-BFC3-0830C32B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8F7-159F-4C40-8CE5-0BE4CCE3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A825-EA7E-4A7C-9EC0-5355D5BDF07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5A96-2B3D-481F-898D-B413CDBC642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6D44-89D7-4285-ACF5-E7A1352109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EB21-901C-4AC0-BEDE-A25D17CF209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0347-E44C-44B0-BFD5-35C04C87E32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3920" y="856800"/>
            <a:ext cx="6983640" cy="247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«ЛЮБОВЬ, </a:t>
            </a:r>
            <a:br>
              <a:rPr sz="4400"/>
            </a:b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КАК ВЫСШЕЕ ЧЕЛОВЕЧЕСКОЕ ЧУВСТВО»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505320" y="4196880"/>
            <a:ext cx="4876560" cy="8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214720" y="3444840"/>
            <a:ext cx="51894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любви: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928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, симпатия, влеч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хищение, восторженность, влюбленность, стра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онение, уважение, предан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714240" y="492912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Любовь, прошедшая все три фаз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развитое и мощное чув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0726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Как меняется поведение влюбленных юноши и девушки? 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2428920" y="2643120"/>
            <a:ext cx="4716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643880" cy="30718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периоды проявления полового влечения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68840" y="4589280"/>
            <a:ext cx="2941920" cy="1500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3929040" y="2428920"/>
            <a:ext cx="35006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43040" y="436680"/>
            <a:ext cx="6081840" cy="2063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года</a:t>
            </a:r>
            <a:br>
              <a:rPr sz="49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ание объектом, расспрос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568840" y="4589280"/>
            <a:ext cx="2941920" cy="1500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3582720" cy="2714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3214800" y="4000680"/>
            <a:ext cx="2997000" cy="2428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5929200" y="2492280"/>
            <a:ext cx="2773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6081840" cy="2063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-8 лет</a:t>
            </a:r>
            <a:br>
              <a:rPr sz="49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ки, причинение обиды, бол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568840" y="4589280"/>
            <a:ext cx="2941920" cy="1500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341280" y="2357280"/>
            <a:ext cx="3730680" cy="3071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5214960" y="2428920"/>
            <a:ext cx="3460680" cy="2595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3"/>
          <a:stretch/>
        </p:blipFill>
        <p:spPr>
          <a:xfrm>
            <a:off x="3714840" y="3857760"/>
            <a:ext cx="17859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572240" cy="27147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-13 лет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местные игры, общение, взаимная помощь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568840" y="4589280"/>
            <a:ext cx="2941920" cy="1500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2928960" y="2857680"/>
            <a:ext cx="35002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5-17 лет</a:t>
            </a:r>
            <a:br>
              <a:rPr sz="49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е общение, взаимное уединение (прогулки, разговоры, обсуждение проблем)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568840" y="4589280"/>
            <a:ext cx="2941920" cy="1500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2071800" y="3286080"/>
            <a:ext cx="51433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072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Что мешает любви, </a:t>
            </a:r>
            <a:br>
              <a:rPr sz="4400"/>
            </a:b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делает ее несчастной?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95144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07264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Чем Любовь отличается от Влюбленности?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2349360" y="2071800"/>
            <a:ext cx="50086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500040" y="1571760"/>
          <a:ext cx="8215200" cy="4214520"/>
        </p:xfrm>
        <a:graphic>
          <a:graphicData uri="http://schemas.openxmlformats.org/drawingml/2006/table">
            <a:tbl>
              <a:tblPr/>
              <a:tblGrid>
                <a:gridCol w="4106880"/>
                <a:gridCol w="4108320"/>
              </a:tblGrid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юблен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бов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молетное чув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говечное чув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рхност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убо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жит голов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звее и реалистич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Розовые очк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ит недостат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и, стр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койное чув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расстоянии прох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расстоянии ост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2"/>
          <p:cNvSpPr/>
          <p:nvPr/>
        </p:nvSpPr>
        <p:spPr>
          <a:xfrm>
            <a:off x="571680" y="642960"/>
            <a:ext cx="81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9b268"/>
                </a:solidFill>
                <a:uFillTx/>
                <a:latin typeface="Times New Roman"/>
                <a:ea typeface="Times New Roman"/>
              </a:rPr>
              <a:t>ОТЛИЧИЕ ЛЮБВИ ОТ ВЛЮБ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5600" y="142920"/>
            <a:ext cx="57769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ЧТО ТАКОЕ ЛЮБОВЬ?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500200" y="2251080"/>
            <a:ext cx="47149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не умеет любить себя, никогда не сможет по-настоящему полюбить другого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3880" y="4857480"/>
            <a:ext cx="7796520" cy="150012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95c00"/>
                </a:solidFill>
                <a:latin typeface="Times New Roman"/>
                <a:ea typeface="Times New Roman"/>
              </a:rPr>
              <a:t>Любовь к себе также отражается в отношении к окружающим. Уважающий себя человек никогда не будет унижать другого, так как такое поведение, в первую очередь, унижает его человеческое достоин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643120" y="1785960"/>
            <a:ext cx="3554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152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ссказ О. Генри </a:t>
            </a:r>
            <a:br>
              <a:rPr sz="4400"/>
            </a:br>
            <a:r>
              <a:rPr b="1" lang="ru-RU" sz="4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«Дары волхвов»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714240" y="1954080"/>
            <a:ext cx="7929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стория двух бедных супругов, которые сделали друг другу рождественские подарки. Муж восхищался роскошными волосами жены и решил продать свои великолепные часы, чтобы подарить ей гребень. А жена решила обрезать волосы и продать их, чтобы купить ремешок к великолепным часам мужа. В результате оба супруга получили на Рождество абсолютно бесполезные вещи. Но они были самыми счастливыми людьми на Земл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2071800" y="578628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Как вы думаете,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643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ЛЮБИТЕ И БУДЬТЕ ЛЮБИМЫ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2200320" y="114300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4582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– это…</a:t>
            </a:r>
            <a:endParaRPr b="1" lang="en-US" sz="6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е эмоциональное влечение, сильное сердечное чувство.   (Ожегов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привязанности, основанное на общности интересов, идеалов, на готовности отдать свои силы общему делу.   (Ушаков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6000840" y="4500720"/>
            <a:ext cx="271440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152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Любовь всегда связывалась с величием личности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714240" y="1954080"/>
            <a:ext cx="7929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лько влюбленный имеет право на звание человека» (А. Бло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ловек без любви – не вполне человек, он неполноценен ни физически, ни эмоционально» (Р. Ролла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только любящий безгрешен» (Р. Гамзат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714920" y="4572000"/>
            <a:ext cx="38577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ли демонстрировать свою любовь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4095720" cy="3071520"/>
          </a:xfrm>
          <a:prstGeom prst="rect">
            <a:avLst/>
          </a:prstGeom>
          <a:ln w="0">
            <a:noFill/>
          </a:ln>
        </p:spPr>
      </p:pic>
      <p:sp>
        <p:nvSpPr>
          <p:cNvPr id="232" name="Выноска-облако 7"/>
          <p:cNvSpPr/>
          <p:nvPr/>
        </p:nvSpPr>
        <p:spPr>
          <a:xfrm>
            <a:off x="3429000" y="428760"/>
            <a:ext cx="485784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- это тайна, и от всех людских глаз должна быть закр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28480" y="214200"/>
            <a:ext cx="6396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ЛЮБОВЬ…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7078680" y="4792680"/>
            <a:ext cx="1968480" cy="19684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2071800" y="1643040"/>
            <a:ext cx="20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3857760" y="2286000"/>
            <a:ext cx="20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р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3000240" y="3214800"/>
            <a:ext cx="42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5429160" y="1714680"/>
            <a:ext cx="20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5000760" y="40006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2143080" y="4786200"/>
            <a:ext cx="317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ВЫБ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1428840" y="5643720"/>
            <a:ext cx="45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одного человека среди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56880" y="428760"/>
            <a:ext cx="577692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ПОЧЕМУ ЛЮБЯТ ОДНОГО И НЕ ЛЮБЯТ ДРУГОГО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428920" y="2428920"/>
            <a:ext cx="5037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3280" y="564840"/>
            <a:ext cx="6338880" cy="222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У каждого человека в юности есть идеал противоположного пол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255840" y="3655800"/>
            <a:ext cx="5430960" cy="27018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ение идеала к действительности вызывает интерес, а полное совпадение – любов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57120" y="3571920"/>
            <a:ext cx="39229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8680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ИДЕАЛ ПРОТИВОПОЛОЖНОГО ПОЛ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2643120" y="2446200"/>
            <a:ext cx="43862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14:33:04Z</dcterms:created>
  <dc:creator>Натали</dc:creator>
  <dc:description/>
  <dc:language>en-US</dc:language>
  <cp:lastModifiedBy>Денис</cp:lastModifiedBy>
  <dcterms:modified xsi:type="dcterms:W3CDTF">2022-08-02T16:41:49Z</dcterms:modified>
  <cp:revision>34</cp:revision>
  <dc:subject/>
  <dc:title>КУЛЬТУРА ДОБРАЧНЫХ ОТНОШЕНИЙ</dc:title>
</cp:coreProperties>
</file>