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B63-E487-468F-A93C-59AD4476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D40-6E56-48BC-9FD0-BE4EBDC9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B88-010D-4B6D-B9B9-7D083C56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5C0-7546-4801-A1FB-DE1A16D4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2F3F-BF54-447D-8362-B71E871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7A6F-4F0D-4344-84C8-00A1F82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935-8B7B-43F6-BDAD-7243906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8FAB-B29B-4D99-96A9-C893AF7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4AD4-2CCE-439D-A714-1CD073A1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8FD-DA80-4220-BDFB-721E39F4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7827-BE67-48E5-BD4C-E4D39E8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6CB-0C01-4041-8C33-D892186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0235-61C2-4C51-9682-28F2657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F52B-DE64-4AC6-A82F-350C862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EC7B-B481-49F2-85CA-A719D30C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DB5-9DD2-4B24-831A-A468FBEF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330-58E4-4915-AA2E-6806000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D8F6-7309-4E31-8C4C-76BD5743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6FB7-BBA8-44A0-B6D0-D4E336F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E8C6-C12E-427D-BFB9-E3F9A87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6FAD-DD1E-4D7D-8A1B-EB8D106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DBE5-371D-48C1-942E-F5EED60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44B-37EC-43F9-8E08-A5D88E05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752B-912F-415B-898D-CF2747B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E5E5-B5CD-4D97-8173-8751110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8101-CA41-42F1-922A-17AD8D83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0D9A-01A7-42B5-AA96-5034689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6766-A0C3-4016-91E5-50C2B68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DE37-FB42-461F-BFD4-219C67B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61B6-A8CA-4E64-AFCB-8EA66E47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3289-D0F4-4CD8-ADF3-018CB87B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64AD-BA6F-4531-88A0-00E3309C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D43A-644C-4270-B577-CFB0D5E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76A-9B1D-4805-A7B1-C8C63F41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561F-CFEA-4F3E-B311-032196D8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47E2-004A-4510-9FCF-D578929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5622-F633-4B9E-8DFE-86636DF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A830-7AF9-4F74-A5C5-23A33262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2111-58A9-4AA1-9294-9DEB98B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152B-BF9D-4373-87BF-18B34EAB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AF10-345B-42C9-BE72-9E64919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8D9F-0198-4193-AED5-B2B39143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CB63-3323-493A-80AE-BBBAFC47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950-4EE2-4588-8785-3A9A9FA7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73B-BED6-467F-9DA4-73D888B4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03D-DBBE-4601-BBAC-A267F5D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0B7-6D41-430C-A706-4F9FC39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345-8D2C-4EE3-89B3-833D145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97F-EE9E-4C09-8997-C96241ECD9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261A-AC1B-4197-AA33-85A923C6C9D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8DF-B2A3-44AD-9ED5-5C1DC09DDE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05E2-A72B-4B2C-A1B3-69F05A458E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ыжная подготовка (теоретический материал для 2 класса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72000" y="6278400"/>
            <a:ext cx="7923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lvl="2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s://ds02.infourok.ru/uploads/ex/0a10/0003da9f-f920ce95/img8.jpg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934640"/>
            <a:ext cx="8291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http://zazdoc.ru/tw_files2/urls_28/1700/d-1699365/img11.jpg"/>
          <p:cNvPicPr/>
          <p:nvPr/>
        </p:nvPicPr>
        <p:blipFill>
          <a:blip r:embed="rId1"/>
          <a:stretch/>
        </p:blipFill>
        <p:spPr>
          <a:xfrm>
            <a:off x="291960" y="404640"/>
            <a:ext cx="8498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704880"/>
            <a:ext cx="80024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личные виды ходьбы: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одьба ступающим шагом без пало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Первый этап в освоении передвижения на лыжах. При этом  способе надо поочерёдно приподнимать носки лыж, а пятки прижимать к снегу и так совершать движ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Руки сначала  движутся произвольно. В дальнейшем необходимо следить за тем, чтобы левая рука выносилась вместе с правой ногой, а правая рука с левой ногой</a:t>
            </a:r>
            <a:r>
              <a:rPr b="0" lang="ru-RU" sz="2400" spc="-1" strike="noStrike">
                <a:solidFill>
                  <a:srgbClr val="ff9933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1" lang="ru-RU" sz="49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одьба скользящем шагом без пало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4330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ваивают эту ходьбу после того, как научились передвигаться ступающим шагом. И так встав на лыжи, надо оттолкнуться левой ногой, согнуть правую ногу в колене, вынеся её вперед, скользить на правой лыже. Одновременно с этим левая рука идёт вперед. Туловище во время скольжения слегка наклоняется вперёд в направлении правой ноги. Когда скольжение будет замедляться, следует оттолкнуться правой ногой и т.д.                                                                                                                                                  Осваивая этот способ, старайся как можно скользить на одной лыже и плавно переходить с одной лыжи на другую. После освоения ходьбы ступающим и скользящим без палок переходят к передвижению этими способами с пал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Картинки лыжи 1"/>
          <p:cNvPicPr/>
          <p:nvPr/>
        </p:nvPicPr>
        <p:blipFill>
          <a:blip r:embed="rId1"/>
          <a:srcRect l="4709" t="49521" r="70373" b="15245"/>
          <a:stretch/>
        </p:blipFill>
        <p:spPr>
          <a:xfrm>
            <a:off x="4859280" y="1763640"/>
            <a:ext cx="403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ъём полуёлочко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78792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81000"/>
          </a:bodyPr>
          <a:p>
            <a:pPr marL="220680" indent="0">
              <a:lnSpc>
                <a:spcPct val="83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Этот подъём выполняется ступающим шагом наискось склона. Одна нога скользящим движением продвигается вперёд прямо, а другая становится на внутреннее ребро с развернутым наружу носком .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Картинки лыжи 1"/>
          <p:cNvPicPr/>
          <p:nvPr/>
        </p:nvPicPr>
        <p:blipFill>
          <a:blip r:embed="rId1"/>
          <a:srcRect l="29253" t="50002" r="46864" b="13987"/>
          <a:stretch/>
        </p:blipFill>
        <p:spPr>
          <a:xfrm>
            <a:off x="4703760" y="1795320"/>
            <a:ext cx="3584520" cy="382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уск на лыжа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24656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nstantia"/>
              </a:rPr>
              <a:t>Для этого надо начинать учиться на пологих склонах сначала в основной стойке. Лыжи расположены парареллельно на расстоянии 10  - 15 см друг. Ноги слегка согнуты, одна чуть-чуть впереди другой. Туловище слегка наклонено вперед. Руки немного согнуты в локтях. Освоив спуск без палок, можно приступить к спуску с палками. В этом случае палки наклонены кольцами наз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Картинки лыжи 1"/>
          <p:cNvPicPr/>
          <p:nvPr/>
        </p:nvPicPr>
        <p:blipFill>
          <a:blip r:embed="rId1"/>
          <a:srcRect l="67185" t="55933" r="8666" b="16270"/>
          <a:stretch/>
        </p:blipFill>
        <p:spPr>
          <a:xfrm>
            <a:off x="4637160" y="1992240"/>
            <a:ext cx="40496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ъём лесенко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78792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272880" indent="-2728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Он осуществляется приставными шагами боком к склону. При этом верхняя лыжа располагается на наружном ребре, а нижняя- на внутренем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Constantia"/>
              </a:rPr>
              <a:t>Опираться надо на обе палки, переставляя их поочерёдно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Картинки 2"/>
          <p:cNvPicPr/>
          <p:nvPr/>
        </p:nvPicPr>
        <p:blipFill>
          <a:blip r:embed="rId1"/>
          <a:srcRect l="53247" t="61262" r="19714" b="9096"/>
          <a:stretch/>
        </p:blipFill>
        <p:spPr>
          <a:xfrm>
            <a:off x="4376880" y="1795320"/>
            <a:ext cx="3984480" cy="313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рможение</a:t>
            </a: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 плуго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527280" cy="4524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onstantia"/>
              </a:rPr>
              <a:t>Выполняется за счёт сведения носков лыж и разведения пяток в сторону. Лыжи при этом ставятся на внутренние ребра, а ноги слегка      сгибаются в коленях.                                                                                                                                                 Этот способ торможения применяется при спусках с небольших пологих склон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Картинки 2"/>
          <p:cNvPicPr/>
          <p:nvPr/>
        </p:nvPicPr>
        <p:blipFill>
          <a:blip r:embed="rId1"/>
          <a:srcRect l="77188" t="58106" r="-1348" b="6760"/>
          <a:stretch/>
        </p:blipFill>
        <p:spPr>
          <a:xfrm>
            <a:off x="4376880" y="1535040"/>
            <a:ext cx="374652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1T14:03:31Z</dcterms:created>
  <dc:creator>Илья</dc:creator>
  <dc:description/>
  <dc:language>en-US</dc:language>
  <cp:lastModifiedBy>Гость</cp:lastModifiedBy>
  <dcterms:modified xsi:type="dcterms:W3CDTF">2021-02-25T07:04:49Z</dcterms:modified>
  <cp:revision>18</cp:revision>
  <dc:subject/>
  <dc:title>Слайд 1</dc:title>
</cp:coreProperties>
</file>