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544-C0F2-4871-844B-4C2604F7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D6D-5968-4C92-82A1-6E3B1D11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8B9-6CD6-4545-9705-FD2D7A02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89C-9E69-498B-A341-E6B216A3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E35-F732-4252-8F29-4A607C8A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A0C1-7B65-4796-BB69-E6F664C2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EC6-A7E7-43EC-8AD7-EDA2226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F2A-62D1-4AFB-9564-956D68F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08F7-9ED0-4C6C-B29B-BCAF414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8557-4DD6-470C-8545-CB85C86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EF7-5306-4938-91AE-927CCE7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CF0-78E2-4584-8DBC-1179925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B4C-C7FF-4DF9-A1C3-866DC9B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085-8748-416F-BFF0-FB90E53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289A-B1F7-4711-A553-20E75CF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E7AF-9365-41EF-9426-76C25F6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B2C8-1690-4899-AE91-4A6C13E1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F02B-D6F1-4B1B-B037-3D664AA9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2472-25AB-407D-876F-888F2DC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0AFD-B7EB-4CCC-9F1C-C63D4AF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CC08-20A6-4C65-877A-6A382BE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23BB-C277-40FA-8B93-D60A6685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53B-A6FB-48F1-B561-D2D216A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3BA4-E3D4-4CD0-9ACD-D973B47F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3346-FB54-4EA5-8C00-83C275A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D076-D3F8-40BA-ADB9-EB38934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DF7F-8B11-4DA3-BDDC-9CA9D00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5027-C376-4482-BC05-88BFFF6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948A-3B80-45E3-AC46-5B96C4A2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047E-31B1-434A-A3DF-168FF125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EA04-F89A-4C7D-A462-667E5C2A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7FDF-8B7D-40B2-B253-CA74D44F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9B8C-DDF7-4714-9540-1851014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7BE-A91C-49E0-9C61-7A4D628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ADBB-9768-46D1-B67B-BE962AD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EE65-7F73-4FA3-9F65-7D1D3B2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B0E8-70DD-4EE7-8F74-EE8E039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C059-FC16-4F5E-BBE9-1B8D4CF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CDC9-D6FA-4894-962B-FEF205B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98B7-A3A5-4A66-BD05-96B1768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CA5B-127F-41D7-804B-4925E96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0531-A1E9-4765-88B0-43A9E2ED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B158-7F71-4CDD-AC97-D940FE4B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78C-BC5B-4722-9EF7-5A6F4ECD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6CC-723C-4019-8867-33773F9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E78-4AB5-45D9-A1A0-A4B850F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D6F-45A8-4746-B890-D474B21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292-0CF4-4AF7-A8C7-02290C3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2007-8FB6-428A-BCB0-FE509FF055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B31-362F-4E34-91B2-EB33DC4315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1576-0725-4F0F-8662-7B72A110B12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2E2-76C3-4351-93E5-8B0E1D2191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ыжная подготовка (теоретический материал для 2 класса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72000" y="6278400"/>
            <a:ext cx="7923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lvl="2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s://ds02.infourok.ru/uploads/ex/0a10/0003da9f-f920ce95/img8.jpg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934640"/>
            <a:ext cx="8291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http://zazdoc.ru/tw_files2/urls_28/1700/d-1699365/img11.jpg"/>
          <p:cNvPicPr/>
          <p:nvPr/>
        </p:nvPicPr>
        <p:blipFill>
          <a:blip r:embed="rId1"/>
          <a:stretch/>
        </p:blipFill>
        <p:spPr>
          <a:xfrm>
            <a:off x="291960" y="404640"/>
            <a:ext cx="8498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704880"/>
            <a:ext cx="80024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личные виды ходьбы: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одьба ступающим шагом без пало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Первый этап в освоении передвижения на лыжах. При этом  способе надо поочерёдно приподнимать носки лыж, а пятки прижимать к снегу и так совершать движ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Руки сначала  движутся произвольно. В дальнейшем необходимо следить за тем, чтобы левая рука выносилась вместе с правой ногой, а правая рука с левой ногой</a:t>
            </a:r>
            <a:r>
              <a:rPr b="0" lang="ru-RU" sz="2400" spc="-1" strike="noStrike">
                <a:solidFill>
                  <a:srgbClr val="ff9933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u-RU" sz="49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одьба скользящем шагом без пало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4330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ваивают эту ходьбу после того, как научились передвигаться ступающим шагом. И так встав на лыжи, надо оттолкнуться левой ногой, согнуть правую ногу в колене, вынеся её вперед, скользить на правой лыже. Одновременно с этим левая рука идёт вперед. Туловище во время скольжения слегка наклоняется вперёд в направлении правой ноги. Когда скольжение будет замедляться, следует оттолкнуться правой ногой и т.д.                                                                                                                                                  Осваивая этот способ, старайся как можно скользить на одной лыже и плавно переходить с одной лыжи на другую. После освоения ходьбы ступающим и скользящим без палок переходят к передвижению этими способами с пал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Картинки лыжи 1"/>
          <p:cNvPicPr/>
          <p:nvPr/>
        </p:nvPicPr>
        <p:blipFill>
          <a:blip r:embed="rId1"/>
          <a:srcRect l="4709" t="49521" r="70373" b="15245"/>
          <a:stretch/>
        </p:blipFill>
        <p:spPr>
          <a:xfrm>
            <a:off x="4859280" y="1763640"/>
            <a:ext cx="403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ъём полуёлочко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78792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81000"/>
          </a:bodyPr>
          <a:p>
            <a:pPr marL="220680" indent="0">
              <a:lnSpc>
                <a:spcPct val="83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Этот подъём выполняется ступающим шагом наискось склона. Одна нога скользящим движением продвигается вперёд прямо, а другая становится на внутреннее ребро с развернутым наружу носком .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Картинки лыжи 1"/>
          <p:cNvPicPr/>
          <p:nvPr/>
        </p:nvPicPr>
        <p:blipFill>
          <a:blip r:embed="rId1"/>
          <a:srcRect l="29253" t="50002" r="46864" b="13987"/>
          <a:stretch/>
        </p:blipFill>
        <p:spPr>
          <a:xfrm>
            <a:off x="4703760" y="1795320"/>
            <a:ext cx="3584520" cy="382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уск на лыжа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24656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nstantia"/>
              </a:rPr>
              <a:t>Для этого надо начинать учиться на пологих склонах сначала в основной стойке. Лыжи расположены парареллельно на расстоянии 10  - 15 см друг. Ноги слегка согнуты, одна чуть-чуть впереди другой. Туловище слегка наклонено вперед. Руки немного согнуты в локтях. Освоив спуск без палок, можно приступить к спуску с палками. В этом случае палки наклонены кольцами наз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Картинки лыжи 1"/>
          <p:cNvPicPr/>
          <p:nvPr/>
        </p:nvPicPr>
        <p:blipFill>
          <a:blip r:embed="rId1"/>
          <a:srcRect l="67185" t="55933" r="8666" b="16270"/>
          <a:stretch/>
        </p:blipFill>
        <p:spPr>
          <a:xfrm>
            <a:off x="4637160" y="1992240"/>
            <a:ext cx="40496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ъём лесенко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78792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272880" indent="-2728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Он осуществляется приставными шагами боком к склону. При этом верхняя лыжа располагается на наружном ребре, а нижняя- на внутренем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Опираться надо на обе палки, переставляя их поочерёдно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Картинки 2"/>
          <p:cNvPicPr/>
          <p:nvPr/>
        </p:nvPicPr>
        <p:blipFill>
          <a:blip r:embed="rId1"/>
          <a:srcRect l="53247" t="61262" r="19714" b="9096"/>
          <a:stretch/>
        </p:blipFill>
        <p:spPr>
          <a:xfrm>
            <a:off x="4376880" y="1795320"/>
            <a:ext cx="3984480" cy="313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рможение</a:t>
            </a: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 плуго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52728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onstantia"/>
              </a:rPr>
              <a:t>Выполняется за счёт сведения носков лыж и разведения пяток в сторону. Лыжи при этом ставятся на внутренние ребра, а ноги слегка      сгибаются в коленях.                                                                                                                                                 Этот способ торможения применяется при спусках с небольших пологих склон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Картинки 2"/>
          <p:cNvPicPr/>
          <p:nvPr/>
        </p:nvPicPr>
        <p:blipFill>
          <a:blip r:embed="rId1"/>
          <a:srcRect l="77188" t="58106" r="-1348" b="6760"/>
          <a:stretch/>
        </p:blipFill>
        <p:spPr>
          <a:xfrm>
            <a:off x="4376880" y="1535040"/>
            <a:ext cx="374652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1T14:03:31Z</dcterms:created>
  <dc:creator>Илья</dc:creator>
  <dc:description/>
  <dc:language>en-US</dc:language>
  <cp:lastModifiedBy>Гость</cp:lastModifiedBy>
  <dcterms:modified xsi:type="dcterms:W3CDTF">2021-02-25T07:04:49Z</dcterms:modified>
  <cp:revision>18</cp:revision>
  <dc:subject/>
  <dc:title>Слайд 1</dc:title>
</cp:coreProperties>
</file>