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502-ADBE-4189-8367-D212C8020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718-88C4-43BB-8318-AE29B5F2750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6AF-AC46-48FE-B00E-9EE17BB5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3D-8F61-4737-9359-7E698BE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097C5-0AF7-4C99-A505-5609A890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02211-BCF0-4A72-8599-5C046B29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2C6D0-4D1E-4441-8B07-FD372596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46A33-44BE-479A-9523-B7A63E8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6C90E-61EC-4021-B124-B34CEEB8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BB104-BBD5-4FB8-9CC5-480F26B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1F795-47D0-49A6-BD16-791748F6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D2F3-0157-40A3-B950-B0494044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01CC4-773D-4CE9-B4F2-F6B28031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DECB1-925E-4FED-9A30-27F3C25D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B3F-41B2-4391-83A1-9DDF6AE6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3BD7F-EDCB-4EDC-9FD0-A7AC178C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F56F1-F8F5-4E3A-948F-FBDA7772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2801-6A53-4F11-935D-30FF99E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35218-2101-46E6-9CF8-1980B77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3FCB5-4C76-410A-B958-9E1BD98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1CCEF-6AB0-4B11-96B0-53406BB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6D56E-6562-4BBE-81DC-A5A5DF2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B85EA-6A8A-4437-BFB8-7B14FFC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0F761-B2DA-4EDE-A4F5-68B08E10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E481D-EE7F-4C91-9BB8-8EEE0C4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043-B978-4288-B0E2-A49AD8B6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5CBAE-5DF8-4BA8-8D16-1880B384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4F5D2-83DD-4E96-91C4-846080CD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DE86C-6516-49A0-BE01-99C40AC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52AE0-B1D7-4499-84A0-F241A9D1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69709-3961-4CD5-9311-0CFC9CA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C43BC-C24D-43A2-B0A8-D402B15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22C1C-5F2D-4EB1-A99F-3F4830C8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596AF-B554-43EB-BC50-84F8E5D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529B2-8408-4F83-8A09-A5BE2EE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8EEFE-104C-4745-91A6-86DB037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502F-20ED-447B-8DB4-91992E13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ABEE-648A-44BA-82AC-BE2856D5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38B7F-58FF-4BBA-A31B-9B4B0B33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C27B1-6684-4D64-A561-1A88B39B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5827-A884-419D-9BCC-76EA0EC3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BEE9C-35BA-4A47-9B89-086D5EF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698FB-1829-4416-9C78-4468527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F615C-93C2-415D-8F0F-D3C0E31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D8216-E0DB-4872-B3B8-43AC6210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8DC0C-4280-418C-ADE4-86C382B7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12AA0-FD04-4763-A80F-2D448D0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14C2-0AE0-4B73-AFE2-9E733F0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83268-FB48-4A0E-9FB5-209247B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C43EB-1E9F-4FD4-BD46-2FFBC54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28C6C-386A-4A92-A0B9-E5183BB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04AD6-C8E3-4CF0-85D5-E58890D8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DB8F5-3860-49C0-A5DE-5359A241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32A-6C9B-47AD-AB56-3CC01A95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211B-0A9E-4379-918D-64B9885F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AF41-C33F-45A2-B345-0C1082B1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545-2653-4255-A4E5-C8D270A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6D4D-A689-4965-9C76-FB043B00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874-BD52-4D80-BBB1-CA6A2D4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1F05-7431-4E78-B261-15109ED7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31C6-69CB-40D6-ACE0-0E55064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4309-B6FE-431F-8A80-1E4105A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41D0-CD31-4369-B48A-8B892891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638A-25AE-428A-9770-ED15EE38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E77B-146A-477D-93DA-45728E75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E95B-E029-43EA-8EB3-CAF4AB68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E516-4391-4288-9937-40F9121B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3293-E4E3-434E-8632-7DF72E86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93FB-A5DD-4D01-B3A9-F60EBACD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911-12BA-4700-A85B-77E756E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88CC-3766-40B7-A29D-3C2062D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F506-9DE0-4235-829D-47230E1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1E9C-1354-40F5-A8BD-86F1BE98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B1A1-0B7A-492A-AB90-E28DF27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0D98-6B5E-416C-BF03-489C47E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BD8A-0BD4-42B5-B57E-623020B4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7123-8A41-48D5-B58F-ABAE4FA0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35A6-DDFD-4975-B8B5-A1CBEA52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27B5-8898-4A02-A8F1-13807E09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1A09-9656-421D-A0E7-D9FB08DC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C0F-4F4B-43A3-A98F-F66E8C79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B088-82ED-4592-A213-C61D93ED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F154-4000-4D77-A5D1-D9AE7D3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B5D1-9561-455C-833E-2ED2E3B3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97B8-7BDD-42BB-8FAA-9E48E0E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5C38-70D7-42B6-B4B2-B8F8F18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F679-B4B1-42B6-ADDD-465827B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71BA-E44E-44BB-9645-C3B5DE35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2666-CCC5-4AC9-9160-B05C8DD6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0627-49FF-4A19-BC76-741C6501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BD4F-0B29-4940-8336-90C1575A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6CC-0B6A-400E-AC73-D61B9D67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38D67-523A-4DC1-B575-ABF73A45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4D66-6306-4C74-A3FE-6293BFF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6A5A-EF9E-4DDE-9E7A-953C207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F904-A637-4BED-A302-8E7F565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ACB7-9D49-415B-A539-65F18953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EF78-BDB3-4647-B3AE-F7A58FC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BEC6-206D-478A-B24D-E5605981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2B53-2BE9-4947-99AC-4B7B1E5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8C11B-397E-4D17-BC64-EBAFFEE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4784-CD74-4317-8225-BD51288F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EA5-D24F-4988-A89D-D948E63A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A4A2C-1AD0-4338-BF76-2FB480E6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B71D-277A-42C4-BA75-1E688B5A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ED1B-1DDE-4053-9A3C-82BB77A3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7413-36AC-4AA4-8957-E6B072B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FC95-D22A-4DB0-90A1-AE5985F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70AB-7736-4E53-878E-B343D793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33E2-2D11-4882-AC19-612F429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931D-8702-4A5E-BC2E-A5A1B53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E1F42-0591-41B2-AF7A-42A6A7F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3238-FD0C-4296-9233-08230F3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A23-BF06-44B5-AAD0-2DBCC6A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07D9-13C6-43E4-B185-AF95E5AA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4D515-FBF9-479C-B28E-80C1C55B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29054-25BC-4468-B132-54A371B8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8B14-E863-4C27-ADA4-B15DE1E9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BC670-6940-46DF-9102-EBE77A7D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0884-7734-4483-93AB-49874674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601D2-D0DC-464F-A49A-95E261DA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F818-AC7F-4F33-80BD-2B3232B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AD5E-120A-4057-945D-FA8AF062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5285-7B71-4991-8623-F67D171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C52-B51F-49EB-B635-04D00BA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08629-AB6A-4360-801C-3648ECB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C53C4-2F48-494C-B178-1F49A51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D37E-BB4C-4B0D-89FB-8DCF717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7B37-D880-4A8A-A920-EA465C6B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AF10-88AC-4714-AFB7-0D67BB7F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2E26F-64C0-425C-9A34-583CD19E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576A-3ECC-4D43-9219-1030393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E77DF-D3FB-4FD2-9C6E-60D0CCF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194A6-70C0-48E4-81C8-6B9EE34B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22ABB-8C02-4630-86B2-F61383E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601-786E-4954-ACB1-FF18A85E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9878-E197-4DBC-920E-53F06B8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4AFD-F5A2-42C2-B54D-675C5AE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F015-A7FE-408F-BBA1-1AF65CF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D09B-D6E9-4FC7-AE73-483F0E3E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3797-A637-441E-A795-BCFF98A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137F0-B142-4E7E-8FE1-23EB11D7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BBA3-1844-4A9E-AD2F-A047DC2E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BB780-D965-411D-ABD6-E1D674E2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A4BAC-02BC-4576-8404-14C2421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A6635-913E-4E5D-B1F0-B4340251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A76F-FF13-42C7-8409-0E1A0DECCD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5E8-B32B-4B92-8D30-D83D9711D1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9E4A-8E2B-4EAE-A103-C0A8D58895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AD2-10D1-4891-80F1-D0C4385DAE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83C-8EE2-400B-9807-7227B7D5DB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703-D853-4D69-99AD-76D1B3A860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8E4-ED62-4BF0-8E6D-A9B513AA7A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6E9-93CB-4749-94DB-D84250503B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83B5-F986-454E-9CEF-7590F6531B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24E6-28C3-491E-B385-00A9515515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85D-3C8A-4CB2-BABB-AC47BB804E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083-62EF-41EE-B38B-357AF007FF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ycho_Brahe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414c2"/>
                </a:solidFill>
                <a:latin typeface="Arial"/>
              </a:rPr>
              <a:t>Механика.</a:t>
            </a:r>
            <a:br>
              <a:rPr sz="5400"/>
            </a:br>
            <a:r>
              <a:rPr b="0" lang="ru-RU" sz="5400" spc="-1" strike="noStrike">
                <a:solidFill>
                  <a:srgbClr val="1414c2"/>
                </a:solidFill>
                <a:latin typeface="Arial"/>
              </a:rPr>
              <a:t>Законы динамики.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14c2"/>
                </a:solidFill>
                <a:latin typeface="Verdana"/>
              </a:rPr>
              <a:t>Подготовил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14c2"/>
                </a:solidFill>
                <a:latin typeface="Verdana"/>
              </a:rPr>
              <a:t>Преподаватель физики «РТЖГТ им.А.П.Байкузова»      Силантьева Т.П</a:t>
            </a:r>
            <a:r>
              <a:rPr b="0" lang="ru-RU" sz="3200" spc="-1" strike="noStrike">
                <a:solidFill>
                  <a:srgbClr val="1414c2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2843280" y="1195920"/>
            <a:ext cx="60721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Датский астроном Тихо Браге (1546-1601), долгие годы наблюдавший за движением планет, накопил огромное количество интересных данных, но не сумел их обработ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Иоганн Кеплер (</a:t>
            </a:r>
            <a:r>
              <a:rPr b="0" lang="en-US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1571-1630)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используя идею Коперника о гелиоцентрической системе и результаты наблюдений Тихо Браге, установил законы движения планет вокруг Солнца, однако и он не смог объяснить динамику этого движения</a:t>
            </a:r>
            <a:r>
              <a:rPr b="0" i="1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   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Исаак Ньютон открыл этот закон в возрасте 23 лет, но целых 9 лет не публиковал его, так как имевшиеся тогда неверные данные о расстоянии между Землей и Луной не подтверждали его идею. Лишь в 1667 году, после уточнения этого расстояния, </a:t>
            </a:r>
            <a:r>
              <a:rPr b="0" i="1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закон всемирного тяготения был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наконец отдан в печ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Прямоугольник 2"/>
          <p:cNvSpPr/>
          <p:nvPr/>
        </p:nvSpPr>
        <p:spPr>
          <a:xfrm>
            <a:off x="1703520" y="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з истории открыт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кона всемирного тяготения…</a:t>
            </a:r>
            <a:r>
              <a:rPr b="0" lang="ru-RU" sz="2800" spc="-1" strike="noStrike">
                <a:solidFill>
                  <a:srgbClr val="fe5f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5" descr="Тихо Бра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125360"/>
            <a:ext cx="1214280" cy="1517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Иоган Кеплер"/>
          <p:cNvPicPr/>
          <p:nvPr/>
        </p:nvPicPr>
        <p:blipFill>
          <a:blip r:embed="rId3"/>
          <a:stretch/>
        </p:blipFill>
        <p:spPr>
          <a:xfrm>
            <a:off x="785880" y="278604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http://www.clubmck.ru/pics/41_1171180515.jpg"/>
          <p:cNvPicPr/>
          <p:nvPr/>
        </p:nvPicPr>
        <p:blipFill>
          <a:blip r:embed="rId4"/>
          <a:stretch/>
        </p:blipFill>
        <p:spPr>
          <a:xfrm>
            <a:off x="755640" y="4581360"/>
            <a:ext cx="1214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7"/>
          <p:cNvSpPr/>
          <p:nvPr/>
        </p:nvSpPr>
        <p:spPr>
          <a:xfrm>
            <a:off x="0" y="214200"/>
            <a:ext cx="91440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В 1687 г. Ньютон установил один из фундаментальных законов механики, получивший название закона всемирного тягот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Два любых тела притягиваются друг к другу с силой, модуль которой прямо пропорционален произведению их масс и обратно пропорционален квадрату расстояния между ним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где </a:t>
            </a:r>
            <a:r>
              <a:rPr b="1" lang="en-US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ru-RU" sz="2800" spc="-1" strike="noStrike" u="sng" baseline="-25000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и </a:t>
            </a:r>
            <a:r>
              <a:rPr b="1" lang="en-US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ru-RU" sz="2800" spc="-1" strike="noStrike" u="sng" baseline="-25000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– массы взаимодействующих тел, </a:t>
            </a:r>
            <a:r>
              <a:rPr b="1" lang="en-US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1" lang="ru-RU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– расстояние между телами, </a:t>
            </a:r>
            <a:r>
              <a:rPr b="1" lang="en-US" sz="28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G</a:t>
            </a:r>
            <a:r>
              <a:rPr b="1" lang="ru-RU" sz="28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– коэффициент пропорциональности, одинаковый для всех тел в природе и называемый постоянной всемирного тяготения или гравитационной постоянной.</a:t>
            </a:r>
            <a:r>
              <a:rPr b="0" lang="ru-RU" sz="2400" spc="-1" strike="noStrike">
                <a:solidFill>
                  <a:srgbClr val="1414c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1" name="Скругленный прямоугольник 7"/>
          <p:cNvGrpSpPr/>
          <p:nvPr/>
        </p:nvGrpSpPr>
        <p:grpSpPr>
          <a:xfrm>
            <a:off x="1547640" y="3475080"/>
            <a:ext cx="2646360" cy="1431720"/>
            <a:chOff x="1547640" y="3475080"/>
            <a:chExt cx="2646360" cy="1431720"/>
          </a:xfrm>
        </p:grpSpPr>
        <p:pic>
          <p:nvPicPr>
            <p:cNvPr id="582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547640" y="3475080"/>
              <a:ext cx="264636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706400" y="3635280"/>
              <a:ext cx="23734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4" name="Object 2"/>
              <p:cNvSpPr txBox="1"/>
              <p:nvPr/>
            </p:nvSpPr>
            <p:spPr>
              <a:xfrm>
                <a:off x="1403280" y="3284640"/>
                <a:ext cx="28083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85" name="Рисунок 5" descr="626.gif"/>
          <p:cNvPicPr/>
          <p:nvPr/>
        </p:nvPicPr>
        <p:blipFill>
          <a:blip r:embed="rId2"/>
          <a:stretch/>
        </p:blipFill>
        <p:spPr>
          <a:xfrm>
            <a:off x="4863960" y="2919240"/>
            <a:ext cx="4035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8" name="Picture 5" descr="img6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1" name="Picture 5" descr="slide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Picture 5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7" name="Picture 5" descr="slid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5T06:34:18Z</dcterms:created>
  <dc:creator>Gamer</dc:creator>
  <dc:description/>
  <dc:language>en-US</dc:language>
  <cp:lastModifiedBy>Admin</cp:lastModifiedBy>
  <dcterms:modified xsi:type="dcterms:W3CDTF">2022-11-29T14:53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