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CFC7-81C9-47F8-BED8-3692A4E8E8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5435-F079-4381-B871-34CB2938F96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91C-C3FD-48D9-A839-0C246FEA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EF2-C1DF-49D8-BF25-A8A10E4B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F9B2C-EC54-4865-A3DD-58FA7473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8E631-9C0C-46FE-8DEC-FF1887D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B07EA-4F1A-46CC-93E9-4782BA3E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4AEB-CDAD-4DCC-BFC1-CAD4F5F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F2491-CB5B-4283-A009-B76D8FD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5CF37-5CB0-4C49-B228-354A6E3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BA52E-60FE-448C-9B66-BE3878D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02AB1-12FD-45D8-8DB6-193E9348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1B99F-7124-4B6E-A98D-C74BBCB7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F3F1B-865D-4579-B18F-D8A8F3DA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6E4-B038-4105-BE3A-BF019C7E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64519-6BE8-4A21-945D-2D4C3D1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90902-7CCC-462D-BC8E-8A46B9C6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07A5E-968A-4DB8-8EC5-5A0F130E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09ABB-BFEC-48FB-880D-D650F9F9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BB6C7-7CF2-45F8-AA15-0FADC870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36DB-9B88-4E25-9531-16CE68D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6FE01-B680-4882-AB90-3193561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0997E-9FCF-4B99-9CA6-18B1114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D193D-1936-4D5D-9E4B-6484AC3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5803B-382D-4A11-B7CE-8FEB762E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99D-11BF-4198-B291-6A7933CD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C46BD-6A9C-46D1-B7ED-210BD711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ED545-2294-45B5-8C65-FC340C85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2DDB5-E4DD-41BB-8E7F-E73C7D6F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335E-6F37-4A68-BB2B-C04681C3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4C92B-A9DF-4B21-94BB-E21D9F7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B50A9-BB8D-454A-8E96-20888888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25EF5-CD2A-4F0B-9B9A-59F85F8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F2E0E-2DBA-477B-8600-D7F4625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032CD-9C60-4F5C-A46D-7B50590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AC702-0D37-4639-8F53-577F50B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93A4-0362-47B1-AF40-E231F671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D7747-ECB2-4EC7-9F1E-8B9D5F7F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27432-64C8-42E1-B3AD-19B1E199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0BA78-859F-4672-BD02-0D1FEA55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86628-7429-46E5-AEE2-EA15DC07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49F0C-567A-4739-A4D4-65C8439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051F1-571C-4330-81F3-74C3693A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3FAAE-3C89-4E72-9652-3D12110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5D1DF-39FA-4EBD-8BB2-6EB1A5CB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DD314-70A9-4527-B11E-A37E92F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BDA56-5CCF-476C-9205-26A346AC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2F0C-9492-43E1-AECA-1BBCC48C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FE1C3-4A65-4FD1-9124-8E2487B7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3D928-67AD-4138-B775-DC65054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ABD5F-4583-41F6-A56E-5D9C336A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AB49E-BA7B-4923-9D1E-861CDC35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D2587-710B-4C61-9B33-EA4FF6E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66C6-E936-416D-8805-F4C3628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48A8-7C0A-460E-9421-7B8AB9E4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1D04-08D3-4C25-AC21-6EC1C2C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03B-B3C3-4472-96FC-FD0F42D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B92-C996-4186-AF34-8B4A857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F64-C598-4F59-9DD8-93A455F3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8B2C-4313-4F3A-A3F2-6AA7F888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7B6-BC94-4B06-A1F1-5E2715AF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3B0D-271B-4A93-9836-0F32D6E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93A-CE68-41BB-94C7-DA043EAF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DFFF-EAA0-4937-AE3A-6B244175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DC6A-9DBA-451C-AD28-2466735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FEE4-53B0-4D2D-B7F0-AC7AC90A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4DF2-19FC-4403-8ED8-4F8B220F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EBC9-FC96-4665-9DB0-793BBC64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AD47-CCE5-45ED-B5FE-D32CF217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242-CFF4-4D73-9467-3FE9596E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77A9-958E-4DEE-88A5-16C44DE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DC95-1D30-4594-A621-42B04FA4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4128-D0B8-44E6-9C83-FF19C33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517E-37B1-484B-AB49-7699F9C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EE6A-BF04-431B-B4D4-0D5589AA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AD25-1DF3-4FDC-BB8F-F8249B03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F2D1-1D37-45E2-BBE5-EB137294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511E-A097-46ED-BEA5-A87E5BEE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A0E6-70B8-4F5D-8D53-F5CD773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D356-9E98-4B06-8F19-BDE70679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D3B-D5BE-45A5-A4E9-0D458C3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89185-4EC0-4539-A9D5-2ADD423B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7626-D885-4013-979F-C3F464DC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BF6F-74BB-49A2-95AD-D698B5BD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F21E-26D5-4C52-809F-32C37CE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19C6-4D57-4CC6-85D6-BF53185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78B8-EB50-43FF-989D-61A23E95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24998-C7BC-4013-B171-8A36E004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6A80-7895-4059-9CA3-0DEEEAA6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BD0C-69E3-4190-90BB-A75A375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49DF-A853-4D7A-BE32-694EC70F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931-AF60-4C98-A5DC-A1EEEF9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CADC-C28C-4558-9470-8750859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D22D-88AF-437C-8BE9-F8A2DFD7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3556-133D-4A74-A684-2D2BD579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1EF0-0204-4CCA-B9C6-A6D24F2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0BDB-7F3D-4468-9487-D9C15A38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1C508-13D7-4969-A853-1B08C17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D2EDC-0622-4CB4-9BBD-681FC49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85E4-6263-409B-AACB-827DEBC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80D13-528B-449A-B156-02EB933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558A-06A8-40F5-8009-AB1F65BD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331-189E-4127-AEF6-85784EA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911D-669C-4D00-9365-29662053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9CB6-E577-44C2-BB82-34A44CAC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6F68-697D-4C4E-A7F1-A65FF94D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A833-5538-4942-97BB-FF3B2D3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B4E6-4915-4408-8D57-D7516F18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909F-B03E-4D64-A13F-97B4A092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861F-3644-4180-91B7-0B42547B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1116-849C-4324-8FD6-CD014E7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698F-AE5F-4132-8F8C-F7E66EF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54D4-5D33-4698-9B1F-5D22D99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789-A20D-4D7B-8C25-4B95785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FEA5-D3C3-4D96-9EDF-E977571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CAA6-B80E-4186-AC84-A7B71864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1EBAD-1F9B-4573-B4C9-ACB28890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4B1E1-4C3C-4CF5-A618-A04D9020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4B33-0746-4157-947E-3F8A4C9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1655-6DA4-41FA-A93D-64C5636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EFB52-B3E1-43DF-985E-740AF2E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DAF52-EA74-4C5F-933F-4B3275C8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C838-AB35-4C0B-8A4D-B07D9A80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A137-1212-48E8-8257-21224B32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B0E-4760-4134-A6B0-AC75475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25A70-FE59-4562-86F1-C8C7A18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5E649-F901-46E7-B1D5-F1D441CB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E2A2E-328D-4DFD-B1E3-31614FF9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67F4-0DE8-4FFA-8115-1AE5E3B2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CFB1-F067-40F2-82E1-E87EDD37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9432-03AD-4F07-8DB9-8E1AE543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9B74A-A7A9-4C15-BCBD-0D297045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CD8BC-E4ED-49A5-947F-4FA5B7C4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9847C-5DF1-433C-9AD3-436997A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8A96-9D2E-49A4-8DD9-BA6F50DB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2F7-AA0D-449E-822E-D2A9FFB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FD3D6-D95A-4184-86B7-8B7F522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8FF2C-53E1-4333-A1EF-77BF527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18DA-ADB1-438D-BEE7-42F432F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C779-D62F-4A54-8986-C30C2AFD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71845-9C3A-459B-A925-5D55D3F6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DC8ED-4124-482A-B236-A97A304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35CFF-FEEB-470F-85F2-074D9399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D50A4-91AB-4C88-A4F8-DF46542B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20B8A-B78B-455F-B43F-857A34C6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7E940-3850-4DE6-B85B-7F8FB63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17D8-8E4E-4E39-B9E3-2072F5907E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AF6C-4D1B-4F43-82E0-DE29DB84A2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89D-5A5F-4834-87A8-EB46DB3CC3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4DCA-AEBC-45A9-88C3-992E7175F4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D0A-FD6D-4E2C-AB5F-D24EEDE0B1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9C89-3D5B-4A67-B193-F0CFA55663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97E-EF36-4166-8AE2-AA35A2B7CE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EDED-9B30-4B80-88EC-9DE1391663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1FF8-6553-48F1-8CBB-54FD9AA03F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145-A233-47F3-B6FD-714B8843C3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BDA-B0F6-4155-A96A-D6A843017A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2D7D-72BF-430D-96CD-9076D40B63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ycho_Brahe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414c2"/>
                </a:solidFill>
                <a:latin typeface="Arial"/>
              </a:rPr>
              <a:t>Механика.</a:t>
            </a:r>
            <a:br>
              <a:rPr sz="5400"/>
            </a:br>
            <a:r>
              <a:rPr b="0" lang="ru-RU" sz="5400" spc="-1" strike="noStrike">
                <a:solidFill>
                  <a:srgbClr val="1414c2"/>
                </a:solidFill>
                <a:latin typeface="Arial"/>
              </a:rPr>
              <a:t>Законы динамики.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14c2"/>
                </a:solidFill>
                <a:latin typeface="Verdana"/>
              </a:rPr>
              <a:t>Подготовил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14c2"/>
                </a:solidFill>
                <a:latin typeface="Verdana"/>
              </a:rPr>
              <a:t>Преподаватель физики «РТЖГТ им.А.П.Байкузова»      Силантьева Т.П</a:t>
            </a:r>
            <a:r>
              <a:rPr b="0" lang="ru-RU" sz="3200" spc="-1" strike="noStrike">
                <a:solidFill>
                  <a:srgbClr val="1414c2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2843280" y="1195920"/>
            <a:ext cx="60721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Датский астроном Тихо Браге (1546-1601), долгие годы наблюдавший за движением планет, накопил огромное количество интересных данных, но не сумел их обработ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Иоганн Кеплер (</a:t>
            </a:r>
            <a:r>
              <a:rPr b="0" lang="en-US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1571-1630)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используя идею Коперника о гелиоцентрической системе и результаты наблюдений Тихо Браге, установил законы движения планет вокруг Солнца, однако и он не смог объяснить динамику этого движения</a:t>
            </a:r>
            <a:r>
              <a:rPr b="0" i="1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   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Исаак Ньютон открыл этот закон в возрасте 23 лет, но целых 9 лет не публиковал его, так как имевшиеся тогда неверные данные о расстоянии между Землей и Луной не подтверждали его идею. Лишь в 1667 году, после уточнения этого расстояния, </a:t>
            </a:r>
            <a:r>
              <a:rPr b="0" i="1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закон всемирного тяготения был </a:t>
            </a:r>
            <a:r>
              <a:rPr b="0" lang="ru-RU" sz="20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наконец отдан в печ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Прямоугольник 2"/>
          <p:cNvSpPr/>
          <p:nvPr/>
        </p:nvSpPr>
        <p:spPr>
          <a:xfrm>
            <a:off x="1703520" y="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з истории открыт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кона всемирного тяготения…</a:t>
            </a:r>
            <a:r>
              <a:rPr b="0" lang="ru-RU" sz="2800" spc="-1" strike="noStrike">
                <a:solidFill>
                  <a:srgbClr val="fe5f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5" descr="Тихо Бра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125360"/>
            <a:ext cx="1214280" cy="1517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Иоган Кеплер"/>
          <p:cNvPicPr/>
          <p:nvPr/>
        </p:nvPicPr>
        <p:blipFill>
          <a:blip r:embed="rId3"/>
          <a:stretch/>
        </p:blipFill>
        <p:spPr>
          <a:xfrm>
            <a:off x="785880" y="278604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http://www.clubmck.ru/pics/41_1171180515.jpg"/>
          <p:cNvPicPr/>
          <p:nvPr/>
        </p:nvPicPr>
        <p:blipFill>
          <a:blip r:embed="rId4"/>
          <a:stretch/>
        </p:blipFill>
        <p:spPr>
          <a:xfrm>
            <a:off x="755640" y="4581360"/>
            <a:ext cx="1214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7"/>
          <p:cNvSpPr/>
          <p:nvPr/>
        </p:nvSpPr>
        <p:spPr>
          <a:xfrm>
            <a:off x="0" y="214200"/>
            <a:ext cx="91440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В 1687 г. Ньютон установил один из фундаментальных законов механики, получивший название закона всемирного тягот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Два любых тела притягиваются друг к другу с силой, модуль которой прямо пропорционален произведению их масс и обратно пропорционален квадрату расстояния между ним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где </a:t>
            </a:r>
            <a:r>
              <a:rPr b="1" lang="en-US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ru-RU" sz="2800" spc="-1" strike="noStrike" u="sng" baseline="-25000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и </a:t>
            </a:r>
            <a:r>
              <a:rPr b="1" lang="en-US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ru-RU" sz="2800" spc="-1" strike="noStrike" u="sng" baseline="-25000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– массы взаимодействующих тел, </a:t>
            </a:r>
            <a:r>
              <a:rPr b="1" lang="en-US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1" lang="ru-RU" sz="2800" spc="-1" strike="noStrike" u="sng">
                <a:solidFill>
                  <a:srgbClr val="1414c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– расстояние между телами, </a:t>
            </a:r>
            <a:r>
              <a:rPr b="1" lang="en-US" sz="28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G</a:t>
            </a:r>
            <a:r>
              <a:rPr b="1" lang="ru-RU" sz="28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414c2"/>
                </a:solidFill>
                <a:latin typeface="Times New Roman"/>
                <a:ea typeface="Times New Roman"/>
              </a:rPr>
              <a:t>– коэффициент пропорциональности, одинаковый для всех тел в природе и называемый постоянной всемирного тяготения или гравитационной постоянной.</a:t>
            </a:r>
            <a:r>
              <a:rPr b="0" lang="ru-RU" sz="2400" spc="-1" strike="noStrike">
                <a:solidFill>
                  <a:srgbClr val="1414c2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1" name="Скругленный прямоугольник 7"/>
          <p:cNvGrpSpPr/>
          <p:nvPr/>
        </p:nvGrpSpPr>
        <p:grpSpPr>
          <a:xfrm>
            <a:off x="1547640" y="3475080"/>
            <a:ext cx="2646360" cy="1431720"/>
            <a:chOff x="1547640" y="3475080"/>
            <a:chExt cx="2646360" cy="1431720"/>
          </a:xfrm>
        </p:grpSpPr>
        <p:pic>
          <p:nvPicPr>
            <p:cNvPr id="582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547640" y="3475080"/>
              <a:ext cx="264636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706400" y="3635280"/>
              <a:ext cx="23734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4" name="Object 2"/>
              <p:cNvSpPr txBox="1"/>
              <p:nvPr/>
            </p:nvSpPr>
            <p:spPr>
              <a:xfrm>
                <a:off x="1403280" y="3284640"/>
                <a:ext cx="28083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85" name="Рисунок 5" descr="626.gif"/>
          <p:cNvPicPr/>
          <p:nvPr/>
        </p:nvPicPr>
        <p:blipFill>
          <a:blip r:embed="rId2"/>
          <a:stretch/>
        </p:blipFill>
        <p:spPr>
          <a:xfrm>
            <a:off x="4863960" y="2919240"/>
            <a:ext cx="4035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8" name="Picture 5" descr="img6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1" name="Picture 5" descr="slide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Picture 5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7" name="Picture 5" descr="slid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5T06:34:18Z</dcterms:created>
  <dc:creator>Gamer</dc:creator>
  <dc:description/>
  <dc:language>en-US</dc:language>
  <cp:lastModifiedBy>Admin</cp:lastModifiedBy>
  <dcterms:modified xsi:type="dcterms:W3CDTF">2022-11-29T14:53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