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585-6E19-40B5-9F91-091C6128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D49-57E5-4C2D-BAF6-B83B788B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B18-DFAA-4068-8787-399147D7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225-CD2B-4885-BFEF-053CACB2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A7C-01EA-4938-B929-97C18B6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007-2129-4225-B188-610C7606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20F-957C-47E1-9F96-92FC1E55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642-7E24-4E70-8907-CA068373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7E3-146A-49B3-B89D-3AA4D609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735-6A55-4E17-BA23-B075EA7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405-7155-4FBA-8B7D-4F90DC8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F6C-BA7D-4367-AAE9-0A6E2D9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D2BF-190E-447B-A65D-60AECE3BF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06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10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го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ого района г. 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20108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немотехника. Коллажи К - 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.Е. Леонть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132000" y="476280"/>
            <a:ext cx="21351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www.royalcanin.co.uk/wp-content/uploads/2016/09/2016-16SPT-FHN-SIB-AD-10311-CMJN-000001.jpg"/>
          <p:cNvPicPr/>
          <p:nvPr/>
        </p:nvPicPr>
        <p:blipFill>
          <a:blip r:embed="rId1"/>
          <a:srcRect l="13082" t="0" r="14505" b="7324"/>
          <a:stretch/>
        </p:blipFill>
        <p:spPr>
          <a:xfrm>
            <a:off x="6732720" y="1125360"/>
            <a:ext cx="2111400" cy="180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www.tort-master.ru/upload/iblock/ccc/ccc34c6e89ce94ba0792b96b57ac0dd5.jpg"/>
          <p:cNvPicPr/>
          <p:nvPr/>
        </p:nvPicPr>
        <p:blipFill>
          <a:blip r:embed="rId2"/>
          <a:stretch/>
        </p:blipFill>
        <p:spPr>
          <a:xfrm>
            <a:off x="40644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s://clipground.com/images/spoke-wheel-clipart-4.jpg"/>
          <p:cNvPicPr/>
          <p:nvPr/>
        </p:nvPicPr>
        <p:blipFill>
          <a:blip r:embed="rId3"/>
          <a:stretch/>
        </p:blipFill>
        <p:spPr>
          <a:xfrm>
            <a:off x="3419640" y="41497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s://www.tornado-studios.com/sites/default/files/styles/slider_full/public/products/1149/reel-360-1/ball-yarn-green-0000.jpg?itok=S8JWzBbq"/>
          <p:cNvPicPr/>
          <p:nvPr/>
        </p:nvPicPr>
        <p:blipFill>
          <a:blip r:embed="rId4"/>
          <a:srcRect l="23425" t="5730" r="24849" b="7079"/>
          <a:stretch/>
        </p:blipFill>
        <p:spPr>
          <a:xfrm>
            <a:off x="406440" y="836640"/>
            <a:ext cx="2066760" cy="188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s://im0-tub-ru.yandex.net/i?id=b4f473300db112a99d87f38f56943700&amp;n=13"/>
          <p:cNvPicPr/>
          <p:nvPr/>
        </p:nvPicPr>
        <p:blipFill>
          <a:blip r:embed="rId5"/>
          <a:stretch/>
        </p:blipFill>
        <p:spPr>
          <a:xfrm>
            <a:off x="6588000" y="3645000"/>
            <a:ext cx="2224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6T12:23:43Z</dcterms:created>
  <dc:creator>OEM</dc:creator>
  <dc:description/>
  <dc:language>en-US</dc:language>
  <cp:lastModifiedBy>Алёна Леонтьева</cp:lastModifiedBy>
  <dcterms:modified xsi:type="dcterms:W3CDTF">2022-11-29T06:46:24Z</dcterms:modified>
  <cp:revision>29</cp:revision>
  <dc:subject/>
  <dc:title>Государственное бюджетное дошкольное образовательное учреждение детский сад № 82  компенсирующего вида  Невского района г. Санкт-Петербург</dc:title>
</cp:coreProperties>
</file>