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8C0-5BC7-4F45-83E6-89508398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B00-7835-4343-BC05-1E0381BD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019-95BE-4480-968F-02CC27C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BF9-46D5-4119-BF89-BE60D6F6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B92-6EE4-489A-B1E3-113F533A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B20-314B-43A5-ABEB-FC11DA34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88-2195-4322-8B2A-57CF6B2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5A6-5371-4444-92A2-1504660F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1E5-287A-443E-9303-3020D3E3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E86-1713-4671-AAB4-D7B7068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418-9E5D-4E12-B901-F325681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3BF-8D56-4CEA-920F-C4D641C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45A-2473-4843-9808-680F3AEC1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06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10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го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ого района г. 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20108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немотехника. Коллажи К - 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.Е. Леонтье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132000" y="476280"/>
            <a:ext cx="21351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www.royalcanin.co.uk/wp-content/uploads/2016/09/2016-16SPT-FHN-SIB-AD-10311-CMJN-000001.jpg"/>
          <p:cNvPicPr/>
          <p:nvPr/>
        </p:nvPicPr>
        <p:blipFill>
          <a:blip r:embed="rId1"/>
          <a:srcRect l="13082" t="0" r="14505" b="7324"/>
          <a:stretch/>
        </p:blipFill>
        <p:spPr>
          <a:xfrm>
            <a:off x="6732720" y="1125360"/>
            <a:ext cx="2111400" cy="180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www.tort-master.ru/upload/iblock/ccc/ccc34c6e89ce94ba0792b96b57ac0dd5.jpg"/>
          <p:cNvPicPr/>
          <p:nvPr/>
        </p:nvPicPr>
        <p:blipFill>
          <a:blip r:embed="rId2"/>
          <a:stretch/>
        </p:blipFill>
        <p:spPr>
          <a:xfrm>
            <a:off x="40644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s://clipground.com/images/spoke-wheel-clipart-4.jpg"/>
          <p:cNvPicPr/>
          <p:nvPr/>
        </p:nvPicPr>
        <p:blipFill>
          <a:blip r:embed="rId3"/>
          <a:stretch/>
        </p:blipFill>
        <p:spPr>
          <a:xfrm>
            <a:off x="3419640" y="41497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s://www.tornado-studios.com/sites/default/files/styles/slider_full/public/products/1149/reel-360-1/ball-yarn-green-0000.jpg?itok=S8JWzBbq"/>
          <p:cNvPicPr/>
          <p:nvPr/>
        </p:nvPicPr>
        <p:blipFill>
          <a:blip r:embed="rId4"/>
          <a:srcRect l="23425" t="5730" r="24849" b="7079"/>
          <a:stretch/>
        </p:blipFill>
        <p:spPr>
          <a:xfrm>
            <a:off x="406440" y="836640"/>
            <a:ext cx="2066760" cy="188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s://im0-tub-ru.yandex.net/i?id=b4f473300db112a99d87f38f56943700&amp;n=13"/>
          <p:cNvPicPr/>
          <p:nvPr/>
        </p:nvPicPr>
        <p:blipFill>
          <a:blip r:embed="rId5"/>
          <a:stretch/>
        </p:blipFill>
        <p:spPr>
          <a:xfrm>
            <a:off x="6588000" y="3645000"/>
            <a:ext cx="2224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6T12:23:43Z</dcterms:created>
  <dc:creator>OEM</dc:creator>
  <dc:description/>
  <dc:language>en-US</dc:language>
  <cp:lastModifiedBy>Алёна Леонтьева</cp:lastModifiedBy>
  <dcterms:modified xsi:type="dcterms:W3CDTF">2022-11-29T06:46:24Z</dcterms:modified>
  <cp:revision>29</cp:revision>
  <dc:subject/>
  <dc:title>Государственное бюджетное дошкольное образовательное учреждение детский сад № 82  компенсирующего вида  Невского района г. Санкт-Петербург</dc:title>
</cp:coreProperties>
</file>