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5D7-94F7-40CA-973C-B29D6280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48A-B8AD-4582-97FC-1847EEA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FA5-6757-4879-82BE-34862503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3E9-9FE7-4665-AC8C-E768A5AB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F22-75A0-41C4-BBF9-7D99048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CC-4514-4D7E-8C20-F9D80F2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F36-3642-4541-A0F5-E50FCC1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20F-BB17-43A5-A70D-3E9BF91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5B8-AD3B-4D3E-93A4-1E354AF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878-F7CF-4E5D-97E7-428F497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B32-E147-4500-A124-3A03E19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40B-B045-4DD4-BE69-1D1C55E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A4C-6775-4EEE-9482-341547528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06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10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го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ого района г. 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20108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немотехника. Коллажи Ф - 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.Е. Леонть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132000" y="476280"/>
            <a:ext cx="21351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img2.freepng.ru/20180310/kce/kisspng-flagpole-hand-painted-green-flag-flagpole-5aa3eab3b61e36.819308911520691891746.jpg"/>
          <p:cNvPicPr/>
          <p:nvPr/>
        </p:nvPicPr>
        <p:blipFill>
          <a:blip r:embed="rId1"/>
          <a:stretch/>
        </p:blipFill>
        <p:spPr>
          <a:xfrm>
            <a:off x="468360" y="453960"/>
            <a:ext cx="1754280" cy="24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im0-tub-ru.yandex.net/i?id=5e2c8900f336c918d9e8176a713d2507-l&amp;n=13"/>
          <p:cNvPicPr/>
          <p:nvPr/>
        </p:nvPicPr>
        <p:blipFill>
          <a:blip r:embed="rId2"/>
          <a:stretch/>
        </p:blipFill>
        <p:spPr>
          <a:xfrm>
            <a:off x="6732720" y="424656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s://img2.freepng.ru/20181201/pia/kisspng-lantern-portable-network-graphics-image-lamp-clip-lampadaireslumieres-5c034d6166ecf6.8213443915437202894216.jpg"/>
          <p:cNvPicPr/>
          <p:nvPr/>
        </p:nvPicPr>
        <p:blipFill>
          <a:blip r:embed="rId3"/>
          <a:stretch/>
        </p:blipFill>
        <p:spPr>
          <a:xfrm>
            <a:off x="468360" y="4218120"/>
            <a:ext cx="2927160" cy="208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s://i.pinimg.com/236x/a8/4e/6c/a84e6c9462bc47cb61ffc2efd7f99e9c.jpg"/>
          <p:cNvPicPr/>
          <p:nvPr/>
        </p:nvPicPr>
        <p:blipFill>
          <a:blip r:embed="rId4"/>
          <a:srcRect l="27803" t="0" r="26794" b="0"/>
          <a:stretch/>
        </p:blipFill>
        <p:spPr>
          <a:xfrm>
            <a:off x="6443640" y="333360"/>
            <a:ext cx="15573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s://img2.freepng.ru/20180425/eqe/kisspng-little-owl-bird-clip-art-owl-cartoon-couple-5ae11a05077612.0474717915247017010306.jpg"/>
          <p:cNvPicPr/>
          <p:nvPr/>
        </p:nvPicPr>
        <p:blipFill>
          <a:blip r:embed="rId5"/>
          <a:stretch/>
        </p:blipFill>
        <p:spPr>
          <a:xfrm>
            <a:off x="4403880" y="3763800"/>
            <a:ext cx="172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43280" y="1916280"/>
            <a:ext cx="2305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green.tsu.ru/redbook/wp-content/uploads/2014/09/%D1%81%D0%B5%D1%80%D0%B0%D1%8F-%D1%86%D0%B0%D0%BF%D0%BB%D1%8F21.jpg"/>
          <p:cNvPicPr/>
          <p:nvPr/>
        </p:nvPicPr>
        <p:blipFill>
          <a:blip r:embed="rId1"/>
          <a:srcRect l="7568" t="7168" r="9790" b="8174"/>
          <a:stretch/>
        </p:blipFill>
        <p:spPr>
          <a:xfrm>
            <a:off x="311040" y="3740040"/>
            <a:ext cx="2532240" cy="293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w7.pngwing.com/pngs/707/695/png-transparent-chicken-computer-icons-food-chicken-food-animals-orange.png"/>
          <p:cNvPicPr/>
          <p:nvPr/>
        </p:nvPicPr>
        <p:blipFill>
          <a:blip r:embed="rId2"/>
          <a:srcRect l="23409" t="0" r="23048" b="0"/>
          <a:stretch/>
        </p:blipFill>
        <p:spPr>
          <a:xfrm>
            <a:off x="6516720" y="333360"/>
            <a:ext cx="2160720" cy="224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s://stihi.ru/pics/2014/09/28/2591.gif"/>
          <p:cNvPicPr/>
          <p:nvPr/>
        </p:nvPicPr>
        <p:blipFill>
          <a:blip r:embed="rId3"/>
          <a:stretch/>
        </p:blipFill>
        <p:spPr>
          <a:xfrm>
            <a:off x="395280" y="189000"/>
            <a:ext cx="1884240" cy="30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s://cdn.pixabay.com/photo/2012/04/12/10/28/chain-29364__480.png"/>
          <p:cNvPicPr/>
          <p:nvPr/>
        </p:nvPicPr>
        <p:blipFill>
          <a:blip r:embed="rId4"/>
          <a:srcRect l="0" t="30620" r="0" b="31469"/>
          <a:stretch/>
        </p:blipFill>
        <p:spPr>
          <a:xfrm rot="1467000">
            <a:off x="2556000" y="1289160"/>
            <a:ext cx="331128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cdn.bolshoyvopros.ru/files/users/images/32/53/3253ba0c277d80af68517bd50886be3a.png"/>
          <p:cNvPicPr/>
          <p:nvPr/>
        </p:nvPicPr>
        <p:blipFill>
          <a:blip r:embed="rId5"/>
          <a:stretch/>
        </p:blipFill>
        <p:spPr>
          <a:xfrm>
            <a:off x="5675400" y="3887640"/>
            <a:ext cx="2952720" cy="2640240"/>
          </a:xfrm>
          <a:prstGeom prst="rect">
            <a:avLst/>
          </a:prstGeom>
          <a:ln w="0">
            <a:noFill/>
          </a:ln>
        </p:spPr>
      </p:pic>
      <p:sp>
        <p:nvSpPr>
          <p:cNvPr id="55" name="Овал 3"/>
          <p:cNvSpPr/>
          <p:nvPr/>
        </p:nvSpPr>
        <p:spPr>
          <a:xfrm>
            <a:off x="6948360" y="782640"/>
            <a:ext cx="144720" cy="133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635280" y="836640"/>
            <a:ext cx="2089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eateam-bulgaria.com/userfiles/editor/image/Fotolia_4432428_M.jpg"/>
          <p:cNvPicPr/>
          <p:nvPr/>
        </p:nvPicPr>
        <p:blipFill>
          <a:blip r:embed="rId1"/>
          <a:stretch/>
        </p:blipFill>
        <p:spPr>
          <a:xfrm>
            <a:off x="3129120" y="4865760"/>
            <a:ext cx="2901960" cy="19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suvenirka24.ru/images/thumbnails/1100/900/detailed/25668/293803a4-f30b-11e8-9452-00155d640301.jpg"/>
          <p:cNvPicPr/>
          <p:nvPr/>
        </p:nvPicPr>
        <p:blipFill>
          <a:blip r:embed="rId2"/>
          <a:stretch/>
        </p:blipFill>
        <p:spPr>
          <a:xfrm>
            <a:off x="6218280" y="189000"/>
            <a:ext cx="280656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s://cdn1.ozone.ru/multimedia/1017306838.jpg"/>
          <p:cNvPicPr/>
          <p:nvPr/>
        </p:nvPicPr>
        <p:blipFill>
          <a:blip r:embed="rId3"/>
          <a:stretch/>
        </p:blipFill>
        <p:spPr>
          <a:xfrm>
            <a:off x="611280" y="549360"/>
            <a:ext cx="215424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printonic.ru/uploads/images/2016/03/01/img_56d586855f17f.jpg"/>
          <p:cNvPicPr/>
          <p:nvPr/>
        </p:nvPicPr>
        <p:blipFill>
          <a:blip r:embed="rId4"/>
          <a:stretch/>
        </p:blipFill>
        <p:spPr>
          <a:xfrm>
            <a:off x="469800" y="3508200"/>
            <a:ext cx="2662200" cy="277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s://im0-tub-ru.yandex.net/i?id=a148303b81c5880b371f907becc69876&amp;n=13"/>
          <p:cNvPicPr/>
          <p:nvPr/>
        </p:nvPicPr>
        <p:blipFill>
          <a:blip r:embed="rId5"/>
          <a:stretch/>
        </p:blipFill>
        <p:spPr>
          <a:xfrm>
            <a:off x="6031080" y="2997360"/>
            <a:ext cx="26812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 flipH="1">
            <a:off x="3347280" y="2637000"/>
            <a:ext cx="23763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img2.freepng.ru/20180202/gke/kisspng-balloon-sphere-cyan-balloon-5a74cd0e4b43d2.6826714515176041103083.jpg"/>
          <p:cNvPicPr/>
          <p:nvPr/>
        </p:nvPicPr>
        <p:blipFill>
          <a:blip r:embed="rId1"/>
          <a:stretch/>
        </p:blipFill>
        <p:spPr>
          <a:xfrm>
            <a:off x="539640" y="420840"/>
            <a:ext cx="17668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s://im0-tub-ru.yandex.net/i?id=653b062f2c85873c15777ddd3ce75eeb&amp;n=13"/>
          <p:cNvPicPr/>
          <p:nvPr/>
        </p:nvPicPr>
        <p:blipFill>
          <a:blip r:embed="rId2"/>
          <a:stretch/>
        </p:blipFill>
        <p:spPr>
          <a:xfrm>
            <a:off x="6630840" y="3789360"/>
            <a:ext cx="2368800" cy="25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im0-tub-ru.yandex.net/i?id=b855f21e01c53b4832afa4731ca6d042&amp;n=13"/>
          <p:cNvPicPr/>
          <p:nvPr/>
        </p:nvPicPr>
        <p:blipFill>
          <a:blip r:embed="rId3"/>
          <a:stretch/>
        </p:blipFill>
        <p:spPr>
          <a:xfrm>
            <a:off x="755640" y="3436920"/>
            <a:ext cx="1744560" cy="293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s://img2.freepng.ru/20180925/zv/kisspng-car-motor-vehicle-tires-radial-tire-kumho-tire-whe-ecsta-v72-rimulator-5baa37a139f907.1767703515378820172375.jpg"/>
          <p:cNvPicPr/>
          <p:nvPr/>
        </p:nvPicPr>
        <p:blipFill>
          <a:blip r:embed="rId4"/>
          <a:srcRect l="27229" t="0" r="28091" b="0"/>
          <a:stretch/>
        </p:blipFill>
        <p:spPr>
          <a:xfrm>
            <a:off x="6862680" y="420840"/>
            <a:ext cx="1851120" cy="230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s://im0-tub-ru.yandex.net/i?id=ad7899c4c91c47010c2fb25596984d49&amp;n=13"/>
          <p:cNvPicPr/>
          <p:nvPr/>
        </p:nvPicPr>
        <p:blipFill>
          <a:blip r:embed="rId5"/>
          <a:stretch/>
        </p:blipFill>
        <p:spPr>
          <a:xfrm>
            <a:off x="3024360" y="83664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6T12:23:43Z</dcterms:created>
  <dc:creator>OEM</dc:creator>
  <dc:description/>
  <dc:language>en-US</dc:language>
  <cp:lastModifiedBy>Алёна Леонтьева</cp:lastModifiedBy>
  <dcterms:modified xsi:type="dcterms:W3CDTF">2022-11-29T06:48:46Z</dcterms:modified>
  <cp:revision>38</cp:revision>
  <dc:subject/>
  <dc:title>Государственное бюджетное дошкольное образовательное учреждение детский сад № 82  компенсирующего вида  Невского района г. Санкт-Петербург</dc:title>
</cp:coreProperties>
</file>