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4B7B-FA82-4BD5-8138-8938FBDBC4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2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99BA-3C81-4CB9-B513-E4A52647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064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13D9-77EA-402D-AAAB-7966B2BC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36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348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36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348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CB65-ADD4-45A3-9426-A74537DA54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7A2F9-6126-4892-8EE0-A7965696F4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6FBCC-8CA5-4ACB-92B9-A5E3BD63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D830D-DE7E-4674-B691-AFA87936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DBDC4-30A3-4CAD-B7D1-13BEFEC9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D5444-F93D-45B9-962A-3E3016E7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685440"/>
            <a:ext cx="9599760" cy="68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798FA-7950-411A-9F9C-2954A31B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761E3-8F30-4DDB-8DCB-01D83164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67D0-F4E5-4190-8055-20E7164A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9064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075E-2DBC-4CC1-83C5-77F1C03A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66DDC-1FAD-4318-A020-6B67885E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562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87583-A1D7-4121-A43C-BEAEDBF2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9064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CDB3-E328-435D-A181-2ADCE17F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736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63480" y="22860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1736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63480" y="4156200"/>
            <a:ext cx="30909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1CFC-2A2F-4E7A-B5B9-8A22662755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F358-A0D2-4A74-A928-0C9EF9B0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B5B6-FAE7-49BD-8439-0AA386CC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E0F8-1D65-4110-B6CE-D13020BD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440"/>
            <a:ext cx="9599760" cy="68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83C3-EA5A-42DB-818E-899F6472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6918-C8A6-4B65-8C47-01F30F7E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0640" y="41562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8DC1-8BC4-480D-A2BA-25244EDF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0640" y="2286000"/>
            <a:ext cx="46843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200"/>
            <a:ext cx="95997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9DD8-4B7A-46C7-B12D-C19F7CA8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680" y="6453360"/>
            <a:ext cx="12031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89404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472680" y="6453360"/>
            <a:ext cx="15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191b0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94972D-282B-43F0-9EA6-597A700772ED}" type="slidenum">
              <a:rPr b="0" lang="en-US" sz="1200" spc="-1" strike="noStrike">
                <a:solidFill>
                  <a:srgbClr val="191b0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752400" y="744480"/>
            <a:ext cx="10671840" cy="5348160"/>
            <a:chOff x="752400" y="744480"/>
            <a:chExt cx="10671840" cy="5348160"/>
          </a:xfrm>
        </p:grpSpPr>
        <p:sp>
          <p:nvSpPr>
            <p:cNvPr id="43" name="Freeform 3"/>
            <p:cNvSpPr/>
            <p:nvPr/>
          </p:nvSpPr>
          <p:spPr>
            <a:xfrm flipH="1" flipV="1">
              <a:off x="752040" y="744480"/>
              <a:ext cx="10671840" cy="534816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5997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5997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430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752040" y="6453360"/>
            <a:ext cx="16066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58444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9831240" y="645336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191b0e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25BF06-56D0-432B-B1C4-CB8F94EE6C69}" type="slidenum">
              <a:rPr b="0" lang="en-US" sz="1200" spc="-1" strike="noStrike">
                <a:solidFill>
                  <a:srgbClr val="191b0e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"/>
          <p:cNvPicPr/>
          <p:nvPr/>
        </p:nvPicPr>
        <p:blipFill>
          <a:blip r:embed="rId1"/>
          <a:srcRect l="1969" t="18467" r="31094" b="14600"/>
          <a:stretch/>
        </p:blipFill>
        <p:spPr>
          <a:xfrm>
            <a:off x="20520" y="0"/>
            <a:ext cx="12241440" cy="6885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9" descr=""/>
          <p:cNvPicPr/>
          <p:nvPr/>
        </p:nvPicPr>
        <p:blipFill>
          <a:blip r:embed="rId2"/>
          <a:stretch/>
        </p:blipFill>
        <p:spPr>
          <a:xfrm>
            <a:off x="-743040" y="981000"/>
            <a:ext cx="9576000" cy="2036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"/>
          <p:cNvPicPr/>
          <p:nvPr/>
        </p:nvPicPr>
        <p:blipFill>
          <a:blip r:embed="rId3"/>
          <a:stretch/>
        </p:blipFill>
        <p:spPr>
          <a:xfrm>
            <a:off x="8985240" y="201600"/>
            <a:ext cx="332280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"/>
          <p:cNvPicPr/>
          <p:nvPr/>
        </p:nvPicPr>
        <p:blipFill>
          <a:blip r:embed="rId1"/>
          <a:srcRect l="1969" t="18467" r="31094" b="14600"/>
          <a:stretch/>
        </p:blipFill>
        <p:spPr>
          <a:xfrm>
            <a:off x="0" y="-36360"/>
            <a:ext cx="12241080" cy="688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38200" y="996840"/>
            <a:ext cx="1219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0" name="Рисунок 1" descr="0-02-05-fd4ab4129e57d9c4d5c72c0595d08bf79581c7599912fcac5af2f9b04cbe2c12_4d89ac9f72135bac"/>
          <p:cNvPicPr/>
          <p:nvPr/>
        </p:nvPicPr>
        <p:blipFill>
          <a:blip r:embed="rId2"/>
          <a:stretch/>
        </p:blipFill>
        <p:spPr>
          <a:xfrm>
            <a:off x="1328760" y="2346480"/>
            <a:ext cx="7937640" cy="6784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757440" y="987840"/>
            <a:ext cx="1288188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ERCEPTIVE               INSPIRATIONAL             OVER-AMBITIOUS               NEUROTIC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SCIENTIOUS              OBSTINATE                    OPEN-MINDED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REJUDICED                  APATHETIC                 INSENSITIVE                  SOLITARY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</a:t>
            </a:r>
            <a:endParaRPr b="0" lang="en-US" sz="5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EBELLIOUS                    MATURE                     INQUISITIVE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055520" y="692280"/>
            <a:ext cx="1041084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9000"/>
              </a:lnSpc>
              <a:buClr>
                <a:srgbClr val="191b0e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lnSpc>
                <a:spcPct val="89000"/>
              </a:lnSpc>
              <a:buClr>
                <a:srgbClr val="191b0e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lnSpc>
                <a:spcPct val="89000"/>
              </a:lnSpc>
              <a:buClr>
                <a:srgbClr val="191b0e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1969" t="18467" r="31094" b="14600"/>
          <a:stretch/>
        </p:blipFill>
        <p:spPr>
          <a:xfrm>
            <a:off x="0" y="-55440"/>
            <a:ext cx="12241080" cy="6885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1"/>
          <p:cNvSpPr/>
          <p:nvPr/>
        </p:nvSpPr>
        <p:spPr>
          <a:xfrm>
            <a:off x="-1440" y="407880"/>
            <a:ext cx="3960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5" name="Рисунок 12" descr=""/>
          <p:cNvPicPr/>
          <p:nvPr/>
        </p:nvPicPr>
        <p:blipFill>
          <a:blip r:embed="rId2"/>
          <a:stretch/>
        </p:blipFill>
        <p:spPr>
          <a:xfrm>
            <a:off x="6024600" y="1660680"/>
            <a:ext cx="5673600" cy="28238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" descr=""/>
          <p:cNvPicPr/>
          <p:nvPr/>
        </p:nvPicPr>
        <p:blipFill>
          <a:blip r:embed="rId3"/>
          <a:stretch/>
        </p:blipFill>
        <p:spPr>
          <a:xfrm rot="21332400">
            <a:off x="6213240" y="4392720"/>
            <a:ext cx="2492280" cy="2492280"/>
          </a:xfrm>
          <a:prstGeom prst="rect">
            <a:avLst/>
          </a:prstGeom>
          <a:ln w="0">
            <a:noFill/>
          </a:ln>
        </p:spPr>
      </p:pic>
      <p:pic>
        <p:nvPicPr>
          <p:cNvPr id="97" name="Таблица 1" descr=""/>
          <p:cNvPicPr/>
          <p:nvPr/>
        </p:nvPicPr>
        <p:blipFill>
          <a:blip r:embed="rId4"/>
          <a:stretch/>
        </p:blipFill>
        <p:spPr>
          <a:xfrm>
            <a:off x="476280" y="195120"/>
            <a:ext cx="90885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"/>
          <p:cNvPicPr/>
          <p:nvPr/>
        </p:nvPicPr>
        <p:blipFill>
          <a:blip r:embed="rId1"/>
          <a:srcRect l="1969" t="18467" r="31094" b="14600"/>
          <a:stretch/>
        </p:blipFill>
        <p:spPr>
          <a:xfrm>
            <a:off x="0" y="-55440"/>
            <a:ext cx="12241080" cy="68850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9" descr=""/>
          <p:cNvPicPr/>
          <p:nvPr/>
        </p:nvPicPr>
        <p:blipFill>
          <a:blip r:embed="rId2"/>
          <a:stretch/>
        </p:blipFill>
        <p:spPr>
          <a:xfrm>
            <a:off x="-96840" y="6480"/>
            <a:ext cx="110458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21:06:16Z</dcterms:created>
  <dc:creator>user</dc:creator>
  <dc:description/>
  <dc:language>en-US</dc:language>
  <cp:lastModifiedBy>user</cp:lastModifiedBy>
  <dcterms:modified xsi:type="dcterms:W3CDTF">2022-11-29T18:23:10Z</dcterms:modified>
  <cp:revision>105</cp:revision>
  <dc:subject/>
  <dc:title>ПРОЕКТИРОВАНИЕ СОДЕРЖАТЕЛЬНОГО КОМПОНЕНТА ДИАЛОГИЧЕСКОГО ПРОСТРАНСТВА ИНОЯЗЫЧНОГО ПРОСТРАНСТВА</dc:title>
</cp:coreProperties>
</file>