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E1F6-00CC-441B-917A-B520DE6F1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2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BA39-F1A1-403B-9426-575F3E4C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064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479D-B413-45A9-B4CE-E350F58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36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348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36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348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C2CD-F903-46A5-A100-E17F87E1FB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2AE27-F4D3-41EC-891C-6AF72CD18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8DB95-B434-44A1-8744-C83B1784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F2112-A192-472B-BCC0-738F931C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28F0C-B3B2-4E1C-8815-82CAE971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E9B09-4494-4D7D-A37F-83D05511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685440"/>
            <a:ext cx="9599760" cy="68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584FB-B05C-462E-AB10-145D8F79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E2C32-62C2-46F5-999B-8FE90CB7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2AE0-D38F-4C3B-B74D-6C3AB7CD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9064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E2A8D-A9BD-490E-880E-FBE9D8CE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12CEA-A5DF-4725-9E07-88930057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562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160F2-EFC2-4FA5-B4CD-7A6D4E33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9064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818E5-97D1-4B2B-B53E-E99BBDF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736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6348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1736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6348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8CEF3-BE9A-43EB-A980-29DFE44F1E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15FA-DB5F-4462-8654-6C8A88E1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DCC9-074E-4EDF-B2B5-392E4900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A4B8-C1B3-49A4-B3C9-BA7E9955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440"/>
            <a:ext cx="9599760" cy="68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DB93-DFE7-447B-9B58-0594894D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5511-9E13-4877-ADB7-FCDC3173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064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1FFBB-2AC1-43BD-8F6E-C58D08D0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EEF4-3B23-4E94-93C9-BD77A230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680" y="6453360"/>
            <a:ext cx="12031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89404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472680" y="6453360"/>
            <a:ext cx="15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191b0e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06CE77-CE08-467D-8EE2-0830BD0E3A55}" type="slidenum">
              <a:rPr b="0" lang="en-US" sz="1200" spc="-1" strike="noStrike">
                <a:solidFill>
                  <a:srgbClr val="191b0e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"/>
          <p:cNvGrpSpPr/>
          <p:nvPr/>
        </p:nvGrpSpPr>
        <p:grpSpPr>
          <a:xfrm>
            <a:off x="752400" y="744480"/>
            <a:ext cx="10671840" cy="5348160"/>
            <a:chOff x="752400" y="744480"/>
            <a:chExt cx="10671840" cy="5348160"/>
          </a:xfrm>
        </p:grpSpPr>
        <p:sp>
          <p:nvSpPr>
            <p:cNvPr id="43" name="Freeform 3"/>
            <p:cNvSpPr/>
            <p:nvPr/>
          </p:nvSpPr>
          <p:spPr>
            <a:xfrm flipH="1" flipV="1">
              <a:off x="752040" y="744480"/>
              <a:ext cx="10671840" cy="534816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752040" y="6453360"/>
            <a:ext cx="16066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58444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9831240" y="645336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191b0e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452A92-D93B-4453-A856-86F9512236CF}" type="slidenum">
              <a:rPr b="0" lang="en-US" sz="1200" spc="-1" strike="noStrike">
                <a:solidFill>
                  <a:srgbClr val="191b0e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"/>
          <p:cNvPicPr/>
          <p:nvPr/>
        </p:nvPicPr>
        <p:blipFill>
          <a:blip r:embed="rId1"/>
          <a:srcRect l="1969" t="18467" r="31094" b="14600"/>
          <a:stretch/>
        </p:blipFill>
        <p:spPr>
          <a:xfrm>
            <a:off x="20520" y="0"/>
            <a:ext cx="12241440" cy="6885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9" descr=""/>
          <p:cNvPicPr/>
          <p:nvPr/>
        </p:nvPicPr>
        <p:blipFill>
          <a:blip r:embed="rId2"/>
          <a:stretch/>
        </p:blipFill>
        <p:spPr>
          <a:xfrm>
            <a:off x="-743040" y="981000"/>
            <a:ext cx="9576000" cy="2036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"/>
          <p:cNvPicPr/>
          <p:nvPr/>
        </p:nvPicPr>
        <p:blipFill>
          <a:blip r:embed="rId3"/>
          <a:stretch/>
        </p:blipFill>
        <p:spPr>
          <a:xfrm>
            <a:off x="8985240" y="201600"/>
            <a:ext cx="332280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"/>
          <p:cNvPicPr/>
          <p:nvPr/>
        </p:nvPicPr>
        <p:blipFill>
          <a:blip r:embed="rId1"/>
          <a:srcRect l="1969" t="18467" r="31094" b="14600"/>
          <a:stretch/>
        </p:blipFill>
        <p:spPr>
          <a:xfrm>
            <a:off x="0" y="-36360"/>
            <a:ext cx="12241080" cy="688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38200" y="996840"/>
            <a:ext cx="1219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90" name="Рисунок 1" descr="0-02-05-fd4ab4129e57d9c4d5c72c0595d08bf79581c7599912fcac5af2f9b04cbe2c12_4d89ac9f72135bac"/>
          <p:cNvPicPr/>
          <p:nvPr/>
        </p:nvPicPr>
        <p:blipFill>
          <a:blip r:embed="rId2"/>
          <a:stretch/>
        </p:blipFill>
        <p:spPr>
          <a:xfrm>
            <a:off x="1328760" y="2346480"/>
            <a:ext cx="7937640" cy="6784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757440" y="987840"/>
            <a:ext cx="1288188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ERCEPTIVE               INSPIRATIONAL             OVER-AMBITIOUS               NEUROTIC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SCIENTIOUS              OBSTINATE                    OPEN-MINDED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REJUDICED                  APATHETIC                 INSENSITIVE                  SOLITARY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</a:t>
            </a:r>
            <a:endParaRPr b="0" lang="en-US" sz="5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EBELLIOUS                    MATURE                     INQUISITIVE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055520" y="692280"/>
            <a:ext cx="1041084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9000"/>
              </a:lnSpc>
              <a:buClr>
                <a:srgbClr val="191b0e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lnSpc>
                <a:spcPct val="89000"/>
              </a:lnSpc>
              <a:buClr>
                <a:srgbClr val="191b0e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lnSpc>
                <a:spcPct val="89000"/>
              </a:lnSpc>
              <a:buClr>
                <a:srgbClr val="191b0e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1969" t="18467" r="31094" b="14600"/>
          <a:stretch/>
        </p:blipFill>
        <p:spPr>
          <a:xfrm>
            <a:off x="0" y="-55440"/>
            <a:ext cx="12241080" cy="6885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1"/>
          <p:cNvSpPr/>
          <p:nvPr/>
        </p:nvSpPr>
        <p:spPr>
          <a:xfrm>
            <a:off x="-1440" y="407880"/>
            <a:ext cx="3960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95" name="Рисунок 12" descr=""/>
          <p:cNvPicPr/>
          <p:nvPr/>
        </p:nvPicPr>
        <p:blipFill>
          <a:blip r:embed="rId2"/>
          <a:stretch/>
        </p:blipFill>
        <p:spPr>
          <a:xfrm>
            <a:off x="6024600" y="1660680"/>
            <a:ext cx="5673600" cy="28238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3" descr=""/>
          <p:cNvPicPr/>
          <p:nvPr/>
        </p:nvPicPr>
        <p:blipFill>
          <a:blip r:embed="rId3"/>
          <a:stretch/>
        </p:blipFill>
        <p:spPr>
          <a:xfrm rot="21332400">
            <a:off x="6213240" y="4392720"/>
            <a:ext cx="2492280" cy="2492280"/>
          </a:xfrm>
          <a:prstGeom prst="rect">
            <a:avLst/>
          </a:prstGeom>
          <a:ln w="0">
            <a:noFill/>
          </a:ln>
        </p:spPr>
      </p:pic>
      <p:pic>
        <p:nvPicPr>
          <p:cNvPr id="97" name="Таблица 1" descr=""/>
          <p:cNvPicPr/>
          <p:nvPr/>
        </p:nvPicPr>
        <p:blipFill>
          <a:blip r:embed="rId4"/>
          <a:stretch/>
        </p:blipFill>
        <p:spPr>
          <a:xfrm>
            <a:off x="476280" y="195120"/>
            <a:ext cx="908856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"/>
          <p:cNvPicPr/>
          <p:nvPr/>
        </p:nvPicPr>
        <p:blipFill>
          <a:blip r:embed="rId1"/>
          <a:srcRect l="1969" t="18467" r="31094" b="14600"/>
          <a:stretch/>
        </p:blipFill>
        <p:spPr>
          <a:xfrm>
            <a:off x="0" y="-55440"/>
            <a:ext cx="12241080" cy="68850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9" descr=""/>
          <p:cNvPicPr/>
          <p:nvPr/>
        </p:nvPicPr>
        <p:blipFill>
          <a:blip r:embed="rId2"/>
          <a:stretch/>
        </p:blipFill>
        <p:spPr>
          <a:xfrm>
            <a:off x="-96840" y="6480"/>
            <a:ext cx="110458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3T21:06:16Z</dcterms:created>
  <dc:creator>user</dc:creator>
  <dc:description/>
  <dc:language>en-US</dc:language>
  <cp:lastModifiedBy>user</cp:lastModifiedBy>
  <dcterms:modified xsi:type="dcterms:W3CDTF">2022-11-29T18:23:10Z</dcterms:modified>
  <cp:revision>105</cp:revision>
  <dc:subject/>
  <dc:title>ПРОЕКТИРОВАНИЕ СОДЕРЖАТЕЛЬНОГО КОМПОНЕНТА ДИАЛОГИЧЕСКОГО ПРОСТРАНСТВА ИНОЯЗЫЧНОГО ПРОСТРАНСТВА</dc:title>
</cp:coreProperties>
</file>