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3211-CFD7-4526-B9B3-B046E1271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6A73-183E-4DCE-8D14-9ACAAEFB3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1B5F-677E-455B-9AF7-3FB5B56EE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7D2F-333D-4BBF-BC99-E7AFE0F57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4870-BE60-4500-8933-2978CD5EC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B4EC-20F0-46B4-ACC8-F4505A66E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E913-AEF5-4330-A42C-C9E7D9AE3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FB4F-0917-4DC6-961E-F4874E597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3A2A-F494-4AD7-BD3F-DAC7A7707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3C1A-6DCF-4A1C-934E-01888771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73A1-E177-468C-8D15-09AA2158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5B53-9562-420D-9E30-B34FF070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8A943-8940-4907-AD14-0337097F9A9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0E732-A3B9-4E13-B15A-50AEA753DA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Группа 7"/>
          <p:cNvGrpSpPr/>
          <p:nvPr/>
        </p:nvGrpSpPr>
        <p:grpSpPr>
          <a:xfrm>
            <a:off x="0" y="7920"/>
            <a:ext cx="9144000" cy="1260360"/>
            <a:chOff x="0" y="7920"/>
            <a:chExt cx="9144000" cy="1260360"/>
          </a:xfrm>
        </p:grpSpPr>
        <p:grpSp>
          <p:nvGrpSpPr>
            <p:cNvPr id="42" name="Группа 6"/>
            <p:cNvGrpSpPr/>
            <p:nvPr/>
          </p:nvGrpSpPr>
          <p:grpSpPr>
            <a:xfrm>
              <a:off x="0" y="230400"/>
              <a:ext cx="9144000" cy="768240"/>
              <a:chOff x="0" y="230400"/>
              <a:chExt cx="9144000" cy="768240"/>
            </a:xfrm>
          </p:grpSpPr>
          <p:sp>
            <p:nvSpPr>
              <p:cNvPr id="43" name="Прямоугольник 3"/>
              <p:cNvSpPr/>
              <p:nvPr/>
            </p:nvSpPr>
            <p:spPr>
              <a:xfrm rot="5400000">
                <a:off x="4187880" y="-3957480"/>
                <a:ext cx="768240" cy="914400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" name="Прямоугольник 4"/>
              <p:cNvSpPr/>
              <p:nvPr/>
            </p:nvSpPr>
            <p:spPr>
              <a:xfrm>
                <a:off x="0" y="259920"/>
                <a:ext cx="914400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Министерство образования и науки Челябинской области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r>
                  <a:rPr b="1" lang="ru-RU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Государственное бюджетное профессиональное образовательное учреждение 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«Челябинский педагогический колледж № 1»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45" name="Picture 8" descr="C:\Users\user217-4\Desktop\РАБОТА\HTG Locker\Эмблема новая круглая.png"/>
            <p:cNvPicPr/>
            <p:nvPr/>
          </p:nvPicPr>
          <p:blipFill>
            <a:blip r:embed="rId1"/>
            <a:stretch/>
          </p:blipFill>
          <p:spPr>
            <a:xfrm>
              <a:off x="107280" y="7920"/>
              <a:ext cx="1278360" cy="126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" name="Прямоугольник 11"/>
          <p:cNvGrpSpPr/>
          <p:nvPr/>
        </p:nvGrpSpPr>
        <p:grpSpPr>
          <a:xfrm>
            <a:off x="-23760" y="1957320"/>
            <a:ext cx="9174240" cy="2206800"/>
            <a:chOff x="-23760" y="1957320"/>
            <a:chExt cx="9174240" cy="2206800"/>
          </a:xfrm>
        </p:grpSpPr>
        <p:pic>
          <p:nvPicPr>
            <p:cNvPr id="47" name="Прямоугольник 11" descr=""/>
            <p:cNvPicPr/>
            <p:nvPr/>
          </p:nvPicPr>
          <p:blipFill>
            <a:blip r:embed="rId2"/>
            <a:stretch/>
          </p:blipFill>
          <p:spPr>
            <a:xfrm>
              <a:off x="-23760" y="1957320"/>
              <a:ext cx="9174240" cy="220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108000" y="1989000"/>
              <a:ext cx="8856720" cy="20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ЕТОДИКА РАЗВИТИЯ СКОРОСТНЫХ СПОСОБНОСТЕЙ СРЕДСТВАМИ СПЕЦИАЛЬНЫХ УПРАЖНЕНИЙ В СПОРТИВНОМ СКАЛОЛАЗАНИИ У ОБУЧАЮЩИХСЯ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5-16 ЛЕТ ВО ВНЕУРОЧНОЙ ДЕЯТЕЛЬНОСТИ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" name="TextBox 14"/>
          <p:cNvSpPr/>
          <p:nvPr/>
        </p:nvSpPr>
        <p:spPr>
          <a:xfrm>
            <a:off x="3564000" y="4483080"/>
            <a:ext cx="547200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ент 39 группы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шов Владимир Александрови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ный руководитель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биркина Наталья Владимировна, преподаватель МДК 01.01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й квалификационной категор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5"/>
          <p:cNvSpPr/>
          <p:nvPr/>
        </p:nvSpPr>
        <p:spPr>
          <a:xfrm>
            <a:off x="0" y="6434280"/>
            <a:ext cx="903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ябинск, 2021 г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3"/>
          <p:cNvSpPr/>
          <p:nvPr/>
        </p:nvSpPr>
        <p:spPr>
          <a:xfrm rot="5400000">
            <a:off x="5409000" y="3194640"/>
            <a:ext cx="6858000" cy="4683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1"/>
          <p:cNvSpPr/>
          <p:nvPr/>
        </p:nvSpPr>
        <p:spPr>
          <a:xfrm>
            <a:off x="8604360" y="6356520"/>
            <a:ext cx="468360" cy="365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77532-BF82-4CDB-89CD-09E37CC92E9A}" type="slidenum"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" name="Прямоугольник 5"/>
          <p:cNvGrpSpPr/>
          <p:nvPr/>
        </p:nvGrpSpPr>
        <p:grpSpPr>
          <a:xfrm>
            <a:off x="122400" y="19080"/>
            <a:ext cx="8332560" cy="1492200"/>
            <a:chOff x="122400" y="19080"/>
            <a:chExt cx="8332560" cy="1492200"/>
          </a:xfrm>
        </p:grpSpPr>
        <p:pic>
          <p:nvPicPr>
            <p:cNvPr id="118" name="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122400" y="19080"/>
              <a:ext cx="8332560" cy="14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184320" y="115920"/>
              <a:ext cx="8208720" cy="11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ридоры распределения результатов развития физических качеств исследуемых обучающихся (автор тестов Ю.Ф. Курамшин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20" name=""/>
          <p:cNvGraphicFramePr/>
          <p:nvPr/>
        </p:nvGraphicFramePr>
        <p:xfrm>
          <a:off x="184320" y="1413000"/>
          <a:ext cx="8172360" cy="4752720"/>
        </p:xfrm>
        <a:graphic>
          <a:graphicData uri="http://schemas.openxmlformats.org/drawingml/2006/table">
            <a:tbl>
              <a:tblPr/>
              <a:tblGrid>
                <a:gridCol w="2249280"/>
                <a:gridCol w="992160"/>
                <a:gridCol w="992160"/>
                <a:gridCol w="1050840"/>
                <a:gridCol w="1051200"/>
                <a:gridCol w="917640"/>
                <a:gridCol w="919080"/>
              </a:tblGrid>
              <a:tr h="339480">
                <a:tc row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ачества/тес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3735"/>
                    </a:solidFill>
                  </a:tcPr>
                </a:tc>
                <a:tc gridSpan="6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ридоры (области величин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373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ниже среднего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средни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высоки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Юнош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вуш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Юнош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вуш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Юнош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вуш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</a:tr>
              <a:tr h="679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коростно-силовые/ прыжок в длину (см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373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-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-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-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-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-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-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</a:tr>
              <a:tr h="1357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коростно-силовые/ выпрыгивания из глубокого приседа за 10 с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373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-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-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-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</a:tr>
              <a:tr h="1019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коростные/ прыжки со скакалкой за 30 с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373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-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-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-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-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-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-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3"/>
          <p:cNvSpPr/>
          <p:nvPr/>
        </p:nvSpPr>
        <p:spPr>
          <a:xfrm rot="5400000">
            <a:off x="5409000" y="3194640"/>
            <a:ext cx="6858000" cy="4683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1"/>
          <p:cNvSpPr/>
          <p:nvPr/>
        </p:nvSpPr>
        <p:spPr>
          <a:xfrm>
            <a:off x="8604360" y="6356520"/>
            <a:ext cx="468360" cy="365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0365C-9A90-4865-B47B-6B21A67EF043}" type="slidenum"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Прямоугольник 5"/>
          <p:cNvGrpSpPr/>
          <p:nvPr/>
        </p:nvGrpSpPr>
        <p:grpSpPr>
          <a:xfrm>
            <a:off x="262080" y="66600"/>
            <a:ext cx="8332560" cy="1182600"/>
            <a:chOff x="262080" y="66600"/>
            <a:chExt cx="8332560" cy="1182600"/>
          </a:xfrm>
        </p:grpSpPr>
        <p:pic>
          <p:nvPicPr>
            <p:cNvPr id="124" name="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262080" y="66600"/>
              <a:ext cx="833256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324000" y="189000"/>
              <a:ext cx="8208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аключение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Прямоугольник 6"/>
          <p:cNvSpPr/>
          <p:nvPr/>
        </p:nvSpPr>
        <p:spPr>
          <a:xfrm>
            <a:off x="108000" y="920880"/>
            <a:ext cx="8136000" cy="58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4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изучении теоретических аспектов развития скоростных способностей у обучающихся 15-16 лет средствами специальных упражнений в спортивном скалолазании в данной работе, мы д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и 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щую характеристику скоростных способностей, 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учил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ные особенности развития скоростных способностей у обучающихся 15-16 лет, рассмотрели сущность понятий разновидности скалолазания и спортивное скалолазани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4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 средством развития скоростных способностей являются упражнения, выполняемые с предельной или около предельной скорость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4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выделили специальные упражнения для развития скоростных способностей обучающихся (бег, прыжки, подтягивания). Для определения эффективности тренировок были составлены тестовые задания и определены коридоры распределения результатов развития физических качеств исследуемых обучающихся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4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шей работе были достигнуты цели и задачи, которые мы перед собой ставил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4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ипломной работе мы планируем применить на практике разработанную методику и проанализировать получение результа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Группа 7"/>
          <p:cNvGrpSpPr/>
          <p:nvPr/>
        </p:nvGrpSpPr>
        <p:grpSpPr>
          <a:xfrm>
            <a:off x="0" y="7920"/>
            <a:ext cx="9144000" cy="1260360"/>
            <a:chOff x="0" y="7920"/>
            <a:chExt cx="9144000" cy="1260360"/>
          </a:xfrm>
        </p:grpSpPr>
        <p:grpSp>
          <p:nvGrpSpPr>
            <p:cNvPr id="128" name="Группа 6"/>
            <p:cNvGrpSpPr/>
            <p:nvPr/>
          </p:nvGrpSpPr>
          <p:grpSpPr>
            <a:xfrm>
              <a:off x="0" y="230400"/>
              <a:ext cx="9144000" cy="768240"/>
              <a:chOff x="0" y="230400"/>
              <a:chExt cx="9144000" cy="768240"/>
            </a:xfrm>
          </p:grpSpPr>
          <p:sp>
            <p:nvSpPr>
              <p:cNvPr id="129" name="Прямоугольник 3"/>
              <p:cNvSpPr/>
              <p:nvPr/>
            </p:nvSpPr>
            <p:spPr>
              <a:xfrm rot="5400000">
                <a:off x="4187880" y="-3957480"/>
                <a:ext cx="768240" cy="914400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" name="Прямоугольник 4"/>
              <p:cNvSpPr/>
              <p:nvPr/>
            </p:nvSpPr>
            <p:spPr>
              <a:xfrm>
                <a:off x="0" y="259920"/>
                <a:ext cx="914400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Министерство образования и науки Челябинской области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r>
                  <a:rPr b="1" lang="ru-RU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Государственное бюджетное профессиональное образовательное учреждение 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«Челябинский педагогический колледж № 1»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31" name="Picture 8" descr="C:\Users\user217-4\Desktop\РАБОТА\HTG Locker\Эмблема новая круглая.png"/>
            <p:cNvPicPr/>
            <p:nvPr/>
          </p:nvPicPr>
          <p:blipFill>
            <a:blip r:embed="rId1"/>
            <a:stretch/>
          </p:blipFill>
          <p:spPr>
            <a:xfrm>
              <a:off x="107280" y="7920"/>
              <a:ext cx="1278360" cy="126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2" name="Прямоугольник 11"/>
          <p:cNvGrpSpPr/>
          <p:nvPr/>
        </p:nvGrpSpPr>
        <p:grpSpPr>
          <a:xfrm>
            <a:off x="49320" y="2352600"/>
            <a:ext cx="8978760" cy="2255760"/>
            <a:chOff x="49320" y="2352600"/>
            <a:chExt cx="8978760" cy="2255760"/>
          </a:xfrm>
        </p:grpSpPr>
        <p:pic>
          <p:nvPicPr>
            <p:cNvPr id="133" name="Прямоугольник 11" descr=""/>
            <p:cNvPicPr/>
            <p:nvPr/>
          </p:nvPicPr>
          <p:blipFill>
            <a:blip r:embed="rId2"/>
            <a:stretch/>
          </p:blipFill>
          <p:spPr>
            <a:xfrm>
              <a:off x="49320" y="2352600"/>
              <a:ext cx="8978760" cy="22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108000" y="2384280"/>
              <a:ext cx="8856720" cy="20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пасибо за внимание!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ы готовы ответить на Ваши вопросы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3"/>
          <p:cNvSpPr/>
          <p:nvPr/>
        </p:nvSpPr>
        <p:spPr>
          <a:xfrm rot="5400000">
            <a:off x="5409000" y="3194640"/>
            <a:ext cx="6858000" cy="4683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Прямоугольник 11"/>
          <p:cNvGrpSpPr/>
          <p:nvPr/>
        </p:nvGrpSpPr>
        <p:grpSpPr>
          <a:xfrm>
            <a:off x="262080" y="-66600"/>
            <a:ext cx="8259480" cy="1798560"/>
            <a:chOff x="262080" y="-66600"/>
            <a:chExt cx="8259480" cy="1798560"/>
          </a:xfrm>
        </p:grpSpPr>
        <p:pic>
          <p:nvPicPr>
            <p:cNvPr id="53" name="Прямоугольник 11" descr=""/>
            <p:cNvPicPr/>
            <p:nvPr/>
          </p:nvPicPr>
          <p:blipFill>
            <a:blip r:embed="rId1"/>
            <a:stretch/>
          </p:blipFill>
          <p:spPr>
            <a:xfrm>
              <a:off x="262080" y="-66600"/>
              <a:ext cx="825948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324000" y="189000"/>
              <a:ext cx="8135640" cy="10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ктуальность проблемы исследования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" name="Номер слайда 1"/>
          <p:cNvSpPr/>
          <p:nvPr/>
        </p:nvSpPr>
        <p:spPr>
          <a:xfrm>
            <a:off x="8604360" y="6356520"/>
            <a:ext cx="468360" cy="3650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3621E-0484-4F7C-B00D-6066E017B28B}" type="slidenum"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1"/>
          <p:cNvSpPr/>
          <p:nvPr/>
        </p:nvSpPr>
        <p:spPr>
          <a:xfrm>
            <a:off x="303120" y="1773360"/>
            <a:ext cx="7920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лолазание переживает бурное развитие, это выражается как в растущем количестве скалодромов и числе стран-членов Международной федерации скалолазан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лолазание - как вида спорта набирает популярность на мировой спортивной арен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ет стремление стать быстрыми, ловким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ует преодолению страхов и слабост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омощью специальных  подготовительных упражнений легко привить необходимые навыки детя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ует наиболее гармоничному развитию мышц тел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лолазание развивает не только мышцы, но и тренирует моз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3"/>
          <p:cNvSpPr/>
          <p:nvPr/>
        </p:nvSpPr>
        <p:spPr>
          <a:xfrm rot="5400000">
            <a:off x="5409000" y="3194640"/>
            <a:ext cx="6858000" cy="4683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" name="Прямоугольник 11"/>
          <p:cNvGrpSpPr/>
          <p:nvPr/>
        </p:nvGrpSpPr>
        <p:grpSpPr>
          <a:xfrm>
            <a:off x="262080" y="42840"/>
            <a:ext cx="8259480" cy="1182600"/>
            <a:chOff x="262080" y="42840"/>
            <a:chExt cx="8259480" cy="1182600"/>
          </a:xfrm>
        </p:grpSpPr>
        <p:pic>
          <p:nvPicPr>
            <p:cNvPr id="59" name="Прямоугольник 11" descr=""/>
            <p:cNvPicPr/>
            <p:nvPr/>
          </p:nvPicPr>
          <p:blipFill>
            <a:blip r:embed="rId2"/>
            <a:stretch/>
          </p:blipFill>
          <p:spPr>
            <a:xfrm>
              <a:off x="262080" y="42840"/>
              <a:ext cx="825948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324000" y="189000"/>
              <a:ext cx="8135640" cy="6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Цель исследования: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" name="Номер слайда 1"/>
          <p:cNvSpPr/>
          <p:nvPr/>
        </p:nvSpPr>
        <p:spPr>
          <a:xfrm>
            <a:off x="8604360" y="6356520"/>
            <a:ext cx="468360" cy="3650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8221E-35B4-4FB6-BCC0-FD7085DAF702}" type="slidenum"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12"/>
          <p:cNvSpPr/>
          <p:nvPr/>
        </p:nvSpPr>
        <p:spPr>
          <a:xfrm>
            <a:off x="320760" y="1003320"/>
            <a:ext cx="813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е анализа научной и методической литературы изучить теоретические и методические аспекты скоростных способностей у обучающихся 15-16 лет средствами специальных упражнений в спортивном скалолазании во внеурочной деятельнос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" name="Прямоугольник 13"/>
          <p:cNvGrpSpPr/>
          <p:nvPr/>
        </p:nvGrpSpPr>
        <p:grpSpPr>
          <a:xfrm>
            <a:off x="262080" y="2309760"/>
            <a:ext cx="8259480" cy="1189080"/>
            <a:chOff x="262080" y="2309760"/>
            <a:chExt cx="8259480" cy="1189080"/>
          </a:xfrm>
        </p:grpSpPr>
        <p:pic>
          <p:nvPicPr>
            <p:cNvPr id="64" name="Прямоугольник 13" descr=""/>
            <p:cNvPicPr/>
            <p:nvPr/>
          </p:nvPicPr>
          <p:blipFill>
            <a:blip r:embed="rId3"/>
            <a:stretch/>
          </p:blipFill>
          <p:spPr>
            <a:xfrm>
              <a:off x="262080" y="2309760"/>
              <a:ext cx="825948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24000" y="2457360"/>
              <a:ext cx="8135640" cy="6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бъект исследования: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" name="TextBox 16"/>
          <p:cNvSpPr/>
          <p:nvPr/>
        </p:nvSpPr>
        <p:spPr>
          <a:xfrm>
            <a:off x="320760" y="3271680"/>
            <a:ext cx="813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 развития скоростных способностей в спортивном скалолазании у обучающихся 15-16 л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" name="Прямоугольник 7"/>
          <p:cNvGrpSpPr/>
          <p:nvPr/>
        </p:nvGrpSpPr>
        <p:grpSpPr>
          <a:xfrm>
            <a:off x="262080" y="4145040"/>
            <a:ext cx="8253360" cy="1189080"/>
            <a:chOff x="262080" y="4145040"/>
            <a:chExt cx="8253360" cy="1189080"/>
          </a:xfrm>
        </p:grpSpPr>
        <p:pic>
          <p:nvPicPr>
            <p:cNvPr id="68" name="Прямоугольник 7" descr=""/>
            <p:cNvPicPr/>
            <p:nvPr/>
          </p:nvPicPr>
          <p:blipFill>
            <a:blip r:embed="rId4"/>
            <a:stretch/>
          </p:blipFill>
          <p:spPr>
            <a:xfrm>
              <a:off x="262080" y="4145040"/>
              <a:ext cx="825336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320760" y="4292640"/>
              <a:ext cx="8137440" cy="6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едмет исследования: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" name="TextBox 8"/>
          <p:cNvSpPr/>
          <p:nvPr/>
        </p:nvSpPr>
        <p:spPr>
          <a:xfrm>
            <a:off x="393840" y="5157720"/>
            <a:ext cx="813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ка развития скоростных способностей у обучающихся 15-16 лет средствами специальных упражнений в спортивном скалолазании во внеурочной деятель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3"/>
          <p:cNvSpPr/>
          <p:nvPr/>
        </p:nvSpPr>
        <p:spPr>
          <a:xfrm rot="5400000">
            <a:off x="5409000" y="3194640"/>
            <a:ext cx="6858000" cy="4683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Номер слайда 1"/>
          <p:cNvSpPr/>
          <p:nvPr/>
        </p:nvSpPr>
        <p:spPr>
          <a:xfrm>
            <a:off x="8604360" y="6356520"/>
            <a:ext cx="468360" cy="3650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92FC3-FF0C-4060-B58A-2D974708EA39}" type="slidenum"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" name="Прямоугольник 13"/>
          <p:cNvGrpSpPr/>
          <p:nvPr/>
        </p:nvGrpSpPr>
        <p:grpSpPr>
          <a:xfrm>
            <a:off x="262080" y="182520"/>
            <a:ext cx="8259480" cy="1189080"/>
            <a:chOff x="262080" y="182520"/>
            <a:chExt cx="8259480" cy="1189080"/>
          </a:xfrm>
        </p:grpSpPr>
        <p:pic>
          <p:nvPicPr>
            <p:cNvPr id="74" name="Прямоугольник 13" descr=""/>
            <p:cNvPicPr/>
            <p:nvPr/>
          </p:nvPicPr>
          <p:blipFill>
            <a:blip r:embed="rId1"/>
            <a:stretch/>
          </p:blipFill>
          <p:spPr>
            <a:xfrm>
              <a:off x="262080" y="182520"/>
              <a:ext cx="825948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322200" y="333360"/>
              <a:ext cx="813600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адачи исследования: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" name="TextBox 16"/>
          <p:cNvSpPr/>
          <p:nvPr/>
        </p:nvSpPr>
        <p:spPr>
          <a:xfrm>
            <a:off x="318960" y="1035000"/>
            <a:ext cx="7993080" cy="29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общую характеристику и возрастные особенности развития скоростных способностей у обучающихся 15-16 лет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еть сущность понятий разновидности скалолазания и «спортивное скалолазание», изучить экипировку спортсменов скалолазов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развитие скоростных способностей в скалолазании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ть методику обучения спортивному скалолазанию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обрать практические аспекты для выявления уровня развития скоростных способностей у спортсменов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Составить комплекс упражнений и тестовых заданий для развития скоростных способностей у обучающихся 15-16 лет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" name="Прямоугольник 7"/>
          <p:cNvGrpSpPr/>
          <p:nvPr/>
        </p:nvGrpSpPr>
        <p:grpSpPr>
          <a:xfrm>
            <a:off x="262080" y="4017960"/>
            <a:ext cx="8259480" cy="1182600"/>
            <a:chOff x="262080" y="4017960"/>
            <a:chExt cx="8259480" cy="1182600"/>
          </a:xfrm>
        </p:grpSpPr>
        <p:pic>
          <p:nvPicPr>
            <p:cNvPr id="78" name="Прямоугольник 7" descr=""/>
            <p:cNvPicPr/>
            <p:nvPr/>
          </p:nvPicPr>
          <p:blipFill>
            <a:blip r:embed="rId2"/>
            <a:stretch/>
          </p:blipFill>
          <p:spPr>
            <a:xfrm>
              <a:off x="262080" y="4017960"/>
              <a:ext cx="825948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322200" y="4162320"/>
              <a:ext cx="8136000" cy="6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етоды исследования: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" name="TextBox 8"/>
          <p:cNvSpPr/>
          <p:nvPr/>
        </p:nvSpPr>
        <p:spPr>
          <a:xfrm>
            <a:off x="318960" y="4967280"/>
            <a:ext cx="799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етические: анализ, синтез, поиск и отбор источников информации, классификация, систематизац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3"/>
          <p:cNvSpPr/>
          <p:nvPr/>
        </p:nvSpPr>
        <p:spPr>
          <a:xfrm rot="5400000">
            <a:off x="5409000" y="3194640"/>
            <a:ext cx="6858000" cy="4683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" name="Прямоугольник 11"/>
          <p:cNvGrpSpPr/>
          <p:nvPr/>
        </p:nvGrpSpPr>
        <p:grpSpPr>
          <a:xfrm>
            <a:off x="212760" y="158760"/>
            <a:ext cx="8358120" cy="1700280"/>
            <a:chOff x="212760" y="158760"/>
            <a:chExt cx="8358120" cy="1700280"/>
          </a:xfrm>
        </p:grpSpPr>
        <p:pic>
          <p:nvPicPr>
            <p:cNvPr id="83" name="Прямоугольник 11" descr=""/>
            <p:cNvPicPr/>
            <p:nvPr/>
          </p:nvPicPr>
          <p:blipFill>
            <a:blip r:embed="rId2"/>
            <a:stretch/>
          </p:blipFill>
          <p:spPr>
            <a:xfrm>
              <a:off x="212760" y="158760"/>
              <a:ext cx="8358120" cy="17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324000" y="189000"/>
              <a:ext cx="813564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ЛАВА 1. ТЕОРЕТИЧЕСКИЕ АСПЕКТЫ РАЗВИТИЯ СКОРОСТНЫХ СПОСОБНОСТЕЙ У ОБУЧАЮЩИХСЯ 15-16 ЛЕТ СРЕДСТВАМИ СПЕЦИАЛЬНЫХ УПРАЖНЕНИЙ В СПОРТИВНОМ СКАЛОЛАЗАНИ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5" name="Номер слайда 1"/>
          <p:cNvSpPr/>
          <p:nvPr/>
        </p:nvSpPr>
        <p:spPr>
          <a:xfrm>
            <a:off x="8604360" y="6356520"/>
            <a:ext cx="468360" cy="365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4E970-BC74-4071-94A0-007C1B2C14D2}" type="slidenum"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оугольник 4"/>
          <p:cNvSpPr/>
          <p:nvPr/>
        </p:nvSpPr>
        <p:spPr>
          <a:xfrm>
            <a:off x="324000" y="2133720"/>
            <a:ext cx="813564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ЕНЫ ВОПРОС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. Общая характеристика скоростных способност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. Возрастные особенности развития скоростных способностей у обучающихся 15-16 л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3. Спортивное скалолазание как вид спор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4.Особенности организации внеурочной деятельности спортивно-оздоровительной направлен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3"/>
          <p:cNvSpPr/>
          <p:nvPr/>
        </p:nvSpPr>
        <p:spPr>
          <a:xfrm rot="5400000">
            <a:off x="5409000" y="3194640"/>
            <a:ext cx="6858000" cy="4683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Номер слайда 1"/>
          <p:cNvSpPr/>
          <p:nvPr/>
        </p:nvSpPr>
        <p:spPr>
          <a:xfrm>
            <a:off x="8604360" y="6356520"/>
            <a:ext cx="468360" cy="365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49BE3-1613-4FD1-94FC-4110598F65B5}" type="slidenum"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" name="Прямоугольник 5"/>
          <p:cNvGrpSpPr/>
          <p:nvPr/>
        </p:nvGrpSpPr>
        <p:grpSpPr>
          <a:xfrm>
            <a:off x="262080" y="42840"/>
            <a:ext cx="8259480" cy="1182600"/>
            <a:chOff x="262080" y="42840"/>
            <a:chExt cx="8259480" cy="1182600"/>
          </a:xfrm>
        </p:grpSpPr>
        <p:pic>
          <p:nvPicPr>
            <p:cNvPr id="90" name="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262080" y="42840"/>
              <a:ext cx="825948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324000" y="189000"/>
              <a:ext cx="8135640" cy="6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новные понятия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" name="Прямоугольник 2"/>
          <p:cNvSpPr/>
          <p:nvPr/>
        </p:nvSpPr>
        <p:spPr>
          <a:xfrm>
            <a:off x="324000" y="5229360"/>
            <a:ext cx="81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оугольник 6"/>
          <p:cNvSpPr/>
          <p:nvPr/>
        </p:nvSpPr>
        <p:spPr>
          <a:xfrm>
            <a:off x="325440" y="1413000"/>
            <a:ext cx="81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оугольник 4"/>
          <p:cNvSpPr/>
          <p:nvPr/>
        </p:nvSpPr>
        <p:spPr>
          <a:xfrm>
            <a:off x="468360" y="1197000"/>
            <a:ext cx="7704000" cy="42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Международными правилами соревнования по спортивному скалолазанию проводятся по следующим дисциплинам: лазание на трудность, лазание на скорость, боулдеринг, многоборь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зание на скорость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индивидуальное лазание или парная гонка на время. Цель — подняться до конца трассы за минимальное время. Используют верхнюю страховк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остными способностям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понимать комплекс функциональных свойств, обеспечивающих максимальное выполнение двигательных действий за минимальное врем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оненты скоростных способностей: скорость реакции, улучшение стартовой скорости, скорость выполняемого действия, частота движени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3"/>
          <p:cNvSpPr/>
          <p:nvPr/>
        </p:nvSpPr>
        <p:spPr>
          <a:xfrm rot="5400000">
            <a:off x="5409000" y="3194640"/>
            <a:ext cx="6858000" cy="4683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омер слайда 1"/>
          <p:cNvSpPr/>
          <p:nvPr/>
        </p:nvSpPr>
        <p:spPr>
          <a:xfrm>
            <a:off x="8604360" y="6356520"/>
            <a:ext cx="468360" cy="365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09549-96C4-4D34-9D7A-FBAF82B57B41}" type="slidenum"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" name="Прямоугольник 5"/>
          <p:cNvGrpSpPr/>
          <p:nvPr/>
        </p:nvGrpSpPr>
        <p:grpSpPr>
          <a:xfrm>
            <a:off x="262080" y="42840"/>
            <a:ext cx="8259480" cy="1182600"/>
            <a:chOff x="262080" y="42840"/>
            <a:chExt cx="8259480" cy="1182600"/>
          </a:xfrm>
        </p:grpSpPr>
        <p:pic>
          <p:nvPicPr>
            <p:cNvPr id="98" name="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262080" y="42840"/>
              <a:ext cx="825948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324000" y="189000"/>
              <a:ext cx="8135640" cy="6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новные понятия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" name="Прямоугольник 2"/>
          <p:cNvSpPr/>
          <p:nvPr/>
        </p:nvSpPr>
        <p:spPr>
          <a:xfrm>
            <a:off x="324000" y="5229360"/>
            <a:ext cx="81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оугольник 6"/>
          <p:cNvSpPr/>
          <p:nvPr/>
        </p:nvSpPr>
        <p:spPr>
          <a:xfrm>
            <a:off x="325440" y="1413000"/>
            <a:ext cx="81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рямоугольник 4"/>
          <p:cNvSpPr/>
          <p:nvPr/>
        </p:nvSpPr>
        <p:spPr>
          <a:xfrm>
            <a:off x="468360" y="1197000"/>
            <a:ext cx="7704000" cy="54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физических качеств надо рассматривать: с точки зрения совершенствования двигательных способностей, и с точки зрения обеспечения нормального протекания процесса физического развития и повышения функциональных возможностей растущего организм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ной период 15-16 лет совпадает с периодом полового созревания наблюдается повышенная возбудимость и неустойчивость нервной системы. Индивидуальные особенности физического развития учащихся определяются по данным медицинского контроля. Физиологические возможности учащихся одного и того же возраста могут значительно отличаться. Поэтому в процессе физического воспитания важен индивидуальный подход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этому возрасту фактически наступает стабилизация результатов в показателях быстроты простой реакции и максимальной частоты движений. Возникают половые различия. Мальчики начинают опережать девочек, особенно в показателях скорости двигательных действ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Прямоугольник 3"/>
          <p:cNvSpPr/>
          <p:nvPr/>
        </p:nvSpPr>
        <p:spPr>
          <a:xfrm rot="5400000">
            <a:off x="5409000" y="3194640"/>
            <a:ext cx="6858000" cy="4683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Прямоугольник 11"/>
          <p:cNvGrpSpPr/>
          <p:nvPr/>
        </p:nvGrpSpPr>
        <p:grpSpPr>
          <a:xfrm>
            <a:off x="212760" y="158760"/>
            <a:ext cx="8358120" cy="1700280"/>
            <a:chOff x="212760" y="158760"/>
            <a:chExt cx="8358120" cy="1700280"/>
          </a:xfrm>
        </p:grpSpPr>
        <p:pic>
          <p:nvPicPr>
            <p:cNvPr id="105" name="Прямоугольник 11" descr=""/>
            <p:cNvPicPr/>
            <p:nvPr/>
          </p:nvPicPr>
          <p:blipFill>
            <a:blip r:embed="rId2"/>
            <a:stretch/>
          </p:blipFill>
          <p:spPr>
            <a:xfrm>
              <a:off x="212760" y="158760"/>
              <a:ext cx="8358120" cy="17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24000" y="189000"/>
              <a:ext cx="813564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ЛАВА 2. МЕТОДИТИЧЕСКИЕ АСПЕКТЫ РАЗВИТИЯ СКОРОСТНЫХ СПОСОБНОСТЕЙ У ОБУЧАЮЩИХСЯ 15-16 ЛЕТ СРЕДСТВАМИ СПЕЦИАЛЬНЫХ УПРАЖНЕНИЙ В СПОРТИВНОМ СКАЛОЛАЗАНИ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7" name="Номер слайда 1"/>
          <p:cNvSpPr/>
          <p:nvPr/>
        </p:nvSpPr>
        <p:spPr>
          <a:xfrm>
            <a:off x="8604360" y="6356520"/>
            <a:ext cx="468360" cy="365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E86F5-3203-4753-9046-F33C8F0E24BC}" type="slidenum"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4"/>
          <p:cNvSpPr/>
          <p:nvPr/>
        </p:nvSpPr>
        <p:spPr>
          <a:xfrm>
            <a:off x="324000" y="2133720"/>
            <a:ext cx="813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ЕНЫ ВОПРОС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 Методика развития скоростных способностей в скалолазани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 Методика обучения спортивному скалолазани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 Практические аспекты выявление уровня развития скоростных способност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3"/>
          <p:cNvSpPr/>
          <p:nvPr/>
        </p:nvSpPr>
        <p:spPr>
          <a:xfrm rot="5400000">
            <a:off x="5409000" y="3194640"/>
            <a:ext cx="6858000" cy="4683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1"/>
          <p:cNvSpPr/>
          <p:nvPr/>
        </p:nvSpPr>
        <p:spPr>
          <a:xfrm>
            <a:off x="8604360" y="6356520"/>
            <a:ext cx="468360" cy="365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ACEC0-25B6-498B-96D5-5BD0A85E6714}" type="slidenum"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" name="Прямоугольник 5"/>
          <p:cNvGrpSpPr/>
          <p:nvPr/>
        </p:nvGrpSpPr>
        <p:grpSpPr>
          <a:xfrm>
            <a:off x="115920" y="85680"/>
            <a:ext cx="8332920" cy="1335240"/>
            <a:chOff x="115920" y="85680"/>
            <a:chExt cx="8332920" cy="1335240"/>
          </a:xfrm>
        </p:grpSpPr>
        <p:pic>
          <p:nvPicPr>
            <p:cNvPr id="112" name="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115920" y="85680"/>
              <a:ext cx="833292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179280" y="115920"/>
              <a:ext cx="8209080" cy="11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едставление важнейших материалов, раскрывающих содержание 2 главы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4" name="Прямоугольник 6"/>
          <p:cNvSpPr/>
          <p:nvPr/>
        </p:nvSpPr>
        <p:spPr>
          <a:xfrm>
            <a:off x="271440" y="1341360"/>
            <a:ext cx="8136000" cy="29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В качестве учебно-тренировочных нагрузок, нацеленных на становление скоростно-силовых способностей у школьников 15-16 лет, послужили беговые и прыжковые упражнения, совмещенные в одной серии и выполняемые попеременно с высокой интенсивностью, при невысокой координационной сложности упражн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Во избежание проявлений физической усталости и возникновения утомляемости при перетренировке, специалисты рекомендуют деление беговой трассы до 15 метров и отработку всех скоростных упражнений интервалами длительностью 4-5 минут с обязательным контролем ЧС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6T16:20:24Z</dcterms:created>
  <dc:creator>валерия яковлева</dc:creator>
  <dc:description/>
  <dc:language>en-US</dc:language>
  <cp:lastModifiedBy>Вовин</cp:lastModifiedBy>
  <dcterms:modified xsi:type="dcterms:W3CDTF">2021-12-27T20:39:20Z</dcterms:modified>
  <cp:revision>56</cp:revision>
  <dc:subject/>
  <dc:title>МИНИСТЕРСТВО ОБРАЗОВАНИЯ И НАУКИ РОССИЙСКОЙ ФЕДЕРАЦИИ Федеральное государственное автономное образовательное учреждение высшего образования «Санкт-Петербургский политехнический университет  Петра Великого» (ФГАОУ ВО «СПбПУ») Университетский политехнический колледж</dc:title>
</cp:coreProperties>
</file>