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5A1-CB36-4AE7-A4E0-01E26119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2ED-742F-410F-9329-5EE1665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AAC91-BB12-4444-B9D1-4BA6012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55FE-144F-4FAC-9D26-9D6AE72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0ED46-3B4D-4E1E-80BA-CBA4C40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129B-9B68-400C-A192-BE89D2B5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31A7-24C5-464D-84DA-8139EB7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A119D-F88B-42DE-AE48-218D6CC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CA8B8-BFC4-458B-8ECD-E5FF3B26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A8F8-C77B-4C83-92D8-7A546AD8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FA80-8C45-46F5-B41B-05199702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908C9-D158-4310-805D-9CFFD507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6D8-16E9-4767-86C9-B8E54096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EEE72-5680-4EA5-9D43-FB1FDF32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CBFF9-5619-44D3-84B2-DC729882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66EAB-4CF4-4C34-B5F7-26A7C4E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5095D-63E6-4A71-84E5-4876B20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24C60-DAA5-4B33-8FAA-91B3AA19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627C5-0BAB-4C35-B853-EA14CBC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A5757-311C-4BA7-96D6-38A2D0A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1553-0A78-432A-837A-49777C2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37488-6582-43E7-BFEB-5F5D6B9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A90B-C7B0-440D-93DB-90A6E0A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9B2-C3E6-4D7D-9ADB-8F1DD932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B6065-DA27-4239-B445-4F410F17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D759F-F8A6-4B95-BDFC-6C28AD88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72C5-8FED-4BB5-9E50-D8156EC1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DBD7-868A-457F-B121-743BFA7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AA0D-F401-4283-9098-6C09634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25D7-93B6-43EE-BCE7-69888EA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42FB-3BAA-4D25-AC13-8034464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16CE-338A-47CC-83C1-CCD6290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D754-72E9-42F7-8E83-28063E1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B3901-F87B-4E0C-AA6F-64BB2FC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F531-B3A0-4591-B39B-67DC8CC8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FB352-4943-45A4-A428-2B9D2A8F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BD97F-1EAA-4208-9817-79B242B2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28208-3D1A-47BB-B077-D95F705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8ABE0-7B3B-44F2-A206-E46F3E47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35CFC-A6EC-4694-93CE-0A8531B7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FD944-0129-4261-8CB9-D3AF6258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BFFD0-4B7D-48A5-A921-C99B24D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83187-3430-4C20-A511-FBB3835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F374-B183-40B0-B09E-E7EBEF5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A7D96-F297-4A3F-BD16-312705F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9C7-9C6C-4E03-8CFC-A3DA45BD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7D751-4A91-4B2C-91F5-ECB7F85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30AA7-55AB-46E1-A163-12C4E94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6736-31CB-4701-990B-56049960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6FD57-D49F-4230-B200-C6F967EB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C74E1-398C-4A99-8B14-42C1935C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D6B-DB88-47EF-B093-7E2A45A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45F2-3D35-4D61-B38C-9B2A48A4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3B67-B11B-4F50-9A02-A340972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57F-042D-4232-9937-7CEE97F7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845-D317-4BC6-91D9-58EAE9E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472-9CFD-47D5-BC20-6B33523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4C3-8BA5-463C-BFCD-EB694F0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75A7-DF43-42B7-AF1C-B188D4C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199A-3D63-42BF-A08B-391D9C39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15E1-4C01-4D5F-81DB-E88CDF32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3DA3-2FEE-4128-AA67-C292AF66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515D-17F3-4CEB-9646-21620670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1A43-C7DC-4809-A578-24F36A29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DF91-A353-461B-819E-1535755D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2221-2F7B-48B7-AC16-A86D004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A5FB-9E02-4AA9-81AA-4254B473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5D9-F8D0-4333-958A-3C369787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2800-F2EF-4943-A898-0D9C9CD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D31C-9AEC-4799-AC8B-607C846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FCCE-F0A7-4E66-AB7A-B5E3E92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8AEB-8629-4BEA-8279-5409F3E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4EAE-EB37-4504-BC16-F1779B8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F152-53F7-4AA7-8515-C2230268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6D24-8C48-4A4D-9D60-1E6D5C2E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628A-2CDB-4B53-952A-2C9C5533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A683-9C36-40F6-9099-7EFA256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2408-6877-4419-9EE6-5B83715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0A0-1F43-4B47-A671-38D093C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B195-15B0-40B2-B29C-BE66B0B6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DD6C-30F1-4258-ACF1-FD30BAA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3CE6-0B85-482F-846D-CD860EF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D97C-D121-478C-87F2-C34EA82C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313E-C0C1-4CC8-9CBA-FEF4CD0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BD96-0B4D-4092-BB4F-4E8179BB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18FF-4619-490A-ACC2-342AD23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991B-BD27-480C-9BD0-EF338AB4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FE44-A5B0-4255-A906-88D36652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6345-28F6-4F25-9B90-D89EC0EF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D7F-4E04-4ACD-AF5E-AD3AFCE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DEF6-B108-44C0-99FA-51F236B9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C5B0-901D-4510-9A94-7EB873D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E636-A993-4C76-8CBA-40C3654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D770-10E0-4203-9C1A-43120672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AB2D-3D58-4569-82DC-C240210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1104-46C9-4072-9698-89CBF90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EE42-42CE-4115-87B1-C794104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5C7C-AB15-4673-B5F8-45E7C66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56293-7F37-4077-8348-85A95EEF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AB8E-C9D0-4C44-ABD0-9DDA7EE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135-86D5-40A0-B9C2-EE26101B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D21A-5CB6-43E0-B660-38C4442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F45A-2C08-4223-BE64-8CBD1BBE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4AAAA-931F-409F-AA34-8985D021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6CFB-C604-4D2F-B6B9-CDBFB42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287AE-F7DB-4C36-9DA4-9ED9AFE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3DFF-71B0-496B-9BE2-CCE58AC8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CC5B-1EC2-42B7-A5A8-AEFEA2A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B577-C65E-408E-B051-94AF533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E75B-1FF4-4981-AC24-17AE079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9D60-1E1B-412A-BCBD-ADCB930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609-AD1E-494E-B7F3-82ABCF9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883F-AD94-4B38-9591-F5EC616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0345-6108-47C1-8D71-7E56EFF7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5995-F0F8-485B-8678-0360B927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A741D-31BB-4905-8CFF-9EEEDA5D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7174-91BB-46C4-B80E-C8250FD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37DD-721C-48B8-9AC9-521A58CE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951B-21A3-496C-8A26-14AE238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E98D-9286-4022-9424-92FD02C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C20A-8225-4443-866C-C1F3C63F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F4BA-2424-4D23-86F5-4453034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33E-0B66-42DA-9AC4-ECCD0D1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CD27B-DBA7-4084-9B5C-4396A9A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A9E4-8E18-49FF-A6C0-A99D913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9AD6-D24A-4818-8906-F10E1BA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1883F-FE2B-4951-BC9A-BB18B50A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2E7C-8921-4092-88AA-039C5E1C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4D66-DD10-40F7-A35C-5F665B93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F9A5B-650F-494D-A07F-EFF1F1D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55C4-CEEA-4901-B474-B9AAB1B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FF7A-D0DB-4CE9-94C2-05C223D0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A064-B628-4293-B68C-2DCF4C5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B92-0814-4D22-B846-0A45CF5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C86C-6ACD-4791-99BA-CABC6D3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B6668-78CC-4401-A1C9-CA6C3EA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E705-E53C-44AE-AAA9-2EF5502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FE16-0A8B-4D63-B335-B78FFE0D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02FE-C543-492D-85BF-B7F8605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683C-CBA9-4484-8349-AEEEC7DD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09F5-02F3-4B2F-99A6-0195F5E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A12A-3565-4715-AB23-A60CAF1A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2FED-21E0-457D-83A1-42803DC1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4D1D5-CDC1-4F72-9078-6EFADF9A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3A5-13D3-4364-B44D-D2B7AC0028F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AD3-923E-468D-A22F-5361F288209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D12-BC52-441A-9373-DE729D70996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73B-30EF-4D29-B5AF-547154D2DAE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44F8-D54E-434A-B768-EF90625ED67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7690-269E-4F16-A409-593659BDF69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2604-5FB1-49C9-A1C1-37B233C97E6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E27-304D-492C-A5F7-174D41BC877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41F-08C0-4BD0-91C8-8E0FD993BA8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187-2302-438E-968D-44D3EDEACDE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2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6.jpeg"/><Relationship Id="rId3" Type="http://schemas.openxmlformats.org/officeDocument/2006/relationships/image" Target="../media/image23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17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857160"/>
            <a:ext cx="5592600" cy="16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нтерактивная игра для детей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таршей груп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 теме «Профе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5"/>
          <p:cNvSpPr/>
          <p:nvPr/>
        </p:nvSpPr>
        <p:spPr>
          <a:xfrm>
            <a:off x="395280" y="1628640"/>
            <a:ext cx="87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 РЕБЯТА, ВЫ СПРАВИЛИСЬ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НОВЫХ ВСТРЕЧ !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7" descr="d997264ba5d0c880e8c9aaeb1e33b8a0496ca37c"/>
          <p:cNvPicPr/>
          <p:nvPr/>
        </p:nvPicPr>
        <p:blipFill>
          <a:blip r:embed="rId1"/>
          <a:stretch/>
        </p:blipFill>
        <p:spPr>
          <a:xfrm>
            <a:off x="313200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ть знания детей о професс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спитывать уважение к труду и продуктам труда: повара, строителя, врача, парикмахера, швеи, продав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4" descr="0"/>
          <p:cNvPicPr/>
          <p:nvPr/>
        </p:nvPicPr>
        <p:blipFill>
          <a:blip r:embed="rId1"/>
          <a:stretch/>
        </p:blipFill>
        <p:spPr>
          <a:xfrm>
            <a:off x="2411280" y="2276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468360" y="62064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мои дорогие друзья! Как вы у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догадал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это я ваш дру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унтик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омоги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зн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кто же эти лю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какие предметы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жны для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Скругленный прямоугольник 1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2"/>
          <p:cNvSpPr/>
          <p:nvPr/>
        </p:nvSpPr>
        <p:spPr>
          <a:xfrm>
            <a:off x="714384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кругленный прямоугольник 3"/>
          <p:cNvSpPr/>
          <p:nvPr/>
        </p:nvSpPr>
        <p:spPr>
          <a:xfrm>
            <a:off x="7143840" y="17859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5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7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8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ый прямоугольник 9"/>
          <p:cNvSpPr/>
          <p:nvPr/>
        </p:nvSpPr>
        <p:spPr>
          <a:xfrm>
            <a:off x="1979640" y="2276640"/>
            <a:ext cx="5000760" cy="37144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2195640" y="62064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пов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_-_zvuki_aplodismentov (mp3cut.ru).mp3" descr=""/>
          <p:cNvPicPr/>
          <p:nvPr/>
        </p:nvPicPr>
        <p:blipFill>
          <a:blip r:embed="rId1"/>
          <a:stretch/>
        </p:blipFill>
        <p:spPr>
          <a:xfrm>
            <a:off x="0" y="-1440"/>
            <a:ext cx="2050920" cy="1617480"/>
          </a:xfrm>
          <a:prstGeom prst="rect">
            <a:avLst/>
          </a:prstGeom>
          <a:ln w="0">
            <a:noFill/>
          </a:ln>
        </p:spPr>
      </p:pic>
      <p:sp>
        <p:nvSpPr>
          <p:cNvPr id="559" name="Скругленный прямоугольник 1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2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кругленный прямоугольник 3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5"/>
          <p:cNvSpPr/>
          <p:nvPr/>
        </p:nvSpPr>
        <p:spPr>
          <a:xfrm>
            <a:off x="7143840" y="17859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6"/>
          <p:cNvSpPr/>
          <p:nvPr/>
        </p:nvSpPr>
        <p:spPr>
          <a:xfrm>
            <a:off x="-46080" y="2052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7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9"/>
          <p:cNvSpPr/>
          <p:nvPr/>
        </p:nvSpPr>
        <p:spPr>
          <a:xfrm>
            <a:off x="714384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10"/>
          <p:cNvSpPr/>
          <p:nvPr/>
        </p:nvSpPr>
        <p:spPr>
          <a:xfrm>
            <a:off x="2050920" y="1989000"/>
            <a:ext cx="4929480" cy="39290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1835280" y="54936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строи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Скругленный прямоугольник 1"/>
          <p:cNvSpPr/>
          <p:nvPr/>
        </p:nvSpPr>
        <p:spPr>
          <a:xfrm>
            <a:off x="0" y="21430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2"/>
          <p:cNvSpPr/>
          <p:nvPr/>
        </p:nvSpPr>
        <p:spPr>
          <a:xfrm>
            <a:off x="7143840" y="21430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3"/>
          <p:cNvSpPr/>
          <p:nvPr/>
        </p:nvSpPr>
        <p:spPr>
          <a:xfrm>
            <a:off x="0" y="371484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4"/>
          <p:cNvSpPr/>
          <p:nvPr/>
        </p:nvSpPr>
        <p:spPr>
          <a:xfrm>
            <a:off x="7143840" y="571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6"/>
          <p:cNvSpPr/>
          <p:nvPr/>
        </p:nvSpPr>
        <p:spPr>
          <a:xfrm>
            <a:off x="0" y="571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7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8"/>
          <p:cNvSpPr/>
          <p:nvPr/>
        </p:nvSpPr>
        <p:spPr>
          <a:xfrm>
            <a:off x="7143840" y="371484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кругленный прямоугольник 10"/>
          <p:cNvSpPr/>
          <p:nvPr/>
        </p:nvSpPr>
        <p:spPr>
          <a:xfrm>
            <a:off x="2124000" y="2205000"/>
            <a:ext cx="4929120" cy="3929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2124000" y="112536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нструменты необходи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арикмах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кругленный прямоугольник 2"/>
          <p:cNvSpPr/>
          <p:nvPr/>
        </p:nvSpPr>
        <p:spPr>
          <a:xfrm>
            <a:off x="714384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7"/>
          <p:cNvSpPr/>
          <p:nvPr/>
        </p:nvSpPr>
        <p:spPr>
          <a:xfrm>
            <a:off x="108000" y="52545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8"/>
          <p:cNvSpPr/>
          <p:nvPr/>
        </p:nvSpPr>
        <p:spPr>
          <a:xfrm>
            <a:off x="7143840" y="342900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692360" y="119700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вра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6" descr="mini_5"/>
          <p:cNvPicPr/>
          <p:nvPr/>
        </p:nvPicPr>
        <p:blipFill>
          <a:blip r:embed="rId9"/>
          <a:stretch/>
        </p:blipFill>
        <p:spPr>
          <a:xfrm>
            <a:off x="2411280" y="2565360"/>
            <a:ext cx="4106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2"/>
          <p:cNvSpPr/>
          <p:nvPr/>
        </p:nvSpPr>
        <p:spPr>
          <a:xfrm>
            <a:off x="714384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8"/>
          <p:cNvSpPr/>
          <p:nvPr/>
        </p:nvSpPr>
        <p:spPr>
          <a:xfrm>
            <a:off x="7143840" y="357192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1763640" y="7650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шв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4" descr="c732837684b43213f3305e1365d61a73"/>
          <p:cNvPicPr/>
          <p:nvPr/>
        </p:nvPicPr>
        <p:blipFill>
          <a:blip r:embed="rId9"/>
          <a:stretch/>
        </p:blipFill>
        <p:spPr>
          <a:xfrm>
            <a:off x="3276720" y="2276640"/>
            <a:ext cx="259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Скругленный прямоугольник 10"/>
          <p:cNvSpPr/>
          <p:nvPr/>
        </p:nvSpPr>
        <p:spPr>
          <a:xfrm>
            <a:off x="2124000" y="2492280"/>
            <a:ext cx="4714920" cy="3643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Скругленный прямоугольник 2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7"/>
          <p:cNvSpPr/>
          <p:nvPr/>
        </p:nvSpPr>
        <p:spPr>
          <a:xfrm>
            <a:off x="7143840" y="16430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8"/>
          <p:cNvSpPr/>
          <p:nvPr/>
        </p:nvSpPr>
        <p:spPr>
          <a:xfrm>
            <a:off x="7143840" y="335772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1763640" y="105264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продав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cerPC5</cp:lastModifiedBy>
  <dcterms:modified xsi:type="dcterms:W3CDTF">2017-02-21T09:31:32Z</dcterms:modified>
  <cp:revision>46</cp:revision>
  <dc:subject/>
  <dc:title>Слайд 1</dc:title>
</cp:coreProperties>
</file>