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53A-C802-4486-8468-4976616A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318-F7D2-406A-A8AB-906A367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3D650-2304-41BF-AAE5-7C0A164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EE401-3B4B-46D2-9949-EA7DB9AB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BB93-2400-43F3-89E1-6CF8BFB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C9EBF-F86E-4A75-9EE2-E312D91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C800-03E4-4CCF-B065-AD1DF1C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79885-679F-414E-BBC5-60A711E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F42E-F8A6-47D1-A077-7DA6DC6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2E5E5-1B99-4754-A59F-A75A0279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A4F5-270B-4ACF-818A-21D6D77A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5B5C4-56BE-4384-90E9-950EFA74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598-37C7-4F46-94A0-0F357D95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B7A21-3B0A-40FE-BD1D-F5DFECA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8B030-18B9-4C3A-AC6F-18C090D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93A4A-053C-4D1E-981B-3B8A077B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44C0A-58F9-4639-9E3F-3EE36074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B3AD7-9C2A-468A-A0A6-D33F3BE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2F78E-FB4F-4033-944E-D26376B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0A38F-3FEB-41AD-A44D-09B6910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FA287-2534-43D4-A0F2-90F5FE8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120E-7C33-4F20-BDFB-C2D29F9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26E1E-1C1A-43E8-B71F-E9DFB8B4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CF2-4D7D-4BB4-96B4-66152AB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AC98F-1F4A-4D58-B248-74FD4510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222A-7FB9-4A14-90BB-4CBD52F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7A744-ACB6-40D6-AEA2-E4A24476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7DE3A-75D8-447F-9FD4-59DD43A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C97FA-9669-44E4-ACF6-9111258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E7692-C11E-4BDC-8841-160ACDC9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5B68A-8DC1-4569-8688-34BE710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75D2F-7D52-4848-8147-D322B3C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FD5C7-C5F6-44A0-961A-9C74D49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006A-1EFF-468D-81B6-7D40721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C65-6722-4D15-B898-774BEAA4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0CD4F-9F68-42CD-9D09-9EE288E7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3909-0B1A-4288-B51F-BF0EA778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BC19-16EB-4F98-AF7E-4DBFA5FD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FCEDF-66E1-4984-91BF-ABC4A3DF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7FA9-51E7-4246-AB88-00C599D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E2960-8606-4DB7-A8F5-4088FA1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0094-A176-4D29-A57F-748A869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134F1-7EAD-4E1D-8AC8-F43B4F7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5D086-50AD-4431-BFD0-D9C4D04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A1F50-35B6-417B-8FE6-5FB673B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8B1-CFDD-488F-B4FE-5814DA45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4D35E-ECED-4C41-995F-9E738E0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9C2C4-08E7-472F-9DC5-8242364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65394-179B-4035-9898-9B8E3509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1EA41-C838-46FC-A176-D1CE9B34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6698-5C8E-433F-B4BE-44270C35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154-1301-4552-B721-1B4006CD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2C7-0AFD-4D11-B210-AF22DD9C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736-D5B9-4BDD-821F-DC431D3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A64-7A9B-42E5-87CF-718C17B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5B1-90ED-4A82-A5F5-08353C5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5E4-CBF1-44EB-BC48-37CE6481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5AE-C2A7-4E39-A653-15210B0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2CE-5B71-4F43-9CDF-34633CC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B14B-E9E0-4BEE-9AE3-1AEA57FB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C16-F907-4966-B402-9B9635B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403-0F15-43E5-A9F5-E87AB7C9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E528-DD25-457B-BE1C-ABDD95B8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7449-F2DC-4149-9D02-E41D1C2F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031F-6F24-4D1A-89EF-4C67C2D8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A127-FD1E-4129-9926-16480579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3FC6-56CA-417F-91A9-D0F0BE7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080-EAF3-4B76-9CF0-BBDC1054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CB76-E99A-462A-B844-A041738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6FDE-9979-4CC9-A5B7-046D55A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55E1-7EA1-4C0A-A07B-3A3B69A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DD89-75B5-4821-A225-A004F0AE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3DE4-C5EF-4D6C-BF07-9C5AB26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90D2-D10D-4DF0-94BD-A0526AF2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BF8D-A888-4DFB-BB0F-FFC82904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BDE5-701A-4D36-BEBB-81913C9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F75E-2255-44E2-93EE-7C6C839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7D19-BEB0-4CF9-BACB-78199E1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215-0EC2-41BB-8F2E-9517570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BA72-718F-448E-A289-52C032A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8296-B63A-4DD3-9A37-25A713D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9AAF-7B1D-4AA5-B3E0-5F05DA8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CC6B2-A1B6-4E81-A3E2-7BB8065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ADEA-DF52-496B-B0EE-3867F41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4C27-4C40-4DDF-BD6F-2425D12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FC14-F8FB-4374-88C9-59D47E42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0A7C-3A8B-44AA-A0C0-67B489EE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D94E-77EF-453B-947B-C1FC611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26B8-885A-486E-9F39-04E8F99D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025-F87E-48FF-8388-123CC4F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3050-6A30-4202-BD1F-BF661BB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9273-C3C1-4388-BFD8-B8DF141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2E99-6F09-4D95-B38C-CD26442F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567E8-1D9A-4EE5-A654-7803EF6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B57A-8415-4BC5-913D-4EB3A3B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A941-C422-4F14-BFF5-E4C686B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2308-97A1-4B2D-9745-357F1D8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30BB-E47B-46B1-A7AD-088B599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D8BDA-7252-47AC-9A8D-1193F6D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8987-106F-4D6C-997A-968ABC3D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BAE-C8C1-4470-8D84-26A2B1D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4920-51C6-4D1E-8C1F-1FA70998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9D34-FF8E-40DA-9A6E-E038C455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DC12-3D33-4590-8A98-390CB56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C14F-6C0A-4189-9B80-37FB1158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C74C-11B3-4CF4-A2C7-2C6763D7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F37B-07D4-4546-9861-1F98F585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01AF-3B61-4A6A-838F-ACDA43F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1031-45AE-4109-AE8F-719F4EDF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0B57-F521-4F19-92D5-D514E05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11E9-4FA7-49CB-9AA0-61DDF77A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DEB-325A-4109-BFC2-5D06A58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F420-D700-4088-9BBF-D23AC99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7F416-D090-4805-B871-05C938DD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38D5-A8D7-464C-B98E-BDC6A5D4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6818-939E-42D4-A747-5106552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BD8A-52EA-422C-A7A0-56AC66B1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115A2-9525-4F67-83AB-B3AFAC02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BCED-795C-4893-88E7-3C67656B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2129-3822-400C-9F80-D45549D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AACB-219A-4EE4-A38B-FA633C8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D166-B2D4-43C1-83C4-8CAEC07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838-FD28-48CB-AF23-4DAB90B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AF4D-69B5-4D4D-A3C4-A4AAFAC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4509-7A98-4886-937B-D831386A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0FC8-5727-4832-8909-20B325D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C7FE-A74B-4D5E-8967-D4E286F7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8DE9-5B9D-4254-BD30-E943F209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1F2EF-DEFD-48F3-9003-9E6F248B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A6CB-AB4F-4F81-8C43-95F72FD4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FA8D-6BD1-4707-8C0D-86C6F01A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CDC3-4993-4FB4-87D5-11A5BB53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99A5-E39D-4D9E-AB36-448D453B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1BA-9CB8-44A8-9B2D-9DB9371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B985-998A-4761-A613-1AE94210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11522-6B44-40B9-8887-FDBD8DC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2796-3D00-41CC-AC37-56E73A8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CBC1-E470-4ACD-BB4D-B35738D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B7A42-CCC6-4EB3-92A6-518D4E0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4A58-C0DB-45D8-B1F7-899B8C5E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CB8A8-4A1F-4BBF-8AA1-5BA8FBDE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21801-E54C-455A-A998-39734F84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F152-2D43-4AD8-AAA6-44D6CC4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91F3-8EC8-475A-B8D4-7AB6F0D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420-ED71-455B-864B-6828C6D681E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4730-9B81-47E5-AFC7-70105664047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1B4-4BF2-474F-8ECD-6151A8E6207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FE66-70EB-46E2-8AD9-E3C9BCF77D9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58AA-F557-4350-B4DC-D74926BF841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EC6E-6CE1-4FA7-848A-B3FAB531C59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9D27-5ED4-46C4-AA49-38F40F28C3B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5268-68CA-4DAF-ADA6-200E50F9612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4BA9-7A2F-426C-A100-5BB0334C27F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65F-4975-40BF-9017-2DCF0071DCD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2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6.jpeg"/><Relationship Id="rId3" Type="http://schemas.openxmlformats.org/officeDocument/2006/relationships/image" Target="../media/image23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17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857160"/>
            <a:ext cx="5592600" cy="16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нтерактивная игра для детей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таршей груп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 теме «Профе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Box 5"/>
          <p:cNvSpPr/>
          <p:nvPr/>
        </p:nvSpPr>
        <p:spPr>
          <a:xfrm>
            <a:off x="395280" y="1628640"/>
            <a:ext cx="87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 РЕБЯТА, ВЫ СПРАВИЛИСЬ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 НОВЫХ ВСТРЕЧ !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7" descr="d997264ba5d0c880e8c9aaeb1e33b8a0496ca37c"/>
          <p:cNvPicPr/>
          <p:nvPr/>
        </p:nvPicPr>
        <p:blipFill>
          <a:blip r:embed="rId1"/>
          <a:stretch/>
        </p:blipFill>
        <p:spPr>
          <a:xfrm>
            <a:off x="313200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ть знания детей о професс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спитывать уважение к труду и продуктам труда: повара, строителя, врача, парикмахера, швеи, продав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4" descr="0"/>
          <p:cNvPicPr/>
          <p:nvPr/>
        </p:nvPicPr>
        <p:blipFill>
          <a:blip r:embed="rId1"/>
          <a:stretch/>
        </p:blipFill>
        <p:spPr>
          <a:xfrm>
            <a:off x="2411280" y="2276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"/>
          <p:cNvSpPr/>
          <p:nvPr/>
        </p:nvSpPr>
        <p:spPr>
          <a:xfrm>
            <a:off x="468360" y="62064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мои дорогие друзья! Как вы у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догадал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это я ваш дру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унтик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омоги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зн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кто же эти лю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какие предметы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жны для раб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Скругленный прямоугольник 1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2"/>
          <p:cNvSpPr/>
          <p:nvPr/>
        </p:nvSpPr>
        <p:spPr>
          <a:xfrm>
            <a:off x="714384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кругленный прямоугольник 3"/>
          <p:cNvSpPr/>
          <p:nvPr/>
        </p:nvSpPr>
        <p:spPr>
          <a:xfrm>
            <a:off x="7143840" y="17859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5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7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8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ый прямоугольник 9"/>
          <p:cNvSpPr/>
          <p:nvPr/>
        </p:nvSpPr>
        <p:spPr>
          <a:xfrm>
            <a:off x="1979640" y="2276640"/>
            <a:ext cx="5000760" cy="37144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2195640" y="62064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пов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_-_zvuki_aplodismentov (mp3cut.ru).mp3" descr=""/>
          <p:cNvPicPr/>
          <p:nvPr/>
        </p:nvPicPr>
        <p:blipFill>
          <a:blip r:embed="rId1"/>
          <a:stretch/>
        </p:blipFill>
        <p:spPr>
          <a:xfrm>
            <a:off x="0" y="-1440"/>
            <a:ext cx="2050920" cy="1617480"/>
          </a:xfrm>
          <a:prstGeom prst="rect">
            <a:avLst/>
          </a:prstGeom>
          <a:ln w="0">
            <a:noFill/>
          </a:ln>
        </p:spPr>
      </p:pic>
      <p:sp>
        <p:nvSpPr>
          <p:cNvPr id="559" name="Скругленный прямоугольник 1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2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кругленный прямоугольник 3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5"/>
          <p:cNvSpPr/>
          <p:nvPr/>
        </p:nvSpPr>
        <p:spPr>
          <a:xfrm>
            <a:off x="7143840" y="17859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6"/>
          <p:cNvSpPr/>
          <p:nvPr/>
        </p:nvSpPr>
        <p:spPr>
          <a:xfrm>
            <a:off x="-46080" y="2052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7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9"/>
          <p:cNvSpPr/>
          <p:nvPr/>
        </p:nvSpPr>
        <p:spPr>
          <a:xfrm>
            <a:off x="714384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10"/>
          <p:cNvSpPr/>
          <p:nvPr/>
        </p:nvSpPr>
        <p:spPr>
          <a:xfrm>
            <a:off x="2050920" y="1989000"/>
            <a:ext cx="4929480" cy="39290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1835280" y="54936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строи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Скругленный прямоугольник 1"/>
          <p:cNvSpPr/>
          <p:nvPr/>
        </p:nvSpPr>
        <p:spPr>
          <a:xfrm>
            <a:off x="0" y="21430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2"/>
          <p:cNvSpPr/>
          <p:nvPr/>
        </p:nvSpPr>
        <p:spPr>
          <a:xfrm>
            <a:off x="7143840" y="21430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3"/>
          <p:cNvSpPr/>
          <p:nvPr/>
        </p:nvSpPr>
        <p:spPr>
          <a:xfrm>
            <a:off x="0" y="371484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4"/>
          <p:cNvSpPr/>
          <p:nvPr/>
        </p:nvSpPr>
        <p:spPr>
          <a:xfrm>
            <a:off x="7143840" y="571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6"/>
          <p:cNvSpPr/>
          <p:nvPr/>
        </p:nvSpPr>
        <p:spPr>
          <a:xfrm>
            <a:off x="0" y="571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7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8"/>
          <p:cNvSpPr/>
          <p:nvPr/>
        </p:nvSpPr>
        <p:spPr>
          <a:xfrm>
            <a:off x="7143840" y="371484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кругленный прямоугольник 10"/>
          <p:cNvSpPr/>
          <p:nvPr/>
        </p:nvSpPr>
        <p:spPr>
          <a:xfrm>
            <a:off x="2124000" y="2205000"/>
            <a:ext cx="4929120" cy="3929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2124000" y="112536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нструменты необходи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арикмах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кругленный прямоугольник 2"/>
          <p:cNvSpPr/>
          <p:nvPr/>
        </p:nvSpPr>
        <p:spPr>
          <a:xfrm>
            <a:off x="714384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7"/>
          <p:cNvSpPr/>
          <p:nvPr/>
        </p:nvSpPr>
        <p:spPr>
          <a:xfrm>
            <a:off x="108000" y="525456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8"/>
          <p:cNvSpPr/>
          <p:nvPr/>
        </p:nvSpPr>
        <p:spPr>
          <a:xfrm>
            <a:off x="7143840" y="342900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692360" y="119700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вра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6" descr="mini_5"/>
          <p:cNvPicPr/>
          <p:nvPr/>
        </p:nvPicPr>
        <p:blipFill>
          <a:blip r:embed="rId9"/>
          <a:stretch/>
        </p:blipFill>
        <p:spPr>
          <a:xfrm>
            <a:off x="2411280" y="2565360"/>
            <a:ext cx="4106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2"/>
          <p:cNvSpPr/>
          <p:nvPr/>
        </p:nvSpPr>
        <p:spPr>
          <a:xfrm>
            <a:off x="714384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8"/>
          <p:cNvSpPr/>
          <p:nvPr/>
        </p:nvSpPr>
        <p:spPr>
          <a:xfrm>
            <a:off x="7143840" y="357192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1763640" y="7650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шв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4" descr="c732837684b43213f3305e1365d61a73"/>
          <p:cNvPicPr/>
          <p:nvPr/>
        </p:nvPicPr>
        <p:blipFill>
          <a:blip r:embed="rId9"/>
          <a:stretch/>
        </p:blipFill>
        <p:spPr>
          <a:xfrm>
            <a:off x="3276720" y="2276640"/>
            <a:ext cx="259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Скругленный прямоугольник 10"/>
          <p:cNvSpPr/>
          <p:nvPr/>
        </p:nvSpPr>
        <p:spPr>
          <a:xfrm>
            <a:off x="2124000" y="2492280"/>
            <a:ext cx="4714920" cy="3643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кругленный прямоугольник 1"/>
          <p:cNvSpPr/>
          <p:nvPr/>
        </p:nvSpPr>
        <p:spPr>
          <a:xfrm>
            <a:off x="0" y="171468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Скругленный прямоугольник 2"/>
          <p:cNvSpPr/>
          <p:nvPr/>
        </p:nvSpPr>
        <p:spPr>
          <a:xfrm>
            <a:off x="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Скругленный прямоугольник 3"/>
          <p:cNvSpPr/>
          <p:nvPr/>
        </p:nvSpPr>
        <p:spPr>
          <a:xfrm>
            <a:off x="0" y="350028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Скругленный прямоугольник 4"/>
          <p:cNvSpPr/>
          <p:nvPr/>
        </p:nvSpPr>
        <p:spPr>
          <a:xfrm>
            <a:off x="714384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кругленный прямоугольник 6"/>
          <p:cNvSpPr/>
          <p:nvPr/>
        </p:nvSpPr>
        <p:spPr>
          <a:xfrm>
            <a:off x="0" y="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7"/>
          <p:cNvSpPr/>
          <p:nvPr/>
        </p:nvSpPr>
        <p:spPr>
          <a:xfrm>
            <a:off x="7143840" y="16430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8"/>
          <p:cNvSpPr/>
          <p:nvPr/>
        </p:nvSpPr>
        <p:spPr>
          <a:xfrm>
            <a:off x="7143840" y="3357720"/>
            <a:ext cx="2000160" cy="157140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9"/>
          <p:cNvSpPr/>
          <p:nvPr/>
        </p:nvSpPr>
        <p:spPr>
          <a:xfrm>
            <a:off x="7143840" y="5286240"/>
            <a:ext cx="2000160" cy="157176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1763640" y="105264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меты необходимы для работы продав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cerPC5</cp:lastModifiedBy>
  <dcterms:modified xsi:type="dcterms:W3CDTF">2017-02-21T09:31:32Z</dcterms:modified>
  <cp:revision>46</cp:revision>
  <dc:subject/>
  <dc:title>Слайд 1</dc:title>
</cp:coreProperties>
</file>