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0.png" ContentType="image/png"/>
  <Override PartName="/ppt/media/image5.wmf" ContentType="image/x-wmf"/>
  <Override PartName="/ppt/media/image4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910763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9108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5618160" y="-36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0754F8-5077-4DF1-A069-B9F8646A5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3259080" y="507600"/>
            <a:ext cx="3392640" cy="254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1320840" y="3220920"/>
            <a:ext cx="7270560" cy="3052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644328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5618160" y="644328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0077E0-907A-4792-A12F-8190B050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618160" y="6443640"/>
            <a:ext cx="4294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B7F694-AE4D-4018-9C33-80014C5C5661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259080" y="507960"/>
            <a:ext cx="3392640" cy="2544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320840" y="3220920"/>
            <a:ext cx="727056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2DB-9F35-4B44-8AD0-86BDC17A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217-CAC4-4CFD-85BC-1F113A22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0D1-07C6-4850-B978-A8F1E81D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764-2040-4B83-9604-FA389EDA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B55-F689-4100-A9B6-8FCC2C0D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21B7-596E-4A5C-8453-50F7C44B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05FB-3B9A-4FA2-ABAE-1B99DB26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07BE-6923-4D43-A285-21E1E97E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C63D-7243-4E33-8D8E-794AC649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F5D1-D803-4775-A8DA-533E6986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D11C-FFAE-4666-8508-43851A23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787-24D9-4B56-A9CC-C52958D4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5FCE-D77F-411B-8D82-FAEEA80E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A30C-0954-4742-8860-AD5AE9A5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796E-30C6-4AD5-9572-DDA269D1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E54-A231-4D70-9F2F-73405556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B1CF-C96A-4694-BAC9-0013F95C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8A8-534F-4948-BB73-1AA1286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C38-8A01-458A-8CD9-D94AF903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593-344B-404E-B00A-0C1CBCE7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342-693F-4B0A-8F31-85C90CA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5CD-E6AE-4F4A-8F9B-BD3E24B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C33-2280-4F57-9401-55FFA34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D56-35DF-44C4-9B82-7678054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НОЕ ФИНАНСОВОЕ УПР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2007-5F33-4CCB-B5B8-212CBCAF3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СВОДНОЕ ФИНАНСОВОЕ УПР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590C-DE8E-45F4-8B76-F425AD0F1AD9}" type="slidenum">
              <a:rPr b="0" lang="ru-RU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681120" y="611280"/>
          <a:ext cx="7746840" cy="49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1280"/>
                    <a:ext cx="774684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5"/>
          <p:cNvSpPr/>
          <p:nvPr/>
        </p:nvSpPr>
        <p:spPr>
          <a:xfrm>
            <a:off x="3048120" y="50292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11" descr="NA00864_"/>
          <p:cNvPicPr/>
          <p:nvPr/>
        </p:nvPicPr>
        <p:blipFill>
          <a:blip r:embed="rId3"/>
          <a:stretch/>
        </p:blipFill>
        <p:spPr>
          <a:xfrm>
            <a:off x="7315200" y="472428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1060"/>
          <p:cNvGrpSpPr/>
          <p:nvPr/>
        </p:nvGrpSpPr>
        <p:grpSpPr>
          <a:xfrm>
            <a:off x="152280" y="1371600"/>
            <a:ext cx="2590920" cy="4876920"/>
            <a:chOff x="152280" y="1371600"/>
            <a:chExt cx="2590920" cy="4876920"/>
          </a:xfrm>
        </p:grpSpPr>
        <p:sp>
          <p:nvSpPr>
            <p:cNvPr id="293" name="AutoShape 1043"/>
            <p:cNvSpPr/>
            <p:nvPr/>
          </p:nvSpPr>
          <p:spPr>
            <a:xfrm>
              <a:off x="152280" y="1752480"/>
              <a:ext cx="2590920" cy="1905120"/>
            </a:xfrm>
            <a:custGeom>
              <a:avLst/>
              <a:gdLst>
                <a:gd name="textAreaLeft" fmla="*/ 497520 w 2590920"/>
                <a:gd name="textAreaRight" fmla="*/ 2093400 w 2590920"/>
                <a:gd name="textAreaTop" fmla="*/ 365760 h 1905120"/>
                <a:gd name="textAreaBottom" fmla="*/ 153936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431" y="11620"/>
                  </a:lnTo>
                  <a:lnTo>
                    <a:pt x="198" y="12861"/>
                  </a:lnTo>
                  <a:lnTo>
                    <a:pt x="1759" y="13392"/>
                  </a:lnTo>
                  <a:lnTo>
                    <a:pt x="786" y="14846"/>
                  </a:lnTo>
                  <a:lnTo>
                    <a:pt x="2496" y="15215"/>
                  </a:lnTo>
                  <a:lnTo>
                    <a:pt x="1742" y="16682"/>
                  </a:lnTo>
                  <a:lnTo>
                    <a:pt x="3491" y="16719"/>
                  </a:lnTo>
                  <a:lnTo>
                    <a:pt x="3163" y="18437"/>
                  </a:lnTo>
                  <a:lnTo>
                    <a:pt x="4755" y="18005"/>
                  </a:lnTo>
                  <a:lnTo>
                    <a:pt x="4761" y="19754"/>
                  </a:lnTo>
                  <a:lnTo>
                    <a:pt x="6240" y="19026"/>
                  </a:lnTo>
                  <a:lnTo>
                    <a:pt x="6580" y="20741"/>
                  </a:lnTo>
                  <a:lnTo>
                    <a:pt x="8050" y="19794"/>
                  </a:lnTo>
                  <a:lnTo>
                    <a:pt x="8555" y="21364"/>
                  </a:lnTo>
                  <a:lnTo>
                    <a:pt x="9817" y="20153"/>
                  </a:lnTo>
                  <a:lnTo>
                    <a:pt x="10800" y="21600"/>
                  </a:lnTo>
                  <a:lnTo>
                    <a:pt x="11620" y="20169"/>
                  </a:lnTo>
                  <a:lnTo>
                    <a:pt x="12861" y="21402"/>
                  </a:lnTo>
                  <a:lnTo>
                    <a:pt x="13392" y="19841"/>
                  </a:lnTo>
                  <a:lnTo>
                    <a:pt x="14846" y="20814"/>
                  </a:lnTo>
                  <a:lnTo>
                    <a:pt x="15215" y="19104"/>
                  </a:lnTo>
                  <a:lnTo>
                    <a:pt x="16682" y="19858"/>
                  </a:lnTo>
                  <a:lnTo>
                    <a:pt x="16719" y="18109"/>
                  </a:lnTo>
                  <a:lnTo>
                    <a:pt x="18437" y="18437"/>
                  </a:lnTo>
                  <a:lnTo>
                    <a:pt x="18005" y="16845"/>
                  </a:lnTo>
                  <a:lnTo>
                    <a:pt x="19754" y="16839"/>
                  </a:lnTo>
                  <a:lnTo>
                    <a:pt x="19026" y="15360"/>
                  </a:lnTo>
                  <a:lnTo>
                    <a:pt x="20741" y="15020"/>
                  </a:lnTo>
                  <a:lnTo>
                    <a:pt x="19794" y="13550"/>
                  </a:lnTo>
                  <a:lnTo>
                    <a:pt x="21364" y="13045"/>
                  </a:lnTo>
                  <a:lnTo>
                    <a:pt x="20153" y="11783"/>
                  </a:lnTo>
                  <a:lnTo>
                    <a:pt x="21600" y="10800"/>
                  </a:lnTo>
                  <a:lnTo>
                    <a:pt x="20169" y="9980"/>
                  </a:lnTo>
                  <a:lnTo>
                    <a:pt x="21402" y="8739"/>
                  </a:lnTo>
                  <a:lnTo>
                    <a:pt x="19841" y="8208"/>
                  </a:lnTo>
                  <a:lnTo>
                    <a:pt x="20814" y="6754"/>
                  </a:lnTo>
                  <a:lnTo>
                    <a:pt x="19104" y="6385"/>
                  </a:lnTo>
                  <a:lnTo>
                    <a:pt x="19858" y="4918"/>
                  </a:lnTo>
                  <a:lnTo>
                    <a:pt x="18109" y="4881"/>
                  </a:lnTo>
                  <a:lnTo>
                    <a:pt x="18437" y="3163"/>
                  </a:lnTo>
                  <a:lnTo>
                    <a:pt x="16845" y="3595"/>
                  </a:lnTo>
                  <a:lnTo>
                    <a:pt x="16839" y="1846"/>
                  </a:lnTo>
                  <a:lnTo>
                    <a:pt x="15360" y="2574"/>
                  </a:lnTo>
                  <a:lnTo>
                    <a:pt x="15020" y="859"/>
                  </a:lnTo>
                  <a:lnTo>
                    <a:pt x="13550" y="1806"/>
                  </a:lnTo>
                  <a:lnTo>
                    <a:pt x="13045" y="236"/>
                  </a:lnTo>
                  <a:lnTo>
                    <a:pt x="11783" y="1447"/>
                  </a:lnTo>
                  <a:lnTo>
                    <a:pt x="10800" y="0"/>
                  </a:lnTo>
                  <a:lnTo>
                    <a:pt x="9980" y="1431"/>
                  </a:lnTo>
                  <a:lnTo>
                    <a:pt x="8739" y="198"/>
                  </a:lnTo>
                  <a:lnTo>
                    <a:pt x="8208" y="1759"/>
                  </a:lnTo>
                  <a:lnTo>
                    <a:pt x="6754" y="786"/>
                  </a:lnTo>
                  <a:lnTo>
                    <a:pt x="6385" y="2496"/>
                  </a:lnTo>
                  <a:lnTo>
                    <a:pt x="4918" y="1742"/>
                  </a:lnTo>
                  <a:lnTo>
                    <a:pt x="4881" y="3491"/>
                  </a:lnTo>
                  <a:lnTo>
                    <a:pt x="3163" y="3163"/>
                  </a:lnTo>
                  <a:lnTo>
                    <a:pt x="3595" y="4755"/>
                  </a:lnTo>
                  <a:lnTo>
                    <a:pt x="1846" y="4761"/>
                  </a:lnTo>
                  <a:lnTo>
                    <a:pt x="2574" y="6240"/>
                  </a:lnTo>
                  <a:lnTo>
                    <a:pt x="859" y="6580"/>
                  </a:lnTo>
                  <a:lnTo>
                    <a:pt x="1806" y="8050"/>
                  </a:lnTo>
                  <a:lnTo>
                    <a:pt x="236" y="8555"/>
                  </a:lnTo>
                  <a:lnTo>
                    <a:pt x="1447" y="981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57539"/>
                </a:gs>
                <a:gs pos="50000">
                  <a:srgbClr val="72fc7c"/>
                </a:gs>
                <a:gs pos="100000">
                  <a:srgbClr val="35753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ОЧЕРЕДНОЕ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 каждому узлу стебля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рикреплен один лист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1052"/>
            <p:cNvSpPr/>
            <p:nvPr/>
          </p:nvSpPr>
          <p:spPr>
            <a:xfrm>
              <a:off x="1371600" y="137160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95" name="Object 1057"/>
            <p:cNvGraphicFramePr/>
            <p:nvPr/>
          </p:nvGraphicFramePr>
          <p:xfrm>
            <a:off x="762120" y="4038480"/>
            <a:ext cx="1447560" cy="221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Object 105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4038480"/>
                      <a:ext cx="144756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7" name="Group 1061"/>
          <p:cNvGrpSpPr/>
          <p:nvPr/>
        </p:nvGrpSpPr>
        <p:grpSpPr>
          <a:xfrm>
            <a:off x="3048120" y="1219320"/>
            <a:ext cx="2590560" cy="5029200"/>
            <a:chOff x="3048120" y="1219320"/>
            <a:chExt cx="2590560" cy="5029200"/>
          </a:xfrm>
        </p:grpSpPr>
        <p:sp>
          <p:nvSpPr>
            <p:cNvPr id="298" name="AutoShape 1044"/>
            <p:cNvSpPr/>
            <p:nvPr/>
          </p:nvSpPr>
          <p:spPr>
            <a:xfrm>
              <a:off x="3048120" y="1752480"/>
              <a:ext cx="2590560" cy="1981440"/>
            </a:xfrm>
            <a:custGeom>
              <a:avLst/>
              <a:gdLst>
                <a:gd name="textAreaLeft" fmla="*/ 564120 w 2590560"/>
                <a:gd name="textAreaRight" fmla="*/ 2026440 w 2590560"/>
                <a:gd name="textAreaTop" fmla="*/ 431640 h 1981440"/>
                <a:gd name="textAreaBottom" fmla="*/ 15498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213" y="11551"/>
                  </a:lnTo>
                  <a:lnTo>
                    <a:pt x="198" y="12861"/>
                  </a:lnTo>
                  <a:lnTo>
                    <a:pt x="2514" y="13176"/>
                  </a:lnTo>
                  <a:lnTo>
                    <a:pt x="786" y="14846"/>
                  </a:lnTo>
                  <a:lnTo>
                    <a:pt x="3189" y="14847"/>
                  </a:lnTo>
                  <a:lnTo>
                    <a:pt x="1742" y="16682"/>
                  </a:lnTo>
                  <a:lnTo>
                    <a:pt x="4101" y="16225"/>
                  </a:lnTo>
                  <a:lnTo>
                    <a:pt x="3163" y="18437"/>
                  </a:lnTo>
                  <a:lnTo>
                    <a:pt x="5259" y="17403"/>
                  </a:lnTo>
                  <a:lnTo>
                    <a:pt x="4761" y="19754"/>
                  </a:lnTo>
                  <a:lnTo>
                    <a:pt x="6621" y="18339"/>
                  </a:lnTo>
                  <a:lnTo>
                    <a:pt x="6580" y="20741"/>
                  </a:lnTo>
                  <a:lnTo>
                    <a:pt x="8280" y="19043"/>
                  </a:lnTo>
                  <a:lnTo>
                    <a:pt x="8555" y="21364"/>
                  </a:lnTo>
                  <a:lnTo>
                    <a:pt x="9899" y="19373"/>
                  </a:lnTo>
                  <a:lnTo>
                    <a:pt x="10800" y="21600"/>
                  </a:lnTo>
                  <a:lnTo>
                    <a:pt x="11551" y="19387"/>
                  </a:lnTo>
                  <a:lnTo>
                    <a:pt x="12861" y="21402"/>
                  </a:lnTo>
                  <a:lnTo>
                    <a:pt x="13176" y="19086"/>
                  </a:lnTo>
                  <a:lnTo>
                    <a:pt x="14846" y="20814"/>
                  </a:lnTo>
                  <a:lnTo>
                    <a:pt x="14847" y="18411"/>
                  </a:lnTo>
                  <a:lnTo>
                    <a:pt x="16682" y="19858"/>
                  </a:lnTo>
                  <a:lnTo>
                    <a:pt x="16225" y="17499"/>
                  </a:lnTo>
                  <a:lnTo>
                    <a:pt x="18437" y="18437"/>
                  </a:lnTo>
                  <a:lnTo>
                    <a:pt x="17403" y="16341"/>
                  </a:lnTo>
                  <a:lnTo>
                    <a:pt x="19754" y="16839"/>
                  </a:lnTo>
                  <a:lnTo>
                    <a:pt x="18339" y="14979"/>
                  </a:lnTo>
                  <a:lnTo>
                    <a:pt x="20741" y="15020"/>
                  </a:lnTo>
                  <a:lnTo>
                    <a:pt x="19043" y="13320"/>
                  </a:lnTo>
                  <a:lnTo>
                    <a:pt x="21364" y="13045"/>
                  </a:lnTo>
                  <a:lnTo>
                    <a:pt x="19373" y="11701"/>
                  </a:lnTo>
                  <a:lnTo>
                    <a:pt x="21600" y="10800"/>
                  </a:lnTo>
                  <a:lnTo>
                    <a:pt x="19387" y="10049"/>
                  </a:lnTo>
                  <a:lnTo>
                    <a:pt x="21402" y="8739"/>
                  </a:lnTo>
                  <a:lnTo>
                    <a:pt x="19086" y="8424"/>
                  </a:lnTo>
                  <a:lnTo>
                    <a:pt x="20814" y="6754"/>
                  </a:lnTo>
                  <a:lnTo>
                    <a:pt x="18411" y="6753"/>
                  </a:lnTo>
                  <a:lnTo>
                    <a:pt x="19858" y="4918"/>
                  </a:lnTo>
                  <a:lnTo>
                    <a:pt x="17499" y="5375"/>
                  </a:lnTo>
                  <a:lnTo>
                    <a:pt x="18437" y="3163"/>
                  </a:lnTo>
                  <a:lnTo>
                    <a:pt x="16341" y="4197"/>
                  </a:lnTo>
                  <a:lnTo>
                    <a:pt x="16839" y="1846"/>
                  </a:lnTo>
                  <a:lnTo>
                    <a:pt x="14979" y="3261"/>
                  </a:lnTo>
                  <a:lnTo>
                    <a:pt x="15020" y="859"/>
                  </a:lnTo>
                  <a:lnTo>
                    <a:pt x="13320" y="2557"/>
                  </a:lnTo>
                  <a:lnTo>
                    <a:pt x="13045" y="236"/>
                  </a:lnTo>
                  <a:lnTo>
                    <a:pt x="11701" y="2227"/>
                  </a:lnTo>
                  <a:lnTo>
                    <a:pt x="10800" y="0"/>
                  </a:lnTo>
                  <a:lnTo>
                    <a:pt x="10049" y="2213"/>
                  </a:lnTo>
                  <a:lnTo>
                    <a:pt x="8739" y="198"/>
                  </a:lnTo>
                  <a:lnTo>
                    <a:pt x="8424" y="2514"/>
                  </a:lnTo>
                  <a:lnTo>
                    <a:pt x="6754" y="786"/>
                  </a:lnTo>
                  <a:lnTo>
                    <a:pt x="6753" y="3189"/>
                  </a:lnTo>
                  <a:lnTo>
                    <a:pt x="4918" y="1742"/>
                  </a:lnTo>
                  <a:lnTo>
                    <a:pt x="5375" y="4101"/>
                  </a:lnTo>
                  <a:lnTo>
                    <a:pt x="3163" y="3163"/>
                  </a:lnTo>
                  <a:lnTo>
                    <a:pt x="4197" y="5259"/>
                  </a:lnTo>
                  <a:lnTo>
                    <a:pt x="1846" y="4761"/>
                  </a:lnTo>
                  <a:lnTo>
                    <a:pt x="3261" y="6621"/>
                  </a:lnTo>
                  <a:lnTo>
                    <a:pt x="859" y="6580"/>
                  </a:lnTo>
                  <a:lnTo>
                    <a:pt x="2557" y="8280"/>
                  </a:lnTo>
                  <a:lnTo>
                    <a:pt x="236" y="8555"/>
                  </a:lnTo>
                  <a:lnTo>
                    <a:pt x="2227" y="989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57539"/>
                </a:gs>
                <a:gs pos="50000">
                  <a:srgbClr val="72fc7c"/>
                </a:gs>
                <a:gs pos="100000">
                  <a:srgbClr val="35753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СУПРОТИВНОЕ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 каждом узле находятся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о  два листа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апротив друг друга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AutoShape 1053"/>
            <p:cNvSpPr/>
            <p:nvPr/>
          </p:nvSpPr>
          <p:spPr>
            <a:xfrm>
              <a:off x="4191120" y="121932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300" name="Object 1058"/>
            <p:cNvGraphicFramePr/>
            <p:nvPr/>
          </p:nvGraphicFramePr>
          <p:xfrm>
            <a:off x="3565440" y="4038480"/>
            <a:ext cx="1692360" cy="22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105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5440" y="4038480"/>
                      <a:ext cx="169236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2" name="Group 1062"/>
          <p:cNvGrpSpPr/>
          <p:nvPr/>
        </p:nvGrpSpPr>
        <p:grpSpPr>
          <a:xfrm>
            <a:off x="5867280" y="1371600"/>
            <a:ext cx="2743200" cy="4800600"/>
            <a:chOff x="5867280" y="1371600"/>
            <a:chExt cx="2743200" cy="4800600"/>
          </a:xfrm>
        </p:grpSpPr>
        <p:sp>
          <p:nvSpPr>
            <p:cNvPr id="303" name="AutoShape 1045"/>
            <p:cNvSpPr/>
            <p:nvPr/>
          </p:nvSpPr>
          <p:spPr>
            <a:xfrm>
              <a:off x="5867280" y="1828800"/>
              <a:ext cx="2743200" cy="1905120"/>
            </a:xfrm>
            <a:custGeom>
              <a:avLst/>
              <a:gdLst>
                <a:gd name="textAreaLeft" fmla="*/ 537480 w 2743200"/>
                <a:gd name="textAreaRight" fmla="*/ 2205720 w 2743200"/>
                <a:gd name="textAreaTop" fmla="*/ 373320 h 1905120"/>
                <a:gd name="textAreaBottom" fmla="*/ 153180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548" y="11609"/>
                  </a:lnTo>
                  <a:lnTo>
                    <a:pt x="198" y="12861"/>
                  </a:lnTo>
                  <a:lnTo>
                    <a:pt x="1873" y="13360"/>
                  </a:lnTo>
                  <a:lnTo>
                    <a:pt x="786" y="14846"/>
                  </a:lnTo>
                  <a:lnTo>
                    <a:pt x="2600" y="15160"/>
                  </a:lnTo>
                  <a:lnTo>
                    <a:pt x="1742" y="16682"/>
                  </a:lnTo>
                  <a:lnTo>
                    <a:pt x="3583" y="16644"/>
                  </a:lnTo>
                  <a:lnTo>
                    <a:pt x="3163" y="18437"/>
                  </a:lnTo>
                  <a:lnTo>
                    <a:pt x="4830" y="17914"/>
                  </a:lnTo>
                  <a:lnTo>
                    <a:pt x="4761" y="19754"/>
                  </a:lnTo>
                  <a:lnTo>
                    <a:pt x="6298" y="18923"/>
                  </a:lnTo>
                  <a:lnTo>
                    <a:pt x="6580" y="20741"/>
                  </a:lnTo>
                  <a:lnTo>
                    <a:pt x="8085" y="19681"/>
                  </a:lnTo>
                  <a:lnTo>
                    <a:pt x="8555" y="21364"/>
                  </a:lnTo>
                  <a:lnTo>
                    <a:pt x="9829" y="20036"/>
                  </a:lnTo>
                  <a:lnTo>
                    <a:pt x="10800" y="21600"/>
                  </a:lnTo>
                  <a:lnTo>
                    <a:pt x="11609" y="20052"/>
                  </a:lnTo>
                  <a:lnTo>
                    <a:pt x="12861" y="21402"/>
                  </a:lnTo>
                  <a:lnTo>
                    <a:pt x="13360" y="19727"/>
                  </a:lnTo>
                  <a:lnTo>
                    <a:pt x="14846" y="20814"/>
                  </a:lnTo>
                  <a:lnTo>
                    <a:pt x="15160" y="19000"/>
                  </a:lnTo>
                  <a:lnTo>
                    <a:pt x="16682" y="19858"/>
                  </a:lnTo>
                  <a:lnTo>
                    <a:pt x="16644" y="18017"/>
                  </a:lnTo>
                  <a:lnTo>
                    <a:pt x="18437" y="18437"/>
                  </a:lnTo>
                  <a:lnTo>
                    <a:pt x="17914" y="16770"/>
                  </a:lnTo>
                  <a:lnTo>
                    <a:pt x="19754" y="16839"/>
                  </a:lnTo>
                  <a:lnTo>
                    <a:pt x="18923" y="15302"/>
                  </a:lnTo>
                  <a:lnTo>
                    <a:pt x="20741" y="15020"/>
                  </a:lnTo>
                  <a:lnTo>
                    <a:pt x="19681" y="13515"/>
                  </a:lnTo>
                  <a:lnTo>
                    <a:pt x="21364" y="13045"/>
                  </a:lnTo>
                  <a:lnTo>
                    <a:pt x="20036" y="11771"/>
                  </a:lnTo>
                  <a:lnTo>
                    <a:pt x="21600" y="10800"/>
                  </a:lnTo>
                  <a:lnTo>
                    <a:pt x="20052" y="9991"/>
                  </a:lnTo>
                  <a:lnTo>
                    <a:pt x="21402" y="8739"/>
                  </a:lnTo>
                  <a:lnTo>
                    <a:pt x="19727" y="8240"/>
                  </a:lnTo>
                  <a:lnTo>
                    <a:pt x="20814" y="6754"/>
                  </a:lnTo>
                  <a:lnTo>
                    <a:pt x="19000" y="6440"/>
                  </a:lnTo>
                  <a:lnTo>
                    <a:pt x="19858" y="4918"/>
                  </a:lnTo>
                  <a:lnTo>
                    <a:pt x="18017" y="4956"/>
                  </a:lnTo>
                  <a:lnTo>
                    <a:pt x="18437" y="3163"/>
                  </a:lnTo>
                  <a:lnTo>
                    <a:pt x="16770" y="3686"/>
                  </a:lnTo>
                  <a:lnTo>
                    <a:pt x="16839" y="1846"/>
                  </a:lnTo>
                  <a:lnTo>
                    <a:pt x="15302" y="2677"/>
                  </a:lnTo>
                  <a:lnTo>
                    <a:pt x="15020" y="859"/>
                  </a:lnTo>
                  <a:lnTo>
                    <a:pt x="13515" y="1919"/>
                  </a:lnTo>
                  <a:lnTo>
                    <a:pt x="13045" y="236"/>
                  </a:lnTo>
                  <a:lnTo>
                    <a:pt x="11771" y="1564"/>
                  </a:lnTo>
                  <a:lnTo>
                    <a:pt x="10800" y="0"/>
                  </a:lnTo>
                  <a:lnTo>
                    <a:pt x="9991" y="1548"/>
                  </a:lnTo>
                  <a:lnTo>
                    <a:pt x="8739" y="198"/>
                  </a:lnTo>
                  <a:lnTo>
                    <a:pt x="8240" y="1873"/>
                  </a:lnTo>
                  <a:lnTo>
                    <a:pt x="6754" y="786"/>
                  </a:lnTo>
                  <a:lnTo>
                    <a:pt x="6440" y="2600"/>
                  </a:lnTo>
                  <a:lnTo>
                    <a:pt x="4918" y="1742"/>
                  </a:lnTo>
                  <a:lnTo>
                    <a:pt x="4956" y="3583"/>
                  </a:lnTo>
                  <a:lnTo>
                    <a:pt x="3163" y="3163"/>
                  </a:lnTo>
                  <a:lnTo>
                    <a:pt x="3686" y="4830"/>
                  </a:lnTo>
                  <a:lnTo>
                    <a:pt x="1846" y="4761"/>
                  </a:lnTo>
                  <a:lnTo>
                    <a:pt x="2677" y="6298"/>
                  </a:lnTo>
                  <a:lnTo>
                    <a:pt x="859" y="6580"/>
                  </a:lnTo>
                  <a:lnTo>
                    <a:pt x="1919" y="8085"/>
                  </a:lnTo>
                  <a:lnTo>
                    <a:pt x="236" y="8555"/>
                  </a:lnTo>
                  <a:lnTo>
                    <a:pt x="1564" y="982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57539"/>
                </a:gs>
                <a:gs pos="50000">
                  <a:srgbClr val="72fc7c"/>
                </a:gs>
                <a:gs pos="100000">
                  <a:srgbClr val="35753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МУТОВЧАТОЕ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 узле стебля развиваются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три и более листьев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AutoShape 1054"/>
            <p:cNvSpPr/>
            <p:nvPr/>
          </p:nvSpPr>
          <p:spPr>
            <a:xfrm>
              <a:off x="7238880" y="137160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305" name="Object 1059"/>
            <p:cNvGraphicFramePr/>
            <p:nvPr/>
          </p:nvGraphicFramePr>
          <p:xfrm>
            <a:off x="6400800" y="4114800"/>
            <a:ext cx="1905120" cy="2057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Object 105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800" y="4114800"/>
                      <a:ext cx="190512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7" name="AutoShape 1042"/>
          <p:cNvSpPr/>
          <p:nvPr/>
        </p:nvSpPr>
        <p:spPr>
          <a:xfrm>
            <a:off x="304920" y="533520"/>
            <a:ext cx="8305560" cy="838080"/>
          </a:xfrm>
          <a:custGeom>
            <a:avLst/>
            <a:gdLst>
              <a:gd name="textAreaLeft" fmla="*/ 1522080 w 8305560"/>
              <a:gd name="textAreaRight" fmla="*/ 6783480 w 8305560"/>
              <a:gd name="textAreaTop" fmla="*/ 0 h 838080"/>
              <a:gd name="textAreaBottom" fmla="*/ 733320 h 838080"/>
            </a:gdLst>
            <a:ahLst/>
            <a:rect l="textAreaLeft" t="textAreaTop" r="textAreaRight" b="textAreaBottom"/>
            <a:pathLst>
              <a:path w="21600" h="21600">
                <a:moveTo>
                  <a:pt x="6659" y="18900"/>
                </a:moveTo>
                <a:lnTo>
                  <a:pt x="6659" y="20925"/>
                </a:lnTo>
                <a:cubicBezTo>
                  <a:pt x="6659" y="21263"/>
                  <a:pt x="6239" y="21600"/>
                  <a:pt x="5819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959" y="2700"/>
                </a:lnTo>
                <a:lnTo>
                  <a:pt x="3959" y="675"/>
                </a:lnTo>
                <a:cubicBezTo>
                  <a:pt x="3959" y="338"/>
                  <a:pt x="4379" y="0"/>
                  <a:pt x="4799" y="0"/>
                </a:cubicBezTo>
                <a:lnTo>
                  <a:pt x="16801" y="0"/>
                </a:lnTo>
                <a:cubicBezTo>
                  <a:pt x="17221" y="0"/>
                  <a:pt x="17641" y="338"/>
                  <a:pt x="17641" y="675"/>
                </a:cubicBezTo>
                <a:lnTo>
                  <a:pt x="17641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5781" y="21600"/>
                </a:lnTo>
                <a:cubicBezTo>
                  <a:pt x="15361" y="21600"/>
                  <a:pt x="14941" y="21263"/>
                  <a:pt x="14941" y="20925"/>
                </a:cubicBezTo>
                <a:lnTo>
                  <a:pt x="14941" y="18900"/>
                </a:lnTo>
                <a:close/>
              </a:path>
              <a:path fill="darkenLess" w="21600" h="21600">
                <a:moveTo>
                  <a:pt x="6659" y="18900"/>
                </a:moveTo>
                <a:lnTo>
                  <a:pt x="6659" y="20925"/>
                </a:lnTo>
                <a:cubicBezTo>
                  <a:pt x="6659" y="20588"/>
                  <a:pt x="6239" y="20250"/>
                  <a:pt x="5819" y="20250"/>
                </a:cubicBezTo>
                <a:lnTo>
                  <a:pt x="4799" y="20250"/>
                </a:lnTo>
                <a:cubicBezTo>
                  <a:pt x="4379" y="20250"/>
                  <a:pt x="3959" y="19913"/>
                  <a:pt x="3959" y="19575"/>
                </a:cubicBezTo>
                <a:cubicBezTo>
                  <a:pt x="3959" y="19238"/>
                  <a:pt x="4379" y="18900"/>
                  <a:pt x="4799" y="18900"/>
                </a:cubicBezTo>
                <a:close/>
              </a:path>
              <a:path fill="darkenLess" w="21600" h="21600">
                <a:moveTo>
                  <a:pt x="14941" y="18900"/>
                </a:moveTo>
                <a:lnTo>
                  <a:pt x="14941" y="20925"/>
                </a:lnTo>
                <a:cubicBezTo>
                  <a:pt x="14941" y="20588"/>
                  <a:pt x="15361" y="20250"/>
                  <a:pt x="15781" y="20250"/>
                </a:cubicBezTo>
                <a:lnTo>
                  <a:pt x="16801" y="20250"/>
                </a:lnTo>
                <a:cubicBezTo>
                  <a:pt x="17221" y="20250"/>
                  <a:pt x="17641" y="19913"/>
                  <a:pt x="17641" y="19575"/>
                </a:cubicBezTo>
                <a:cubicBezTo>
                  <a:pt x="17641" y="19238"/>
                  <a:pt x="17221" y="18900"/>
                  <a:pt x="16801" y="18900"/>
                </a:cubicBezTo>
                <a:close/>
              </a:path>
              <a:path fill="darkenLess" w="21600" h="21600">
                <a:moveTo>
                  <a:pt x="3959" y="19575"/>
                </a:moveTo>
                <a:lnTo>
                  <a:pt x="3959" y="2700"/>
                </a:lnTo>
              </a:path>
              <a:path fill="darkenLess" w="21600" h="21600">
                <a:moveTo>
                  <a:pt x="17641" y="19575"/>
                </a:moveTo>
                <a:lnTo>
                  <a:pt x="17641" y="2700"/>
                </a:lnTo>
              </a:path>
            </a:pathLst>
          </a:custGeom>
          <a:gradFill rotWithShape="0">
            <a:gsLst>
              <a:gs pos="0">
                <a:srgbClr val="339966"/>
              </a:gs>
              <a:gs pos="100000">
                <a:srgbClr val="e0f541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ЛИСТОРАСПОЛОЖЕНИЕ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9" name="Picture 11" descr="NA00864_"/>
          <p:cNvPicPr/>
          <p:nvPr/>
        </p:nvPicPr>
        <p:blipFill>
          <a:blip r:embed="rId1"/>
          <a:stretch/>
        </p:blipFill>
        <p:spPr>
          <a:xfrm>
            <a:off x="7315200" y="4724280"/>
            <a:ext cx="1600200" cy="138132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14"/>
          <p:cNvSpPr/>
          <p:nvPr/>
        </p:nvSpPr>
        <p:spPr>
          <a:xfrm>
            <a:off x="685800" y="380880"/>
            <a:ext cx="7772400" cy="1067040"/>
          </a:xfrm>
          <a:custGeom>
            <a:avLst/>
            <a:gdLst>
              <a:gd name="textAreaLeft" fmla="*/ 1444680 w 7772400"/>
              <a:gd name="textAreaRight" fmla="*/ 6327720 w 7772400"/>
              <a:gd name="textAreaTop" fmla="*/ 30816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40" y="0"/>
                </a:lnTo>
                <a:arcTo wR="675" hR="1559" stAng="16200000" swAng="5400000"/>
                <a:lnTo>
                  <a:pt x="6715" y="6236"/>
                </a:lnTo>
                <a:lnTo>
                  <a:pt x="14885" y="6236"/>
                </a:lnTo>
                <a:lnTo>
                  <a:pt x="14885" y="1559"/>
                </a:lnTo>
                <a:arcTo wR="675" hR="1559" stAng="10800000" swAng="5400000"/>
                <a:lnTo>
                  <a:pt x="21600" y="0"/>
                </a:lnTo>
                <a:lnTo>
                  <a:pt x="18900" y="7682"/>
                </a:lnTo>
                <a:lnTo>
                  <a:pt x="21600" y="15364"/>
                </a:lnTo>
                <a:lnTo>
                  <a:pt x="17585" y="15364"/>
                </a:lnTo>
                <a:lnTo>
                  <a:pt x="17585" y="20041"/>
                </a:lnTo>
                <a:arcTo wR="675" hR="1559" stAng="0" swAng="5400000"/>
                <a:lnTo>
                  <a:pt x="4690" y="21600"/>
                </a:lnTo>
                <a:arcTo wR="675" hR="1559" stAng="5400000" swAng="5400000"/>
                <a:lnTo>
                  <a:pt x="4015" y="15364"/>
                </a:lnTo>
                <a:lnTo>
                  <a:pt x="0" y="15364"/>
                </a:lnTo>
                <a:lnTo>
                  <a:pt x="2700" y="7682"/>
                </a:lnTo>
                <a:close/>
              </a:path>
              <a:path fill="none" w="21600" h="21600">
                <a:moveTo>
                  <a:pt x="6715" y="1559"/>
                </a:moveTo>
                <a:arcTo wR="675" hR="1559" stAng="0" swAng="5400000"/>
                <a:lnTo>
                  <a:pt x="4690" y="3118"/>
                </a:lnTo>
                <a:arcTo wR="675" hR="1559" stAng="16200000" swAng="-5400000"/>
                <a:arcTo wR="675" hR="1559" stAng="10800000" swAng="-5400000"/>
                <a:lnTo>
                  <a:pt x="6715" y="6236"/>
                </a:lnTo>
              </a:path>
              <a:path fill="none" w="21600" h="21600">
                <a:moveTo>
                  <a:pt x="14885" y="1559"/>
                </a:moveTo>
                <a:arcTo wR="675" hR="1559" stAng="10800000" swAng="-5400000"/>
                <a:lnTo>
                  <a:pt x="16910" y="3118"/>
                </a:lnTo>
                <a:arcTo wR="675" hR="1559" stAng="16200000" swAng="5400000"/>
                <a:arcTo wR="675" hR="1559" stAng="0" swAng="5400000"/>
                <a:lnTo>
                  <a:pt x="14885" y="6236"/>
                </a:lnTo>
              </a:path>
              <a:path fill="none" w="21600" h="21600">
                <a:moveTo>
                  <a:pt x="4015" y="4677"/>
                </a:moveTo>
                <a:lnTo>
                  <a:pt x="4015" y="15364"/>
                </a:lnTo>
              </a:path>
              <a:path fill="none" w="21600" h="21600">
                <a:moveTo>
                  <a:pt x="17585" y="4677"/>
                </a:moveTo>
                <a:lnTo>
                  <a:pt x="17585" y="15364"/>
                </a:lnTo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d87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ИДЫ ЛИСТЬЕ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AutoShape 15"/>
          <p:cNvSpPr/>
          <p:nvPr/>
        </p:nvSpPr>
        <p:spPr>
          <a:xfrm>
            <a:off x="228600" y="1752480"/>
            <a:ext cx="3962520" cy="1600200"/>
          </a:xfrm>
          <a:custGeom>
            <a:avLst/>
            <a:gdLst>
              <a:gd name="textAreaLeft" fmla="*/ 797040 w 3962520"/>
              <a:gd name="textAreaRight" fmla="*/ 3165480 w 3962520"/>
              <a:gd name="textAreaTop" fmla="*/ 321840 h 1600200"/>
              <a:gd name="textAreaBottom" fmla="*/ 12783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39" y="12542"/>
                </a:lnTo>
                <a:lnTo>
                  <a:pt x="786" y="14846"/>
                </a:lnTo>
                <a:lnTo>
                  <a:pt x="3144" y="15772"/>
                </a:lnTo>
                <a:lnTo>
                  <a:pt x="3163" y="18437"/>
                </a:lnTo>
                <a:lnTo>
                  <a:pt x="5695" y="18368"/>
                </a:lnTo>
                <a:lnTo>
                  <a:pt x="6580" y="20741"/>
                </a:lnTo>
                <a:lnTo>
                  <a:pt x="8902" y="19730"/>
                </a:lnTo>
                <a:lnTo>
                  <a:pt x="10800" y="21600"/>
                </a:lnTo>
                <a:lnTo>
                  <a:pt x="12542" y="19761"/>
                </a:lnTo>
                <a:lnTo>
                  <a:pt x="14846" y="20814"/>
                </a:lnTo>
                <a:lnTo>
                  <a:pt x="15772" y="18456"/>
                </a:lnTo>
                <a:lnTo>
                  <a:pt x="18437" y="18437"/>
                </a:lnTo>
                <a:lnTo>
                  <a:pt x="18368" y="15905"/>
                </a:lnTo>
                <a:lnTo>
                  <a:pt x="20741" y="15020"/>
                </a:lnTo>
                <a:lnTo>
                  <a:pt x="19730" y="12698"/>
                </a:lnTo>
                <a:lnTo>
                  <a:pt x="21600" y="10800"/>
                </a:lnTo>
                <a:lnTo>
                  <a:pt x="19761" y="9058"/>
                </a:lnTo>
                <a:lnTo>
                  <a:pt x="20814" y="6754"/>
                </a:lnTo>
                <a:lnTo>
                  <a:pt x="18456" y="5828"/>
                </a:lnTo>
                <a:lnTo>
                  <a:pt x="18437" y="3163"/>
                </a:lnTo>
                <a:lnTo>
                  <a:pt x="15905" y="3232"/>
                </a:lnTo>
                <a:lnTo>
                  <a:pt x="15020" y="859"/>
                </a:lnTo>
                <a:lnTo>
                  <a:pt x="12698" y="1870"/>
                </a:lnTo>
                <a:lnTo>
                  <a:pt x="10800" y="0"/>
                </a:lnTo>
                <a:lnTo>
                  <a:pt x="9058" y="1839"/>
                </a:lnTo>
                <a:lnTo>
                  <a:pt x="6754" y="786"/>
                </a:lnTo>
                <a:lnTo>
                  <a:pt x="5828" y="3144"/>
                </a:lnTo>
                <a:lnTo>
                  <a:pt x="3163" y="3163"/>
                </a:lnTo>
                <a:lnTo>
                  <a:pt x="3232" y="5695"/>
                </a:lnTo>
                <a:lnTo>
                  <a:pt x="859" y="6580"/>
                </a:lnTo>
                <a:lnTo>
                  <a:pt x="1870" y="890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2c23a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ЧЕРЕШКОВЫ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черешок+листовая пластина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AutoShape 16"/>
          <p:cNvSpPr/>
          <p:nvPr/>
        </p:nvSpPr>
        <p:spPr>
          <a:xfrm>
            <a:off x="4495680" y="1752480"/>
            <a:ext cx="3962520" cy="1600200"/>
          </a:xfrm>
          <a:custGeom>
            <a:avLst/>
            <a:gdLst>
              <a:gd name="textAreaLeft" fmla="*/ 797040 w 3962520"/>
              <a:gd name="textAreaRight" fmla="*/ 3165480 w 3962520"/>
              <a:gd name="textAreaTop" fmla="*/ 321840 h 1600200"/>
              <a:gd name="textAreaBottom" fmla="*/ 12783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39" y="12542"/>
                </a:lnTo>
                <a:lnTo>
                  <a:pt x="786" y="14846"/>
                </a:lnTo>
                <a:lnTo>
                  <a:pt x="3144" y="15772"/>
                </a:lnTo>
                <a:lnTo>
                  <a:pt x="3163" y="18437"/>
                </a:lnTo>
                <a:lnTo>
                  <a:pt x="5695" y="18368"/>
                </a:lnTo>
                <a:lnTo>
                  <a:pt x="6580" y="20741"/>
                </a:lnTo>
                <a:lnTo>
                  <a:pt x="8902" y="19730"/>
                </a:lnTo>
                <a:lnTo>
                  <a:pt x="10800" y="21600"/>
                </a:lnTo>
                <a:lnTo>
                  <a:pt x="12542" y="19761"/>
                </a:lnTo>
                <a:lnTo>
                  <a:pt x="14846" y="20814"/>
                </a:lnTo>
                <a:lnTo>
                  <a:pt x="15772" y="18456"/>
                </a:lnTo>
                <a:lnTo>
                  <a:pt x="18437" y="18437"/>
                </a:lnTo>
                <a:lnTo>
                  <a:pt x="18368" y="15905"/>
                </a:lnTo>
                <a:lnTo>
                  <a:pt x="20741" y="15020"/>
                </a:lnTo>
                <a:lnTo>
                  <a:pt x="19730" y="12698"/>
                </a:lnTo>
                <a:lnTo>
                  <a:pt x="21600" y="10800"/>
                </a:lnTo>
                <a:lnTo>
                  <a:pt x="19761" y="9058"/>
                </a:lnTo>
                <a:lnTo>
                  <a:pt x="20814" y="6754"/>
                </a:lnTo>
                <a:lnTo>
                  <a:pt x="18456" y="5828"/>
                </a:lnTo>
                <a:lnTo>
                  <a:pt x="18437" y="3163"/>
                </a:lnTo>
                <a:lnTo>
                  <a:pt x="15905" y="3232"/>
                </a:lnTo>
                <a:lnTo>
                  <a:pt x="15020" y="859"/>
                </a:lnTo>
                <a:lnTo>
                  <a:pt x="12698" y="1870"/>
                </a:lnTo>
                <a:lnTo>
                  <a:pt x="10800" y="0"/>
                </a:lnTo>
                <a:lnTo>
                  <a:pt x="9058" y="1839"/>
                </a:lnTo>
                <a:lnTo>
                  <a:pt x="6754" y="786"/>
                </a:lnTo>
                <a:lnTo>
                  <a:pt x="5828" y="3144"/>
                </a:lnTo>
                <a:lnTo>
                  <a:pt x="3163" y="3163"/>
                </a:lnTo>
                <a:lnTo>
                  <a:pt x="3232" y="5695"/>
                </a:lnTo>
                <a:lnTo>
                  <a:pt x="859" y="6580"/>
                </a:lnTo>
                <a:lnTo>
                  <a:pt x="1870" y="890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2c23a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СИДЯЧ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влагалище+листовая пластина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AutoShape 17"/>
          <p:cNvSpPr/>
          <p:nvPr/>
        </p:nvSpPr>
        <p:spPr>
          <a:xfrm>
            <a:off x="3809880" y="1523880"/>
            <a:ext cx="1219320" cy="533520"/>
          </a:xfrm>
          <a:custGeom>
            <a:avLst/>
            <a:gdLst>
              <a:gd name="textAreaLeft" fmla="*/ 102960 w 1219320"/>
              <a:gd name="textAreaRight" fmla="*/ 1116360 w 1219320"/>
              <a:gd name="textAreaTop" fmla="*/ 368280 h 533520"/>
              <a:gd name="textAreaBottom" fmla="*/ 47340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7903" y="6171"/>
                </a:lnTo>
                <a:lnTo>
                  <a:pt x="9450" y="6171"/>
                </a:lnTo>
                <a:lnTo>
                  <a:pt x="9450" y="14903"/>
                </a:lnTo>
                <a:lnTo>
                  <a:pt x="3913" y="14903"/>
                </a:lnTo>
                <a:lnTo>
                  <a:pt x="3913" y="12463"/>
                </a:lnTo>
                <a:lnTo>
                  <a:pt x="0" y="17031"/>
                </a:lnTo>
                <a:lnTo>
                  <a:pt x="3913" y="21600"/>
                </a:lnTo>
                <a:lnTo>
                  <a:pt x="3913" y="19160"/>
                </a:lnTo>
                <a:lnTo>
                  <a:pt x="17687" y="19160"/>
                </a:lnTo>
                <a:lnTo>
                  <a:pt x="17687" y="21600"/>
                </a:lnTo>
                <a:lnTo>
                  <a:pt x="21600" y="17031"/>
                </a:lnTo>
                <a:lnTo>
                  <a:pt x="17687" y="12463"/>
                </a:lnTo>
                <a:lnTo>
                  <a:pt x="17687" y="14903"/>
                </a:lnTo>
                <a:lnTo>
                  <a:pt x="12150" y="14903"/>
                </a:lnTo>
                <a:lnTo>
                  <a:pt x="12150" y="6171"/>
                </a:lnTo>
                <a:lnTo>
                  <a:pt x="13697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6609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4" name="Group 28"/>
          <p:cNvGrpSpPr/>
          <p:nvPr/>
        </p:nvGrpSpPr>
        <p:grpSpPr>
          <a:xfrm>
            <a:off x="228600" y="3276720"/>
            <a:ext cx="4740120" cy="3344760"/>
            <a:chOff x="228600" y="3276720"/>
            <a:chExt cx="4740120" cy="3344760"/>
          </a:xfrm>
        </p:grpSpPr>
        <p:sp>
          <p:nvSpPr>
            <p:cNvPr id="315" name="AutoShape 18"/>
            <p:cNvSpPr/>
            <p:nvPr/>
          </p:nvSpPr>
          <p:spPr>
            <a:xfrm>
              <a:off x="228600" y="3505320"/>
              <a:ext cx="167652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3f58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ПРОСТОЙ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(одна листовая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ластинка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316" name="Object 20"/>
            <p:cNvGraphicFramePr/>
            <p:nvPr/>
          </p:nvGraphicFramePr>
          <p:xfrm>
            <a:off x="228600" y="4724280"/>
            <a:ext cx="808200" cy="85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7" name="Object 2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4724280"/>
                      <a:ext cx="80820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21"/>
            <p:cNvGraphicFramePr/>
            <p:nvPr/>
          </p:nvGraphicFramePr>
          <p:xfrm>
            <a:off x="1523880" y="4800600"/>
            <a:ext cx="525600" cy="1050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9" name="Object 2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3880" y="4800600"/>
                      <a:ext cx="525600" cy="105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0" name="Object 22"/>
            <p:cNvGraphicFramePr/>
            <p:nvPr/>
          </p:nvGraphicFramePr>
          <p:xfrm>
            <a:off x="533520" y="5715000"/>
            <a:ext cx="898560" cy="906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21" name="Object 2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5715000"/>
                      <a:ext cx="898560" cy="9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AutoShape 23"/>
            <p:cNvSpPr/>
            <p:nvPr/>
          </p:nvSpPr>
          <p:spPr>
            <a:xfrm>
              <a:off x="3048120" y="3505320"/>
              <a:ext cx="167616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3f58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СЛОЖНЫЙ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(несколько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листовых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ластинок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323" name="Object 24"/>
            <p:cNvGraphicFramePr/>
            <p:nvPr/>
          </p:nvGraphicFramePr>
          <p:xfrm>
            <a:off x="2971800" y="4724280"/>
            <a:ext cx="1120680" cy="1067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24" name="Object 2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71800" y="4724280"/>
                      <a:ext cx="11206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25"/>
            <p:cNvGraphicFramePr/>
            <p:nvPr/>
          </p:nvGraphicFramePr>
          <p:xfrm>
            <a:off x="3809880" y="5867280"/>
            <a:ext cx="754200" cy="716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26" name="Object 2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09880" y="5867280"/>
                      <a:ext cx="75420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26"/>
            <p:cNvGraphicFramePr/>
            <p:nvPr/>
          </p:nvGraphicFramePr>
          <p:xfrm>
            <a:off x="4191120" y="4952880"/>
            <a:ext cx="777600" cy="6098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28" name="Object 2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191120" y="4952880"/>
                      <a:ext cx="77760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9" name="AutoShape 27"/>
            <p:cNvSpPr/>
            <p:nvPr/>
          </p:nvSpPr>
          <p:spPr>
            <a:xfrm>
              <a:off x="2057400" y="3276720"/>
              <a:ext cx="838080" cy="609480"/>
            </a:xfrm>
            <a:custGeom>
              <a:avLst/>
              <a:gdLst>
                <a:gd name="textAreaLeft" fmla="*/ 96840 w 838080"/>
                <a:gd name="textAreaRight" fmla="*/ 741240 w 838080"/>
                <a:gd name="textAreaTop" fmla="*/ 479520 h 609480"/>
                <a:gd name="textAreaBottom" fmla="*/ 5763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9123" y="7369"/>
                  </a:lnTo>
                  <a:lnTo>
                    <a:pt x="9818" y="7369"/>
                  </a:lnTo>
                  <a:lnTo>
                    <a:pt x="9818" y="16997"/>
                  </a:lnTo>
                  <a:lnTo>
                    <a:pt x="4257" y="16997"/>
                  </a:lnTo>
                  <a:lnTo>
                    <a:pt x="4257" y="15794"/>
                  </a:lnTo>
                  <a:lnTo>
                    <a:pt x="0" y="18697"/>
                  </a:lnTo>
                  <a:lnTo>
                    <a:pt x="4257" y="21600"/>
                  </a:lnTo>
                  <a:lnTo>
                    <a:pt x="4257" y="20397"/>
                  </a:lnTo>
                  <a:lnTo>
                    <a:pt x="17343" y="20397"/>
                  </a:lnTo>
                  <a:lnTo>
                    <a:pt x="17343" y="21600"/>
                  </a:lnTo>
                  <a:lnTo>
                    <a:pt x="21600" y="18697"/>
                  </a:lnTo>
                  <a:lnTo>
                    <a:pt x="17343" y="15794"/>
                  </a:lnTo>
                  <a:lnTo>
                    <a:pt x="17343" y="16997"/>
                  </a:lnTo>
                  <a:lnTo>
                    <a:pt x="11782" y="16997"/>
                  </a:lnTo>
                  <a:lnTo>
                    <a:pt x="11782" y="7369"/>
                  </a:lnTo>
                  <a:lnTo>
                    <a:pt x="12477" y="7369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66098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304920" y="1981080"/>
            <a:ext cx="2438280" cy="1981440"/>
          </a:xfrm>
          <a:prstGeom prst="rect">
            <a:avLst/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ДУГОВИДНО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лки протягиваются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 основания к вершине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иста по дуге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пересекаясь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руг с другом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2" name="Object 16"/>
          <p:cNvGraphicFramePr/>
          <p:nvPr/>
        </p:nvGraphicFramePr>
        <p:xfrm>
          <a:off x="7391520" y="5410080"/>
          <a:ext cx="11379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410080"/>
                    <a:ext cx="11379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7"/>
          <p:cNvGraphicFramePr/>
          <p:nvPr/>
        </p:nvGraphicFramePr>
        <p:xfrm>
          <a:off x="533520" y="5443560"/>
          <a:ext cx="134136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443560"/>
                    <a:ext cx="13413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8"/>
          <p:cNvSpPr/>
          <p:nvPr/>
        </p:nvSpPr>
        <p:spPr>
          <a:xfrm>
            <a:off x="6324480" y="1981080"/>
            <a:ext cx="2438640" cy="1981440"/>
          </a:xfrm>
          <a:prstGeom prst="rect">
            <a:avLst/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ПАРАЛЛЕЛЬНО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доль пластинки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ходят несколько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инаковых жилок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аллельно друг другу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 основания листа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его верхушки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3352680" y="1981080"/>
            <a:ext cx="2438640" cy="838440"/>
          </a:xfrm>
          <a:prstGeom prst="rect">
            <a:avLst/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СЕТЧАТО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AutoShape 21"/>
          <p:cNvSpPr/>
          <p:nvPr/>
        </p:nvSpPr>
        <p:spPr>
          <a:xfrm>
            <a:off x="1371600" y="4191120"/>
            <a:ext cx="3048120" cy="16761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АЛЬЧАТОЕ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лавная жилка не выражена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сунок жилок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поминает расположение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льцев расставленной ладони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4800600" y="4191120"/>
            <a:ext cx="3048120" cy="16761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e464db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ЕРИСТОЕ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 главной жилки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ходят в стороны боковые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ж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лки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зуя рисунок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поминающий перо птицы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23"/>
          <p:cNvSpPr/>
          <p:nvPr/>
        </p:nvSpPr>
        <p:spPr>
          <a:xfrm flipH="1">
            <a:off x="2971440" y="2895480"/>
            <a:ext cx="1523880" cy="1219320"/>
          </a:xfrm>
          <a:prstGeom prst="line">
            <a:avLst/>
          </a:prstGeom>
          <a:ln w="79200">
            <a:solidFill>
              <a:srgbClr val="660987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24"/>
          <p:cNvSpPr/>
          <p:nvPr/>
        </p:nvSpPr>
        <p:spPr>
          <a:xfrm>
            <a:off x="4648320" y="2895480"/>
            <a:ext cx="1752480" cy="1295640"/>
          </a:xfrm>
          <a:prstGeom prst="line">
            <a:avLst/>
          </a:prstGeom>
          <a:ln w="79200">
            <a:solidFill>
              <a:srgbClr val="660987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AutoShape 25"/>
          <p:cNvSpPr/>
          <p:nvPr/>
        </p:nvSpPr>
        <p:spPr>
          <a:xfrm>
            <a:off x="1371600" y="15238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660987"/>
          </a:solidFill>
          <a:ln w="79200">
            <a:solidFill>
              <a:srgbClr val="660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AutoShape 26"/>
          <p:cNvSpPr/>
          <p:nvPr/>
        </p:nvSpPr>
        <p:spPr>
          <a:xfrm>
            <a:off x="7391520" y="15238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660987"/>
          </a:solidFill>
          <a:ln w="79200">
            <a:solidFill>
              <a:srgbClr val="660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AutoShape 27"/>
          <p:cNvSpPr/>
          <p:nvPr/>
        </p:nvSpPr>
        <p:spPr>
          <a:xfrm>
            <a:off x="4495680" y="15238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660987"/>
          </a:solidFill>
          <a:ln w="79200">
            <a:solidFill>
              <a:srgbClr val="660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304920" y="380880"/>
            <a:ext cx="8381880" cy="1371600"/>
          </a:xfrm>
          <a:custGeom>
            <a:avLst/>
            <a:gdLst>
              <a:gd name="textAreaLeft" fmla="*/ 1601640 w 8381880"/>
              <a:gd name="textAreaRight" fmla="*/ 6780240 w 8381880"/>
              <a:gd name="textAreaTop" fmla="*/ 262080 h 1371600"/>
              <a:gd name="textAreaBottom" fmla="*/ 11095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51" y="14335"/>
                </a:lnTo>
                <a:lnTo>
                  <a:pt x="3163" y="18437"/>
                </a:lnTo>
                <a:lnTo>
                  <a:pt x="7113" y="19486"/>
                </a:lnTo>
                <a:lnTo>
                  <a:pt x="10800" y="21600"/>
                </a:lnTo>
                <a:lnTo>
                  <a:pt x="14335" y="19549"/>
                </a:lnTo>
                <a:lnTo>
                  <a:pt x="18437" y="18437"/>
                </a:lnTo>
                <a:lnTo>
                  <a:pt x="19486" y="14487"/>
                </a:lnTo>
                <a:lnTo>
                  <a:pt x="21600" y="10800"/>
                </a:lnTo>
                <a:lnTo>
                  <a:pt x="19549" y="7265"/>
                </a:lnTo>
                <a:lnTo>
                  <a:pt x="18437" y="3163"/>
                </a:lnTo>
                <a:lnTo>
                  <a:pt x="14487" y="2114"/>
                </a:lnTo>
                <a:lnTo>
                  <a:pt x="10800" y="0"/>
                </a:lnTo>
                <a:lnTo>
                  <a:pt x="7265" y="2051"/>
                </a:lnTo>
                <a:lnTo>
                  <a:pt x="3163" y="3163"/>
                </a:lnTo>
                <a:lnTo>
                  <a:pt x="2114" y="711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50000">
                <a:srgbClr val="e4d404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ЖИЛКОВАНИЕ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рядок расположения жилок в листовой пластинк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228600" y="838080"/>
          <a:ext cx="8624880" cy="757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624880" cy="757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3"/>
          <p:cNvSpPr/>
          <p:nvPr/>
        </p:nvSpPr>
        <p:spPr>
          <a:xfrm>
            <a:off x="0" y="30492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80"/>
                </a:solidFill>
                <a:uFillTx/>
                <a:latin typeface="Times New Roman"/>
                <a:ea typeface="Times New Roman"/>
              </a:rPr>
              <a:t>ЗАДАЧИ УРОКА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4" descr="BS02064_"/>
          <p:cNvPicPr/>
          <p:nvPr/>
        </p:nvPicPr>
        <p:blipFill>
          <a:blip r:embed="rId3"/>
          <a:stretch/>
        </p:blipFill>
        <p:spPr>
          <a:xfrm>
            <a:off x="7620120" y="22860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4"/>
          <p:cNvSpPr/>
          <p:nvPr/>
        </p:nvSpPr>
        <p:spPr>
          <a:xfrm>
            <a:off x="152280" y="609480"/>
            <a:ext cx="8839440" cy="228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638680" y="1676520"/>
            <a:ext cx="1222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СИСТЕМЫ ОРГАНОВ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09480" y="1143000"/>
            <a:ext cx="122076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КЛЕТКИ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362320" y="1295280"/>
            <a:ext cx="122220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ТКАНИ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391520" y="1905120"/>
            <a:ext cx="12222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ОРГАНИЗМ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14600" y="3733920"/>
            <a:ext cx="415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80880" y="228600"/>
            <a:ext cx="77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ОРГАНЫ ЦВЕТКОВЫХ РАСТЕНИ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1"/>
          <p:cNvSpPr/>
          <p:nvPr/>
        </p:nvSpPr>
        <p:spPr>
          <a:xfrm>
            <a:off x="1905120" y="1371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4114800" y="1447920"/>
            <a:ext cx="1066680" cy="446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ОРГАНЫ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40"/>
          <p:cNvSpPr/>
          <p:nvPr/>
        </p:nvSpPr>
        <p:spPr>
          <a:xfrm>
            <a:off x="365760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Line 41"/>
          <p:cNvSpPr/>
          <p:nvPr/>
        </p:nvSpPr>
        <p:spPr>
          <a:xfrm>
            <a:off x="5257800" y="1752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Line 42"/>
          <p:cNvSpPr/>
          <p:nvPr/>
        </p:nvSpPr>
        <p:spPr>
          <a:xfrm>
            <a:off x="693432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43"/>
          <p:cNvSpPr/>
          <p:nvPr/>
        </p:nvSpPr>
        <p:spPr>
          <a:xfrm>
            <a:off x="533520" y="3352680"/>
            <a:ext cx="815328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РГАН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часть тела, имеющ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AutoShape 44"/>
          <p:cNvSpPr/>
          <p:nvPr/>
        </p:nvSpPr>
        <p:spPr>
          <a:xfrm>
            <a:off x="152280" y="4343400"/>
            <a:ext cx="221004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6319"/>
              </a:gs>
              <a:gs pos="50000">
                <a:srgbClr val="53d535"/>
              </a:gs>
              <a:gs pos="100000">
                <a:srgbClr val="26631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ФОРМУ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AutoShape 45"/>
          <p:cNvSpPr/>
          <p:nvPr/>
        </p:nvSpPr>
        <p:spPr>
          <a:xfrm>
            <a:off x="2666880" y="4343400"/>
            <a:ext cx="160020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6319"/>
              </a:gs>
              <a:gs pos="50000">
                <a:srgbClr val="53d535"/>
              </a:gs>
              <a:gs pos="100000">
                <a:srgbClr val="26631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ТРОЕНИЕ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AutoShape 46"/>
          <p:cNvSpPr/>
          <p:nvPr/>
        </p:nvSpPr>
        <p:spPr>
          <a:xfrm>
            <a:off x="4648320" y="4343400"/>
            <a:ext cx="167616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6319"/>
              </a:gs>
              <a:gs pos="50000">
                <a:srgbClr val="53d535"/>
              </a:gs>
              <a:gs pos="100000">
                <a:srgbClr val="26631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ФУНКЦИ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AutoShape 47"/>
          <p:cNvSpPr/>
          <p:nvPr/>
        </p:nvSpPr>
        <p:spPr>
          <a:xfrm>
            <a:off x="6629400" y="4343400"/>
            <a:ext cx="228600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6319"/>
              </a:gs>
              <a:gs pos="50000">
                <a:srgbClr val="53d535"/>
              </a:gs>
              <a:gs pos="100000">
                <a:srgbClr val="266319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АСПОЛОЖЕНИЕ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AutoShape 49"/>
          <p:cNvSpPr/>
          <p:nvPr/>
        </p:nvSpPr>
        <p:spPr>
          <a:xfrm>
            <a:off x="114300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AutoShape 50"/>
          <p:cNvSpPr/>
          <p:nvPr/>
        </p:nvSpPr>
        <p:spPr>
          <a:xfrm>
            <a:off x="335268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AutoShape 51"/>
          <p:cNvSpPr/>
          <p:nvPr/>
        </p:nvSpPr>
        <p:spPr>
          <a:xfrm>
            <a:off x="533412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AutoShape 52"/>
          <p:cNvSpPr/>
          <p:nvPr/>
        </p:nvSpPr>
        <p:spPr>
          <a:xfrm>
            <a:off x="769608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2514600" y="533520"/>
            <a:ext cx="4495680" cy="6858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ЦВЕТКОВОЕ РАСТЕНИ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32"/>
          <p:cNvGrpSpPr/>
          <p:nvPr/>
        </p:nvGrpSpPr>
        <p:grpSpPr>
          <a:xfrm>
            <a:off x="304920" y="2590920"/>
            <a:ext cx="8458200" cy="1371600"/>
            <a:chOff x="304920" y="2590920"/>
            <a:chExt cx="8458200" cy="1371600"/>
          </a:xfrm>
        </p:grpSpPr>
        <p:sp>
          <p:nvSpPr>
            <p:cNvPr id="180" name="AutoShape 12"/>
            <p:cNvSpPr/>
            <p:nvPr/>
          </p:nvSpPr>
          <p:spPr>
            <a:xfrm>
              <a:off x="304920" y="3124080"/>
              <a:ext cx="1600200" cy="83844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66"/>
                  </a:solidFill>
                  <a:latin typeface="Times New Roman"/>
                </a:rPr>
                <a:t>КОРЕНЬ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2514600" y="3124080"/>
              <a:ext cx="1600200" cy="83844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66"/>
                  </a:solidFill>
                  <a:latin typeface="Times New Roman"/>
                </a:rPr>
                <a:t>ПОБЕГ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AutoShape 14"/>
            <p:cNvSpPr/>
            <p:nvPr/>
          </p:nvSpPr>
          <p:spPr>
            <a:xfrm>
              <a:off x="4876920" y="3124080"/>
              <a:ext cx="1600200" cy="83844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66"/>
                  </a:solidFill>
                  <a:latin typeface="Times New Roman"/>
                </a:rPr>
                <a:t>ЦВЕТОК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7010280" y="3124080"/>
              <a:ext cx="1752840" cy="83844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66"/>
                  </a:solidFill>
                  <a:latin typeface="Times New Roman"/>
                </a:rPr>
                <a:t>ПЛОД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66"/>
                  </a:solidFill>
                  <a:latin typeface="Times New Roman"/>
                </a:rPr>
                <a:t>С СЕМЕНАМИ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AutoShape 23"/>
            <p:cNvSpPr/>
            <p:nvPr/>
          </p:nvSpPr>
          <p:spPr>
            <a:xfrm>
              <a:off x="990720" y="25909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AutoShape 24"/>
            <p:cNvSpPr/>
            <p:nvPr/>
          </p:nvSpPr>
          <p:spPr>
            <a:xfrm>
              <a:off x="3276720" y="25909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AutoShape 25"/>
            <p:cNvSpPr/>
            <p:nvPr/>
          </p:nvSpPr>
          <p:spPr>
            <a:xfrm>
              <a:off x="5562720" y="25909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AutoShape 26"/>
            <p:cNvSpPr/>
            <p:nvPr/>
          </p:nvSpPr>
          <p:spPr>
            <a:xfrm>
              <a:off x="7848720" y="25909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Oval 11"/>
          <p:cNvSpPr/>
          <p:nvPr/>
        </p:nvSpPr>
        <p:spPr>
          <a:xfrm>
            <a:off x="4952880" y="1676520"/>
            <a:ext cx="3733920" cy="10666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РЕПРОДУКТИВНЫЕ ОРГАН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380880" y="1676520"/>
            <a:ext cx="4038840" cy="10666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ЕГЕТАТИВНЫЕ ОРГАН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1"/>
          <p:cNvSpPr/>
          <p:nvPr/>
        </p:nvSpPr>
        <p:spPr>
          <a:xfrm>
            <a:off x="1752480" y="838080"/>
            <a:ext cx="762120" cy="106704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3600 h 1067040"/>
              <a:gd name="textAreaBottom" fmla="*/ 77688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42" stAng="-5400000" swAng="-5400000"/>
                <a:lnTo>
                  <a:pt x="0" y="12005"/>
                </a:lnTo>
                <a:arcTo wR="21600" hR="7442" stAng="10800000" swAng="-2560687"/>
                <a:lnTo>
                  <a:pt x="14040" y="21129"/>
                </a:lnTo>
                <a:lnTo>
                  <a:pt x="21600" y="17165"/>
                </a:lnTo>
                <a:lnTo>
                  <a:pt x="14040" y="12258"/>
                </a:lnTo>
                <a:lnTo>
                  <a:pt x="14040" y="14412"/>
                </a:lnTo>
                <a:arcTo wR="21600" hR="7442" stAng="8239313" swAng="2180758"/>
                <a:lnTo>
                  <a:pt x="1040" y="9723"/>
                </a:lnTo>
                <a:arcTo wR="21600" hR="7442" stAng="-10420071" swAng="5020071"/>
                <a:close/>
              </a:path>
              <a:path fill="darkenLess" w="21600" h="21600">
                <a:moveTo>
                  <a:pt x="21600" y="0"/>
                </a:moveTo>
                <a:arcTo wR="21600" hR="7442" stAng="-5400000" swAng="-5400000"/>
                <a:lnTo>
                  <a:pt x="0" y="7442"/>
                </a:lnTo>
                <a:arcTo wR="21600" hR="7442" stAng="10800000" swAng="-379929"/>
                <a:lnTo>
                  <a:pt x="1040" y="9723"/>
                </a:lnTo>
                <a:arcTo wR="21600" hR="7442" stAng="-10420071" swAng="5020071"/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2"/>
          <p:cNvSpPr/>
          <p:nvPr/>
        </p:nvSpPr>
        <p:spPr>
          <a:xfrm>
            <a:off x="7010280" y="762120"/>
            <a:ext cx="838440" cy="1143000"/>
          </a:xfrm>
          <a:custGeom>
            <a:avLst/>
            <a:gdLst>
              <a:gd name="textAreaLeft" fmla="*/ 112320 w 838440"/>
              <a:gd name="textAreaRight" fmla="*/ 726120 w 8384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2" name="Group 33"/>
          <p:cNvGrpSpPr/>
          <p:nvPr/>
        </p:nvGrpSpPr>
        <p:grpSpPr>
          <a:xfrm>
            <a:off x="1143000" y="4038480"/>
            <a:ext cx="4343400" cy="2362320"/>
            <a:chOff x="1143000" y="4038480"/>
            <a:chExt cx="4343400" cy="2362320"/>
          </a:xfrm>
        </p:grpSpPr>
        <p:sp>
          <p:nvSpPr>
            <p:cNvPr id="193" name="AutoShape 17"/>
            <p:cNvSpPr/>
            <p:nvPr/>
          </p:nvSpPr>
          <p:spPr>
            <a:xfrm>
              <a:off x="1143000" y="4343400"/>
              <a:ext cx="1523880" cy="1219320"/>
            </a:xfrm>
            <a:custGeom>
              <a:avLst/>
              <a:gdLst>
                <a:gd name="textAreaLeft" fmla="*/ 342360 w 1523880"/>
                <a:gd name="textAreaRight" fmla="*/ 1181520 w 1523880"/>
                <a:gd name="textAreaTop" fmla="*/ 273960 h 1219320"/>
                <a:gd name="textAreaBottom" fmla="*/ 9453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47" y="12404"/>
                  </a:lnTo>
                  <a:lnTo>
                    <a:pt x="786" y="14846"/>
                  </a:lnTo>
                  <a:lnTo>
                    <a:pt x="3749" y="15379"/>
                  </a:lnTo>
                  <a:lnTo>
                    <a:pt x="3163" y="18437"/>
                  </a:lnTo>
                  <a:lnTo>
                    <a:pt x="6099" y="17770"/>
                  </a:lnTo>
                  <a:lnTo>
                    <a:pt x="6580" y="20741"/>
                  </a:lnTo>
                  <a:lnTo>
                    <a:pt x="9052" y="19023"/>
                  </a:lnTo>
                  <a:lnTo>
                    <a:pt x="10800" y="21600"/>
                  </a:lnTo>
                  <a:lnTo>
                    <a:pt x="12404" y="19053"/>
                  </a:lnTo>
                  <a:lnTo>
                    <a:pt x="14846" y="20814"/>
                  </a:lnTo>
                  <a:lnTo>
                    <a:pt x="15379" y="17851"/>
                  </a:lnTo>
                  <a:lnTo>
                    <a:pt x="18437" y="18437"/>
                  </a:lnTo>
                  <a:lnTo>
                    <a:pt x="17770" y="15501"/>
                  </a:lnTo>
                  <a:lnTo>
                    <a:pt x="20741" y="15020"/>
                  </a:lnTo>
                  <a:lnTo>
                    <a:pt x="19023" y="12548"/>
                  </a:lnTo>
                  <a:lnTo>
                    <a:pt x="21600" y="10800"/>
                  </a:lnTo>
                  <a:lnTo>
                    <a:pt x="19053" y="9196"/>
                  </a:lnTo>
                  <a:lnTo>
                    <a:pt x="20814" y="6754"/>
                  </a:lnTo>
                  <a:lnTo>
                    <a:pt x="17851" y="6221"/>
                  </a:lnTo>
                  <a:lnTo>
                    <a:pt x="18437" y="3163"/>
                  </a:lnTo>
                  <a:lnTo>
                    <a:pt x="15501" y="3830"/>
                  </a:lnTo>
                  <a:lnTo>
                    <a:pt x="15020" y="859"/>
                  </a:lnTo>
                  <a:lnTo>
                    <a:pt x="12548" y="2577"/>
                  </a:lnTo>
                  <a:lnTo>
                    <a:pt x="10800" y="0"/>
                  </a:lnTo>
                  <a:lnTo>
                    <a:pt x="9196" y="2547"/>
                  </a:lnTo>
                  <a:lnTo>
                    <a:pt x="6754" y="786"/>
                  </a:lnTo>
                  <a:lnTo>
                    <a:pt x="6221" y="3749"/>
                  </a:lnTo>
                  <a:lnTo>
                    <a:pt x="3163" y="3163"/>
                  </a:lnTo>
                  <a:lnTo>
                    <a:pt x="3830" y="6099"/>
                  </a:lnTo>
                  <a:lnTo>
                    <a:pt x="859" y="6580"/>
                  </a:lnTo>
                  <a:lnTo>
                    <a:pt x="2577" y="90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imes New Roman"/>
                </a:rPr>
                <a:t>СТЕБЕЛЬ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AutoShape 19"/>
            <p:cNvSpPr/>
            <p:nvPr/>
          </p:nvSpPr>
          <p:spPr>
            <a:xfrm>
              <a:off x="2590920" y="4876920"/>
              <a:ext cx="1447560" cy="1218960"/>
            </a:xfrm>
            <a:custGeom>
              <a:avLst/>
              <a:gdLst>
                <a:gd name="textAreaLeft" fmla="*/ 325440 w 1447560"/>
                <a:gd name="textAreaRight" fmla="*/ 1122120 w 1447560"/>
                <a:gd name="textAreaTop" fmla="*/ 273960 h 1218960"/>
                <a:gd name="textAreaBottom" fmla="*/ 9450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47" y="12404"/>
                  </a:lnTo>
                  <a:lnTo>
                    <a:pt x="786" y="14846"/>
                  </a:lnTo>
                  <a:lnTo>
                    <a:pt x="3749" y="15379"/>
                  </a:lnTo>
                  <a:lnTo>
                    <a:pt x="3163" y="18437"/>
                  </a:lnTo>
                  <a:lnTo>
                    <a:pt x="6099" y="17770"/>
                  </a:lnTo>
                  <a:lnTo>
                    <a:pt x="6580" y="20741"/>
                  </a:lnTo>
                  <a:lnTo>
                    <a:pt x="9052" y="19023"/>
                  </a:lnTo>
                  <a:lnTo>
                    <a:pt x="10800" y="21600"/>
                  </a:lnTo>
                  <a:lnTo>
                    <a:pt x="12404" y="19053"/>
                  </a:lnTo>
                  <a:lnTo>
                    <a:pt x="14846" y="20814"/>
                  </a:lnTo>
                  <a:lnTo>
                    <a:pt x="15379" y="17851"/>
                  </a:lnTo>
                  <a:lnTo>
                    <a:pt x="18437" y="18437"/>
                  </a:lnTo>
                  <a:lnTo>
                    <a:pt x="17770" y="15501"/>
                  </a:lnTo>
                  <a:lnTo>
                    <a:pt x="20741" y="15020"/>
                  </a:lnTo>
                  <a:lnTo>
                    <a:pt x="19023" y="12548"/>
                  </a:lnTo>
                  <a:lnTo>
                    <a:pt x="21600" y="10800"/>
                  </a:lnTo>
                  <a:lnTo>
                    <a:pt x="19053" y="9196"/>
                  </a:lnTo>
                  <a:lnTo>
                    <a:pt x="20814" y="6754"/>
                  </a:lnTo>
                  <a:lnTo>
                    <a:pt x="17851" y="6221"/>
                  </a:lnTo>
                  <a:lnTo>
                    <a:pt x="18437" y="3163"/>
                  </a:lnTo>
                  <a:lnTo>
                    <a:pt x="15501" y="3830"/>
                  </a:lnTo>
                  <a:lnTo>
                    <a:pt x="15020" y="859"/>
                  </a:lnTo>
                  <a:lnTo>
                    <a:pt x="12548" y="2577"/>
                  </a:lnTo>
                  <a:lnTo>
                    <a:pt x="10800" y="0"/>
                  </a:lnTo>
                  <a:lnTo>
                    <a:pt x="9196" y="2547"/>
                  </a:lnTo>
                  <a:lnTo>
                    <a:pt x="6754" y="786"/>
                  </a:lnTo>
                  <a:lnTo>
                    <a:pt x="6221" y="3749"/>
                  </a:lnTo>
                  <a:lnTo>
                    <a:pt x="3163" y="3163"/>
                  </a:lnTo>
                  <a:lnTo>
                    <a:pt x="3830" y="6099"/>
                  </a:lnTo>
                  <a:lnTo>
                    <a:pt x="859" y="6580"/>
                  </a:lnTo>
                  <a:lnTo>
                    <a:pt x="2577" y="90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imes New Roman"/>
                </a:rPr>
                <a:t>ЛИСТЬЯ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4038480" y="5257800"/>
              <a:ext cx="1447920" cy="1143000"/>
            </a:xfrm>
            <a:custGeom>
              <a:avLst/>
              <a:gdLst>
                <a:gd name="textAreaLeft" fmla="*/ 325440 w 1447920"/>
                <a:gd name="textAreaRight" fmla="*/ 1122480 w 1447920"/>
                <a:gd name="textAreaTop" fmla="*/ 256680 h 1143000"/>
                <a:gd name="textAreaBottom" fmla="*/ 8863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47" y="12404"/>
                  </a:lnTo>
                  <a:lnTo>
                    <a:pt x="786" y="14846"/>
                  </a:lnTo>
                  <a:lnTo>
                    <a:pt x="3749" y="15379"/>
                  </a:lnTo>
                  <a:lnTo>
                    <a:pt x="3163" y="18437"/>
                  </a:lnTo>
                  <a:lnTo>
                    <a:pt x="6099" y="17770"/>
                  </a:lnTo>
                  <a:lnTo>
                    <a:pt x="6580" y="20741"/>
                  </a:lnTo>
                  <a:lnTo>
                    <a:pt x="9052" y="19023"/>
                  </a:lnTo>
                  <a:lnTo>
                    <a:pt x="10800" y="21600"/>
                  </a:lnTo>
                  <a:lnTo>
                    <a:pt x="12404" y="19053"/>
                  </a:lnTo>
                  <a:lnTo>
                    <a:pt x="14846" y="20814"/>
                  </a:lnTo>
                  <a:lnTo>
                    <a:pt x="15379" y="17851"/>
                  </a:lnTo>
                  <a:lnTo>
                    <a:pt x="18437" y="18437"/>
                  </a:lnTo>
                  <a:lnTo>
                    <a:pt x="17770" y="15501"/>
                  </a:lnTo>
                  <a:lnTo>
                    <a:pt x="20741" y="15020"/>
                  </a:lnTo>
                  <a:lnTo>
                    <a:pt x="19023" y="12548"/>
                  </a:lnTo>
                  <a:lnTo>
                    <a:pt x="21600" y="10800"/>
                  </a:lnTo>
                  <a:lnTo>
                    <a:pt x="19053" y="9196"/>
                  </a:lnTo>
                  <a:lnTo>
                    <a:pt x="20814" y="6754"/>
                  </a:lnTo>
                  <a:lnTo>
                    <a:pt x="17851" y="6221"/>
                  </a:lnTo>
                  <a:lnTo>
                    <a:pt x="18437" y="3163"/>
                  </a:lnTo>
                  <a:lnTo>
                    <a:pt x="15501" y="3830"/>
                  </a:lnTo>
                  <a:lnTo>
                    <a:pt x="15020" y="859"/>
                  </a:lnTo>
                  <a:lnTo>
                    <a:pt x="12548" y="2577"/>
                  </a:lnTo>
                  <a:lnTo>
                    <a:pt x="10800" y="0"/>
                  </a:lnTo>
                  <a:lnTo>
                    <a:pt x="9196" y="2547"/>
                  </a:lnTo>
                  <a:lnTo>
                    <a:pt x="6754" y="786"/>
                  </a:lnTo>
                  <a:lnTo>
                    <a:pt x="6221" y="3749"/>
                  </a:lnTo>
                  <a:lnTo>
                    <a:pt x="3163" y="3163"/>
                  </a:lnTo>
                  <a:lnTo>
                    <a:pt x="3830" y="6099"/>
                  </a:lnTo>
                  <a:lnTo>
                    <a:pt x="859" y="6580"/>
                  </a:lnTo>
                  <a:lnTo>
                    <a:pt x="2577" y="905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imes New Roman"/>
                </a:rPr>
                <a:t>ПОЧКА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8"/>
            <p:cNvSpPr/>
            <p:nvPr/>
          </p:nvSpPr>
          <p:spPr>
            <a:xfrm flipH="1">
              <a:off x="1981080" y="4038480"/>
              <a:ext cx="1067040" cy="609840"/>
            </a:xfrm>
            <a:prstGeom prst="line">
              <a:avLst/>
            </a:prstGeom>
            <a:ln w="63360">
              <a:solidFill>
                <a:srgbClr val="66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9"/>
            <p:cNvSpPr/>
            <p:nvPr/>
          </p:nvSpPr>
          <p:spPr>
            <a:xfrm>
              <a:off x="3276720" y="4038480"/>
              <a:ext cx="0" cy="1067040"/>
            </a:xfrm>
            <a:prstGeom prst="line">
              <a:avLst/>
            </a:prstGeom>
            <a:ln w="63360">
              <a:solidFill>
                <a:srgbClr val="66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30"/>
            <p:cNvSpPr/>
            <p:nvPr/>
          </p:nvSpPr>
          <p:spPr>
            <a:xfrm>
              <a:off x="3505320" y="4038480"/>
              <a:ext cx="1218960" cy="1447920"/>
            </a:xfrm>
            <a:prstGeom prst="line">
              <a:avLst/>
            </a:prstGeom>
            <a:ln w="63360">
              <a:solidFill>
                <a:srgbClr val="66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99" name="Picture 35" descr="NA01441_"/>
          <p:cNvPicPr/>
          <p:nvPr/>
        </p:nvPicPr>
        <p:blipFill>
          <a:blip r:embed="rId1"/>
          <a:stretch/>
        </p:blipFill>
        <p:spPr>
          <a:xfrm>
            <a:off x="7315200" y="495288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80880" y="304920"/>
            <a:ext cx="807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НЕШНЕЕ СТРОЕНИЕ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ЕГЕТАТИВНЫХ ОРГАНОВ РАСТЕНИ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304920" y="2362320"/>
            <a:ext cx="2286000" cy="761760"/>
          </a:xfrm>
          <a:prstGeom prst="parallelogram">
            <a:avLst>
              <a:gd name="adj" fmla="val 0"/>
            </a:avLst>
          </a:prstGeom>
          <a:solidFill>
            <a:srgbClr val="e87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ГЛАВНЫЙ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(из зародыша семени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048120" y="2362320"/>
            <a:ext cx="2438280" cy="761760"/>
          </a:xfrm>
          <a:prstGeom prst="parallelogram">
            <a:avLst>
              <a:gd name="adj" fmla="val 0"/>
            </a:avLst>
          </a:prstGeom>
          <a:solidFill>
            <a:srgbClr val="e87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ПРИДАТОЧНЫ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(от стебля или листьев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5867280" y="2362320"/>
            <a:ext cx="2743200" cy="761760"/>
          </a:xfrm>
          <a:prstGeom prst="parallelogram">
            <a:avLst>
              <a:gd name="adj" fmla="val 0"/>
            </a:avLst>
          </a:prstGeom>
          <a:solidFill>
            <a:srgbClr val="e87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БОКОВЫ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(от главных и придаточных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304920" y="4038480"/>
            <a:ext cx="8229600" cy="2438640"/>
            <a:chOff x="304920" y="4038480"/>
            <a:chExt cx="8229600" cy="2438640"/>
          </a:xfrm>
        </p:grpSpPr>
        <p:sp>
          <p:nvSpPr>
            <p:cNvPr id="206" name="AutoShape 8"/>
            <p:cNvSpPr/>
            <p:nvPr/>
          </p:nvSpPr>
          <p:spPr>
            <a:xfrm>
              <a:off x="609480" y="4038480"/>
              <a:ext cx="7925040" cy="914400"/>
            </a:xfrm>
            <a:custGeom>
              <a:avLst/>
              <a:gdLst>
                <a:gd name="textAreaLeft" fmla="*/ 1287360 w 7925040"/>
                <a:gd name="textAreaRight" fmla="*/ 6637680 w 7925040"/>
                <a:gd name="textAreaTop" fmla="*/ 14904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534" y="0"/>
                  </a:lnTo>
                  <a:arcTo wR="675" hR="881" stAng="16200000" swAng="5400000"/>
                  <a:lnTo>
                    <a:pt x="6209" y="3525"/>
                  </a:lnTo>
                  <a:lnTo>
                    <a:pt x="15391" y="3525"/>
                  </a:lnTo>
                  <a:lnTo>
                    <a:pt x="15391" y="881"/>
                  </a:lnTo>
                  <a:arcTo wR="675" hR="881" stAng="10800000" swAng="5400000"/>
                  <a:lnTo>
                    <a:pt x="21600" y="0"/>
                  </a:lnTo>
                  <a:lnTo>
                    <a:pt x="18900" y="9038"/>
                  </a:lnTo>
                  <a:lnTo>
                    <a:pt x="21600" y="18075"/>
                  </a:lnTo>
                  <a:lnTo>
                    <a:pt x="18091" y="18075"/>
                  </a:lnTo>
                  <a:lnTo>
                    <a:pt x="18091" y="20719"/>
                  </a:lnTo>
                  <a:arcTo wR="675" hR="881" stAng="0" swAng="5400000"/>
                  <a:lnTo>
                    <a:pt x="4184" y="21600"/>
                  </a:lnTo>
                  <a:arcTo wR="675" hR="881" stAng="5400000" swAng="5400000"/>
                  <a:lnTo>
                    <a:pt x="3509" y="18075"/>
                  </a:lnTo>
                  <a:lnTo>
                    <a:pt x="0" y="18075"/>
                  </a:lnTo>
                  <a:lnTo>
                    <a:pt x="2700" y="9038"/>
                  </a:lnTo>
                  <a:close/>
                </a:path>
                <a:path fill="none" w="21600" h="21600">
                  <a:moveTo>
                    <a:pt x="6209" y="881"/>
                  </a:moveTo>
                  <a:arcTo wR="675" hR="881" stAng="0" swAng="5400000"/>
                  <a:lnTo>
                    <a:pt x="4184" y="1763"/>
                  </a:lnTo>
                  <a:arcTo wR="675" hR="881" stAng="16200000" swAng="-5400000"/>
                  <a:arcTo wR="675" hR="881" stAng="10800000" swAng="-5400000"/>
                  <a:lnTo>
                    <a:pt x="6209" y="3525"/>
                  </a:lnTo>
                </a:path>
                <a:path fill="none" w="21600" h="21600">
                  <a:moveTo>
                    <a:pt x="15391" y="881"/>
                  </a:moveTo>
                  <a:arcTo wR="675" hR="881" stAng="10800000" swAng="-5400000"/>
                  <a:lnTo>
                    <a:pt x="17416" y="1763"/>
                  </a:lnTo>
                  <a:arcTo wR="675" hR="881" stAng="16200000" swAng="5400000"/>
                  <a:arcTo wR="675" hR="881" stAng="0" swAng="5400000"/>
                  <a:lnTo>
                    <a:pt x="15391" y="3525"/>
                  </a:lnTo>
                </a:path>
                <a:path fill="none" w="21600" h="21600">
                  <a:moveTo>
                    <a:pt x="3509" y="2644"/>
                  </a:moveTo>
                  <a:lnTo>
                    <a:pt x="3509" y="18075"/>
                  </a:lnTo>
                </a:path>
                <a:path fill="none" w="21600" h="21600">
                  <a:moveTo>
                    <a:pt x="18091" y="2644"/>
                  </a:moveTo>
                  <a:lnTo>
                    <a:pt x="18091" y="18075"/>
                  </a:lnTo>
                </a:path>
              </a:pathLst>
            </a:custGeom>
            <a:solidFill>
              <a:srgbClr val="f1fc0e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ТИПЫ КОРНЕВОЙ СИСТЕМЫ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304920" y="5334120"/>
              <a:ext cx="3200400" cy="1143000"/>
            </a:xfrm>
            <a:prstGeom prst="ellipse">
              <a:avLst/>
            </a:prstGeom>
            <a:solidFill>
              <a:srgbClr val="fcdd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СТЕРЖНЕВАЯ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главный корень хорошо развит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(двудольные растения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5257800" y="5334120"/>
              <a:ext cx="3200400" cy="1143000"/>
            </a:xfrm>
            <a:prstGeom prst="ellipse">
              <a:avLst/>
            </a:prstGeom>
            <a:solidFill>
              <a:srgbClr val="fcdd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МОЧКОВАТАЯ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главный корень не выражен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(однодольные растения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AutoShape 11"/>
            <p:cNvSpPr/>
            <p:nvPr/>
          </p:nvSpPr>
          <p:spPr>
            <a:xfrm>
              <a:off x="3505320" y="4952880"/>
              <a:ext cx="1904760" cy="990720"/>
            </a:xfrm>
            <a:custGeom>
              <a:avLst/>
              <a:gdLst>
                <a:gd name="textAreaLeft" fmla="*/ 153720 w 1904760"/>
                <a:gd name="textAreaRight" fmla="*/ 1751040 w 1904760"/>
                <a:gd name="textAreaTop" fmla="*/ 781200 h 990720"/>
                <a:gd name="textAreaBottom" fmla="*/ 9147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8982" y="6404"/>
                  </a:lnTo>
                  <a:lnTo>
                    <a:pt x="9954" y="6404"/>
                  </a:lnTo>
                  <a:lnTo>
                    <a:pt x="9954" y="17040"/>
                  </a:lnTo>
                  <a:lnTo>
                    <a:pt x="3741" y="17040"/>
                  </a:lnTo>
                  <a:lnTo>
                    <a:pt x="3741" y="15376"/>
                  </a:lnTo>
                  <a:lnTo>
                    <a:pt x="0" y="18488"/>
                  </a:lnTo>
                  <a:lnTo>
                    <a:pt x="3741" y="21600"/>
                  </a:lnTo>
                  <a:lnTo>
                    <a:pt x="3741" y="19936"/>
                  </a:lnTo>
                  <a:lnTo>
                    <a:pt x="17859" y="19936"/>
                  </a:lnTo>
                  <a:lnTo>
                    <a:pt x="17859" y="21600"/>
                  </a:lnTo>
                  <a:lnTo>
                    <a:pt x="21600" y="18488"/>
                  </a:lnTo>
                  <a:lnTo>
                    <a:pt x="17859" y="15376"/>
                  </a:lnTo>
                  <a:lnTo>
                    <a:pt x="17859" y="17040"/>
                  </a:lnTo>
                  <a:lnTo>
                    <a:pt x="11646" y="17040"/>
                  </a:lnTo>
                  <a:lnTo>
                    <a:pt x="11646" y="6404"/>
                  </a:lnTo>
                  <a:lnTo>
                    <a:pt x="12618" y="6404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0" name="AutoShape 12"/>
          <p:cNvSpPr/>
          <p:nvPr/>
        </p:nvSpPr>
        <p:spPr>
          <a:xfrm>
            <a:off x="2209680" y="19051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4191120" y="19051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6553080" y="19051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304920" y="1143000"/>
            <a:ext cx="8305560" cy="838080"/>
          </a:xfrm>
          <a:custGeom>
            <a:avLst/>
            <a:gdLst>
              <a:gd name="textAreaLeft" fmla="*/ 1658520 w 8305560"/>
              <a:gd name="textAreaRight" fmla="*/ 6647040 w 8305560"/>
              <a:gd name="textAreaTop" fmla="*/ 209520 h 838080"/>
              <a:gd name="textAreaBottom" fmla="*/ 802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86271"/>
                <a:lnTo>
                  <a:pt x="4314" y="20670"/>
                </a:lnTo>
                <a:arcTo wR="21600" hR="20153" stAng="6518685" swAng="-2237371"/>
                <a:lnTo>
                  <a:pt x="17286" y="17970"/>
                </a:lnTo>
                <a:arcTo wR="21600" hR="20153" stAng="4281315" swAng="-7862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56772"/>
                <a:lnTo>
                  <a:pt x="14586" y="5088"/>
                </a:lnTo>
                <a:arcTo wR="21600" hR="20153" stAng="4751815" swAng="1296370"/>
                <a:lnTo>
                  <a:pt x="7014" y="2388"/>
                </a:lnTo>
                <a:arcTo wR="21600" hR="20153" stAng="6048185" swAng="1256772"/>
                <a:lnTo>
                  <a:pt x="2700" y="9329"/>
                </a:lnTo>
                <a:close/>
              </a:path>
              <a:path fill="none" w="21600" h="21600">
                <a:moveTo>
                  <a:pt x="7014" y="5088"/>
                </a:moveTo>
                <a:arcTo wR="21600" hR="20153" stAng="6048185" swAng="470501"/>
                <a:lnTo>
                  <a:pt x="7014" y="2388"/>
                </a:lnTo>
              </a:path>
              <a:path fill="none" w="21600" h="21600">
                <a:moveTo>
                  <a:pt x="14586" y="5088"/>
                </a:moveTo>
                <a:arcTo wR="21600" hR="20153" stAng="4751815" swAng="-470501"/>
                <a:lnTo>
                  <a:pt x="14586" y="2388"/>
                </a:lnTo>
              </a:path>
              <a:path fill="none" w="21600" h="21600">
                <a:moveTo>
                  <a:pt x="4314" y="17970"/>
                </a:moveTo>
                <a:lnTo>
                  <a:pt x="4314" y="4470"/>
                </a:lnTo>
              </a:path>
              <a:path fill="none" w="21600" h="21600">
                <a:moveTo>
                  <a:pt x="17286" y="17970"/>
                </a:moveTo>
                <a:lnTo>
                  <a:pt x="17286" y="4470"/>
                </a:lnTo>
              </a:path>
            </a:pathLst>
          </a:custGeom>
          <a:solidFill>
            <a:srgbClr val="f3a3f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ИДЫ КОРНЕЙ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914400" y="380880"/>
            <a:ext cx="6934320" cy="1295640"/>
          </a:xfrm>
          <a:prstGeom prst="horizontalScroll">
            <a:avLst>
              <a:gd name="adj" fmla="val 25000"/>
            </a:avLst>
          </a:prstGeom>
          <a:solidFill>
            <a:srgbClr val="c079f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ФУНКЦИИ КОРНЯ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6" name="Group 11"/>
          <p:cNvGrpSpPr/>
          <p:nvPr/>
        </p:nvGrpSpPr>
        <p:grpSpPr>
          <a:xfrm>
            <a:off x="533520" y="1752480"/>
            <a:ext cx="7619760" cy="1676160"/>
            <a:chOff x="533520" y="1752480"/>
            <a:chExt cx="7619760" cy="1676160"/>
          </a:xfrm>
        </p:grpSpPr>
        <p:sp>
          <p:nvSpPr>
            <p:cNvPr id="217" name="AutoShape 8"/>
            <p:cNvSpPr/>
            <p:nvPr/>
          </p:nvSpPr>
          <p:spPr>
            <a:xfrm>
              <a:off x="533520" y="1752480"/>
              <a:ext cx="3124080" cy="1371600"/>
            </a:xfrm>
            <a:custGeom>
              <a:avLst/>
              <a:gdLst>
                <a:gd name="textAreaLeft" fmla="*/ 713160 w 3124080"/>
                <a:gd name="textAreaRight" fmla="*/ 2410920 w 3124080"/>
                <a:gd name="textAreaTop" fmla="*/ 313200 h 1371600"/>
                <a:gd name="textAreaBottom" fmla="*/ 10584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6f8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ЯКОРЬ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AutoShape 9"/>
            <p:cNvSpPr/>
            <p:nvPr/>
          </p:nvSpPr>
          <p:spPr>
            <a:xfrm>
              <a:off x="4495680" y="2361960"/>
              <a:ext cx="3657600" cy="1066680"/>
            </a:xfrm>
            <a:prstGeom prst="hexagon">
              <a:avLst>
                <a:gd name="adj" fmla="val 88216"/>
                <a:gd name="vf" fmla="val 115470"/>
              </a:avLst>
            </a:prstGeom>
            <a:solidFill>
              <a:srgbClr val="fa48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Удерживает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астение в почве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19" name="AutoShape 10"/>
            <p:cNvCxnSpPr>
              <a:endCxn id="218" idx="2"/>
            </p:cNvCxnSpPr>
            <p:nvPr/>
          </p:nvCxnSpPr>
          <p:spPr>
            <a:xfrm>
              <a:off x="3581280" y="2628360"/>
              <a:ext cx="915120" cy="267120"/>
            </a:xfrm>
            <a:prstGeom prst="bentConnector3">
              <a:avLst>
                <a:gd name="adj1" fmla="val 49980"/>
              </a:avLst>
            </a:prstGeom>
            <a:ln w="76320">
              <a:solidFill>
                <a:srgbClr val="000066"/>
              </a:solidFill>
              <a:miter/>
              <a:headEnd len="med" type="oval" w="med"/>
              <a:tailEnd len="med" type="stealth" w="med"/>
            </a:ln>
          </p:spPr>
        </p:cxnSp>
      </p:grpSp>
      <p:grpSp>
        <p:nvGrpSpPr>
          <p:cNvPr id="220" name="Group 12"/>
          <p:cNvGrpSpPr/>
          <p:nvPr/>
        </p:nvGrpSpPr>
        <p:grpSpPr>
          <a:xfrm>
            <a:off x="533520" y="3200400"/>
            <a:ext cx="7619760" cy="1676160"/>
            <a:chOff x="533520" y="3200400"/>
            <a:chExt cx="7619760" cy="1676160"/>
          </a:xfrm>
        </p:grpSpPr>
        <p:sp>
          <p:nvSpPr>
            <p:cNvPr id="221" name="AutoShape 13"/>
            <p:cNvSpPr/>
            <p:nvPr/>
          </p:nvSpPr>
          <p:spPr>
            <a:xfrm>
              <a:off x="533520" y="3200400"/>
              <a:ext cx="3124080" cy="1371600"/>
            </a:xfrm>
            <a:custGeom>
              <a:avLst/>
              <a:gdLst>
                <a:gd name="textAreaLeft" fmla="*/ 713160 w 3124080"/>
                <a:gd name="textAreaRight" fmla="*/ 2410920 w 3124080"/>
                <a:gd name="textAreaTop" fmla="*/ 313200 h 1371600"/>
                <a:gd name="textAreaBottom" fmla="*/ 10584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6f8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НАСОС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AutoShape 14"/>
            <p:cNvSpPr/>
            <p:nvPr/>
          </p:nvSpPr>
          <p:spPr>
            <a:xfrm>
              <a:off x="4495680" y="3809880"/>
              <a:ext cx="3657600" cy="1066680"/>
            </a:xfrm>
            <a:prstGeom prst="hexagon">
              <a:avLst>
                <a:gd name="adj" fmla="val 88216"/>
                <a:gd name="vf" fmla="val 115470"/>
              </a:avLst>
            </a:prstGeom>
            <a:solidFill>
              <a:srgbClr val="fa48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оглощает воду и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минеральные соли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23" name="AutoShape 15"/>
            <p:cNvCxnSpPr>
              <a:endCxn id="222" idx="2"/>
            </p:cNvCxnSpPr>
            <p:nvPr/>
          </p:nvCxnSpPr>
          <p:spPr>
            <a:xfrm>
              <a:off x="3581280" y="4076280"/>
              <a:ext cx="915120" cy="267120"/>
            </a:xfrm>
            <a:prstGeom prst="bentConnector3">
              <a:avLst>
                <a:gd name="adj1" fmla="val 49980"/>
              </a:avLst>
            </a:prstGeom>
            <a:ln w="76320">
              <a:solidFill>
                <a:srgbClr val="000066"/>
              </a:solidFill>
              <a:miter/>
              <a:headEnd len="med" type="oval" w="med"/>
              <a:tailEnd len="med" type="stealth" w="med"/>
            </a:ln>
          </p:spPr>
        </p:cxnSp>
      </p:grpSp>
      <p:grpSp>
        <p:nvGrpSpPr>
          <p:cNvPr id="224" name="Group 16"/>
          <p:cNvGrpSpPr/>
          <p:nvPr/>
        </p:nvGrpSpPr>
        <p:grpSpPr>
          <a:xfrm>
            <a:off x="533520" y="4724280"/>
            <a:ext cx="7619760" cy="1676160"/>
            <a:chOff x="533520" y="4724280"/>
            <a:chExt cx="7619760" cy="1676160"/>
          </a:xfrm>
        </p:grpSpPr>
        <p:sp>
          <p:nvSpPr>
            <p:cNvPr id="225" name="AutoShape 17"/>
            <p:cNvSpPr/>
            <p:nvPr/>
          </p:nvSpPr>
          <p:spPr>
            <a:xfrm>
              <a:off x="533520" y="4724280"/>
              <a:ext cx="3124080" cy="1371600"/>
            </a:xfrm>
            <a:custGeom>
              <a:avLst/>
              <a:gdLst>
                <a:gd name="textAreaLeft" fmla="*/ 713160 w 3124080"/>
                <a:gd name="textAreaRight" fmla="*/ 2410920 w 3124080"/>
                <a:gd name="textAreaTop" fmla="*/ 313200 h 1371600"/>
                <a:gd name="textAreaBottom" fmla="*/ 10584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6f8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СКЛАД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AutoShape 18"/>
            <p:cNvSpPr/>
            <p:nvPr/>
          </p:nvSpPr>
          <p:spPr>
            <a:xfrm>
              <a:off x="4495680" y="5333760"/>
              <a:ext cx="3657600" cy="1066680"/>
            </a:xfrm>
            <a:prstGeom prst="hexagon">
              <a:avLst>
                <a:gd name="adj" fmla="val 88216"/>
                <a:gd name="vf" fmla="val 115470"/>
              </a:avLst>
            </a:prstGeom>
            <a:solidFill>
              <a:srgbClr val="fa48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Запасает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итательные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ещества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227" name="AutoShape 19"/>
            <p:cNvCxnSpPr>
              <a:endCxn id="226" idx="2"/>
            </p:cNvCxnSpPr>
            <p:nvPr/>
          </p:nvCxnSpPr>
          <p:spPr>
            <a:xfrm>
              <a:off x="3581280" y="5600160"/>
              <a:ext cx="915120" cy="267120"/>
            </a:xfrm>
            <a:prstGeom prst="bentConnector3">
              <a:avLst>
                <a:gd name="adj1" fmla="val 49980"/>
              </a:avLst>
            </a:prstGeom>
            <a:ln w="76320">
              <a:solidFill>
                <a:srgbClr val="000066"/>
              </a:solidFill>
              <a:miter/>
              <a:headEnd len="med" type="oval" w="med"/>
              <a:tailEnd len="med" type="stealth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5971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8401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838080" y="380880"/>
            <a:ext cx="7467840" cy="990720"/>
          </a:xfrm>
          <a:custGeom>
            <a:avLst/>
            <a:gdLst>
              <a:gd name="textAreaLeft" fmla="*/ 1736640 w 7467840"/>
              <a:gd name="textAreaRight" fmla="*/ 5731200 w 7467840"/>
              <a:gd name="textAreaTop" fmla="*/ 230400 h 990720"/>
              <a:gd name="textAreaBottom" fmla="*/ 7603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62" y="11512"/>
                </a:lnTo>
                <a:lnTo>
                  <a:pt x="198" y="12861"/>
                </a:lnTo>
                <a:lnTo>
                  <a:pt x="2947" y="13052"/>
                </a:lnTo>
                <a:lnTo>
                  <a:pt x="786" y="14846"/>
                </a:lnTo>
                <a:lnTo>
                  <a:pt x="3587" y="14635"/>
                </a:lnTo>
                <a:lnTo>
                  <a:pt x="1742" y="16682"/>
                </a:lnTo>
                <a:lnTo>
                  <a:pt x="4451" y="15941"/>
                </a:lnTo>
                <a:lnTo>
                  <a:pt x="3163" y="18437"/>
                </a:lnTo>
                <a:lnTo>
                  <a:pt x="5549" y="17058"/>
                </a:lnTo>
                <a:lnTo>
                  <a:pt x="4761" y="19754"/>
                </a:lnTo>
                <a:lnTo>
                  <a:pt x="6840" y="17945"/>
                </a:lnTo>
                <a:lnTo>
                  <a:pt x="6580" y="20741"/>
                </a:lnTo>
                <a:lnTo>
                  <a:pt x="8412" y="18612"/>
                </a:lnTo>
                <a:lnTo>
                  <a:pt x="8555" y="21364"/>
                </a:lnTo>
                <a:lnTo>
                  <a:pt x="9946" y="18924"/>
                </a:lnTo>
                <a:lnTo>
                  <a:pt x="10800" y="21600"/>
                </a:lnTo>
                <a:lnTo>
                  <a:pt x="11512" y="18938"/>
                </a:lnTo>
                <a:lnTo>
                  <a:pt x="12861" y="21402"/>
                </a:lnTo>
                <a:lnTo>
                  <a:pt x="13052" y="18653"/>
                </a:lnTo>
                <a:lnTo>
                  <a:pt x="14846" y="20814"/>
                </a:lnTo>
                <a:lnTo>
                  <a:pt x="14635" y="18013"/>
                </a:lnTo>
                <a:lnTo>
                  <a:pt x="16682" y="19858"/>
                </a:lnTo>
                <a:lnTo>
                  <a:pt x="15941" y="17149"/>
                </a:lnTo>
                <a:lnTo>
                  <a:pt x="18437" y="18437"/>
                </a:lnTo>
                <a:lnTo>
                  <a:pt x="17058" y="16051"/>
                </a:lnTo>
                <a:lnTo>
                  <a:pt x="19754" y="16839"/>
                </a:lnTo>
                <a:lnTo>
                  <a:pt x="17945" y="14760"/>
                </a:lnTo>
                <a:lnTo>
                  <a:pt x="20741" y="15020"/>
                </a:lnTo>
                <a:lnTo>
                  <a:pt x="18612" y="13188"/>
                </a:lnTo>
                <a:lnTo>
                  <a:pt x="21364" y="13045"/>
                </a:lnTo>
                <a:lnTo>
                  <a:pt x="18924" y="11654"/>
                </a:lnTo>
                <a:lnTo>
                  <a:pt x="21600" y="10800"/>
                </a:lnTo>
                <a:lnTo>
                  <a:pt x="18938" y="10088"/>
                </a:lnTo>
                <a:lnTo>
                  <a:pt x="21402" y="8739"/>
                </a:lnTo>
                <a:lnTo>
                  <a:pt x="18653" y="8548"/>
                </a:lnTo>
                <a:lnTo>
                  <a:pt x="20814" y="6754"/>
                </a:lnTo>
                <a:lnTo>
                  <a:pt x="18013" y="6965"/>
                </a:lnTo>
                <a:lnTo>
                  <a:pt x="19858" y="4918"/>
                </a:lnTo>
                <a:lnTo>
                  <a:pt x="17149" y="5659"/>
                </a:lnTo>
                <a:lnTo>
                  <a:pt x="18437" y="3163"/>
                </a:lnTo>
                <a:lnTo>
                  <a:pt x="16051" y="4542"/>
                </a:lnTo>
                <a:lnTo>
                  <a:pt x="16839" y="1846"/>
                </a:lnTo>
                <a:lnTo>
                  <a:pt x="14760" y="3655"/>
                </a:lnTo>
                <a:lnTo>
                  <a:pt x="15020" y="859"/>
                </a:lnTo>
                <a:lnTo>
                  <a:pt x="13188" y="2988"/>
                </a:lnTo>
                <a:lnTo>
                  <a:pt x="13045" y="236"/>
                </a:lnTo>
                <a:lnTo>
                  <a:pt x="11654" y="2676"/>
                </a:lnTo>
                <a:lnTo>
                  <a:pt x="10800" y="0"/>
                </a:lnTo>
                <a:lnTo>
                  <a:pt x="10088" y="2662"/>
                </a:lnTo>
                <a:lnTo>
                  <a:pt x="8739" y="198"/>
                </a:lnTo>
                <a:lnTo>
                  <a:pt x="8548" y="2947"/>
                </a:lnTo>
                <a:lnTo>
                  <a:pt x="6754" y="786"/>
                </a:lnTo>
                <a:lnTo>
                  <a:pt x="6965" y="3587"/>
                </a:lnTo>
                <a:lnTo>
                  <a:pt x="4918" y="1742"/>
                </a:lnTo>
                <a:lnTo>
                  <a:pt x="5659" y="4451"/>
                </a:lnTo>
                <a:lnTo>
                  <a:pt x="3163" y="3163"/>
                </a:lnTo>
                <a:lnTo>
                  <a:pt x="4542" y="5549"/>
                </a:lnTo>
                <a:lnTo>
                  <a:pt x="1846" y="4761"/>
                </a:lnTo>
                <a:lnTo>
                  <a:pt x="3655" y="6840"/>
                </a:lnTo>
                <a:lnTo>
                  <a:pt x="859" y="6580"/>
                </a:lnTo>
                <a:lnTo>
                  <a:pt x="2988" y="8412"/>
                </a:lnTo>
                <a:lnTo>
                  <a:pt x="236" y="8555"/>
                </a:lnTo>
                <a:lnTo>
                  <a:pt x="2676" y="9946"/>
                </a:lnTo>
                <a:lnTo>
                  <a:pt x="0" y="10800"/>
                </a:lnTo>
                <a:close/>
              </a:path>
            </a:pathLst>
          </a:custGeom>
          <a:solidFill>
            <a:srgbClr val="1cee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ИДОИЗМЕНЕНИЯ КОРНЕ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609480" y="34290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3" name="Group 29"/>
          <p:cNvGrpSpPr/>
          <p:nvPr/>
        </p:nvGrpSpPr>
        <p:grpSpPr>
          <a:xfrm>
            <a:off x="228600" y="1981080"/>
            <a:ext cx="2362320" cy="4419720"/>
            <a:chOff x="228600" y="1981080"/>
            <a:chExt cx="2362320" cy="4419720"/>
          </a:xfrm>
        </p:grpSpPr>
        <p:graphicFrame>
          <p:nvGraphicFramePr>
            <p:cNvPr id="234" name="Object 11"/>
            <p:cNvGraphicFramePr/>
            <p:nvPr/>
          </p:nvGraphicFramePr>
          <p:xfrm>
            <a:off x="533520" y="4038480"/>
            <a:ext cx="1828800" cy="236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4038480"/>
                      <a:ext cx="1828800" cy="2362320"/>
                    </a:xfrm>
                    <a:prstGeom prst="rect">
                      <a:avLst/>
                    </a:prstGeom>
                    <a:ln w="93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36" name="Rectangle 19"/>
            <p:cNvSpPr/>
            <p:nvPr/>
          </p:nvSpPr>
          <p:spPr>
            <a:xfrm>
              <a:off x="533520" y="3581280"/>
              <a:ext cx="1752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Мангровые деревья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23"/>
            <p:cNvSpPr/>
            <p:nvPr/>
          </p:nvSpPr>
          <p:spPr>
            <a:xfrm>
              <a:off x="228600" y="1981080"/>
              <a:ext cx="2362320" cy="838440"/>
            </a:xfrm>
            <a:prstGeom prst="rect">
              <a:avLst/>
            </a:prstGeom>
            <a:gradFill rotWithShape="0">
              <a:gsLst>
                <a:gs pos="0">
                  <a:srgbClr val="72750b"/>
                </a:gs>
                <a:gs pos="50000">
                  <a:srgbClr val="f7fc18"/>
                </a:gs>
                <a:gs pos="100000">
                  <a:srgbClr val="7275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Times New Roman"/>
                </a:rPr>
                <a:t>ДЫХАТЕЛЬНЫЕ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AutoShape 26"/>
            <p:cNvSpPr/>
            <p:nvPr/>
          </p:nvSpPr>
          <p:spPr>
            <a:xfrm>
              <a:off x="1143000" y="2819520"/>
              <a:ext cx="304920" cy="8380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233280 h 838080"/>
                <a:gd name="textAreaBottom" fmla="*/ 60480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014"/>
                  </a:moveTo>
                  <a:lnTo>
                    <a:pt x="0" y="15586"/>
                  </a:lnTo>
                  <a:lnTo>
                    <a:pt x="8100" y="15586"/>
                  </a:lnTo>
                  <a:lnTo>
                    <a:pt x="8100" y="18900"/>
                  </a:lnTo>
                  <a:lnTo>
                    <a:pt x="0" y="18900"/>
                  </a:lnTo>
                  <a:lnTo>
                    <a:pt x="10800" y="21600"/>
                  </a:lnTo>
                  <a:lnTo>
                    <a:pt x="21600" y="18900"/>
                  </a:lnTo>
                  <a:lnTo>
                    <a:pt x="13500" y="18900"/>
                  </a:lnTo>
                  <a:lnTo>
                    <a:pt x="13500" y="15586"/>
                  </a:lnTo>
                  <a:lnTo>
                    <a:pt x="21600" y="15586"/>
                  </a:lnTo>
                  <a:lnTo>
                    <a:pt x="21600" y="6014"/>
                  </a:lnTo>
                  <a:lnTo>
                    <a:pt x="13500" y="6014"/>
                  </a:lnTo>
                  <a:lnTo>
                    <a:pt x="13500" y="2700"/>
                  </a:lnTo>
                  <a:lnTo>
                    <a:pt x="21600" y="2700"/>
                  </a:lnTo>
                  <a:lnTo>
                    <a:pt x="10800" y="0"/>
                  </a:lnTo>
                  <a:lnTo>
                    <a:pt x="0" y="2700"/>
                  </a:lnTo>
                  <a:lnTo>
                    <a:pt x="8100" y="2700"/>
                  </a:lnTo>
                  <a:lnTo>
                    <a:pt x="8100" y="6014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9" name="Group 30"/>
          <p:cNvGrpSpPr/>
          <p:nvPr/>
        </p:nvGrpSpPr>
        <p:grpSpPr>
          <a:xfrm>
            <a:off x="3276720" y="1981080"/>
            <a:ext cx="2361960" cy="4419720"/>
            <a:chOff x="3276720" y="1981080"/>
            <a:chExt cx="2361960" cy="4419720"/>
          </a:xfrm>
        </p:grpSpPr>
        <p:pic>
          <p:nvPicPr>
            <p:cNvPr id="240" name="Picture 14" descr="http://vnikolaeva.narod.ru/chugreeva/banjan.jpg"/>
            <p:cNvPicPr/>
            <p:nvPr/>
          </p:nvPicPr>
          <p:blipFill>
            <a:blip r:embed="rId3"/>
            <a:stretch/>
          </p:blipFill>
          <p:spPr>
            <a:xfrm>
              <a:off x="3505320" y="4038480"/>
              <a:ext cx="1904760" cy="236232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241" name="Rectangle 20"/>
            <p:cNvSpPr/>
            <p:nvPr/>
          </p:nvSpPr>
          <p:spPr>
            <a:xfrm>
              <a:off x="3505320" y="3581280"/>
              <a:ext cx="1752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Баньян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3276720" y="1981080"/>
              <a:ext cx="2361960" cy="838440"/>
            </a:xfrm>
            <a:prstGeom prst="rect">
              <a:avLst/>
            </a:prstGeom>
            <a:gradFill rotWithShape="0">
              <a:gsLst>
                <a:gs pos="0">
                  <a:srgbClr val="72750b"/>
                </a:gs>
                <a:gs pos="50000">
                  <a:srgbClr val="f7fc18"/>
                </a:gs>
                <a:gs pos="100000">
                  <a:srgbClr val="7275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Times New Roman"/>
                </a:rPr>
                <a:t>ПОДПОРКИ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AutoShape 27"/>
            <p:cNvSpPr/>
            <p:nvPr/>
          </p:nvSpPr>
          <p:spPr>
            <a:xfrm>
              <a:off x="4191120" y="2819520"/>
              <a:ext cx="304560" cy="8380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233280 h 838080"/>
                <a:gd name="textAreaBottom" fmla="*/ 60480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014"/>
                  </a:moveTo>
                  <a:lnTo>
                    <a:pt x="0" y="15586"/>
                  </a:lnTo>
                  <a:lnTo>
                    <a:pt x="8100" y="15586"/>
                  </a:lnTo>
                  <a:lnTo>
                    <a:pt x="8100" y="18900"/>
                  </a:lnTo>
                  <a:lnTo>
                    <a:pt x="0" y="18900"/>
                  </a:lnTo>
                  <a:lnTo>
                    <a:pt x="10800" y="21600"/>
                  </a:lnTo>
                  <a:lnTo>
                    <a:pt x="21600" y="18900"/>
                  </a:lnTo>
                  <a:lnTo>
                    <a:pt x="13500" y="18900"/>
                  </a:lnTo>
                  <a:lnTo>
                    <a:pt x="13500" y="15586"/>
                  </a:lnTo>
                  <a:lnTo>
                    <a:pt x="21600" y="15586"/>
                  </a:lnTo>
                  <a:lnTo>
                    <a:pt x="21600" y="6014"/>
                  </a:lnTo>
                  <a:lnTo>
                    <a:pt x="13500" y="6014"/>
                  </a:lnTo>
                  <a:lnTo>
                    <a:pt x="13500" y="2700"/>
                  </a:lnTo>
                  <a:lnTo>
                    <a:pt x="21600" y="2700"/>
                  </a:lnTo>
                  <a:lnTo>
                    <a:pt x="10800" y="0"/>
                  </a:lnTo>
                  <a:lnTo>
                    <a:pt x="0" y="2700"/>
                  </a:lnTo>
                  <a:lnTo>
                    <a:pt x="8100" y="2700"/>
                  </a:lnTo>
                  <a:lnTo>
                    <a:pt x="8100" y="6014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4" name="Group 31"/>
          <p:cNvGrpSpPr/>
          <p:nvPr/>
        </p:nvGrpSpPr>
        <p:grpSpPr>
          <a:xfrm>
            <a:off x="6172200" y="1981080"/>
            <a:ext cx="2362320" cy="4419720"/>
            <a:chOff x="6172200" y="1981080"/>
            <a:chExt cx="2362320" cy="4419720"/>
          </a:xfrm>
        </p:grpSpPr>
        <p:pic>
          <p:nvPicPr>
            <p:cNvPr id="245" name="Picture 12" descr="http://house-fauna.narod.ru/flora/107.gif"/>
            <p:cNvPicPr/>
            <p:nvPr/>
          </p:nvPicPr>
          <p:blipFill>
            <a:blip r:embed="rId4"/>
            <a:stretch/>
          </p:blipFill>
          <p:spPr>
            <a:xfrm>
              <a:off x="6477120" y="4038480"/>
              <a:ext cx="1904760" cy="236232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246" name="Rectangle 21"/>
            <p:cNvSpPr/>
            <p:nvPr/>
          </p:nvSpPr>
          <p:spPr>
            <a:xfrm>
              <a:off x="6477120" y="3581280"/>
              <a:ext cx="1752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лющ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6172200" y="1981080"/>
              <a:ext cx="2362320" cy="838440"/>
            </a:xfrm>
            <a:prstGeom prst="rect">
              <a:avLst/>
            </a:prstGeom>
            <a:gradFill rotWithShape="0">
              <a:gsLst>
                <a:gs pos="0">
                  <a:srgbClr val="72750b"/>
                </a:gs>
                <a:gs pos="50000">
                  <a:srgbClr val="f7fc18"/>
                </a:gs>
                <a:gs pos="100000">
                  <a:srgbClr val="7275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Times New Roman"/>
                </a:rPr>
                <a:t>ПРИЦЕПКИ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AutoShape 28"/>
            <p:cNvSpPr/>
            <p:nvPr/>
          </p:nvSpPr>
          <p:spPr>
            <a:xfrm>
              <a:off x="7162920" y="2819520"/>
              <a:ext cx="304560" cy="8380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233280 h 838080"/>
                <a:gd name="textAreaBottom" fmla="*/ 60480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014"/>
                  </a:moveTo>
                  <a:lnTo>
                    <a:pt x="0" y="15586"/>
                  </a:lnTo>
                  <a:lnTo>
                    <a:pt x="8100" y="15586"/>
                  </a:lnTo>
                  <a:lnTo>
                    <a:pt x="8100" y="18900"/>
                  </a:lnTo>
                  <a:lnTo>
                    <a:pt x="0" y="18900"/>
                  </a:lnTo>
                  <a:lnTo>
                    <a:pt x="10800" y="21600"/>
                  </a:lnTo>
                  <a:lnTo>
                    <a:pt x="21600" y="18900"/>
                  </a:lnTo>
                  <a:lnTo>
                    <a:pt x="13500" y="18900"/>
                  </a:lnTo>
                  <a:lnTo>
                    <a:pt x="13500" y="15586"/>
                  </a:lnTo>
                  <a:lnTo>
                    <a:pt x="21600" y="15586"/>
                  </a:lnTo>
                  <a:lnTo>
                    <a:pt x="21600" y="6014"/>
                  </a:lnTo>
                  <a:lnTo>
                    <a:pt x="13500" y="6014"/>
                  </a:lnTo>
                  <a:lnTo>
                    <a:pt x="13500" y="2700"/>
                  </a:lnTo>
                  <a:lnTo>
                    <a:pt x="21600" y="2700"/>
                  </a:lnTo>
                  <a:lnTo>
                    <a:pt x="10800" y="0"/>
                  </a:lnTo>
                  <a:lnTo>
                    <a:pt x="0" y="2700"/>
                  </a:lnTo>
                  <a:lnTo>
                    <a:pt x="8100" y="2700"/>
                  </a:lnTo>
                  <a:lnTo>
                    <a:pt x="8100" y="6014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12"/>
          <p:cNvSpPr/>
          <p:nvPr/>
        </p:nvSpPr>
        <p:spPr>
          <a:xfrm>
            <a:off x="990720" y="304920"/>
            <a:ext cx="6858000" cy="914400"/>
          </a:xfrm>
          <a:prstGeom prst="bevel">
            <a:avLst>
              <a:gd name="adj" fmla="val 17856"/>
            </a:avLst>
          </a:prstGeom>
          <a:gradFill rotWithShape="0">
            <a:gsLst>
              <a:gs pos="0">
                <a:srgbClr val="ffccff"/>
              </a:gs>
              <a:gs pos="50000">
                <a:srgbClr val="b71be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7da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БЕГ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31"/>
          <p:cNvGrpSpPr/>
          <p:nvPr/>
        </p:nvGrpSpPr>
        <p:grpSpPr>
          <a:xfrm>
            <a:off x="533520" y="3124080"/>
            <a:ext cx="2514600" cy="3581640"/>
            <a:chOff x="533520" y="3124080"/>
            <a:chExt cx="2514600" cy="3581640"/>
          </a:xfrm>
        </p:grpSpPr>
        <p:sp>
          <p:nvSpPr>
            <p:cNvPr id="251" name="Rectangle 16"/>
            <p:cNvSpPr/>
            <p:nvPr/>
          </p:nvSpPr>
          <p:spPr>
            <a:xfrm>
              <a:off x="609480" y="3124080"/>
              <a:ext cx="2362320" cy="1828800"/>
            </a:xfrm>
            <a:prstGeom prst="rect">
              <a:avLst/>
            </a:prstGeom>
            <a:solidFill>
              <a:srgbClr val="fca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Опора (держит другие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органы и выносит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листья к свету)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Связь между корнем и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другими органами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Запас питательных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еществ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Oval 20"/>
            <p:cNvSpPr/>
            <p:nvPr/>
          </p:nvSpPr>
          <p:spPr>
            <a:xfrm>
              <a:off x="533520" y="5257800"/>
              <a:ext cx="2514600" cy="1447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ccff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0" rIns="378000" tIns="46800" bIns="46800" anchor="ctr">
              <a:noAutofit/>
            </a:bodyPr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рямостоячий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олзучий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цепляющийся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ьющийся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травянистый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древесный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AutoShape 28"/>
            <p:cNvSpPr/>
            <p:nvPr/>
          </p:nvSpPr>
          <p:spPr>
            <a:xfrm>
              <a:off x="1447920" y="4952880"/>
              <a:ext cx="53316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98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4" name="Group 32"/>
          <p:cNvGrpSpPr/>
          <p:nvPr/>
        </p:nvGrpSpPr>
        <p:grpSpPr>
          <a:xfrm>
            <a:off x="3429000" y="3124080"/>
            <a:ext cx="2514600" cy="3581640"/>
            <a:chOff x="3429000" y="3124080"/>
            <a:chExt cx="2514600" cy="3581640"/>
          </a:xfrm>
        </p:grpSpPr>
        <p:sp>
          <p:nvSpPr>
            <p:cNvPr id="255" name="Rectangle 17"/>
            <p:cNvSpPr/>
            <p:nvPr/>
          </p:nvSpPr>
          <p:spPr>
            <a:xfrm>
              <a:off x="3429000" y="3124080"/>
              <a:ext cx="2362320" cy="1828800"/>
            </a:xfrm>
            <a:prstGeom prst="rect">
              <a:avLst/>
            </a:prstGeom>
            <a:solidFill>
              <a:srgbClr val="fca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Фотосинтез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Дыхание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Испарение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Oval 21"/>
            <p:cNvSpPr/>
            <p:nvPr/>
          </p:nvSpPr>
          <p:spPr>
            <a:xfrm>
              <a:off x="3429000" y="5257800"/>
              <a:ext cx="2514600" cy="1447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ccff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27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ВИДОИЗМЕНЕНИЯ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колючки (защита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усики (опора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AutoShape 29"/>
            <p:cNvSpPr/>
            <p:nvPr/>
          </p:nvSpPr>
          <p:spPr>
            <a:xfrm>
              <a:off x="4343400" y="4952880"/>
              <a:ext cx="53352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98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33"/>
          <p:cNvGrpSpPr/>
          <p:nvPr/>
        </p:nvGrpSpPr>
        <p:grpSpPr>
          <a:xfrm>
            <a:off x="6248520" y="3124080"/>
            <a:ext cx="2514600" cy="3581640"/>
            <a:chOff x="6248520" y="3124080"/>
            <a:chExt cx="2514600" cy="3581640"/>
          </a:xfrm>
        </p:grpSpPr>
        <p:sp>
          <p:nvSpPr>
            <p:cNvPr id="259" name="Rectangle 18"/>
            <p:cNvSpPr/>
            <p:nvPr/>
          </p:nvSpPr>
          <p:spPr>
            <a:xfrm>
              <a:off x="6248520" y="3124080"/>
              <a:ext cx="2361960" cy="1828800"/>
            </a:xfrm>
            <a:prstGeom prst="rect">
              <a:avLst/>
            </a:prstGeom>
            <a:solidFill>
              <a:srgbClr val="fcae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Рост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Ветвление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Развитие листьев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и цветов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;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Развитие новых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побегов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Oval 22"/>
            <p:cNvSpPr/>
            <p:nvPr/>
          </p:nvSpPr>
          <p:spPr>
            <a:xfrm>
              <a:off x="6248520" y="5257800"/>
              <a:ext cx="2514600" cy="14479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ccff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7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ПО СТРОЕНИЮ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листовая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ц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веточная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ПО РАСПОЛОЖЕНИЮ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верхушечная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66"/>
                  </a:solidFill>
                  <a:latin typeface="Times New Roman"/>
                </a:rPr>
                <a:t>боковая (пазушная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utoShape 30"/>
            <p:cNvSpPr/>
            <p:nvPr/>
          </p:nvSpPr>
          <p:spPr>
            <a:xfrm>
              <a:off x="7162920" y="4952880"/>
              <a:ext cx="53316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987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AutoShape 14"/>
          <p:cNvSpPr/>
          <p:nvPr/>
        </p:nvSpPr>
        <p:spPr>
          <a:xfrm>
            <a:off x="533520" y="1828800"/>
            <a:ext cx="2438280" cy="1371600"/>
          </a:xfrm>
          <a:prstGeom prst="flowChartDecision">
            <a:avLst/>
          </a:prstGeom>
          <a:gradFill rotWithShape="0">
            <a:gsLst>
              <a:gs pos="0">
                <a:srgbClr val="683e6d"/>
              </a:gs>
              <a:gs pos="50000">
                <a:srgbClr val="e086ec"/>
              </a:gs>
              <a:gs pos="100000">
                <a:srgbClr val="683e6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СТЕБЕЛ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AutoShape 23"/>
          <p:cNvSpPr/>
          <p:nvPr/>
        </p:nvSpPr>
        <p:spPr>
          <a:xfrm>
            <a:off x="1600200" y="12193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9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AutoShape 13"/>
          <p:cNvSpPr/>
          <p:nvPr/>
        </p:nvSpPr>
        <p:spPr>
          <a:xfrm>
            <a:off x="3352680" y="1828800"/>
            <a:ext cx="2438640" cy="1371600"/>
          </a:xfrm>
          <a:prstGeom prst="flowChartDecision">
            <a:avLst/>
          </a:prstGeom>
          <a:gradFill rotWithShape="0">
            <a:gsLst>
              <a:gs pos="0">
                <a:srgbClr val="683e6d"/>
              </a:gs>
              <a:gs pos="50000">
                <a:srgbClr val="e086ec"/>
              </a:gs>
              <a:gs pos="100000">
                <a:srgbClr val="683e6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ЛИСТЬ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AutoShape 24"/>
          <p:cNvSpPr/>
          <p:nvPr/>
        </p:nvSpPr>
        <p:spPr>
          <a:xfrm>
            <a:off x="4419720" y="12193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9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AutoShape 15"/>
          <p:cNvSpPr/>
          <p:nvPr/>
        </p:nvSpPr>
        <p:spPr>
          <a:xfrm>
            <a:off x="6172200" y="1828800"/>
            <a:ext cx="2438280" cy="1371600"/>
          </a:xfrm>
          <a:prstGeom prst="flowChartDecision">
            <a:avLst/>
          </a:prstGeom>
          <a:gradFill rotWithShape="0">
            <a:gsLst>
              <a:gs pos="0">
                <a:srgbClr val="683e6d"/>
              </a:gs>
              <a:gs pos="50000">
                <a:srgbClr val="e086ec"/>
              </a:gs>
              <a:gs pos="100000">
                <a:srgbClr val="683e6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ПОЧК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7238880" y="12193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098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161460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3535200" y="18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AutoShape 34"/>
          <p:cNvSpPr/>
          <p:nvPr/>
        </p:nvSpPr>
        <p:spPr>
          <a:xfrm>
            <a:off x="533520" y="457200"/>
            <a:ext cx="7848360" cy="1143000"/>
          </a:xfrm>
          <a:custGeom>
            <a:avLst/>
            <a:gdLst>
              <a:gd name="textAreaLeft" fmla="*/ 1279080 w 7848360"/>
              <a:gd name="textAreaRight" fmla="*/ 6569280 w 7848360"/>
              <a:gd name="textAreaTop" fmla="*/ 0 h 1143000"/>
              <a:gd name="textAreaBottom" fmla="*/ 954360 h 1143000"/>
            </a:gdLst>
            <a:ahLst/>
            <a:rect l="textAreaLeft" t="textAreaTop" r="textAreaRight" b="textAreaBottom"/>
            <a:pathLst>
              <a:path w="21600" h="21600">
                <a:moveTo>
                  <a:pt x="6221" y="18030"/>
                </a:moveTo>
                <a:lnTo>
                  <a:pt x="6221" y="20708"/>
                </a:lnTo>
                <a:cubicBezTo>
                  <a:pt x="6221" y="21154"/>
                  <a:pt x="5801" y="21600"/>
                  <a:pt x="5381" y="21600"/>
                </a:cubicBezTo>
                <a:lnTo>
                  <a:pt x="0" y="21600"/>
                </a:lnTo>
                <a:lnTo>
                  <a:pt x="2750" y="12585"/>
                </a:lnTo>
                <a:lnTo>
                  <a:pt x="0" y="3570"/>
                </a:lnTo>
                <a:lnTo>
                  <a:pt x="3521" y="3570"/>
                </a:lnTo>
                <a:lnTo>
                  <a:pt x="3521" y="893"/>
                </a:lnTo>
                <a:cubicBezTo>
                  <a:pt x="3521" y="446"/>
                  <a:pt x="3941" y="0"/>
                  <a:pt x="4361" y="0"/>
                </a:cubicBezTo>
                <a:lnTo>
                  <a:pt x="17239" y="0"/>
                </a:lnTo>
                <a:cubicBezTo>
                  <a:pt x="17659" y="0"/>
                  <a:pt x="18079" y="446"/>
                  <a:pt x="18079" y="893"/>
                </a:cubicBezTo>
                <a:lnTo>
                  <a:pt x="18079" y="3570"/>
                </a:lnTo>
                <a:lnTo>
                  <a:pt x="21600" y="3570"/>
                </a:lnTo>
                <a:lnTo>
                  <a:pt x="18850" y="12585"/>
                </a:lnTo>
                <a:lnTo>
                  <a:pt x="21600" y="21600"/>
                </a:lnTo>
                <a:lnTo>
                  <a:pt x="16219" y="21600"/>
                </a:lnTo>
                <a:cubicBezTo>
                  <a:pt x="15799" y="21600"/>
                  <a:pt x="15379" y="21154"/>
                  <a:pt x="15379" y="20708"/>
                </a:cubicBezTo>
                <a:lnTo>
                  <a:pt x="15379" y="18030"/>
                </a:lnTo>
                <a:close/>
              </a:path>
              <a:path fill="darkenLess" w="21600" h="21600">
                <a:moveTo>
                  <a:pt x="6221" y="18030"/>
                </a:moveTo>
                <a:lnTo>
                  <a:pt x="6221" y="20708"/>
                </a:lnTo>
                <a:cubicBezTo>
                  <a:pt x="6221" y="20261"/>
                  <a:pt x="5801" y="19815"/>
                  <a:pt x="5381" y="19815"/>
                </a:cubicBezTo>
                <a:lnTo>
                  <a:pt x="4361" y="19815"/>
                </a:lnTo>
                <a:cubicBezTo>
                  <a:pt x="3941" y="19815"/>
                  <a:pt x="3521" y="19369"/>
                  <a:pt x="3521" y="18923"/>
                </a:cubicBezTo>
                <a:cubicBezTo>
                  <a:pt x="3521" y="18476"/>
                  <a:pt x="3941" y="18030"/>
                  <a:pt x="4361" y="18030"/>
                </a:cubicBezTo>
                <a:close/>
              </a:path>
              <a:path fill="darkenLess" w="21600" h="21600">
                <a:moveTo>
                  <a:pt x="15379" y="18030"/>
                </a:moveTo>
                <a:lnTo>
                  <a:pt x="15379" y="20708"/>
                </a:lnTo>
                <a:cubicBezTo>
                  <a:pt x="15379" y="20261"/>
                  <a:pt x="15799" y="19815"/>
                  <a:pt x="16219" y="19815"/>
                </a:cubicBezTo>
                <a:lnTo>
                  <a:pt x="17239" y="19815"/>
                </a:lnTo>
                <a:cubicBezTo>
                  <a:pt x="17659" y="19815"/>
                  <a:pt x="18079" y="19369"/>
                  <a:pt x="18079" y="18923"/>
                </a:cubicBezTo>
                <a:cubicBezTo>
                  <a:pt x="18079" y="18476"/>
                  <a:pt x="17659" y="18030"/>
                  <a:pt x="17239" y="18030"/>
                </a:cubicBezTo>
                <a:close/>
              </a:path>
              <a:path fill="darkenLess" w="21600" h="21600">
                <a:moveTo>
                  <a:pt x="3521" y="18923"/>
                </a:moveTo>
                <a:lnTo>
                  <a:pt x="3521" y="3570"/>
                </a:lnTo>
              </a:path>
              <a:path fill="darkenLess" w="21600" h="21600">
                <a:moveTo>
                  <a:pt x="18079" y="18923"/>
                </a:moveTo>
                <a:lnTo>
                  <a:pt x="18079" y="3570"/>
                </a:lnTo>
              </a:path>
            </a:pathLst>
          </a:custGeom>
          <a:solidFill>
            <a:srgbClr val="fe1d0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ИДОИЗМЕНЕНИЯ ПОБЕГ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Group 60"/>
          <p:cNvGrpSpPr/>
          <p:nvPr/>
        </p:nvGrpSpPr>
        <p:grpSpPr>
          <a:xfrm>
            <a:off x="6095880" y="1905120"/>
            <a:ext cx="2781360" cy="4808520"/>
            <a:chOff x="6095880" y="1905120"/>
            <a:chExt cx="2781360" cy="4808520"/>
          </a:xfrm>
        </p:grpSpPr>
        <p:pic>
          <p:nvPicPr>
            <p:cNvPr id="272" name="Picture 20" descr="voacs121_3_154"/>
            <p:cNvPicPr/>
            <p:nvPr/>
          </p:nvPicPr>
          <p:blipFill>
            <a:blip r:embed="rId1"/>
            <a:stretch/>
          </p:blipFill>
          <p:spPr>
            <a:xfrm>
              <a:off x="6629400" y="4114800"/>
              <a:ext cx="19130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37"/>
            <p:cNvSpPr/>
            <p:nvPr/>
          </p:nvSpPr>
          <p:spPr>
            <a:xfrm>
              <a:off x="6095880" y="1905120"/>
              <a:ext cx="2514600" cy="1218960"/>
            </a:xfrm>
            <a:custGeom>
              <a:avLst/>
              <a:gdLst>
                <a:gd name="textAreaLeft" fmla="*/ 573480 w 2514600"/>
                <a:gd name="textAreaRight" fmla="*/ 1941120 w 2514600"/>
                <a:gd name="textAreaTop" fmla="*/ 277920 h 1218960"/>
                <a:gd name="textAreaBottom" fmla="*/ 94104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0" y="13911"/>
                  </a:lnTo>
                  <a:lnTo>
                    <a:pt x="3163" y="18437"/>
                  </a:lnTo>
                  <a:lnTo>
                    <a:pt x="7555" y="18445"/>
                  </a:lnTo>
                  <a:lnTo>
                    <a:pt x="10800" y="21600"/>
                  </a:lnTo>
                  <a:lnTo>
                    <a:pt x="13911" y="18500"/>
                  </a:lnTo>
                  <a:lnTo>
                    <a:pt x="18437" y="18437"/>
                  </a:lnTo>
                  <a:lnTo>
                    <a:pt x="18445" y="14045"/>
                  </a:lnTo>
                  <a:lnTo>
                    <a:pt x="21600" y="10800"/>
                  </a:lnTo>
                  <a:lnTo>
                    <a:pt x="18500" y="7689"/>
                  </a:lnTo>
                  <a:lnTo>
                    <a:pt x="18437" y="3163"/>
                  </a:lnTo>
                  <a:lnTo>
                    <a:pt x="14045" y="3155"/>
                  </a:lnTo>
                  <a:lnTo>
                    <a:pt x="10800" y="0"/>
                  </a:lnTo>
                  <a:lnTo>
                    <a:pt x="7689" y="3100"/>
                  </a:lnTo>
                  <a:lnTo>
                    <a:pt x="3163" y="3163"/>
                  </a:lnTo>
                  <a:lnTo>
                    <a:pt x="3155" y="755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22c36"/>
                </a:gs>
                <a:gs pos="50000">
                  <a:srgbClr val="f66075"/>
                </a:gs>
                <a:gs pos="100000">
                  <a:srgbClr val="722c3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ЛУКОВИЦА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40"/>
            <p:cNvSpPr/>
            <p:nvPr/>
          </p:nvSpPr>
          <p:spPr>
            <a:xfrm>
              <a:off x="6629400" y="3733920"/>
              <a:ext cx="175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Тюльпан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AutoShape 43"/>
            <p:cNvSpPr/>
            <p:nvPr/>
          </p:nvSpPr>
          <p:spPr>
            <a:xfrm>
              <a:off x="7086600" y="32004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8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76" name="Object 51"/>
            <p:cNvGraphicFramePr/>
            <p:nvPr/>
          </p:nvGraphicFramePr>
          <p:xfrm>
            <a:off x="7772400" y="5715000"/>
            <a:ext cx="1104840" cy="99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7" name="Object 5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72400" y="5715000"/>
                      <a:ext cx="1104840" cy="99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8" name="Group 59"/>
          <p:cNvGrpSpPr/>
          <p:nvPr/>
        </p:nvGrpSpPr>
        <p:grpSpPr>
          <a:xfrm>
            <a:off x="3048120" y="1905120"/>
            <a:ext cx="2963880" cy="4952880"/>
            <a:chOff x="3048120" y="1905120"/>
            <a:chExt cx="2963880" cy="4952880"/>
          </a:xfrm>
        </p:grpSpPr>
        <p:pic>
          <p:nvPicPr>
            <p:cNvPr id="279" name="Picture 23" descr="http://www.photoru.de/data/media/1/land2.jpg"/>
            <p:cNvPicPr/>
            <p:nvPr/>
          </p:nvPicPr>
          <p:blipFill>
            <a:blip r:embed="rId4"/>
            <a:stretch/>
          </p:blipFill>
          <p:spPr>
            <a:xfrm>
              <a:off x="3581280" y="4114800"/>
              <a:ext cx="17528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AutoShape 36"/>
            <p:cNvSpPr/>
            <p:nvPr/>
          </p:nvSpPr>
          <p:spPr>
            <a:xfrm>
              <a:off x="3048120" y="1905120"/>
              <a:ext cx="2514600" cy="1218960"/>
            </a:xfrm>
            <a:custGeom>
              <a:avLst/>
              <a:gdLst>
                <a:gd name="textAreaLeft" fmla="*/ 549000 w 2514600"/>
                <a:gd name="textAreaRight" fmla="*/ 1965600 w 2514600"/>
                <a:gd name="textAreaTop" fmla="*/ 266040 h 1218960"/>
                <a:gd name="textAreaBottom" fmla="*/ 9529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22" y="14023"/>
                  </a:lnTo>
                  <a:lnTo>
                    <a:pt x="3163" y="18437"/>
                  </a:lnTo>
                  <a:lnTo>
                    <a:pt x="7438" y="18721"/>
                  </a:lnTo>
                  <a:lnTo>
                    <a:pt x="10800" y="21600"/>
                  </a:lnTo>
                  <a:lnTo>
                    <a:pt x="14023" y="18778"/>
                  </a:lnTo>
                  <a:lnTo>
                    <a:pt x="18437" y="18437"/>
                  </a:lnTo>
                  <a:lnTo>
                    <a:pt x="18721" y="14162"/>
                  </a:lnTo>
                  <a:lnTo>
                    <a:pt x="21600" y="10800"/>
                  </a:lnTo>
                  <a:lnTo>
                    <a:pt x="18778" y="7577"/>
                  </a:lnTo>
                  <a:lnTo>
                    <a:pt x="18437" y="3163"/>
                  </a:lnTo>
                  <a:lnTo>
                    <a:pt x="14162" y="2879"/>
                  </a:lnTo>
                  <a:lnTo>
                    <a:pt x="10800" y="0"/>
                  </a:lnTo>
                  <a:lnTo>
                    <a:pt x="7577" y="2822"/>
                  </a:lnTo>
                  <a:lnTo>
                    <a:pt x="3163" y="3163"/>
                  </a:lnTo>
                  <a:lnTo>
                    <a:pt x="2879" y="7438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22c36"/>
                </a:gs>
                <a:gs pos="50000">
                  <a:srgbClr val="f66075"/>
                </a:gs>
                <a:gs pos="100000">
                  <a:srgbClr val="722c3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КОРНЕВИЩЕ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39"/>
            <p:cNvSpPr/>
            <p:nvPr/>
          </p:nvSpPr>
          <p:spPr>
            <a:xfrm>
              <a:off x="3581280" y="3733920"/>
              <a:ext cx="1752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Ландыш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AutoShape 42"/>
            <p:cNvSpPr/>
            <p:nvPr/>
          </p:nvSpPr>
          <p:spPr>
            <a:xfrm>
              <a:off x="4038480" y="32004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8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83" name="Object 52"/>
            <p:cNvGraphicFramePr/>
            <p:nvPr/>
          </p:nvGraphicFramePr>
          <p:xfrm>
            <a:off x="4800600" y="5584680"/>
            <a:ext cx="1211400" cy="1273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4" name="Object 5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5584680"/>
                      <a:ext cx="1211400" cy="12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Group 58"/>
          <p:cNvGrpSpPr/>
          <p:nvPr/>
        </p:nvGrpSpPr>
        <p:grpSpPr>
          <a:xfrm>
            <a:off x="152280" y="1905120"/>
            <a:ext cx="2590920" cy="4952880"/>
            <a:chOff x="152280" y="1905120"/>
            <a:chExt cx="2590920" cy="4952880"/>
          </a:xfrm>
        </p:grpSpPr>
        <p:pic>
          <p:nvPicPr>
            <p:cNvPr id="286" name="Picture 31" descr="solanum_tuberosum"/>
            <p:cNvPicPr/>
            <p:nvPr/>
          </p:nvPicPr>
          <p:blipFill>
            <a:blip r:embed="rId7"/>
            <a:stretch/>
          </p:blipFill>
          <p:spPr>
            <a:xfrm>
              <a:off x="304920" y="4114800"/>
              <a:ext cx="182880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35"/>
            <p:cNvSpPr/>
            <p:nvPr/>
          </p:nvSpPr>
          <p:spPr>
            <a:xfrm>
              <a:off x="152280" y="1905120"/>
              <a:ext cx="2362320" cy="1218960"/>
            </a:xfrm>
            <a:custGeom>
              <a:avLst/>
              <a:gdLst>
                <a:gd name="textAreaLeft" fmla="*/ 534960 w 2362320"/>
                <a:gd name="textAreaRight" fmla="*/ 1827360 w 2362320"/>
                <a:gd name="textAreaTop" fmla="*/ 276120 h 1218960"/>
                <a:gd name="textAreaBottom" fmla="*/ 94284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053" y="13930"/>
                  </a:lnTo>
                  <a:lnTo>
                    <a:pt x="3163" y="18437"/>
                  </a:lnTo>
                  <a:lnTo>
                    <a:pt x="7535" y="18491"/>
                  </a:lnTo>
                  <a:lnTo>
                    <a:pt x="10800" y="21600"/>
                  </a:lnTo>
                  <a:lnTo>
                    <a:pt x="13930" y="18547"/>
                  </a:lnTo>
                  <a:lnTo>
                    <a:pt x="18437" y="18437"/>
                  </a:lnTo>
                  <a:lnTo>
                    <a:pt x="18491" y="14065"/>
                  </a:lnTo>
                  <a:lnTo>
                    <a:pt x="21600" y="10800"/>
                  </a:lnTo>
                  <a:lnTo>
                    <a:pt x="18547" y="7670"/>
                  </a:lnTo>
                  <a:lnTo>
                    <a:pt x="18437" y="3163"/>
                  </a:lnTo>
                  <a:lnTo>
                    <a:pt x="14065" y="3109"/>
                  </a:lnTo>
                  <a:lnTo>
                    <a:pt x="10800" y="0"/>
                  </a:lnTo>
                  <a:lnTo>
                    <a:pt x="7670" y="3053"/>
                  </a:lnTo>
                  <a:lnTo>
                    <a:pt x="3163" y="3163"/>
                  </a:lnTo>
                  <a:lnTo>
                    <a:pt x="3109" y="753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22c36"/>
                </a:gs>
                <a:gs pos="50000">
                  <a:srgbClr val="f66075"/>
                </a:gs>
                <a:gs pos="100000">
                  <a:srgbClr val="722c3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КЛУБЕНЬ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38"/>
            <p:cNvSpPr/>
            <p:nvPr/>
          </p:nvSpPr>
          <p:spPr>
            <a:xfrm>
              <a:off x="304920" y="3657600"/>
              <a:ext cx="1752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Картофель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AutoShape 41"/>
            <p:cNvSpPr/>
            <p:nvPr/>
          </p:nvSpPr>
          <p:spPr>
            <a:xfrm>
              <a:off x="1066680" y="32004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8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90" name="Object 57"/>
            <p:cNvGraphicFramePr/>
            <p:nvPr/>
          </p:nvGraphicFramePr>
          <p:xfrm>
            <a:off x="1600200" y="5837400"/>
            <a:ext cx="1143000" cy="1020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1" name="Object 5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600200" y="5837400"/>
                      <a:ext cx="114300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5:53Z</dcterms:created>
  <dc:creator>Федосеев</dc:creator>
  <dc:description/>
  <dc:language>en-US</dc:language>
  <cp:lastModifiedBy>Школа</cp:lastModifiedBy>
  <dcterms:modified xsi:type="dcterms:W3CDTF">2022-11-30T06:29:19Z</dcterms:modified>
  <cp:revision>257</cp:revision>
  <dc:subject/>
  <dc:title>Заголовок слайда отсутствует</dc:title>
</cp:coreProperties>
</file>