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7D1-A47D-44A0-B5AA-C8C63DCE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4DB-5B4A-4F05-B401-DA85F8B6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6CE-D023-4B79-88D0-6D8E7378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58D-C320-4488-BCA5-F35C716F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F6FA-8BA1-431E-9993-AAABBDF8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9F9C-135F-4109-AC33-4D848004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90A9-C7CD-4E2E-A081-4B98BC53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1B57-8075-4007-BA10-263010FA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15BE-1AB2-4243-85B3-9E0794B2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DE3A-3315-4405-85F1-A80AC450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823F-4AF3-4D3A-8D7D-C53772A1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BC7-6C80-4CF3-854C-8008611E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7A44-7007-492F-9C28-62A5DE90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966A-D2E8-4F6C-BEF2-B1736EF6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2850-0C5D-4E0E-99B1-87BDC887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CC73-7A1D-4BD4-874A-053350D8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6F24-2AAB-4E03-B4ED-3A2F593C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000-99E7-4317-8511-5877AB28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178-0722-4104-B1B9-1815550F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6DE7-9255-4261-A10E-600C6388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797-64B3-4B51-9B2E-0D53CAD8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7EB-BE98-4D02-BAFD-3EBB618C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E7E-0662-4C20-B1E6-BA6CC5BD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257-2F48-483B-9D2B-2E3C00A0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6968-E5CB-4DBE-AA11-8ABFA6B5CA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2A7A-681D-4EF4-BBB2-E2B921BF3D8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Административное право.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5257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Реализация административно-правовых норм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сполнение административно-правовых норм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точное следование участников регулируемых управленческих отношений тем юридическим предписаниям, запретам или дозволениям, которые в них содержат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именение административно-правовых норм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обобщенная характеристика функционирования механизма исполнительной вла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ключение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80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юбая отрасль права состоит из юридических норм, является их организованной совокупностью. Первичными элементами административного права, на базе которых строится система отрасли, являются административно-правовые нормы. Их можно понимать как установленные или санкционированные государством правила, регулирующие отношения в сфере деятельности исполнительной власти, реализация которых при неисполнении обеспечивается государственным принуждение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дминистрати́вное пра́во — отрасль права, регулирующая общественные отношения в сфере управленческой деятельности государственных органов и должностных лиц по исполнению публичных функций государства и муниципальных образова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3962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Garamond"/>
              </a:rPr>
              <a:t>Методы административного прав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)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Предписани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: установление определенного порядка действий - предписание к действию в соответствующих условиях и надлежащим образом, предусмотренным данной административно-правовой нормой. Несоблюдение такого порядка не влечет за собой юридические последствия, на достижение которых ориентирует норм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прет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: запрещение определенных действий под страхом применения соответствующих юридических средств воздействия (например, дисциплинарной или административной ответственности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зволени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: предоставление возможности выбора одного из вариантов должного поведения, предусмотренных административно-правовой нормой. Также Дозволение выражается в предоставлении возможности действовать (или не действовать) по своему усмотрению, т.е. совершать либо не совершать предусмотренные административно-правовой нормой действия в определенных ею условиях. Как правило, это имеет место при реализации субъективных пра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Функции административного прав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авоисполнительная функция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дминистративное право есть юридическая форма реализации исполнительной вла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авотворческая функци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являющаяся выражением наделения субъектов исполнительной власти полномочиями по административному нормотворчеств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рганизационная функци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Государственно-управленческой деятельность, постоянно "поддерживается" нормами административного прав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ординационная функци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имеющая своей целью обеспечение разумного и эффективного взаимодействия всех элементов регулируемой административным правом сферы государственного управл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авоохранительная функци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обеспечивающая как соблюдение установленного в сфере государственного управления правового режима, так и защиту законных прав и интересов всех участников регулируемых управленческих отношен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Виды административно-правовых норм.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териальные административно-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авовые нормы характеризу­ются тем, что они юридически закрепляют комплекс обязанностей и прав, а также ответственность участников регулируемых административным правом управленческих отношений, т.е. фактически их административно-правовой стату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343400" y="3886200"/>
            <a:ext cx="2895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оцессуальные административно-правовые нормы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регламентируют динамику государственного управления и связанных с ним уп­равленческих отношений. Их назначение сводится к определению порядка (процедуры) реализации юридических обязанностей и прав, установленных нормами материального административного права в рамках регулируемых управленческих отнош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3886200" y="3962520"/>
            <a:ext cx="472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дминистративно- юрисдикционные  нормы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  регламентируют порядок рассмотрения и разрешения преимущественно во внесудебной форме различного рода административно-правовых спор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дминистративно-процедурные нормы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это, например, нормы, содержащиеся в утвержденном Правительством Российской Федерации 28 января 1993 года Регламенте заседаний Правительства, определяющем основы формирования их плана, порядок их подготовки и проведения, оформления принятых реш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838080" y="4800600"/>
            <a:ext cx="7467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Классификация административно-правовых норм в зависимости</a:t>
            </a:r>
            <a:br>
              <a:rPr sz="3200"/>
            </a:b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от их конкретного юридического содержа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)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бязывающ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т.е. предписывающие в предусмотренных данной нормой условия совершать определенные действ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запрещающ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т.е. предусматривающие запрет на совершение тех или иных действий в условиях, определяемых данной норм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)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полномочивающие или дозволительные нормы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них выражается предусматриваемая административно-правовой нормой возможность адресата действовать в рамках требований данной нормы по своему усмотрению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имулирующие (поощрительные) норм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беспечивают с помощью соответствующих средств материального или морального воздействия должное поведение участников регулируемых управленческих общественных отноше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екомендательные нормы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рирода их отличается своеобразием, так как рекомендации, как правило, не имеют юридически обязательного характе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457200" y="5257800"/>
            <a:ext cx="8458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SPecialiST</cp:lastModifiedBy>
  <dcterms:modified xsi:type="dcterms:W3CDTF">2015-03-17T18:43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