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349-3803-456C-9875-18316364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C71-FD22-4A91-A0AA-5291C146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C99-321A-4830-B3EB-7EF4609F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000-BBD5-4C62-8CA8-A38338CC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4AF7-AC2A-4362-B82C-7193211C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DDE6-3CD7-4A5C-8F8B-2FFEE764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B366-0AE8-423E-9D6E-0D710045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3181-99BF-4566-B34B-8BADADBB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8426-C3BB-4EC8-B68E-F6403314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3730-422A-429B-9B9A-E80D76A1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F4FE-B9B0-4672-8A54-56FDC297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4C0-1DA5-48DE-947D-684E3AE0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0420-A68B-4479-B4FE-F4952C8E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C1C1-FFD9-4E68-9DDD-525E9C7D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A00B-39A8-4750-9731-67A394A4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F34D-5871-46EE-B5B6-1C9F017A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01C6-F455-4DC9-85F3-8DB6236C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680-B2DC-43C3-A965-C825AB2C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7FE-F09B-45AB-B26B-742CD23D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6B2-AD50-4636-BF4D-8176B609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5B2-E571-42DC-9453-34AFD0B9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813-6EA4-4FFC-A7B9-8EB6C484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27E-A505-4579-A18A-145C09FD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E85-32E8-44FF-8EF8-84D0E132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EE8B-18EA-4A1D-A5AE-7C4D270E62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894B-DE7C-4CBB-92D0-5CCC521FCB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Административное право.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5257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Реализация административно-правовых норм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сполнение административно-правовых норм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точное следование участников регулируемых управленческих отношений тем юридическим предписаниям, запретам или дозволениям, которые в них содержат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именение административно-правовых норм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обобщенная характеристика функционирования механизма исполнительной вла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ключение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80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юбая отрасль права состоит из юридических норм, является их организованной совокупностью. Первичными элементами административного права, на базе которых строится система отрасли, являются административно-правовые нормы. Их можно понимать как установленные или санкционированные государством правила, регулирующие отношения в сфере деятельности исполнительной власти, реализация которых при неисполнении обеспечивается государственным принуждение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дминистрати́вное пра́во — отрасль права, регулирующая общественные отношения в сфере управленческой деятельности государственных органов и должностных лиц по исполнению публичных функций государства и муниципальных образова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3962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Garamond"/>
              </a:rPr>
              <a:t>Методы административного прав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)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Предписани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: установление определенного порядка действий - предписание к действию в соответствующих условиях и надлежащим образом, предусмотренным данной административно-правовой нормой. Несоблюдение такого порядка не влечет за собой юридические последствия, на достижение которых ориентирует норм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прет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: запрещение определенных действий под страхом применения соответствующих юридических средств воздействия (например, дисциплинарной или административной ответственности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зволени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: предоставление возможности выбора одного из вариантов должного поведения, предусмотренных административно-правовой нормой. Также Дозволение выражается в предоставлении возможности действовать (или не действовать) по своему усмотрению, т.е. совершать либо не совершать предусмотренные административно-правовой нормой действия в определенных ею условиях. Как правило, это имеет место при реализации субъективных пра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Функции административного прав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авоисполнительная функция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дминистративное право есть юридическая форма реализации исполнительной вла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авотворческая функци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являющаяся выражением наделения субъектов исполнительной власти полномочиями по административному нормотворчеств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рганизационная функци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Государственно-управленческой деятельность, постоянно "поддерживается" нормами административного прав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ординационная функци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имеющая своей целью обеспечение разумного и эффективного взаимодействия всех элементов регулируемой административным правом сферы государственного управл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авоохранительная функци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обеспечивающая как соблюдение установленного в сфере государственного управления правового режима, так и защиту законных прав и интересов всех участников регулируемых управленческих отношен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Виды административно-правовых норм.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териальные административно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авовые нормы характеризу­ются тем, что они юридически закрепляют комплекс обязанностей и прав, а также ответственность участников регулируемых административным правом управленческих отношений, т.е. фактически их административно-правовой стату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343400" y="3886200"/>
            <a:ext cx="2895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оцессуальные административно-правовые нормы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регламентируют динамику государственного управления и связанных с ним уп­равленческих отношений. Их назначение сводится к определению порядка (процедуры) реализации юридических обязанностей и прав, установленных нормами материального административного права в рамках регулируемых управленческих отнош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3886200" y="3962520"/>
            <a:ext cx="472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дминистративно- юрисдикционные  нормы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  регламентируют порядок рассмотрения и разрешения преимущественно во внесудебной форме различного рода административно-правовых спор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дминистративно-процедурные нормы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это, например, нормы, содержащиеся в утвержденном Правительством Российской Федерации 28 января 1993 года Регламенте заседаний Правительства, определяющем основы формирования их плана, порядок их подготовки и проведения, оформления принятых реш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838080" y="4800600"/>
            <a:ext cx="7467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Классификация административно-правовых норм в зависимости</a:t>
            </a:r>
            <a:br>
              <a:rPr sz="3200"/>
            </a:b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от их конкретного юридического содержа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)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бязывающ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т.е. предписывающие в предусмотренных данной нормой условия совершать определенные действ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запрещающ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т.е. предусматривающие запрет на совершение тех или иных действий в условиях, определяемых данной норм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)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полномочивающие или дозволительные нормы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них выражается предусматриваемая административно-правовой нормой возможность адресата действовать в рамках требований данной нормы по своему усмотрению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имулирующие (поощрительные) норм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беспечивают с помощью соответствующих средств материального или морального воздействия должное поведение участников регулируемых управленческих общественных отноше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екомендательные нормы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рирода их отличается своеобразием, так как рекомендации, как правило, не имеют юридически обязательного характе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457200" y="5257800"/>
            <a:ext cx="8458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SPecialiST</cp:lastModifiedBy>
  <dcterms:modified xsi:type="dcterms:W3CDTF">2015-03-17T18:43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