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6A8-FCE4-4841-906E-A3AEA9DA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E65-0EB9-447B-A8DE-92661A5A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A79-D2C8-49DE-8C8F-55F458D1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71F-E979-4E8D-98F6-A205481F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F3A-242B-4131-A08D-5B207882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CD5-2FA8-4A6C-AE26-3CC3364A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8D7-F78E-4F9B-BC69-D3E84B87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A6C-9D30-4BEC-9A65-20A188E3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30E-1554-4462-84EE-AD73D5FC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C3D-E519-46CB-9A08-0555B1FF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0DA-A6D1-4F8E-9474-F29CC195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577-DFED-485B-8B01-7831B40D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03A2-A045-4270-B190-A4B497AC391F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4D57-6A02-44F6-B480-EE14D986734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8105760" cy="566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МКОУ «Костинологовская СОШ», дошкольная группа</a:t>
            </a:r>
            <a:br>
              <a:rPr sz="2400"/>
            </a:br>
            <a:br>
              <a:rPr sz="2400"/>
            </a:br>
            <a:r>
              <a:rPr b="1" lang="ru-RU" sz="4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«Портфолио дошкольника»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ультация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для родителей</a:t>
            </a:r>
            <a:br>
              <a:rPr sz="4400"/>
            </a:br>
            <a:br>
              <a:rPr sz="4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: Голубева И.А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22г.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2" name="Овал 3"/>
          <p:cNvSpPr/>
          <p:nvPr/>
        </p:nvSpPr>
        <p:spPr>
          <a:xfrm>
            <a:off x="5572080" y="285840"/>
            <a:ext cx="357120" cy="3571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3" name="Овал 6"/>
          <p:cNvSpPr/>
          <p:nvPr/>
        </p:nvSpPr>
        <p:spPr>
          <a:xfrm>
            <a:off x="214200" y="6215040"/>
            <a:ext cx="357480" cy="357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4" name="Овал 7"/>
          <p:cNvSpPr/>
          <p:nvPr/>
        </p:nvSpPr>
        <p:spPr>
          <a:xfrm>
            <a:off x="2428920" y="285840"/>
            <a:ext cx="357120" cy="357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5" name="Овал 8"/>
          <p:cNvSpPr/>
          <p:nvPr/>
        </p:nvSpPr>
        <p:spPr>
          <a:xfrm>
            <a:off x="8429760" y="6357960"/>
            <a:ext cx="357120" cy="357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6" name="Овал 9"/>
          <p:cNvSpPr/>
          <p:nvPr/>
        </p:nvSpPr>
        <p:spPr>
          <a:xfrm>
            <a:off x="8572680" y="428760"/>
            <a:ext cx="357120" cy="357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7" name="Овал 10"/>
          <p:cNvSpPr/>
          <p:nvPr/>
        </p:nvSpPr>
        <p:spPr>
          <a:xfrm>
            <a:off x="1071720" y="285840"/>
            <a:ext cx="357120" cy="357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8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242C-41CB-44AF-A8FB-C8802DA6CB49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D747-4B7A-471C-815D-90C2951A74F3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0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В портфолио находят отражение такие темы: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«Мое имя»,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«Я расту!»,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«Моя семья»,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«Мои достижения»,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«Мои любимые занятия»,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«Мои праздники»,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Мое творчество»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3" name="Picture 6" descr="1318853624_portfolio_malenkoi_princessy"/>
          <p:cNvPicPr/>
          <p:nvPr/>
        </p:nvPicPr>
        <p:blipFill>
          <a:blip r:embed="rId1"/>
          <a:stretch/>
        </p:blipFill>
        <p:spPr>
          <a:xfrm>
            <a:off x="5219640" y="1773360"/>
            <a:ext cx="30974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Портфолио вручается ребёнку при выпуске из детского сада, как подарок.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5" name="Picture 4" descr="0_2c8bb_6631bb4f_L"/>
          <p:cNvPicPr/>
          <p:nvPr/>
        </p:nvPicPr>
        <p:blipFill>
          <a:blip r:embed="rId1"/>
          <a:stretch/>
        </p:blipFill>
        <p:spPr>
          <a:xfrm>
            <a:off x="539640" y="2349360"/>
            <a:ext cx="3888000" cy="2751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100514_nastia_shikate-2361"/>
          <p:cNvPicPr/>
          <p:nvPr/>
        </p:nvPicPr>
        <p:blipFill>
          <a:blip r:embed="rId2"/>
          <a:stretch/>
        </p:blipFill>
        <p:spPr>
          <a:xfrm>
            <a:off x="4697280" y="2370240"/>
            <a:ext cx="410220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79786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Работа над созданием портфолио позволяет сблизить всех его участников: родителей, педагога, ребёнка.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Это своеобразный отчёт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определённого жизненного пути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маленького человечка.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Работа над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созданием портфолио –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это продвижение вперёд,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это стимул к чему-то более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важному и значимому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8" name="Picture 4" descr="fb6d3dae5b8d"/>
          <p:cNvPicPr/>
          <p:nvPr/>
        </p:nvPicPr>
        <p:blipFill>
          <a:blip r:embed="rId1"/>
          <a:stretch/>
        </p:blipFill>
        <p:spPr>
          <a:xfrm>
            <a:off x="7308720" y="765000"/>
            <a:ext cx="1521000" cy="2579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659"/>
          <p:cNvPicPr/>
          <p:nvPr/>
        </p:nvPicPr>
        <p:blipFill>
          <a:blip r:embed="rId2"/>
          <a:stretch/>
        </p:blipFill>
        <p:spPr>
          <a:xfrm>
            <a:off x="5508720" y="1773360"/>
            <a:ext cx="1720800" cy="240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hildren71"/>
          <p:cNvPicPr/>
          <p:nvPr/>
        </p:nvPicPr>
        <p:blipFill>
          <a:blip r:embed="rId3"/>
          <a:stretch/>
        </p:blipFill>
        <p:spPr>
          <a:xfrm>
            <a:off x="7236000" y="2997360"/>
            <a:ext cx="1609560" cy="2401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9b"/>
          <p:cNvPicPr/>
          <p:nvPr/>
        </p:nvPicPr>
        <p:blipFill>
          <a:blip r:embed="rId4"/>
          <a:stretch/>
        </p:blipFill>
        <p:spPr>
          <a:xfrm>
            <a:off x="4643280" y="4292640"/>
            <a:ext cx="27910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11280" y="836280"/>
            <a:ext cx="76183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Ребенок растет, развивается, умножает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свои знания и умения уже с первых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недель жизни.  Мы, родители, 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записываем в альбомы, 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снимаем на видеокамеру,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фотографируем, т.е. всячески стараемся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                            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сохранить для истории драгоценные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                                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мгновения. Но как-то так 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                                 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получается, что мы, в 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основном, фиксируем физический рост и внешние изменения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             </a:t>
            </a:r>
            <a:r>
              <a:rPr b="0" lang="ru-RU" sz="2600" spc="-1" strike="noStrike">
                <a:solidFill>
                  <a:srgbClr val="8e0000"/>
                </a:solidFill>
                <a:latin typeface="Calibri"/>
              </a:rPr>
              <a:t>наших детей. </a:t>
            </a:r>
            <a:endParaRPr b="0" lang="en-US" sz="26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52" name="Picture 8" descr="x_6092a7f6"/>
          <p:cNvPicPr/>
          <p:nvPr/>
        </p:nvPicPr>
        <p:blipFill>
          <a:blip r:embed="rId1"/>
          <a:stretch/>
        </p:blipFill>
        <p:spPr>
          <a:xfrm>
            <a:off x="6948360" y="765000"/>
            <a:ext cx="1497240" cy="173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x_12cbe590"/>
          <p:cNvPicPr/>
          <p:nvPr/>
        </p:nvPicPr>
        <p:blipFill>
          <a:blip r:embed="rId2"/>
          <a:stretch/>
        </p:blipFill>
        <p:spPr>
          <a:xfrm>
            <a:off x="5292720" y="1700280"/>
            <a:ext cx="1805040" cy="144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x_9aeec850"/>
          <p:cNvPicPr/>
          <p:nvPr/>
        </p:nvPicPr>
        <p:blipFill>
          <a:blip r:embed="rId3"/>
          <a:stretch/>
        </p:blipFill>
        <p:spPr>
          <a:xfrm>
            <a:off x="611280" y="3716280"/>
            <a:ext cx="21193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4000" y="907560"/>
            <a:ext cx="75452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А их внутренний мир? Их интересы, их удивительные открытия, их забавные словечки и смешные высказывания?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FB7D-9FA1-4956-B173-3983B4BFD9CF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36B2-290F-4883-8D6F-D68AB1620CC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59" name="Picture 11" descr="x_a02e9977"/>
          <p:cNvPicPr/>
          <p:nvPr/>
        </p:nvPicPr>
        <p:blipFill>
          <a:blip r:embed="rId1"/>
          <a:stretch/>
        </p:blipFill>
        <p:spPr>
          <a:xfrm>
            <a:off x="5364000" y="2349360"/>
            <a:ext cx="314172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x_f8e18e64"/>
          <p:cNvPicPr/>
          <p:nvPr/>
        </p:nvPicPr>
        <p:blipFill>
          <a:blip r:embed="rId2"/>
          <a:stretch/>
        </p:blipFill>
        <p:spPr>
          <a:xfrm>
            <a:off x="2556000" y="3789360"/>
            <a:ext cx="3524040" cy="25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x_34ac13a5"/>
          <p:cNvPicPr/>
          <p:nvPr/>
        </p:nvPicPr>
        <p:blipFill>
          <a:blip r:embed="rId3"/>
          <a:stretch/>
        </p:blipFill>
        <p:spPr>
          <a:xfrm>
            <a:off x="395280" y="2205000"/>
            <a:ext cx="360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71280" y="1125000"/>
            <a:ext cx="7257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Хорошим решением для исправления этой "печальной ситуации" вполне может стать детский портфолио!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63" name="Picture 4" descr="0c9706087c7ct"/>
          <p:cNvPicPr/>
          <p:nvPr/>
        </p:nvPicPr>
        <p:blipFill>
          <a:blip r:embed="rId1"/>
          <a:stretch/>
        </p:blipFill>
        <p:spPr>
          <a:xfrm>
            <a:off x="4859280" y="4365720"/>
            <a:ext cx="1209600" cy="184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e5317b311a34t"/>
          <p:cNvPicPr/>
          <p:nvPr/>
        </p:nvPicPr>
        <p:blipFill>
          <a:blip r:embed="rId2"/>
          <a:stretch/>
        </p:blipFill>
        <p:spPr>
          <a:xfrm>
            <a:off x="3348000" y="2708280"/>
            <a:ext cx="1444680" cy="204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330026694634_87a5d2bce7c2t"/>
          <p:cNvPicPr/>
          <p:nvPr/>
        </p:nvPicPr>
        <p:blipFill>
          <a:blip r:embed="rId3"/>
          <a:stretch/>
        </p:blipFill>
        <p:spPr>
          <a:xfrm>
            <a:off x="539640" y="2708280"/>
            <a:ext cx="1871640" cy="29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1300711285_2011-03-21_153049"/>
          <p:cNvPicPr/>
          <p:nvPr/>
        </p:nvPicPr>
        <p:blipFill>
          <a:blip r:embed="rId4"/>
          <a:stretch/>
        </p:blipFill>
        <p:spPr>
          <a:xfrm>
            <a:off x="7093080" y="3213000"/>
            <a:ext cx="1400040" cy="1998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330026694634_a4c72a70eadft"/>
          <p:cNvPicPr/>
          <p:nvPr/>
        </p:nvPicPr>
        <p:blipFill>
          <a:blip r:embed="rId5"/>
          <a:stretch/>
        </p:blipFill>
        <p:spPr>
          <a:xfrm>
            <a:off x="6084720" y="2781360"/>
            <a:ext cx="1314720" cy="186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nagrada"/>
          <p:cNvPicPr/>
          <p:nvPr/>
        </p:nvPicPr>
        <p:blipFill>
          <a:blip r:embed="rId6"/>
          <a:stretch/>
        </p:blipFill>
        <p:spPr>
          <a:xfrm>
            <a:off x="2484360" y="4076640"/>
            <a:ext cx="15350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Портфолио дошкольника — это своеобразный маршрут его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развития, это так называемое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«досье успеха», в котором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отражается всё интересное и достойное из того, что происходит в жизни ребёнка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516720" y="765000"/>
            <a:ext cx="2097000" cy="226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68360" y="4178160"/>
            <a:ext cx="3024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76183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Портфолио дошкольника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непременно должен быть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красочным и ярким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В идеальном случае он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станет и любимой «книжкой с картинками»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для ребенка, и предметом его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гордости. Четкой структуры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создания портфолио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не существует. Она подбирается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исходя из индивидуальных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возможностей и интересов ребенка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73" name="Picture 4" descr="1225736803_14"/>
          <p:cNvPicPr/>
          <p:nvPr/>
        </p:nvPicPr>
        <p:blipFill>
          <a:blip r:embed="rId1"/>
          <a:stretch/>
        </p:blipFill>
        <p:spPr>
          <a:xfrm>
            <a:off x="5364000" y="765000"/>
            <a:ext cx="3240360" cy="223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be8c4b491444t"/>
          <p:cNvPicPr/>
          <p:nvPr/>
        </p:nvPicPr>
        <p:blipFill>
          <a:blip r:embed="rId2"/>
          <a:stretch/>
        </p:blipFill>
        <p:spPr>
          <a:xfrm>
            <a:off x="468360" y="3573360"/>
            <a:ext cx="1838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55640" y="836640"/>
            <a:ext cx="7920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Главный результат работы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над портфолио – это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создание для каждого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ребенка ситуации успеха.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Важно показать, что он  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                    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личность, что он успешен и его успехи, результаты его деятельности важны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для окружающих  его людей –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родителей, педагогов,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детей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76" name="Picture 4" descr="x_f421e180"/>
          <p:cNvPicPr/>
          <p:nvPr/>
        </p:nvPicPr>
        <p:blipFill>
          <a:blip r:embed="rId1"/>
          <a:stretch/>
        </p:blipFill>
        <p:spPr>
          <a:xfrm>
            <a:off x="900000" y="692280"/>
            <a:ext cx="22320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5452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Но и, конечно же самое главное, ваш ребенок должен обязательно принять активное участие в этом процессе.</a:t>
            </a:r>
            <a:r>
              <a:rPr b="0" lang="ru-RU" sz="3200" spc="-1" strike="noStrike">
                <a:solidFill>
                  <a:srgbClr val="8e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78" name="Picture 4" descr="485_0541"/>
          <p:cNvPicPr/>
          <p:nvPr/>
        </p:nvPicPr>
        <p:blipFill>
          <a:blip r:embed="rId1"/>
          <a:stretch/>
        </p:blipFill>
        <p:spPr>
          <a:xfrm>
            <a:off x="1187280" y="2637000"/>
            <a:ext cx="52498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Портфолио дошкольника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это копилка личных достижений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ребёнка в разнообразных видах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деятельности, копилка его успехов,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                              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копилка его положительных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                              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эмоций, возможность ещё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                              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раз пережить приятные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                                 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моменты своей жизни.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0" name="Picture 32" descr="1300711173_2011-03-21_153545"/>
          <p:cNvPicPr/>
          <p:nvPr/>
        </p:nvPicPr>
        <p:blipFill>
          <a:blip r:embed="rId1"/>
          <a:stretch/>
        </p:blipFill>
        <p:spPr>
          <a:xfrm>
            <a:off x="6877080" y="765000"/>
            <a:ext cx="1619280" cy="2303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2"/>
          <p:cNvPicPr/>
          <p:nvPr/>
        </p:nvPicPr>
        <p:blipFill>
          <a:blip r:embed="rId2"/>
          <a:stretch/>
        </p:blipFill>
        <p:spPr>
          <a:xfrm>
            <a:off x="611280" y="3141720"/>
            <a:ext cx="27352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1:48:10Z</dcterms:created>
  <dc:creator>Владелец</dc:creator>
  <dc:description>http://aida.ucoz.ru</dc:description>
  <dc:language>en-US</dc:language>
  <cp:lastModifiedBy>Пользователь Windows</cp:lastModifiedBy>
  <dcterms:modified xsi:type="dcterms:W3CDTF">2022-11-30T05:00:51Z</dcterms:modified>
  <cp:revision>21</cp:revision>
  <dc:subject/>
  <dc:title>Портфолио дошкольника</dc:title>
</cp:coreProperties>
</file>