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8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4E3-748D-49DC-ADC5-C986D062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F0C-DEC7-4301-B563-999FA2C8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61F-99A0-44A2-82DB-A25DD552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D12-0F56-46FC-9313-B0BD7089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CAE-A28D-4700-BC1D-EDC1100E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AE3-8E95-4FF0-BC6E-7D8EEEA9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BDB-95F0-4BC4-B6BF-736976C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FEF-BCB1-4B0E-9F5B-58638D82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7DB-B34F-4E4A-94B3-7BF96328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FF0-C343-40B5-9FC9-36BE0B0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8BD-CC8B-412A-9CFE-7E1D177D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01F-B1F5-4357-A558-ADF3FC7C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AE16-9E6D-4336-B4C8-115A4A8C6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http://www.zw-observer.narod.ru/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380880" y="380880"/>
            <a:ext cx="8382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80880" y="1828800"/>
            <a:ext cx="4800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«Ледовое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побоище»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0_42620_b463298c_-1-orig"/>
          <p:cNvPicPr/>
          <p:nvPr/>
        </p:nvPicPr>
        <p:blipFill>
          <a:blip r:embed="rId3"/>
          <a:stretch/>
        </p:blipFill>
        <p:spPr>
          <a:xfrm>
            <a:off x="4876920" y="380880"/>
            <a:ext cx="384804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304920" y="5328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тва на Чудском озере, вошедшая в историю под названием "Ледовое побоище", началась утром 5 апреля 1242года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54488"/>
          <p:cNvPicPr/>
          <p:nvPr/>
        </p:nvPicPr>
        <p:blipFill>
          <a:blip r:embed="rId3"/>
          <a:stretch/>
        </p:blipFill>
        <p:spPr>
          <a:xfrm>
            <a:off x="457200" y="1509840"/>
            <a:ext cx="830592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457200" y="5936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ентре русского войска находился княжеский полк, рядом стояли полки правой и левой руки. Впереди главного полка находились стрелки-лучники. Войско крестоносцев выстроилось «клином» («свиньей», по русским летописям). В кольчугах и шлемах, с длинными мечами, они казались неуязви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10"/>
          <p:cNvPicPr/>
          <p:nvPr/>
        </p:nvPicPr>
        <p:blipFill>
          <a:blip r:embed="rId3"/>
          <a:stretch/>
        </p:blipFill>
        <p:spPr>
          <a:xfrm>
            <a:off x="380880" y="2454120"/>
            <a:ext cx="8382240" cy="39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380880" y="304920"/>
            <a:ext cx="861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цари прорвали оборону боевого порядка русских. Однако, наткнувшись на обрывистый берег озера, малоподвижные, закованные в латы рыцари не могли развить свой успех. Рыцарская конница скучилась, так как задние шеренги рыцарей подталкивали передние шеренги, которым негде было развернуться для боя. Завязалась ожесточенная рукопашная схва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2a34dc6bc528691ae98f5bca6b8"/>
          <p:cNvPicPr/>
          <p:nvPr/>
        </p:nvPicPr>
        <p:blipFill>
          <a:blip r:embed="rId3"/>
          <a:stretch/>
        </p:blipFill>
        <p:spPr>
          <a:xfrm>
            <a:off x="1600200" y="1981080"/>
            <a:ext cx="7162920" cy="44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82240" cy="601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0"/>
          <p:cNvPicPr/>
          <p:nvPr/>
        </p:nvPicPr>
        <p:blipFill>
          <a:blip r:embed="rId3"/>
          <a:stretch/>
        </p:blipFill>
        <p:spPr>
          <a:xfrm>
            <a:off x="380880" y="914400"/>
            <a:ext cx="5114880" cy="556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5486400" y="458640"/>
            <a:ext cx="335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амый разгар боя, когда "свинья" полностью втянулась в бой, по сигналу Александра Невского по ее флангам во всю мощь ударили полки левой и правой руки. Немецкий "клин" оказался зажатым в клещи. В это время дружина Александра нанесла удар с тыла и завершила окружение противника. «Войско братьев было окруже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30492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жение завершилось преследованием в панике бежавшего противника. При этом часть неприятелей погибла в сражении, часть была пленена, а часть, оказавшись на месте тонкого льда - "сиговине", провалилась под л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315797123_thumbphoto11100x765x1x16777215_Ledovoe"/>
          <p:cNvPicPr/>
          <p:nvPr/>
        </p:nvPicPr>
        <p:blipFill>
          <a:blip r:embed="rId3"/>
          <a:stretch/>
        </p:blipFill>
        <p:spPr>
          <a:xfrm>
            <a:off x="990720" y="1523880"/>
            <a:ext cx="7162560" cy="49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6248520" y="457920"/>
            <a:ext cx="25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ница новгородцев преследовала остатки бежавшего в беспорядке рыцарского войска по льду Чудского озера вплоть до противоположного берега, семь верст, завершив их разгром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588492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457200" y="4186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сражения русское войско пошло к Пскову, как о том сказано в Житии: «И возвратился Александр с победою славною, и шло многое множество пленных в войске его, и вели их босыми возле коней, тех, кто называл себя «Божий рыцар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380880" y="1555920"/>
            <a:ext cx="8382240" cy="49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1"/>
          <p:cNvPicPr/>
          <p:nvPr/>
        </p:nvPicPr>
        <p:blipFill>
          <a:blip r:embed="rId3"/>
          <a:stretch/>
        </p:blipFill>
        <p:spPr>
          <a:xfrm>
            <a:off x="4038480" y="380880"/>
            <a:ext cx="4762800" cy="6067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80880" y="459360"/>
            <a:ext cx="3657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280 г. во Владимире начинается почитание Александра Невского как святого, позднее он был официально канонизирован Русской православной церковью. Александр Невский был единственным православным светским правителем не только на Руси, но и во всей Европе, который не пошел на компромисс с католической церковью ради сохранения власти. В 1724 году Петр I основал в Петербурге Александро-Невская лавру и повелел перевезти туда останки княз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80880" y="380880"/>
            <a:ext cx="845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725 году императрица Екатерина 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чредила орден Александра Невского - одну из высших наград России, существовавших до 1917 года. Во время Великой Отечественной войны в 1942 году был учрежден советский орден Александра Невского, которым награждались командиры от взводов до дивизий включительно, проявившие личную отвагу и обеспечившие успешные действия своих ча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2503440" cy="40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4419720" y="2362320"/>
            <a:ext cx="39700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381880" cy="6019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3051720" y="38088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чение битвы для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04920" y="1676520"/>
            <a:ext cx="5638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Ледовое побоище" стало первым случаем в истории военного искусства, когда тяжелая рыцарская конница была разбита в полевом бою войском, состоявшим в большей части из пех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язь Александр заручился тогда обещанием немцев «отступиться» от русских зем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свидетельствует летопись, через год после Ледового побоища, орденские рыцари «прислали послов с поклоном» в Новгород, отказались от своих завоеваний в землях русских и заключили мирный догов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днее «за великие заслуги перед Русью и подвиги ратные» Александр Невский был канонизирован Русской Православной Церковью и причислен к лику святы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5796000" y="1752480"/>
            <a:ext cx="3005280" cy="4667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228600" y="7621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танов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движение Ливонского ордена на вос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градила распространение католической веры на Вос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хранила независимость русских северо-западных зем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57200" y="45720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 апреля в России отмечают славную дату - 770-ю годовщину со дня победы дружины князя Александра Невского в битве с немецкими рыцарями на Чудском озере. Эту уникальную страницу истории все мы знаем как Ледовое побоище, произошедшее в 1242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ы знаем о той далекой битв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следнее время вокруг этого исторического события возникли не менее воинственные дискуссии, чем была сама би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0_1c824_9cc7b90_XL"/>
          <p:cNvPicPr/>
          <p:nvPr/>
        </p:nvPicPr>
        <p:blipFill>
          <a:blip r:embed="rId3"/>
          <a:stretch/>
        </p:blipFill>
        <p:spPr>
          <a:xfrm>
            <a:off x="304920" y="3124080"/>
            <a:ext cx="8381880" cy="32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ledov3"/>
          <p:cNvPicPr/>
          <p:nvPr/>
        </p:nvPicPr>
        <p:blipFill>
          <a:blip r:embed="rId3"/>
          <a:stretch/>
        </p:blipFill>
        <p:spPr>
          <a:xfrm>
            <a:off x="380880" y="1784520"/>
            <a:ext cx="5562720" cy="4692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04920" y="30492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альности, исследователи не знают, где была битва. Новгородские источники говоря о месте битвы, указывают на Вороний камень. Но только где находится этот самый Вороний камень, исследователи спорят по сей день. При более поздних исследованиях были обнаружены захоронения, относящиеся ко времени битв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867280" y="16765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наружение района захоронения погибших воинов позволило сделать уверенный вывод о том, что битва шла здесь, между деревнями Таборы, Козлово и Самолв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304920" y="502200"/>
            <a:ext cx="8534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еев А. Тевтонский орден. Крах крестового нашествия на 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гунов Ю. Александр Невский. М.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гданов А. П. Александр Невский, Вече, Москва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исов Н. С. Русские полководцы XIII - XVI веков. «Просвещение». М.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зинов Е. «Голос его – как труба в народ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пичников А.Н. Ледовое побоище 1242 года. Новое осмысление. // Вопросы истории.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стомаров Н. И. Русская история в жизнеописаниях ее главнейших деятелей, Москва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Ледовое побоище 1242 года» Сборник статей комплексной экспедиции по уточнению места ледового побоища под редакцией Г. Н. Караева, Наука, Москва, 19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шуто В. Т. Александр Невский М., 1974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овьев С. М. Об истории древней России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скольский И. П. Борьба Руси против крестоносной агрессии на берегах Балтики в ХП-ХШ веках. «Наука». Л. 19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portal-slovo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zw-observer.naro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609480" y="21337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Bookman Old Style"/>
              </a:rPr>
              <a:t>Спасибо за внимание!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Bookman Old Style"/>
              <a:ea typeface="Bookman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80880" y="4572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ытия Ледового побоища – пример того, насколько историческая реальность интересна сама по себе, без всяких выдумок и фантастических нагромождений. Главный герой этой битвы, князь Александр Ярославич, благодаря этой победе, благодаря последующей дипломатической игре с Ордой, стал очень заметной фигурой нашей ист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5"/>
          <p:cNvPicPr/>
          <p:nvPr/>
        </p:nvPicPr>
        <p:blipFill>
          <a:blip r:embed="rId3"/>
          <a:stretch/>
        </p:blipFill>
        <p:spPr>
          <a:xfrm>
            <a:off x="3124080" y="2111400"/>
            <a:ext cx="56390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80880" y="457200"/>
            <a:ext cx="419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и 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яснит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Как проявилось полководческое и дипломатическое искусство Александра Невского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За что Русская православная церковь причислила Александра Невского к лику святых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Как исторические события, происходившие на берегу Чудского озера, помогают лучше узнать историю России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Что говорят археологические исследования о месте «Ледового побоищ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ff1a88d374de88d6d35bd420d3e_prev"/>
          <p:cNvPicPr/>
          <p:nvPr/>
        </p:nvPicPr>
        <p:blipFill>
          <a:blip r:embed="rId3"/>
          <a:stretch/>
        </p:blipFill>
        <p:spPr>
          <a:xfrm>
            <a:off x="4648320" y="91440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04920" y="380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торой половине ХШ столетия Русь переживала период феодальной раздробленности. Беспрерывные распри между князьями, их борьба с боярством - все это сильно ослабляло Русь, затрудняло ее борьбу против внешних вра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380880" y="1609560"/>
            <a:ext cx="6400800" cy="4956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858000" y="15238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угроза исходила тогда от немецких феодалов - рыцарей Ливонского орде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осени 1240 года ливонские рыцари вторглись в пределы новгородских владений, заняли Изборск и Псков. Той же осенью 1240 года ливонцы овладели южными подступами к Новгороду, вторглись в земли, прилегающие к Финскому заливу, и создали здесь крепость Копорье, где оставили свой гарнизон. В своих набегах они подходили к Новгороду на 30 кило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utonic-knights"/>
          <p:cNvPicPr/>
          <p:nvPr/>
        </p:nvPicPr>
        <p:blipFill>
          <a:blip r:embed="rId3"/>
          <a:stretch/>
        </p:blipFill>
        <p:spPr>
          <a:xfrm>
            <a:off x="1371600" y="2068560"/>
            <a:ext cx="7391520" cy="44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304920" y="3049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арте 1242 года новгородцы под командованием Александра Невского выступили в поход и вскоре уже были под Псковом. К ним на подмогу спешил князь Андрей Ярославич с суздальскими дружинами. Поход русских войск явился для Ордена неожиданностью. В результате рыцари без боя были изгнаны из Пскова, а войско Александра после достижения этой важной цели вторглось в ливонские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380880" y="2011320"/>
            <a:ext cx="5639040" cy="45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381880" cy="6019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380880" y="1311840"/>
            <a:ext cx="2667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 решил перенести войну на территорию самого Ордена. Новгородцы осуществили необычный маневр: они отступили на лед Чудского озера, севернее урочища Узмень, у острова Вороний Кам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1"/>
          <p:cNvPicPr/>
          <p:nvPr/>
        </p:nvPicPr>
        <p:blipFill>
          <a:blip r:embed="rId3"/>
          <a:stretch/>
        </p:blipFill>
        <p:spPr>
          <a:xfrm>
            <a:off x="2971800" y="609480"/>
            <a:ext cx="5791320" cy="57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457200" y="45684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йдя на Чудское озеро, новгородское войско оказалось в центре возможных путей движения противника на Новгород. Туда в боевом порядке подошло и Орденское войск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e96fb3be"/>
          <p:cNvPicPr/>
          <p:nvPr/>
        </p:nvPicPr>
        <p:blipFill>
          <a:blip r:embed="rId3"/>
          <a:stretch/>
        </p:blipFill>
        <p:spPr>
          <a:xfrm>
            <a:off x="380880" y="2181240"/>
            <a:ext cx="8382240" cy="429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ХаН</cp:lastModifiedBy>
  <dcterms:modified xsi:type="dcterms:W3CDTF">2003-01-01T02:12:33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