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E01-F0C8-4D18-A756-D4AE48B9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327-FB7D-4FAB-B651-0E4C3123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462-4850-4B5C-856A-3A0611BF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174-2F4B-4B15-A6C7-6DE32EE4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3D37-617D-4363-9AC4-B96F3516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E66A-A086-45CC-A7A2-7573CCAE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C379-CE30-4A05-8D2C-E205079C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6D30-C100-42E3-909D-B7999F3D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8F12-D83B-4C9A-AF42-D58F87DC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5D54-08C9-47A2-B6B1-66319523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7A46-205A-4482-A163-363C6326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09A-0EB5-4212-AA3F-B7000CB2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0650-0F87-43E9-925F-2EF6C8DB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D461-67BC-43AD-BDBA-60427EFD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7042-6D63-4942-8ABD-2A98397D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1E85-C1D9-4E1C-88AF-6DF2CF0F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9A97-B137-4644-816D-94F8758A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461B-5284-4913-98A1-1F8631F7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0F660-059C-4640-B393-A96B3C32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988F-4CDD-490B-8D9C-15A38CF4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614A-A9E3-4165-9E47-44B6D0F7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62E1-DC9C-4308-AB4A-8FE6A626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DC5-D3FC-406E-A49B-4FC979E5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B0F2-3F3D-4960-967F-2D9E1554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B45A-34B0-4BA5-8780-F59B40A7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A37E-A42F-4E9F-9070-2B69F8B8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F141-78A4-4274-B13B-498512BC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06C9-0B1D-4CEA-8FF7-2B4AA86E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2FC4-693E-4D10-85EF-4CECBFC1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D453-CEC1-4322-A41C-BF52645C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BC2ED-E954-4318-8942-7FD31355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F844-14E8-4593-A39B-AE114F8A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55BE-22F9-4B99-9712-55523E92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AA3-7D03-4FDE-A3EB-B17EED0E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8830-2322-468E-93BB-CAD49C80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7DEE-43A0-4083-94BF-8D94D51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5EF2-13D9-4FBC-9A23-908C3087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D382-7DD3-4EB0-BCCE-E2CB24C3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EF2D6-FBC0-4594-8258-2DDBA082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1239-4F2D-42E9-A527-04AB9F0C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6B108-7AA2-417A-B462-1CE53142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E67E-52C6-4AEF-A081-31FED62B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A10A9-D3FB-4C29-9BD8-B7A19B95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4B7-2C09-48C4-90E3-D3F33BF9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32D-BF14-4AB1-B1BD-D00282D2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15E-2D42-4D37-B31A-7B472610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E98-BC8C-45C9-AB45-BE3EEC93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D92-5891-473C-945F-9638BB20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4022-50CC-4C2A-B1AE-DB2533BE599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8FFE-1D0D-40BC-A7DE-AFC2AC16CA82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093D-5776-46C0-8C95-CB357FCA727B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C4F3-5E66-47DC-A801-63BC77288082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169920" y="765000"/>
            <a:ext cx="8856720" cy="61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371 с углублённым изучением русского, английского, французского языков имени Героя Российской Федерации Е.Н. Зиничева Московского района Санкт-Петербурга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АНДИН АРТЕМИЙ АНАТО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ИЗАЦИЯ ТРЕНИРОВОЧНЫХ НАГРУЗОК В УСЛОВИЯХ ТРЕНИРОВОЧНОГО СБОРА У КВАЛИФИЦИРОВАННЫХ ВОЛЕЙБО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C:\Users\andromerk\Desktop\Выпускная Квалификационная Работа\МУзей Олимпиады\картина\gerb0000.png"/>
          <p:cNvPicPr/>
          <p:nvPr/>
        </p:nvPicPr>
        <p:blipFill>
          <a:blip r:embed="rId1"/>
          <a:stretch/>
        </p:blipFill>
        <p:spPr>
          <a:xfrm>
            <a:off x="539640" y="5197320"/>
            <a:ext cx="1584360" cy="1660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andromerk\Desktop\Выпускная Квалификационная Работа\МУзей Олимпиады\картина\orden000.png"/>
          <p:cNvPicPr/>
          <p:nvPr/>
        </p:nvPicPr>
        <p:blipFill>
          <a:blip r:embed="rId2"/>
          <a:stretch/>
        </p:blipFill>
        <p:spPr>
          <a:xfrm>
            <a:off x="7020000" y="5170320"/>
            <a:ext cx="2006640" cy="1687680"/>
          </a:xfrm>
          <a:prstGeom prst="rect">
            <a:avLst/>
          </a:prstGeom>
          <a:ln w="0">
            <a:noFill/>
          </a:ln>
        </p:spPr>
      </p:pic>
      <p:sp>
        <p:nvSpPr>
          <p:cNvPr id="198" name="Управляющая кнопка: &quot;На главную&quot; 1">
            <a:hlinkClick r:id="rId3" action="ppaction://hlinksldjump"/>
          </p:cNvPr>
          <p:cNvSpPr/>
          <p:nvPr/>
        </p:nvSpPr>
        <p:spPr>
          <a:xfrm>
            <a:off x="8825040" y="6518160"/>
            <a:ext cx="298440" cy="31140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1400"/>
              <a:gd name="textAreaBottom" fmla="*/ 292320 h 311400"/>
            </a:gdLst>
            <a:ahLst/>
            <a:rect l="textAreaLeft" t="textAreaTop" r="textAreaRight" b="textAreaBottom"/>
            <a:pathLst>
              <a:path w="21600" h="22537">
                <a:moveTo>
                  <a:pt x="0" y="0"/>
                </a:moveTo>
                <a:lnTo>
                  <a:pt x="21600" y="0"/>
                </a:lnTo>
                <a:lnTo>
                  <a:pt x="21600" y="22537"/>
                </a:lnTo>
                <a:lnTo>
                  <a:pt x="0" y="22537"/>
                </a:lnTo>
                <a:close/>
              </a:path>
              <a:path fill="lightenLess" w="21600" h="225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37">
                <a:moveTo>
                  <a:pt x="21600" y="0"/>
                </a:moveTo>
                <a:lnTo>
                  <a:pt x="21600" y="22537"/>
                </a:lnTo>
                <a:lnTo>
                  <a:pt x="20200" y="21137"/>
                </a:lnTo>
                <a:lnTo>
                  <a:pt x="20200" y="1400"/>
                </a:lnTo>
                <a:close/>
              </a:path>
              <a:path fill="darkenLess" w="21600" h="22537">
                <a:moveTo>
                  <a:pt x="21600" y="22537"/>
                </a:moveTo>
                <a:lnTo>
                  <a:pt x="0" y="22537"/>
                </a:lnTo>
                <a:lnTo>
                  <a:pt x="1400" y="21137"/>
                </a:lnTo>
                <a:lnTo>
                  <a:pt x="20200" y="21137"/>
                </a:lnTo>
                <a:close/>
              </a:path>
              <a:path fill="lighten" w="21600" h="22537">
                <a:moveTo>
                  <a:pt x="0" y="225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37"/>
                </a:lnTo>
                <a:close/>
              </a:path>
              <a:path fill="darken" w="21600" h="22537">
                <a:moveTo>
                  <a:pt x="10800" y="4305"/>
                </a:moveTo>
                <a:lnTo>
                  <a:pt x="13376" y="6917"/>
                </a:lnTo>
                <a:lnTo>
                  <a:pt x="13376" y="5176"/>
                </a:lnTo>
                <a:lnTo>
                  <a:pt x="15152" y="5176"/>
                </a:lnTo>
                <a:lnTo>
                  <a:pt x="15152" y="8692"/>
                </a:lnTo>
                <a:lnTo>
                  <a:pt x="17763" y="11268"/>
                </a:lnTo>
                <a:lnTo>
                  <a:pt x="16109" y="11268"/>
                </a:lnTo>
                <a:lnTo>
                  <a:pt x="16109" y="18458"/>
                </a:lnTo>
                <a:lnTo>
                  <a:pt x="5491" y="18458"/>
                </a:lnTo>
                <a:lnTo>
                  <a:pt x="5491" y="11268"/>
                </a:lnTo>
                <a:lnTo>
                  <a:pt x="3837" y="11268"/>
                </a:lnTo>
                <a:close/>
              </a:path>
              <a:path fill="darkenLess" w="21600" h="22537">
                <a:moveTo>
                  <a:pt x="13376" y="6917"/>
                </a:moveTo>
                <a:lnTo>
                  <a:pt x="13376" y="5176"/>
                </a:lnTo>
                <a:lnTo>
                  <a:pt x="15152" y="5176"/>
                </a:lnTo>
                <a:lnTo>
                  <a:pt x="15152" y="8692"/>
                </a:lnTo>
                <a:close/>
              </a:path>
              <a:path fill="darkenLess" w="21600" h="22537">
                <a:moveTo>
                  <a:pt x="9877" y="14767"/>
                </a:moveTo>
                <a:lnTo>
                  <a:pt x="11723" y="14767"/>
                </a:lnTo>
                <a:lnTo>
                  <a:pt x="11723" y="18458"/>
                </a:lnTo>
                <a:lnTo>
                  <a:pt x="16109" y="18458"/>
                </a:lnTo>
                <a:lnTo>
                  <a:pt x="16109" y="11268"/>
                </a:lnTo>
                <a:lnTo>
                  <a:pt x="5491" y="11268"/>
                </a:lnTo>
                <a:lnTo>
                  <a:pt x="5491" y="18458"/>
                </a:lnTo>
                <a:lnTo>
                  <a:pt x="9877" y="18458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уммарное значение ЧСС (по Л.О. Леонтьеву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656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1. Измерение пульса за 1 минуту в положении лежа на спин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. Измерение пульса за 1 минуту в положении сид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. Разница второго и первого изме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4. Измерение пульса за 1 минуту после 30 присед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(темп: 1 приседание за 2 секунд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5. Измерение пульса за 1 минуту после минуты отдых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3495c"/>
                </a:solidFill>
                <a:uFillTx/>
                <a:latin typeface="Times New Roman"/>
                <a:ea typeface="Times New Roman"/>
              </a:rPr>
              <a:t>Сумма пяти измерений – есть показатель работоспособ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Calibri"/>
              </a:rPr>
              <a:t>Полученные результаты оцениваются по следующей шкале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1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80 и ниже отличный уровень подготовл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80 – 300 – хорош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00 – 320 – сред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20 – 340 – достаточ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40 – 360 – низк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60 и выше – требуется значительное снижение физической нагрузки, относительно программного материала, разработка индивидуальной программы подготовки и плавное вкатывание в тренировочный проце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952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исунок </a:t>
            </a:r>
            <a:r>
              <a:rPr b="0" lang="en-US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- Количество изменений запланированной тренировочной нагрузки в экспериментальной группе в зависимости от функционального состояния спортсменов на протяжении всего периода исследования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Объект 5" descr=""/>
          <p:cNvPicPr/>
          <p:nvPr/>
        </p:nvPicPr>
        <p:blipFill>
          <a:blip r:embed="rId1"/>
          <a:stretch/>
        </p:blipFill>
        <p:spPr>
          <a:xfrm>
            <a:off x="479520" y="907920"/>
            <a:ext cx="8021520" cy="4472280"/>
          </a:xfrm>
          <a:prstGeom prst="rect">
            <a:avLst/>
          </a:prstGeom>
          <a:ln w="0">
            <a:noFill/>
          </a:ln>
        </p:spPr>
      </p:pic>
      <p:sp>
        <p:nvSpPr>
          <p:cNvPr id="230" name="Управляющая кнопка: &quot;На главную&quot; 3">
            <a:hlinkClick r:id="rId2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660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исунок 3 - Изменение показате</a:t>
            </a:r>
            <a:r>
              <a:rPr b="0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л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ей пульсовых проб в экспериментальной группе на протяжении тренировочного сбора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36360" y="768240"/>
            <a:ext cx="9071280" cy="4608720"/>
          </a:xfrm>
          <a:prstGeom prst="rect">
            <a:avLst/>
          </a:prstGeom>
          <a:ln w="0">
            <a:noFill/>
          </a:ln>
        </p:spPr>
      </p:pic>
      <p:sp>
        <p:nvSpPr>
          <p:cNvPr id="233" name="Управляющая кнопка: &quot;На главную&quot; 4">
            <a:hlinkClick r:id="rId2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80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исунок </a:t>
            </a:r>
            <a:r>
              <a:rPr b="0" lang="en-US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- Значения средних показателей пульсометрии в экспериментальной группе в течении всего периода исследования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Объект 5" descr=""/>
          <p:cNvPicPr/>
          <p:nvPr/>
        </p:nvPicPr>
        <p:blipFill>
          <a:blip r:embed="rId1"/>
          <a:stretch/>
        </p:blipFill>
        <p:spPr>
          <a:xfrm>
            <a:off x="36360" y="835200"/>
            <a:ext cx="9071280" cy="4754520"/>
          </a:xfrm>
          <a:prstGeom prst="rect">
            <a:avLst/>
          </a:prstGeom>
          <a:ln w="0">
            <a:noFill/>
          </a:ln>
        </p:spPr>
      </p:pic>
      <p:sp>
        <p:nvSpPr>
          <p:cNvPr id="236" name="Управляющая кнопка: &quot;На главную&quot; 3">
            <a:hlinkClick r:id="rId2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Calibri"/>
              </a:rPr>
              <a:t>Таблица 2 - Сравнение показателей физической подготовленности квалифицированных волейболистов контрольной и экспериментальной групп по итогам сбора по физической подготовке 2016 года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4920" y="1639800"/>
          <a:ext cx="9074160" cy="5025960"/>
        </p:xfrm>
        <a:graphic>
          <a:graphicData uri="http://schemas.openxmlformats.org/drawingml/2006/table">
            <a:tbl>
              <a:tblPr/>
              <a:tblGrid>
                <a:gridCol w="1459080"/>
                <a:gridCol w="1457280"/>
                <a:gridCol w="1027080"/>
                <a:gridCol w="1025280"/>
                <a:gridCol w="1027440"/>
                <a:gridCol w="1025280"/>
                <a:gridCol w="1027080"/>
                <a:gridCol w="1025640"/>
              </a:tblGrid>
              <a:tr h="89712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ниваемые зна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г 30м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лночный бег 5Х6 м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г 92 м с изменением направления "Ёлочка"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росок мяча весом 1 кг из-за головы двумя руками стоя (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ыжок в длину с места (с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ыжок вверх с места со взмахом руками (с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5856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спериментальная группа (Э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до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3±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7±0,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84±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после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8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7±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63±0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42±0,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,17±7,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08±3,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ная группа (К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до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3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после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3±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6±0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13±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21±1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92±6,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42±3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1428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Г и КГ - до эксперим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Э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3±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7±0,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84±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1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К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3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1608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Г и КГ - после эксперим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Э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8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7±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63±0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42±0,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,17±7,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08±3,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К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3±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6±0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13±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21±1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92±6,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42±3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39" name="Управляющая кнопка: &quot;На главную&quot; 4">
            <a:hlinkClick r:id="rId1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Вывод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4920" y="907920"/>
            <a:ext cx="907416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1. Показатели физической подготовленности в ЭГ до проведения тренировочного сбора соответствуют модельным характеристикам в пяти из шести контрольных упражнений. Показатели физической подготовленности в КГ до проведения тренировочного сбора соответствуют модельным характеристикам во всех шести контрольных упражнениях. Это позволяет считать группы, участвующие в исследовании, однородными по показателям физической подготовл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. Разработку содержания тренировочных сборов по физической подготовке целесообразно осуществлять, используя концепцию сочетания упражнений разной физиологической направленности, и представлять в виде пирамиды перекрестной тренировки (по Е.Р. Яхонтову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. Планирование тренировочного сбора целесообразно осуществлять на основе разработки содержания пяти документов планирования: план-графика распределения часовой нагрузки по циклам и видам подготовки; графика тренировочных и выходных дней; план-графика распределения уровня объема и интенсивности нагрузок в тренировочных циклах; содержание видов подготовки по циклам; режим д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4. Индивидуальную реакцию организма испытуемых на нагрузку целесообразно выявлять на основе суммарного значения ЧСС каждого спортсмена и группы в целом, которые могут быть представлены в виде графиков. Учет индивидуальных показателей пульсометрии позволяет оперативно регулировать последующую нагрузку в ходе тренировочных зан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5. Эффективность индивидуализации тренировочных нагрузок квалифицированных волейболистов на основе учета индивидуальных показателей пульсометрии доказана результатами повторного спортивно-педагогического тестирования. По окончании педагогического эксперимента в экспериментальной группе показатели физической подготовленности по всем шести контрольным упражнениям (тестам) соответствуют модельным характеристикам и имеют статистически достоверные различия на уровне значимости 0,05 с показателями в контрольной групп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2"/>
          <p:cNvSpPr/>
          <p:nvPr/>
        </p:nvSpPr>
        <p:spPr>
          <a:xfrm>
            <a:off x="142920" y="3071880"/>
            <a:ext cx="88581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048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9320" y="115560"/>
            <a:ext cx="31053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главле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8000" y="836280"/>
            <a:ext cx="8928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f6fc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. Титульный слайд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f6fc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2. Объект и предмет иссле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f6fc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3. Гипотеза иссле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4. Положения выносимые на защиту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5. Цель иссле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6. Задачи иссле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7. Пирамида перекрестной тренировки (по Е.Р. Яхонтову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8. Перечень документов планир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9. Сравнение показателей физической подготовленности в КГ и ЭГ по итогам сборов 2016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0. Описание теста пульсометрии (по Л.О. Леонтьеву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1. Шкала оценки данных пульсометри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2. Количество изменений запланированной тренировочной нагрузки в течении педагогического эксперимент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3. Графики пульсовых проб при увеличении и снижении запланированной нагрузк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4. График средних показателей пульсометрии в ЭГ в течении всего периода иссле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5. Сравнение показателей физической подготовленности в КГ и ЭГ по итогам сборов 2018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6. Выводы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17. Спасибо за внима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4200" y="914400"/>
            <a:ext cx="8715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63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ъект исследования: 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ренировочный процесс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валифицированных волейболистов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ходе тренировочного сбора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Предмет исследования: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дивидуализация тренировочной нагрузки квалифицированных волейболистов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ходе тренировочного сбора.</a:t>
            </a:r>
            <a:br>
              <a:rPr sz="2400"/>
            </a:b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755640" y="2133720"/>
            <a:ext cx="7632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495c"/>
                </a:solidFill>
                <a:latin typeface="Times New Roman"/>
                <a:ea typeface="Calibri"/>
              </a:rPr>
              <a:t>Предполагалось, что показатели физической подготовленности у квалифицированных волейболистов по окончанию тренировочного сбора повысятся, если в ходе тренировочных занятий будет осуществляться индивидуальный контроль переносимости нагрузок и учет возможностей каждого спортсмена выполнить запланирован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2448000" y="1341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95c"/>
                </a:solidFill>
                <a:latin typeface="Times New Roman"/>
                <a:ea typeface="Calibri"/>
              </a:rPr>
              <a:t>Гипотеза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611280" y="89064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 защиту выносятся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17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дивидуальная динамика реакции организма у квалифицированных волейболистов на нагрузку является фактором, требующим организации индивидуального контроля переносимости нагрузок и учета возможностей каждого спортсмена выполнить запланированную работу в ходе тренировочных сборов по физической подготов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. Корректировка нагрузок с учетом индивидуальной реакции со стороны ЧСС у квалифицированных волейболистов положительно влияет на динамику показателей физической подготовленности в ходе тренировочных сб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Управляющая кнопка: &quot;На главную&quot; 2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5520" y="249228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овершенствование тренировочного процесса в рамках тренировочного сбора, на основе индивидуализации тренировочных нагрузок у квалифицированных волейболистов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2448000" y="170028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Цель исследования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чи исследования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773360"/>
            <a:ext cx="8715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. Разработать содержание тренировочных сборов по физической подготовке для волейбольной команды на этапе спортивного совершенств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. Определить показатели физической подготовленности квалифицированных волейболистов до проведения тренировочного сбо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3. Определить индивидуальную реакцию организма на нагрузки и проверить эффективность индивидуальной корректировки тренировочных нагрузок у квалифицированных волейбо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Управляющая кнопка: &quot;На главную&quot; 3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Объект 4" descr=""/>
          <p:cNvPicPr/>
          <p:nvPr/>
        </p:nvPicPr>
        <p:blipFill>
          <a:blip r:embed="rId1"/>
          <a:stretch/>
        </p:blipFill>
        <p:spPr>
          <a:xfrm>
            <a:off x="1184400" y="765000"/>
            <a:ext cx="6775200" cy="43196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971640" y="544500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Рисунок 1 - Пирамида перекрестной тренировки (по Е.Р. Яхонто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правляющая кнопка: &quot;На главную&quot; 3">
            <a:hlinkClick r:id="rId2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5"/>
          <p:cNvSpPr/>
          <p:nvPr/>
        </p:nvSpPr>
        <p:spPr>
          <a:xfrm>
            <a:off x="353880" y="6308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360" y="21430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1. План-график распределения часовой нагрузки по циклам и видам подготовк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. График тренировочных и выходных дн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. План-график распределения уровня объема и интенсивности общих и специальных нагрузок в тренировочных циклах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4. Содержание видов подготовки по цикла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5. Режим дня в условиях тренировочного сбора по физической подготов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425520" y="976320"/>
            <a:ext cx="8280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Документы планирования, отражающий содержание тренировочного сбора по физической подготовк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Управляющая кнопка: &quot;На главную&quot; 4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imes New Roman"/>
                <a:ea typeface="Calibri"/>
              </a:rPr>
              <a:t>Таблица 1 - Сравнение показателей физической подготовленности квалифицированных волейболистов контрольной и экспериментальной групп по итогам сбора по физической подготовке 2016 года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0" y="1639800"/>
          <a:ext cx="9074160" cy="5025960"/>
        </p:xfrm>
        <a:graphic>
          <a:graphicData uri="http://schemas.openxmlformats.org/drawingml/2006/table">
            <a:tbl>
              <a:tblPr/>
              <a:tblGrid>
                <a:gridCol w="1459080"/>
                <a:gridCol w="1457280"/>
                <a:gridCol w="1027080"/>
                <a:gridCol w="1025280"/>
                <a:gridCol w="1027440"/>
                <a:gridCol w="1025280"/>
                <a:gridCol w="1027080"/>
                <a:gridCol w="1025640"/>
              </a:tblGrid>
              <a:tr h="89712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авниваемые зна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г 30м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лночный бег 5Х6 м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г 92 м с изменением направления "Ёлочка" (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росок мяча весом 1 кг из-за головы двумя руками стоя (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ыжок в длину с места (с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ыжок вверх с места со взмахом руками (см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5856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спериментальная группа (Э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до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8±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3±0,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после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1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7±0,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1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1±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17±7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5±3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ная группа (К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до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4±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0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после эксперимента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4±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3±0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5±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9±0,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33±7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33±3,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1428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Г и КГ - до эксперим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Э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8±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3±0,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1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К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4±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0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75±0,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±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5±3,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≤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16080">
                <a:tc rowSpan="3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Г и КГ - после эксперим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Э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1±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7±0,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15±0,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1±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17±7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5±3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КГ (x±S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4±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3±0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5±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9±0,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33±7,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33±3,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значимости различия сред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&gt;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21" name="Управляющая кнопка: &quot;На главную&quot; 4">
            <a:hlinkClick r:id="rId1" action="ppaction://hlinksldjump"/>
          </p:cNvPr>
          <p:cNvSpPr/>
          <p:nvPr/>
        </p:nvSpPr>
        <p:spPr>
          <a:xfrm>
            <a:off x="8845560" y="6545160"/>
            <a:ext cx="298440" cy="31284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12840"/>
              <a:gd name="textAreaBottom" fmla="*/ 293760 h 312840"/>
            </a:gdLst>
            <a:ahLst/>
            <a:rect l="textAreaLeft" t="textAreaTop" r="textAreaRight" b="textAreaBottom"/>
            <a:pathLst>
              <a:path w="21600" h="22641">
                <a:moveTo>
                  <a:pt x="0" y="0"/>
                </a:moveTo>
                <a:lnTo>
                  <a:pt x="21600" y="0"/>
                </a:lnTo>
                <a:lnTo>
                  <a:pt x="21600" y="22641"/>
                </a:lnTo>
                <a:lnTo>
                  <a:pt x="0" y="22641"/>
                </a:lnTo>
                <a:close/>
              </a:path>
              <a:path fill="lightenLess" w="21600" h="22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1">
                <a:moveTo>
                  <a:pt x="21600" y="0"/>
                </a:moveTo>
                <a:lnTo>
                  <a:pt x="21600" y="22641"/>
                </a:lnTo>
                <a:lnTo>
                  <a:pt x="20200" y="21241"/>
                </a:lnTo>
                <a:lnTo>
                  <a:pt x="20200" y="1400"/>
                </a:lnTo>
                <a:close/>
              </a:path>
              <a:path fill="darkenLess" w="21600" h="22641">
                <a:moveTo>
                  <a:pt x="21600" y="22641"/>
                </a:moveTo>
                <a:lnTo>
                  <a:pt x="0" y="22641"/>
                </a:lnTo>
                <a:lnTo>
                  <a:pt x="1400" y="21241"/>
                </a:lnTo>
                <a:lnTo>
                  <a:pt x="20200" y="21241"/>
                </a:lnTo>
                <a:close/>
              </a:path>
              <a:path fill="lighten" w="21600" h="22641">
                <a:moveTo>
                  <a:pt x="0" y="22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1"/>
                </a:lnTo>
                <a:close/>
              </a:path>
              <a:path fill="darken" w="21600" h="22641">
                <a:moveTo>
                  <a:pt x="10800" y="4358"/>
                </a:moveTo>
                <a:lnTo>
                  <a:pt x="13376" y="6969"/>
                </a:ln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lnTo>
                  <a:pt x="17763" y="11320"/>
                </a:lnTo>
                <a:lnTo>
                  <a:pt x="16109" y="11320"/>
                </a:lnTo>
                <a:lnTo>
                  <a:pt x="16109" y="18510"/>
                </a:lnTo>
                <a:lnTo>
                  <a:pt x="5491" y="18510"/>
                </a:lnTo>
                <a:lnTo>
                  <a:pt x="5491" y="11320"/>
                </a:lnTo>
                <a:lnTo>
                  <a:pt x="3837" y="11320"/>
                </a:lnTo>
                <a:close/>
              </a:path>
              <a:path fill="darkenLess" w="21600" h="22641">
                <a:moveTo>
                  <a:pt x="13376" y="6969"/>
                </a:moveTo>
                <a:lnTo>
                  <a:pt x="13376" y="5228"/>
                </a:lnTo>
                <a:lnTo>
                  <a:pt x="15152" y="5228"/>
                </a:lnTo>
                <a:lnTo>
                  <a:pt x="15152" y="8744"/>
                </a:lnTo>
                <a:close/>
              </a:path>
              <a:path fill="darkenLess" w="21600" h="22641">
                <a:moveTo>
                  <a:pt x="9877" y="14819"/>
                </a:moveTo>
                <a:lnTo>
                  <a:pt x="11723" y="14819"/>
                </a:lnTo>
                <a:lnTo>
                  <a:pt x="11723" y="18510"/>
                </a:lnTo>
                <a:lnTo>
                  <a:pt x="16109" y="18510"/>
                </a:lnTo>
                <a:lnTo>
                  <a:pt x="16109" y="11320"/>
                </a:lnTo>
                <a:lnTo>
                  <a:pt x="5491" y="11320"/>
                </a:lnTo>
                <a:lnTo>
                  <a:pt x="5491" y="18510"/>
                </a:lnTo>
                <a:lnTo>
                  <a:pt x="9877" y="18510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8:26:31Z</dcterms:created>
  <dc:creator>admin</dc:creator>
  <dc:description/>
  <dc:language>en-US</dc:language>
  <cp:lastModifiedBy>Артем</cp:lastModifiedBy>
  <dcterms:modified xsi:type="dcterms:W3CDTF">2022-11-30T14:20:01Z</dcterms:modified>
  <cp:revision>132</cp:revision>
  <dc:subject/>
  <dc:title>Слайд 1</dc:title>
</cp:coreProperties>
</file>