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0E6-0980-419F-9394-88B64F98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2B24-A1B8-4284-99FA-5A365CDB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6FD8-DD8A-4322-8911-2A69BCDB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D06-3586-4223-A783-43F8477C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DDF9-4D3B-4997-895A-DB7CBD84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A8CE-B157-43E0-82D6-CF48CFCC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CFCE-FEE2-4CDF-8A02-67039893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A92A-D3DB-4436-83EC-B4F40AFA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8CA8-6385-4E26-9EE7-8A72CF88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9E67-7EF3-4CB5-8EEB-4BA76900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A7A6-8080-4CF2-B46E-0850D7D8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E21-F630-4ACF-B30B-F51FB97C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E78C-C916-4F29-B681-77A35BB9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1983-0142-4DAF-B937-DEA39805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DDEF-346E-4354-BEE0-B38DEAAE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4AF0-A550-4F5D-A433-D1396144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A468-AB06-433A-A61C-DBB3435C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17BCA-4E0B-49BA-A0DE-B6C415F0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CCE2A-19BF-469C-B4CC-2D687518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237FA-177B-4A40-9A1F-0AA9D3CC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31FA8-E5C7-42DF-8D72-C97A36F2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F70AA-D8B0-40D3-B0B4-19C9A386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83C-C864-4DC6-A853-DACFD439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F8C85-FAF1-4F54-87F7-D74572BB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9FDA3-AC4F-459D-A718-6505067D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8F33-B6CD-4517-BEE4-3BA7877A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EC33C-3E85-4056-8652-CC67F8BF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BC26E-E731-4FAC-97AB-0C67D725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56A3C-B961-4677-B7EB-D6ADD437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D3ED1-4012-4299-BAF8-12C44AE9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AFD42-9DBF-4199-8918-885C3AE8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C7B0A-C60A-4F4C-BBE1-B6FCDD42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64A07-69AF-43A4-992C-B580B3AD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B42-30FE-4CFA-9FAE-F1EAEFD0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B5EF6-C4DC-4BE7-A7EA-CFB69280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6CE53-2C9D-4394-8D71-A67F9C04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0275C-2A9E-43E0-A288-30A5C729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5EBDB-8C24-46AA-8F08-7F1B584A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B98F6-02D8-413F-808B-6357A11C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0EA9C-E8C5-4C47-92C6-0C5BCE6F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E5446-06A2-4E90-90F4-C10745B8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A2C3F-7762-4491-B2D8-4ECE9B1C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8BE53-D5ED-4B50-AF93-B6124AB9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68D6-F7C7-484B-ABCA-0617E0AD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D1E5-49A7-4F67-B2C6-3CCF3CA7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2DE7-17E4-42FE-928A-315ABAA2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F32-6674-49F7-8ECF-215B5829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1D1-8103-40C5-99F0-17A3DB1C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F8F2-5D1C-4AB8-A81B-58361C24D527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F81F-E08D-4106-9A7A-640DED3A926D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40E5-DB23-4A0D-9A27-C483614C3A9D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EF86-5D94-4055-9F87-880A823638CB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169920" y="765000"/>
            <a:ext cx="8856720" cy="61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а №371 с углублённым изучением русского, английского, французского языков имени Героя Российской Федерации Е.Н. Зиничева Московского района Санкт-Петербурга</a:t>
            </a:r>
            <a:br>
              <a:rPr sz="2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РАНДИН АРТЕМИЙ АНАТО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че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ДИВИДУАЛИЗАЦИЯ ТРЕНИРОВОЧНЫХ НАГРУЗОК В УСЛОВИЯХ ТРЕНИРОВОЧНОГО СБОРА У КВАЛИФИЦИРОВАННЫХ ВОЛЕЙБОЛ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C:\Users\andromerk\Desktop\Выпускная Квалификационная Работа\МУзей Олимпиады\картина\gerb0000.png"/>
          <p:cNvPicPr/>
          <p:nvPr/>
        </p:nvPicPr>
        <p:blipFill>
          <a:blip r:embed="rId1"/>
          <a:stretch/>
        </p:blipFill>
        <p:spPr>
          <a:xfrm>
            <a:off x="539640" y="5197320"/>
            <a:ext cx="1584360" cy="1660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Users\andromerk\Desktop\Выпускная Квалификационная Работа\МУзей Олимпиады\картина\orden000.png"/>
          <p:cNvPicPr/>
          <p:nvPr/>
        </p:nvPicPr>
        <p:blipFill>
          <a:blip r:embed="rId2"/>
          <a:stretch/>
        </p:blipFill>
        <p:spPr>
          <a:xfrm>
            <a:off x="7020000" y="5170320"/>
            <a:ext cx="2006640" cy="1687680"/>
          </a:xfrm>
          <a:prstGeom prst="rect">
            <a:avLst/>
          </a:prstGeom>
          <a:ln w="0">
            <a:noFill/>
          </a:ln>
        </p:spPr>
      </p:pic>
      <p:sp>
        <p:nvSpPr>
          <p:cNvPr id="198" name="Управляющая кнопка: &quot;На главную&quot; 1">
            <a:hlinkClick r:id="rId3" action="ppaction://hlinksldjump"/>
          </p:cNvPr>
          <p:cNvSpPr/>
          <p:nvPr/>
        </p:nvSpPr>
        <p:spPr>
          <a:xfrm>
            <a:off x="8825040" y="6518160"/>
            <a:ext cx="298440" cy="31140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1400"/>
              <a:gd name="textAreaBottom" fmla="*/ 292320 h 311400"/>
            </a:gdLst>
            <a:ahLst/>
            <a:rect l="textAreaLeft" t="textAreaTop" r="textAreaRight" b="textAreaBottom"/>
            <a:pathLst>
              <a:path w="21600" h="22537">
                <a:moveTo>
                  <a:pt x="0" y="0"/>
                </a:moveTo>
                <a:lnTo>
                  <a:pt x="21600" y="0"/>
                </a:lnTo>
                <a:lnTo>
                  <a:pt x="21600" y="22537"/>
                </a:lnTo>
                <a:lnTo>
                  <a:pt x="0" y="22537"/>
                </a:lnTo>
                <a:close/>
              </a:path>
              <a:path fill="lightenLess" w="21600" h="225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37">
                <a:moveTo>
                  <a:pt x="21600" y="0"/>
                </a:moveTo>
                <a:lnTo>
                  <a:pt x="21600" y="22537"/>
                </a:lnTo>
                <a:lnTo>
                  <a:pt x="20200" y="21137"/>
                </a:lnTo>
                <a:lnTo>
                  <a:pt x="20200" y="1400"/>
                </a:lnTo>
                <a:close/>
              </a:path>
              <a:path fill="darkenLess" w="21600" h="22537">
                <a:moveTo>
                  <a:pt x="21600" y="22537"/>
                </a:moveTo>
                <a:lnTo>
                  <a:pt x="0" y="22537"/>
                </a:lnTo>
                <a:lnTo>
                  <a:pt x="1400" y="21137"/>
                </a:lnTo>
                <a:lnTo>
                  <a:pt x="20200" y="21137"/>
                </a:lnTo>
                <a:close/>
              </a:path>
              <a:path fill="lighten" w="21600" h="22537">
                <a:moveTo>
                  <a:pt x="0" y="225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37"/>
                </a:lnTo>
                <a:close/>
              </a:path>
              <a:path fill="darken" w="21600" h="22537">
                <a:moveTo>
                  <a:pt x="10800" y="4305"/>
                </a:moveTo>
                <a:lnTo>
                  <a:pt x="13376" y="6917"/>
                </a:lnTo>
                <a:lnTo>
                  <a:pt x="13376" y="5176"/>
                </a:lnTo>
                <a:lnTo>
                  <a:pt x="15152" y="5176"/>
                </a:lnTo>
                <a:lnTo>
                  <a:pt x="15152" y="8692"/>
                </a:lnTo>
                <a:lnTo>
                  <a:pt x="17763" y="11268"/>
                </a:lnTo>
                <a:lnTo>
                  <a:pt x="16109" y="11268"/>
                </a:lnTo>
                <a:lnTo>
                  <a:pt x="16109" y="18458"/>
                </a:lnTo>
                <a:lnTo>
                  <a:pt x="5491" y="18458"/>
                </a:lnTo>
                <a:lnTo>
                  <a:pt x="5491" y="11268"/>
                </a:lnTo>
                <a:lnTo>
                  <a:pt x="3837" y="11268"/>
                </a:lnTo>
                <a:close/>
              </a:path>
              <a:path fill="darkenLess" w="21600" h="22537">
                <a:moveTo>
                  <a:pt x="13376" y="6917"/>
                </a:moveTo>
                <a:lnTo>
                  <a:pt x="13376" y="5176"/>
                </a:lnTo>
                <a:lnTo>
                  <a:pt x="15152" y="5176"/>
                </a:lnTo>
                <a:lnTo>
                  <a:pt x="15152" y="8692"/>
                </a:lnTo>
                <a:close/>
              </a:path>
              <a:path fill="darkenLess" w="21600" h="22537">
                <a:moveTo>
                  <a:pt x="9877" y="14767"/>
                </a:moveTo>
                <a:lnTo>
                  <a:pt x="11723" y="14767"/>
                </a:lnTo>
                <a:lnTo>
                  <a:pt x="11723" y="18458"/>
                </a:lnTo>
                <a:lnTo>
                  <a:pt x="16109" y="18458"/>
                </a:lnTo>
                <a:lnTo>
                  <a:pt x="16109" y="11268"/>
                </a:lnTo>
                <a:lnTo>
                  <a:pt x="5491" y="11268"/>
                </a:lnTo>
                <a:lnTo>
                  <a:pt x="5491" y="18458"/>
                </a:lnTo>
                <a:lnTo>
                  <a:pt x="9877" y="18458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уммарное значение ЧСС (по Л.О. Леонтьеву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6560" y="1628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1. Измерение пульса за 1 минуту в положении лежа на спин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2. Измерение пульса за 1 минуту в положении сид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3. Разница второго и первого измер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4. Измерение пульса за 1 минуту после 30 присед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(темп: 1 приседание за 2 секунд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5. Измерение пульса за 1 минуту после минуты отдых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3495c"/>
                </a:solidFill>
                <a:uFillTx/>
                <a:latin typeface="Times New Roman"/>
                <a:ea typeface="Times New Roman"/>
              </a:rPr>
              <a:t>Сумма пяти измерений – есть показатель работоспособ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Управляющая кнопка: &quot;На главную&quot; 3">
            <a:hlinkClick r:id="rId1" action="ppaction://hlinksldjump"/>
          </p:cNvPr>
          <p:cNvSpPr/>
          <p:nvPr/>
        </p:nvSpPr>
        <p:spPr>
          <a:xfrm>
            <a:off x="8845560" y="654048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Calibri"/>
              </a:rPr>
              <a:t>Полученные результаты оцениваются по следующей шкале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41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280 и ниже отличный уровень подготовлен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280 – 300 – хорош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300 – 320 – сред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320 – 340 – достаточн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340 – 360 – низк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360 и выше – требуется значительное снижение физической нагрузки, относительно программного материала, разработка индивидуальной программы подготовки и плавное вкатывание в тренировочный процес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Управляющая кнопка: &quot;На главную&quot; 3">
            <a:hlinkClick r:id="rId1" action="ppaction://hlinksldjump"/>
          </p:cNvPr>
          <p:cNvSpPr/>
          <p:nvPr/>
        </p:nvSpPr>
        <p:spPr>
          <a:xfrm>
            <a:off x="8845560" y="654048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9520" y="551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исунок </a:t>
            </a:r>
            <a:r>
              <a:rPr b="0" lang="en-US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- Количество изменений запланированной тренировочной нагрузки в экспериментальной группе в зависимости от функционального состояния спортсменов на протяжении всего периода исследования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Объект 5" descr=""/>
          <p:cNvPicPr/>
          <p:nvPr/>
        </p:nvPicPr>
        <p:blipFill>
          <a:blip r:embed="rId1"/>
          <a:stretch/>
        </p:blipFill>
        <p:spPr>
          <a:xfrm>
            <a:off x="479520" y="907920"/>
            <a:ext cx="8021520" cy="4472280"/>
          </a:xfrm>
          <a:prstGeom prst="rect">
            <a:avLst/>
          </a:prstGeom>
          <a:ln w="0">
            <a:noFill/>
          </a:ln>
        </p:spPr>
      </p:pic>
      <p:sp>
        <p:nvSpPr>
          <p:cNvPr id="230" name="Управляющая кнопка: &quot;На главную&quot; 3">
            <a:hlinkClick r:id="rId2" action="ppaction://hlinksldjump"/>
          </p:cNvPr>
          <p:cNvSpPr/>
          <p:nvPr/>
        </p:nvSpPr>
        <p:spPr>
          <a:xfrm>
            <a:off x="8845560" y="654048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660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исунок 3 - Изменение показате</a:t>
            </a:r>
            <a:r>
              <a:rPr b="0" lang="ru-RU" sz="20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л</a:t>
            </a: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ей пульсовых проб в экспериментальной группе на протяжении тренировочного сбора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Объект 3" descr=""/>
          <p:cNvPicPr/>
          <p:nvPr/>
        </p:nvPicPr>
        <p:blipFill>
          <a:blip r:embed="rId1"/>
          <a:stretch/>
        </p:blipFill>
        <p:spPr>
          <a:xfrm>
            <a:off x="36360" y="768240"/>
            <a:ext cx="9071280" cy="4608720"/>
          </a:xfrm>
          <a:prstGeom prst="rect">
            <a:avLst/>
          </a:prstGeom>
          <a:ln w="0">
            <a:noFill/>
          </a:ln>
        </p:spPr>
      </p:pic>
      <p:sp>
        <p:nvSpPr>
          <p:cNvPr id="233" name="Управляющая кнопка: &quot;На главную&quot; 4">
            <a:hlinkClick r:id="rId2" action="ppaction://hlinksldjump"/>
          </p:cNvPr>
          <p:cNvSpPr/>
          <p:nvPr/>
        </p:nvSpPr>
        <p:spPr>
          <a:xfrm>
            <a:off x="8845560" y="654048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80536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исунок </a:t>
            </a:r>
            <a:r>
              <a:rPr b="0" lang="en-US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- Значения средних показателей пульсометрии в экспериментальной группе в течении всего периода исследования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Объект 5" descr=""/>
          <p:cNvPicPr/>
          <p:nvPr/>
        </p:nvPicPr>
        <p:blipFill>
          <a:blip r:embed="rId1"/>
          <a:stretch/>
        </p:blipFill>
        <p:spPr>
          <a:xfrm>
            <a:off x="36360" y="835200"/>
            <a:ext cx="9071280" cy="4754520"/>
          </a:xfrm>
          <a:prstGeom prst="rect">
            <a:avLst/>
          </a:prstGeom>
          <a:ln w="0">
            <a:noFill/>
          </a:ln>
        </p:spPr>
      </p:pic>
      <p:sp>
        <p:nvSpPr>
          <p:cNvPr id="236" name="Управляющая кнопка: &quot;На главную&quot; 3">
            <a:hlinkClick r:id="rId2" action="ppaction://hlinksldjump"/>
          </p:cNvPr>
          <p:cNvSpPr/>
          <p:nvPr/>
        </p:nvSpPr>
        <p:spPr>
          <a:xfrm>
            <a:off x="8845560" y="654048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Calibri"/>
              </a:rPr>
              <a:t>Таблица 2 - Сравнение показателей физической подготовленности квалифицированных волейболистов контрольной и экспериментальной групп по итогам сбора по физической подготовке 2016 года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4920" y="1639800"/>
          <a:ext cx="9074160" cy="5025960"/>
        </p:xfrm>
        <a:graphic>
          <a:graphicData uri="http://schemas.openxmlformats.org/drawingml/2006/table">
            <a:tbl>
              <a:tblPr/>
              <a:tblGrid>
                <a:gridCol w="1459080"/>
                <a:gridCol w="1457280"/>
                <a:gridCol w="1027080"/>
                <a:gridCol w="1025280"/>
                <a:gridCol w="1027440"/>
                <a:gridCol w="1025280"/>
                <a:gridCol w="1027080"/>
                <a:gridCol w="1025640"/>
              </a:tblGrid>
              <a:tr h="897120"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авниваемые знач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г 30м (с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елночный бег 5Х6 м (с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г 92 м с изменением направления "Ёлочка" (с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росок мяча весом 1 кг из-за головы двумя руками стоя (м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ыжок в длину с места (см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ыжок вверх с места со взмахом руками (см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58560">
                <a:tc rowSpan="3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спериментальная группа (ЭГ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до эксперимента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3±0,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67±0,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84±0,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75±0,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4±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5±3,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после эксперимента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8±0,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7±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63±0,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42±0,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,17±7,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08±3,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значимости различия сред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58560">
                <a:tc rowSpan="3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ная группа (КГ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до эксперимента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3±0,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6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5±0,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±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5±3,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после эксперимента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3±0,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6±0,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13±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21±1,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,92±6,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42±3,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значимости различия сред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14280">
                <a:tc rowSpan="3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Г и КГ - до эксперимен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ЭГ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3±0,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67±0,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84±0,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75±0,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4±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5±3,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1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КГ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3±0,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6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5±0,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±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5±3,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значимости различия сред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gt;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16080">
                <a:tc rowSpan="3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Г и КГ - после эксперимен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ЭГ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8±0,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7±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63±0,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42±0,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,17±7,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08±3,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1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КГ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3±0,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6±0,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13±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21±1,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,92±6,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42±3,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значимости различия сред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39" name="Управляющая кнопка: &quot;На главную&quot; 4">
            <a:hlinkClick r:id="rId1" action="ppaction://hlinksldjump"/>
          </p:cNvPr>
          <p:cNvSpPr/>
          <p:nvPr/>
        </p:nvSpPr>
        <p:spPr>
          <a:xfrm>
            <a:off x="8845560" y="654048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Выводы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4920" y="907920"/>
            <a:ext cx="907416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1. Показатели физической подготовленности в ЭГ до проведения тренировочного сбора соответствуют модельным характеристикам в пяти из шести контрольных упражнений. Показатели физической подготовленности в КГ до проведения тренировочного сбора соответствуют модельным характеристикам во всех шести контрольных упражнениях. Это позволяет считать группы, участвующие в исследовании, однородными по показателям физической подготовл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2. Разработку содержания тренировочных сборов по физической подготовке целесообразно осуществлять, используя концепцию сочетания упражнений разной физиологической направленности, и представлять в виде пирамиды перекрестной тренировки (по Е.Р. Яхонтову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3. Планирование тренировочного сбора целесообразно осуществлять на основе разработки содержания пяти документов планирования: план-графика распределения часовой нагрузки по циклам и видам подготовки; графика тренировочных и выходных дней; план-графика распределения уровня объема и интенсивности нагрузок в тренировочных циклах; содержание видов подготовки по циклам; режим дн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4. Индивидуальную реакцию организма испытуемых на нагрузку целесообразно выявлять на основе суммарного значения ЧСС каждого спортсмена и группы в целом, которые могут быть представлены в виде графиков. Учет индивидуальных показателей пульсометрии позволяет оперативно регулировать последующую нагрузку в ходе тренировочных занят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5. Эффективность индивидуализации тренировочных нагрузок квалифицированных волейболистов на основе учета индивидуальных показателей пульсометрии доказана результатами повторного спортивно-педагогического тестирования. По окончании педагогического эксперимента в экспериментальной группе показатели физической подготовленности по всем шести контрольным упражнениям (тестам) соответствуют модельным характеристикам и имеют статистически достоверные различия на уровне значимости 0,05 с показателями в контрольной групп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Управляющая кнопка: &quot;На главную&quot; 3">
            <a:hlinkClick r:id="rId1" action="ppaction://hlinksldjump"/>
          </p:cNvPr>
          <p:cNvSpPr/>
          <p:nvPr/>
        </p:nvSpPr>
        <p:spPr>
          <a:xfrm>
            <a:off x="8845560" y="654048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Заголовок 2"/>
          <p:cNvSpPr/>
          <p:nvPr/>
        </p:nvSpPr>
        <p:spPr>
          <a:xfrm>
            <a:off x="142920" y="3071880"/>
            <a:ext cx="88581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Управляющая кнопка: &quot;На главную&quot; 3">
            <a:hlinkClick r:id="rId1" action="ppaction://hlinksldjump"/>
          </p:cNvPr>
          <p:cNvSpPr/>
          <p:nvPr/>
        </p:nvSpPr>
        <p:spPr>
          <a:xfrm>
            <a:off x="8845560" y="654048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9320" y="115560"/>
            <a:ext cx="31053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главлени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08000" y="836280"/>
            <a:ext cx="8928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f6fc6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. Титульный слайд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f6fc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2. Объект и предмет исследов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f6fc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3. Гипотеза исследов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4. Положения выносимые на защиту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5. Цель исследов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6. Задачи исследов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7. Пирамида перекрестной тренировки (по Е.Р. Яхонтову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8. Перечень документов планиров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9. Сравнение показателей физической подготовленности в КГ и ЭГ по итогам сборов 2016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10. Описание теста пульсометрии (по Л.О. Леонтьеву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11. Шкала оценки данных пульсометри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12. Количество изменений запланированной тренировочной нагрузки в течении педагогического эксперимент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13. Графики пульсовых проб при увеличении и снижении запланированной нагрузк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14. График средних показателей пульсометрии в ЭГ в течении всего периода исследов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15. Сравнение показателей физической подготовленности в КГ и ЭГ по итогам сборов 2018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16. Выводы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17. Спасибо за внима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4200" y="914400"/>
            <a:ext cx="87156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63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бъект исследования:  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ренировочный процесс 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валифицированных волейболистов 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 ходе тренировочного сбора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Предмет исследования: 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ндивидуализация тренировочной нагрузки квалифицированных волейболистов 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 ходе тренировочного сбора.</a:t>
            </a:r>
            <a:br>
              <a:rPr sz="2400"/>
            </a:b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Управляющая кнопка: &quot;На главную&quot; 3">
            <a:hlinkClick r:id="rId1" action="ppaction://hlinksldjump"/>
          </p:cNvPr>
          <p:cNvSpPr/>
          <p:nvPr/>
        </p:nvSpPr>
        <p:spPr>
          <a:xfrm>
            <a:off x="8845560" y="654516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755640" y="2133720"/>
            <a:ext cx="7632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Calibri"/>
              </a:rPr>
              <a:t>Предполагалось, что показатели физической подготовленности у квалифицированных волейболистов по окончанию тренировочного сбора повысятся, если в ходе тренировочных занятий будет осуществляться индивидуальный контроль переносимости нагрузок и учет возможностей каждого спортсмена выполнить запланированну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2448000" y="13413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95c"/>
                </a:solidFill>
                <a:latin typeface="Times New Roman"/>
                <a:ea typeface="Calibri"/>
              </a:rPr>
              <a:t>Гипотеза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Управляющая кнопка: &quot;На главную&quot; 3">
            <a:hlinkClick r:id="rId1" action="ppaction://hlinksldjump"/>
          </p:cNvPr>
          <p:cNvSpPr/>
          <p:nvPr/>
        </p:nvSpPr>
        <p:spPr>
          <a:xfrm>
            <a:off x="8845560" y="654516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611280" y="89064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а защиту выносятся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17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ндивидуальная динамика реакции организма у квалифицированных волейболистов на нагрузку является фактором, требующим организации индивидуального контроля переносимости нагрузок и учета возможностей каждого спортсмена выполнить запланированную работу в ходе тренировочных сборов по физической подготов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2. Корректировка нагрузок с учетом индивидуальной реакции со стороны ЧСС у квалифицированных волейболистов положительно влияет на динамику показателей физической подготовленности в ходе тренировочных сб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Управляющая кнопка: &quot;На главную&quot; 2">
            <a:hlinkClick r:id="rId1" action="ppaction://hlinksldjump"/>
          </p:cNvPr>
          <p:cNvSpPr/>
          <p:nvPr/>
        </p:nvSpPr>
        <p:spPr>
          <a:xfrm>
            <a:off x="8845560" y="654516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5520" y="2492280"/>
            <a:ext cx="8291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овершенствование тренировочного процесса в рамках тренировочного сбора, на основе индивидуализации тренировочных нагрузок у квалифицированных волейболистов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2448000" y="170028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Цель исследования</a:t>
            </a: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Управляющая кнопка: &quot;На главную&quot; 3">
            <a:hlinkClick r:id="rId1" action="ppaction://hlinksldjump"/>
          </p:cNvPr>
          <p:cNvSpPr/>
          <p:nvPr/>
        </p:nvSpPr>
        <p:spPr>
          <a:xfrm>
            <a:off x="8845560" y="654516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дачи исследования: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14200" y="1773360"/>
            <a:ext cx="8715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1. Разработать содержание тренировочных сборов по физической подготовке для волейбольной команды на этапе спортивного совершенств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2. Определить показатели физической подготовленности квалифицированных волейболистов до проведения тренировочного сбо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3. Определить индивидуальную реакцию организма на нагрузки и проверить эффективность индивидуальной корректировки тренировочных нагрузок у квалифицированных волейбо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Управляющая кнопка: &quot;На главную&quot; 3">
            <a:hlinkClick r:id="rId1" action="ppaction://hlinksldjump"/>
          </p:cNvPr>
          <p:cNvSpPr/>
          <p:nvPr/>
        </p:nvSpPr>
        <p:spPr>
          <a:xfrm>
            <a:off x="8845560" y="654516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Объект 4" descr=""/>
          <p:cNvPicPr/>
          <p:nvPr/>
        </p:nvPicPr>
        <p:blipFill>
          <a:blip r:embed="rId1"/>
          <a:stretch/>
        </p:blipFill>
        <p:spPr>
          <a:xfrm>
            <a:off x="1184400" y="765000"/>
            <a:ext cx="6775200" cy="4319640"/>
          </a:xfrm>
          <a:prstGeom prst="rect">
            <a:avLst/>
          </a:prstGeom>
          <a:ln w="0">
            <a:noFill/>
          </a:ln>
        </p:spPr>
      </p:pic>
      <p:sp>
        <p:nvSpPr>
          <p:cNvPr id="213" name="TextBox 2"/>
          <p:cNvSpPr/>
          <p:nvPr/>
        </p:nvSpPr>
        <p:spPr>
          <a:xfrm>
            <a:off x="971640" y="544500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Рисунок 1 - Пирамида перекрестной тренировки (по Е.Р. Яхонтов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Управляющая кнопка: &quot;На главную&quot; 3">
            <a:hlinkClick r:id="rId2" action="ppaction://hlinksldjump"/>
          </p:cNvPr>
          <p:cNvSpPr/>
          <p:nvPr/>
        </p:nvSpPr>
        <p:spPr>
          <a:xfrm>
            <a:off x="8845560" y="654516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5"/>
          <p:cNvSpPr/>
          <p:nvPr/>
        </p:nvSpPr>
        <p:spPr>
          <a:xfrm>
            <a:off x="353880" y="6308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8360" y="21430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1. План-график распределения часовой нагрузки по циклам и видам подготовк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2. График тренировочных и выходных дне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3. План-график распределения уровня объема и интенсивности общих и специальных нагрузок в тренировочных циклах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4. Содержание видов подготовки по цикла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5. Режим дня в условиях тренировочного сбора по физической подготовк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425520" y="976320"/>
            <a:ext cx="8280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Документы планирования, отражающий содержание тренировочного сбора по физической подготовк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Управляющая кнопка: &quot;На главную&quot; 4">
            <a:hlinkClick r:id="rId1" action="ppaction://hlinksldjump"/>
          </p:cNvPr>
          <p:cNvSpPr/>
          <p:nvPr/>
        </p:nvSpPr>
        <p:spPr>
          <a:xfrm>
            <a:off x="8845560" y="654516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Calibri"/>
              </a:rPr>
              <a:t>Таблица 1 - Сравнение показателей физической подготовленности квалифицированных волейболистов контрольной и экспериментальной групп по итогам сбора по физической подготовке 2016 года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4920" y="1639800"/>
          <a:ext cx="9074160" cy="5025960"/>
        </p:xfrm>
        <a:graphic>
          <a:graphicData uri="http://schemas.openxmlformats.org/drawingml/2006/table">
            <a:tbl>
              <a:tblPr/>
              <a:tblGrid>
                <a:gridCol w="1459080"/>
                <a:gridCol w="1457280"/>
                <a:gridCol w="1027080"/>
                <a:gridCol w="1025280"/>
                <a:gridCol w="1027440"/>
                <a:gridCol w="1025280"/>
                <a:gridCol w="1027080"/>
                <a:gridCol w="1025640"/>
              </a:tblGrid>
              <a:tr h="897120"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авниваемые знач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г 30м (с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елночный бег 5Х6 м (с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г 92 м с изменением направления "Ёлочка" (с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росок мяча весом 1 кг из-за головы двумя руками стоя (м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ыжок в длину с места (см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ыжок вверх с места со взмахом руками (см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58560">
                <a:tc rowSpan="3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спериментальная группа (ЭГ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до эксперимента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68±0,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4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63±0,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5±0,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±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5±3,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после эксперимента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1±0,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7±0,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1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1±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,17±7,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5±3,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значимости различия сред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58560">
                <a:tc rowSpan="3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ная группа (КГ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до эксперимента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4±0,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9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0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75±0,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±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5±3,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после эксперимента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4±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83±0,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85±0,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9±0,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,33±7,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33±3,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значимости различия сред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gt;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gt;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14280">
                <a:tc rowSpan="3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Г и КГ - до эксперимен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ЭГ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68±0,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4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63±0,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5±0,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±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5±3,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1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КГ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4±0,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9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0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75±0,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±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5±3,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значимости различия сред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16080">
                <a:tc rowSpan="3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Г и КГ - после эксперимен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ЭГ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1±0,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7±0,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1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1±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,17±7,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5±3,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1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КГ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4±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83±0,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85±0,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9±0,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,33±7,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33±3,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значимости различия сред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gt;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gt;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gt;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gt;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gt;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gt;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21" name="Управляющая кнопка: &quot;На главную&quot; 4">
            <a:hlinkClick r:id="rId1" action="ppaction://hlinksldjump"/>
          </p:cNvPr>
          <p:cNvSpPr/>
          <p:nvPr/>
        </p:nvSpPr>
        <p:spPr>
          <a:xfrm>
            <a:off x="8845560" y="654516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8:26:31Z</dcterms:created>
  <dc:creator>admin</dc:creator>
  <dc:description/>
  <dc:language>en-US</dc:language>
  <cp:lastModifiedBy>Артем</cp:lastModifiedBy>
  <dcterms:modified xsi:type="dcterms:W3CDTF">2022-11-30T14:20:01Z</dcterms:modified>
  <cp:revision>132</cp:revision>
  <dc:subject/>
  <dc:title>Слайд 1</dc:title>
</cp:coreProperties>
</file>