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6858000" cy="12192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DE8-A5BE-4A8B-9495-B4445201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AB3-69C0-4575-B2AD-431FF5EB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C07-2A6B-4886-8BFB-FD09E9A7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4964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35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4964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35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832-035B-4A29-9F19-5568A77F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5279-3C64-4C99-B81C-C314138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D8E1-5FA9-4996-9334-C45BE68E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0ED9-23BF-484E-8CFD-68403B04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CDE0-2723-4F1A-B5F0-76C50C6A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4CCF-DA70-488A-87D7-3B36B210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4320" y="459360"/>
            <a:ext cx="5914800" cy="109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A34E-96E2-4C05-BACB-10B7DB54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57D0-7D20-442B-BA86-AA9B7952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C1F-126D-4424-9006-EC31D4F4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E20C-A613-4012-A008-2F1509A7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FC90-2CEC-4547-9403-8F7D9434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E41F-B482-4667-BC75-0A9E189C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1D1C-EE6C-41B1-9EB8-ACEC0799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4964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335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34964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335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DB98-FDF1-49E5-A5EA-35E3DFFC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A4F4-9419-4597-9ADF-CCA2D32A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83BE-527A-4393-81CA-E111D4B7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A16B9-4D56-4F77-93F8-8FED88F6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74DC-A110-4269-ACE1-7A6DC00E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2981-F502-4A70-95B6-7D67AB16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F46-8D8C-43F7-8D51-5C0C83E9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64320" y="459360"/>
            <a:ext cx="5914800" cy="109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53DE-DD1B-48BE-B9B4-0B83F341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E07B-D36B-404B-A9B2-C778C72D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9E7F-3B07-4217-B4CD-8EF7DAE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1BA8-C0E9-46F4-86B9-A439F114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8652-A943-410B-A7D1-49FA3AC6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9709-1044-4F15-B7EC-4EF8564D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4964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335320" y="3246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64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34964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335320" y="7287120"/>
            <a:ext cx="93816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7792B-6C97-4B6E-A96F-1F18BA59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BCA-E914-4942-9644-1AC16536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F4B-66FB-4F2F-866B-667FA68F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4320" y="459360"/>
            <a:ext cx="5914800" cy="109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8EB-FCB5-4409-B468-BB833A50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9E6-AEB8-4AE9-A155-7457676A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77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57960" y="7287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C60-3592-438E-A679-26D7AF07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432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57960" y="3246120"/>
            <a:ext cx="14220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320" y="7287120"/>
            <a:ext cx="2914200" cy="36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21C-2ACB-4525-92E8-613137B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7160" y="2352240"/>
            <a:ext cx="5143320" cy="388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30000"/>
              </a:lnSpc>
              <a:buNone/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7160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71600" y="11301840"/>
            <a:ext cx="231408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84344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853000"/>
            <a:ext cx="6171840" cy="70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4320" y="3246120"/>
            <a:ext cx="5914800" cy="77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35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35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7160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71600" y="11301840"/>
            <a:ext cx="231408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84344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4320" y="459360"/>
            <a:ext cx="5914800" cy="23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6432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  <a:p>
            <a:pPr lvl="1" marL="51444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2" marL="85716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  <a:p>
            <a:pPr lvl="3" marL="120024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35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  <a:p>
            <a:pPr lvl="4" marL="154296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35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35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3364560" y="3246120"/>
            <a:ext cx="2914200" cy="77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  <a:p>
            <a:pPr lvl="1" marL="51444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2" marL="85716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  <a:p>
            <a:pPr lvl="3" marL="120024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  <a:p>
            <a:pPr lvl="4" marL="1542960" indent="-171360">
              <a:lnSpc>
                <a:spcPct val="15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7160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2271600" y="11301840"/>
            <a:ext cx="231408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843440" y="11301840"/>
            <a:ext cx="1542600" cy="6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57160" y="2352240"/>
            <a:ext cx="5143320" cy="388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7160" y="6404400"/>
            <a:ext cx="5143320" cy="29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26" name="Изображение 3" descr="1612630500_185-p-fon-zelenii-nezhnii-detskii-199"/>
          <p:cNvPicPr/>
          <p:nvPr/>
        </p:nvPicPr>
        <p:blipFill>
          <a:blip r:embed="rId2"/>
          <a:stretch/>
        </p:blipFill>
        <p:spPr>
          <a:xfrm>
            <a:off x="-720" y="1245600"/>
            <a:ext cx="6857640" cy="9701280"/>
          </a:xfrm>
          <a:prstGeom prst="rect">
            <a:avLst/>
          </a:prstGeom>
          <a:ln w="0">
            <a:noFill/>
          </a:ln>
        </p:spPr>
      </p:pic>
      <p:pic>
        <p:nvPicPr>
          <p:cNvPr id="127" name="Изображение 9" descr="eDmnaiC5r6SSm7JWpsnIWkIsmYxJ8zbnAwLNf8LO6qnBJWImMliy5kxa1GNPzqepw7GC2iNH"/>
          <p:cNvPicPr/>
          <p:nvPr/>
        </p:nvPicPr>
        <p:blipFill>
          <a:blip r:embed="rId3"/>
          <a:stretch/>
        </p:blipFill>
        <p:spPr>
          <a:xfrm>
            <a:off x="104760" y="3059280"/>
            <a:ext cx="6179400" cy="6288840"/>
          </a:xfrm>
          <a:prstGeom prst="rect">
            <a:avLst/>
          </a:prstGeom>
          <a:ln w="0">
            <a:noFill/>
          </a:ln>
        </p:spPr>
      </p:pic>
      <p:sp>
        <p:nvSpPr>
          <p:cNvPr id="128" name="Текстовое поле 10"/>
          <p:cNvSpPr/>
          <p:nvPr/>
        </p:nvSpPr>
        <p:spPr>
          <a:xfrm>
            <a:off x="1994400" y="5604480"/>
            <a:ext cx="2867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12d86"/>
                </a:solidFill>
                <a:latin typeface="Times New Roman"/>
              </a:rPr>
              <a:t>Прир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12d86"/>
                </a:solidFill>
                <a:latin typeface="Times New Roman"/>
              </a:rPr>
              <a:t>и малы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Текстовое поле 11"/>
          <p:cNvSpPr/>
          <p:nvPr/>
        </p:nvSpPr>
        <p:spPr>
          <a:xfrm>
            <a:off x="1409760" y="2749680"/>
            <a:ext cx="4038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нсультация для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Изображение 12" descr="вручает-форму-радуги-23508393-PhotoRoom"/>
          <p:cNvPicPr/>
          <p:nvPr/>
        </p:nvPicPr>
        <p:blipFill>
          <a:blip r:embed="rId4"/>
          <a:stretch/>
        </p:blipFill>
        <p:spPr>
          <a:xfrm rot="20340000">
            <a:off x="329760" y="1686960"/>
            <a:ext cx="961200" cy="1062000"/>
          </a:xfrm>
          <a:prstGeom prst="rect">
            <a:avLst/>
          </a:prstGeom>
          <a:ln w="0">
            <a:noFill/>
          </a:ln>
        </p:spPr>
      </p:pic>
      <p:sp>
        <p:nvSpPr>
          <p:cNvPr id="131" name="Текстовое поле 4"/>
          <p:cNvSpPr/>
          <p:nvPr/>
        </p:nvSpPr>
        <p:spPr>
          <a:xfrm>
            <a:off x="2864880" y="10301760"/>
            <a:ext cx="1128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 Хабаров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2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мещающее содержимое 3" descr="1612630500_185-p-fon-zelenii-nezhnii-detskii-199"/>
          <p:cNvPicPr/>
          <p:nvPr/>
        </p:nvPicPr>
        <p:blipFill>
          <a:blip r:embed="rId2"/>
          <a:stretch/>
        </p:blipFill>
        <p:spPr>
          <a:xfrm>
            <a:off x="-9360" y="1266840"/>
            <a:ext cx="6867000" cy="9715680"/>
          </a:xfrm>
          <a:prstGeom prst="rect">
            <a:avLst/>
          </a:prstGeom>
          <a:ln w="0">
            <a:noFill/>
          </a:ln>
        </p:spPr>
      </p:pic>
      <p:sp>
        <p:nvSpPr>
          <p:cNvPr id="133" name="Текстовое поле 4"/>
          <p:cNvSpPr/>
          <p:nvPr/>
        </p:nvSpPr>
        <p:spPr>
          <a:xfrm>
            <a:off x="625320" y="1854720"/>
            <a:ext cx="560592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Природа учит нас понимать прекрасное. Любовь к родной стране невозможна без любви к её природ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. Г. Пауст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слова замечательного русского писателя наиболее точно подчёркивают значение природы в нашей жизни. Именно в семье ребёнок может, получит первые знания о том, как научиться любить и беречь родную 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Многие из нас любуются природой, но не многие принимают её к сердцу, — писал М. М. Пришвин,- и даже тем, кто к сердцу принимает, не часто удаётся так сойтись с природой, чтобы почувствовать в ней свою собственную душ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ивыкли к тому, что изо дня в день нас окружают растения, животные, светит солнце, разливая вокруг нас свои золотые лучи. Нам кажется, что это было, есть и будет всегда. На лугах всегда будут лежать зелёным ковром травы, будут цвести цветы, раздаваться пение птиц. Но это всё не так. Если мы не научимся сами и не научим своих детей воспринимать себя как часть мира живой природы, то будущее поколение не сможет любоваться и гордиться красотой и богатством нашей ро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Изображение 5" descr="0017029546554997_b"/>
          <p:cNvPicPr/>
          <p:nvPr/>
        </p:nvPicPr>
        <p:blipFill>
          <a:blip r:embed="rId3"/>
          <a:srcRect l="0" t="11090" r="0" b="13299"/>
          <a:stretch/>
        </p:blipFill>
        <p:spPr>
          <a:xfrm>
            <a:off x="3676680" y="8709840"/>
            <a:ext cx="2899080" cy="2259000"/>
          </a:xfrm>
          <a:prstGeom prst="rect">
            <a:avLst/>
          </a:prstGeom>
          <a:ln w="0">
            <a:noFill/>
          </a:ln>
        </p:spPr>
      </p:pic>
      <p:pic>
        <p:nvPicPr>
          <p:cNvPr id="135" name="Изображение 8" descr="вручает-форму-радуги-23508393-PhotoRoom"/>
          <p:cNvPicPr/>
          <p:nvPr/>
        </p:nvPicPr>
        <p:blipFill>
          <a:blip r:embed="rId4"/>
          <a:stretch/>
        </p:blipFill>
        <p:spPr>
          <a:xfrm rot="20940000">
            <a:off x="219240" y="2411280"/>
            <a:ext cx="944640" cy="10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мещающее содержимое 3" descr="1612630500_185-p-fon-zelenii-nezhnii-detskii-199"/>
          <p:cNvPicPr/>
          <p:nvPr/>
        </p:nvPicPr>
        <p:blipFill>
          <a:blip r:embed="rId2"/>
          <a:stretch/>
        </p:blipFill>
        <p:spPr>
          <a:xfrm>
            <a:off x="0" y="1036440"/>
            <a:ext cx="6858360" cy="9701640"/>
          </a:xfrm>
          <a:prstGeom prst="rect">
            <a:avLst/>
          </a:prstGeom>
          <a:ln w="0">
            <a:noFill/>
          </a:ln>
        </p:spPr>
      </p:pic>
      <p:sp>
        <p:nvSpPr>
          <p:cNvPr id="137" name="Текстовое поле 4"/>
          <p:cNvSpPr/>
          <p:nvPr/>
        </p:nvSpPr>
        <p:spPr>
          <a:xfrm>
            <a:off x="331560" y="2391480"/>
            <a:ext cx="60894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ервых лет жизни у детей формируется начало экологической культуры. Наблюдая за мамой, которая бережно ухаживает за цветами и домашними питомцами, у ребёнка возникает желание самому подойти и погладить кошку или собаку, полить цветы или полюбоваться их крас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растут и узнают много нового об окружающем его мире. А именно, что каждое растение, животное, насекомое, птица имеют свой «дом», в котором им хорошо и комфор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и природа – одна большая семья. Научите детей видеть красоту родной природы, воспитывайте бережное отношение к ней. Если ребенок будет бережно относиться ко всему, что его окружает — ваше воспитание не пройдёт даром. Они будут внимательны не только к окружающему миру, но и к вам —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мещающее содержимое 5" descr="les-PhotoRoom"/>
          <p:cNvPicPr/>
          <p:nvPr/>
        </p:nvPicPr>
        <p:blipFill>
          <a:blip r:embed="rId3"/>
          <a:stretch/>
        </p:blipFill>
        <p:spPr>
          <a:xfrm>
            <a:off x="2843640" y="7038360"/>
            <a:ext cx="3577320" cy="3699720"/>
          </a:xfrm>
          <a:prstGeom prst="rect">
            <a:avLst/>
          </a:prstGeom>
          <a:ln w="0">
            <a:noFill/>
          </a:ln>
        </p:spPr>
      </p:pic>
      <p:pic>
        <p:nvPicPr>
          <p:cNvPr id="139" name="Изображение 7" descr="вручает-форму-радуги-23508393-PhotoRoom"/>
          <p:cNvPicPr/>
          <p:nvPr/>
        </p:nvPicPr>
        <p:blipFill>
          <a:blip r:embed="rId4"/>
          <a:stretch/>
        </p:blipFill>
        <p:spPr>
          <a:xfrm rot="20700000">
            <a:off x="415080" y="1503000"/>
            <a:ext cx="86904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858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0T07:10:00Z</dcterms:created>
  <dc:creator/>
  <dc:description/>
  <dc:language>en-US</dc:language>
  <cp:lastModifiedBy>1</cp:lastModifiedBy>
  <dcterms:modified xsi:type="dcterms:W3CDTF">2022-11-20T08:14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A7E35C1393D45A9AEADDC957D53463F</vt:lpwstr>
  </property>
  <property fmtid="{D5CDD505-2E9C-101B-9397-08002B2CF9AE}" pid="3" name="KSOProductBuildVer">
    <vt:lpwstr>1049-11.2.0.11341</vt:lpwstr>
  </property>
  <property fmtid="{D5CDD505-2E9C-101B-9397-08002B2CF9AE}" pid="4" name="PresentationFormat">
    <vt:lpwstr>宽屏</vt:lpwstr>
  </property>
  <property fmtid="{D5CDD505-2E9C-101B-9397-08002B2CF9AE}" pid="5" name="Slides">
    <vt:r8>3</vt:r8>
  </property>
</Properties>
</file>