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6858000" cy="12192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EBD-9652-4269-9C03-AB756218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5BC-1396-45D8-89E3-84B9B0C3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62A-7E34-4BCB-802F-E2526EA0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4964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35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4964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35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6FA-05D0-403B-8087-98964FEB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172F-1613-43D8-81FB-09C3946C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0CF5-AC3D-40D2-8BA0-CCEF87B3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93C8-4776-427F-A14F-21F0FCDC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C742-7DE4-4AA7-8D28-86B10FAE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0495-5F70-42B9-9E88-68BD3CAE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4320" y="459360"/>
            <a:ext cx="5914800" cy="109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EE46-1265-4B18-8EB5-BAE447A4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63FC-0E52-47A6-B4D2-119D4DFF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06E-A8A2-40C9-A567-8BEACF5D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35F7-A40B-4F48-967E-129FF5F1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9AC5-EC6E-4B24-A5BE-15A3591C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11F1-FEB4-4045-8DCB-A44BABA6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49B0-C146-4973-8E58-7F5661CF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4964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335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34964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335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E83A-7AF3-465C-A470-FDAB8470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68C8A-7059-4D5A-AA1E-03DFD52D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A73B-B34F-4448-8C16-B4F1CEA0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E07E-9A3E-463A-8031-B0B494B8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E67D-B16D-4498-922E-26C06AD3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1272-2E55-4322-96B4-F9C8CE5A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DE9-D464-4B7E-90CD-04642E4B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64320" y="459360"/>
            <a:ext cx="5914800" cy="109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A62F-6C51-4E02-87A6-0CECD888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1864-7DFD-4CE6-93A5-B443F2E8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C9A4-1642-40F1-8833-02308C5F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7D3A-653D-43BF-84DC-DFD30AA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456F-ABEE-422F-B806-5554B36C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0EF0-4375-43A9-B904-2D8D7469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4964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335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64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34964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335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8C2F-989A-44A8-AF69-5C03007F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1D4-3E53-4EEC-BCFC-DF01A67F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8C7-E232-43A5-9380-0FEFB205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4320" y="459360"/>
            <a:ext cx="5914800" cy="109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B37-BD47-4306-9002-21943EEA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DBD-3E21-4647-980B-5C574F95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012-4494-439D-9A58-578B905F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09C-649E-43CA-A558-236CCA7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7160" y="2352240"/>
            <a:ext cx="5143320" cy="388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30000"/>
              </a:lnSpc>
              <a:buNone/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7160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71600" y="11301840"/>
            <a:ext cx="231408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84344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853000"/>
            <a:ext cx="6171840" cy="70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4320" y="3246120"/>
            <a:ext cx="5914800" cy="77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35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35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7160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71600" y="11301840"/>
            <a:ext cx="231408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84344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  <a:p>
            <a:pPr lvl="1" marL="51444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2" marL="85716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  <a:p>
            <a:pPr lvl="3" marL="120024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35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  <a:p>
            <a:pPr lvl="4" marL="154296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35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336456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  <a:p>
            <a:pPr lvl="1" marL="51444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2" marL="85716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  <a:p>
            <a:pPr lvl="3" marL="120024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  <a:p>
            <a:pPr lvl="4" marL="154296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7160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2271600" y="11301840"/>
            <a:ext cx="231408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84344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57160" y="2352240"/>
            <a:ext cx="5143320" cy="388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57160" y="6404400"/>
            <a:ext cx="5143320" cy="29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26" name="Изображение 3" descr="1612630500_185-p-fon-zelenii-nezhnii-detskii-199"/>
          <p:cNvPicPr/>
          <p:nvPr/>
        </p:nvPicPr>
        <p:blipFill>
          <a:blip r:embed="rId2"/>
          <a:stretch/>
        </p:blipFill>
        <p:spPr>
          <a:xfrm>
            <a:off x="-720" y="1245600"/>
            <a:ext cx="6857640" cy="9701280"/>
          </a:xfrm>
          <a:prstGeom prst="rect">
            <a:avLst/>
          </a:prstGeom>
          <a:ln w="0">
            <a:noFill/>
          </a:ln>
        </p:spPr>
      </p:pic>
      <p:pic>
        <p:nvPicPr>
          <p:cNvPr id="127" name="Изображение 9" descr="eDmnaiC5r6SSm7JWpsnIWkIsmYxJ8zbnAwLNf8LO6qnBJWImMliy5kxa1GNPzqepw7GC2iNH"/>
          <p:cNvPicPr/>
          <p:nvPr/>
        </p:nvPicPr>
        <p:blipFill>
          <a:blip r:embed="rId3"/>
          <a:stretch/>
        </p:blipFill>
        <p:spPr>
          <a:xfrm>
            <a:off x="104760" y="3059280"/>
            <a:ext cx="6179400" cy="6288840"/>
          </a:xfrm>
          <a:prstGeom prst="rect">
            <a:avLst/>
          </a:prstGeom>
          <a:ln w="0">
            <a:noFill/>
          </a:ln>
        </p:spPr>
      </p:pic>
      <p:sp>
        <p:nvSpPr>
          <p:cNvPr id="128" name="Текстовое поле 10"/>
          <p:cNvSpPr/>
          <p:nvPr/>
        </p:nvSpPr>
        <p:spPr>
          <a:xfrm>
            <a:off x="1994400" y="5604480"/>
            <a:ext cx="2867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12d86"/>
                </a:solidFill>
                <a:latin typeface="Times New Roman"/>
              </a:rPr>
              <a:t>Прир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12d86"/>
                </a:solidFill>
                <a:latin typeface="Times New Roman"/>
              </a:rPr>
              <a:t>и малы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Текстовое поле 11"/>
          <p:cNvSpPr/>
          <p:nvPr/>
        </p:nvSpPr>
        <p:spPr>
          <a:xfrm>
            <a:off x="1409760" y="2749680"/>
            <a:ext cx="4038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нсультация для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Изображение 12" descr="вручает-форму-радуги-23508393-PhotoRoom"/>
          <p:cNvPicPr/>
          <p:nvPr/>
        </p:nvPicPr>
        <p:blipFill>
          <a:blip r:embed="rId4"/>
          <a:stretch/>
        </p:blipFill>
        <p:spPr>
          <a:xfrm rot="20340000">
            <a:off x="329760" y="1686960"/>
            <a:ext cx="961200" cy="1062000"/>
          </a:xfrm>
          <a:prstGeom prst="rect">
            <a:avLst/>
          </a:prstGeom>
          <a:ln w="0">
            <a:noFill/>
          </a:ln>
        </p:spPr>
      </p:pic>
      <p:sp>
        <p:nvSpPr>
          <p:cNvPr id="131" name="Текстовое поле 4"/>
          <p:cNvSpPr/>
          <p:nvPr/>
        </p:nvSpPr>
        <p:spPr>
          <a:xfrm>
            <a:off x="2864880" y="10301760"/>
            <a:ext cx="1128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 Хабаров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2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мещающее содержимое 3" descr="1612630500_185-p-fon-zelenii-nezhnii-detskii-199"/>
          <p:cNvPicPr/>
          <p:nvPr/>
        </p:nvPicPr>
        <p:blipFill>
          <a:blip r:embed="rId2"/>
          <a:stretch/>
        </p:blipFill>
        <p:spPr>
          <a:xfrm>
            <a:off x="-9360" y="1266840"/>
            <a:ext cx="6867000" cy="9715680"/>
          </a:xfrm>
          <a:prstGeom prst="rect">
            <a:avLst/>
          </a:prstGeom>
          <a:ln w="0">
            <a:noFill/>
          </a:ln>
        </p:spPr>
      </p:pic>
      <p:sp>
        <p:nvSpPr>
          <p:cNvPr id="133" name="Текстовое поле 4"/>
          <p:cNvSpPr/>
          <p:nvPr/>
        </p:nvSpPr>
        <p:spPr>
          <a:xfrm>
            <a:off x="625320" y="1854720"/>
            <a:ext cx="560592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«Природа учит нас понимать прекрасное. Любовь к родной стране невозможна без любви к её природ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. Г. Пауст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слова замечательного русского писателя наиболее точно подчёркивают значение природы в нашей жизни. Именно в семье ребёнок может, получит первые знания о том, как научиться любить и беречь родную при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Многие из нас любуются природой, но не многие принимают её к сердцу, — писал М. М. Пришвин,- и даже тем, кто к сердцу принимает, не часто удаётся так сойтись с природой, чтобы почувствовать в ней свою собственную душ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ривыкли к тому, что изо дня в день нас окружают растения, животные, светит солнце, разливая вокруг нас свои золотые лучи. Нам кажется, что это было, есть и будет всегда. На лугах всегда будут лежать зелёным ковром травы, будут цвести цветы, раздаваться пение птиц. Но это всё не так. Если мы не научимся сами и не научим своих детей воспринимать себя как часть мира живой природы, то будущее поколение не сможет любоваться и гордиться красотой и богатством нашей род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Изображение 5" descr="0017029546554997_b"/>
          <p:cNvPicPr/>
          <p:nvPr/>
        </p:nvPicPr>
        <p:blipFill>
          <a:blip r:embed="rId3"/>
          <a:srcRect l="0" t="11090" r="0" b="13299"/>
          <a:stretch/>
        </p:blipFill>
        <p:spPr>
          <a:xfrm>
            <a:off x="3676680" y="8709840"/>
            <a:ext cx="2899080" cy="2259000"/>
          </a:xfrm>
          <a:prstGeom prst="rect">
            <a:avLst/>
          </a:prstGeom>
          <a:ln w="0">
            <a:noFill/>
          </a:ln>
        </p:spPr>
      </p:pic>
      <p:pic>
        <p:nvPicPr>
          <p:cNvPr id="135" name="Изображение 8" descr="вручает-форму-радуги-23508393-PhotoRoom"/>
          <p:cNvPicPr/>
          <p:nvPr/>
        </p:nvPicPr>
        <p:blipFill>
          <a:blip r:embed="rId4"/>
          <a:stretch/>
        </p:blipFill>
        <p:spPr>
          <a:xfrm rot="20940000">
            <a:off x="219240" y="2411280"/>
            <a:ext cx="944640" cy="10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мещающее содержимое 3" descr="1612630500_185-p-fon-zelenii-nezhnii-detskii-199"/>
          <p:cNvPicPr/>
          <p:nvPr/>
        </p:nvPicPr>
        <p:blipFill>
          <a:blip r:embed="rId2"/>
          <a:stretch/>
        </p:blipFill>
        <p:spPr>
          <a:xfrm>
            <a:off x="0" y="1036440"/>
            <a:ext cx="6858360" cy="9701640"/>
          </a:xfrm>
          <a:prstGeom prst="rect">
            <a:avLst/>
          </a:prstGeom>
          <a:ln w="0">
            <a:noFill/>
          </a:ln>
        </p:spPr>
      </p:pic>
      <p:sp>
        <p:nvSpPr>
          <p:cNvPr id="137" name="Текстовое поле 4"/>
          <p:cNvSpPr/>
          <p:nvPr/>
        </p:nvSpPr>
        <p:spPr>
          <a:xfrm>
            <a:off x="331560" y="2391480"/>
            <a:ext cx="60894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ервых лет жизни у детей формируется начало экологической культуры. Наблюдая за мамой, которая бережно ухаживает за цветами и домашними питомцами, у ребёнка возникает желание самому подойти и погладить кошку или собаку, полить цветы или полюбоваться их крас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растут и узнают много нового об окружающем его мире. А именно, что каждое растение, животное, насекомое, птица имеют свой «дом», в котором им хорошо и комфор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и природа – одна большая семья. Научите детей видеть красоту родной природы, воспитывайте бережное отношение к ней. Если ребенок будет бережно относиться ко всему, что его окружает — ваше воспитание не пройдёт даром. Они будут внимательны не только к окружающему миру, но и к вам —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мещающее содержимое 5" descr="les-PhotoRoom"/>
          <p:cNvPicPr/>
          <p:nvPr/>
        </p:nvPicPr>
        <p:blipFill>
          <a:blip r:embed="rId3"/>
          <a:stretch/>
        </p:blipFill>
        <p:spPr>
          <a:xfrm>
            <a:off x="2843640" y="7038360"/>
            <a:ext cx="3577320" cy="3699720"/>
          </a:xfrm>
          <a:prstGeom prst="rect">
            <a:avLst/>
          </a:prstGeom>
          <a:ln w="0">
            <a:noFill/>
          </a:ln>
        </p:spPr>
      </p:pic>
      <p:pic>
        <p:nvPicPr>
          <p:cNvPr id="139" name="Изображение 7" descr="вручает-форму-радуги-23508393-PhotoRoom"/>
          <p:cNvPicPr/>
          <p:nvPr/>
        </p:nvPicPr>
        <p:blipFill>
          <a:blip r:embed="rId4"/>
          <a:stretch/>
        </p:blipFill>
        <p:spPr>
          <a:xfrm rot="20700000">
            <a:off x="415080" y="1503000"/>
            <a:ext cx="86904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858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0T07:10:00Z</dcterms:created>
  <dc:creator/>
  <dc:description/>
  <dc:language>en-US</dc:language>
  <cp:lastModifiedBy>1</cp:lastModifiedBy>
  <dcterms:modified xsi:type="dcterms:W3CDTF">2022-11-20T08:14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A7E35C1393D45A9AEADDC957D53463F</vt:lpwstr>
  </property>
  <property fmtid="{D5CDD505-2E9C-101B-9397-08002B2CF9AE}" pid="3" name="KSOProductBuildVer">
    <vt:lpwstr>1049-11.2.0.11341</vt:lpwstr>
  </property>
  <property fmtid="{D5CDD505-2E9C-101B-9397-08002B2CF9AE}" pid="4" name="PresentationFormat">
    <vt:lpwstr>宽屏</vt:lpwstr>
  </property>
  <property fmtid="{D5CDD505-2E9C-101B-9397-08002B2CF9AE}" pid="5" name="Slides">
    <vt:r8>3</vt:r8>
  </property>
</Properties>
</file>