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832-776F-4D8F-AD6C-4171E4A3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DA7-6384-4232-B477-05B7E8AC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3B2-5050-475C-8658-5A40E204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736-F24E-4224-89EB-DB6FFF1A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DFC6-5425-4BE8-BE63-69CD7D3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4EE-5951-4008-863C-5C2BC6A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2381-3D25-4FC3-AEDF-554605E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D235-184E-4F44-9782-A5F84C27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E852-7459-43B5-B487-B85C2E78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E050-3172-4C42-9E99-DB1E13B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E92D-C540-4B16-8348-2CD47F2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128-94E7-4C68-89C9-D03A7260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A2D4-19E1-4D98-8584-9723C6F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946-D3E7-45BF-8EF5-DC852DA6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27E1-7F47-49C4-ABAF-C4CCAA12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194C-9778-4475-81D5-A0A8C1CB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7BEA-C3BA-40BC-85E8-BC1D53C2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8D2-4823-45AE-9670-11C3E558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225-FFEC-49EF-9D89-C625F83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6ED-0A04-4F10-8181-1AEEE43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460-DADC-4965-8712-E4B51D66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5CE-9E04-4D9F-B934-FE59009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227-9E80-4B4C-9222-9848A70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EFD-1F63-451F-98EA-F75DE49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CDC-7DD3-4703-BEC3-EC130BEF3F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A03-93D2-4A11-8628-5ABC56FA17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6781680" cy="44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рирода не так проста, как кажется…или то, что мы не знали о волокнах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ень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пенька, пеньковая пакля, пеньковолокно"/>
          <p:cNvPicPr/>
          <p:nvPr/>
        </p:nvPicPr>
        <p:blipFill>
          <a:blip r:embed="rId1"/>
          <a:stretch/>
        </p:blipFill>
        <p:spPr>
          <a:xfrm>
            <a:off x="3059280" y="227664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семена конопли"/>
          <p:cNvPicPr/>
          <p:nvPr/>
        </p:nvPicPr>
        <p:blipFill>
          <a:blip r:embed="rId2"/>
          <a:stretch/>
        </p:blipFill>
        <p:spPr>
          <a:xfrm>
            <a:off x="684360" y="21337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парусина"/>
          <p:cNvPicPr/>
          <p:nvPr/>
        </p:nvPicPr>
        <p:blipFill>
          <a:blip r:embed="rId3"/>
          <a:stretch/>
        </p:blipFill>
        <p:spPr>
          <a:xfrm>
            <a:off x="468360" y="450864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пеньковая веревка"/>
          <p:cNvPicPr/>
          <p:nvPr/>
        </p:nvPicPr>
        <p:blipFill>
          <a:blip r:embed="rId4"/>
          <a:stretch/>
        </p:blipFill>
        <p:spPr>
          <a:xfrm>
            <a:off x="7020000" y="4581360"/>
            <a:ext cx="1554120" cy="1727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пеньковая пряжа"/>
          <p:cNvPicPr/>
          <p:nvPr/>
        </p:nvPicPr>
        <p:blipFill>
          <a:blip r:embed="rId5"/>
          <a:stretch/>
        </p:blipFill>
        <p:spPr>
          <a:xfrm>
            <a:off x="6732720" y="1844640"/>
            <a:ext cx="1571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жу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жут - распространённое грубостеблевое влагоёмкое волокно из стеблей растения, близкое по составу и свойствам льну и конопл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локно используют для изготовления технических, упаковочных, мебельных и других тканей, ковровых изделий, для производства джутовых утепл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упнейшие поставщики джута на мировой рынок — Индия и Пакиста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жу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5" descr="jute_field"/>
          <p:cNvPicPr/>
          <p:nvPr/>
        </p:nvPicPr>
        <p:blipFill>
          <a:blip r:embed="rId1"/>
          <a:stretch/>
        </p:blipFill>
        <p:spPr>
          <a:xfrm>
            <a:off x="4643280" y="2421000"/>
            <a:ext cx="3778560" cy="396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ute_yarn"/>
          <p:cNvPicPr/>
          <p:nvPr/>
        </p:nvPicPr>
        <p:blipFill>
          <a:blip r:embed="rId2"/>
          <a:stretch/>
        </p:blipFill>
        <p:spPr>
          <a:xfrm>
            <a:off x="1619280" y="1844640"/>
            <a:ext cx="2158920" cy="22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ute_hessian"/>
          <p:cNvPicPr/>
          <p:nvPr/>
        </p:nvPicPr>
        <p:blipFill>
          <a:blip r:embed="rId3"/>
          <a:stretch/>
        </p:blipFill>
        <p:spPr>
          <a:xfrm>
            <a:off x="2771640" y="4076640"/>
            <a:ext cx="172908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39528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-252360" y="2741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http://www.safari-europe.com/images/cms/data/ua_kanat/djut3.jpg"/>
          <p:cNvPicPr/>
          <p:nvPr/>
        </p:nvPicPr>
        <p:blipFill>
          <a:blip r:embed="rId4"/>
          <a:stretch/>
        </p:blipFill>
        <p:spPr>
          <a:xfrm>
            <a:off x="250920" y="4365720"/>
            <a:ext cx="1977840" cy="2014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а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енаф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волокно из стеблей однолетнего лубоволокнистого растения кенаф. Растение тепло- и влаголюби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локно отличается высокой гигроскопичностью и прочностью, из него изготовляют мешковину, брезент, шпагат, верёвки, а также для выработки ковров и скатертей Из костры(древесины) делают бумагу, картон и строительные плиты.  Семена кенафа содержат техническое мас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ьшие площади посева кенафа в Индии, выращивают также в Китае, Иране, Бразил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а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5" descr="0"/>
          <p:cNvPicPr/>
          <p:nvPr/>
        </p:nvPicPr>
        <p:blipFill>
          <a:blip r:embed="rId1"/>
          <a:stretch/>
        </p:blipFill>
        <p:spPr>
          <a:xfrm>
            <a:off x="5003640" y="2286000"/>
            <a:ext cx="4140360" cy="457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Кенаф (Hibiscus cannabinus L)"/>
          <p:cNvPicPr/>
          <p:nvPr/>
        </p:nvPicPr>
        <p:blipFill>
          <a:blip r:embed="rId2"/>
          <a:stretch/>
        </p:blipFill>
        <p:spPr>
          <a:xfrm>
            <a:off x="611280" y="1989000"/>
            <a:ext cx="3384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натн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натн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однолетнее травянистое раст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уется для выработки пряжи, из которой изготовляют мешковину, шпагат, верёвки. Из отходов канатника производят бумагу, изоляционные материал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ина канатника Китай, но посевы канатника есть в Монголии, Японии, Египте и  СШ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натн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6" descr="158296322"/>
          <p:cNvPicPr/>
          <p:nvPr/>
        </p:nvPicPr>
        <p:blipFill>
          <a:blip r:embed="rId1"/>
          <a:stretch/>
        </p:blipFill>
        <p:spPr>
          <a:xfrm rot="21143400">
            <a:off x="4932000" y="2060640"/>
            <a:ext cx="3835440" cy="4267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http://www.safari-europe.com/images/cms/data/ua_kanat/trava_buhta.jpg"/>
          <p:cNvPicPr/>
          <p:nvPr/>
        </p:nvPicPr>
        <p:blipFill>
          <a:blip r:embed="rId2"/>
          <a:stretch/>
        </p:blipFill>
        <p:spPr>
          <a:xfrm rot="333600">
            <a:off x="468000" y="2420640"/>
            <a:ext cx="3744720" cy="3884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дыр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ендыр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многолетнее травянистое растение. В стеблях содержится до 20—27% луба, отличается гибкостью, прочностью и стойкостью к загнива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годно для изготовления канатов, верёвок, рыболовных с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растает преимущественно в Северной Америке, Южной Европе и Юго-Восточной Аз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дыр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Picture 5" descr="12"/>
          <p:cNvPicPr/>
          <p:nvPr/>
        </p:nvPicPr>
        <p:blipFill>
          <a:blip r:embed="rId1"/>
          <a:stretch/>
        </p:blipFill>
        <p:spPr>
          <a:xfrm>
            <a:off x="179280" y="342900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k0291f"/>
          <p:cNvPicPr/>
          <p:nvPr/>
        </p:nvPicPr>
        <p:blipFill>
          <a:blip r:embed="rId2"/>
          <a:stretch/>
        </p:blipFill>
        <p:spPr>
          <a:xfrm>
            <a:off x="3132000" y="1700280"/>
            <a:ext cx="2178360" cy="2881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www.safari-europe.com/images/cms/data/ua_kanat/trava3.jpg"/>
          <p:cNvPicPr/>
          <p:nvPr/>
        </p:nvPicPr>
        <p:blipFill>
          <a:blip r:embed="rId3"/>
          <a:stretch/>
        </p:blipFill>
        <p:spPr>
          <a:xfrm rot="21094800">
            <a:off x="5520960" y="3185640"/>
            <a:ext cx="3313080" cy="3178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0" y="367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м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волокно из стебля многолетнего растения семейства крапивных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локно прочное, эластичное, оно отличается тониной, блеском и почти не подвержено гни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локно рами идёт на изготовление высококачественных бельевых и технических тканей, рыболовных сетей, высших сортов бумаги (в частности, для денежных знак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авный поставщик рами - Китай, в меньшей степени страны Южной и Восточной Аз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Сегодня ученые могут создать самые разнообразные химические вещества. Красивые упаковки и интересные названия искусственных продуктов затмевают и незатейливые дары природы. Но, оказывается, природа не так проста, как кажется, поскольку и в ней встречаются достаточно интересные вещества и материалы, как, например, лубяные волокн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Boehmeria_nivea_1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17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jute"/>
          <p:cNvPicPr/>
          <p:nvPr/>
        </p:nvPicPr>
        <p:blipFill>
          <a:blip r:embed="rId2"/>
          <a:stretch/>
        </p:blipFill>
        <p:spPr>
          <a:xfrm>
            <a:off x="4716360" y="2205000"/>
            <a:ext cx="35006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овозеландский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лё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озеландский лё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формиум)  - многолетнее травянистое растение с мечевидными листьями длиной до 3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ья содержат прочное волокно, используемое для производства шпагата, верёвок, морских снастей, циновок, ма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т вид льна произрастает на островах Новая Зеландия и Норфолк, образуя обширные заросли на влажных равнинах и склонах го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овозеландский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лё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8" descr="i"/>
          <p:cNvPicPr/>
          <p:nvPr/>
        </p:nvPicPr>
        <p:blipFill>
          <a:blip r:embed="rId1"/>
          <a:stretch/>
        </p:blipFill>
        <p:spPr>
          <a:xfrm>
            <a:off x="5219640" y="278136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image"/>
          <p:cNvPicPr/>
          <p:nvPr/>
        </p:nvPicPr>
        <p:blipFill>
          <a:blip r:embed="rId2"/>
          <a:stretch/>
        </p:blipFill>
        <p:spPr>
          <a:xfrm>
            <a:off x="900000" y="2781360"/>
            <a:ext cx="3816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Юк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Юк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род древовидных вечнозелёных растений семейства агавовых. Стебли высотой до 12 м, листья мечевидные, жёсткие, длина часто более 1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 листьев получают волокно, используемое на мешковину, верёвки, плетёные   издел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рыму и на Кавказе выращивают как декоративные раст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Юк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2"/>
          <p:cNvPicPr/>
          <p:nvPr/>
        </p:nvPicPr>
        <p:blipFill>
          <a:blip r:embed="rId1"/>
          <a:stretch/>
        </p:blipFill>
        <p:spPr>
          <a:xfrm>
            <a:off x="4842000" y="1628640"/>
            <a:ext cx="3506760" cy="5040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3"/>
          <p:cNvPicPr/>
          <p:nvPr/>
        </p:nvPicPr>
        <p:blipFill>
          <a:blip r:embed="rId2"/>
          <a:stretch/>
        </p:blipFill>
        <p:spPr>
          <a:xfrm>
            <a:off x="1042920" y="1628640"/>
            <a:ext cx="33847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ба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анильская пень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народе известна как абака; это жесткое лубяное волокно, которое извлекают из тропического растения, так называемого «текстильного банан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адиционно используется для производства морских канатов, веревок, тросов, шпагатов, рыболовных снастей, тесьмы для шляп. Целлюлоза из абаки используется для изготовления банкнот, табачной бумаги, пакетиков для чая и косметических салфе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ом это волокно с Филиппинских остров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ба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www.vip-loza.com"/>
          <p:cNvPicPr/>
          <p:nvPr/>
        </p:nvPicPr>
        <p:blipFill>
          <a:blip r:embed="rId1"/>
          <a:stretch/>
        </p:blipFill>
        <p:spPr>
          <a:xfrm>
            <a:off x="250920" y="2276640"/>
            <a:ext cx="4321080" cy="40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www.vip-loza.com"/>
          <p:cNvPicPr/>
          <p:nvPr/>
        </p:nvPicPr>
        <p:blipFill>
          <a:blip r:embed="rId2"/>
          <a:stretch/>
        </p:blipFill>
        <p:spPr>
          <a:xfrm>
            <a:off x="5076720" y="2276640"/>
            <a:ext cx="3587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за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изал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жёсткое, грубое натуральное волокно, получаемое из листьев ага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заль идёт на изготовление канатов, сетей, верёвок, шпагата, половиков, упаковочных и других грубых тканей, из отходов производят обёрточную бума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лавные экспортёры - Танзания, Кения, Ангола, Бразилия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за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Picture 4" descr="Сизаль (Agave sisalana)"/>
          <p:cNvPicPr/>
          <p:nvPr/>
        </p:nvPicPr>
        <p:blipFill>
          <a:blip r:embed="rId1"/>
          <a:stretch/>
        </p:blipFill>
        <p:spPr>
          <a:xfrm>
            <a:off x="1116000" y="1557360"/>
            <a:ext cx="6696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Лубяные волокна – это волокна, получаемые из стеблей и листьев растений.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п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нька (конопл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ж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на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нат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ндыр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зеландск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ё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Юк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ба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сб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з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убяные культуры, служащие для добычи волокон из стебле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5" descr="s94723030"/>
          <p:cNvPicPr/>
          <p:nvPr/>
        </p:nvPicPr>
        <p:blipFill>
          <a:blip r:embed="rId1"/>
          <a:stretch/>
        </p:blipFill>
        <p:spPr>
          <a:xfrm>
            <a:off x="684360" y="2060640"/>
            <a:ext cx="734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272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Лубяные культуры, служащие для добычи волокон из листьев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5" descr="s81397839"/>
          <p:cNvPicPr/>
          <p:nvPr/>
        </p:nvPicPr>
        <p:blipFill>
          <a:blip r:embed="rId1"/>
          <a:stretch/>
        </p:blipFill>
        <p:spPr>
          <a:xfrm>
            <a:off x="755640" y="2597040"/>
            <a:ext cx="7129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Вершки или корешки?!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тения, возделываемые для получения лубяного волокна, называю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убяные культ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убяные растения, содержащие волокн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стебля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лён-долгунец, конопля, кенаф, джут, рами, канатник, кендырь, сесбания, си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убяные растения, содержащие волокн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листья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агава, новозеландский лён (формиум), прядильный банан (абака), кокос, юк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п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пок, Хлопковое дере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растительная шерсть, волоски из внутренности плода семейства баобабовых, тропических деревье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пок — хороший изоляционный материал для холодильников и самолетов, им набивают боксерские перчатки, матрасы и мебел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 семян капка получают вкусное съедобное масло, а ватой из капка прокладывают спальные мешки, зимнее военное обмундирование и даже броню танк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ина — Южная Амери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п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5" descr="220px-Kapok_tree-pod"/>
          <p:cNvPicPr/>
          <p:nvPr/>
        </p:nvPicPr>
        <p:blipFill>
          <a:blip r:embed="rId1"/>
          <a:stretch/>
        </p:blipFill>
        <p:spPr>
          <a:xfrm>
            <a:off x="3995640" y="2060640"/>
            <a:ext cx="4751640" cy="431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апок — Ceiba pentandra"/>
          <p:cNvPicPr/>
          <p:nvPr/>
        </p:nvPicPr>
        <p:blipFill>
          <a:blip r:embed="rId2"/>
          <a:stretch/>
        </p:blipFill>
        <p:spPr>
          <a:xfrm>
            <a:off x="468360" y="1700280"/>
            <a:ext cx="3456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енька (конопля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ньк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грубое лубяное волокно из стеблей конопли. Добывают путём долгого (до 2-х лет) отмачивания конопляной массы в проточной во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ьзуется пенька и в производстве ткани, в основном грубой мешковины, канатов, тросов и верёвок, а также  одеж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оссии выращивают две разновидности конопли - южную и среднерусскую. Южная конопля растет на Кубани, Северном Кавказе, среднерусская - в Орловской, Курской, Брянской, Пензенской областях, в Мордов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4:53:20Z</dcterms:created>
  <dc:creator>н</dc:creator>
  <dc:description/>
  <dc:language>en-US</dc:language>
  <cp:lastModifiedBy>Student</cp:lastModifiedBy>
  <dcterms:modified xsi:type="dcterms:W3CDTF">2012-04-18T07:46:14Z</dcterms:modified>
  <cp:revision>6</cp:revision>
  <dc:subject/>
  <dc:title>Природа не так проста, как кажется…или то, что мы не знали о волокнах.</dc:title>
</cp:coreProperties>
</file>