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74AD-3560-476C-99F6-8F90FD2BD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C5B7-44C4-4BF3-98D2-5BC46914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9657-62E2-476C-A8FA-E1F789BB3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EBEE-4C80-437A-8E9A-BC3F0F9AA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642F1-AF68-44FC-B256-A882E7418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08A8-5E17-492C-9941-7CA1F42D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80C05-FF8B-4335-8A4E-8A194AD0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D497-795B-48D8-99AB-8B597823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D1077-BE4A-4360-B27E-45B40AA5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D5099-B79B-4CEA-A8BA-8FF3362C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6E8F-A18E-4FE9-9D23-B4AA60B7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657F-98D8-4EC1-A238-2FE85A35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50F4-98B9-4435-A4DC-17944B91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3237C-4B4E-4809-A05A-4DFD27E7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5CD1-F43B-416D-BC21-03BB71BB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60E2-9647-4F08-B654-B327CA8E7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4784-89D6-4CBF-975C-F5F7C46DB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F9EA-01A3-40B2-8650-B86F0814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95AE-A36B-4B4C-B060-D838EE14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651B-B14D-4FD2-A57A-DF0A1168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5E64-4B72-4314-ADDB-0D4D75E1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A47E-EDBB-4F0C-8496-B0642D38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B50C-DBC3-4CFF-9306-B74A3D82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05EE-9F69-4A83-92AB-400A341C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D845-422E-425F-8815-3E684BA336E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5C99-180B-4CD4-8AD6-0E17B4BEBB7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6781680" cy="44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Природа не так проста, как кажется…или то, что мы не знали о волокнах.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ень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8" name="Picture 4" descr="пенька, пеньковая пакля, пеньковолокно"/>
          <p:cNvPicPr/>
          <p:nvPr/>
        </p:nvPicPr>
        <p:blipFill>
          <a:blip r:embed="rId1"/>
          <a:stretch/>
        </p:blipFill>
        <p:spPr>
          <a:xfrm>
            <a:off x="3059280" y="2276640"/>
            <a:ext cx="3240000" cy="3600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семена конопли"/>
          <p:cNvPicPr/>
          <p:nvPr/>
        </p:nvPicPr>
        <p:blipFill>
          <a:blip r:embed="rId2"/>
          <a:stretch/>
        </p:blipFill>
        <p:spPr>
          <a:xfrm>
            <a:off x="684360" y="2133720"/>
            <a:ext cx="1512720" cy="1512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парусина"/>
          <p:cNvPicPr/>
          <p:nvPr/>
        </p:nvPicPr>
        <p:blipFill>
          <a:blip r:embed="rId3"/>
          <a:stretch/>
        </p:blipFill>
        <p:spPr>
          <a:xfrm>
            <a:off x="468360" y="4508640"/>
            <a:ext cx="2016000" cy="1944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пеньковая веревка"/>
          <p:cNvPicPr/>
          <p:nvPr/>
        </p:nvPicPr>
        <p:blipFill>
          <a:blip r:embed="rId4"/>
          <a:stretch/>
        </p:blipFill>
        <p:spPr>
          <a:xfrm>
            <a:off x="7020000" y="4581360"/>
            <a:ext cx="1554120" cy="1727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пеньковая пряжа"/>
          <p:cNvPicPr/>
          <p:nvPr/>
        </p:nvPicPr>
        <p:blipFill>
          <a:blip r:embed="rId5"/>
          <a:stretch/>
        </p:blipFill>
        <p:spPr>
          <a:xfrm>
            <a:off x="6732720" y="1844640"/>
            <a:ext cx="157140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Джу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жут - распространённое грубостеблевое влагоёмкое волокно из стеблей растения, близкое по составу и свойствам льну и конопл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олокно используют для изготовления технических, упаковочных, мебельных и других тканей, ковровых изделий, для производства джутовых утеплител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рупнейшие поставщики джута на мировой рынок — Индия и Пакистан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Джу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6" name="Picture 5" descr="jute_field"/>
          <p:cNvPicPr/>
          <p:nvPr/>
        </p:nvPicPr>
        <p:blipFill>
          <a:blip r:embed="rId1"/>
          <a:stretch/>
        </p:blipFill>
        <p:spPr>
          <a:xfrm>
            <a:off x="4643280" y="2421000"/>
            <a:ext cx="3778560" cy="3960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jute_yarn"/>
          <p:cNvPicPr/>
          <p:nvPr/>
        </p:nvPicPr>
        <p:blipFill>
          <a:blip r:embed="rId2"/>
          <a:stretch/>
        </p:blipFill>
        <p:spPr>
          <a:xfrm>
            <a:off x="1619280" y="1844640"/>
            <a:ext cx="2158920" cy="2232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jute_hessian"/>
          <p:cNvPicPr/>
          <p:nvPr/>
        </p:nvPicPr>
        <p:blipFill>
          <a:blip r:embed="rId3"/>
          <a:stretch/>
        </p:blipFill>
        <p:spPr>
          <a:xfrm>
            <a:off x="2771640" y="4076640"/>
            <a:ext cx="1729080" cy="23050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9"/>
          <p:cNvSpPr/>
          <p:nvPr/>
        </p:nvSpPr>
        <p:spPr>
          <a:xfrm>
            <a:off x="395280" y="2670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0" y="38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-252360" y="2741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1" descr="http://www.safari-europe.com/images/cms/data/ua_kanat/djut3.jpg"/>
          <p:cNvPicPr/>
          <p:nvPr/>
        </p:nvPicPr>
        <p:blipFill>
          <a:blip r:embed="rId4"/>
          <a:stretch/>
        </p:blipFill>
        <p:spPr>
          <a:xfrm>
            <a:off x="250920" y="4365720"/>
            <a:ext cx="1977840" cy="20145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3"/>
          <p:cNvSpPr/>
          <p:nvPr/>
        </p:nvSpPr>
        <p:spPr>
          <a:xfrm>
            <a:off x="0" y="38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енаф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Кенаф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- волокно из стеблей однолетнего лубоволокнистого растения кенаф. Растение тепло- и влаголюбиво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локно отличается высокой гигроскопичностью и прочностью, из него изготовляют мешковину, брезент, шпагат, верёвки, а также для выработки ковров и скатертей Из костры(древесины) делают бумагу, картон и строительные плиты.  Семена кенафа содержат техническое масло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ибольшие площади посева кенафа в Индии, выращивают также в Китае, Иране, Бразил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енаф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7" name="Picture 5" descr="0"/>
          <p:cNvPicPr/>
          <p:nvPr/>
        </p:nvPicPr>
        <p:blipFill>
          <a:blip r:embed="rId1"/>
          <a:stretch/>
        </p:blipFill>
        <p:spPr>
          <a:xfrm>
            <a:off x="5003640" y="2286000"/>
            <a:ext cx="4140360" cy="4572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Кенаф (Hibiscus cannabinus L)"/>
          <p:cNvPicPr/>
          <p:nvPr/>
        </p:nvPicPr>
        <p:blipFill>
          <a:blip r:embed="rId2"/>
          <a:stretch/>
        </p:blipFill>
        <p:spPr>
          <a:xfrm>
            <a:off x="611280" y="1989000"/>
            <a:ext cx="33843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анатник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Канатни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однолетнее травянистое растени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спользуется для выработки пряжи, из которой изготовляют мешковину, шпагат, верёвки. Из отходов канатника производят бумагу, изоляционные материал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одина канатника Китай, но посевы канатника есть в Монголии, Японии, Египте и  СШ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анатник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2" name="Picture 6" descr="158296322"/>
          <p:cNvPicPr/>
          <p:nvPr/>
        </p:nvPicPr>
        <p:blipFill>
          <a:blip r:embed="rId1"/>
          <a:stretch/>
        </p:blipFill>
        <p:spPr>
          <a:xfrm rot="21143400">
            <a:off x="4932000" y="2060640"/>
            <a:ext cx="3835440" cy="42670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8"/>
          <p:cNvSpPr/>
          <p:nvPr/>
        </p:nvSpPr>
        <p:spPr>
          <a:xfrm>
            <a:off x="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0" y="38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1"/>
          <p:cNvSpPr/>
          <p:nvPr/>
        </p:nvSpPr>
        <p:spPr>
          <a:xfrm>
            <a:off x="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0" descr="http://www.safari-europe.com/images/cms/data/ua_kanat/trava_buhta.jpg"/>
          <p:cNvPicPr/>
          <p:nvPr/>
        </p:nvPicPr>
        <p:blipFill>
          <a:blip r:embed="rId2"/>
          <a:stretch/>
        </p:blipFill>
        <p:spPr>
          <a:xfrm rot="333600">
            <a:off x="468000" y="2420640"/>
            <a:ext cx="3744720" cy="38844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2"/>
          <p:cNvSpPr/>
          <p:nvPr/>
        </p:nvSpPr>
        <p:spPr>
          <a:xfrm>
            <a:off x="0" y="38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ендыр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Кендырь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многолетнее травянистое растение. В стеблях содержится до 20—27% луба, отличается гибкостью, прочностью и стойкостью к загнивани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игодно для изготовления канатов, верёвок, рыболовных сет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оизрастает преимущественно в Северной Америке, Южной Европе и Юго-Восточной Аз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ендыр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1" name="Picture 5" descr="12"/>
          <p:cNvPicPr/>
          <p:nvPr/>
        </p:nvPicPr>
        <p:blipFill>
          <a:blip r:embed="rId1"/>
          <a:stretch/>
        </p:blipFill>
        <p:spPr>
          <a:xfrm>
            <a:off x="179280" y="3429000"/>
            <a:ext cx="3240360" cy="3240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k0291f"/>
          <p:cNvPicPr/>
          <p:nvPr/>
        </p:nvPicPr>
        <p:blipFill>
          <a:blip r:embed="rId2"/>
          <a:stretch/>
        </p:blipFill>
        <p:spPr>
          <a:xfrm>
            <a:off x="3132000" y="1700280"/>
            <a:ext cx="2178360" cy="288108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9"/>
          <p:cNvSpPr/>
          <p:nvPr/>
        </p:nvSpPr>
        <p:spPr>
          <a:xfrm>
            <a:off x="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8" descr="http://www.safari-europe.com/images/cms/data/ua_kanat/trava3.jpg"/>
          <p:cNvPicPr/>
          <p:nvPr/>
        </p:nvPicPr>
        <p:blipFill>
          <a:blip r:embed="rId3"/>
          <a:stretch/>
        </p:blipFill>
        <p:spPr>
          <a:xfrm rot="21094800">
            <a:off x="5520960" y="3185640"/>
            <a:ext cx="3313080" cy="31784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0"/>
          <p:cNvSpPr/>
          <p:nvPr/>
        </p:nvSpPr>
        <p:spPr>
          <a:xfrm>
            <a:off x="0" y="3678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Рам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Рами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– волокно из стебля многолетнего растения семейства крапивных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олокно прочное, эластичное, оно отличается тониной, блеском и почти не подвержено гниению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олокно рами идёт на изготовление высококачественных бельевых и технических тканей, рыболовных сетей, высших сортов бумаги (в частности, для денежных знаков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Главный поставщик рами - Китай, в меньшей степени страны Южной и Восточной Аз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543800" cy="633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Сегодня ученые могут создать самые разнообразные химические вещества. Красивые упаковки и интересные названия искусственных продуктов затмевают и незатейливые дары природы. Но, оказывается, природа не так проста, как кажется, поскольку и в ней встречаются достаточно интересные вещества и материалы, как, например, лубяные волокна.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Рам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9" name="Picture 4" descr="Boehmeria_nivea_1"/>
          <p:cNvPicPr/>
          <p:nvPr/>
        </p:nvPicPr>
        <p:blipFill>
          <a:blip r:embed="rId1"/>
          <a:stretch/>
        </p:blipFill>
        <p:spPr>
          <a:xfrm>
            <a:off x="684360" y="2276640"/>
            <a:ext cx="3240000" cy="4176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jute"/>
          <p:cNvPicPr/>
          <p:nvPr/>
        </p:nvPicPr>
        <p:blipFill>
          <a:blip r:embed="rId2"/>
          <a:stretch/>
        </p:blipFill>
        <p:spPr>
          <a:xfrm>
            <a:off x="4716360" y="2205000"/>
            <a:ext cx="350064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Новозеландский</a:t>
            </a: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лён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овозеландский лён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формиум)  - многолетнее травянистое растение с мечевидными листьями длиной до 3м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истья содержат прочное волокно, используемое для производства шпагата, верёвок, морских снастей, циновок, мат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тот вид льна произрастает на островах Новая Зеландия и Норфолк, образуя обширные заросли на влажных равнинах и склонах го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Новозеландский</a:t>
            </a: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лён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4" name="Picture 8" descr="i"/>
          <p:cNvPicPr/>
          <p:nvPr/>
        </p:nvPicPr>
        <p:blipFill>
          <a:blip r:embed="rId1"/>
          <a:stretch/>
        </p:blipFill>
        <p:spPr>
          <a:xfrm>
            <a:off x="5219640" y="2781360"/>
            <a:ext cx="3095640" cy="36003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image"/>
          <p:cNvPicPr/>
          <p:nvPr/>
        </p:nvPicPr>
        <p:blipFill>
          <a:blip r:embed="rId2"/>
          <a:stretch/>
        </p:blipFill>
        <p:spPr>
          <a:xfrm>
            <a:off x="900000" y="2781360"/>
            <a:ext cx="38163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Юк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Юкк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род древовидных вечнозелёных растений семейства агавовых. Стебли высотой до 12 м, листья мечевидные, жёсткие, длина часто более 1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з листьев получают волокно, используемое на мешковину, верёвки, плетёные   издел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Крыму и на Кавказе выращивают как декоративные раст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Юк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9" name="Picture 5" descr="2"/>
          <p:cNvPicPr/>
          <p:nvPr/>
        </p:nvPicPr>
        <p:blipFill>
          <a:blip r:embed="rId1"/>
          <a:stretch/>
        </p:blipFill>
        <p:spPr>
          <a:xfrm>
            <a:off x="4842000" y="1628640"/>
            <a:ext cx="3506760" cy="5040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3"/>
          <p:cNvPicPr/>
          <p:nvPr/>
        </p:nvPicPr>
        <p:blipFill>
          <a:blip r:embed="rId2"/>
          <a:stretch/>
        </p:blipFill>
        <p:spPr>
          <a:xfrm>
            <a:off x="1042920" y="1628640"/>
            <a:ext cx="3384720" cy="50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543800" cy="107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Аба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Манильская пеньк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в народе известна как абака; это жесткое лубяное волокно, которое извлекают из тропического растения, так называемого «текстильного банана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радиционно используется для производства морских канатов, веревок, тросов, шпагатов, рыболовных снастей, тесьмы для шляп. Целлюлоза из абаки используется для изготовления банкнот, табачной бумаги, пакетиков для чая и косметических салфеток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одом это волокно с Филиппинских островов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Аба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4" name="Picture 4" descr="www.vip-loza.com"/>
          <p:cNvPicPr/>
          <p:nvPr/>
        </p:nvPicPr>
        <p:blipFill>
          <a:blip r:embed="rId1"/>
          <a:stretch/>
        </p:blipFill>
        <p:spPr>
          <a:xfrm>
            <a:off x="250920" y="2276640"/>
            <a:ext cx="4321080" cy="4032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www.vip-loza.com"/>
          <p:cNvPicPr/>
          <p:nvPr/>
        </p:nvPicPr>
        <p:blipFill>
          <a:blip r:embed="rId2"/>
          <a:stretch/>
        </p:blipFill>
        <p:spPr>
          <a:xfrm>
            <a:off x="5076720" y="2276640"/>
            <a:ext cx="35877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Сизал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Сизаль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жёсткое, грубое натуральное волокно, получаемое из листьев агав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изаль идёт на изготовление канатов, сетей, верёвок, шпагата, половиков, упаковочных и других грубых тканей, из отходов производят обёрточную бумаг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Главные экспортёры - Танзания, Кения, Ангола, Бразилия.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Сизал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9" name="Picture 4" descr="Сизаль (Agave sisalana)"/>
          <p:cNvPicPr/>
          <p:nvPr/>
        </p:nvPicPr>
        <p:blipFill>
          <a:blip r:embed="rId1"/>
          <a:stretch/>
        </p:blipFill>
        <p:spPr>
          <a:xfrm>
            <a:off x="1116000" y="1557360"/>
            <a:ext cx="669600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215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0066"/>
                </a:solidFill>
                <a:latin typeface="Arial"/>
              </a:rPr>
              <a:t>Лубяные волокна – это волокна, получаемые из стеблей и листьев растений. 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403848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апо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енька (конопля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жу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ена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анатни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ендыр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а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овозеландский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ён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Юкк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бак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га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есбан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и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иза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Лубяные культуры, служащие для добычи волокон из стеблей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5" name="Picture 5" descr="s94723030"/>
          <p:cNvPicPr/>
          <p:nvPr/>
        </p:nvPicPr>
        <p:blipFill>
          <a:blip r:embed="rId1"/>
          <a:stretch/>
        </p:blipFill>
        <p:spPr>
          <a:xfrm>
            <a:off x="684360" y="2060640"/>
            <a:ext cx="7343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7272360" cy="22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Лубяные культуры, служащие для добычи волокон из листьев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7" name="Picture 5" descr="s81397839"/>
          <p:cNvPicPr/>
          <p:nvPr/>
        </p:nvPicPr>
        <p:blipFill>
          <a:blip r:embed="rId1"/>
          <a:stretch/>
        </p:blipFill>
        <p:spPr>
          <a:xfrm>
            <a:off x="755640" y="2597040"/>
            <a:ext cx="712944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Вершки или корешки?!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стения, возделываемые для получения лубяного волокна, называются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лубяные культур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убяные растения, содержащие волокна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 стеблях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- лён-долгунец, конопля, кенаф, джут, рами, канатник, кендырь, сесбания, си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убяные растения, содержащие волокна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 листьях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- агава, новозеландский лён (формиум), прядильный банан (абака), кокос, юк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апок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9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Капок, Хлопковое дерево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 растительная шерсть, волоски из внутренности плода семейства баобабовых, тропических деревье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апок — хороший изоляционный материал для холодильников и самолетов, им набивают боксерские перчатки, матрасы и мебель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з семян капка получают вкусное съедобное масло, а ватой из капка прокладывают спальные мешки, зимнее военное обмундирование и даже броню танков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одина — Южная Америк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апок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3" name="Picture 5" descr="220px-Kapok_tree-pod"/>
          <p:cNvPicPr/>
          <p:nvPr/>
        </p:nvPicPr>
        <p:blipFill>
          <a:blip r:embed="rId1"/>
          <a:stretch/>
        </p:blipFill>
        <p:spPr>
          <a:xfrm>
            <a:off x="3995640" y="2060640"/>
            <a:ext cx="4751640" cy="4319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Капок — Ceiba pentandra"/>
          <p:cNvPicPr/>
          <p:nvPr/>
        </p:nvPicPr>
        <p:blipFill>
          <a:blip r:embed="rId2"/>
          <a:stretch/>
        </p:blipFill>
        <p:spPr>
          <a:xfrm>
            <a:off x="468360" y="1700280"/>
            <a:ext cx="34560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543800" cy="101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енька (конопля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енька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грубое лубяное волокно из стеблей конопли. Добывают путём долгого (до 2-х лет) отмачивания конопляной массы в проточной вод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спользуется пенька и в производстве ткани, в основном грубой мешковины, канатов, тросов и верёвок, а также  одежд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 России выращивают две разновидности конопли - южную и среднерусскую. Южная конопля растет на Кубани, Северном Кавказе, среднерусская - в Орловской, Курской, Брянской, Пензенской областях, в Мордов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4T14:53:20Z</dcterms:created>
  <dc:creator>н</dc:creator>
  <dc:description/>
  <dc:language>en-US</dc:language>
  <cp:lastModifiedBy>Student</cp:lastModifiedBy>
  <dcterms:modified xsi:type="dcterms:W3CDTF">2012-04-18T07:46:14Z</dcterms:modified>
  <cp:revision>6</cp:revision>
  <dc:subject/>
  <dc:title>Природа не так проста, как кажется…или то, что мы не знали о волокнах.</dc:title>
</cp:coreProperties>
</file>