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C316-DAE8-4AEB-8220-76DD35584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B9A5-C3BC-4FE8-91DE-6234C5FFB45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99F-9602-4F22-9CE0-5707FDA7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39A-AA40-4424-8C15-1964EE2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ECC-ABD2-48E2-BA50-801766B4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744-F7F3-481D-8ED2-B7EA0F4E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C7FE-76A7-422E-B3DF-71323010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416D-0D21-4AAF-9F8E-6DB006A6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8B5F-4D79-4383-AB0D-D010BE75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D810-953D-4FB7-9392-1E65C2B6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17E7-532D-44C7-AB68-186A0B21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58DA-AD3D-4BE8-AD55-757D35EC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51AD-2209-48C7-A2AF-488C3721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5F7-9408-4A0B-A990-369319A2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10E9-2D59-4D02-85D1-A714C6A7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C894-3932-4785-A913-9D3497B5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8B0A-CA14-4ACA-9659-70539B2E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5905-0CA6-4ED2-8CFB-D95277EA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9EA1-3FC6-453C-AF95-4C4F7D90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064-302C-4F71-935A-752F7D9D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0F7-8BF0-42C8-84E5-E6EE91BC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56A-ADDE-48ED-A719-53924E01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E46-9DFB-49EE-9D33-3E9E7FF0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B15-72BB-4024-9A98-20F35EB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E12-283C-4FA5-8AA7-9BE01112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A06-E53D-452C-9932-8767A36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13FB-9450-4563-AA7C-B00595B8A3D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4547-A0C5-4B76-89F1-12E6CA066B1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1160" y="863280"/>
            <a:ext cx="8712360" cy="13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одительское собрание</a:t>
            </a:r>
            <a:br>
              <a:rPr sz="3200"/>
            </a:br>
            <a:br>
              <a:rPr sz="24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Патриотическое воспитани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тей дошкольного возраста в семье»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5" descr="49659686"/>
          <p:cNvPicPr/>
          <p:nvPr/>
        </p:nvPicPr>
        <p:blipFill>
          <a:blip r:embed="rId1"/>
          <a:stretch/>
        </p:blipFill>
        <p:spPr>
          <a:xfrm>
            <a:off x="838080" y="3121200"/>
            <a:ext cx="5867640" cy="35715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6172200" y="41148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БДОУ «ЦРР- д/с «Сказка» ОП «Детский сад «Светлячок» к/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спитатели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усакова Л.И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селова Т.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Ковылкино 2022г.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86400" y="6055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3962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Патриотизм – это любовь к родине, преданность ей, стремление своими действиями служить ее интересам, ощущение неразрывной связи со своим народом, с его языком, культурой, бытом и нравам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img4"/>
          <p:cNvPicPr/>
          <p:nvPr/>
        </p:nvPicPr>
        <p:blipFill>
          <a:blip r:embed="rId1"/>
          <a:stretch/>
        </p:blipFill>
        <p:spPr>
          <a:xfrm>
            <a:off x="3048120" y="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ак научить детей любить свою Родину? Как научить проявлять уважение к труду предков, сохранивших для них и этот мир, и эту страну? Как научить быть достойными их памяти? Т.е. быть патрио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33526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нравственно-патриотическом воспитании огромное значение имеет пример взрослых, в особенности же близких людей. На конкретных фактах из жизни старших членов семьи ((пра)дедушек и (пра)бабушек, участников Великой Отечественной войны, их фронтовых и трудовых подвигов) необходимо привить детям такие важные понятия, как "любовь к Отечеству",  "трудовой подвиг" и т.д. Важно подвести ребенка к пониманию, что мы победили потому, что любим свою Отчизну, Родина чтит своих героев, отдавших жизнь за счастье людей. Их имена увековечены в названиях городов, улиц, площадей, в их честь воздвигнуты памятни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f09303cfc36d1795629cd9331dac772f"/>
          <p:cNvPicPr/>
          <p:nvPr/>
        </p:nvPicPr>
        <p:blipFill>
          <a:blip r:embed="rId1"/>
          <a:stretch/>
        </p:blipFill>
        <p:spPr>
          <a:xfrm>
            <a:off x="3505320" y="152280"/>
            <a:ext cx="50292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нимая активное участие в жизни детского сада, вы, уважаемые родители, подаете самый яркий и позитивный пример своим детям!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 закончить это родительское собрание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хочется  стихотворение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и русская при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овна мне, и я ее п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ы сыновей растишь – пилотов, мореходов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крымских скал, в полуночном кра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– русский человек, сын своего народ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 с гордостью гляжу на Родину сво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img26"/>
          <p:cNvPicPr/>
          <p:nvPr/>
        </p:nvPicPr>
        <p:blipFill>
          <a:blip r:embed="rId1"/>
          <a:stretch/>
        </p:blipFill>
        <p:spPr>
          <a:xfrm>
            <a:off x="1066680" y="838080"/>
            <a:ext cx="709956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ировать обобщенное представление 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дителей в вопросах воспитания патриотизм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4" descr="adafdf2a10141cdd6a5d8c68e42de049"/>
          <p:cNvPicPr/>
          <p:nvPr/>
        </p:nvPicPr>
        <p:blipFill>
          <a:blip r:embed="rId1"/>
          <a:stretch/>
        </p:blipFill>
        <p:spPr>
          <a:xfrm>
            <a:off x="480060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Задач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монстрировать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ям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 необходимость обсуждения нравственных тем в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е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зовать взаимодействие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 и воспитателя в организации патриотического воспитания дет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ормировать нравственную культуру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и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сширить знания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 о роли семьи в воспитании патриотических чувств дет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знакомить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телей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 с приёмами и методами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триотического воспитания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ыть гражданином - значит сознательно и активно выполнять гражданские обязанности и гражданский долг перед обществом, Родиной, обладать такими качествами личности, как патриотизм. 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724280" y="30481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Зачатки этих качеств надо формировать в ребенке как можно раньш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slide1"/>
          <p:cNvPicPr/>
          <p:nvPr/>
        </p:nvPicPr>
        <p:blipFill>
          <a:blip r:embed="rId1"/>
          <a:stretch/>
        </p:blipFill>
        <p:spPr>
          <a:xfrm>
            <a:off x="0" y="39625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бенок впервые открывает Родину в семье. Это ближайшее его окружение, где он черпает такие понятия, как "труд", "долг", "честь", "Родина"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увство 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один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 начинается у ребенка с отношения к самым близким людям - отцу, матери, дедушке, бабушке. Это корни, связывающие его с родным домом и ближайшим окружение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1464161654_10"/>
          <p:cNvPicPr/>
          <p:nvPr/>
        </p:nvPicPr>
        <p:blipFill>
          <a:blip r:embed="rId1"/>
          <a:stretch/>
        </p:blipFill>
        <p:spPr>
          <a:xfrm>
            <a:off x="38862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2920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Бабушкин сундук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4" descr="1-1"/>
          <p:cNvPicPr/>
          <p:nvPr/>
        </p:nvPicPr>
        <p:blipFill>
          <a:blip r:embed="rId1"/>
          <a:stretch/>
        </p:blipFill>
        <p:spPr>
          <a:xfrm>
            <a:off x="1143000" y="1371600"/>
            <a:ext cx="6843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ундуке находи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ольшая красивая книга русских народных сказ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укв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анка варенья, шоколад, конфет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тен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инные семейные фотограф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ая одежд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крытки памятников города Клинц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ртинки с изображением орденов и медал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инарная книг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2a3a72131cc468e8cecd4e6a96--dlya-doma-interera-shkatulka-staryj-babushkin"/>
          <p:cNvPicPr/>
          <p:nvPr/>
        </p:nvPicPr>
        <p:blipFill>
          <a:blip r:embed="rId1"/>
          <a:stretch/>
        </p:blipFill>
        <p:spPr>
          <a:xfrm>
            <a:off x="6629400" y="152280"/>
            <a:ext cx="214956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современной жизни нам часто приходится слышать слова «патриот», патриотизм», «гражданин». Этим словам несколько тысяч л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 Как вы понимаете смысл этих понятий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1480" y="834120"/>
            <a:ext cx="8389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Как Бы на этот вопрос ответили Вы и как бы пояснили значение этих понятий ребенку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Это тот человек которы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ит то место, где родился и выро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от, кто любит и не забывает свою мать, свой д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то с гордостью осознаёт, что нет на Земле страны лучше наш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тов стать на защиту Отече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государственную символик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свой родной язы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ет историю своей страны, гордится своими предк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3T15:53:54Z</dcterms:created>
  <dc:creator>Maestro</dc:creator>
  <dc:description/>
  <dc:language>en-US</dc:language>
  <cp:lastModifiedBy>1</cp:lastModifiedBy>
  <dcterms:modified xsi:type="dcterms:W3CDTF">2022-11-30T06:51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