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E0D-688C-422E-AFDB-7CEB47DBB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640-63F1-4B86-A58B-E092809B328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576-4017-4BF5-AA80-0FB6EEE5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335-6FFB-45D5-B1C7-4E9D0AA4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926-7297-4A20-8C77-7D78F9CD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546-D598-4240-80B2-B1D9716B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D33-602D-499B-96F9-BF055E59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727B-9891-4EA3-86BB-33ABDDD8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1540-08E0-4420-B5DC-0327E16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97CB-9ABB-4FBC-8A1A-E6CC1E3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9242-5FB9-4037-95AD-47AF103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42E-B329-40CC-9D35-1B12E6B2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62EF-ABEC-48DB-A04D-E908918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37C-C36A-4D4F-A349-0C335F26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252A-63B1-4157-BFD1-C47C501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350F-A351-4542-B84D-C88F9F3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E974-EC17-454B-9B08-181DCFA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937-2F83-4841-8F67-89E92DE9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001-175B-4F28-8006-47A1DA03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754-1A4E-439F-9B26-71F3289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061-2EC2-48CA-8088-3E5F15C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020-2EBC-4E87-883B-88662EE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2B4-6201-444E-9F37-11E2D17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A1E-521F-4854-A72A-2536EFC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59C-5C2F-45E3-8B09-00689AE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CA5-E933-4ED3-9B4A-D99F4DE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D77-154A-4456-8C56-9B3D279A258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50B-2C08-4D72-810F-7E78931074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1160" y="863280"/>
            <a:ext cx="87123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одительское собрание</a:t>
            </a:r>
            <a:br>
              <a:rPr sz="3200"/>
            </a:b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Патриотическое воспит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ей дошкольного возраста в семье»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49659686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6172200" y="4114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БДОУ «ЦРР- д/с «Сказка» ОП «Детский сад «Светлячок» к/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тели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сакова Л.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селова Т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Ковылкино 2022г.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8640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img4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f09303cfc36d1795629cd9331dac772f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img26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adafdf2a10141cdd6a5d8c68e42de049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slide1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464161654_10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92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1-1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2a3a72131cc468e8cecd4e6a96--dlya-doma-interera-shkatulka-staryj-babushkin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1480" y="83412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Как Бы на этот вопрос ответили Вы и как бы пояснили значение этих понятий ребенку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1</cp:lastModifiedBy>
  <dcterms:modified xsi:type="dcterms:W3CDTF">2022-11-30T06:5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