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28.png" ContentType="image/png"/>
  <Override PartName="/ppt/media/image47.png" ContentType="image/png"/>
  <Override PartName="/ppt/media/image10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61.png" ContentType="image/png"/>
  <Override PartName="/ppt/media/image19.png" ContentType="image/png"/>
  <Override PartName="/ppt/media/image2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30.png" ContentType="image/png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3.gif" ContentType="image/gif"/>
  <Override PartName="/ppt/media/image48.gif" ContentType="image/gif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C691-077F-4C4C-AB18-958AFD10C3A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4FFC-2FF2-4DFC-9057-0B4DD1E5218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199-F641-4EBF-B3B0-9DC9FBAF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4CD-1E98-46D4-ABA5-CD4F0B83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F02-1A8C-46DF-93F4-7268AF51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131-0BEE-48FC-A61A-7D19CF67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797-BB64-4866-882B-3A34111E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954-F469-455B-9B1C-53076942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E20-AC89-4F2A-99EE-DF6EA468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633-C42F-4D39-975C-A2293A65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1C8-FE48-4652-8B2C-38D1536E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C7D-8FDC-4D72-9DC4-A6F9F30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966-F630-423B-9661-E3A00FF8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048-33E9-4C31-A628-26BD182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94D4-0735-4BFB-A84E-60DEA51B950E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2664000" y="2349360"/>
            <a:ext cx="424800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*</cp:lastModifiedBy>
  <dcterms:modified xsi:type="dcterms:W3CDTF">2022-11-30T17:52:43Z</dcterms:modified>
  <cp:revision>26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