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272-0877-4A48-BB88-5DE39257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0C4-1BB6-4C35-80F3-A974A09B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F95-9757-44AE-B156-EC30F819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60E-9A18-4EE2-85F2-0FB5B172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F2F-9715-4DEF-B854-B037BCB3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0BE-1BF7-4E59-9038-01E02965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50B-24D7-410B-B6FD-E849937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978-E8F5-4694-8F5F-62DEF100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048-787E-4808-A23C-02F5BB6F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3DC-2764-4DCD-8B9D-B20D0AA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F0E-EDBC-49B1-AD06-D17ECFC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E00-17AE-46EF-9A9B-9EE14B5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64F9-B6B4-4431-B3F5-8D19E1DED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8.xml"/><Relationship Id="rId4" Type="http://schemas.openxmlformats.org/officeDocument/2006/relationships/image" Target="../media/image3.jpeg"/><Relationship Id="rId5" Type="http://schemas.openxmlformats.org/officeDocument/2006/relationships/slide" Target="slide10.xml"/><Relationship Id="rId6" Type="http://schemas.openxmlformats.org/officeDocument/2006/relationships/image" Target="../media/image4.jpeg"/><Relationship Id="rId7" Type="http://schemas.openxmlformats.org/officeDocument/2006/relationships/hyperlink" Target="file:///&#1047;&#1072;&#1082;&#1072;&#1083;&#1080;&#1074;&#1072;&#1085;&#1080;&#1077;.pp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а 17 из 8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09480" y="1219320"/>
            <a:ext cx="8001000" cy="30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олнце, воздух и вода -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и лучшие друзья!"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Картинка 183 из 52272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304920" y="914400"/>
            <a:ext cx="84582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водой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3809880" y="2209680"/>
            <a:ext cx="3505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тирание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733920" y="327672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ливание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3733920" y="4267080"/>
            <a:ext cx="51051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трастный душ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3809880" y="53341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пание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Oval 11">
            <a:hlinkClick r:id="rId2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Картинка 36 из 134"/>
          <p:cNvPicPr/>
          <p:nvPr/>
        </p:nvPicPr>
        <p:blipFill>
          <a:blip r:embed="rId3"/>
          <a:srcRect l="17890" t="10006" r="22493" b="17575"/>
          <a:stretch/>
        </p:blipFill>
        <p:spPr>
          <a:xfrm>
            <a:off x="2666880" y="3962520"/>
            <a:ext cx="914400" cy="838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88" name="Picture 14" descr="3a6d459c599a8b8c22b6597710c95f52"/>
          <p:cNvPicPr/>
          <p:nvPr/>
        </p:nvPicPr>
        <p:blipFill>
          <a:blip r:embed="rId4"/>
          <a:srcRect l="8012" t="16024" r="4006" b="4006"/>
          <a:stretch/>
        </p:blipFill>
        <p:spPr>
          <a:xfrm>
            <a:off x="2666880" y="1981080"/>
            <a:ext cx="990720" cy="901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89" name="Picture 16" descr="Картинка 25 из 12299"/>
          <p:cNvPicPr/>
          <p:nvPr/>
        </p:nvPicPr>
        <p:blipFill>
          <a:blip r:embed="rId5"/>
          <a:stretch/>
        </p:blipFill>
        <p:spPr>
          <a:xfrm>
            <a:off x="2666880" y="2971800"/>
            <a:ext cx="971640" cy="9064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90" name="Picture 18" descr="i?id=158521408-03-24"/>
          <p:cNvPicPr/>
          <p:nvPr/>
        </p:nvPicPr>
        <p:blipFill>
          <a:blip r:embed="rId6"/>
          <a:stretch/>
        </p:blipFill>
        <p:spPr>
          <a:xfrm>
            <a:off x="2666880" y="4876920"/>
            <a:ext cx="978120" cy="914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91" name="Picture 20" descr="i-359"/>
          <p:cNvPicPr/>
          <p:nvPr/>
        </p:nvPicPr>
        <p:blipFill>
          <a:blip r:embed="rId7"/>
          <a:srcRect l="12619" t="0" r="5476" b="0"/>
          <a:stretch/>
        </p:blipFill>
        <p:spPr>
          <a:xfrm>
            <a:off x="2666880" y="5867280"/>
            <a:ext cx="990720" cy="8510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2" name="WordArt 21"/>
          <p:cNvSpPr txBox="1"/>
          <p:nvPr/>
        </p:nvSpPr>
        <p:spPr>
          <a:xfrm>
            <a:off x="3886200" y="6248520"/>
            <a:ext cx="396252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ce2f8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жевание</a:t>
            </a:r>
            <a:endParaRPr b="0" lang="en-US" sz="1800" spc="1" strike="noStrike">
              <a:ln w="12600">
                <a:solidFill>
                  <a:srgbClr val="0ce2f8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Картинка 8 из 51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ртинка 27 из 131"/>
          <p:cNvPicPr/>
          <p:nvPr/>
        </p:nvPicPr>
        <p:blipFill>
          <a:blip r:embed="rId2"/>
          <a:stretch/>
        </p:blipFill>
        <p:spPr>
          <a:xfrm>
            <a:off x="4038480" y="2895480"/>
            <a:ext cx="4876920" cy="36576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95" name="Picture 7" descr="Картинка 22 из 131"/>
          <p:cNvPicPr/>
          <p:nvPr/>
        </p:nvPicPr>
        <p:blipFill>
          <a:blip r:embed="rId3"/>
          <a:stretch/>
        </p:blipFill>
        <p:spPr>
          <a:xfrm>
            <a:off x="228600" y="228600"/>
            <a:ext cx="5076720" cy="36576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96" name="Oval 9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5410080" y="380880"/>
            <a:ext cx="3486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хочешь бы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 - обтирайся!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Картинка 8 из 51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Картинка 8 из 134"/>
          <p:cNvPicPr/>
          <p:nvPr/>
        </p:nvPicPr>
        <p:blipFill>
          <a:blip r:embed="rId2"/>
          <a:stretch/>
        </p:blipFill>
        <p:spPr>
          <a:xfrm>
            <a:off x="304920" y="228600"/>
            <a:ext cx="2943000" cy="3809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0" name="Picture 7" descr="Картинка 9 из 134"/>
          <p:cNvPicPr/>
          <p:nvPr/>
        </p:nvPicPr>
        <p:blipFill>
          <a:blip r:embed="rId3"/>
          <a:stretch/>
        </p:blipFill>
        <p:spPr>
          <a:xfrm>
            <a:off x="3809880" y="3276720"/>
            <a:ext cx="5077080" cy="3400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1" name="Oval 10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3657600" y="304920"/>
            <a:ext cx="49528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хочешь бы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 - обливайся!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8 из 51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Oval 6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Картинка 1 из 15048"/>
          <p:cNvPicPr/>
          <p:nvPr/>
        </p:nvPicPr>
        <p:blipFill>
          <a:blip r:embed="rId2"/>
          <a:srcRect l="3001" t="2242" r="14003" b="2829"/>
          <a:stretch/>
        </p:blipFill>
        <p:spPr>
          <a:xfrm>
            <a:off x="228600" y="228600"/>
            <a:ext cx="3581280" cy="2743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6" name="Picture 12" descr="контрастный-душ"/>
          <p:cNvPicPr/>
          <p:nvPr/>
        </p:nvPicPr>
        <p:blipFill>
          <a:blip r:embed="rId3"/>
          <a:stretch/>
        </p:blipFill>
        <p:spPr>
          <a:xfrm>
            <a:off x="4952880" y="2666880"/>
            <a:ext cx="3962520" cy="3962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7" name="Picture 14" descr="ANd9GcQGI35ugN8eN3h-J9tnls1cI3DfhZsV8woIUB1Awsh9r3A3rBNQ4A"/>
          <p:cNvPicPr/>
          <p:nvPr/>
        </p:nvPicPr>
        <p:blipFill>
          <a:blip r:embed="rId4"/>
          <a:stretch/>
        </p:blipFill>
        <p:spPr>
          <a:xfrm>
            <a:off x="990720" y="3429000"/>
            <a:ext cx="3733560" cy="28065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8" name="Rectangle 15"/>
          <p:cNvSpPr/>
          <p:nvPr/>
        </p:nvSpPr>
        <p:spPr>
          <a:xfrm>
            <a:off x="3886200" y="456480"/>
            <a:ext cx="49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нтрастный душ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- путь к здоровью и красо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Картинка 8 из 51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Картинка 20 из 246"/>
          <p:cNvPicPr/>
          <p:nvPr/>
        </p:nvPicPr>
        <p:blipFill>
          <a:blip r:embed="rId2"/>
          <a:stretch/>
        </p:blipFill>
        <p:spPr>
          <a:xfrm>
            <a:off x="228600" y="3657600"/>
            <a:ext cx="4495680" cy="298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1" name="Picture 7" descr="Картинка 97 из 245"/>
          <p:cNvPicPr/>
          <p:nvPr/>
        </p:nvPicPr>
        <p:blipFill>
          <a:blip r:embed="rId3"/>
          <a:stretch/>
        </p:blipFill>
        <p:spPr>
          <a:xfrm>
            <a:off x="6019920" y="3581280"/>
            <a:ext cx="2857320" cy="3095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2" name="Picture 9" descr="Картинка 2 из 6611"/>
          <p:cNvPicPr/>
          <p:nvPr/>
        </p:nvPicPr>
        <p:blipFill>
          <a:blip r:embed="rId4"/>
          <a:srcRect l="0" t="2003" r="0" b="9997"/>
          <a:stretch/>
        </p:blipFill>
        <p:spPr>
          <a:xfrm>
            <a:off x="228600" y="228600"/>
            <a:ext cx="251460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13" name="Oval 11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4419720" y="380880"/>
            <a:ext cx="4343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хочешь бы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 - купайся!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Картинка 19 из 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457200" y="380880"/>
            <a:ext cx="5638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жеван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a8fc"/>
            </a:gs>
            <a:gs pos="100000">
              <a:srgbClr val="86e7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457200" y="304920"/>
            <a:ext cx="8305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- очень важная процедура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438280" y="4648320"/>
            <a:ext cx="6096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водо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00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2438280" y="3429000"/>
            <a:ext cx="609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7d7f3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воздухом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07d7f3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438280" y="20574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7d7f3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солнцем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07d7f3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8" descr="5a35c3ab32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447920"/>
            <a:ext cx="1295280" cy="1123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48" name="Picture 9" descr="Картинка 12 из 300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2914560"/>
            <a:ext cx="1295280" cy="970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49" name="Picture 10" descr="Картинка 8 из 5164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4152960"/>
            <a:ext cx="1295280" cy="971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0" name="Oval 11">
            <a:hlinkClick r:id="rId7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5a35c3ab3211"/>
          <p:cNvPicPr/>
          <p:nvPr/>
        </p:nvPicPr>
        <p:blipFill>
          <a:blip r:embed="rId1"/>
          <a:stretch/>
        </p:blipFill>
        <p:spPr>
          <a:xfrm>
            <a:off x="685800" y="15840"/>
            <a:ext cx="7848720" cy="681048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457200" y="5562720"/>
            <a:ext cx="8381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солнцем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Oval 7">
            <a:hlinkClick r:id="rId2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Картинка 12 из 3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304920" y="5257800"/>
            <a:ext cx="8381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7d7f3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воздухом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07d7f3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Oval 7">
            <a:hlinkClick r:id="rId2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8 из 51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380880" y="5257800"/>
            <a:ext cx="84582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аливание водо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Oval 7">
            <a:hlinkClick r:id="rId2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5a35c3ab3211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90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16 из 702"/>
          <p:cNvPicPr/>
          <p:nvPr/>
        </p:nvPicPr>
        <p:blipFill>
          <a:blip r:embed="rId2"/>
          <a:srcRect l="13509" t="0" r="0" b="15790"/>
          <a:stretch/>
        </p:blipFill>
        <p:spPr>
          <a:xfrm>
            <a:off x="4572000" y="3429000"/>
            <a:ext cx="4390920" cy="3200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62" name="Picture 7" descr="Картинка 11 из 6611"/>
          <p:cNvPicPr/>
          <p:nvPr/>
        </p:nvPicPr>
        <p:blipFill>
          <a:blip r:embed="rId3"/>
          <a:srcRect l="0" t="0" r="8446" b="13571"/>
          <a:stretch/>
        </p:blipFill>
        <p:spPr>
          <a:xfrm>
            <a:off x="152280" y="152280"/>
            <a:ext cx="4648320" cy="32767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63" name="WordArt 9"/>
          <p:cNvSpPr txBox="1"/>
          <p:nvPr/>
        </p:nvSpPr>
        <p:spPr>
          <a:xfrm>
            <a:off x="304920" y="3733920"/>
            <a:ext cx="4038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нечные ванны лучше принима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 реки, утром, пока воздух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ильно прогрет солнце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Oval 10">
            <a:hlinkClick r:id="rId4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5a35c3ab3211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71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45 из 8171"/>
          <p:cNvPicPr/>
          <p:nvPr/>
        </p:nvPicPr>
        <p:blipFill>
          <a:blip r:embed="rId2"/>
          <a:stretch/>
        </p:blipFill>
        <p:spPr>
          <a:xfrm>
            <a:off x="4495680" y="3254400"/>
            <a:ext cx="4419720" cy="3375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67" name="Picture 7" descr="Картинка 54 из 8171"/>
          <p:cNvPicPr/>
          <p:nvPr/>
        </p:nvPicPr>
        <p:blipFill>
          <a:blip r:embed="rId3"/>
          <a:srcRect l="0" t="0" r="9331" b="17334"/>
          <a:stretch/>
        </p:blipFill>
        <p:spPr>
          <a:xfrm>
            <a:off x="228600" y="152280"/>
            <a:ext cx="4572000" cy="2779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68" name="WordArt 9"/>
          <p:cNvSpPr txBox="1"/>
          <p:nvPr/>
        </p:nvSpPr>
        <p:spPr>
          <a:xfrm>
            <a:off x="228600" y="3352680"/>
            <a:ext cx="4191120" cy="29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ожение для принят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нечных ванн -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ёжа, ногами к солнцу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льзя забыва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защите голов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Oval 10">
            <a:hlinkClick r:id="rId4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Картинка 12 из 3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Картинка 13 из 21391"/>
          <p:cNvPicPr/>
          <p:nvPr/>
        </p:nvPicPr>
        <p:blipFill>
          <a:blip r:embed="rId2"/>
          <a:stretch/>
        </p:blipFill>
        <p:spPr>
          <a:xfrm>
            <a:off x="228600" y="304920"/>
            <a:ext cx="3809880" cy="3809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2" name="Picture 7" descr="Картинка 13 из 798"/>
          <p:cNvPicPr/>
          <p:nvPr/>
        </p:nvPicPr>
        <p:blipFill>
          <a:blip r:embed="rId3"/>
          <a:stretch/>
        </p:blipFill>
        <p:spPr>
          <a:xfrm>
            <a:off x="3581280" y="3124080"/>
            <a:ext cx="5305680" cy="3533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73" name="WordArt 9"/>
          <p:cNvSpPr txBox="1"/>
          <p:nvPr/>
        </p:nvSpPr>
        <p:spPr>
          <a:xfrm>
            <a:off x="4191120" y="1143000"/>
            <a:ext cx="464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открытом воздух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время прогуло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Oval 10">
            <a:hlinkClick r:id="rId4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Картинка 12 из 3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Картинка 1 из 3097"/>
          <p:cNvPicPr/>
          <p:nvPr/>
        </p:nvPicPr>
        <p:blipFill>
          <a:blip r:embed="rId2"/>
          <a:stretch/>
        </p:blipFill>
        <p:spPr>
          <a:xfrm>
            <a:off x="304920" y="990720"/>
            <a:ext cx="5076720" cy="3400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7" name="Picture 7" descr="Картинка 13 из 2033"/>
          <p:cNvPicPr/>
          <p:nvPr/>
        </p:nvPicPr>
        <p:blipFill>
          <a:blip r:embed="rId3"/>
          <a:stretch/>
        </p:blipFill>
        <p:spPr>
          <a:xfrm>
            <a:off x="3581280" y="3352680"/>
            <a:ext cx="5077080" cy="3343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78" name="WordArt 9"/>
          <p:cNvSpPr txBox="1"/>
          <p:nvPr/>
        </p:nvSpPr>
        <p:spPr>
          <a:xfrm>
            <a:off x="5562720" y="1219320"/>
            <a:ext cx="32763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время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ятий спортом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Oval 10">
            <a:hlinkClick r:id="rId4" action="ppaction://hlinksldjump"/>
          </p:cNvPr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22-11-30T17:19:0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