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19.wmf" ContentType="image/x-wmf"/>
  <Override PartName="/ppt/media/image17.wmf" ContentType="image/x-wmf"/>
  <Override PartName="/ppt/media/image16.wmf" ContentType="image/x-wmf"/>
  <Override PartName="/ppt/media/image15.jpeg" ContentType="image/jpeg"/>
  <Override PartName="/ppt/media/image28.jpeg" ContentType="image/jpeg"/>
  <Override PartName="/ppt/media/image7.jpeg" ContentType="image/jpeg"/>
  <Override PartName="/ppt/media/image29.jpeg" ContentType="image/jpeg"/>
  <Override PartName="/ppt/media/image8.jpeg" ContentType="image/jpeg"/>
  <Override PartName="/ppt/media/image35.jpeg" ContentType="image/jpeg"/>
  <Override PartName="/ppt/media/image14.png" ContentType="image/png"/>
  <Override PartName="/ppt/media/image10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png" ContentType="image/png"/>
  <Override PartName="/ppt/media/image13.png" ContentType="image/png"/>
  <Override PartName="/ppt/media/image36.jpeg" ContentType="image/jpeg"/>
  <Override PartName="/ppt/media/image18.wmf" ContentType="image/x-wmf"/>
  <Override PartName="/ppt/media/image2.jpeg" ContentType="image/jpeg"/>
  <Override PartName="/ppt/media/image12.png" ContentType="image/png"/>
  <Override PartName="/ppt/media/image23.jpeg" ContentType="image/jpe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2080-E4A5-448A-BB0C-D59FF9F65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818D-12EF-452E-A01F-1F6509F42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93DB-97BE-42FE-A35C-0EF7E1511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302F-DA48-4C16-B2DA-51C32EC51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EAAC-20EF-45BB-AD7C-57B28679A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B9BF-0E97-49FF-97DB-28659AE7B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E2C3-E858-4FB8-ABFC-070D03389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0455-D912-4E48-8162-FE80C5A85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E551-BED0-4B4A-98D1-C09233745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93CF-BF05-496E-9742-12C8E3AE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B971-24BE-40D7-8075-8CD56483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5245-7E1A-4674-BF9D-274948DE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58970-F582-4302-AF02-530587FE14D5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32D98AF-A671-4846-A897-03D932D8B77E}" type="datetime10">
              <a:rPr b="0" lang="ru-RU" sz="1400" spc="-1" strike="noStrike">
                <a:solidFill>
                  <a:srgbClr val="000000"/>
                </a:solidFill>
                <a:latin typeface="Arial"/>
              </a:rPr>
              <a:t>22:3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втор КАПИТУЛА В.П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DC190-7F3B-47B0-A3D8-829C62805D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pst.sampo.ru/" TargetMode="External"/><Relationship Id="rId3" Type="http://schemas.openxmlformats.org/officeDocument/2006/relationships/image" Target="../media/image3.jpeg"/><Relationship Id="rId4" Type="http://schemas.openxmlformats.org/officeDocument/2006/relationships/hyperlink" Target="file:///../&#1069;&#1051;&#1045;&#1050;&#1058;&#1056;&#1054;&#1053;&#1053;&#1054;&#1045;%20&#1059;&#1063;&#1045;&#1041;&#1053;&#1054;&#1045;%20&#1055;&#1054;&#1057;&#1054;&#1041;&#1048;&#1045;.ppt" TargetMode="External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9.xm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14.png"/><Relationship Id="rId3" Type="http://schemas.openxmlformats.org/officeDocument/2006/relationships/slide" Target="slide12.xml"/><Relationship Id="rId4" Type="http://schemas.openxmlformats.org/officeDocument/2006/relationships/image" Target="../media/image14.png"/><Relationship Id="rId5" Type="http://schemas.openxmlformats.org/officeDocument/2006/relationships/slide" Target="slide14.xml"/><Relationship Id="rId6" Type="http://schemas.openxmlformats.org/officeDocument/2006/relationships/image" Target="../media/image14.png"/><Relationship Id="rId7" Type="http://schemas.openxmlformats.org/officeDocument/2006/relationships/slide" Target="slide12.xml"/><Relationship Id="rId8" Type="http://schemas.openxmlformats.org/officeDocument/2006/relationships/slide" Target="slide13.xml"/><Relationship Id="rId9" Type="http://schemas.openxmlformats.org/officeDocument/2006/relationships/slide" Target="slide14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2.xml"/><Relationship Id="rId14" Type="http://schemas.openxmlformats.org/officeDocument/2006/relationships/image" Target="../media/image15.jpeg"/><Relationship Id="rId15" Type="http://schemas.openxmlformats.org/officeDocument/2006/relationships/image" Target="../media/image15.jpeg"/><Relationship Id="rId16" Type="http://schemas.openxmlformats.org/officeDocument/2006/relationships/image" Target="../media/image15.jpeg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" Target="slide11.xml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8.xml"/><Relationship Id="rId3" Type="http://schemas.openxmlformats.org/officeDocument/2006/relationships/slide" Target="slide19.xml"/><Relationship Id="rId4" Type="http://schemas.openxmlformats.org/officeDocument/2006/relationships/slide" Target="slide16.xml"/><Relationship Id="rId5" Type="http://schemas.openxmlformats.org/officeDocument/2006/relationships/slide" Target="slide16.xml"/><Relationship Id="rId6" Type="http://schemas.openxmlformats.org/officeDocument/2006/relationships/slide" Target="slide18.xml"/><Relationship Id="rId7" Type="http://schemas.openxmlformats.org/officeDocument/2006/relationships/slide" Target="slide19.xml"/><Relationship Id="rId8" Type="http://schemas.openxmlformats.org/officeDocument/2006/relationships/slide" Target="slide17.xml"/><Relationship Id="rId9" Type="http://schemas.openxmlformats.org/officeDocument/2006/relationships/slide" Target="slide2.xml"/><Relationship Id="rId10" Type="http://schemas.openxmlformats.org/officeDocument/2006/relationships/slide" Target="slide39.xml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1.xml"/><Relationship Id="rId3" Type="http://schemas.openxmlformats.org/officeDocument/2006/relationships/slide" Target="slide20.xml"/><Relationship Id="rId4" Type="http://schemas.openxmlformats.org/officeDocument/2006/relationships/slide" Target="slide27.xml"/><Relationship Id="rId5" Type="http://schemas.openxmlformats.org/officeDocument/2006/relationships/slide" Target="slide32.xml"/><Relationship Id="rId6" Type="http://schemas.openxmlformats.org/officeDocument/2006/relationships/slide" Target="slide39.xml"/><Relationship Id="rId7" Type="http://schemas.openxmlformats.org/officeDocument/2006/relationships/slide" Target="slide39.xml"/><Relationship Id="rId8" Type="http://schemas.openxmlformats.org/officeDocument/2006/relationships/slide" Target="slide39.xml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8560" y="1844640"/>
            <a:ext cx="878508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Тема: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 Организация аварийно-спасательных 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и других неотложных работ в зонах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чрезвычайных ситуаций (АСДНР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360" y="4581000"/>
            <a:ext cx="7191360" cy="15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обенности проведения АСДНР на территории, зараженной (загрязненной) радиоактивными и отравляющими (аварийно - химически опасными) веществами, а также при стихийных бедств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Петрозаводский Строительный Техникум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101080" y="-531720"/>
            <a:ext cx="125892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24">
            <a:hlinkClick r:id="" action="ppaction://hlinkshowjump?jump=endshow"/>
          </p:cNvPr>
          <p:cNvSpPr/>
          <p:nvPr/>
        </p:nvSpPr>
        <p:spPr>
          <a:xfrm>
            <a:off x="6227640" y="5950080"/>
            <a:ext cx="1332000" cy="576000"/>
          </a:xfrm>
          <a:custGeom>
            <a:avLst/>
            <a:gdLst>
              <a:gd name="textAreaLeft" fmla="*/ 37080 w 1332000"/>
              <a:gd name="textAreaRight" fmla="*/ 1294920 w 133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49932" h="21600">
                <a:moveTo>
                  <a:pt x="0" y="0"/>
                </a:moveTo>
                <a:lnTo>
                  <a:pt x="49932" y="0"/>
                </a:lnTo>
                <a:lnTo>
                  <a:pt x="49932" y="21600"/>
                </a:lnTo>
                <a:lnTo>
                  <a:pt x="0" y="21600"/>
                </a:lnTo>
                <a:close/>
              </a:path>
              <a:path fill="lightenLess" w="49932" h="21600">
                <a:moveTo>
                  <a:pt x="0" y="0"/>
                </a:moveTo>
                <a:lnTo>
                  <a:pt x="49932" y="0"/>
                </a:lnTo>
                <a:lnTo>
                  <a:pt x="48532" y="1400"/>
                </a:lnTo>
                <a:lnTo>
                  <a:pt x="1400" y="1400"/>
                </a:lnTo>
                <a:close/>
              </a:path>
              <a:path fill="darken" w="49932" h="21600">
                <a:moveTo>
                  <a:pt x="49932" y="0"/>
                </a:moveTo>
                <a:lnTo>
                  <a:pt x="49932" y="21600"/>
                </a:lnTo>
                <a:lnTo>
                  <a:pt x="48532" y="20200"/>
                </a:lnTo>
                <a:lnTo>
                  <a:pt x="48532" y="1400"/>
                </a:lnTo>
                <a:close/>
              </a:path>
              <a:path fill="darkenLess" w="49932" h="21600">
                <a:moveTo>
                  <a:pt x="499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532" y="20200"/>
                </a:lnTo>
                <a:close/>
              </a:path>
              <a:path fill="lighten" w="499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63300"/>
              </a:gs>
              <a:gs pos="50000">
                <a:srgbClr val="996600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ыход</a:t>
            </a:r>
            <a:r>
              <a:rPr b="1" lang="ru-RU" sz="3200" spc="-1" strike="noStrike">
                <a:solidFill>
                  <a:srgbClr val="ffff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25"/>
          <p:cNvGrpSpPr/>
          <p:nvPr/>
        </p:nvGrpSpPr>
        <p:grpSpPr>
          <a:xfrm>
            <a:off x="7669440" y="5589720"/>
            <a:ext cx="1294920" cy="912600"/>
            <a:chOff x="7669440" y="5589720"/>
            <a:chExt cx="1294920" cy="912600"/>
          </a:xfrm>
        </p:grpSpPr>
        <p:sp>
          <p:nvSpPr>
            <p:cNvPr id="46" name="AutoShape 26">
              <a:hlinkClick r:id="rId4"/>
            </p:cNvPr>
            <p:cNvSpPr/>
            <p:nvPr/>
          </p:nvSpPr>
          <p:spPr>
            <a:xfrm>
              <a:off x="7709040" y="5589720"/>
              <a:ext cx="1184040" cy="912600"/>
            </a:xfrm>
            <a:custGeom>
              <a:avLst/>
              <a:gdLst>
                <a:gd name="textAreaLeft" fmla="*/ 59040 w 1184040"/>
                <a:gd name="textAreaRight" fmla="*/ 1125000 w 1184040"/>
                <a:gd name="textAreaTop" fmla="*/ 59040 h 912600"/>
                <a:gd name="textAreaBottom" fmla="*/ 853560 h 912600"/>
              </a:gdLst>
              <a:ahLst/>
              <a:rect l="textAreaLeft" t="textAreaTop" r="textAreaRight" b="textAreaBottom"/>
              <a:pathLst>
                <a:path w="28022" h="21600">
                  <a:moveTo>
                    <a:pt x="0" y="0"/>
                  </a:moveTo>
                  <a:lnTo>
                    <a:pt x="28022" y="0"/>
                  </a:lnTo>
                  <a:lnTo>
                    <a:pt x="28022" y="21600"/>
                  </a:lnTo>
                  <a:lnTo>
                    <a:pt x="0" y="21600"/>
                  </a:lnTo>
                  <a:close/>
                </a:path>
                <a:path fill="lightenLess" w="28022" h="21600">
                  <a:moveTo>
                    <a:pt x="0" y="0"/>
                  </a:moveTo>
                  <a:lnTo>
                    <a:pt x="28022" y="0"/>
                  </a:lnTo>
                  <a:lnTo>
                    <a:pt x="26622" y="1400"/>
                  </a:lnTo>
                  <a:lnTo>
                    <a:pt x="1400" y="1400"/>
                  </a:lnTo>
                  <a:close/>
                </a:path>
                <a:path fill="darken" w="28022" h="21600">
                  <a:moveTo>
                    <a:pt x="28022" y="0"/>
                  </a:moveTo>
                  <a:lnTo>
                    <a:pt x="28022" y="21600"/>
                  </a:lnTo>
                  <a:lnTo>
                    <a:pt x="26622" y="20200"/>
                  </a:lnTo>
                  <a:lnTo>
                    <a:pt x="26622" y="1400"/>
                  </a:lnTo>
                  <a:close/>
                </a:path>
                <a:path fill="darkenLess" w="28022" h="21600">
                  <a:moveTo>
                    <a:pt x="2802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622" y="20200"/>
                  </a:lnTo>
                  <a:close/>
                </a:path>
                <a:path fill="lighten" w="2802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022" h="21600">
                  <a:moveTo>
                    <a:pt x="14011" y="3837"/>
                  </a:moveTo>
                  <a:lnTo>
                    <a:pt x="16587" y="6448"/>
                  </a:lnTo>
                  <a:lnTo>
                    <a:pt x="16587" y="4707"/>
                  </a:lnTo>
                  <a:lnTo>
                    <a:pt x="18363" y="4707"/>
                  </a:lnTo>
                  <a:lnTo>
                    <a:pt x="18363" y="8224"/>
                  </a:lnTo>
                  <a:lnTo>
                    <a:pt x="20974" y="10800"/>
                  </a:lnTo>
                  <a:lnTo>
                    <a:pt x="19320" y="10800"/>
                  </a:lnTo>
                  <a:lnTo>
                    <a:pt x="19320" y="17989"/>
                  </a:lnTo>
                  <a:lnTo>
                    <a:pt x="8702" y="17989"/>
                  </a:lnTo>
                  <a:lnTo>
                    <a:pt x="8702" y="10800"/>
                  </a:lnTo>
                  <a:lnTo>
                    <a:pt x="7048" y="10800"/>
                  </a:lnTo>
                  <a:close/>
                </a:path>
                <a:path fill="darkenLess" w="28022" h="21600">
                  <a:moveTo>
                    <a:pt x="16587" y="6448"/>
                  </a:moveTo>
                  <a:lnTo>
                    <a:pt x="16587" y="4707"/>
                  </a:lnTo>
                  <a:lnTo>
                    <a:pt x="18363" y="4707"/>
                  </a:lnTo>
                  <a:lnTo>
                    <a:pt x="18363" y="8224"/>
                  </a:lnTo>
                  <a:close/>
                </a:path>
                <a:path fill="darkenLess" w="28022" h="21600">
                  <a:moveTo>
                    <a:pt x="13088" y="14299"/>
                  </a:moveTo>
                  <a:lnTo>
                    <a:pt x="14934" y="14299"/>
                  </a:lnTo>
                  <a:lnTo>
                    <a:pt x="14934" y="17989"/>
                  </a:lnTo>
                  <a:lnTo>
                    <a:pt x="19320" y="17989"/>
                  </a:lnTo>
                  <a:lnTo>
                    <a:pt x="19320" y="10800"/>
                  </a:lnTo>
                  <a:lnTo>
                    <a:pt x="8702" y="10800"/>
                  </a:lnTo>
                  <a:lnTo>
                    <a:pt x="8702" y="17989"/>
                  </a:lnTo>
                  <a:lnTo>
                    <a:pt x="13088" y="17989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66ff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Text Box 27"/>
            <p:cNvSpPr/>
            <p:nvPr/>
          </p:nvSpPr>
          <p:spPr>
            <a:xfrm>
              <a:off x="7669440" y="6021360"/>
              <a:ext cx="129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00"/>
                  </a:solidFill>
                  <a:latin typeface="Arial"/>
                </a:rPr>
                <a:t>Раздел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69696"/>
            </a:gs>
            <a:gs pos="100000">
              <a:srgbClr val="dddddd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0" y="302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ДНР в очагах поражения включаю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0" y="549360"/>
            <a:ext cx="9144000" cy="59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ts val="2200"/>
              </a:lnSpc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кладывание колонных путей и устройство проходов в завалах и на зараженных участк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ts val="2200"/>
              </a:lnSpc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кализацию аварий на газовых, энергетических, водопроводных, канализационных и технологических сетях в целях создания условий для проведения спасательных рабо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ts val="2200"/>
              </a:lnSpc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репление или обрушение конструкций зданий и сооружений, угрожающих обвалом или препятствующих безопасному проведению спасательных рабо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ts val="2200"/>
              </a:lnSpc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монт и восстановление поврежденных и разрушенных линий связи и коммунально-энергетических сетей в целях обеспечения спасательных рабо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ts val="2200"/>
              </a:lnSpc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наружение, обезвреживание и уничтожение неразорвавшихся боеприпасов в обычном снаряжении и других взрывоопасных предме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ts val="2200"/>
              </a:lnSpc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монт и восстановление поврежденных защитных сооруж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ts val="2200"/>
              </a:lnSpc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нитарная очистка территории в зоне Ч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ts val="2200"/>
              </a:lnSpc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бор материальных ценнос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ts val="2200"/>
              </a:lnSpc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 условий, минимально необходимых для сохранения жизни и здоровья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1">
            <a:hlinkClick r:id="rId1" action="ppaction://hlinksldjump"/>
          </p:cNvPr>
          <p:cNvSpPr/>
          <p:nvPr/>
        </p:nvSpPr>
        <p:spPr>
          <a:xfrm rot="5400000">
            <a:off x="8203680" y="5918040"/>
            <a:ext cx="620640" cy="1258920"/>
          </a:xfrm>
          <a:custGeom>
            <a:avLst/>
            <a:gdLst>
              <a:gd name="textAreaLeft" fmla="*/ 39960 w 620640"/>
              <a:gd name="textAreaRight" fmla="*/ 580680 w 620640"/>
              <a:gd name="textAreaTop" fmla="*/ 39960 h 1258920"/>
              <a:gd name="textAreaBottom" fmla="*/ 1218960 h 1258920"/>
            </a:gdLst>
            <a:ahLst/>
            <a:rect l="textAreaLeft" t="textAreaTop" r="textAreaRight" b="textAreaBottom"/>
            <a:pathLst>
              <a:path w="21600" h="43801">
                <a:moveTo>
                  <a:pt x="0" y="0"/>
                </a:moveTo>
                <a:lnTo>
                  <a:pt x="21600" y="0"/>
                </a:lnTo>
                <a:lnTo>
                  <a:pt x="21600" y="43801"/>
                </a:lnTo>
                <a:lnTo>
                  <a:pt x="0" y="43801"/>
                </a:lnTo>
                <a:close/>
              </a:path>
              <a:path fill="lightenLess" w="21600" h="4380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801">
                <a:moveTo>
                  <a:pt x="21600" y="0"/>
                </a:moveTo>
                <a:lnTo>
                  <a:pt x="21600" y="43801"/>
                </a:lnTo>
                <a:lnTo>
                  <a:pt x="20200" y="42401"/>
                </a:lnTo>
                <a:lnTo>
                  <a:pt x="20200" y="1400"/>
                </a:lnTo>
                <a:close/>
              </a:path>
              <a:path fill="darkenLess" w="21600" h="43801">
                <a:moveTo>
                  <a:pt x="21600" y="43801"/>
                </a:moveTo>
                <a:lnTo>
                  <a:pt x="0" y="43801"/>
                </a:lnTo>
                <a:lnTo>
                  <a:pt x="1400" y="42401"/>
                </a:lnTo>
                <a:lnTo>
                  <a:pt x="20200" y="42401"/>
                </a:lnTo>
                <a:close/>
              </a:path>
              <a:path fill="lighten" w="21600" h="43801">
                <a:moveTo>
                  <a:pt x="0" y="43801"/>
                </a:moveTo>
                <a:lnTo>
                  <a:pt x="0" y="0"/>
                </a:lnTo>
                <a:lnTo>
                  <a:pt x="1400" y="1400"/>
                </a:lnTo>
                <a:lnTo>
                  <a:pt x="1400" y="42401"/>
                </a:lnTo>
                <a:close/>
              </a:path>
              <a:path fill="darken" w="21600" h="43801">
                <a:moveTo>
                  <a:pt x="3794" y="14894"/>
                </a:moveTo>
                <a:lnTo>
                  <a:pt x="17806" y="21901"/>
                </a:lnTo>
                <a:lnTo>
                  <a:pt x="3794" y="28907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2" descr="Копия 06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093080" y="6318360"/>
            <a:ext cx="52200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500"/>
                            </p:stCondLst>
                            <p:childTnLst>
                              <p:par>
                                <p:cTn id="416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69696"/>
            </a:gs>
            <a:gs pos="100000">
              <a:srgbClr val="dddddd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апы проведения аварийно-спасательных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других неотложных раб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0" y="15228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6">
            <a:hlinkClick r:id="rId1" action="ppaction://hlinksldjump"/>
          </p:cNvPr>
          <p:cNvSpPr/>
          <p:nvPr/>
        </p:nvSpPr>
        <p:spPr>
          <a:xfrm>
            <a:off x="76320" y="3276720"/>
            <a:ext cx="2057400" cy="83808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II эт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7">
            <a:hlinkClick r:id="rId3" action="ppaction://hlinksldjump"/>
          </p:cNvPr>
          <p:cNvSpPr/>
          <p:nvPr/>
        </p:nvSpPr>
        <p:spPr>
          <a:xfrm>
            <a:off x="76320" y="1600200"/>
            <a:ext cx="2057400" cy="83808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I эт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2971800" y="1295280"/>
            <a:ext cx="6095880" cy="137160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50000">
                <a:srgbClr val="99ff33"/>
              </a:gs>
              <a:gs pos="100000">
                <a:srgbClr val="00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0">
            <a:hlinkClick r:id="rId5" action="ppaction://hlinksldjump"/>
          </p:cNvPr>
          <p:cNvSpPr/>
          <p:nvPr/>
        </p:nvSpPr>
        <p:spPr>
          <a:xfrm>
            <a:off x="76320" y="4876920"/>
            <a:ext cx="2057400" cy="838080"/>
          </a:xfrm>
          <a:prstGeom prst="beve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III эт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2">
            <a:hlinkClick r:id="rId7" action="ppaction://hlinksldjump"/>
          </p:cNvPr>
          <p:cNvSpPr/>
          <p:nvPr/>
        </p:nvSpPr>
        <p:spPr>
          <a:xfrm>
            <a:off x="3144960" y="1268280"/>
            <a:ext cx="59436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ведение мероприятий по экстренной защите и спасению населения, подготовке сил и средств РСЧС к проведению АСДН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3"/>
          <p:cNvSpPr/>
          <p:nvPr/>
        </p:nvSpPr>
        <p:spPr>
          <a:xfrm>
            <a:off x="2971800" y="2971800"/>
            <a:ext cx="6095880" cy="137160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50000">
                <a:srgbClr val="99ff33"/>
              </a:gs>
              <a:gs pos="100000">
                <a:srgbClr val="00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4">
            <a:hlinkClick r:id="rId8" action="ppaction://hlinksldjump"/>
          </p:cNvPr>
          <p:cNvSpPr/>
          <p:nvPr/>
        </p:nvSpPr>
        <p:spPr>
          <a:xfrm>
            <a:off x="3144960" y="3141720"/>
            <a:ext cx="59436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ведение крупномасштабных  аварийно-спасательных и других неотложных работ в зонах Ч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5">
            <a:hlinkClick r:id="rId9" action="ppaction://hlinksldjump"/>
          </p:cNvPr>
          <p:cNvSpPr/>
          <p:nvPr/>
        </p:nvSpPr>
        <p:spPr>
          <a:xfrm>
            <a:off x="2916360" y="4648320"/>
            <a:ext cx="6095880" cy="137160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50000">
                <a:srgbClr val="99ff33"/>
              </a:gs>
              <a:gs pos="100000">
                <a:srgbClr val="00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6"/>
          <p:cNvSpPr/>
          <p:nvPr/>
        </p:nvSpPr>
        <p:spPr>
          <a:xfrm>
            <a:off x="3048120" y="5029200"/>
            <a:ext cx="46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квидация последствий Ч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9">
            <a:hlinkClick r:id="rId10" action="ppaction://hlinksldjump"/>
          </p:cNvPr>
          <p:cNvSpPr/>
          <p:nvPr/>
        </p:nvSpPr>
        <p:spPr>
          <a:xfrm>
            <a:off x="8101080" y="2276640"/>
            <a:ext cx="826920" cy="360360"/>
          </a:xfrm>
          <a:custGeom>
            <a:avLst/>
            <a:gdLst>
              <a:gd name="textAreaLeft" fmla="*/ 23040 w 826920"/>
              <a:gd name="textAreaRight" fmla="*/ 803880 w 826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9538" h="21600">
                <a:moveTo>
                  <a:pt x="0" y="0"/>
                </a:moveTo>
                <a:lnTo>
                  <a:pt x="49538" y="0"/>
                </a:lnTo>
                <a:lnTo>
                  <a:pt x="49538" y="21600"/>
                </a:lnTo>
                <a:lnTo>
                  <a:pt x="0" y="21600"/>
                </a:lnTo>
                <a:close/>
              </a:path>
              <a:path fill="lightenLess" w="49538" h="21600">
                <a:moveTo>
                  <a:pt x="0" y="0"/>
                </a:moveTo>
                <a:lnTo>
                  <a:pt x="49538" y="0"/>
                </a:lnTo>
                <a:lnTo>
                  <a:pt x="48138" y="1400"/>
                </a:lnTo>
                <a:lnTo>
                  <a:pt x="1400" y="1400"/>
                </a:lnTo>
                <a:close/>
              </a:path>
              <a:path fill="darken" w="49538" h="21600">
                <a:moveTo>
                  <a:pt x="49538" y="0"/>
                </a:moveTo>
                <a:lnTo>
                  <a:pt x="49538" y="21600"/>
                </a:lnTo>
                <a:lnTo>
                  <a:pt x="48138" y="20200"/>
                </a:lnTo>
                <a:lnTo>
                  <a:pt x="48138" y="1400"/>
                </a:lnTo>
                <a:close/>
              </a:path>
              <a:path fill="darkenLess" w="49538" h="21600">
                <a:moveTo>
                  <a:pt x="49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138" y="20200"/>
                </a:lnTo>
                <a:close/>
              </a:path>
              <a:path fill="lighten" w="49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538" h="21600">
                <a:moveTo>
                  <a:pt x="17762" y="3794"/>
                </a:moveTo>
                <a:lnTo>
                  <a:pt x="31775" y="10800"/>
                </a:lnTo>
                <a:lnTo>
                  <a:pt x="17762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20">
            <a:hlinkClick r:id="rId11" action="ppaction://hlinksldjump"/>
          </p:cNvPr>
          <p:cNvSpPr/>
          <p:nvPr/>
        </p:nvSpPr>
        <p:spPr>
          <a:xfrm>
            <a:off x="8101080" y="3933720"/>
            <a:ext cx="826920" cy="360360"/>
          </a:xfrm>
          <a:custGeom>
            <a:avLst/>
            <a:gdLst>
              <a:gd name="textAreaLeft" fmla="*/ 23040 w 826920"/>
              <a:gd name="textAreaRight" fmla="*/ 803880 w 826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9538" h="21600">
                <a:moveTo>
                  <a:pt x="0" y="0"/>
                </a:moveTo>
                <a:lnTo>
                  <a:pt x="49538" y="0"/>
                </a:lnTo>
                <a:lnTo>
                  <a:pt x="49538" y="21600"/>
                </a:lnTo>
                <a:lnTo>
                  <a:pt x="0" y="21600"/>
                </a:lnTo>
                <a:close/>
              </a:path>
              <a:path fill="lightenLess" w="49538" h="21600">
                <a:moveTo>
                  <a:pt x="0" y="0"/>
                </a:moveTo>
                <a:lnTo>
                  <a:pt x="49538" y="0"/>
                </a:lnTo>
                <a:lnTo>
                  <a:pt x="48138" y="1400"/>
                </a:lnTo>
                <a:lnTo>
                  <a:pt x="1400" y="1400"/>
                </a:lnTo>
                <a:close/>
              </a:path>
              <a:path fill="darken" w="49538" h="21600">
                <a:moveTo>
                  <a:pt x="49538" y="0"/>
                </a:moveTo>
                <a:lnTo>
                  <a:pt x="49538" y="21600"/>
                </a:lnTo>
                <a:lnTo>
                  <a:pt x="48138" y="20200"/>
                </a:lnTo>
                <a:lnTo>
                  <a:pt x="48138" y="1400"/>
                </a:lnTo>
                <a:close/>
              </a:path>
              <a:path fill="darkenLess" w="49538" h="21600">
                <a:moveTo>
                  <a:pt x="49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138" y="20200"/>
                </a:lnTo>
                <a:close/>
              </a:path>
              <a:path fill="lighten" w="49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538" h="21600">
                <a:moveTo>
                  <a:pt x="17762" y="3794"/>
                </a:moveTo>
                <a:lnTo>
                  <a:pt x="31775" y="10800"/>
                </a:lnTo>
                <a:lnTo>
                  <a:pt x="17762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21">
            <a:hlinkClick r:id="rId12" action="ppaction://hlinksldjump"/>
          </p:cNvPr>
          <p:cNvSpPr/>
          <p:nvPr/>
        </p:nvSpPr>
        <p:spPr>
          <a:xfrm>
            <a:off x="8101080" y="5589720"/>
            <a:ext cx="826920" cy="360360"/>
          </a:xfrm>
          <a:custGeom>
            <a:avLst/>
            <a:gdLst>
              <a:gd name="textAreaLeft" fmla="*/ 23040 w 826920"/>
              <a:gd name="textAreaRight" fmla="*/ 803880 w 826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9538" h="21600">
                <a:moveTo>
                  <a:pt x="0" y="0"/>
                </a:moveTo>
                <a:lnTo>
                  <a:pt x="49538" y="0"/>
                </a:lnTo>
                <a:lnTo>
                  <a:pt x="49538" y="21600"/>
                </a:lnTo>
                <a:lnTo>
                  <a:pt x="0" y="21600"/>
                </a:lnTo>
                <a:close/>
              </a:path>
              <a:path fill="lightenLess" w="49538" h="21600">
                <a:moveTo>
                  <a:pt x="0" y="0"/>
                </a:moveTo>
                <a:lnTo>
                  <a:pt x="49538" y="0"/>
                </a:lnTo>
                <a:lnTo>
                  <a:pt x="48138" y="1400"/>
                </a:lnTo>
                <a:lnTo>
                  <a:pt x="1400" y="1400"/>
                </a:lnTo>
                <a:close/>
              </a:path>
              <a:path fill="darken" w="49538" h="21600">
                <a:moveTo>
                  <a:pt x="49538" y="0"/>
                </a:moveTo>
                <a:lnTo>
                  <a:pt x="49538" y="21600"/>
                </a:lnTo>
                <a:lnTo>
                  <a:pt x="48138" y="20200"/>
                </a:lnTo>
                <a:lnTo>
                  <a:pt x="48138" y="1400"/>
                </a:lnTo>
                <a:close/>
              </a:path>
              <a:path fill="darkenLess" w="49538" h="21600">
                <a:moveTo>
                  <a:pt x="49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138" y="20200"/>
                </a:lnTo>
                <a:close/>
              </a:path>
              <a:path fill="lighten" w="49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538" h="21600">
                <a:moveTo>
                  <a:pt x="17762" y="3794"/>
                </a:moveTo>
                <a:lnTo>
                  <a:pt x="31775" y="10800"/>
                </a:lnTo>
                <a:lnTo>
                  <a:pt x="17762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22">
            <a:hlinkClick r:id="rId13" action="ppaction://hlinksldjump"/>
          </p:cNvPr>
          <p:cNvSpPr/>
          <p:nvPr/>
        </p:nvSpPr>
        <p:spPr>
          <a:xfrm rot="5400000">
            <a:off x="8203680" y="5918040"/>
            <a:ext cx="620640" cy="1258920"/>
          </a:xfrm>
          <a:custGeom>
            <a:avLst/>
            <a:gdLst>
              <a:gd name="textAreaLeft" fmla="*/ 39960 w 620640"/>
              <a:gd name="textAreaRight" fmla="*/ 580680 w 620640"/>
              <a:gd name="textAreaTop" fmla="*/ 39960 h 1258920"/>
              <a:gd name="textAreaBottom" fmla="*/ 1218960 h 1258920"/>
            </a:gdLst>
            <a:ahLst/>
            <a:rect l="textAreaLeft" t="textAreaTop" r="textAreaRight" b="textAreaBottom"/>
            <a:pathLst>
              <a:path w="21600" h="43801">
                <a:moveTo>
                  <a:pt x="0" y="0"/>
                </a:moveTo>
                <a:lnTo>
                  <a:pt x="21600" y="0"/>
                </a:lnTo>
                <a:lnTo>
                  <a:pt x="21600" y="43801"/>
                </a:lnTo>
                <a:lnTo>
                  <a:pt x="0" y="43801"/>
                </a:lnTo>
                <a:close/>
              </a:path>
              <a:path fill="lightenLess" w="21600" h="4380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801">
                <a:moveTo>
                  <a:pt x="21600" y="0"/>
                </a:moveTo>
                <a:lnTo>
                  <a:pt x="21600" y="43801"/>
                </a:lnTo>
                <a:lnTo>
                  <a:pt x="20200" y="42401"/>
                </a:lnTo>
                <a:lnTo>
                  <a:pt x="20200" y="1400"/>
                </a:lnTo>
                <a:close/>
              </a:path>
              <a:path fill="darkenLess" w="21600" h="43801">
                <a:moveTo>
                  <a:pt x="21600" y="43801"/>
                </a:moveTo>
                <a:lnTo>
                  <a:pt x="0" y="43801"/>
                </a:lnTo>
                <a:lnTo>
                  <a:pt x="1400" y="42401"/>
                </a:lnTo>
                <a:lnTo>
                  <a:pt x="20200" y="42401"/>
                </a:lnTo>
                <a:close/>
              </a:path>
              <a:path fill="lighten" w="21600" h="43801">
                <a:moveTo>
                  <a:pt x="0" y="43801"/>
                </a:moveTo>
                <a:lnTo>
                  <a:pt x="0" y="0"/>
                </a:lnTo>
                <a:lnTo>
                  <a:pt x="1400" y="1400"/>
                </a:lnTo>
                <a:lnTo>
                  <a:pt x="1400" y="42401"/>
                </a:lnTo>
                <a:close/>
              </a:path>
              <a:path fill="darken" w="21600" h="43801">
                <a:moveTo>
                  <a:pt x="3794" y="14894"/>
                </a:moveTo>
                <a:lnTo>
                  <a:pt x="17806" y="21901"/>
                </a:lnTo>
                <a:lnTo>
                  <a:pt x="3794" y="28907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2124000" y="3413160"/>
            <a:ext cx="863640" cy="647640"/>
          </a:xfrm>
          <a:custGeom>
            <a:avLst/>
            <a:gdLst>
              <a:gd name="textAreaLeft" fmla="*/ 135000 w 863640"/>
              <a:gd name="textAreaRight" fmla="*/ 756000 w 86364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8"/>
          <p:cNvSpPr/>
          <p:nvPr/>
        </p:nvSpPr>
        <p:spPr>
          <a:xfrm>
            <a:off x="2124000" y="1736640"/>
            <a:ext cx="863640" cy="647640"/>
          </a:xfrm>
          <a:custGeom>
            <a:avLst/>
            <a:gdLst>
              <a:gd name="textAreaLeft" fmla="*/ 135000 w 863640"/>
              <a:gd name="textAreaRight" fmla="*/ 756000 w 86364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1"/>
          <p:cNvSpPr/>
          <p:nvPr/>
        </p:nvSpPr>
        <p:spPr>
          <a:xfrm>
            <a:off x="2124000" y="5013360"/>
            <a:ext cx="863640" cy="647640"/>
          </a:xfrm>
          <a:custGeom>
            <a:avLst/>
            <a:gdLst>
              <a:gd name="textAreaLeft" fmla="*/ 135000 w 863640"/>
              <a:gd name="textAreaRight" fmla="*/ 756000 w 86364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24"/>
          <p:cNvSpPr/>
          <p:nvPr/>
        </p:nvSpPr>
        <p:spPr>
          <a:xfrm>
            <a:off x="395280" y="5877000"/>
            <a:ext cx="576360" cy="72072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720720"/>
              <a:gd name="textAreaBottom" fmla="*/ 683640 h 720720"/>
            </a:gdLst>
            <a:ahLst/>
            <a:rect l="textAreaLeft" t="textAreaTop" r="textAreaRight" b="textAreaBottom"/>
            <a:pathLst>
              <a:path w="21600" h="27007">
                <a:moveTo>
                  <a:pt x="0" y="0"/>
                </a:moveTo>
                <a:lnTo>
                  <a:pt x="21600" y="0"/>
                </a:lnTo>
                <a:lnTo>
                  <a:pt x="21600" y="27007"/>
                </a:lnTo>
                <a:lnTo>
                  <a:pt x="0" y="27007"/>
                </a:lnTo>
                <a:close/>
              </a:path>
              <a:path fill="lightenLess" w="21600" h="270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7">
                <a:moveTo>
                  <a:pt x="21600" y="0"/>
                </a:moveTo>
                <a:lnTo>
                  <a:pt x="21600" y="27007"/>
                </a:lnTo>
                <a:lnTo>
                  <a:pt x="20200" y="25607"/>
                </a:lnTo>
                <a:lnTo>
                  <a:pt x="20200" y="1400"/>
                </a:lnTo>
                <a:close/>
              </a:path>
              <a:path fill="darkenLess" w="21600" h="27007">
                <a:moveTo>
                  <a:pt x="21600" y="27007"/>
                </a:moveTo>
                <a:lnTo>
                  <a:pt x="0" y="27007"/>
                </a:lnTo>
                <a:lnTo>
                  <a:pt x="1400" y="25607"/>
                </a:lnTo>
                <a:lnTo>
                  <a:pt x="20200" y="25607"/>
                </a:lnTo>
                <a:close/>
              </a:path>
              <a:path fill="lighten" w="21600" h="27007">
                <a:moveTo>
                  <a:pt x="0" y="270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7"/>
                </a:lnTo>
                <a:close/>
              </a:path>
              <a:path fill="darkenLess" w="21600" h="27007">
                <a:moveTo>
                  <a:pt x="5273" y="6688"/>
                </a:moveTo>
                <a:lnTo>
                  <a:pt x="12271" y="6688"/>
                </a:lnTo>
                <a:lnTo>
                  <a:pt x="16327" y="10187"/>
                </a:lnTo>
                <a:lnTo>
                  <a:pt x="16327" y="20318"/>
                </a:lnTo>
                <a:lnTo>
                  <a:pt x="5273" y="20318"/>
                </a:lnTo>
                <a:close/>
              </a:path>
              <a:path fill="darken" w="21600" h="27007">
                <a:moveTo>
                  <a:pt x="12271" y="6688"/>
                </a:moveTo>
                <a:lnTo>
                  <a:pt x="16327" y="10187"/>
                </a:lnTo>
                <a:lnTo>
                  <a:pt x="12271" y="10187"/>
                </a:lnTo>
                <a:close/>
              </a:path>
            </a:pathLst>
          </a:custGeom>
          <a:gradFill rotWithShape="0">
            <a:gsLst>
              <a:gs pos="0">
                <a:srgbClr val="0099ff"/>
              </a:gs>
              <a:gs pos="50000">
                <a:srgbClr val="66ffff"/>
              </a:gs>
              <a:gs pos="100000">
                <a:srgbClr val="00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48" nodeType="afterEffect" fill="hold" presetClass="entr" presetID="2" presetSubtype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0"/>
                            </p:stCondLst>
                            <p:childTnLst>
                              <p:par>
                                <p:cTn id="45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500"/>
                            </p:stCondLst>
                            <p:childTnLst>
                              <p:par>
                                <p:cTn id="45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6000"/>
                            </p:stCondLst>
                            <p:childTnLst>
                              <p:par>
                                <p:cTn id="471" nodeType="afterEffect" fill="hold" presetClass="entr" presetID="2" presetSubtype="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9500"/>
                            </p:stCondLst>
                            <p:childTnLst>
                              <p:par>
                                <p:cTn id="476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0500"/>
                            </p:stCondLst>
                            <p:childTnLst>
                              <p:par>
                                <p:cTn id="493" nodeType="afterEffect" fill="hold" presetClass="entr" presetID="4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4000"/>
                            </p:stCondLst>
                            <p:childTnLst>
                              <p:par>
                                <p:cTn id="500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69696"/>
            </a:gs>
            <a:gs pos="100000">
              <a:srgbClr val="dddddd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0" y="166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I 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Object 5"/>
          <p:cNvGraphicFramePr/>
          <p:nvPr/>
        </p:nvGraphicFramePr>
        <p:xfrm>
          <a:off x="0" y="1066680"/>
          <a:ext cx="9144000" cy="480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6680"/>
                    <a:ext cx="9144000" cy="48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AutoShape 10">
            <a:hlinkClick r:id="rId3" action="ppaction://hlinksldjump"/>
          </p:cNvPr>
          <p:cNvSpPr/>
          <p:nvPr/>
        </p:nvSpPr>
        <p:spPr>
          <a:xfrm>
            <a:off x="7812000" y="6165720"/>
            <a:ext cx="1008000" cy="466920"/>
          </a:xfrm>
          <a:custGeom>
            <a:avLst/>
            <a:gdLst>
              <a:gd name="textAreaLeft" fmla="*/ 30240 w 1008000"/>
              <a:gd name="textAreaRight" fmla="*/ 977760 w 100800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46611" h="21600">
                <a:moveTo>
                  <a:pt x="0" y="0"/>
                </a:moveTo>
                <a:lnTo>
                  <a:pt x="46611" y="0"/>
                </a:lnTo>
                <a:lnTo>
                  <a:pt x="46611" y="21600"/>
                </a:lnTo>
                <a:lnTo>
                  <a:pt x="0" y="21600"/>
                </a:lnTo>
                <a:close/>
              </a:path>
              <a:path fill="lightenLess" w="46611" h="21600">
                <a:moveTo>
                  <a:pt x="0" y="0"/>
                </a:moveTo>
                <a:lnTo>
                  <a:pt x="46611" y="0"/>
                </a:lnTo>
                <a:lnTo>
                  <a:pt x="45211" y="1400"/>
                </a:lnTo>
                <a:lnTo>
                  <a:pt x="1400" y="1400"/>
                </a:lnTo>
                <a:close/>
              </a:path>
              <a:path fill="darken" w="46611" h="21600">
                <a:moveTo>
                  <a:pt x="46611" y="0"/>
                </a:moveTo>
                <a:lnTo>
                  <a:pt x="46611" y="21600"/>
                </a:lnTo>
                <a:lnTo>
                  <a:pt x="45211" y="20200"/>
                </a:lnTo>
                <a:lnTo>
                  <a:pt x="45211" y="1400"/>
                </a:lnTo>
                <a:close/>
              </a:path>
              <a:path fill="darkenLess" w="46611" h="21600">
                <a:moveTo>
                  <a:pt x="46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11" y="20200"/>
                </a:lnTo>
                <a:close/>
              </a:path>
              <a:path fill="lighten" w="46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611" h="21600">
                <a:moveTo>
                  <a:pt x="16299" y="7493"/>
                </a:moveTo>
                <a:lnTo>
                  <a:pt x="19807" y="7493"/>
                </a:lnTo>
                <a:lnTo>
                  <a:pt x="19807" y="12828"/>
                </a:lnTo>
                <a:cubicBezTo>
                  <a:pt x="19807" y="13751"/>
                  <a:pt x="20608" y="14482"/>
                  <a:pt x="21643" y="14482"/>
                </a:cubicBezTo>
                <a:lnTo>
                  <a:pt x="23306" y="14482"/>
                </a:lnTo>
                <a:cubicBezTo>
                  <a:pt x="24341" y="14482"/>
                  <a:pt x="25142" y="13751"/>
                  <a:pt x="25142" y="12828"/>
                </a:cubicBezTo>
                <a:lnTo>
                  <a:pt x="25142" y="7493"/>
                </a:lnTo>
                <a:lnTo>
                  <a:pt x="23306" y="7493"/>
                </a:lnTo>
                <a:lnTo>
                  <a:pt x="26813" y="3985"/>
                </a:lnTo>
                <a:lnTo>
                  <a:pt x="30486" y="7493"/>
                </a:lnTo>
                <a:lnTo>
                  <a:pt x="28650" y="7493"/>
                </a:lnTo>
                <a:lnTo>
                  <a:pt x="28650" y="12828"/>
                </a:lnTo>
                <a:cubicBezTo>
                  <a:pt x="28650" y="15596"/>
                  <a:pt x="26073" y="18155"/>
                  <a:pt x="23306" y="18155"/>
                </a:cubicBezTo>
                <a:lnTo>
                  <a:pt x="21643" y="18155"/>
                </a:lnTo>
                <a:cubicBezTo>
                  <a:pt x="18876" y="18155"/>
                  <a:pt x="16299" y="15596"/>
                  <a:pt x="16299" y="12828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4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69696"/>
            </a:gs>
            <a:gs pos="100000">
              <a:srgbClr val="dddddd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I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I</a:t>
            </a: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  ЭТАП</a:t>
            </a:r>
            <a:br>
              <a:rPr sz="2000"/>
            </a:b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дновременно продолжается выполнение начатых н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этапе задач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23640" y="3500280"/>
            <a:ext cx="8134200" cy="31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СДНР считаются завершенными после окончания розыска пострадавших, оказания им медицинской и других видов помощи и ликвидации угрозы новых поражений и ущерба в результате последствий Ч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ле вывода основной части сил РСЧС в зоне ЧС остаются те формирования, которые выполняют специфические для них зада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Object 6"/>
          <p:cNvGraphicFramePr/>
          <p:nvPr/>
        </p:nvGraphicFramePr>
        <p:xfrm>
          <a:off x="0" y="1052640"/>
          <a:ext cx="9144000" cy="149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52640"/>
                    <a:ext cx="9144000" cy="14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Text Box 7"/>
          <p:cNvSpPr/>
          <p:nvPr/>
        </p:nvSpPr>
        <p:spPr>
          <a:xfrm>
            <a:off x="0" y="2781360"/>
            <a:ext cx="914400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ащивание группировки сил и средств РСЧС в районе ЧС осуществляется по мере их готов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6">
            <a:hlinkClick r:id="rId3" action="ppaction://hlinksldjump"/>
          </p:cNvPr>
          <p:cNvSpPr/>
          <p:nvPr/>
        </p:nvSpPr>
        <p:spPr>
          <a:xfrm>
            <a:off x="8207280" y="6165720"/>
            <a:ext cx="936720" cy="692280"/>
          </a:xfrm>
          <a:custGeom>
            <a:avLst/>
            <a:gdLst>
              <a:gd name="textAreaLeft" fmla="*/ 44640 w 936720"/>
              <a:gd name="textAreaRight" fmla="*/ 892080 w 9367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9223" h="21600">
                <a:moveTo>
                  <a:pt x="0" y="0"/>
                </a:moveTo>
                <a:lnTo>
                  <a:pt x="29223" y="0"/>
                </a:lnTo>
                <a:lnTo>
                  <a:pt x="29223" y="21600"/>
                </a:lnTo>
                <a:lnTo>
                  <a:pt x="0" y="21600"/>
                </a:lnTo>
                <a:close/>
              </a:path>
              <a:path fill="lightenLess" w="29223" h="21600">
                <a:moveTo>
                  <a:pt x="0" y="0"/>
                </a:moveTo>
                <a:lnTo>
                  <a:pt x="29223" y="0"/>
                </a:lnTo>
                <a:lnTo>
                  <a:pt x="27823" y="1400"/>
                </a:lnTo>
                <a:lnTo>
                  <a:pt x="1400" y="1400"/>
                </a:lnTo>
                <a:close/>
              </a:path>
              <a:path fill="darken" w="29223" h="21600">
                <a:moveTo>
                  <a:pt x="29223" y="0"/>
                </a:moveTo>
                <a:lnTo>
                  <a:pt x="29223" y="21600"/>
                </a:lnTo>
                <a:lnTo>
                  <a:pt x="27823" y="20200"/>
                </a:lnTo>
                <a:lnTo>
                  <a:pt x="27823" y="1400"/>
                </a:lnTo>
                <a:close/>
              </a:path>
              <a:path fill="darkenLess" w="29223" h="21600">
                <a:moveTo>
                  <a:pt x="292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23" y="20200"/>
                </a:lnTo>
                <a:close/>
              </a:path>
              <a:path fill="lighten" w="292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23" h="21600">
                <a:moveTo>
                  <a:pt x="7605" y="7493"/>
                </a:moveTo>
                <a:lnTo>
                  <a:pt x="11113" y="7493"/>
                </a:lnTo>
                <a:lnTo>
                  <a:pt x="11113" y="12828"/>
                </a:lnTo>
                <a:cubicBezTo>
                  <a:pt x="11113" y="13751"/>
                  <a:pt x="11913" y="14482"/>
                  <a:pt x="12949" y="14482"/>
                </a:cubicBezTo>
                <a:lnTo>
                  <a:pt x="14611" y="14482"/>
                </a:lnTo>
                <a:cubicBezTo>
                  <a:pt x="15647" y="14482"/>
                  <a:pt x="16448" y="13751"/>
                  <a:pt x="16448" y="12828"/>
                </a:cubicBezTo>
                <a:lnTo>
                  <a:pt x="16448" y="7493"/>
                </a:lnTo>
                <a:lnTo>
                  <a:pt x="14611" y="7493"/>
                </a:lnTo>
                <a:lnTo>
                  <a:pt x="18119" y="3985"/>
                </a:lnTo>
                <a:lnTo>
                  <a:pt x="21792" y="7493"/>
                </a:lnTo>
                <a:lnTo>
                  <a:pt x="19956" y="7493"/>
                </a:lnTo>
                <a:lnTo>
                  <a:pt x="19956" y="12828"/>
                </a:lnTo>
                <a:cubicBezTo>
                  <a:pt x="19956" y="15596"/>
                  <a:pt x="17379" y="18155"/>
                  <a:pt x="14611" y="18155"/>
                </a:cubicBezTo>
                <a:lnTo>
                  <a:pt x="12949" y="18155"/>
                </a:lnTo>
                <a:cubicBezTo>
                  <a:pt x="10181" y="18155"/>
                  <a:pt x="7605" y="15596"/>
                  <a:pt x="7605" y="12828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3500"/>
                            </p:stCondLst>
                            <p:childTnLst>
                              <p:par>
                                <p:cTn id="526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7000"/>
                            </p:stCondLst>
                            <p:childTnLst>
                              <p:par>
                                <p:cTn id="53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69696"/>
            </a:gs>
            <a:gs pos="100000">
              <a:srgbClr val="dddddd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II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I</a:t>
            </a: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 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Object 5"/>
          <p:cNvGraphicFramePr/>
          <p:nvPr/>
        </p:nvGraphicFramePr>
        <p:xfrm>
          <a:off x="0" y="476280"/>
          <a:ext cx="9144000" cy="40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76280"/>
                    <a:ext cx="9144000" cy="40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Object 6"/>
          <p:cNvGraphicFramePr/>
          <p:nvPr/>
        </p:nvGraphicFramePr>
        <p:xfrm>
          <a:off x="-14400" y="4527720"/>
          <a:ext cx="9144000" cy="233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4400" y="4527720"/>
                    <a:ext cx="9144000" cy="23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AutoShape 11">
            <a:hlinkClick r:id="rId5" action="ppaction://hlinksldjump"/>
          </p:cNvPr>
          <p:cNvSpPr/>
          <p:nvPr/>
        </p:nvSpPr>
        <p:spPr>
          <a:xfrm>
            <a:off x="7812000" y="6391440"/>
            <a:ext cx="1008000" cy="466560"/>
          </a:xfrm>
          <a:custGeom>
            <a:avLst/>
            <a:gdLst>
              <a:gd name="textAreaLeft" fmla="*/ 30240 w 1008000"/>
              <a:gd name="textAreaRight" fmla="*/ 977760 w 100800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46647" h="21600">
                <a:moveTo>
                  <a:pt x="0" y="0"/>
                </a:moveTo>
                <a:lnTo>
                  <a:pt x="46647" y="0"/>
                </a:lnTo>
                <a:lnTo>
                  <a:pt x="46647" y="21600"/>
                </a:lnTo>
                <a:lnTo>
                  <a:pt x="0" y="21600"/>
                </a:lnTo>
                <a:close/>
              </a:path>
              <a:path fill="lightenLess" w="46647" h="21600">
                <a:moveTo>
                  <a:pt x="0" y="0"/>
                </a:moveTo>
                <a:lnTo>
                  <a:pt x="46647" y="0"/>
                </a:lnTo>
                <a:lnTo>
                  <a:pt x="45247" y="1400"/>
                </a:lnTo>
                <a:lnTo>
                  <a:pt x="1400" y="1400"/>
                </a:lnTo>
                <a:close/>
              </a:path>
              <a:path fill="darken" w="46647" h="21600">
                <a:moveTo>
                  <a:pt x="46647" y="0"/>
                </a:moveTo>
                <a:lnTo>
                  <a:pt x="46647" y="21600"/>
                </a:lnTo>
                <a:lnTo>
                  <a:pt x="45247" y="20200"/>
                </a:lnTo>
                <a:lnTo>
                  <a:pt x="45247" y="1400"/>
                </a:lnTo>
                <a:close/>
              </a:path>
              <a:path fill="darkenLess" w="46647" h="21600">
                <a:moveTo>
                  <a:pt x="466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47" y="20200"/>
                </a:lnTo>
                <a:close/>
              </a:path>
              <a:path fill="lighten" w="466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647" h="21600">
                <a:moveTo>
                  <a:pt x="16317" y="7493"/>
                </a:moveTo>
                <a:lnTo>
                  <a:pt x="19825" y="7493"/>
                </a:lnTo>
                <a:lnTo>
                  <a:pt x="19825" y="12828"/>
                </a:lnTo>
                <a:cubicBezTo>
                  <a:pt x="19825" y="13751"/>
                  <a:pt x="20626" y="14482"/>
                  <a:pt x="21661" y="14482"/>
                </a:cubicBezTo>
                <a:lnTo>
                  <a:pt x="23324" y="14482"/>
                </a:lnTo>
                <a:cubicBezTo>
                  <a:pt x="24359" y="14482"/>
                  <a:pt x="25160" y="13751"/>
                  <a:pt x="25160" y="12828"/>
                </a:cubicBezTo>
                <a:lnTo>
                  <a:pt x="25160" y="7493"/>
                </a:lnTo>
                <a:lnTo>
                  <a:pt x="23324" y="7493"/>
                </a:lnTo>
                <a:lnTo>
                  <a:pt x="26831" y="3985"/>
                </a:lnTo>
                <a:lnTo>
                  <a:pt x="30504" y="7493"/>
                </a:lnTo>
                <a:lnTo>
                  <a:pt x="28668" y="7493"/>
                </a:lnTo>
                <a:lnTo>
                  <a:pt x="28668" y="12828"/>
                </a:lnTo>
                <a:cubicBezTo>
                  <a:pt x="28668" y="15596"/>
                  <a:pt x="26091" y="18155"/>
                  <a:pt x="23324" y="18155"/>
                </a:cubicBezTo>
                <a:lnTo>
                  <a:pt x="21661" y="18155"/>
                </a:lnTo>
                <a:cubicBezTo>
                  <a:pt x="18893" y="18155"/>
                  <a:pt x="16317" y="15596"/>
                  <a:pt x="16317" y="12828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23" presetSubtype="27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3500"/>
                            </p:stCondLst>
                            <p:childTnLst>
                              <p:par>
                                <p:cTn id="547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69696"/>
            </a:gs>
            <a:gs pos="100000">
              <a:srgbClr val="dddddd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eaeaea"/>
              </a:gs>
              <a:gs pos="100000">
                <a:srgbClr val="b2b2b2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Технология  проведения  поисково-спасательных раб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">
            <a:hlinkClick r:id="rId1" action="ppaction://hlinksldjump"/>
          </p:cNvPr>
          <p:cNvSpPr/>
          <p:nvPr/>
        </p:nvSpPr>
        <p:spPr>
          <a:xfrm>
            <a:off x="826920" y="1700280"/>
            <a:ext cx="3457800" cy="151272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00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иск пострадавш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5">
            <a:hlinkClick r:id="rId2" action="ppaction://hlinksldjump"/>
          </p:cNvPr>
          <p:cNvSpPr/>
          <p:nvPr/>
        </p:nvSpPr>
        <p:spPr>
          <a:xfrm>
            <a:off x="826920" y="3645000"/>
            <a:ext cx="3457800" cy="151272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00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азание перв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дицинской помощ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6">
            <a:hlinkClick r:id="rId3" action="ppaction://hlinksldjump"/>
          </p:cNvPr>
          <p:cNvSpPr/>
          <p:nvPr/>
        </p:nvSpPr>
        <p:spPr>
          <a:xfrm>
            <a:off x="5148360" y="3645000"/>
            <a:ext cx="3457440" cy="151272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00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ваку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транспортировка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 опасных з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7">
            <a:hlinkClick r:id="rId4" action="ppaction://hlinksldjump"/>
          </p:cNvPr>
          <p:cNvSpPr/>
          <p:nvPr/>
        </p:nvSpPr>
        <p:spPr>
          <a:xfrm>
            <a:off x="5076720" y="1628640"/>
            <a:ext cx="3457800" cy="151308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00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блокиров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традавш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1">
            <a:hlinkClick r:id="rId5" action="ppaction://hlinksldjump"/>
          </p:cNvPr>
          <p:cNvSpPr/>
          <p:nvPr/>
        </p:nvSpPr>
        <p:spPr>
          <a:xfrm>
            <a:off x="3419640" y="1700280"/>
            <a:ext cx="863280" cy="288720"/>
          </a:xfrm>
          <a:custGeom>
            <a:avLst/>
            <a:gdLst>
              <a:gd name="textAreaLeft" fmla="*/ 18720 w 863280"/>
              <a:gd name="textAreaRight" fmla="*/ 844560 w 8632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64531" h="21600">
                <a:moveTo>
                  <a:pt x="0" y="0"/>
                </a:moveTo>
                <a:lnTo>
                  <a:pt x="64531" y="0"/>
                </a:lnTo>
                <a:lnTo>
                  <a:pt x="64531" y="21600"/>
                </a:lnTo>
                <a:lnTo>
                  <a:pt x="0" y="21600"/>
                </a:lnTo>
                <a:close/>
              </a:path>
              <a:path fill="lightenLess" w="64531" h="21600">
                <a:moveTo>
                  <a:pt x="0" y="0"/>
                </a:moveTo>
                <a:lnTo>
                  <a:pt x="64531" y="0"/>
                </a:lnTo>
                <a:lnTo>
                  <a:pt x="63131" y="1400"/>
                </a:lnTo>
                <a:lnTo>
                  <a:pt x="1400" y="1400"/>
                </a:lnTo>
                <a:close/>
              </a:path>
              <a:path fill="darken" w="64531" h="21600">
                <a:moveTo>
                  <a:pt x="64531" y="0"/>
                </a:moveTo>
                <a:lnTo>
                  <a:pt x="64531" y="21600"/>
                </a:lnTo>
                <a:lnTo>
                  <a:pt x="63131" y="20200"/>
                </a:lnTo>
                <a:lnTo>
                  <a:pt x="63131" y="1400"/>
                </a:lnTo>
                <a:close/>
              </a:path>
              <a:path fill="darkenLess" w="64531" h="21600">
                <a:moveTo>
                  <a:pt x="645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131" y="20200"/>
                </a:lnTo>
                <a:close/>
              </a:path>
              <a:path fill="lighten" w="645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531" h="21600">
                <a:moveTo>
                  <a:pt x="25259" y="3794"/>
                </a:moveTo>
                <a:lnTo>
                  <a:pt x="39272" y="10800"/>
                </a:lnTo>
                <a:lnTo>
                  <a:pt x="25259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2">
            <a:hlinkClick r:id="rId6" action="ppaction://hlinksldjump"/>
          </p:cNvPr>
          <p:cNvSpPr/>
          <p:nvPr/>
        </p:nvSpPr>
        <p:spPr>
          <a:xfrm>
            <a:off x="3419640" y="3645000"/>
            <a:ext cx="863280" cy="288720"/>
          </a:xfrm>
          <a:custGeom>
            <a:avLst/>
            <a:gdLst>
              <a:gd name="textAreaLeft" fmla="*/ 18720 w 863280"/>
              <a:gd name="textAreaRight" fmla="*/ 844560 w 8632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64531" h="21600">
                <a:moveTo>
                  <a:pt x="0" y="0"/>
                </a:moveTo>
                <a:lnTo>
                  <a:pt x="64531" y="0"/>
                </a:lnTo>
                <a:lnTo>
                  <a:pt x="64531" y="21600"/>
                </a:lnTo>
                <a:lnTo>
                  <a:pt x="0" y="21600"/>
                </a:lnTo>
                <a:close/>
              </a:path>
              <a:path fill="lightenLess" w="64531" h="21600">
                <a:moveTo>
                  <a:pt x="0" y="0"/>
                </a:moveTo>
                <a:lnTo>
                  <a:pt x="64531" y="0"/>
                </a:lnTo>
                <a:lnTo>
                  <a:pt x="63131" y="1400"/>
                </a:lnTo>
                <a:lnTo>
                  <a:pt x="1400" y="1400"/>
                </a:lnTo>
                <a:close/>
              </a:path>
              <a:path fill="darken" w="64531" h="21600">
                <a:moveTo>
                  <a:pt x="64531" y="0"/>
                </a:moveTo>
                <a:lnTo>
                  <a:pt x="64531" y="21600"/>
                </a:lnTo>
                <a:lnTo>
                  <a:pt x="63131" y="20200"/>
                </a:lnTo>
                <a:lnTo>
                  <a:pt x="63131" y="1400"/>
                </a:lnTo>
                <a:close/>
              </a:path>
              <a:path fill="darkenLess" w="64531" h="21600">
                <a:moveTo>
                  <a:pt x="645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131" y="20200"/>
                </a:lnTo>
                <a:close/>
              </a:path>
              <a:path fill="lighten" w="645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531" h="21600">
                <a:moveTo>
                  <a:pt x="25259" y="3794"/>
                </a:moveTo>
                <a:lnTo>
                  <a:pt x="39272" y="10800"/>
                </a:lnTo>
                <a:lnTo>
                  <a:pt x="25259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3">
            <a:hlinkClick r:id="rId7" action="ppaction://hlinksldjump"/>
          </p:cNvPr>
          <p:cNvSpPr/>
          <p:nvPr/>
        </p:nvSpPr>
        <p:spPr>
          <a:xfrm>
            <a:off x="7740720" y="3645000"/>
            <a:ext cx="863640" cy="288720"/>
          </a:xfrm>
          <a:custGeom>
            <a:avLst/>
            <a:gdLst>
              <a:gd name="textAreaLeft" fmla="*/ 18720 w 863640"/>
              <a:gd name="textAreaRight" fmla="*/ 844920 w 863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64558" h="21600">
                <a:moveTo>
                  <a:pt x="0" y="0"/>
                </a:moveTo>
                <a:lnTo>
                  <a:pt x="64558" y="0"/>
                </a:lnTo>
                <a:lnTo>
                  <a:pt x="64558" y="21600"/>
                </a:lnTo>
                <a:lnTo>
                  <a:pt x="0" y="21600"/>
                </a:lnTo>
                <a:close/>
              </a:path>
              <a:path fill="lightenLess" w="64558" h="21600">
                <a:moveTo>
                  <a:pt x="0" y="0"/>
                </a:moveTo>
                <a:lnTo>
                  <a:pt x="64558" y="0"/>
                </a:lnTo>
                <a:lnTo>
                  <a:pt x="63158" y="1400"/>
                </a:lnTo>
                <a:lnTo>
                  <a:pt x="1400" y="1400"/>
                </a:lnTo>
                <a:close/>
              </a:path>
              <a:path fill="darken" w="64558" h="21600">
                <a:moveTo>
                  <a:pt x="64558" y="0"/>
                </a:moveTo>
                <a:lnTo>
                  <a:pt x="64558" y="21600"/>
                </a:lnTo>
                <a:lnTo>
                  <a:pt x="63158" y="20200"/>
                </a:lnTo>
                <a:lnTo>
                  <a:pt x="63158" y="1400"/>
                </a:lnTo>
                <a:close/>
              </a:path>
              <a:path fill="darkenLess" w="64558" h="21600">
                <a:moveTo>
                  <a:pt x="64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158" y="20200"/>
                </a:lnTo>
                <a:close/>
              </a:path>
              <a:path fill="lighten" w="64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558" h="21600">
                <a:moveTo>
                  <a:pt x="25272" y="3794"/>
                </a:moveTo>
                <a:lnTo>
                  <a:pt x="39285" y="10800"/>
                </a:lnTo>
                <a:lnTo>
                  <a:pt x="25272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4">
            <a:hlinkClick r:id="rId8" action="ppaction://hlinksldjump"/>
          </p:cNvPr>
          <p:cNvSpPr/>
          <p:nvPr/>
        </p:nvSpPr>
        <p:spPr>
          <a:xfrm>
            <a:off x="7667640" y="1628640"/>
            <a:ext cx="863640" cy="289080"/>
          </a:xfrm>
          <a:custGeom>
            <a:avLst/>
            <a:gdLst>
              <a:gd name="textAreaLeft" fmla="*/ 18720 w 863640"/>
              <a:gd name="textAreaRight" fmla="*/ 844920 w 863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64478" h="21600">
                <a:moveTo>
                  <a:pt x="0" y="0"/>
                </a:moveTo>
                <a:lnTo>
                  <a:pt x="64478" y="0"/>
                </a:lnTo>
                <a:lnTo>
                  <a:pt x="64478" y="21600"/>
                </a:lnTo>
                <a:lnTo>
                  <a:pt x="0" y="21600"/>
                </a:lnTo>
                <a:close/>
              </a:path>
              <a:path fill="lightenLess" w="64478" h="21600">
                <a:moveTo>
                  <a:pt x="0" y="0"/>
                </a:moveTo>
                <a:lnTo>
                  <a:pt x="64478" y="0"/>
                </a:lnTo>
                <a:lnTo>
                  <a:pt x="63078" y="1400"/>
                </a:lnTo>
                <a:lnTo>
                  <a:pt x="1400" y="1400"/>
                </a:lnTo>
                <a:close/>
              </a:path>
              <a:path fill="darken" w="64478" h="21600">
                <a:moveTo>
                  <a:pt x="64478" y="0"/>
                </a:moveTo>
                <a:lnTo>
                  <a:pt x="64478" y="21600"/>
                </a:lnTo>
                <a:lnTo>
                  <a:pt x="63078" y="20200"/>
                </a:lnTo>
                <a:lnTo>
                  <a:pt x="63078" y="1400"/>
                </a:lnTo>
                <a:close/>
              </a:path>
              <a:path fill="darkenLess" w="64478" h="21600">
                <a:moveTo>
                  <a:pt x="644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078" y="20200"/>
                </a:lnTo>
                <a:close/>
              </a:path>
              <a:path fill="lighten" w="644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478" h="21600">
                <a:moveTo>
                  <a:pt x="25232" y="3794"/>
                </a:moveTo>
                <a:lnTo>
                  <a:pt x="39245" y="10800"/>
                </a:lnTo>
                <a:lnTo>
                  <a:pt x="25232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23">
            <a:hlinkClick r:id="rId9" action="ppaction://hlinksldjump"/>
          </p:cNvPr>
          <p:cNvSpPr/>
          <p:nvPr/>
        </p:nvSpPr>
        <p:spPr>
          <a:xfrm rot="5400000">
            <a:off x="8203680" y="5918040"/>
            <a:ext cx="620640" cy="1258920"/>
          </a:xfrm>
          <a:custGeom>
            <a:avLst/>
            <a:gdLst>
              <a:gd name="textAreaLeft" fmla="*/ 39960 w 620640"/>
              <a:gd name="textAreaRight" fmla="*/ 580680 w 620640"/>
              <a:gd name="textAreaTop" fmla="*/ 39960 h 1258920"/>
              <a:gd name="textAreaBottom" fmla="*/ 1218960 h 1258920"/>
            </a:gdLst>
            <a:ahLst/>
            <a:rect l="textAreaLeft" t="textAreaTop" r="textAreaRight" b="textAreaBottom"/>
            <a:pathLst>
              <a:path w="21600" h="43801">
                <a:moveTo>
                  <a:pt x="0" y="0"/>
                </a:moveTo>
                <a:lnTo>
                  <a:pt x="21600" y="0"/>
                </a:lnTo>
                <a:lnTo>
                  <a:pt x="21600" y="43801"/>
                </a:lnTo>
                <a:lnTo>
                  <a:pt x="0" y="43801"/>
                </a:lnTo>
                <a:close/>
              </a:path>
              <a:path fill="lightenLess" w="21600" h="4380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801">
                <a:moveTo>
                  <a:pt x="21600" y="0"/>
                </a:moveTo>
                <a:lnTo>
                  <a:pt x="21600" y="43801"/>
                </a:lnTo>
                <a:lnTo>
                  <a:pt x="20200" y="42401"/>
                </a:lnTo>
                <a:lnTo>
                  <a:pt x="20200" y="1400"/>
                </a:lnTo>
                <a:close/>
              </a:path>
              <a:path fill="darkenLess" w="21600" h="43801">
                <a:moveTo>
                  <a:pt x="21600" y="43801"/>
                </a:moveTo>
                <a:lnTo>
                  <a:pt x="0" y="43801"/>
                </a:lnTo>
                <a:lnTo>
                  <a:pt x="1400" y="42401"/>
                </a:lnTo>
                <a:lnTo>
                  <a:pt x="20200" y="42401"/>
                </a:lnTo>
                <a:close/>
              </a:path>
              <a:path fill="lighten" w="21600" h="43801">
                <a:moveTo>
                  <a:pt x="0" y="43801"/>
                </a:moveTo>
                <a:lnTo>
                  <a:pt x="0" y="0"/>
                </a:lnTo>
                <a:lnTo>
                  <a:pt x="1400" y="1400"/>
                </a:lnTo>
                <a:lnTo>
                  <a:pt x="1400" y="42401"/>
                </a:lnTo>
                <a:close/>
              </a:path>
              <a:path fill="darken" w="21600" h="43801">
                <a:moveTo>
                  <a:pt x="3794" y="14894"/>
                </a:moveTo>
                <a:lnTo>
                  <a:pt x="17806" y="21901"/>
                </a:lnTo>
                <a:lnTo>
                  <a:pt x="3794" y="28907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4" descr="Копия 06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7236000" y="6318360"/>
            <a:ext cx="52200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8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5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8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6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000"/>
                            </p:stCondLst>
                            <p:childTnLst>
                              <p:par>
                                <p:cTn id="564" nodeType="afterEffect" fill="hold" presetClass="entr" presetID="8" presetSubtype="3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66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8" presetSubtype="3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69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6500"/>
                            </p:stCondLst>
                            <p:childTnLst>
                              <p:par>
                                <p:cTn id="571" nodeType="afterEffect" fill="hold" presetClass="entr" presetID="8" presetSubtype="3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7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8" presetSubtype="3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7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1000"/>
                            </p:stCondLst>
                            <p:childTnLst>
                              <p:par>
                                <p:cTn id="578" nodeType="afterEffect" fill="hold" presetClass="entr" presetID="8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8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8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83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5000"/>
                            </p:stCondLst>
                            <p:childTnLst>
                              <p:par>
                                <p:cTn id="58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5500"/>
                            </p:stCondLst>
                            <p:childTnLst>
                              <p:par>
                                <p:cTn id="59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69696"/>
            </a:gs>
            <a:gs pos="100000">
              <a:srgbClr val="dddddd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42920" y="6414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0"/>
          <p:cNvSpPr/>
          <p:nvPr/>
        </p:nvSpPr>
        <p:spPr>
          <a:xfrm>
            <a:off x="2050920" y="0"/>
            <a:ext cx="4249800" cy="6922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иск пострадавш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1"/>
          <p:cNvSpPr/>
          <p:nvPr/>
        </p:nvSpPr>
        <p:spPr>
          <a:xfrm>
            <a:off x="1968480" y="2141640"/>
            <a:ext cx="572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8"/>
          <p:cNvSpPr/>
          <p:nvPr/>
        </p:nvSpPr>
        <p:spPr>
          <a:xfrm>
            <a:off x="250920" y="836640"/>
            <a:ext cx="8640720" cy="57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следование всего участка спасательных раб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ределение и обозначение мест нахождения пострадавших и установление с ними связ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ределение функционального состояния пострадавши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арактера травм и способов оказания ПМП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ределение путей и способов извлечения и эваку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традавш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пособ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рганолептическое обследование участка рабо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зуальное обследов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чесывани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ондировани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иск по следа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иск с использованием транспортных сред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инологическ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хнический (акустические, магнитомеры, тепловизоры радиопоисковые, оптиковолоконные зонды и т.д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свидетельству очевидц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учение отчетной и проектно-технической докумен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9"/>
          <p:cNvSpPr/>
          <p:nvPr/>
        </p:nvSpPr>
        <p:spPr>
          <a:xfrm>
            <a:off x="2835360" y="25383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30"/>
          <p:cNvSpPr/>
          <p:nvPr/>
        </p:nvSpPr>
        <p:spPr>
          <a:xfrm>
            <a:off x="2889000" y="253836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5"/>
          <p:cNvSpPr/>
          <p:nvPr/>
        </p:nvSpPr>
        <p:spPr>
          <a:xfrm>
            <a:off x="2835360" y="288144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6"/>
          <p:cNvSpPr/>
          <p:nvPr/>
        </p:nvSpPr>
        <p:spPr>
          <a:xfrm>
            <a:off x="2889000" y="288144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39"/>
          <p:cNvSpPr/>
          <p:nvPr/>
        </p:nvSpPr>
        <p:spPr>
          <a:xfrm>
            <a:off x="1936440" y="299556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6"/>
          <p:cNvSpPr/>
          <p:nvPr/>
        </p:nvSpPr>
        <p:spPr>
          <a:xfrm>
            <a:off x="1309320" y="345276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32"/>
          <p:cNvSpPr/>
          <p:nvPr/>
        </p:nvSpPr>
        <p:spPr>
          <a:xfrm>
            <a:off x="3195000" y="2533680"/>
            <a:ext cx="5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36"/>
          <p:cNvSpPr/>
          <p:nvPr/>
        </p:nvSpPr>
        <p:spPr>
          <a:xfrm>
            <a:off x="3196800" y="264636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37"/>
          <p:cNvSpPr/>
          <p:nvPr/>
        </p:nvSpPr>
        <p:spPr>
          <a:xfrm>
            <a:off x="3195000" y="2762280"/>
            <a:ext cx="5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62"/>
          <p:cNvSpPr/>
          <p:nvPr/>
        </p:nvSpPr>
        <p:spPr>
          <a:xfrm>
            <a:off x="4855680" y="379080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65"/>
          <p:cNvSpPr/>
          <p:nvPr/>
        </p:nvSpPr>
        <p:spPr>
          <a:xfrm>
            <a:off x="3279240" y="401940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75"/>
          <p:cNvSpPr/>
          <p:nvPr/>
        </p:nvSpPr>
        <p:spPr>
          <a:xfrm>
            <a:off x="3298320" y="447660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80"/>
          <p:cNvSpPr/>
          <p:nvPr/>
        </p:nvSpPr>
        <p:spPr>
          <a:xfrm>
            <a:off x="4855680" y="470520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97"/>
          <p:cNvSpPr/>
          <p:nvPr/>
        </p:nvSpPr>
        <p:spPr>
          <a:xfrm>
            <a:off x="4855680" y="539100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03"/>
          <p:cNvSpPr/>
          <p:nvPr/>
        </p:nvSpPr>
        <p:spPr>
          <a:xfrm>
            <a:off x="4802040" y="57340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04"/>
          <p:cNvSpPr/>
          <p:nvPr/>
        </p:nvSpPr>
        <p:spPr>
          <a:xfrm>
            <a:off x="4855680" y="573408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06"/>
          <p:cNvSpPr/>
          <p:nvPr/>
        </p:nvSpPr>
        <p:spPr>
          <a:xfrm>
            <a:off x="4337280" y="5850000"/>
            <a:ext cx="63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326">
            <a:hlinkClick r:id="rId1" action="ppaction://hlinksldjump"/>
          </p:cNvPr>
          <p:cNvSpPr/>
          <p:nvPr/>
        </p:nvSpPr>
        <p:spPr>
          <a:xfrm>
            <a:off x="7885080" y="573408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7493"/>
                </a:moveTo>
                <a:lnTo>
                  <a:pt x="16998" y="7493"/>
                </a:lnTo>
                <a:lnTo>
                  <a:pt x="16998" y="12828"/>
                </a:lnTo>
                <a:cubicBezTo>
                  <a:pt x="16998" y="13751"/>
                  <a:pt x="17799" y="14482"/>
                  <a:pt x="18834" y="14482"/>
                </a:cubicBezTo>
                <a:lnTo>
                  <a:pt x="20497" y="14482"/>
                </a:lnTo>
                <a:cubicBezTo>
                  <a:pt x="21532" y="14482"/>
                  <a:pt x="22333" y="13751"/>
                  <a:pt x="22333" y="12828"/>
                </a:cubicBezTo>
                <a:lnTo>
                  <a:pt x="22333" y="7493"/>
                </a:lnTo>
                <a:lnTo>
                  <a:pt x="20497" y="7493"/>
                </a:lnTo>
                <a:lnTo>
                  <a:pt x="24004" y="3985"/>
                </a:lnTo>
                <a:lnTo>
                  <a:pt x="27677" y="7493"/>
                </a:lnTo>
                <a:lnTo>
                  <a:pt x="25841" y="7493"/>
                </a:lnTo>
                <a:lnTo>
                  <a:pt x="25841" y="12828"/>
                </a:lnTo>
                <a:cubicBezTo>
                  <a:pt x="25841" y="15596"/>
                  <a:pt x="23264" y="18155"/>
                  <a:pt x="20497" y="18155"/>
                </a:cubicBezTo>
                <a:lnTo>
                  <a:pt x="18834" y="18155"/>
                </a:lnTo>
                <a:cubicBezTo>
                  <a:pt x="16066" y="18155"/>
                  <a:pt x="13490" y="15596"/>
                  <a:pt x="13490" y="12828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69696"/>
            </a:gs>
            <a:gs pos="100000">
              <a:srgbClr val="dddddd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64764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eaeaea"/>
              </a:gs>
              <a:gs pos="100000">
                <a:srgbClr val="969696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Деблокирование пострадавш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8146800" cy="6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6000"/>
          </a:bodyPr>
          <a:p>
            <a:pPr marL="9720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пособ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7200" indent="-9720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ледовательная разборка зава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7200" indent="-9720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тройство л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7200" indent="-9720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тройство галереи в грунте под зава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7200" indent="-9720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елывание проемов в стенах и перекрыт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7200" indent="-9720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ьзование автовышек подъёмников, вертол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7200" indent="-9720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сохранившимся лестничным марш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7200" indent="-9720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ьзование альпинистского снаря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7200" indent="-9720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ьзование штурмовых лестн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7200" indent="-9720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нение канатных доро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7200" indent="-9720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нение спасательного рукава, различных амортизато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720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4">
            <a:hlinkClick r:id="rId1" action="ppaction://hlinksldjump"/>
          </p:cNvPr>
          <p:cNvSpPr/>
          <p:nvPr/>
        </p:nvSpPr>
        <p:spPr>
          <a:xfrm>
            <a:off x="7885080" y="6093000"/>
            <a:ext cx="1042920" cy="54900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000"/>
              <a:gd name="textAreaBottom" fmla="*/ 513720 h 549000"/>
            </a:gdLst>
            <a:ahLst/>
            <a:rect l="textAreaLeft" t="textAreaTop" r="textAreaRight" b="textAreaBottom"/>
            <a:pathLst>
              <a:path w="41020" h="21600">
                <a:moveTo>
                  <a:pt x="0" y="0"/>
                </a:moveTo>
                <a:lnTo>
                  <a:pt x="41020" y="0"/>
                </a:lnTo>
                <a:lnTo>
                  <a:pt x="41020" y="21600"/>
                </a:lnTo>
                <a:lnTo>
                  <a:pt x="0" y="21600"/>
                </a:lnTo>
                <a:close/>
              </a:path>
              <a:path fill="lightenLess" w="41020" h="21600">
                <a:moveTo>
                  <a:pt x="0" y="0"/>
                </a:moveTo>
                <a:lnTo>
                  <a:pt x="41020" y="0"/>
                </a:lnTo>
                <a:lnTo>
                  <a:pt x="39620" y="1400"/>
                </a:lnTo>
                <a:lnTo>
                  <a:pt x="1400" y="1400"/>
                </a:lnTo>
                <a:close/>
              </a:path>
              <a:path fill="darken" w="41020" h="21600">
                <a:moveTo>
                  <a:pt x="41020" y="0"/>
                </a:moveTo>
                <a:lnTo>
                  <a:pt x="41020" y="21600"/>
                </a:lnTo>
                <a:lnTo>
                  <a:pt x="39620" y="20200"/>
                </a:lnTo>
                <a:lnTo>
                  <a:pt x="39620" y="1400"/>
                </a:lnTo>
                <a:close/>
              </a:path>
              <a:path fill="darkenLess" w="41020" h="21600">
                <a:moveTo>
                  <a:pt x="410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20" y="20200"/>
                </a:lnTo>
                <a:close/>
              </a:path>
              <a:path fill="lighten" w="410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020" h="21600">
                <a:moveTo>
                  <a:pt x="13504" y="7493"/>
                </a:moveTo>
                <a:lnTo>
                  <a:pt x="17011" y="7493"/>
                </a:lnTo>
                <a:lnTo>
                  <a:pt x="17011" y="12828"/>
                </a:lnTo>
                <a:cubicBezTo>
                  <a:pt x="17011" y="13751"/>
                  <a:pt x="17812" y="14482"/>
                  <a:pt x="18848" y="14482"/>
                </a:cubicBezTo>
                <a:lnTo>
                  <a:pt x="20510" y="14482"/>
                </a:lnTo>
                <a:cubicBezTo>
                  <a:pt x="21546" y="14482"/>
                  <a:pt x="22347" y="13751"/>
                  <a:pt x="22347" y="12828"/>
                </a:cubicBezTo>
                <a:lnTo>
                  <a:pt x="22347" y="7493"/>
                </a:lnTo>
                <a:lnTo>
                  <a:pt x="20510" y="7493"/>
                </a:lnTo>
                <a:lnTo>
                  <a:pt x="24018" y="3985"/>
                </a:lnTo>
                <a:lnTo>
                  <a:pt x="27691" y="7493"/>
                </a:lnTo>
                <a:lnTo>
                  <a:pt x="25854" y="7493"/>
                </a:lnTo>
                <a:lnTo>
                  <a:pt x="25854" y="12828"/>
                </a:lnTo>
                <a:cubicBezTo>
                  <a:pt x="25854" y="15596"/>
                  <a:pt x="23278" y="18155"/>
                  <a:pt x="20510" y="18155"/>
                </a:cubicBezTo>
                <a:lnTo>
                  <a:pt x="18848" y="18155"/>
                </a:lnTo>
                <a:cubicBezTo>
                  <a:pt x="16080" y="18155"/>
                  <a:pt x="13504" y="15596"/>
                  <a:pt x="13504" y="12828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250920" y="1484280"/>
            <a:ext cx="3817800" cy="93672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"/>
              </a:rPr>
              <a:t>Обеспечение доступ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"/>
              </a:rPr>
              <a:t>к пострадавш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5003640" y="1484280"/>
            <a:ext cx="3961080" cy="93672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"/>
              </a:rPr>
              <a:t>Извлечение из мес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"/>
              </a:rPr>
              <a:t>блок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7"/>
          <p:cNvSpPr/>
          <p:nvPr/>
        </p:nvSpPr>
        <p:spPr>
          <a:xfrm>
            <a:off x="108000" y="3429000"/>
            <a:ext cx="410364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aeaea"/>
              </a:gs>
              <a:gs pos="100000">
                <a:srgbClr val="77777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 под обломков завал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авин, ополз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9"/>
          <p:cNvSpPr/>
          <p:nvPr/>
        </p:nvSpPr>
        <p:spPr>
          <a:xfrm>
            <a:off x="4932360" y="3429000"/>
            <a:ext cx="410544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aeaea"/>
              </a:gs>
              <a:gs pos="100000">
                <a:srgbClr val="77777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 замкнутых помещен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анспортных сред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10"/>
          <p:cNvSpPr/>
          <p:nvPr/>
        </p:nvSpPr>
        <p:spPr>
          <a:xfrm>
            <a:off x="1943280" y="2708280"/>
            <a:ext cx="5256000" cy="4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ды деблокир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2" name="AutoShape 12"/>
          <p:cNvCxnSpPr>
            <a:stCxn id="224" idx="2"/>
            <a:endCxn id="228" idx="0"/>
          </p:cNvCxnSpPr>
          <p:nvPr/>
        </p:nvCxnSpPr>
        <p:spPr>
          <a:xfrm>
            <a:off x="4570200" y="917640"/>
            <a:ext cx="2414880" cy="567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3" name="AutoShape 13"/>
          <p:cNvCxnSpPr>
            <a:stCxn id="224" idx="2"/>
            <a:endCxn id="227" idx="0"/>
          </p:cNvCxnSpPr>
          <p:nvPr/>
        </p:nvCxnSpPr>
        <p:spPr>
          <a:xfrm flipH="1">
            <a:off x="2160360" y="917640"/>
            <a:ext cx="2410560" cy="567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4" name="AutoShape 14"/>
          <p:cNvCxnSpPr>
            <a:stCxn id="224" idx="2"/>
            <a:endCxn id="231" idx="0"/>
          </p:cNvCxnSpPr>
          <p:nvPr/>
        </p:nvCxnSpPr>
        <p:spPr>
          <a:xfrm>
            <a:off x="4570560" y="917640"/>
            <a:ext cx="2160" cy="1791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5"/>
          <p:cNvCxnSpPr>
            <a:stCxn id="231" idx="2"/>
            <a:endCxn id="236" idx="1"/>
          </p:cNvCxnSpPr>
          <p:nvPr/>
        </p:nvCxnSpPr>
        <p:spPr>
          <a:xfrm flipH="1" rot="16200000">
            <a:off x="4200480" y="3511080"/>
            <a:ext cx="1680480" cy="9374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AutoShape 16"/>
          <p:cNvCxnSpPr>
            <a:stCxn id="231" idx="2"/>
            <a:endCxn id="238" idx="3"/>
          </p:cNvCxnSpPr>
          <p:nvPr/>
        </p:nvCxnSpPr>
        <p:spPr>
          <a:xfrm rot="5400000">
            <a:off x="3263040" y="3511440"/>
            <a:ext cx="1680480" cy="9374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AutoShape 17"/>
          <p:cNvCxnSpPr>
            <a:stCxn id="231" idx="2"/>
            <a:endCxn id="229" idx="3"/>
          </p:cNvCxnSpPr>
          <p:nvPr/>
        </p:nvCxnSpPr>
        <p:spPr>
          <a:xfrm rot="5400000">
            <a:off x="4030560" y="3319920"/>
            <a:ext cx="721440" cy="3610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" name="AutoShape 18"/>
          <p:cNvCxnSpPr>
            <a:stCxn id="231" idx="2"/>
            <a:endCxn id="230" idx="1"/>
          </p:cNvCxnSpPr>
          <p:nvPr/>
        </p:nvCxnSpPr>
        <p:spPr>
          <a:xfrm flipH="1" rot="16200000">
            <a:off x="4390920" y="3319920"/>
            <a:ext cx="721440" cy="3610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6" name="AutoShape 19"/>
          <p:cNvSpPr/>
          <p:nvPr/>
        </p:nvSpPr>
        <p:spPr>
          <a:xfrm>
            <a:off x="5508720" y="4437000"/>
            <a:ext cx="3456000" cy="765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aeaea"/>
              </a:gs>
              <a:gs pos="100000">
                <a:srgbClr val="96969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изолирован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ощад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20"/>
          <p:cNvSpPr/>
          <p:nvPr/>
        </p:nvSpPr>
        <p:spPr>
          <a:xfrm>
            <a:off x="179280" y="4437000"/>
            <a:ext cx="3456000" cy="765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aeaea"/>
              </a:gs>
              <a:gs pos="100000">
                <a:srgbClr val="96969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верхних этаже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ру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0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04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0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0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1000"/>
                            </p:stCondLst>
                            <p:childTnLst>
                              <p:par>
                                <p:cTn id="615" nodeType="afterEffect" fill="hold" presetClass="exit" presetID="3" presetSubtype="5">
                                  <p:stCondLst>
                                    <p:cond delay="400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61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xit" presetID="3" presetSubtype="5">
                                  <p:stCondLst>
                                    <p:cond delay="400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61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xit" presetID="3" presetSubtype="5">
                                  <p:stCondLst>
                                    <p:cond delay="400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622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xit" presetID="3" presetSubtype="5">
                                  <p:stCondLst>
                                    <p:cond delay="400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625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6000"/>
                            </p:stCondLst>
                            <p:childTnLst>
                              <p:par>
                                <p:cTn id="62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0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3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9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2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5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5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5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5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8000"/>
                            </p:stCondLst>
                            <p:childTnLst>
                              <p:par>
                                <p:cTn id="659" nodeType="afterEffect" fill="hold" presetClass="exit" presetID="8" presetSubtype="16">
                                  <p:stCondLst>
                                    <p:cond delay="7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60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xit" presetID="8" presetSubtype="16">
                                  <p:stCondLst>
                                    <p:cond delay="7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63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xit" presetID="8" presetSubtype="16">
                                  <p:stCondLst>
                                    <p:cond delay="7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6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xit" presetID="8" presetSubtype="16">
                                  <p:stCondLst>
                                    <p:cond delay="7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69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xit" presetID="8" presetSubtype="16">
                                  <p:stCondLst>
                                    <p:cond delay="7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72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nodeType="withEffect" fill="hold" presetClass="exit" presetID="8" presetSubtype="16">
                                  <p:stCondLst>
                                    <p:cond delay="7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75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xit" presetID="8" presetSubtype="16">
                                  <p:stCondLst>
                                    <p:cond delay="7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78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xit" presetID="8" presetSubtype="16">
                                  <p:stCondLst>
                                    <p:cond delay="7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81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nodeType="withEffect" fill="hold" presetClass="exit" presetID="8" presetSubtype="16">
                                  <p:stCondLst>
                                    <p:cond delay="7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84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xit" presetID="8" presetSubtype="16">
                                  <p:stCondLst>
                                    <p:cond delay="7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87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3" presetSubtype="5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1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3" presetSubtype="5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4" dur="1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3" presetSubtype="5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7" dur="1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3" presetSubtype="5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0" dur="10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3" presetSubtype="5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3" dur="10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3" presetSubtype="5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6" dur="10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3" presetSubtype="5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9" dur="10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3" presetSubtype="5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2" dur="10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3" presetSubtype="5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5" dur="1000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3" presetSubtype="5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8" dur="1000"/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3" presetSubtype="5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1" dur="1000"/>
                                        <p:tgtEl>
                                          <p:spTgt spid="2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17000"/>
                            </p:stCondLst>
                            <p:childTnLst>
                              <p:par>
                                <p:cTn id="723" nodeType="afterEffect" fill="hold" presetClass="entr" presetID="4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69696"/>
            </a:gs>
            <a:gs pos="100000">
              <a:srgbClr val="dddddd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718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eaeaea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Оказание перв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7"/>
          <p:cNvSpPr/>
          <p:nvPr/>
        </p:nvSpPr>
        <p:spPr>
          <a:xfrm>
            <a:off x="6450120" y="226044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9"/>
          <p:cNvSpPr/>
          <p:nvPr/>
        </p:nvSpPr>
        <p:spPr>
          <a:xfrm>
            <a:off x="250920" y="1268280"/>
            <a:ext cx="856908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ение признаков жизни (пульс, сознание, дыхание, реагирование на свет зрачк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вобождение головы и груди от давления различных предметов, восстановление дыхания и пуль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тановка кровотечения, обработка ран, согревание, обезболивание, иммобилизация и т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МП выполняется спасателями, медиками и сами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традавшими непосредственно на месте пол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авм (или после извлечения) с использова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ельных и подручных сред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68"/>
          <p:cNvSpPr/>
          <p:nvPr/>
        </p:nvSpPr>
        <p:spPr>
          <a:xfrm>
            <a:off x="6451560" y="26463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72"/>
          <p:cNvSpPr/>
          <p:nvPr/>
        </p:nvSpPr>
        <p:spPr>
          <a:xfrm>
            <a:off x="6534000" y="27622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73"/>
          <p:cNvSpPr/>
          <p:nvPr/>
        </p:nvSpPr>
        <p:spPr>
          <a:xfrm>
            <a:off x="6451560" y="287640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77"/>
          <p:cNvSpPr/>
          <p:nvPr/>
        </p:nvSpPr>
        <p:spPr>
          <a:xfrm>
            <a:off x="6534000" y="29908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81"/>
          <p:cNvSpPr/>
          <p:nvPr/>
        </p:nvSpPr>
        <p:spPr>
          <a:xfrm>
            <a:off x="6451560" y="333360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82"/>
          <p:cNvSpPr/>
          <p:nvPr/>
        </p:nvSpPr>
        <p:spPr>
          <a:xfrm>
            <a:off x="6451560" y="34480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85"/>
          <p:cNvSpPr/>
          <p:nvPr/>
        </p:nvSpPr>
        <p:spPr>
          <a:xfrm>
            <a:off x="6451560" y="356220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87"/>
          <p:cNvSpPr/>
          <p:nvPr/>
        </p:nvSpPr>
        <p:spPr>
          <a:xfrm>
            <a:off x="7162920" y="356220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93"/>
          <p:cNvSpPr/>
          <p:nvPr/>
        </p:nvSpPr>
        <p:spPr>
          <a:xfrm>
            <a:off x="6724800" y="39052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96"/>
          <p:cNvSpPr/>
          <p:nvPr/>
        </p:nvSpPr>
        <p:spPr>
          <a:xfrm>
            <a:off x="6534000" y="401940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99"/>
          <p:cNvSpPr/>
          <p:nvPr/>
        </p:nvSpPr>
        <p:spPr>
          <a:xfrm>
            <a:off x="6654600" y="413388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02"/>
          <p:cNvSpPr/>
          <p:nvPr/>
        </p:nvSpPr>
        <p:spPr>
          <a:xfrm>
            <a:off x="6451560" y="43624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03"/>
          <p:cNvSpPr/>
          <p:nvPr/>
        </p:nvSpPr>
        <p:spPr>
          <a:xfrm>
            <a:off x="6451560" y="447660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06"/>
          <p:cNvSpPr/>
          <p:nvPr/>
        </p:nvSpPr>
        <p:spPr>
          <a:xfrm>
            <a:off x="6924600" y="45910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09"/>
          <p:cNvSpPr/>
          <p:nvPr/>
        </p:nvSpPr>
        <p:spPr>
          <a:xfrm>
            <a:off x="5292720" y="2276640"/>
            <a:ext cx="7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323">
            <a:hlinkClick r:id="rId1" action="ppaction://hlinksldjump"/>
          </p:cNvPr>
          <p:cNvSpPr/>
          <p:nvPr/>
        </p:nvSpPr>
        <p:spPr>
          <a:xfrm>
            <a:off x="7885080" y="6093000"/>
            <a:ext cx="1042920" cy="54900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000"/>
              <a:gd name="textAreaBottom" fmla="*/ 513720 h 549000"/>
            </a:gdLst>
            <a:ahLst/>
            <a:rect l="textAreaLeft" t="textAreaTop" r="textAreaRight" b="textAreaBottom"/>
            <a:pathLst>
              <a:path w="41020" h="21600">
                <a:moveTo>
                  <a:pt x="0" y="0"/>
                </a:moveTo>
                <a:lnTo>
                  <a:pt x="41020" y="0"/>
                </a:lnTo>
                <a:lnTo>
                  <a:pt x="41020" y="21600"/>
                </a:lnTo>
                <a:lnTo>
                  <a:pt x="0" y="21600"/>
                </a:lnTo>
                <a:close/>
              </a:path>
              <a:path fill="lightenLess" w="41020" h="21600">
                <a:moveTo>
                  <a:pt x="0" y="0"/>
                </a:moveTo>
                <a:lnTo>
                  <a:pt x="41020" y="0"/>
                </a:lnTo>
                <a:lnTo>
                  <a:pt x="39620" y="1400"/>
                </a:lnTo>
                <a:lnTo>
                  <a:pt x="1400" y="1400"/>
                </a:lnTo>
                <a:close/>
              </a:path>
              <a:path fill="darken" w="41020" h="21600">
                <a:moveTo>
                  <a:pt x="41020" y="0"/>
                </a:moveTo>
                <a:lnTo>
                  <a:pt x="41020" y="21600"/>
                </a:lnTo>
                <a:lnTo>
                  <a:pt x="39620" y="20200"/>
                </a:lnTo>
                <a:lnTo>
                  <a:pt x="39620" y="1400"/>
                </a:lnTo>
                <a:close/>
              </a:path>
              <a:path fill="darkenLess" w="41020" h="21600">
                <a:moveTo>
                  <a:pt x="410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20" y="20200"/>
                </a:lnTo>
                <a:close/>
              </a:path>
              <a:path fill="lighten" w="410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020" h="21600">
                <a:moveTo>
                  <a:pt x="13504" y="7493"/>
                </a:moveTo>
                <a:lnTo>
                  <a:pt x="17011" y="7493"/>
                </a:lnTo>
                <a:lnTo>
                  <a:pt x="17011" y="12828"/>
                </a:lnTo>
                <a:cubicBezTo>
                  <a:pt x="17011" y="13751"/>
                  <a:pt x="17812" y="14482"/>
                  <a:pt x="18848" y="14482"/>
                </a:cubicBezTo>
                <a:lnTo>
                  <a:pt x="20510" y="14482"/>
                </a:lnTo>
                <a:cubicBezTo>
                  <a:pt x="21546" y="14482"/>
                  <a:pt x="22347" y="13751"/>
                  <a:pt x="22347" y="12828"/>
                </a:cubicBezTo>
                <a:lnTo>
                  <a:pt x="22347" y="7493"/>
                </a:lnTo>
                <a:lnTo>
                  <a:pt x="20510" y="7493"/>
                </a:lnTo>
                <a:lnTo>
                  <a:pt x="24018" y="3985"/>
                </a:lnTo>
                <a:lnTo>
                  <a:pt x="27691" y="7493"/>
                </a:lnTo>
                <a:lnTo>
                  <a:pt x="25854" y="7493"/>
                </a:lnTo>
                <a:lnTo>
                  <a:pt x="25854" y="12828"/>
                </a:lnTo>
                <a:cubicBezTo>
                  <a:pt x="25854" y="15596"/>
                  <a:pt x="23278" y="18155"/>
                  <a:pt x="20510" y="18155"/>
                </a:cubicBezTo>
                <a:lnTo>
                  <a:pt x="18848" y="18155"/>
                </a:lnTo>
                <a:cubicBezTo>
                  <a:pt x="16080" y="18155"/>
                  <a:pt x="13504" y="15596"/>
                  <a:pt x="13504" y="12828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69696"/>
            </a:gs>
            <a:gs pos="100000">
              <a:srgbClr val="dddddd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0191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eaeaea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Эвакуация (транспортировка) из опасных з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ределение способов и маршрутов транспортиров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готовка пострадавшего и транспортных средст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еспечение безопасности пострадавших и спасателей страховка при преодолении препятствий, организация отдыха, контроль за состоянием пострадавших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Этапы эвакуа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 мест блокирования до рабочей площад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рабочей площадки до пункта сбора пораженных (до медицинского учрежде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Способ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грузка пострадавших на транспортное сред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мостоятельно, с помощью спаса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носка (на спине, руках, п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ах, носилках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волачивание (на спине, при помощи ткани, саней …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уск, подъем (с помощью спасательного пояса, лямки, лестницы, носилок, канатной дорог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7">
            <a:hlinkClick r:id="rId1" action="ppaction://hlinksldjump"/>
          </p:cNvPr>
          <p:cNvSpPr/>
          <p:nvPr/>
        </p:nvSpPr>
        <p:spPr>
          <a:xfrm>
            <a:off x="7885080" y="6093000"/>
            <a:ext cx="1042920" cy="54900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000"/>
              <a:gd name="textAreaBottom" fmla="*/ 513720 h 549000"/>
            </a:gdLst>
            <a:ahLst/>
            <a:rect l="textAreaLeft" t="textAreaTop" r="textAreaRight" b="textAreaBottom"/>
            <a:pathLst>
              <a:path w="41020" h="21600">
                <a:moveTo>
                  <a:pt x="0" y="0"/>
                </a:moveTo>
                <a:lnTo>
                  <a:pt x="41020" y="0"/>
                </a:lnTo>
                <a:lnTo>
                  <a:pt x="41020" y="21600"/>
                </a:lnTo>
                <a:lnTo>
                  <a:pt x="0" y="21600"/>
                </a:lnTo>
                <a:close/>
              </a:path>
              <a:path fill="lightenLess" w="41020" h="21600">
                <a:moveTo>
                  <a:pt x="0" y="0"/>
                </a:moveTo>
                <a:lnTo>
                  <a:pt x="41020" y="0"/>
                </a:lnTo>
                <a:lnTo>
                  <a:pt x="39620" y="1400"/>
                </a:lnTo>
                <a:lnTo>
                  <a:pt x="1400" y="1400"/>
                </a:lnTo>
                <a:close/>
              </a:path>
              <a:path fill="darken" w="41020" h="21600">
                <a:moveTo>
                  <a:pt x="41020" y="0"/>
                </a:moveTo>
                <a:lnTo>
                  <a:pt x="41020" y="21600"/>
                </a:lnTo>
                <a:lnTo>
                  <a:pt x="39620" y="20200"/>
                </a:lnTo>
                <a:lnTo>
                  <a:pt x="39620" y="1400"/>
                </a:lnTo>
                <a:close/>
              </a:path>
              <a:path fill="darkenLess" w="41020" h="21600">
                <a:moveTo>
                  <a:pt x="410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20" y="20200"/>
                </a:lnTo>
                <a:close/>
              </a:path>
              <a:path fill="lighten" w="410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020" h="21600">
                <a:moveTo>
                  <a:pt x="13504" y="7493"/>
                </a:moveTo>
                <a:lnTo>
                  <a:pt x="17011" y="7493"/>
                </a:lnTo>
                <a:lnTo>
                  <a:pt x="17011" y="12828"/>
                </a:lnTo>
                <a:cubicBezTo>
                  <a:pt x="17011" y="13751"/>
                  <a:pt x="17812" y="14482"/>
                  <a:pt x="18848" y="14482"/>
                </a:cubicBezTo>
                <a:lnTo>
                  <a:pt x="20510" y="14482"/>
                </a:lnTo>
                <a:cubicBezTo>
                  <a:pt x="21546" y="14482"/>
                  <a:pt x="22347" y="13751"/>
                  <a:pt x="22347" y="12828"/>
                </a:cubicBezTo>
                <a:lnTo>
                  <a:pt x="22347" y="7493"/>
                </a:lnTo>
                <a:lnTo>
                  <a:pt x="20510" y="7493"/>
                </a:lnTo>
                <a:lnTo>
                  <a:pt x="24018" y="3985"/>
                </a:lnTo>
                <a:lnTo>
                  <a:pt x="27691" y="7493"/>
                </a:lnTo>
                <a:lnTo>
                  <a:pt x="25854" y="7493"/>
                </a:lnTo>
                <a:lnTo>
                  <a:pt x="25854" y="12828"/>
                </a:lnTo>
                <a:cubicBezTo>
                  <a:pt x="25854" y="15596"/>
                  <a:pt x="23278" y="18155"/>
                  <a:pt x="20510" y="18155"/>
                </a:cubicBezTo>
                <a:lnTo>
                  <a:pt x="18848" y="18155"/>
                </a:lnTo>
                <a:cubicBezTo>
                  <a:pt x="16080" y="18155"/>
                  <a:pt x="13504" y="15596"/>
                  <a:pt x="13504" y="12828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0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afterEffect" fill="hold" presetClass="entr" presetID="3" presetSubtype="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5" dur="10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3" presetSubtype="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8" dur="10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3" presetSubtype="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1" dur="1000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5000"/>
                            </p:stCondLst>
                            <p:childTnLst>
                              <p:par>
                                <p:cTn id="743" nodeType="afterEffect" fill="hold" presetClass="entr" presetID="3" presetSubtype="5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5" dur="1000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3" presetSubtype="5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8" dur="1000"/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3" presetSubtype="5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1" dur="1000"/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3" presetSubtype="5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4" dur="1000"/>
                                        <p:tgtEl>
                                          <p:spTgt spid="2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3" presetSubtype="5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7" dur="1000"/>
                                        <p:tgtEl>
                                          <p:spTgt spid="2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3" presetSubtype="5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0" dur="1000"/>
                                        <p:tgtEl>
                                          <p:spTgt spid="2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76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69696"/>
            </a:gs>
            <a:gs pos="100000">
              <a:srgbClr val="dddddd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24000" y="980640"/>
            <a:ext cx="7632720" cy="489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щие понятия об аварийно-спасательных и других неотложных работ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апы проведения аварийно-спасательных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других неотложных раб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обенности проведения АСДНР на территории, зараженной (загрязненной) радиоактивными веществ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обенности проведения АСДНР на территории, зараженной отравляющими (аварийно - химически опасными) веществ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обенности проведения АСДНР при стихийных бедств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>
            <a:hlinkClick r:id="rId1" action="ppaction://hlinksldjump"/>
          </p:cNvPr>
          <p:cNvSpPr/>
          <p:nvPr/>
        </p:nvSpPr>
        <p:spPr>
          <a:xfrm>
            <a:off x="7885080" y="1125360"/>
            <a:ext cx="971640" cy="43200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8560" h="21600">
                <a:moveTo>
                  <a:pt x="0" y="0"/>
                </a:moveTo>
                <a:lnTo>
                  <a:pt x="48560" y="0"/>
                </a:lnTo>
                <a:lnTo>
                  <a:pt x="48560" y="21600"/>
                </a:lnTo>
                <a:lnTo>
                  <a:pt x="0" y="21600"/>
                </a:lnTo>
                <a:close/>
              </a:path>
              <a:path fill="lightenLess" w="48560" h="21600">
                <a:moveTo>
                  <a:pt x="0" y="0"/>
                </a:moveTo>
                <a:lnTo>
                  <a:pt x="48560" y="0"/>
                </a:lnTo>
                <a:lnTo>
                  <a:pt x="47160" y="1400"/>
                </a:lnTo>
                <a:lnTo>
                  <a:pt x="1400" y="1400"/>
                </a:lnTo>
                <a:close/>
              </a:path>
              <a:path fill="darken" w="48560" h="21600">
                <a:moveTo>
                  <a:pt x="48560" y="0"/>
                </a:moveTo>
                <a:lnTo>
                  <a:pt x="48560" y="21600"/>
                </a:lnTo>
                <a:lnTo>
                  <a:pt x="47160" y="20200"/>
                </a:lnTo>
                <a:lnTo>
                  <a:pt x="47160" y="1400"/>
                </a:lnTo>
                <a:close/>
              </a:path>
              <a:path fill="darkenLess" w="48560" h="21600">
                <a:moveTo>
                  <a:pt x="48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60" y="20200"/>
                </a:lnTo>
                <a:close/>
              </a:path>
              <a:path fill="lighten" w="48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60" h="21600">
                <a:moveTo>
                  <a:pt x="17273" y="3794"/>
                </a:moveTo>
                <a:lnTo>
                  <a:pt x="31286" y="10800"/>
                </a:lnTo>
                <a:lnTo>
                  <a:pt x="17273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5">
            <a:hlinkClick r:id="rId2" action="ppaction://hlinksldjump"/>
          </p:cNvPr>
          <p:cNvSpPr/>
          <p:nvPr/>
        </p:nvSpPr>
        <p:spPr>
          <a:xfrm>
            <a:off x="7885080" y="1989000"/>
            <a:ext cx="971640" cy="43200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8560" h="21600">
                <a:moveTo>
                  <a:pt x="0" y="0"/>
                </a:moveTo>
                <a:lnTo>
                  <a:pt x="48560" y="0"/>
                </a:lnTo>
                <a:lnTo>
                  <a:pt x="48560" y="21600"/>
                </a:lnTo>
                <a:lnTo>
                  <a:pt x="0" y="21600"/>
                </a:lnTo>
                <a:close/>
              </a:path>
              <a:path fill="lightenLess" w="48560" h="21600">
                <a:moveTo>
                  <a:pt x="0" y="0"/>
                </a:moveTo>
                <a:lnTo>
                  <a:pt x="48560" y="0"/>
                </a:lnTo>
                <a:lnTo>
                  <a:pt x="47160" y="1400"/>
                </a:lnTo>
                <a:lnTo>
                  <a:pt x="1400" y="1400"/>
                </a:lnTo>
                <a:close/>
              </a:path>
              <a:path fill="darken" w="48560" h="21600">
                <a:moveTo>
                  <a:pt x="48560" y="0"/>
                </a:moveTo>
                <a:lnTo>
                  <a:pt x="48560" y="21600"/>
                </a:lnTo>
                <a:lnTo>
                  <a:pt x="47160" y="20200"/>
                </a:lnTo>
                <a:lnTo>
                  <a:pt x="47160" y="1400"/>
                </a:lnTo>
                <a:close/>
              </a:path>
              <a:path fill="darkenLess" w="48560" h="21600">
                <a:moveTo>
                  <a:pt x="48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60" y="20200"/>
                </a:lnTo>
                <a:close/>
              </a:path>
              <a:path fill="lighten" w="48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60" h="21600">
                <a:moveTo>
                  <a:pt x="17273" y="3794"/>
                </a:moveTo>
                <a:lnTo>
                  <a:pt x="31286" y="10800"/>
                </a:lnTo>
                <a:lnTo>
                  <a:pt x="17273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6">
            <a:hlinkClick r:id="rId3" action="ppaction://hlinksldjump"/>
          </p:cNvPr>
          <p:cNvSpPr/>
          <p:nvPr/>
        </p:nvSpPr>
        <p:spPr>
          <a:xfrm>
            <a:off x="7885080" y="270828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7">
            <a:hlinkClick r:id="rId4" action="ppaction://hlinksldjump"/>
          </p:cNvPr>
          <p:cNvSpPr/>
          <p:nvPr/>
        </p:nvSpPr>
        <p:spPr>
          <a:xfrm>
            <a:off x="7885080" y="3860640"/>
            <a:ext cx="971640" cy="43200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8560" h="21600">
                <a:moveTo>
                  <a:pt x="0" y="0"/>
                </a:moveTo>
                <a:lnTo>
                  <a:pt x="48560" y="0"/>
                </a:lnTo>
                <a:lnTo>
                  <a:pt x="48560" y="21600"/>
                </a:lnTo>
                <a:lnTo>
                  <a:pt x="0" y="21600"/>
                </a:lnTo>
                <a:close/>
              </a:path>
              <a:path fill="lightenLess" w="48560" h="21600">
                <a:moveTo>
                  <a:pt x="0" y="0"/>
                </a:moveTo>
                <a:lnTo>
                  <a:pt x="48560" y="0"/>
                </a:lnTo>
                <a:lnTo>
                  <a:pt x="47160" y="1400"/>
                </a:lnTo>
                <a:lnTo>
                  <a:pt x="1400" y="1400"/>
                </a:lnTo>
                <a:close/>
              </a:path>
              <a:path fill="darken" w="48560" h="21600">
                <a:moveTo>
                  <a:pt x="48560" y="0"/>
                </a:moveTo>
                <a:lnTo>
                  <a:pt x="48560" y="21600"/>
                </a:lnTo>
                <a:lnTo>
                  <a:pt x="47160" y="20200"/>
                </a:lnTo>
                <a:lnTo>
                  <a:pt x="47160" y="1400"/>
                </a:lnTo>
                <a:close/>
              </a:path>
              <a:path fill="darkenLess" w="48560" h="21600">
                <a:moveTo>
                  <a:pt x="48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60" y="20200"/>
                </a:lnTo>
                <a:close/>
              </a:path>
              <a:path fill="lighten" w="48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60" h="21600">
                <a:moveTo>
                  <a:pt x="17273" y="3794"/>
                </a:moveTo>
                <a:lnTo>
                  <a:pt x="31286" y="10800"/>
                </a:lnTo>
                <a:lnTo>
                  <a:pt x="17273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8">
            <a:hlinkClick r:id="rId5" action="ppaction://hlinksldjump"/>
          </p:cNvPr>
          <p:cNvSpPr/>
          <p:nvPr/>
        </p:nvSpPr>
        <p:spPr>
          <a:xfrm>
            <a:off x="7885080" y="5445000"/>
            <a:ext cx="971640" cy="43200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8560" h="21600">
                <a:moveTo>
                  <a:pt x="0" y="0"/>
                </a:moveTo>
                <a:lnTo>
                  <a:pt x="48560" y="0"/>
                </a:lnTo>
                <a:lnTo>
                  <a:pt x="48560" y="21600"/>
                </a:lnTo>
                <a:lnTo>
                  <a:pt x="0" y="21600"/>
                </a:lnTo>
                <a:close/>
              </a:path>
              <a:path fill="lightenLess" w="48560" h="21600">
                <a:moveTo>
                  <a:pt x="0" y="0"/>
                </a:moveTo>
                <a:lnTo>
                  <a:pt x="48560" y="0"/>
                </a:lnTo>
                <a:lnTo>
                  <a:pt x="47160" y="1400"/>
                </a:lnTo>
                <a:lnTo>
                  <a:pt x="1400" y="1400"/>
                </a:lnTo>
                <a:close/>
              </a:path>
              <a:path fill="darken" w="48560" h="21600">
                <a:moveTo>
                  <a:pt x="48560" y="0"/>
                </a:moveTo>
                <a:lnTo>
                  <a:pt x="48560" y="21600"/>
                </a:lnTo>
                <a:lnTo>
                  <a:pt x="47160" y="20200"/>
                </a:lnTo>
                <a:lnTo>
                  <a:pt x="47160" y="1400"/>
                </a:lnTo>
                <a:close/>
              </a:path>
              <a:path fill="darkenLess" w="48560" h="21600">
                <a:moveTo>
                  <a:pt x="48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60" y="20200"/>
                </a:lnTo>
                <a:close/>
              </a:path>
              <a:path fill="lighten" w="48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60" h="21600">
                <a:moveTo>
                  <a:pt x="17273" y="3794"/>
                </a:moveTo>
                <a:lnTo>
                  <a:pt x="31286" y="10800"/>
                </a:lnTo>
                <a:lnTo>
                  <a:pt x="17273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3"/>
          <p:cNvGrpSpPr/>
          <p:nvPr/>
        </p:nvGrpSpPr>
        <p:grpSpPr>
          <a:xfrm>
            <a:off x="4788000" y="5950080"/>
            <a:ext cx="3240000" cy="620640"/>
            <a:chOff x="4788000" y="5950080"/>
            <a:chExt cx="3240000" cy="620640"/>
          </a:xfrm>
        </p:grpSpPr>
        <p:sp>
          <p:nvSpPr>
            <p:cNvPr id="55" name="AutoShape 20">
              <a:hlinkClick r:id="rId6" action="ppaction://hlinksldjump"/>
            </p:cNvPr>
            <p:cNvSpPr/>
            <p:nvPr/>
          </p:nvSpPr>
          <p:spPr>
            <a:xfrm rot="5400000">
              <a:off x="6097680" y="4640400"/>
              <a:ext cx="620640" cy="3240000"/>
            </a:xfrm>
            <a:custGeom>
              <a:avLst/>
              <a:gdLst>
                <a:gd name="textAreaLeft" fmla="*/ 39960 w 620640"/>
                <a:gd name="textAreaRight" fmla="*/ 580680 w 620640"/>
                <a:gd name="textAreaTop" fmla="*/ 39960 h 3240000"/>
                <a:gd name="textAreaBottom" fmla="*/ 3200040 h 3240000"/>
              </a:gdLst>
              <a:ahLst/>
              <a:rect l="textAreaLeft" t="textAreaTop" r="textAreaRight" b="textAreaBottom"/>
              <a:pathLst>
                <a:path w="21600" h="112708">
                  <a:moveTo>
                    <a:pt x="0" y="0"/>
                  </a:moveTo>
                  <a:lnTo>
                    <a:pt x="21600" y="0"/>
                  </a:lnTo>
                  <a:lnTo>
                    <a:pt x="21600" y="112708"/>
                  </a:lnTo>
                  <a:lnTo>
                    <a:pt x="0" y="112708"/>
                  </a:lnTo>
                  <a:close/>
                </a:path>
                <a:path fill="lightenLess" w="21600" h="112708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112708">
                  <a:moveTo>
                    <a:pt x="21600" y="0"/>
                  </a:moveTo>
                  <a:lnTo>
                    <a:pt x="21600" y="112708"/>
                  </a:lnTo>
                  <a:lnTo>
                    <a:pt x="20200" y="111308"/>
                  </a:lnTo>
                  <a:lnTo>
                    <a:pt x="20200" y="1400"/>
                  </a:lnTo>
                  <a:close/>
                </a:path>
                <a:path fill="darkenLess" w="21600" h="112708">
                  <a:moveTo>
                    <a:pt x="21600" y="112708"/>
                  </a:moveTo>
                  <a:lnTo>
                    <a:pt x="0" y="112708"/>
                  </a:lnTo>
                  <a:lnTo>
                    <a:pt x="1400" y="111308"/>
                  </a:lnTo>
                  <a:lnTo>
                    <a:pt x="20200" y="111308"/>
                  </a:lnTo>
                  <a:close/>
                </a:path>
                <a:path fill="lighten" w="21600" h="112708">
                  <a:moveTo>
                    <a:pt x="0" y="112708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111308"/>
                  </a:lnTo>
                  <a:close/>
                </a:path>
                <a:path fill="darken" w="21600" h="112708">
                  <a:moveTo>
                    <a:pt x="3794" y="49348"/>
                  </a:moveTo>
                  <a:lnTo>
                    <a:pt x="17806" y="56354"/>
                  </a:lnTo>
                  <a:lnTo>
                    <a:pt x="3794" y="63361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21">
              <a:hlinkClick r:id="rId7" action="ppaction://hlinksldjump"/>
            </p:cNvPr>
            <p:cNvSpPr/>
            <p:nvPr/>
          </p:nvSpPr>
          <p:spPr>
            <a:xfrm>
              <a:off x="4861440" y="6021720"/>
              <a:ext cx="146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онтрол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22">
              <a:hlinkClick r:id="rId8" action="ppaction://hlinksldjump"/>
            </p:cNvPr>
            <p:cNvSpPr/>
            <p:nvPr/>
          </p:nvSpPr>
          <p:spPr>
            <a:xfrm>
              <a:off x="6589440" y="6021720"/>
              <a:ext cx="116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знан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WordArt 24"/>
          <p:cNvSpPr txBox="1"/>
          <p:nvPr/>
        </p:nvSpPr>
        <p:spPr>
          <a:xfrm>
            <a:off x="2340000" y="260280"/>
            <a:ext cx="4464000" cy="89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1" strike="noStrike">
                <a:ln w="15840">
                  <a:solidFill>
                    <a:srgbClr val="ffff00"/>
                  </a:solidFill>
                  <a:miter/>
                </a:ln>
                <a:solidFill>
                  <a:srgbClr val="663300">
                    <a:alpha val="84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держание</a:t>
            </a:r>
            <a:endParaRPr b="1" lang="en-US" sz="2600" spc="1" strike="noStrike">
              <a:ln w="15840">
                <a:solidFill>
                  <a:srgbClr val="ffff00"/>
                </a:solidFill>
                <a:miter/>
              </a:ln>
              <a:solidFill>
                <a:srgbClr val="663300">
                  <a:alpha val="84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4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4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500"/>
                            </p:stCondLst>
                            <p:childTnLst>
                              <p:par>
                                <p:cTn id="26" nodeType="afterEffect" fill="hold" presetClass="entr" presetID="4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000"/>
                            </p:stCondLst>
                            <p:childTnLst>
                              <p:par>
                                <p:cTn id="33" nodeType="afterEffect" fill="hold" presetClass="entr" presetID="4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76360" y="189000"/>
            <a:ext cx="7991280" cy="122400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ccff33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Особенности проведения АСДНР на территории, зараженной (загрязненной) радиоактивными веществ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1332000" y="1771560"/>
            <a:ext cx="6192720" cy="57636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3399ff"/>
              </a:gs>
            </a:gsLst>
            <a:lin ang="18900000"/>
          </a:gra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ричины радиоактивного загряз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5"/>
          <p:cNvSpPr/>
          <p:nvPr/>
        </p:nvSpPr>
        <p:spPr>
          <a:xfrm>
            <a:off x="250920" y="2779560"/>
            <a:ext cx="3889440" cy="12970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3399ff"/>
              </a:gs>
            </a:gsLst>
            <a:lin ang="18900000"/>
          </a:gra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результа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ядерного взры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6"/>
          <p:cNvSpPr/>
          <p:nvPr/>
        </p:nvSpPr>
        <p:spPr>
          <a:xfrm>
            <a:off x="1116000" y="4363920"/>
            <a:ext cx="6624720" cy="158292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3399ff"/>
              </a:gs>
            </a:gsLst>
            <a:lin ang="18900000"/>
          </a:gra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безответственное  хранение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халатное обращение с радиоактивны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репаратами в медицине, научных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учреждениях, промышл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7"/>
          <p:cNvSpPr/>
          <p:nvPr/>
        </p:nvSpPr>
        <p:spPr>
          <a:xfrm>
            <a:off x="4716360" y="2779560"/>
            <a:ext cx="4211640" cy="12970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3399ff"/>
              </a:gs>
            </a:gsLst>
            <a:lin ang="18900000"/>
          </a:gra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результате аварии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АЭС или другой ядер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энергетической установ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55640" y="6854760"/>
            <a:ext cx="777240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9" name="AutoShape 9"/>
          <p:cNvCxnSpPr>
            <a:stCxn id="264" idx="2"/>
            <a:endCxn id="267" idx="0"/>
          </p:cNvCxnSpPr>
          <p:nvPr/>
        </p:nvCxnSpPr>
        <p:spPr>
          <a:xfrm flipH="1" rot="16200000">
            <a:off x="5424480" y="1366560"/>
            <a:ext cx="403920" cy="2394720"/>
          </a:xfrm>
          <a:prstGeom prst="bentConnector3">
            <a:avLst>
              <a:gd name="adj1" fmla="val 49955"/>
            </a:avLst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70" name="AutoShape 10"/>
          <p:cNvCxnSpPr>
            <a:stCxn id="264" idx="2"/>
            <a:endCxn id="265" idx="0"/>
          </p:cNvCxnSpPr>
          <p:nvPr/>
        </p:nvCxnSpPr>
        <p:spPr>
          <a:xfrm rot="5400000">
            <a:off x="3110040" y="1447200"/>
            <a:ext cx="403920" cy="2234160"/>
          </a:xfrm>
          <a:prstGeom prst="bentConnector3">
            <a:avLst>
              <a:gd name="adj1" fmla="val 49955"/>
            </a:avLst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71" name="AutoShape 11"/>
          <p:cNvCxnSpPr>
            <a:stCxn id="264" idx="2"/>
            <a:endCxn id="266" idx="0"/>
          </p:cNvCxnSpPr>
          <p:nvPr/>
        </p:nvCxnSpPr>
        <p:spPr>
          <a:xfrm flipH="1">
            <a:off x="4428360" y="2361960"/>
            <a:ext cx="1080" cy="1987920"/>
          </a:xfrm>
          <a:prstGeom prst="straightConnector1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272" name="AutoShape 14">
            <a:hlinkClick r:id="" action="ppaction://hlinkshowjump?jump=nextslide"/>
          </p:cNvPr>
          <p:cNvSpPr/>
          <p:nvPr/>
        </p:nvSpPr>
        <p:spPr>
          <a:xfrm>
            <a:off x="8459640" y="6237360"/>
            <a:ext cx="505080" cy="40464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57" h="21600">
                <a:moveTo>
                  <a:pt x="0" y="0"/>
                </a:moveTo>
                <a:lnTo>
                  <a:pt x="26957" y="0"/>
                </a:lnTo>
                <a:lnTo>
                  <a:pt x="26957" y="21600"/>
                </a:lnTo>
                <a:lnTo>
                  <a:pt x="0" y="21600"/>
                </a:lnTo>
                <a:close/>
              </a:path>
              <a:path fill="lightenLess" w="26957" h="21600">
                <a:moveTo>
                  <a:pt x="0" y="0"/>
                </a:moveTo>
                <a:lnTo>
                  <a:pt x="26957" y="0"/>
                </a:lnTo>
                <a:lnTo>
                  <a:pt x="25557" y="1400"/>
                </a:lnTo>
                <a:lnTo>
                  <a:pt x="1400" y="1400"/>
                </a:lnTo>
                <a:close/>
              </a:path>
              <a:path fill="darken" w="26957" h="21600">
                <a:moveTo>
                  <a:pt x="26957" y="0"/>
                </a:moveTo>
                <a:lnTo>
                  <a:pt x="26957" y="21600"/>
                </a:lnTo>
                <a:lnTo>
                  <a:pt x="25557" y="20200"/>
                </a:lnTo>
                <a:lnTo>
                  <a:pt x="25557" y="1400"/>
                </a:lnTo>
                <a:close/>
              </a:path>
              <a:path fill="darkenLess" w="26957" h="21600">
                <a:moveTo>
                  <a:pt x="269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7" y="20200"/>
                </a:lnTo>
                <a:close/>
              </a:path>
              <a:path fill="lighten" w="269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7" h="21600">
                <a:moveTo>
                  <a:pt x="6472" y="3794"/>
                </a:moveTo>
                <a:lnTo>
                  <a:pt x="20485" y="10800"/>
                </a:lnTo>
                <a:lnTo>
                  <a:pt x="6472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7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7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79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8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8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3000"/>
                            </p:stCondLst>
                            <p:childTnLst>
                              <p:par>
                                <p:cTn id="786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8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9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4500"/>
                            </p:stCondLst>
                            <p:childTnLst>
                              <p:par>
                                <p:cTn id="793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124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Особенности проведения АСДНР на территории, зараженной (загрязненной) радиоактивными веществ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2090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Непрерывный дозиметрический конт-роль облуч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одна из важнейших задач обеспечения безопасности людей. Прежде чем начинать работы в зоне радиоактивного заражения (загрязнения), необходимо </a:t>
            </a: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организовать радиационную разведк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в последующем вести систематическое </a:t>
            </a: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наблюдение за изменениями уровней радиации и дозами облуч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получа-емыми людь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4">
            <a:hlinkClick r:id="" action="ppaction://hlinkshowjump?jump=nextslide"/>
          </p:cNvPr>
          <p:cNvSpPr/>
          <p:nvPr/>
        </p:nvSpPr>
        <p:spPr>
          <a:xfrm>
            <a:off x="8459640" y="6237360"/>
            <a:ext cx="505080" cy="40464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57" h="21600">
                <a:moveTo>
                  <a:pt x="0" y="0"/>
                </a:moveTo>
                <a:lnTo>
                  <a:pt x="26957" y="0"/>
                </a:lnTo>
                <a:lnTo>
                  <a:pt x="26957" y="21600"/>
                </a:lnTo>
                <a:lnTo>
                  <a:pt x="0" y="21600"/>
                </a:lnTo>
                <a:close/>
              </a:path>
              <a:path fill="lightenLess" w="26957" h="21600">
                <a:moveTo>
                  <a:pt x="0" y="0"/>
                </a:moveTo>
                <a:lnTo>
                  <a:pt x="26957" y="0"/>
                </a:lnTo>
                <a:lnTo>
                  <a:pt x="25557" y="1400"/>
                </a:lnTo>
                <a:lnTo>
                  <a:pt x="1400" y="1400"/>
                </a:lnTo>
                <a:close/>
              </a:path>
              <a:path fill="darken" w="26957" h="21600">
                <a:moveTo>
                  <a:pt x="26957" y="0"/>
                </a:moveTo>
                <a:lnTo>
                  <a:pt x="26957" y="21600"/>
                </a:lnTo>
                <a:lnTo>
                  <a:pt x="25557" y="20200"/>
                </a:lnTo>
                <a:lnTo>
                  <a:pt x="25557" y="1400"/>
                </a:lnTo>
                <a:close/>
              </a:path>
              <a:path fill="darkenLess" w="26957" h="21600">
                <a:moveTo>
                  <a:pt x="269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7" y="20200"/>
                </a:lnTo>
                <a:close/>
              </a:path>
              <a:path fill="lighten" w="269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7" h="21600">
                <a:moveTo>
                  <a:pt x="6472" y="3794"/>
                </a:moveTo>
                <a:lnTo>
                  <a:pt x="20485" y="10800"/>
                </a:lnTo>
                <a:lnTo>
                  <a:pt x="6472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0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640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Работы в условиях радиационного заражения регламентируютс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Нормами радиационной безопасности" (НРБ-76/87), а теперь и НРБ-96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Основными санитарными правилами» (ОСП-72/87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едеральными законам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Об использовании атомной энергии» (1995, № 170-ФЗ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О радиационной безопасности населения» (1996. № 3-ФЗ), которыми установлены правила привлечения граждан к аварийным работам и допустимые пределы облу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овышенное облучение персонала во время аварии может быть оправдано лишь спасением людей, предотвращением развития аварии и облучения большого числа граждан. Работники, получившие повышенные дозы облучения, должны быть немедленно выведены из зоны и направлены на медицинское обследо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4">
            <a:hlinkClick r:id="" action="ppaction://hlinkshowjump?jump=nextslide"/>
          </p:cNvPr>
          <p:cNvSpPr/>
          <p:nvPr/>
        </p:nvSpPr>
        <p:spPr>
          <a:xfrm>
            <a:off x="8459640" y="6237360"/>
            <a:ext cx="505080" cy="40464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57" h="21600">
                <a:moveTo>
                  <a:pt x="0" y="0"/>
                </a:moveTo>
                <a:lnTo>
                  <a:pt x="26957" y="0"/>
                </a:lnTo>
                <a:lnTo>
                  <a:pt x="26957" y="21600"/>
                </a:lnTo>
                <a:lnTo>
                  <a:pt x="0" y="21600"/>
                </a:lnTo>
                <a:close/>
              </a:path>
              <a:path fill="lightenLess" w="26957" h="21600">
                <a:moveTo>
                  <a:pt x="0" y="0"/>
                </a:moveTo>
                <a:lnTo>
                  <a:pt x="26957" y="0"/>
                </a:lnTo>
                <a:lnTo>
                  <a:pt x="25557" y="1400"/>
                </a:lnTo>
                <a:lnTo>
                  <a:pt x="1400" y="1400"/>
                </a:lnTo>
                <a:close/>
              </a:path>
              <a:path fill="darken" w="26957" h="21600">
                <a:moveTo>
                  <a:pt x="26957" y="0"/>
                </a:moveTo>
                <a:lnTo>
                  <a:pt x="26957" y="21600"/>
                </a:lnTo>
                <a:lnTo>
                  <a:pt x="25557" y="20200"/>
                </a:lnTo>
                <a:lnTo>
                  <a:pt x="25557" y="1400"/>
                </a:lnTo>
                <a:close/>
              </a:path>
              <a:path fill="darkenLess" w="26957" h="21600">
                <a:moveTo>
                  <a:pt x="269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7" y="20200"/>
                </a:lnTo>
                <a:close/>
              </a:path>
              <a:path fill="lighten" w="269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7" h="21600">
                <a:moveTo>
                  <a:pt x="6472" y="3794"/>
                </a:moveTo>
                <a:lnTo>
                  <a:pt x="20485" y="10800"/>
                </a:lnTo>
                <a:lnTo>
                  <a:pt x="6472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0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5" dur="1000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2500"/>
                            </p:stCondLst>
                            <p:childTnLst>
                              <p:par>
                                <p:cTn id="817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Особенности проведения АСДНР на территории, зараженной (загрязненной) радиоактивными веществ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96920" y="1412640"/>
            <a:ext cx="87487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ts val="25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ля защиты людей от вредного воздействия радиации (в первую очередь органов дыхания и кожи) </a:t>
            </a: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все работы в зоне радиоактивного загрязнения проводятся в противогазах, респираторах и средствах защиты кож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ts val="25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окончании работ на радиационно загрязненной территории все участвующие в них должны </a:t>
            </a: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пройти санитарную обработку за пределами загрязненного райо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6">
            <a:hlinkClick r:id="" action="ppaction://hlinkshowjump?jump=nextslide"/>
          </p:cNvPr>
          <p:cNvSpPr/>
          <p:nvPr/>
        </p:nvSpPr>
        <p:spPr>
          <a:xfrm>
            <a:off x="8459640" y="6237360"/>
            <a:ext cx="505080" cy="40464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57" h="21600">
                <a:moveTo>
                  <a:pt x="0" y="0"/>
                </a:moveTo>
                <a:lnTo>
                  <a:pt x="26957" y="0"/>
                </a:lnTo>
                <a:lnTo>
                  <a:pt x="26957" y="21600"/>
                </a:lnTo>
                <a:lnTo>
                  <a:pt x="0" y="21600"/>
                </a:lnTo>
                <a:close/>
              </a:path>
              <a:path fill="lightenLess" w="26957" h="21600">
                <a:moveTo>
                  <a:pt x="0" y="0"/>
                </a:moveTo>
                <a:lnTo>
                  <a:pt x="26957" y="0"/>
                </a:lnTo>
                <a:lnTo>
                  <a:pt x="25557" y="1400"/>
                </a:lnTo>
                <a:lnTo>
                  <a:pt x="1400" y="1400"/>
                </a:lnTo>
                <a:close/>
              </a:path>
              <a:path fill="darken" w="26957" h="21600">
                <a:moveTo>
                  <a:pt x="26957" y="0"/>
                </a:moveTo>
                <a:lnTo>
                  <a:pt x="26957" y="21600"/>
                </a:lnTo>
                <a:lnTo>
                  <a:pt x="25557" y="20200"/>
                </a:lnTo>
                <a:lnTo>
                  <a:pt x="25557" y="1400"/>
                </a:lnTo>
                <a:close/>
              </a:path>
              <a:path fill="darkenLess" w="26957" h="21600">
                <a:moveTo>
                  <a:pt x="269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7" y="20200"/>
                </a:lnTo>
                <a:close/>
              </a:path>
              <a:path fill="lighten" w="269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7" h="21600">
                <a:moveTo>
                  <a:pt x="6472" y="3794"/>
                </a:moveTo>
                <a:lnTo>
                  <a:pt x="20485" y="10800"/>
                </a:lnTo>
                <a:lnTo>
                  <a:pt x="6472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0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afterEffect" fill="hold" presetClass="exit" presetID="3" presetSubtype="10">
                                  <p:stCondLst>
                                    <p:cond delay="8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28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xit" presetID="3" presetSubtype="10">
                                  <p:stCondLst>
                                    <p:cond delay="8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31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8500"/>
                            </p:stCondLst>
                            <p:childTnLst>
                              <p:par>
                                <p:cTn id="834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Способы защиты населения </a:t>
            </a:r>
            <a:br>
              <a:rPr sz="3200"/>
            </a:b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(работников) при радиационной ава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304920" y="1268280"/>
            <a:ext cx="853272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вакуация населения в безопасные район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дение непрерывной разведки на заражённой территории, сбор и обработка информации о радиационной обстановк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зиметрический и радиационный контрол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стоянное информирование населения о радиационной обстановке в районе авар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9">
            <a:hlinkClick r:id="" action="ppaction://hlinkshowjump?jump=nextslide"/>
          </p:cNvPr>
          <p:cNvSpPr/>
          <p:nvPr/>
        </p:nvSpPr>
        <p:spPr>
          <a:xfrm>
            <a:off x="8459640" y="6237360"/>
            <a:ext cx="505080" cy="40464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57" h="21600">
                <a:moveTo>
                  <a:pt x="0" y="0"/>
                </a:moveTo>
                <a:lnTo>
                  <a:pt x="26957" y="0"/>
                </a:lnTo>
                <a:lnTo>
                  <a:pt x="26957" y="21600"/>
                </a:lnTo>
                <a:lnTo>
                  <a:pt x="0" y="21600"/>
                </a:lnTo>
                <a:close/>
              </a:path>
              <a:path fill="lightenLess" w="26957" h="21600">
                <a:moveTo>
                  <a:pt x="0" y="0"/>
                </a:moveTo>
                <a:lnTo>
                  <a:pt x="26957" y="0"/>
                </a:lnTo>
                <a:lnTo>
                  <a:pt x="25557" y="1400"/>
                </a:lnTo>
                <a:lnTo>
                  <a:pt x="1400" y="1400"/>
                </a:lnTo>
                <a:close/>
              </a:path>
              <a:path fill="darken" w="26957" h="21600">
                <a:moveTo>
                  <a:pt x="26957" y="0"/>
                </a:moveTo>
                <a:lnTo>
                  <a:pt x="26957" y="21600"/>
                </a:lnTo>
                <a:lnTo>
                  <a:pt x="25557" y="20200"/>
                </a:lnTo>
                <a:lnTo>
                  <a:pt x="25557" y="1400"/>
                </a:lnTo>
                <a:close/>
              </a:path>
              <a:path fill="darkenLess" w="26957" h="21600">
                <a:moveTo>
                  <a:pt x="269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7" y="20200"/>
                </a:lnTo>
                <a:close/>
              </a:path>
              <a:path fill="lighten" w="269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7" h="21600">
                <a:moveTo>
                  <a:pt x="6472" y="3794"/>
                </a:moveTo>
                <a:lnTo>
                  <a:pt x="20485" y="10800"/>
                </a:lnTo>
                <a:lnTo>
                  <a:pt x="6472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0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6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1500"/>
                            </p:stCondLst>
                            <p:childTnLst>
                              <p:par>
                                <p:cTn id="848" nodeType="afterEffect" fill="hold" presetClass="exit" presetID="3" presetSubtype="5">
                                  <p:stCondLst>
                                    <p:cond delay="350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849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5500"/>
                            </p:stCondLst>
                            <p:childTnLst>
                              <p:par>
                                <p:cTn id="852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54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6500"/>
                            </p:stCondLst>
                            <p:childTnLst>
                              <p:par>
                                <p:cTn id="856" nodeType="afterEffect" fill="hold" presetClass="exit" presetID="3" presetSubtype="5">
                                  <p:stCondLst>
                                    <p:cond delay="350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857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10500"/>
                            </p:stCondLst>
                            <p:childTnLst>
                              <p:par>
                                <p:cTn id="860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2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1500"/>
                            </p:stCondLst>
                            <p:childTnLst>
                              <p:par>
                                <p:cTn id="864" nodeType="afterEffect" fill="hold" presetClass="exit" presetID="3" presetSubtype="5">
                                  <p:stCondLst>
                                    <p:cond delay="350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865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15500"/>
                            </p:stCondLst>
                            <p:childTnLst>
                              <p:par>
                                <p:cTn id="868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0" dur="5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19000"/>
                            </p:stCondLst>
                            <p:childTnLst>
                              <p:par>
                                <p:cTn id="872" nodeType="afterEffect" fill="hold" presetClass="exit" presetID="3" presetSubtype="5">
                                  <p:stCondLst>
                                    <p:cond delay="350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873" dur="5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23000"/>
                            </p:stCondLst>
                            <p:childTnLst>
                              <p:par>
                                <p:cTn id="876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5" descr="2-3"/>
          <p:cNvPicPr/>
          <p:nvPr/>
        </p:nvPicPr>
        <p:blipFill>
          <a:blip r:embed="rId1"/>
          <a:stretch/>
        </p:blipFill>
        <p:spPr>
          <a:xfrm>
            <a:off x="4572000" y="1341360"/>
            <a:ext cx="4572000" cy="342432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10"/>
          <p:cNvSpPr/>
          <p:nvPr/>
        </p:nvSpPr>
        <p:spPr>
          <a:xfrm>
            <a:off x="605880" y="166680"/>
            <a:ext cx="829908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Способы защиты насел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(работников) при радиационной ава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1"/>
          <p:cNvSpPr/>
          <p:nvPr/>
        </p:nvSpPr>
        <p:spPr>
          <a:xfrm>
            <a:off x="250920" y="1268280"/>
            <a:ext cx="3960720" cy="51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ьзование С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ов дыхания и кож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тивогаз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тивопыльные тканевые мас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тно-марлевые повяз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меры защитные детские, респира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щитные костюмы (комбинезон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14">
            <a:hlinkClick r:id="" action="ppaction://hlinkshowjump?jump=nextslide"/>
          </p:cNvPr>
          <p:cNvSpPr/>
          <p:nvPr/>
        </p:nvSpPr>
        <p:spPr>
          <a:xfrm>
            <a:off x="8459640" y="6237360"/>
            <a:ext cx="505080" cy="40464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57" h="21600">
                <a:moveTo>
                  <a:pt x="0" y="0"/>
                </a:moveTo>
                <a:lnTo>
                  <a:pt x="26957" y="0"/>
                </a:lnTo>
                <a:lnTo>
                  <a:pt x="26957" y="21600"/>
                </a:lnTo>
                <a:lnTo>
                  <a:pt x="0" y="21600"/>
                </a:lnTo>
                <a:close/>
              </a:path>
              <a:path fill="lightenLess" w="26957" h="21600">
                <a:moveTo>
                  <a:pt x="0" y="0"/>
                </a:moveTo>
                <a:lnTo>
                  <a:pt x="26957" y="0"/>
                </a:lnTo>
                <a:lnTo>
                  <a:pt x="25557" y="1400"/>
                </a:lnTo>
                <a:lnTo>
                  <a:pt x="1400" y="1400"/>
                </a:lnTo>
                <a:close/>
              </a:path>
              <a:path fill="darken" w="26957" h="21600">
                <a:moveTo>
                  <a:pt x="26957" y="0"/>
                </a:moveTo>
                <a:lnTo>
                  <a:pt x="26957" y="21600"/>
                </a:lnTo>
                <a:lnTo>
                  <a:pt x="25557" y="20200"/>
                </a:lnTo>
                <a:lnTo>
                  <a:pt x="25557" y="1400"/>
                </a:lnTo>
                <a:close/>
              </a:path>
              <a:path fill="darkenLess" w="26957" h="21600">
                <a:moveTo>
                  <a:pt x="269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7" y="20200"/>
                </a:lnTo>
                <a:close/>
              </a:path>
              <a:path fill="lighten" w="269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7" h="21600">
                <a:moveTo>
                  <a:pt x="6472" y="3794"/>
                </a:moveTo>
                <a:lnTo>
                  <a:pt x="20485" y="10800"/>
                </a:lnTo>
                <a:lnTo>
                  <a:pt x="6472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0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0" dur="1000"/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1000"/>
                            </p:stCondLst>
                            <p:childTnLst>
                              <p:par>
                                <p:cTn id="892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6" dur="1000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2500"/>
                            </p:stCondLst>
                            <p:childTnLst>
                              <p:par>
                                <p:cTn id="898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2" dur="100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4000"/>
                            </p:stCondLst>
                            <p:childTnLst>
                              <p:par>
                                <p:cTn id="904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8" dur="10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8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11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5500"/>
                            </p:stCondLst>
                            <p:childTnLst>
                              <p:par>
                                <p:cTn id="913" nodeType="afterEffect" fill="hold" presetClass="exit" presetID="8" presetSubtype="16">
                                  <p:stCondLst>
                                    <p:cond delay="2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1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8000"/>
                            </p:stCondLst>
                            <p:childTnLst>
                              <p:par>
                                <p:cTn id="9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1" dur="10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9000"/>
                            </p:stCondLst>
                            <p:childTnLst>
                              <p:par>
                                <p:cTn id="923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обенности проведения АСДНР на территории, зараженной (загрязненной) радиоактивными веществ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0" y="2276640"/>
            <a:ext cx="896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ts val="25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 время работы следует применять меры для </a:t>
            </a: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уменьшения пылеобразования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Для этого в сухую летнюю погоду, а при соответствующих условиях и в другое время года при разборке разрушенных зданий, расчистке проездов и других операциях, связанных с образованием большого количества пыли, эти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участки рекомендуется поливать и смачивать водой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Такие действия, хотя и не снижают уровня радиации на местности, но значительно уменьшают количество радиоактивной пы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6">
            <a:hlinkClick r:id="rId1" action="ppaction://hlinksldjump"/>
          </p:cNvPr>
          <p:cNvSpPr/>
          <p:nvPr/>
        </p:nvSpPr>
        <p:spPr>
          <a:xfrm rot="5400000">
            <a:off x="8203680" y="5918040"/>
            <a:ext cx="620640" cy="1258920"/>
          </a:xfrm>
          <a:custGeom>
            <a:avLst/>
            <a:gdLst>
              <a:gd name="textAreaLeft" fmla="*/ 39960 w 620640"/>
              <a:gd name="textAreaRight" fmla="*/ 580680 w 620640"/>
              <a:gd name="textAreaTop" fmla="*/ 39960 h 1258920"/>
              <a:gd name="textAreaBottom" fmla="*/ 1218960 h 1258920"/>
            </a:gdLst>
            <a:ahLst/>
            <a:rect l="textAreaLeft" t="textAreaTop" r="textAreaRight" b="textAreaBottom"/>
            <a:pathLst>
              <a:path w="21600" h="43801">
                <a:moveTo>
                  <a:pt x="0" y="0"/>
                </a:moveTo>
                <a:lnTo>
                  <a:pt x="21600" y="0"/>
                </a:lnTo>
                <a:lnTo>
                  <a:pt x="21600" y="43801"/>
                </a:lnTo>
                <a:lnTo>
                  <a:pt x="0" y="43801"/>
                </a:lnTo>
                <a:close/>
              </a:path>
              <a:path fill="lightenLess" w="21600" h="4380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801">
                <a:moveTo>
                  <a:pt x="21600" y="0"/>
                </a:moveTo>
                <a:lnTo>
                  <a:pt x="21600" y="43801"/>
                </a:lnTo>
                <a:lnTo>
                  <a:pt x="20200" y="42401"/>
                </a:lnTo>
                <a:lnTo>
                  <a:pt x="20200" y="1400"/>
                </a:lnTo>
                <a:close/>
              </a:path>
              <a:path fill="darkenLess" w="21600" h="43801">
                <a:moveTo>
                  <a:pt x="21600" y="43801"/>
                </a:moveTo>
                <a:lnTo>
                  <a:pt x="0" y="43801"/>
                </a:lnTo>
                <a:lnTo>
                  <a:pt x="1400" y="42401"/>
                </a:lnTo>
                <a:lnTo>
                  <a:pt x="20200" y="42401"/>
                </a:lnTo>
                <a:close/>
              </a:path>
              <a:path fill="lighten" w="21600" h="43801">
                <a:moveTo>
                  <a:pt x="0" y="43801"/>
                </a:moveTo>
                <a:lnTo>
                  <a:pt x="0" y="0"/>
                </a:lnTo>
                <a:lnTo>
                  <a:pt x="1400" y="1400"/>
                </a:lnTo>
                <a:lnTo>
                  <a:pt x="1400" y="42401"/>
                </a:lnTo>
                <a:close/>
              </a:path>
              <a:path fill="darken" w="21600" h="43801">
                <a:moveTo>
                  <a:pt x="3794" y="14894"/>
                </a:moveTo>
                <a:lnTo>
                  <a:pt x="17806" y="21901"/>
                </a:lnTo>
                <a:lnTo>
                  <a:pt x="3794" y="28907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0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Особенности проведения АСДНР на территории, зараженной отравляющими (аварийно - химически опасными) веществ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6"/>
          <p:cNvSpPr/>
          <p:nvPr/>
        </p:nvSpPr>
        <p:spPr>
          <a:xfrm>
            <a:off x="1114560" y="1484280"/>
            <a:ext cx="7489800" cy="57636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66ffff"/>
              </a:gs>
            </a:gsLst>
            <a:lin ang="18900000"/>
          </a:gra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ры безопасности прежде всего зависят 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7"/>
          <p:cNvSpPr/>
          <p:nvPr/>
        </p:nvSpPr>
        <p:spPr>
          <a:xfrm>
            <a:off x="1187280" y="2349360"/>
            <a:ext cx="3384720" cy="71928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66ffff"/>
              </a:gs>
            </a:gsLst>
            <a:lin ang="18900000"/>
          </a:gra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да АХ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8"/>
          <p:cNvSpPr/>
          <p:nvPr/>
        </p:nvSpPr>
        <p:spPr>
          <a:xfrm>
            <a:off x="5219640" y="2349360"/>
            <a:ext cx="3384720" cy="71928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66ffff"/>
              </a:gs>
            </a:gsLst>
            <a:lin ang="18900000"/>
          </a:gra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зическ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ойств АХ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9"/>
          <p:cNvSpPr/>
          <p:nvPr/>
        </p:nvSpPr>
        <p:spPr>
          <a:xfrm>
            <a:off x="1187280" y="3141720"/>
            <a:ext cx="3384720" cy="129708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66ffff"/>
              </a:gs>
            </a:gsLst>
            <a:lin ang="18900000"/>
          </a:gra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личе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брошен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окружающу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у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0"/>
          <p:cNvSpPr/>
          <p:nvPr/>
        </p:nvSpPr>
        <p:spPr>
          <a:xfrm>
            <a:off x="5219640" y="3213000"/>
            <a:ext cx="3384720" cy="71928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66ffff"/>
              </a:gs>
            </a:gsLst>
            <a:lin ang="18900000"/>
          </a:gra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еорологическ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ло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2"/>
          <p:cNvSpPr/>
          <p:nvPr/>
        </p:nvSpPr>
        <p:spPr>
          <a:xfrm>
            <a:off x="1187280" y="4797360"/>
            <a:ext cx="3384720" cy="71928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66ffff"/>
              </a:gs>
            </a:gsLst>
            <a:lin ang="18900000"/>
          </a:gra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орости ве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3"/>
          <p:cNvSpPr/>
          <p:nvPr/>
        </p:nvSpPr>
        <p:spPr>
          <a:xfrm>
            <a:off x="5292720" y="5661000"/>
            <a:ext cx="3384720" cy="71928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66ffff"/>
              </a:gs>
            </a:gsLst>
            <a:lin ang="18900000"/>
          </a:gra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ремени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4"/>
          <p:cNvSpPr/>
          <p:nvPr/>
        </p:nvSpPr>
        <p:spPr>
          <a:xfrm>
            <a:off x="5292720" y="4797360"/>
            <a:ext cx="3384720" cy="71928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66ffff"/>
              </a:gs>
            </a:gsLst>
            <a:lin ang="18900000"/>
          </a:gra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пературы возду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2" name="AutoShape 15"/>
          <p:cNvCxnSpPr>
            <a:stCxn id="298" idx="2"/>
            <a:endCxn id="299" idx="0"/>
          </p:cNvCxnSpPr>
          <p:nvPr/>
        </p:nvCxnSpPr>
        <p:spPr>
          <a:xfrm rot="5400000">
            <a:off x="4476960" y="2348280"/>
            <a:ext cx="837000" cy="4033080"/>
          </a:xfrm>
          <a:prstGeom prst="bentConnector3">
            <a:avLst>
              <a:gd name="adj1" fmla="val 79302"/>
            </a:avLst>
          </a:prstGeom>
          <a:ln w="3816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3" name="AutoShape 16"/>
          <p:cNvCxnSpPr>
            <a:stCxn id="298" idx="2"/>
            <a:endCxn id="301" idx="0"/>
          </p:cNvCxnSpPr>
          <p:nvPr/>
        </p:nvCxnSpPr>
        <p:spPr>
          <a:xfrm flipH="1" rot="16200000">
            <a:off x="6529320" y="4327920"/>
            <a:ext cx="837000" cy="73800"/>
          </a:xfrm>
          <a:prstGeom prst="bentConnector3">
            <a:avLst>
              <a:gd name="adj1" fmla="val 49870"/>
            </a:avLst>
          </a:prstGeom>
          <a:ln w="3816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4" name="Rectangle 11"/>
          <p:cNvSpPr/>
          <p:nvPr/>
        </p:nvSpPr>
        <p:spPr>
          <a:xfrm>
            <a:off x="5580000" y="4221000"/>
            <a:ext cx="2519280" cy="3589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66ffff"/>
              </a:gs>
            </a:gsLst>
            <a:lin ang="18900000"/>
          </a:gra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ервую очередь 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46000" y="2923920"/>
            <a:ext cx="74520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17"/>
          <p:cNvSpPr/>
          <p:nvPr/>
        </p:nvSpPr>
        <p:spPr>
          <a:xfrm>
            <a:off x="324000" y="5300640"/>
            <a:ext cx="576000" cy="72072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720720"/>
              <a:gd name="textAreaBottom" fmla="*/ 683640 h 720720"/>
            </a:gdLst>
            <a:ahLst/>
            <a:rect l="textAreaLeft" t="textAreaTop" r="textAreaRight" b="textAreaBottom"/>
            <a:pathLst>
              <a:path w="21600" h="27024">
                <a:moveTo>
                  <a:pt x="0" y="0"/>
                </a:moveTo>
                <a:lnTo>
                  <a:pt x="21600" y="0"/>
                </a:lnTo>
                <a:lnTo>
                  <a:pt x="21600" y="27024"/>
                </a:lnTo>
                <a:lnTo>
                  <a:pt x="0" y="27024"/>
                </a:lnTo>
                <a:close/>
              </a:path>
              <a:path fill="lightenLess" w="21600" h="270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24">
                <a:moveTo>
                  <a:pt x="21600" y="0"/>
                </a:moveTo>
                <a:lnTo>
                  <a:pt x="21600" y="27024"/>
                </a:lnTo>
                <a:lnTo>
                  <a:pt x="20200" y="25624"/>
                </a:lnTo>
                <a:lnTo>
                  <a:pt x="20200" y="1400"/>
                </a:lnTo>
                <a:close/>
              </a:path>
              <a:path fill="darkenLess" w="21600" h="27024">
                <a:moveTo>
                  <a:pt x="21600" y="27024"/>
                </a:moveTo>
                <a:lnTo>
                  <a:pt x="0" y="27024"/>
                </a:lnTo>
                <a:lnTo>
                  <a:pt x="1400" y="25624"/>
                </a:lnTo>
                <a:lnTo>
                  <a:pt x="20200" y="25624"/>
                </a:lnTo>
                <a:close/>
              </a:path>
              <a:path fill="lighten" w="21600" h="27024">
                <a:moveTo>
                  <a:pt x="0" y="270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24"/>
                </a:lnTo>
                <a:close/>
              </a:path>
              <a:path fill="darkenLess" w="21600" h="27024">
                <a:moveTo>
                  <a:pt x="5273" y="6697"/>
                </a:moveTo>
                <a:lnTo>
                  <a:pt x="12271" y="6697"/>
                </a:lnTo>
                <a:lnTo>
                  <a:pt x="16327" y="10196"/>
                </a:lnTo>
                <a:lnTo>
                  <a:pt x="16327" y="20327"/>
                </a:lnTo>
                <a:lnTo>
                  <a:pt x="5273" y="20327"/>
                </a:lnTo>
                <a:close/>
              </a:path>
              <a:path fill="darken" w="21600" h="27024">
                <a:moveTo>
                  <a:pt x="12271" y="6697"/>
                </a:moveTo>
                <a:lnTo>
                  <a:pt x="16327" y="10196"/>
                </a:lnTo>
                <a:lnTo>
                  <a:pt x="12271" y="10196"/>
                </a:lnTo>
                <a:close/>
              </a:path>
            </a:pathLst>
          </a:custGeom>
          <a:gradFill rotWithShape="0">
            <a:gsLst>
              <a:gs pos="0">
                <a:srgbClr val="663300"/>
              </a:gs>
              <a:gs pos="50000">
                <a:srgbClr val="cc9900"/>
              </a:gs>
              <a:gs pos="100000">
                <a:srgbClr val="6633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18">
            <a:hlinkClick r:id="" action="ppaction://hlinkshowjump?jump=nextslide"/>
          </p:cNvPr>
          <p:cNvSpPr/>
          <p:nvPr/>
        </p:nvSpPr>
        <p:spPr>
          <a:xfrm>
            <a:off x="8388360" y="6453360"/>
            <a:ext cx="504720" cy="40464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5538" y="1400"/>
                </a:lnTo>
                <a:lnTo>
                  <a:pt x="1400" y="1400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5538" y="20200"/>
                </a:lnTo>
                <a:lnTo>
                  <a:pt x="25538" y="1400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8" y="20200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8" h="21600">
                <a:moveTo>
                  <a:pt x="6462" y="3794"/>
                </a:moveTo>
                <a:lnTo>
                  <a:pt x="20475" y="10800"/>
                </a:lnTo>
                <a:lnTo>
                  <a:pt x="6462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647960" y="1980720"/>
            <a:ext cx="3809880" cy="25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45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1000"/>
                            </p:stCondLst>
                            <p:childTnLst>
                              <p:par>
                                <p:cTn id="947" nodeType="afterEffect" fill="hold" presetClass="entr" presetID="8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49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2500"/>
                            </p:stCondLst>
                            <p:childTnLst>
                              <p:par>
                                <p:cTn id="951" nodeType="afterEffect" fill="hold" presetClass="entr" presetID="8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53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4500"/>
                            </p:stCondLst>
                            <p:childTnLst>
                              <p:par>
                                <p:cTn id="955" nodeType="afterEffect" fill="hold" presetClass="entr" presetID="8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57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6500"/>
                            </p:stCondLst>
                            <p:childTnLst>
                              <p:par>
                                <p:cTn id="959" nodeType="afterEffect" fill="hold" presetClass="entr" presetID="8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61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8500"/>
                            </p:stCondLst>
                            <p:childTnLst>
                              <p:par>
                                <p:cTn id="963" nodeType="afterEffect" fill="hold" presetClass="entr" presetID="8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65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8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68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8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71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8" presetSubtype="3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74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8" presetSubtype="3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7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11000"/>
                            </p:stCondLst>
                            <p:childTnLst>
                              <p:par>
                                <p:cTn id="979" nodeType="afterEffect" fill="hold" presetClass="entr" presetID="8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8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98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nodeType="with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98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0" nodeType="with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99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3" nodeType="with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99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99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9" nodeType="with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100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nodeType="with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100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5" nodeType="with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100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8" nodeType="with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100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1" nodeType="with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101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500"/>
                            </p:stCondLst>
                            <p:childTnLst>
                              <p:par>
                                <p:cTn id="1015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1.66667E-006 -4.50867E-006 L -0.26771 -0.59791 E">
                                      <p:cBhvr>
                                        <p:cTn id="1016" dur="2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8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20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2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24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1028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1033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5" nodeType="with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103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500"/>
                            </p:stCondLst>
                            <p:childTnLst>
                              <p:par>
                                <p:cTn id="1039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6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1380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МЕРЫ БЕЗОПАСНОСТИ ПРИ РАБОТАХ В </a:t>
            </a:r>
            <a:br>
              <a:rPr sz="3200"/>
            </a:b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УСЛОВИЯХ ЗАРАЖЕНИЯ АХ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-360" y="980640"/>
            <a:ext cx="867564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1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Для каждого предприятия, связанного с использованием вредных и опасных веществ, разрабатывают способы ликвидации аварий и соответствующие им мероприятия по безопасности, к которым помимо тщательного контроля за исправностью оборудования и состоянием воздушной среды относится оповещение о возможной химической опасности на территории самого предприятия и на соответствующих смежных территория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1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Эти </a:t>
            </a:r>
            <a:r>
              <a:rPr b="1" lang="ru-RU" sz="2600" spc="-1" strike="noStrike" u="sng">
                <a:solidFill>
                  <a:srgbClr val="ff3300"/>
                </a:solidFill>
                <a:uFillTx/>
                <a:latin typeface="Arial"/>
              </a:rPr>
              <a:t>мероприятия отражаются в "Плане действий объекта по предупреждению и ликвидации ЧС"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и должны учитываться всеми руководителями аварийно-спасательных служб и формирований, участвующих в ликвидации ЧС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4" descr="File0037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4814640"/>
          </a:xfrm>
          <a:prstGeom prst="rect">
            <a:avLst/>
          </a:prstGeom>
          <a:ln w="0">
            <a:noFill/>
          </a:ln>
        </p:spPr>
      </p:pic>
      <p:sp>
        <p:nvSpPr>
          <p:cNvPr id="312" name="AutoShape 7">
            <a:hlinkClick r:id="" action="ppaction://hlinkshowjump?jump=nextslide"/>
          </p:cNvPr>
          <p:cNvSpPr/>
          <p:nvPr/>
        </p:nvSpPr>
        <p:spPr>
          <a:xfrm>
            <a:off x="8459640" y="6237360"/>
            <a:ext cx="684360" cy="620640"/>
          </a:xfrm>
          <a:custGeom>
            <a:avLst/>
            <a:gdLst>
              <a:gd name="textAreaLeft" fmla="*/ 39960 w 684360"/>
              <a:gd name="textAreaRight" fmla="*/ 644400 w 6843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3816" h="21600">
                <a:moveTo>
                  <a:pt x="0" y="0"/>
                </a:moveTo>
                <a:lnTo>
                  <a:pt x="23816" y="0"/>
                </a:lnTo>
                <a:lnTo>
                  <a:pt x="23816" y="21600"/>
                </a:lnTo>
                <a:lnTo>
                  <a:pt x="0" y="21600"/>
                </a:lnTo>
                <a:close/>
              </a:path>
              <a:path fill="lightenLess" w="23816" h="21600">
                <a:moveTo>
                  <a:pt x="0" y="0"/>
                </a:moveTo>
                <a:lnTo>
                  <a:pt x="23816" y="0"/>
                </a:lnTo>
                <a:lnTo>
                  <a:pt x="22416" y="1400"/>
                </a:lnTo>
                <a:lnTo>
                  <a:pt x="1400" y="1400"/>
                </a:lnTo>
                <a:close/>
              </a:path>
              <a:path fill="darken" w="23816" h="21600">
                <a:moveTo>
                  <a:pt x="23816" y="0"/>
                </a:moveTo>
                <a:lnTo>
                  <a:pt x="23816" y="21600"/>
                </a:lnTo>
                <a:lnTo>
                  <a:pt x="22416" y="20200"/>
                </a:lnTo>
                <a:lnTo>
                  <a:pt x="22416" y="1400"/>
                </a:lnTo>
                <a:close/>
              </a:path>
              <a:path fill="darkenLess" w="23816" h="21600">
                <a:moveTo>
                  <a:pt x="23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16" y="20200"/>
                </a:lnTo>
                <a:close/>
              </a:path>
              <a:path fill="lighten" w="23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16" h="21600">
                <a:moveTo>
                  <a:pt x="4902" y="3794"/>
                </a:moveTo>
                <a:lnTo>
                  <a:pt x="18915" y="10800"/>
                </a:lnTo>
                <a:lnTo>
                  <a:pt x="4902" y="17806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3399ff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2" dur="indefinite" restart="never" nodeType="tmRoot">
          <p:childTnLst>
            <p:seq>
              <p:cTn id="1053" dur="indefinite" nodeType="mainSeq">
                <p:childTnLst>
                  <p:par>
                    <p:cTn id="1054" fill="hold">
                      <p:stCondLst>
                        <p:cond delay="0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8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0" nodeType="afterEffect" fill="hold" presetClass="entr" presetID="3" presetSubtype="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2" dur="5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6500"/>
                            </p:stCondLst>
                            <p:childTnLst>
                              <p:par>
                                <p:cTn id="1064" nodeType="afterEffect" fill="hold" presetClass="exit" presetID="3" presetSubtype="5">
                                  <p:stCondLst>
                                    <p:cond delay="500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1065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68" nodeType="afterEffect" fill="hold" presetClass="exit" presetID="3" presetSubtype="5">
                                  <p:stCondLst>
                                    <p:cond delay="50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1069" dur="5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72" nodeType="afterEffect" fill="hold" presetClass="entr" presetID="8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7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76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Работников обеспечивают защитной одеждой и противогазами: промышленными, изолирующими, шланговыми, в зависимости от обстановки и имеющихся возмож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4" descr="изолирующий"/>
          <p:cNvPicPr/>
          <p:nvPr/>
        </p:nvPicPr>
        <p:blipFill>
          <a:blip r:embed="rId1"/>
          <a:stretch/>
        </p:blipFill>
        <p:spPr>
          <a:xfrm>
            <a:off x="0" y="2033640"/>
            <a:ext cx="5724360" cy="48243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6" descr="03-5"/>
          <p:cNvPicPr/>
          <p:nvPr/>
        </p:nvPicPr>
        <p:blipFill>
          <a:blip r:embed="rId2"/>
          <a:stretch/>
        </p:blipFill>
        <p:spPr>
          <a:xfrm>
            <a:off x="2700360" y="2035080"/>
            <a:ext cx="6443640" cy="48229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8" descr="ГДЗК"/>
          <p:cNvPicPr/>
          <p:nvPr/>
        </p:nvPicPr>
        <p:blipFill>
          <a:blip r:embed="rId3"/>
          <a:stretch/>
        </p:blipFill>
        <p:spPr>
          <a:xfrm>
            <a:off x="0" y="1844640"/>
            <a:ext cx="3433680" cy="50133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9" descr="ПФМ-1-без текста"/>
          <p:cNvPicPr/>
          <p:nvPr/>
        </p:nvPicPr>
        <p:blipFill>
          <a:blip r:embed="rId4"/>
          <a:stretch/>
        </p:blipFill>
        <p:spPr>
          <a:xfrm>
            <a:off x="5797440" y="1808280"/>
            <a:ext cx="3346560" cy="50497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1" descr="ЗАЩ КОСТ"/>
          <p:cNvPicPr/>
          <p:nvPr/>
        </p:nvPicPr>
        <p:blipFill>
          <a:blip r:embed="rId5"/>
          <a:stretch/>
        </p:blipFill>
        <p:spPr>
          <a:xfrm>
            <a:off x="3368520" y="1484280"/>
            <a:ext cx="2387880" cy="5373720"/>
          </a:xfrm>
          <a:prstGeom prst="rect">
            <a:avLst/>
          </a:prstGeom>
          <a:ln w="0">
            <a:noFill/>
          </a:ln>
        </p:spPr>
      </p:pic>
      <p:sp>
        <p:nvSpPr>
          <p:cNvPr id="319" name="AutoShape 14">
            <a:hlinkClick r:id="" action="ppaction://hlinkshowjump?jump=nextslide"/>
          </p:cNvPr>
          <p:cNvSpPr/>
          <p:nvPr/>
        </p:nvSpPr>
        <p:spPr>
          <a:xfrm>
            <a:off x="8459640" y="6237360"/>
            <a:ext cx="684360" cy="620640"/>
          </a:xfrm>
          <a:custGeom>
            <a:avLst/>
            <a:gdLst>
              <a:gd name="textAreaLeft" fmla="*/ 39960 w 684360"/>
              <a:gd name="textAreaRight" fmla="*/ 644400 w 6843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3816" h="21600">
                <a:moveTo>
                  <a:pt x="0" y="0"/>
                </a:moveTo>
                <a:lnTo>
                  <a:pt x="23816" y="0"/>
                </a:lnTo>
                <a:lnTo>
                  <a:pt x="23816" y="21600"/>
                </a:lnTo>
                <a:lnTo>
                  <a:pt x="0" y="21600"/>
                </a:lnTo>
                <a:close/>
              </a:path>
              <a:path fill="lightenLess" w="23816" h="21600">
                <a:moveTo>
                  <a:pt x="0" y="0"/>
                </a:moveTo>
                <a:lnTo>
                  <a:pt x="23816" y="0"/>
                </a:lnTo>
                <a:lnTo>
                  <a:pt x="22416" y="1400"/>
                </a:lnTo>
                <a:lnTo>
                  <a:pt x="1400" y="1400"/>
                </a:lnTo>
                <a:close/>
              </a:path>
              <a:path fill="darken" w="23816" h="21600">
                <a:moveTo>
                  <a:pt x="23816" y="0"/>
                </a:moveTo>
                <a:lnTo>
                  <a:pt x="23816" y="21600"/>
                </a:lnTo>
                <a:lnTo>
                  <a:pt x="22416" y="20200"/>
                </a:lnTo>
                <a:lnTo>
                  <a:pt x="22416" y="1400"/>
                </a:lnTo>
                <a:close/>
              </a:path>
              <a:path fill="darkenLess" w="23816" h="21600">
                <a:moveTo>
                  <a:pt x="23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16" y="20200"/>
                </a:lnTo>
                <a:close/>
              </a:path>
              <a:path fill="lighten" w="23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16" h="21600">
                <a:moveTo>
                  <a:pt x="4902" y="3794"/>
                </a:moveTo>
                <a:lnTo>
                  <a:pt x="18915" y="10800"/>
                </a:lnTo>
                <a:lnTo>
                  <a:pt x="4902" y="17806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3399ff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2" dur="indefinite" restart="never" nodeType="tmRoot">
          <p:childTnLst>
            <p:seq>
              <p:cTn id="1083" dur="indefinite" nodeType="mainSeq">
                <p:childTnLst>
                  <p:par>
                    <p:cTn id="1084" fill="hold">
                      <p:stCondLst>
                        <p:cond delay="0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afterEffect" fill="hold" presetClass="entr" presetID="8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8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0" nodeType="afterEffect" fill="hold" presetClass="exit" presetID="3" presetSubtype="5">
                                  <p:stCondLst>
                                    <p:cond delay="200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109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4" nodeType="afterEffect" fill="hold" presetClass="entr" presetID="8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9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8" nodeType="afterEffect" fill="hold" presetClass="exit" presetID="3" presetSubtype="5">
                                  <p:stCondLst>
                                    <p:cond delay="350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109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0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04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06" nodeType="afterEffect" fill="hold" presetClass="exit" presetID="3" presetSubtype="5">
                                  <p:stCondLst>
                                    <p:cond delay="200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110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1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12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15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fill="hold">
                            <p:stCondLst>
                              <p:cond delay="14500"/>
                            </p:stCondLst>
                            <p:childTnLst>
                              <p:par>
                                <p:cTn id="1117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69696"/>
            </a:gs>
            <a:gs pos="100000">
              <a:srgbClr val="dddddd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3905280" y="3798720"/>
            <a:ext cx="1523880" cy="389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9"/>
          <p:cNvSpPr/>
          <p:nvPr/>
        </p:nvSpPr>
        <p:spPr>
          <a:xfrm>
            <a:off x="1332000" y="4508640"/>
            <a:ext cx="6705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324000" y="4869000"/>
            <a:ext cx="2111400" cy="6858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род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2495520" y="4869000"/>
            <a:ext cx="2111400" cy="6858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хног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2"/>
          <p:cNvSpPr/>
          <p:nvPr/>
        </p:nvSpPr>
        <p:spPr>
          <a:xfrm>
            <a:off x="4643280" y="4869000"/>
            <a:ext cx="2111400" cy="6858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олог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ци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3"/>
          <p:cNvSpPr/>
          <p:nvPr/>
        </p:nvSpPr>
        <p:spPr>
          <a:xfrm>
            <a:off x="6827760" y="4878360"/>
            <a:ext cx="2111400" cy="6858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2825280" y="4119480"/>
            <a:ext cx="372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характеру              источ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5"/>
          <p:cNvSpPr/>
          <p:nvPr/>
        </p:nvSpPr>
        <p:spPr>
          <a:xfrm>
            <a:off x="1314360" y="448776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6"/>
          <p:cNvSpPr/>
          <p:nvPr/>
        </p:nvSpPr>
        <p:spPr>
          <a:xfrm>
            <a:off x="3524400" y="448776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7"/>
          <p:cNvSpPr/>
          <p:nvPr/>
        </p:nvSpPr>
        <p:spPr>
          <a:xfrm>
            <a:off x="5810400" y="448776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8"/>
          <p:cNvSpPr/>
          <p:nvPr/>
        </p:nvSpPr>
        <p:spPr>
          <a:xfrm>
            <a:off x="8020080" y="448776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9"/>
          <p:cNvSpPr/>
          <p:nvPr/>
        </p:nvSpPr>
        <p:spPr>
          <a:xfrm>
            <a:off x="4667400" y="4159080"/>
            <a:ext cx="0" cy="328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3640" y="1844280"/>
            <a:ext cx="85690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дна из важнейших задач Единой государственной системы предупреждения и ликвидации чрезвычайных ситуаций (РСЧС) - ликвидация чрезвычайных ситуаций (ЧС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1" descr="F:\data\images\catalog\6-3(2).jpg"/>
          <p:cNvPicPr/>
          <p:nvPr/>
        </p:nvPicPr>
        <p:blipFill>
          <a:blip r:embed="rId1"/>
          <a:stretch/>
        </p:blipFill>
        <p:spPr>
          <a:xfrm>
            <a:off x="0" y="0"/>
            <a:ext cx="2476440" cy="1857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2" descr="F:\data\images\catalog\3-10(10).jpg"/>
          <p:cNvPicPr/>
          <p:nvPr/>
        </p:nvPicPr>
        <p:blipFill>
          <a:blip r:embed="rId2"/>
          <a:stretch/>
        </p:blipFill>
        <p:spPr>
          <a:xfrm>
            <a:off x="3218040" y="0"/>
            <a:ext cx="2376360" cy="1901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3" descr="F:\data\images\catalog\3-10(5).jpg"/>
          <p:cNvPicPr/>
          <p:nvPr/>
        </p:nvPicPr>
        <p:blipFill>
          <a:blip r:embed="rId3"/>
          <a:stretch/>
        </p:blipFill>
        <p:spPr>
          <a:xfrm>
            <a:off x="6335640" y="0"/>
            <a:ext cx="2808360" cy="1846440"/>
          </a:xfrm>
          <a:prstGeom prst="rect">
            <a:avLst/>
          </a:prstGeom>
          <a:ln w="0">
            <a:noFill/>
          </a:ln>
        </p:spPr>
      </p:pic>
      <p:sp>
        <p:nvSpPr>
          <p:cNvPr id="76" name="AutoShape 24">
            <a:hlinkClick r:id="" action="ppaction://hlinkshowjump?jump=nextslide"/>
          </p:cNvPr>
          <p:cNvSpPr/>
          <p:nvPr/>
        </p:nvSpPr>
        <p:spPr>
          <a:xfrm>
            <a:off x="8459640" y="6453360"/>
            <a:ext cx="505080" cy="40464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57" h="21600">
                <a:moveTo>
                  <a:pt x="0" y="0"/>
                </a:moveTo>
                <a:lnTo>
                  <a:pt x="26957" y="0"/>
                </a:lnTo>
                <a:lnTo>
                  <a:pt x="26957" y="21600"/>
                </a:lnTo>
                <a:lnTo>
                  <a:pt x="0" y="21600"/>
                </a:lnTo>
                <a:close/>
              </a:path>
              <a:path fill="lightenLess" w="26957" h="21600">
                <a:moveTo>
                  <a:pt x="0" y="0"/>
                </a:moveTo>
                <a:lnTo>
                  <a:pt x="26957" y="0"/>
                </a:lnTo>
                <a:lnTo>
                  <a:pt x="25557" y="1400"/>
                </a:lnTo>
                <a:lnTo>
                  <a:pt x="1400" y="1400"/>
                </a:lnTo>
                <a:close/>
              </a:path>
              <a:path fill="darken" w="26957" h="21600">
                <a:moveTo>
                  <a:pt x="26957" y="0"/>
                </a:moveTo>
                <a:lnTo>
                  <a:pt x="26957" y="21600"/>
                </a:lnTo>
                <a:lnTo>
                  <a:pt x="25557" y="20200"/>
                </a:lnTo>
                <a:lnTo>
                  <a:pt x="25557" y="1400"/>
                </a:lnTo>
                <a:close/>
              </a:path>
              <a:path fill="darkenLess" w="26957" h="21600">
                <a:moveTo>
                  <a:pt x="269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7" y="20200"/>
                </a:lnTo>
                <a:close/>
              </a:path>
              <a:path fill="lighten" w="269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7" h="21600">
                <a:moveTo>
                  <a:pt x="6472" y="3794"/>
                </a:moveTo>
                <a:lnTo>
                  <a:pt x="20485" y="10800"/>
                </a:lnTo>
                <a:lnTo>
                  <a:pt x="6472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500"/>
                            </p:stCondLst>
                            <p:childTnLst>
                              <p:par>
                                <p:cTn id="53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500"/>
                            </p:stCondLst>
                            <p:childTnLst>
                              <p:par>
                                <p:cTn id="64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7500"/>
                            </p:stCondLst>
                            <p:childTnLst>
                              <p:par>
                                <p:cTn id="80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9500"/>
                            </p:stCondLst>
                            <p:childTnLst>
                              <p:par>
                                <p:cTn id="8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500"/>
                            </p:stCondLst>
                            <p:childTnLst>
                              <p:par>
                                <p:cTn id="98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9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4500"/>
                            </p:stCondLst>
                            <p:childTnLst>
                              <p:par>
                                <p:cTn id="120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Особенности проведения АСДНР на территории, зараженной (загрязненной) отравляющими (аварийно - химически опасными) веществ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Необходимо помнить, что промышленными </a:t>
            </a:r>
            <a:r>
              <a:rPr b="1" lang="ru-RU" sz="2600" spc="-1" strike="noStrike">
                <a:solidFill>
                  <a:srgbClr val="ff3300"/>
                </a:solidFill>
                <a:latin typeface="Arial"/>
              </a:rPr>
              <a:t>фильтрующими противогазами можно пользоваться только при содержании кислорода в помещениях (загазованной зоне) не менее 18% (по объему) и только при определенном содержании вредных примесей, а также в течение установленного времени.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азведку района заражения ведут с учетом направления ветра, для защиты территории от распространения газов на пути их движения устраивают водяные завесы, которые также осаждают и нейтрализуют вредные веществ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4">
            <a:hlinkClick r:id="" action="ppaction://hlinkshowjump?jump=nextslide"/>
          </p:cNvPr>
          <p:cNvSpPr/>
          <p:nvPr/>
        </p:nvSpPr>
        <p:spPr>
          <a:xfrm>
            <a:off x="8459640" y="6237360"/>
            <a:ext cx="684360" cy="620640"/>
          </a:xfrm>
          <a:custGeom>
            <a:avLst/>
            <a:gdLst>
              <a:gd name="textAreaLeft" fmla="*/ 39960 w 684360"/>
              <a:gd name="textAreaRight" fmla="*/ 644400 w 6843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3816" h="21600">
                <a:moveTo>
                  <a:pt x="0" y="0"/>
                </a:moveTo>
                <a:lnTo>
                  <a:pt x="23816" y="0"/>
                </a:lnTo>
                <a:lnTo>
                  <a:pt x="23816" y="21600"/>
                </a:lnTo>
                <a:lnTo>
                  <a:pt x="0" y="21600"/>
                </a:lnTo>
                <a:close/>
              </a:path>
              <a:path fill="lightenLess" w="23816" h="21600">
                <a:moveTo>
                  <a:pt x="0" y="0"/>
                </a:moveTo>
                <a:lnTo>
                  <a:pt x="23816" y="0"/>
                </a:lnTo>
                <a:lnTo>
                  <a:pt x="22416" y="1400"/>
                </a:lnTo>
                <a:lnTo>
                  <a:pt x="1400" y="1400"/>
                </a:lnTo>
                <a:close/>
              </a:path>
              <a:path fill="darken" w="23816" h="21600">
                <a:moveTo>
                  <a:pt x="23816" y="0"/>
                </a:moveTo>
                <a:lnTo>
                  <a:pt x="23816" y="21600"/>
                </a:lnTo>
                <a:lnTo>
                  <a:pt x="22416" y="20200"/>
                </a:lnTo>
                <a:lnTo>
                  <a:pt x="22416" y="1400"/>
                </a:lnTo>
                <a:close/>
              </a:path>
              <a:path fill="darkenLess" w="23816" h="21600">
                <a:moveTo>
                  <a:pt x="23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16" y="20200"/>
                </a:lnTo>
                <a:close/>
              </a:path>
              <a:path fill="lighten" w="23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16" h="21600">
                <a:moveTo>
                  <a:pt x="4902" y="3794"/>
                </a:moveTo>
                <a:lnTo>
                  <a:pt x="18915" y="10800"/>
                </a:lnTo>
                <a:lnTo>
                  <a:pt x="4902" y="17806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3399ff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3" dur="indefinite" restart="never" nodeType="tmRoot">
          <p:childTnLst>
            <p:seq>
              <p:cTn id="1124" dur="indefinite" nodeType="mainSeq">
                <p:childTnLst>
                  <p:par>
                    <p:cTn id="1125" fill="hold">
                      <p:stCondLst>
                        <p:cond delay="0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Особенности проведения АСДНР на территории, зараженной (загрязненной) отравляющими (аварийно - химически опасными) веществ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87854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еззараживание (дегазацию) АХОВ осуществляют, большей частью, путем разлива дегазирующих растворов с помощью машин и механизм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ункты сбора пострадавших располагают на незараженной местности с наветренной стороны от места разлива АХОВ, что исключает распространение его паров на люд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целях предотвращения распространения разлива АХОВ устраивают земляные валы или отводные каналы и котлованы для его сб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який раз, когда личный состав формирований направляется в очаг поражения (зону заражения), он должен быть тщательно проинструктирован специалистами и врач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11" descr="{49B5361C-2001-4F4D-B5A5-282F881E8251}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6" name="AutoShape 10"/>
          <p:cNvSpPr/>
          <p:nvPr/>
        </p:nvSpPr>
        <p:spPr>
          <a:xfrm rot="5400000">
            <a:off x="8024040" y="5917680"/>
            <a:ext cx="620640" cy="971280"/>
          </a:xfrm>
          <a:custGeom>
            <a:avLst/>
            <a:gdLst>
              <a:gd name="textAreaLeft" fmla="*/ 39960 w 620640"/>
              <a:gd name="textAreaRight" fmla="*/ 580680 w 620640"/>
              <a:gd name="textAreaTop" fmla="*/ 39960 h 971280"/>
              <a:gd name="textAreaBottom" fmla="*/ 931320 h 971280"/>
            </a:gdLst>
            <a:ahLst/>
            <a:rect l="textAreaLeft" t="textAreaTop" r="textAreaRight" b="textAreaBottom"/>
            <a:pathLst>
              <a:path w="21600" h="33796">
                <a:moveTo>
                  <a:pt x="0" y="0"/>
                </a:moveTo>
                <a:lnTo>
                  <a:pt x="21600" y="0"/>
                </a:lnTo>
                <a:lnTo>
                  <a:pt x="21600" y="33796"/>
                </a:lnTo>
                <a:lnTo>
                  <a:pt x="0" y="33796"/>
                </a:lnTo>
                <a:close/>
              </a:path>
              <a:path fill="lightenLess" w="21600" h="3379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796">
                <a:moveTo>
                  <a:pt x="21600" y="0"/>
                </a:moveTo>
                <a:lnTo>
                  <a:pt x="21600" y="33796"/>
                </a:lnTo>
                <a:lnTo>
                  <a:pt x="20200" y="32396"/>
                </a:lnTo>
                <a:lnTo>
                  <a:pt x="20200" y="1400"/>
                </a:lnTo>
                <a:close/>
              </a:path>
              <a:path fill="darkenLess" w="21600" h="33796">
                <a:moveTo>
                  <a:pt x="21600" y="33796"/>
                </a:moveTo>
                <a:lnTo>
                  <a:pt x="0" y="33796"/>
                </a:lnTo>
                <a:lnTo>
                  <a:pt x="1400" y="32396"/>
                </a:lnTo>
                <a:lnTo>
                  <a:pt x="20200" y="32396"/>
                </a:lnTo>
                <a:close/>
              </a:path>
              <a:path fill="lighten" w="21600" h="33796">
                <a:moveTo>
                  <a:pt x="0" y="33796"/>
                </a:moveTo>
                <a:lnTo>
                  <a:pt x="0" y="0"/>
                </a:lnTo>
                <a:lnTo>
                  <a:pt x="1400" y="1400"/>
                </a:lnTo>
                <a:lnTo>
                  <a:pt x="1400" y="32396"/>
                </a:lnTo>
                <a:close/>
              </a:path>
              <a:path fill="darken" w="21600" h="33796">
                <a:moveTo>
                  <a:pt x="3794" y="9892"/>
                </a:moveTo>
                <a:lnTo>
                  <a:pt x="17806" y="16898"/>
                </a:lnTo>
                <a:lnTo>
                  <a:pt x="3794" y="23905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12" descr="Копия 06"/>
          <p:cNvPicPr/>
          <p:nvPr/>
        </p:nvPicPr>
        <p:blipFill>
          <a:blip r:embed="rId2"/>
          <a:stretch/>
        </p:blipFill>
        <p:spPr>
          <a:xfrm>
            <a:off x="7093080" y="6318360"/>
            <a:ext cx="52200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3" dur="indefinite" restart="never" nodeType="tmRoot">
          <p:childTnLst>
            <p:seq>
              <p:cTn id="1134" dur="indefinite" nodeType="mainSeq">
                <p:childTnLst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8" presetSubtype="3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39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1" nodeType="afterEffect" fill="hold" presetClass="entr" presetID="4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8" nodeType="afterEffect" fill="hold" presetClass="entr" presetID="4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100000">
              <a:srgbClr val="66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Особенности проведения АСДНР при стихийных бедств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66200" y="1052280"/>
            <a:ext cx="820908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just">
              <a:lnSpc>
                <a:spcPts val="22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хождение среди разрушенных зданий и сооружений связано с повышенной опасностью. Толчки, сотрясения грунта способны вызвать дополнительные разрушения. Поэтому перед началом работы требуется тщательная инженерная разведка и всесторонняя оценка обстанов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just">
              <a:lnSpc>
                <a:spcPts val="22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реждения сетей коммунально-энерге-тического хозяйства намного усложняют ведение спасательных и других неотложных работ, создают ряд дополнительных трудностей: затопления, загазованность, опасность пораже-ния электротоком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7" descr="{89772A55-67C4-4C95-9501-8DC6F7408046}"/>
          <p:cNvPicPr/>
          <p:nvPr/>
        </p:nvPicPr>
        <p:blipFill>
          <a:blip r:embed="rId1"/>
          <a:stretch/>
        </p:blipFill>
        <p:spPr>
          <a:xfrm>
            <a:off x="665280" y="995400"/>
            <a:ext cx="7812000" cy="58626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682200" y="1410840"/>
            <a:ext cx="777708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жде всего, необходимо вести тщательное наблюдение за состоянием и устойчивостью конструкций и крупных элементов завала. При возникновении трещин, просадок и других деформаций необходимо немедленно остановиться и вывести людей из опасной зоны. У проездов и входов на территорию, где ведутся работы, вывешивают знаки и надписи, предупреждающие об опас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12">
            <a:hlinkClick r:id="" action="ppaction://hlinkshowjump?jump=nextslide"/>
          </p:cNvPr>
          <p:cNvSpPr/>
          <p:nvPr/>
        </p:nvSpPr>
        <p:spPr>
          <a:xfrm>
            <a:off x="8459640" y="6237360"/>
            <a:ext cx="684360" cy="620640"/>
          </a:xfrm>
          <a:custGeom>
            <a:avLst/>
            <a:gdLst>
              <a:gd name="textAreaLeft" fmla="*/ 39960 w 684360"/>
              <a:gd name="textAreaRight" fmla="*/ 644400 w 6843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3816" h="21600">
                <a:moveTo>
                  <a:pt x="0" y="0"/>
                </a:moveTo>
                <a:lnTo>
                  <a:pt x="23816" y="0"/>
                </a:lnTo>
                <a:lnTo>
                  <a:pt x="23816" y="21600"/>
                </a:lnTo>
                <a:lnTo>
                  <a:pt x="0" y="21600"/>
                </a:lnTo>
                <a:close/>
              </a:path>
              <a:path fill="lightenLess" w="23816" h="21600">
                <a:moveTo>
                  <a:pt x="0" y="0"/>
                </a:moveTo>
                <a:lnTo>
                  <a:pt x="23816" y="0"/>
                </a:lnTo>
                <a:lnTo>
                  <a:pt x="22416" y="1400"/>
                </a:lnTo>
                <a:lnTo>
                  <a:pt x="1400" y="1400"/>
                </a:lnTo>
                <a:close/>
              </a:path>
              <a:path fill="darken" w="23816" h="21600">
                <a:moveTo>
                  <a:pt x="23816" y="0"/>
                </a:moveTo>
                <a:lnTo>
                  <a:pt x="23816" y="21600"/>
                </a:lnTo>
                <a:lnTo>
                  <a:pt x="22416" y="20200"/>
                </a:lnTo>
                <a:lnTo>
                  <a:pt x="22416" y="1400"/>
                </a:lnTo>
                <a:close/>
              </a:path>
              <a:path fill="darkenLess" w="23816" h="21600">
                <a:moveTo>
                  <a:pt x="23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16" y="20200"/>
                </a:lnTo>
                <a:close/>
              </a:path>
              <a:path fill="lighten" w="23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16" h="21600">
                <a:moveTo>
                  <a:pt x="4902" y="3794"/>
                </a:moveTo>
                <a:lnTo>
                  <a:pt x="18915" y="10800"/>
                </a:lnTo>
                <a:lnTo>
                  <a:pt x="4902" y="17806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3399ff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1159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1" nodeType="with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1162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165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6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xit" presetID="3" presetSubtype="5">
                                  <p:stCondLst>
                                    <p:cond delay="100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117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4" nodeType="afterEffect" fill="hold" presetClass="entr" presetID="8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76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178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100000">
              <a:srgbClr val="66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-360" y="1484280"/>
            <a:ext cx="8929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вилами техники безопасности запрещается разбирать конструкционные элементы здания одновременно в нескольких ярусах. Работая, надо следить, чтобы внезапно не обрушилась другая часть зд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Наиболее надежным местом для защиты служат балки перекрытий. Здесь целесообразнее всего размещать подъемные механизмы и людей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ирпичные своды больших проемов необходимо разбирать вручную от верха к опорам свода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5" descr="F:\data\images\catalog\3-4(3).jpg"/>
          <p:cNvPicPr/>
          <p:nvPr/>
        </p:nvPicPr>
        <p:blipFill>
          <a:blip r:embed="rId1"/>
          <a:stretch/>
        </p:blipFill>
        <p:spPr>
          <a:xfrm>
            <a:off x="2365200" y="1052640"/>
            <a:ext cx="4413600" cy="580536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6"/>
          <p:cNvSpPr/>
          <p:nvPr/>
        </p:nvSpPr>
        <p:spPr>
          <a:xfrm>
            <a:off x="923040" y="141120"/>
            <a:ext cx="7450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3300"/>
                </a:solidFill>
                <a:latin typeface="Arial"/>
              </a:rPr>
              <a:t>Особенности проведения АСДНР пр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3300"/>
                </a:solidFill>
                <a:latin typeface="Arial"/>
              </a:rPr>
              <a:t>стихийных бедствия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7">
            <a:hlinkClick r:id="" action="ppaction://hlinkshowjump?jump=nextslide"/>
          </p:cNvPr>
          <p:cNvSpPr/>
          <p:nvPr/>
        </p:nvSpPr>
        <p:spPr>
          <a:xfrm>
            <a:off x="8459640" y="6237360"/>
            <a:ext cx="684360" cy="620640"/>
          </a:xfrm>
          <a:custGeom>
            <a:avLst/>
            <a:gdLst>
              <a:gd name="textAreaLeft" fmla="*/ 39960 w 684360"/>
              <a:gd name="textAreaRight" fmla="*/ 644400 w 6843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3816" h="21600">
                <a:moveTo>
                  <a:pt x="0" y="0"/>
                </a:moveTo>
                <a:lnTo>
                  <a:pt x="23816" y="0"/>
                </a:lnTo>
                <a:lnTo>
                  <a:pt x="23816" y="21600"/>
                </a:lnTo>
                <a:lnTo>
                  <a:pt x="0" y="21600"/>
                </a:lnTo>
                <a:close/>
              </a:path>
              <a:path fill="lightenLess" w="23816" h="21600">
                <a:moveTo>
                  <a:pt x="0" y="0"/>
                </a:moveTo>
                <a:lnTo>
                  <a:pt x="23816" y="0"/>
                </a:lnTo>
                <a:lnTo>
                  <a:pt x="22416" y="1400"/>
                </a:lnTo>
                <a:lnTo>
                  <a:pt x="1400" y="1400"/>
                </a:lnTo>
                <a:close/>
              </a:path>
              <a:path fill="darken" w="23816" h="21600">
                <a:moveTo>
                  <a:pt x="23816" y="0"/>
                </a:moveTo>
                <a:lnTo>
                  <a:pt x="23816" y="21600"/>
                </a:lnTo>
                <a:lnTo>
                  <a:pt x="22416" y="20200"/>
                </a:lnTo>
                <a:lnTo>
                  <a:pt x="22416" y="1400"/>
                </a:lnTo>
                <a:close/>
              </a:path>
              <a:path fill="darkenLess" w="23816" h="21600">
                <a:moveTo>
                  <a:pt x="23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16" y="20200"/>
                </a:lnTo>
                <a:close/>
              </a:path>
              <a:path fill="lighten" w="23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16" h="21600">
                <a:moveTo>
                  <a:pt x="4902" y="3794"/>
                </a:moveTo>
                <a:lnTo>
                  <a:pt x="18915" y="10800"/>
                </a:lnTo>
                <a:lnTo>
                  <a:pt x="4902" y="17806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3399ff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4" dur="indefinite" restart="never" nodeType="tmRoot">
          <p:childTnLst>
            <p:seq>
              <p:cTn id="1185" dur="indefinite" nodeType="mainSeq">
                <p:childTnLst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xit" presetID="3" presetSubtype="10">
                                  <p:stCondLst>
                                    <p:cond delay="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89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2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94" dur="10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98" dur="10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03" dur="10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07" dur="10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0" nodeType="afterEffect" fill="hold" presetClass="entr" presetID="8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12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4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100000">
              <a:srgbClr val="66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321840" y="1014480"/>
            <a:ext cx="84978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устойчивые конструкции поврежденных зданий укрепляют или обрушают. Например, кирпичную стену, отклонившуюся от вертикали более чем на одну треть ее толщины, крепят стойками, подкосами, растяжками, а также при помощи простейших приемов с использованием подсобных материал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рушение неустойчивых, грозящих обвалом элементов зданий выполняют тремя основными способам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актором или лебедко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ар - бабой, подвешенной к крану или экскаватор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правленным взрыв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Запрещается перемещать в завале экскаватор с наполненным ковшом, кран с поднятым груз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Недопустимо нахождение людей вблизи натянутых тро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Особенности проведения АСДНР при </a:t>
            </a:r>
            <a:br>
              <a:rPr sz="3200"/>
            </a:b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стихийных бедств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5">
            <a:hlinkClick r:id="" action="ppaction://hlinkshowjump?jump=nextslide"/>
          </p:cNvPr>
          <p:cNvSpPr/>
          <p:nvPr/>
        </p:nvSpPr>
        <p:spPr>
          <a:xfrm>
            <a:off x="8459640" y="6237360"/>
            <a:ext cx="684360" cy="620640"/>
          </a:xfrm>
          <a:custGeom>
            <a:avLst/>
            <a:gdLst>
              <a:gd name="textAreaLeft" fmla="*/ 39960 w 684360"/>
              <a:gd name="textAreaRight" fmla="*/ 644400 w 6843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3816" h="21600">
                <a:moveTo>
                  <a:pt x="0" y="0"/>
                </a:moveTo>
                <a:lnTo>
                  <a:pt x="23816" y="0"/>
                </a:lnTo>
                <a:lnTo>
                  <a:pt x="23816" y="21600"/>
                </a:lnTo>
                <a:lnTo>
                  <a:pt x="0" y="21600"/>
                </a:lnTo>
                <a:close/>
              </a:path>
              <a:path fill="lightenLess" w="23816" h="21600">
                <a:moveTo>
                  <a:pt x="0" y="0"/>
                </a:moveTo>
                <a:lnTo>
                  <a:pt x="23816" y="0"/>
                </a:lnTo>
                <a:lnTo>
                  <a:pt x="22416" y="1400"/>
                </a:lnTo>
                <a:lnTo>
                  <a:pt x="1400" y="1400"/>
                </a:lnTo>
                <a:close/>
              </a:path>
              <a:path fill="darken" w="23816" h="21600">
                <a:moveTo>
                  <a:pt x="23816" y="0"/>
                </a:moveTo>
                <a:lnTo>
                  <a:pt x="23816" y="21600"/>
                </a:lnTo>
                <a:lnTo>
                  <a:pt x="22416" y="20200"/>
                </a:lnTo>
                <a:lnTo>
                  <a:pt x="22416" y="1400"/>
                </a:lnTo>
                <a:close/>
              </a:path>
              <a:path fill="darkenLess" w="23816" h="21600">
                <a:moveTo>
                  <a:pt x="23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16" y="20200"/>
                </a:lnTo>
                <a:close/>
              </a:path>
              <a:path fill="lighten" w="23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16" h="21600">
                <a:moveTo>
                  <a:pt x="4902" y="3794"/>
                </a:moveTo>
                <a:lnTo>
                  <a:pt x="18915" y="10800"/>
                </a:lnTo>
                <a:lnTo>
                  <a:pt x="4902" y="17806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3399ff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0" dur="indefinite" restart="never" nodeType="tmRoot">
          <p:childTnLst>
            <p:seq>
              <p:cTn id="1221" dur="indefinite" nodeType="mainSeq">
                <p:childTnLst>
                  <p:par>
                    <p:cTn id="1222" fill="hold">
                      <p:stCondLst>
                        <p:cond delay="0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afterEffect" fill="hold" presetClass="entr" presetID="16" presetSubtype="42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26" dur="500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fill="hold">
                            <p:stCondLst>
                              <p:cond delay="8500"/>
                            </p:stCondLst>
                            <p:childTnLst>
                              <p:par>
                                <p:cTn id="1228" nodeType="afterEffect" fill="hold" presetClass="entr" presetID="16" presetSubtype="4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30" dur="500"/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32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100000">
              <a:srgbClr val="66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Временное крепление конструкций, угрожающих обвал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-360" y="1700280"/>
            <a:ext cx="250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Group 14"/>
          <p:cNvGrpSpPr/>
          <p:nvPr/>
        </p:nvGrpSpPr>
        <p:grpSpPr>
          <a:xfrm>
            <a:off x="468360" y="1268280"/>
            <a:ext cx="6084000" cy="5329080"/>
            <a:chOff x="468360" y="1268280"/>
            <a:chExt cx="6084000" cy="5329080"/>
          </a:xfrm>
        </p:grpSpPr>
        <p:pic>
          <p:nvPicPr>
            <p:cNvPr id="343" name="Picture 4" descr="односторонняя растяжка и подкос"/>
            <p:cNvPicPr/>
            <p:nvPr/>
          </p:nvPicPr>
          <p:blipFill>
            <a:blip r:embed="rId1"/>
            <a:stretch/>
          </p:blipFill>
          <p:spPr>
            <a:xfrm>
              <a:off x="468360" y="1268280"/>
              <a:ext cx="6084000" cy="532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Text Box 7"/>
            <p:cNvSpPr/>
            <p:nvPr/>
          </p:nvSpPr>
          <p:spPr>
            <a:xfrm>
              <a:off x="468360" y="1523880"/>
              <a:ext cx="5964120" cy="106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Односторонняя растяжка и подко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Group 15"/>
          <p:cNvGrpSpPr/>
          <p:nvPr/>
        </p:nvGrpSpPr>
        <p:grpSpPr>
          <a:xfrm>
            <a:off x="2287440" y="1268280"/>
            <a:ext cx="4566960" cy="5329080"/>
            <a:chOff x="2287440" y="1268280"/>
            <a:chExt cx="4566960" cy="5329080"/>
          </a:xfrm>
        </p:grpSpPr>
        <p:pic>
          <p:nvPicPr>
            <p:cNvPr id="346" name="Picture 6" descr="5-2"/>
            <p:cNvPicPr/>
            <p:nvPr/>
          </p:nvPicPr>
          <p:blipFill>
            <a:blip r:embed="rId2"/>
            <a:stretch/>
          </p:blipFill>
          <p:spPr>
            <a:xfrm>
              <a:off x="2287440" y="1268280"/>
              <a:ext cx="4566960" cy="532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Text Box 8"/>
            <p:cNvSpPr/>
            <p:nvPr/>
          </p:nvSpPr>
          <p:spPr>
            <a:xfrm>
              <a:off x="2454120" y="1536480"/>
              <a:ext cx="4129560" cy="106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Односторонний подко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Group 16"/>
          <p:cNvGrpSpPr/>
          <p:nvPr/>
        </p:nvGrpSpPr>
        <p:grpSpPr>
          <a:xfrm>
            <a:off x="2843280" y="1268280"/>
            <a:ext cx="5940000" cy="5329080"/>
            <a:chOff x="2843280" y="1268280"/>
            <a:chExt cx="5940000" cy="5329080"/>
          </a:xfrm>
        </p:grpSpPr>
        <p:pic>
          <p:nvPicPr>
            <p:cNvPr id="349" name="Picture 5" descr="растяжка с 2 сторон"/>
            <p:cNvPicPr/>
            <p:nvPr/>
          </p:nvPicPr>
          <p:blipFill>
            <a:blip r:embed="rId3"/>
            <a:stretch/>
          </p:blipFill>
          <p:spPr>
            <a:xfrm>
              <a:off x="2843280" y="1268280"/>
              <a:ext cx="5940000" cy="532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Text Box 9"/>
            <p:cNvSpPr/>
            <p:nvPr/>
          </p:nvSpPr>
          <p:spPr>
            <a:xfrm>
              <a:off x="3381840" y="1289520"/>
              <a:ext cx="4769640" cy="106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Растяжки с двух сторо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AutoShape 17">
            <a:hlinkClick r:id="" action="ppaction://hlinkshowjump?jump=nextslide"/>
          </p:cNvPr>
          <p:cNvSpPr/>
          <p:nvPr/>
        </p:nvSpPr>
        <p:spPr>
          <a:xfrm>
            <a:off x="8459640" y="6237360"/>
            <a:ext cx="684360" cy="620640"/>
          </a:xfrm>
          <a:custGeom>
            <a:avLst/>
            <a:gdLst>
              <a:gd name="textAreaLeft" fmla="*/ 39960 w 684360"/>
              <a:gd name="textAreaRight" fmla="*/ 644400 w 6843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3816" h="21600">
                <a:moveTo>
                  <a:pt x="0" y="0"/>
                </a:moveTo>
                <a:lnTo>
                  <a:pt x="23816" y="0"/>
                </a:lnTo>
                <a:lnTo>
                  <a:pt x="23816" y="21600"/>
                </a:lnTo>
                <a:lnTo>
                  <a:pt x="0" y="21600"/>
                </a:lnTo>
                <a:close/>
              </a:path>
              <a:path fill="lightenLess" w="23816" h="21600">
                <a:moveTo>
                  <a:pt x="0" y="0"/>
                </a:moveTo>
                <a:lnTo>
                  <a:pt x="23816" y="0"/>
                </a:lnTo>
                <a:lnTo>
                  <a:pt x="22416" y="1400"/>
                </a:lnTo>
                <a:lnTo>
                  <a:pt x="1400" y="1400"/>
                </a:lnTo>
                <a:close/>
              </a:path>
              <a:path fill="darken" w="23816" h="21600">
                <a:moveTo>
                  <a:pt x="23816" y="0"/>
                </a:moveTo>
                <a:lnTo>
                  <a:pt x="23816" y="21600"/>
                </a:lnTo>
                <a:lnTo>
                  <a:pt x="22416" y="20200"/>
                </a:lnTo>
                <a:lnTo>
                  <a:pt x="22416" y="1400"/>
                </a:lnTo>
                <a:close/>
              </a:path>
              <a:path fill="darkenLess" w="23816" h="21600">
                <a:moveTo>
                  <a:pt x="23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16" y="20200"/>
                </a:lnTo>
                <a:close/>
              </a:path>
              <a:path fill="lighten" w="23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16" h="21600">
                <a:moveTo>
                  <a:pt x="4902" y="3794"/>
                </a:moveTo>
                <a:lnTo>
                  <a:pt x="18915" y="10800"/>
                </a:lnTo>
                <a:lnTo>
                  <a:pt x="4902" y="17806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3399ff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8" dur="indefinite" restart="never" nodeType="tmRoot">
          <p:childTnLst>
            <p:seq>
              <p:cTn id="1239" dur="indefinite" nodeType="mainSeq">
                <p:childTnLst>
                  <p:par>
                    <p:cTn id="1240" fill="hold">
                      <p:stCondLst>
                        <p:cond delay="0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afterEffect" fill="hold" presetClass="entr" presetID="8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44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6" nodeType="afterEffect" fill="hold" presetClass="exit" presetID="8" presetSubtype="16">
                                  <p:stCondLst>
                                    <p:cond delay="5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47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8000"/>
                            </p:stCondLst>
                            <p:childTnLst>
                              <p:par>
                                <p:cTn id="1250" nodeType="afterEffect" fill="hold" presetClass="entr" presetID="8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5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3" fill="hold">
                            <p:stCondLst>
                              <p:cond delay="9500"/>
                            </p:stCondLst>
                            <p:childTnLst>
                              <p:par>
                                <p:cTn id="1254" nodeType="afterEffect" fill="hold" presetClass="exit" presetID="8" presetSubtype="16">
                                  <p:stCondLst>
                                    <p:cond delay="5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55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15500"/>
                            </p:stCondLst>
                            <p:childTnLst>
                              <p:par>
                                <p:cTn id="1258" nodeType="afterEffect" fill="hold" presetClass="entr" presetID="8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60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fill="hold">
                            <p:stCondLst>
                              <p:cond delay="17000"/>
                            </p:stCondLst>
                            <p:childTnLst>
                              <p:par>
                                <p:cTn id="1262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100000">
              <a:srgbClr val="66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Обрушение конструкций, угрожающих обвал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6"/>
          <p:cNvSpPr/>
          <p:nvPr/>
        </p:nvSpPr>
        <p:spPr>
          <a:xfrm>
            <a:off x="1432440" y="1916280"/>
            <a:ext cx="6307200" cy="9709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808080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исающие над завалом конструк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лементов перекрытий (балки, плиты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рнизы, балконные фермы и строп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7"/>
          <p:cNvSpPr/>
          <p:nvPr/>
        </p:nvSpPr>
        <p:spPr>
          <a:xfrm>
            <a:off x="1951200" y="5516640"/>
            <a:ext cx="5241600" cy="6786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808080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ругие конструкции, котор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гут обрушитьс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 сотряс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8"/>
          <p:cNvSpPr/>
          <p:nvPr/>
        </p:nvSpPr>
        <p:spPr>
          <a:xfrm>
            <a:off x="1476360" y="4363920"/>
            <a:ext cx="6264360" cy="9709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808080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ены или отдельные участки стен, имеющие отклонение от вертикали более 1/3 толщины ст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9"/>
          <p:cNvSpPr/>
          <p:nvPr/>
        </p:nvSpPr>
        <p:spPr>
          <a:xfrm>
            <a:off x="1476360" y="3213000"/>
            <a:ext cx="6264360" cy="9709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808080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яжёлые элементы внутренне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женерного и технологиче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орудования з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0"/>
          <p:cNvSpPr/>
          <p:nvPr/>
        </p:nvSpPr>
        <p:spPr>
          <a:xfrm>
            <a:off x="2124000" y="1125360"/>
            <a:ext cx="4753080" cy="520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dddddd"/>
              </a:gs>
            </a:gsLst>
            <a:lin ang="189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Обрушению подлежа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11">
            <a:hlinkClick r:id="" action="ppaction://hlinkshowjump?jump=nextslide"/>
          </p:cNvPr>
          <p:cNvSpPr/>
          <p:nvPr/>
        </p:nvSpPr>
        <p:spPr>
          <a:xfrm>
            <a:off x="8459640" y="6237360"/>
            <a:ext cx="684360" cy="620640"/>
          </a:xfrm>
          <a:custGeom>
            <a:avLst/>
            <a:gdLst>
              <a:gd name="textAreaLeft" fmla="*/ 39960 w 684360"/>
              <a:gd name="textAreaRight" fmla="*/ 644400 w 6843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3816" h="21600">
                <a:moveTo>
                  <a:pt x="0" y="0"/>
                </a:moveTo>
                <a:lnTo>
                  <a:pt x="23816" y="0"/>
                </a:lnTo>
                <a:lnTo>
                  <a:pt x="23816" y="21600"/>
                </a:lnTo>
                <a:lnTo>
                  <a:pt x="0" y="21600"/>
                </a:lnTo>
                <a:close/>
              </a:path>
              <a:path fill="lightenLess" w="23816" h="21600">
                <a:moveTo>
                  <a:pt x="0" y="0"/>
                </a:moveTo>
                <a:lnTo>
                  <a:pt x="23816" y="0"/>
                </a:lnTo>
                <a:lnTo>
                  <a:pt x="22416" y="1400"/>
                </a:lnTo>
                <a:lnTo>
                  <a:pt x="1400" y="1400"/>
                </a:lnTo>
                <a:close/>
              </a:path>
              <a:path fill="darken" w="23816" h="21600">
                <a:moveTo>
                  <a:pt x="23816" y="0"/>
                </a:moveTo>
                <a:lnTo>
                  <a:pt x="23816" y="21600"/>
                </a:lnTo>
                <a:lnTo>
                  <a:pt x="22416" y="20200"/>
                </a:lnTo>
                <a:lnTo>
                  <a:pt x="22416" y="1400"/>
                </a:lnTo>
                <a:close/>
              </a:path>
              <a:path fill="darkenLess" w="23816" h="21600">
                <a:moveTo>
                  <a:pt x="23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16" y="20200"/>
                </a:lnTo>
                <a:close/>
              </a:path>
              <a:path fill="lighten" w="23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16" h="21600">
                <a:moveTo>
                  <a:pt x="4902" y="3794"/>
                </a:moveTo>
                <a:lnTo>
                  <a:pt x="18915" y="10800"/>
                </a:lnTo>
                <a:lnTo>
                  <a:pt x="4902" y="17806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3399ff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8" dur="indefinite" restart="never" nodeType="tmRoot">
          <p:childTnLst>
            <p:seq>
              <p:cTn id="1269" dur="indefinite" nodeType="mainSeq">
                <p:childTnLst>
                  <p:par>
                    <p:cTn id="1270" fill="hold">
                      <p:stCondLst>
                        <p:cond delay="0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afterEffect" fill="hold" presetClass="entr" presetID="8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74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6" nodeType="afterEffect" fill="hold" presetClass="entr" presetID="8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78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0" nodeType="afterEffect" fill="hold" presetClass="entr" presetID="8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82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fill="hold">
                            <p:stCondLst>
                              <p:cond delay="8000"/>
                            </p:stCondLst>
                            <p:childTnLst>
                              <p:par>
                                <p:cTn id="1284" nodeType="afterEffect" fill="hold" presetClass="entr" presetID="8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86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88" nodeType="afterEffect" fill="hold" presetClass="entr" presetID="8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90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92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100000">
              <a:srgbClr val="66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394920" y="981000"/>
            <a:ext cx="845964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рьезную опасность для пострадавших представляют пожары в завалах, особенно тлеющие. Они сопровождаются выделением окиси углерода (угарного газа), содержание которого в воздухе даже в незначительных количествах создает реальную угрозу для человека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4"/>
          <p:cNvSpPr/>
          <p:nvPr/>
        </p:nvSpPr>
        <p:spPr>
          <a:xfrm>
            <a:off x="468360" y="0"/>
            <a:ext cx="837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Особенности проведения АСДН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при стихийных бедств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5" descr="F:\data\images\catalog\0-1(8)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6"/>
          <p:cNvSpPr/>
          <p:nvPr/>
        </p:nvSpPr>
        <p:spPr>
          <a:xfrm>
            <a:off x="250920" y="1374840"/>
            <a:ext cx="8642160" cy="43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ри разборке завала над пострадавшими необходимо строго соблюдать меры безопасности, так как в случае неустойчивости завала и нарушения взаимосвязи между поврежденными и обрушившимися конструкциями не исключено самопроизвольное перемещение отдельных элементов и осадка всей массы завала, что грозит опасностью, как спасателям, так и пострадавшим (находящимся в завале). В связи с этим </a:t>
            </a:r>
            <a:r>
              <a:rPr b="1" lang="ru-RU" sz="2600" spc="-1" strike="noStrike">
                <a:solidFill>
                  <a:srgbClr val="cc0000"/>
                </a:solidFill>
                <a:latin typeface="Arial"/>
              </a:rPr>
              <a:t>недопустимы резкие рывки при извлечении из завала крупных элементов, их расшатывание и сильные удар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7">
            <a:hlinkClick r:id="" action="ppaction://hlinkshowjump?jump=nextslide"/>
          </p:cNvPr>
          <p:cNvSpPr/>
          <p:nvPr/>
        </p:nvSpPr>
        <p:spPr>
          <a:xfrm>
            <a:off x="8459640" y="6237360"/>
            <a:ext cx="684360" cy="620640"/>
          </a:xfrm>
          <a:custGeom>
            <a:avLst/>
            <a:gdLst>
              <a:gd name="textAreaLeft" fmla="*/ 39960 w 684360"/>
              <a:gd name="textAreaRight" fmla="*/ 644400 w 6843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3816" h="21600">
                <a:moveTo>
                  <a:pt x="0" y="0"/>
                </a:moveTo>
                <a:lnTo>
                  <a:pt x="23816" y="0"/>
                </a:lnTo>
                <a:lnTo>
                  <a:pt x="23816" y="21600"/>
                </a:lnTo>
                <a:lnTo>
                  <a:pt x="0" y="21600"/>
                </a:lnTo>
                <a:close/>
              </a:path>
              <a:path fill="lightenLess" w="23816" h="21600">
                <a:moveTo>
                  <a:pt x="0" y="0"/>
                </a:moveTo>
                <a:lnTo>
                  <a:pt x="23816" y="0"/>
                </a:lnTo>
                <a:lnTo>
                  <a:pt x="22416" y="1400"/>
                </a:lnTo>
                <a:lnTo>
                  <a:pt x="1400" y="1400"/>
                </a:lnTo>
                <a:close/>
              </a:path>
              <a:path fill="darken" w="23816" h="21600">
                <a:moveTo>
                  <a:pt x="23816" y="0"/>
                </a:moveTo>
                <a:lnTo>
                  <a:pt x="23816" y="21600"/>
                </a:lnTo>
                <a:lnTo>
                  <a:pt x="22416" y="20200"/>
                </a:lnTo>
                <a:lnTo>
                  <a:pt x="22416" y="1400"/>
                </a:lnTo>
                <a:close/>
              </a:path>
              <a:path fill="darkenLess" w="23816" h="21600">
                <a:moveTo>
                  <a:pt x="23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16" y="20200"/>
                </a:lnTo>
                <a:close/>
              </a:path>
              <a:path fill="lighten" w="23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16" h="21600">
                <a:moveTo>
                  <a:pt x="4902" y="3794"/>
                </a:moveTo>
                <a:lnTo>
                  <a:pt x="18915" y="10800"/>
                </a:lnTo>
                <a:lnTo>
                  <a:pt x="4902" y="17806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3399ff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8" dur="indefinite" restart="never" nodeType="tmRoot">
          <p:childTnLst>
            <p:seq>
              <p:cTn id="1299" dur="indefinite" nodeType="mainSeq">
                <p:childTnLst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1303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500"/>
                            </p:stCondLst>
                            <p:childTnLst>
                              <p:par>
                                <p:cTn id="130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0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1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fill="hold">
                            <p:stCondLst>
                              <p:cond delay="500"/>
                            </p:stCondLst>
                            <p:childTnLst>
                              <p:par>
                                <p:cTn id="1315" nodeType="afterEffect" fill="hold" presetClass="entr" presetID="8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17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9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100000">
              <a:srgbClr val="66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Особенности проведения АСДНР при стихийных бедств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87280" y="112500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вобождая людей из-под завалов или отдельных обломков, не следует сдвигать элементы завала (обломки, плиты, балки), чтобы не нанести пострадавшим дополнительных травм. В первую очередь необходимо освободить голову и верхнюю часть туловища. После их извлечения, а если позволит обстановка, то и до извлечения, пораженному оказывают первую медицинскую помощ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ля спасения людей, находящихся под обломками зданий, необходимо устраивать узкие проходы - галереи, штреки в самом завале, а не разбирать его сверх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5">
            <a:hlinkClick r:id="" action="ppaction://hlinkshowjump?jump=nextslide"/>
          </p:cNvPr>
          <p:cNvSpPr/>
          <p:nvPr/>
        </p:nvSpPr>
        <p:spPr>
          <a:xfrm>
            <a:off x="8459640" y="6237360"/>
            <a:ext cx="684360" cy="620640"/>
          </a:xfrm>
          <a:custGeom>
            <a:avLst/>
            <a:gdLst>
              <a:gd name="textAreaLeft" fmla="*/ 39960 w 684360"/>
              <a:gd name="textAreaRight" fmla="*/ 644400 w 6843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3816" h="21600">
                <a:moveTo>
                  <a:pt x="0" y="0"/>
                </a:moveTo>
                <a:lnTo>
                  <a:pt x="23816" y="0"/>
                </a:lnTo>
                <a:lnTo>
                  <a:pt x="23816" y="21600"/>
                </a:lnTo>
                <a:lnTo>
                  <a:pt x="0" y="21600"/>
                </a:lnTo>
                <a:close/>
              </a:path>
              <a:path fill="lightenLess" w="23816" h="21600">
                <a:moveTo>
                  <a:pt x="0" y="0"/>
                </a:moveTo>
                <a:lnTo>
                  <a:pt x="23816" y="0"/>
                </a:lnTo>
                <a:lnTo>
                  <a:pt x="22416" y="1400"/>
                </a:lnTo>
                <a:lnTo>
                  <a:pt x="1400" y="1400"/>
                </a:lnTo>
                <a:close/>
              </a:path>
              <a:path fill="darken" w="23816" h="21600">
                <a:moveTo>
                  <a:pt x="23816" y="0"/>
                </a:moveTo>
                <a:lnTo>
                  <a:pt x="23816" y="21600"/>
                </a:lnTo>
                <a:lnTo>
                  <a:pt x="22416" y="20200"/>
                </a:lnTo>
                <a:lnTo>
                  <a:pt x="22416" y="1400"/>
                </a:lnTo>
                <a:close/>
              </a:path>
              <a:path fill="darkenLess" w="23816" h="21600">
                <a:moveTo>
                  <a:pt x="23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16" y="20200"/>
                </a:lnTo>
                <a:close/>
              </a:path>
              <a:path fill="lighten" w="23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16" h="21600">
                <a:moveTo>
                  <a:pt x="4902" y="3794"/>
                </a:moveTo>
                <a:lnTo>
                  <a:pt x="18915" y="10800"/>
                </a:lnTo>
                <a:lnTo>
                  <a:pt x="4902" y="17806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3399ff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5" dur="indefinite" restart="never" nodeType="tmRoot">
          <p:childTnLst>
            <p:seq>
              <p:cTn id="1326" dur="indefinite" nodeType="mainSeq">
                <p:childTnLst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30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33" dur="5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36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просы для провер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80629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йте определение аварийно-спасательных раб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 входит в перечень аварийно-спасательных работ в очагах по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йте определение других неотложных раб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 входит в перечень других неотложных работ в очагах по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ова технология  проведения  поисково-спасательных раб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числите особенности проведения АСДНР на территории, зараженной (загрязненной) отравляющими (аварийно - химически опасными) веществ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де размещают применяемые при разборке завалов машины и механизмы?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4"/>
          <p:cNvSpPr/>
          <p:nvPr/>
        </p:nvSpPr>
        <p:spPr>
          <a:xfrm>
            <a:off x="1619280" y="5661000"/>
            <a:ext cx="6769080" cy="1197000"/>
          </a:xfrm>
          <a:prstGeom prst="rightArrow">
            <a:avLst>
              <a:gd name="adj1" fmla="val 50000"/>
              <a:gd name="adj2" fmla="val 141376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5" descr="04-do"/>
          <p:cNvPicPr/>
          <p:nvPr/>
        </p:nvPicPr>
        <p:blipFill>
          <a:blip r:embed="rId3"/>
          <a:stretch/>
        </p:blipFill>
        <p:spPr>
          <a:xfrm>
            <a:off x="1116000" y="5516640"/>
            <a:ext cx="844560" cy="1123920"/>
          </a:xfrm>
          <a:prstGeom prst="rect">
            <a:avLst/>
          </a:prstGeom>
          <a:ln w="0">
            <a:noFill/>
          </a:ln>
        </p:spPr>
      </p:pic>
      <p:sp>
        <p:nvSpPr>
          <p:cNvPr id="371" name="AutoShape 6"/>
          <p:cNvSpPr/>
          <p:nvPr/>
        </p:nvSpPr>
        <p:spPr>
          <a:xfrm>
            <a:off x="2124000" y="6021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1127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2539" h="21600">
                <a:moveTo>
                  <a:pt x="1127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2539" h="21600">
                <a:moveTo>
                  <a:pt x="8693" y="8224"/>
                </a:moveTo>
                <a:lnTo>
                  <a:pt x="12558" y="8224"/>
                </a:lnTo>
                <a:lnTo>
                  <a:pt x="12558" y="15221"/>
                </a:lnTo>
                <a:lnTo>
                  <a:pt x="13846" y="15221"/>
                </a:lnTo>
                <a:lnTo>
                  <a:pt x="13846" y="16144"/>
                </a:lnTo>
                <a:lnTo>
                  <a:pt x="8693" y="16144"/>
                </a:lnTo>
                <a:lnTo>
                  <a:pt x="8693" y="15221"/>
                </a:lnTo>
                <a:lnTo>
                  <a:pt x="9981" y="15221"/>
                </a:lnTo>
                <a:lnTo>
                  <a:pt x="9981" y="9129"/>
                </a:lnTo>
                <a:lnTo>
                  <a:pt x="8693" y="9129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7"/>
          <p:cNvSpPr/>
          <p:nvPr/>
        </p:nvSpPr>
        <p:spPr>
          <a:xfrm>
            <a:off x="2843280" y="6021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1127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2539" h="21600">
                <a:moveTo>
                  <a:pt x="1127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2539" h="21600">
                <a:moveTo>
                  <a:pt x="8693" y="8224"/>
                </a:moveTo>
                <a:lnTo>
                  <a:pt x="12558" y="8224"/>
                </a:lnTo>
                <a:lnTo>
                  <a:pt x="12558" y="15221"/>
                </a:lnTo>
                <a:lnTo>
                  <a:pt x="13846" y="15221"/>
                </a:lnTo>
                <a:lnTo>
                  <a:pt x="13846" y="16144"/>
                </a:lnTo>
                <a:lnTo>
                  <a:pt x="8693" y="16144"/>
                </a:lnTo>
                <a:lnTo>
                  <a:pt x="8693" y="15221"/>
                </a:lnTo>
                <a:lnTo>
                  <a:pt x="9981" y="15221"/>
                </a:lnTo>
                <a:lnTo>
                  <a:pt x="9981" y="9129"/>
                </a:lnTo>
                <a:lnTo>
                  <a:pt x="8693" y="9129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4284720" y="6021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1127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2539" h="21600">
                <a:moveTo>
                  <a:pt x="1127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2539" h="21600">
                <a:moveTo>
                  <a:pt x="8693" y="8224"/>
                </a:moveTo>
                <a:lnTo>
                  <a:pt x="12558" y="8224"/>
                </a:lnTo>
                <a:lnTo>
                  <a:pt x="12558" y="15221"/>
                </a:lnTo>
                <a:lnTo>
                  <a:pt x="13846" y="15221"/>
                </a:lnTo>
                <a:lnTo>
                  <a:pt x="13846" y="16144"/>
                </a:lnTo>
                <a:lnTo>
                  <a:pt x="8693" y="16144"/>
                </a:lnTo>
                <a:lnTo>
                  <a:pt x="8693" y="15221"/>
                </a:lnTo>
                <a:lnTo>
                  <a:pt x="9981" y="15221"/>
                </a:lnTo>
                <a:lnTo>
                  <a:pt x="9981" y="9129"/>
                </a:lnTo>
                <a:lnTo>
                  <a:pt x="8693" y="9129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9"/>
          <p:cNvSpPr/>
          <p:nvPr/>
        </p:nvSpPr>
        <p:spPr>
          <a:xfrm>
            <a:off x="5003640" y="6021360"/>
            <a:ext cx="648000" cy="620640"/>
          </a:xfrm>
          <a:custGeom>
            <a:avLst/>
            <a:gdLst>
              <a:gd name="textAreaLeft" fmla="*/ 39960 w 648000"/>
              <a:gd name="textAreaRight" fmla="*/ 608040 w 648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52" h="21600">
                <a:moveTo>
                  <a:pt x="0" y="0"/>
                </a:moveTo>
                <a:lnTo>
                  <a:pt x="22552" y="0"/>
                </a:lnTo>
                <a:lnTo>
                  <a:pt x="22552" y="21600"/>
                </a:lnTo>
                <a:lnTo>
                  <a:pt x="0" y="21600"/>
                </a:lnTo>
                <a:close/>
              </a:path>
              <a:path fill="lightenLess" w="22552" h="21600">
                <a:moveTo>
                  <a:pt x="0" y="0"/>
                </a:moveTo>
                <a:lnTo>
                  <a:pt x="22552" y="0"/>
                </a:lnTo>
                <a:lnTo>
                  <a:pt x="21152" y="1400"/>
                </a:lnTo>
                <a:lnTo>
                  <a:pt x="1400" y="1400"/>
                </a:lnTo>
                <a:close/>
              </a:path>
              <a:path fill="darken" w="22552" h="21600">
                <a:moveTo>
                  <a:pt x="22552" y="0"/>
                </a:moveTo>
                <a:lnTo>
                  <a:pt x="22552" y="21600"/>
                </a:lnTo>
                <a:lnTo>
                  <a:pt x="21152" y="20200"/>
                </a:lnTo>
                <a:lnTo>
                  <a:pt x="21152" y="1400"/>
                </a:lnTo>
                <a:close/>
              </a:path>
              <a:path fill="darkenLess" w="22552" h="21600">
                <a:moveTo>
                  <a:pt x="22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52" y="20200"/>
                </a:lnTo>
                <a:close/>
              </a:path>
              <a:path fill="lighten" w="22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52" h="21600">
                <a:moveTo>
                  <a:pt x="11276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2552" h="21600">
                <a:moveTo>
                  <a:pt x="11276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2552" h="21600">
                <a:moveTo>
                  <a:pt x="8700" y="8224"/>
                </a:moveTo>
                <a:lnTo>
                  <a:pt x="12564" y="8224"/>
                </a:lnTo>
                <a:lnTo>
                  <a:pt x="12564" y="15221"/>
                </a:lnTo>
                <a:lnTo>
                  <a:pt x="13852" y="15221"/>
                </a:lnTo>
                <a:lnTo>
                  <a:pt x="13852" y="16144"/>
                </a:lnTo>
                <a:lnTo>
                  <a:pt x="8700" y="16144"/>
                </a:lnTo>
                <a:lnTo>
                  <a:pt x="8700" y="15221"/>
                </a:lnTo>
                <a:lnTo>
                  <a:pt x="9988" y="15221"/>
                </a:lnTo>
                <a:lnTo>
                  <a:pt x="9988" y="9129"/>
                </a:lnTo>
                <a:lnTo>
                  <a:pt x="8700" y="9129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0"/>
          <p:cNvSpPr/>
          <p:nvPr/>
        </p:nvSpPr>
        <p:spPr>
          <a:xfrm>
            <a:off x="6443640" y="6021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1127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2539" h="21600">
                <a:moveTo>
                  <a:pt x="1127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2539" h="21600">
                <a:moveTo>
                  <a:pt x="8693" y="8224"/>
                </a:moveTo>
                <a:lnTo>
                  <a:pt x="12558" y="8224"/>
                </a:lnTo>
                <a:lnTo>
                  <a:pt x="12558" y="15221"/>
                </a:lnTo>
                <a:lnTo>
                  <a:pt x="13846" y="15221"/>
                </a:lnTo>
                <a:lnTo>
                  <a:pt x="13846" y="16144"/>
                </a:lnTo>
                <a:lnTo>
                  <a:pt x="8693" y="16144"/>
                </a:lnTo>
                <a:lnTo>
                  <a:pt x="8693" y="15221"/>
                </a:lnTo>
                <a:lnTo>
                  <a:pt x="9981" y="15221"/>
                </a:lnTo>
                <a:lnTo>
                  <a:pt x="9981" y="9129"/>
                </a:lnTo>
                <a:lnTo>
                  <a:pt x="8693" y="9129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11"/>
          <p:cNvSpPr/>
          <p:nvPr/>
        </p:nvSpPr>
        <p:spPr>
          <a:xfrm>
            <a:off x="5724360" y="6021360"/>
            <a:ext cx="648000" cy="620640"/>
          </a:xfrm>
          <a:custGeom>
            <a:avLst/>
            <a:gdLst>
              <a:gd name="textAreaLeft" fmla="*/ 39960 w 648000"/>
              <a:gd name="textAreaRight" fmla="*/ 608040 w 648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52" h="21600">
                <a:moveTo>
                  <a:pt x="0" y="0"/>
                </a:moveTo>
                <a:lnTo>
                  <a:pt x="22552" y="0"/>
                </a:lnTo>
                <a:lnTo>
                  <a:pt x="22552" y="21600"/>
                </a:lnTo>
                <a:lnTo>
                  <a:pt x="0" y="21600"/>
                </a:lnTo>
                <a:close/>
              </a:path>
              <a:path fill="lightenLess" w="22552" h="21600">
                <a:moveTo>
                  <a:pt x="0" y="0"/>
                </a:moveTo>
                <a:lnTo>
                  <a:pt x="22552" y="0"/>
                </a:lnTo>
                <a:lnTo>
                  <a:pt x="21152" y="1400"/>
                </a:lnTo>
                <a:lnTo>
                  <a:pt x="1400" y="1400"/>
                </a:lnTo>
                <a:close/>
              </a:path>
              <a:path fill="darken" w="22552" h="21600">
                <a:moveTo>
                  <a:pt x="22552" y="0"/>
                </a:moveTo>
                <a:lnTo>
                  <a:pt x="22552" y="21600"/>
                </a:lnTo>
                <a:lnTo>
                  <a:pt x="21152" y="20200"/>
                </a:lnTo>
                <a:lnTo>
                  <a:pt x="21152" y="1400"/>
                </a:lnTo>
                <a:close/>
              </a:path>
              <a:path fill="darkenLess" w="22552" h="21600">
                <a:moveTo>
                  <a:pt x="22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52" y="20200"/>
                </a:lnTo>
                <a:close/>
              </a:path>
              <a:path fill="lighten" w="22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52" h="21600">
                <a:moveTo>
                  <a:pt x="11276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2552" h="21600">
                <a:moveTo>
                  <a:pt x="11276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2552" h="21600">
                <a:moveTo>
                  <a:pt x="8700" y="8224"/>
                </a:moveTo>
                <a:lnTo>
                  <a:pt x="12564" y="8224"/>
                </a:lnTo>
                <a:lnTo>
                  <a:pt x="12564" y="15221"/>
                </a:lnTo>
                <a:lnTo>
                  <a:pt x="13852" y="15221"/>
                </a:lnTo>
                <a:lnTo>
                  <a:pt x="13852" y="16144"/>
                </a:lnTo>
                <a:lnTo>
                  <a:pt x="8700" y="16144"/>
                </a:lnTo>
                <a:lnTo>
                  <a:pt x="8700" y="15221"/>
                </a:lnTo>
                <a:lnTo>
                  <a:pt x="9988" y="15221"/>
                </a:lnTo>
                <a:lnTo>
                  <a:pt x="9988" y="9129"/>
                </a:lnTo>
                <a:lnTo>
                  <a:pt x="8700" y="9129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12"/>
          <p:cNvSpPr/>
          <p:nvPr/>
        </p:nvSpPr>
        <p:spPr>
          <a:xfrm>
            <a:off x="3564000" y="6021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1127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2539" h="21600">
                <a:moveTo>
                  <a:pt x="1127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2539" h="21600">
                <a:moveTo>
                  <a:pt x="8693" y="8224"/>
                </a:moveTo>
                <a:lnTo>
                  <a:pt x="12558" y="8224"/>
                </a:lnTo>
                <a:lnTo>
                  <a:pt x="12558" y="15221"/>
                </a:lnTo>
                <a:lnTo>
                  <a:pt x="13846" y="15221"/>
                </a:lnTo>
                <a:lnTo>
                  <a:pt x="13846" y="16144"/>
                </a:lnTo>
                <a:lnTo>
                  <a:pt x="8693" y="16144"/>
                </a:lnTo>
                <a:lnTo>
                  <a:pt x="8693" y="15221"/>
                </a:lnTo>
                <a:lnTo>
                  <a:pt x="9981" y="15221"/>
                </a:lnTo>
                <a:lnTo>
                  <a:pt x="9981" y="9129"/>
                </a:lnTo>
                <a:lnTo>
                  <a:pt x="8693" y="9129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69696"/>
            </a:gs>
            <a:gs pos="100000">
              <a:srgbClr val="dddddd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1" descr="F:\data\images\catalog\4-4(2).jpg"/>
          <p:cNvPicPr/>
          <p:nvPr/>
        </p:nvPicPr>
        <p:blipFill>
          <a:blip r:embed="rId1"/>
          <a:stretch/>
        </p:blipFill>
        <p:spPr>
          <a:xfrm>
            <a:off x="6012000" y="189000"/>
            <a:ext cx="2906640" cy="4392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F:\data\images\catalog\3-8(4).jpg"/>
          <p:cNvPicPr/>
          <p:nvPr/>
        </p:nvPicPr>
        <p:blipFill>
          <a:blip r:embed="rId2"/>
          <a:stretch/>
        </p:blipFill>
        <p:spPr>
          <a:xfrm>
            <a:off x="2627280" y="189000"/>
            <a:ext cx="3529080" cy="23619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0" y="2637000"/>
            <a:ext cx="594036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ru-RU" sz="2200" spc="-1" strike="noStrike" u="sng">
                <a:solidFill>
                  <a:srgbClr val="ff3300"/>
                </a:solidFill>
                <a:uFillTx/>
                <a:latin typeface="Arial"/>
              </a:rPr>
              <a:t>Чрезвычайная ситуация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- это обстановка на определенной территории, сложившаяся в результате аварии, опасного природного явления, катастрофы, стихийного или иного бедствия, которые могут повлечь или повлекли за собой человеческие жертвы, ущерб здоровью людей или окружающей природной среде, значительные материальные потери и нарушение условий жизнедеятельности люд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F:\data\images\catalog\0-1(3).jpg"/>
          <p:cNvPicPr/>
          <p:nvPr/>
        </p:nvPicPr>
        <p:blipFill>
          <a:blip r:embed="rId3"/>
          <a:stretch/>
        </p:blipFill>
        <p:spPr>
          <a:xfrm>
            <a:off x="179280" y="189000"/>
            <a:ext cx="3168720" cy="2376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F:\data\images\catalog\0-1(5).jpg"/>
          <p:cNvPicPr/>
          <p:nvPr/>
        </p:nvPicPr>
        <p:blipFill>
          <a:blip r:embed="rId4"/>
          <a:stretch/>
        </p:blipFill>
        <p:spPr>
          <a:xfrm>
            <a:off x="6156360" y="4724280"/>
            <a:ext cx="2692440" cy="201960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12">
            <a:hlinkClick r:id="" action="ppaction://hlinkshowjump?jump=nextslide"/>
          </p:cNvPr>
          <p:cNvSpPr/>
          <p:nvPr/>
        </p:nvSpPr>
        <p:spPr>
          <a:xfrm>
            <a:off x="5508720" y="6453360"/>
            <a:ext cx="504720" cy="40464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5538" y="1400"/>
                </a:lnTo>
                <a:lnTo>
                  <a:pt x="1400" y="1400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5538" y="20200"/>
                </a:lnTo>
                <a:lnTo>
                  <a:pt x="25538" y="1400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8" y="20200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8" h="21600">
                <a:moveTo>
                  <a:pt x="6462" y="3794"/>
                </a:moveTo>
                <a:lnTo>
                  <a:pt x="20475" y="10800"/>
                </a:lnTo>
                <a:lnTo>
                  <a:pt x="6462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спользованная литератур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440" y="1267920"/>
            <a:ext cx="80629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З «О защите населения и территорий от чрезвычайных ситуаций природного и техногенного характера». Принят ГД   11 ноября 1994 г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З «О гражданской обороне »,  Принят ГД 26 декабря 1997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ановление Правительства РФ от 30 декабря 2003 г. N 794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оложение о единой государственной системе предупреждения и ликвидации ЧС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ановление Правительства РФ от 10 июня 1999 г. N 620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«Положение о гражданских организациях гражданской оборон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оложение о войсках гражданской обороны РФ» в ред. Указа Президента РФ от 05.08.2002 N 84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оложение о Министерстве РФ по делам гражданской обороны, чрезвычайным ситуациям и ликвидации последствий стихийных бедствий», в ред. Указа Президента РФ от 05.08.2002 N 846 от 11 июля 2004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ические разработки по темам программы обучения л/с формирований ГО, ПСТ, 2002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emercom.gov.r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o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ro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Group 8"/>
          <p:cNvGrpSpPr/>
          <p:nvPr/>
        </p:nvGrpSpPr>
        <p:grpSpPr>
          <a:xfrm>
            <a:off x="5938920" y="5805360"/>
            <a:ext cx="3205080" cy="863640"/>
            <a:chOff x="5938920" y="5805360"/>
            <a:chExt cx="3205080" cy="863640"/>
          </a:xfrm>
        </p:grpSpPr>
        <p:sp>
          <p:nvSpPr>
            <p:cNvPr id="381" name="AutoShape 5"/>
            <p:cNvSpPr/>
            <p:nvPr/>
          </p:nvSpPr>
          <p:spPr>
            <a:xfrm>
              <a:off x="5938920" y="5805360"/>
              <a:ext cx="2449440" cy="647640"/>
            </a:xfrm>
            <a:custGeom>
              <a:avLst/>
              <a:gdLst>
                <a:gd name="textAreaLeft" fmla="*/ 41760 w 2449440"/>
                <a:gd name="textAreaRight" fmla="*/ 2407680 w 24494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81660" h="21600">
                  <a:moveTo>
                    <a:pt x="0" y="0"/>
                  </a:moveTo>
                  <a:lnTo>
                    <a:pt x="81660" y="0"/>
                  </a:lnTo>
                  <a:lnTo>
                    <a:pt x="81660" y="21600"/>
                  </a:lnTo>
                  <a:lnTo>
                    <a:pt x="0" y="21600"/>
                  </a:lnTo>
                  <a:close/>
                </a:path>
                <a:path fill="lightenLess" w="81660" h="21600">
                  <a:moveTo>
                    <a:pt x="0" y="0"/>
                  </a:moveTo>
                  <a:lnTo>
                    <a:pt x="81660" y="0"/>
                  </a:lnTo>
                  <a:lnTo>
                    <a:pt x="80260" y="1400"/>
                  </a:lnTo>
                  <a:lnTo>
                    <a:pt x="1400" y="1400"/>
                  </a:lnTo>
                  <a:close/>
                </a:path>
                <a:path fill="darken" w="81660" h="21600">
                  <a:moveTo>
                    <a:pt x="81660" y="0"/>
                  </a:moveTo>
                  <a:lnTo>
                    <a:pt x="81660" y="21600"/>
                  </a:lnTo>
                  <a:lnTo>
                    <a:pt x="80260" y="20200"/>
                  </a:lnTo>
                  <a:lnTo>
                    <a:pt x="80260" y="1400"/>
                  </a:lnTo>
                  <a:close/>
                </a:path>
                <a:path fill="darkenLess" w="81660" h="21600">
                  <a:moveTo>
                    <a:pt x="8166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80260" y="20200"/>
                  </a:lnTo>
                  <a:close/>
                </a:path>
                <a:path fill="lighten" w="8166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3399ff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ffff00"/>
                  </a:solidFill>
                  <a:latin typeface="Arial"/>
                </a:rPr>
                <a:t>глоссарий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AutoShape 6"/>
            <p:cNvSpPr/>
            <p:nvPr/>
          </p:nvSpPr>
          <p:spPr>
            <a:xfrm>
              <a:off x="5938920" y="6381720"/>
              <a:ext cx="3205080" cy="287280"/>
            </a:xfrm>
            <a:custGeom>
              <a:avLst/>
              <a:gdLst>
                <a:gd name="textAreaLeft" fmla="*/ 500040 w 3205080"/>
                <a:gd name="textAreaRight" fmla="*/ 2805120 w 3205080"/>
                <a:gd name="textAreaTop" fmla="*/ 71280 h 287280"/>
                <a:gd name="textAreaBottom" fmla="*/ 21600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3399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58560" y="1268280"/>
            <a:ext cx="878508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Тема:</a:t>
            </a: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 Организация аварийно-спасательных и других неотложных работ в зонах чрезвычайных ситуаций (АСДНР)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1116000" y="4076640"/>
            <a:ext cx="7191360" cy="15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обенности проведения АСДНР на территории, зараженной (загрязненной) радиоактивными и отравляющими (аварийно - химически опасными) веществами, а также при стихийных бедств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Group 10"/>
          <p:cNvGrpSpPr/>
          <p:nvPr/>
        </p:nvGrpSpPr>
        <p:grpSpPr>
          <a:xfrm>
            <a:off x="7669440" y="5589720"/>
            <a:ext cx="1294920" cy="912600"/>
            <a:chOff x="7669440" y="5589720"/>
            <a:chExt cx="1294920" cy="912600"/>
          </a:xfrm>
        </p:grpSpPr>
        <p:sp>
          <p:nvSpPr>
            <p:cNvPr id="386" name="AutoShape 5"/>
            <p:cNvSpPr/>
            <p:nvPr/>
          </p:nvSpPr>
          <p:spPr>
            <a:xfrm>
              <a:off x="7709040" y="5589720"/>
              <a:ext cx="1184040" cy="912600"/>
            </a:xfrm>
            <a:custGeom>
              <a:avLst/>
              <a:gdLst>
                <a:gd name="textAreaLeft" fmla="*/ 59040 w 1184040"/>
                <a:gd name="textAreaRight" fmla="*/ 1125000 w 1184040"/>
                <a:gd name="textAreaTop" fmla="*/ 59040 h 912600"/>
                <a:gd name="textAreaBottom" fmla="*/ 853560 h 912600"/>
              </a:gdLst>
              <a:ahLst/>
              <a:rect l="textAreaLeft" t="textAreaTop" r="textAreaRight" b="textAreaBottom"/>
              <a:pathLst>
                <a:path w="28022" h="21600">
                  <a:moveTo>
                    <a:pt x="0" y="0"/>
                  </a:moveTo>
                  <a:lnTo>
                    <a:pt x="28022" y="0"/>
                  </a:lnTo>
                  <a:lnTo>
                    <a:pt x="28022" y="21600"/>
                  </a:lnTo>
                  <a:lnTo>
                    <a:pt x="0" y="21600"/>
                  </a:lnTo>
                  <a:close/>
                </a:path>
                <a:path fill="lightenLess" w="28022" h="21600">
                  <a:moveTo>
                    <a:pt x="0" y="0"/>
                  </a:moveTo>
                  <a:lnTo>
                    <a:pt x="28022" y="0"/>
                  </a:lnTo>
                  <a:lnTo>
                    <a:pt x="26622" y="1400"/>
                  </a:lnTo>
                  <a:lnTo>
                    <a:pt x="1400" y="1400"/>
                  </a:lnTo>
                  <a:close/>
                </a:path>
                <a:path fill="darken" w="28022" h="21600">
                  <a:moveTo>
                    <a:pt x="28022" y="0"/>
                  </a:moveTo>
                  <a:lnTo>
                    <a:pt x="28022" y="21600"/>
                  </a:lnTo>
                  <a:lnTo>
                    <a:pt x="26622" y="20200"/>
                  </a:lnTo>
                  <a:lnTo>
                    <a:pt x="26622" y="1400"/>
                  </a:lnTo>
                  <a:close/>
                </a:path>
                <a:path fill="darkenLess" w="28022" h="21600">
                  <a:moveTo>
                    <a:pt x="2802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622" y="20200"/>
                  </a:lnTo>
                  <a:close/>
                </a:path>
                <a:path fill="lighten" w="2802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022" h="21600">
                  <a:moveTo>
                    <a:pt x="14011" y="3837"/>
                  </a:moveTo>
                  <a:lnTo>
                    <a:pt x="16587" y="6448"/>
                  </a:lnTo>
                  <a:lnTo>
                    <a:pt x="16587" y="4707"/>
                  </a:lnTo>
                  <a:lnTo>
                    <a:pt x="18363" y="4707"/>
                  </a:lnTo>
                  <a:lnTo>
                    <a:pt x="18363" y="8224"/>
                  </a:lnTo>
                  <a:lnTo>
                    <a:pt x="20974" y="10800"/>
                  </a:lnTo>
                  <a:lnTo>
                    <a:pt x="19320" y="10800"/>
                  </a:lnTo>
                  <a:lnTo>
                    <a:pt x="19320" y="17989"/>
                  </a:lnTo>
                  <a:lnTo>
                    <a:pt x="8702" y="17989"/>
                  </a:lnTo>
                  <a:lnTo>
                    <a:pt x="8702" y="10800"/>
                  </a:lnTo>
                  <a:lnTo>
                    <a:pt x="7048" y="10800"/>
                  </a:lnTo>
                  <a:close/>
                </a:path>
                <a:path fill="darkenLess" w="28022" h="21600">
                  <a:moveTo>
                    <a:pt x="16587" y="6448"/>
                  </a:moveTo>
                  <a:lnTo>
                    <a:pt x="16587" y="4707"/>
                  </a:lnTo>
                  <a:lnTo>
                    <a:pt x="18363" y="4707"/>
                  </a:lnTo>
                  <a:lnTo>
                    <a:pt x="18363" y="8224"/>
                  </a:lnTo>
                  <a:close/>
                </a:path>
                <a:path fill="darkenLess" w="28022" h="21600">
                  <a:moveTo>
                    <a:pt x="13088" y="14299"/>
                  </a:moveTo>
                  <a:lnTo>
                    <a:pt x="14934" y="14299"/>
                  </a:lnTo>
                  <a:lnTo>
                    <a:pt x="14934" y="17989"/>
                  </a:lnTo>
                  <a:lnTo>
                    <a:pt x="19320" y="17989"/>
                  </a:lnTo>
                  <a:lnTo>
                    <a:pt x="19320" y="10800"/>
                  </a:lnTo>
                  <a:lnTo>
                    <a:pt x="8702" y="10800"/>
                  </a:lnTo>
                  <a:lnTo>
                    <a:pt x="8702" y="17989"/>
                  </a:lnTo>
                  <a:lnTo>
                    <a:pt x="13088" y="17989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66ff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6"/>
            <p:cNvSpPr/>
            <p:nvPr/>
          </p:nvSpPr>
          <p:spPr>
            <a:xfrm>
              <a:off x="7669440" y="6021360"/>
              <a:ext cx="129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00"/>
                  </a:solidFill>
                  <a:latin typeface="Arial"/>
                </a:rPr>
                <a:t>Раздел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AutoShape 9">
            <a:hlinkClick r:id="" action="ppaction://hlinkshowjump?jump=endshow"/>
          </p:cNvPr>
          <p:cNvSpPr/>
          <p:nvPr/>
        </p:nvSpPr>
        <p:spPr>
          <a:xfrm>
            <a:off x="5796000" y="5805360"/>
            <a:ext cx="1332000" cy="576360"/>
          </a:xfrm>
          <a:custGeom>
            <a:avLst/>
            <a:gdLst>
              <a:gd name="textAreaLeft" fmla="*/ 37080 w 1332000"/>
              <a:gd name="textAreaRight" fmla="*/ 1294920 w 133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9901" h="21600">
                <a:moveTo>
                  <a:pt x="0" y="0"/>
                </a:moveTo>
                <a:lnTo>
                  <a:pt x="49901" y="0"/>
                </a:lnTo>
                <a:lnTo>
                  <a:pt x="49901" y="21600"/>
                </a:lnTo>
                <a:lnTo>
                  <a:pt x="0" y="21600"/>
                </a:lnTo>
                <a:close/>
              </a:path>
              <a:path fill="lightenLess" w="49901" h="21600">
                <a:moveTo>
                  <a:pt x="0" y="0"/>
                </a:moveTo>
                <a:lnTo>
                  <a:pt x="49901" y="0"/>
                </a:lnTo>
                <a:lnTo>
                  <a:pt x="48501" y="1400"/>
                </a:lnTo>
                <a:lnTo>
                  <a:pt x="1400" y="1400"/>
                </a:lnTo>
                <a:close/>
              </a:path>
              <a:path fill="darken" w="49901" h="21600">
                <a:moveTo>
                  <a:pt x="49901" y="0"/>
                </a:moveTo>
                <a:lnTo>
                  <a:pt x="49901" y="21600"/>
                </a:lnTo>
                <a:lnTo>
                  <a:pt x="48501" y="20200"/>
                </a:lnTo>
                <a:lnTo>
                  <a:pt x="48501" y="1400"/>
                </a:lnTo>
                <a:close/>
              </a:path>
              <a:path fill="darkenLess" w="49901" h="21600">
                <a:moveTo>
                  <a:pt x="49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501" y="20200"/>
                </a:lnTo>
                <a:close/>
              </a:path>
              <a:path fill="lighten" w="49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0099cc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69696"/>
            </a:gs>
            <a:gs pos="100000">
              <a:srgbClr val="dddddd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Наиболее характерные последствия Ч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7"/>
          <p:cNvSpPr/>
          <p:nvPr/>
        </p:nvSpPr>
        <p:spPr>
          <a:xfrm>
            <a:off x="76320" y="1752480"/>
            <a:ext cx="2192040" cy="83844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диоактив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гряз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2971800" y="1752480"/>
            <a:ext cx="6095880" cy="838440"/>
          </a:xfrm>
          <a:prstGeom prst="rect">
            <a:avLst/>
          </a:prstGeom>
          <a:gradFill rotWithShape="0">
            <a:gsLst>
              <a:gs pos="0">
                <a:srgbClr val="99ff33"/>
              </a:gs>
              <a:gs pos="100000">
                <a:srgbClr val="00cc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вследствие аварий на радиационно опасных объекта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аварий транспортных средств с ядерными энергет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ческими установками или перевозящими радиоактив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ные ве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9"/>
          <p:cNvSpPr/>
          <p:nvPr/>
        </p:nvSpPr>
        <p:spPr>
          <a:xfrm>
            <a:off x="76320" y="762120"/>
            <a:ext cx="2192040" cy="83808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ру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0"/>
          <p:cNvSpPr/>
          <p:nvPr/>
        </p:nvSpPr>
        <p:spPr>
          <a:xfrm>
            <a:off x="2209680" y="990720"/>
            <a:ext cx="685800" cy="38088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2971800" y="762120"/>
            <a:ext cx="6095880" cy="838080"/>
          </a:xfrm>
          <a:prstGeom prst="rect">
            <a:avLst/>
          </a:prstGeom>
          <a:gradFill rotWithShape="0">
            <a:gsLst>
              <a:gs pos="0">
                <a:srgbClr val="99ff33"/>
              </a:gs>
              <a:gs pos="100000">
                <a:srgbClr val="00cc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возникающие при землетрясениях, взрывах, пожара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производственных авариях, ураганах, смерча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обвалах, сел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2"/>
          <p:cNvSpPr/>
          <p:nvPr/>
        </p:nvSpPr>
        <p:spPr>
          <a:xfrm>
            <a:off x="76320" y="2743200"/>
            <a:ext cx="2192040" cy="83808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имиче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ра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3"/>
          <p:cNvSpPr/>
          <p:nvPr/>
        </p:nvSpPr>
        <p:spPr>
          <a:xfrm>
            <a:off x="2209680" y="2971800"/>
            <a:ext cx="685800" cy="38088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2971800" y="2666880"/>
            <a:ext cx="6095880" cy="990720"/>
          </a:xfrm>
          <a:prstGeom prst="rect">
            <a:avLst/>
          </a:prstGeom>
          <a:gradFill rotWithShape="0">
            <a:gsLst>
              <a:gs pos="0">
                <a:srgbClr val="99ff33"/>
              </a:gs>
              <a:gs pos="100000">
                <a:srgbClr val="00cc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в результате аварий на химически опасных объекта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приводящих к разрушению емкостей и технологическ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коммуникаций, содержащих АХОВ, а также аварий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на транспорте, перевозящем указанные ве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5"/>
          <p:cNvSpPr/>
          <p:nvPr/>
        </p:nvSpPr>
        <p:spPr>
          <a:xfrm>
            <a:off x="76320" y="3733920"/>
            <a:ext cx="2192040" cy="83808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сс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жа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2209680" y="3962520"/>
            <a:ext cx="685800" cy="38088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2971800" y="3733920"/>
            <a:ext cx="6095880" cy="838080"/>
          </a:xfrm>
          <a:prstGeom prst="rect">
            <a:avLst/>
          </a:prstGeom>
          <a:gradFill rotWithShape="0">
            <a:gsLst>
              <a:gs pos="0">
                <a:srgbClr val="99ff33"/>
              </a:gs>
              <a:gs pos="100000">
                <a:srgbClr val="00cc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являющиеся следствием природных явлений, аварий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несоблюдения правил пожарной безопас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8"/>
          <p:cNvSpPr/>
          <p:nvPr/>
        </p:nvSpPr>
        <p:spPr>
          <a:xfrm>
            <a:off x="76320" y="4724280"/>
            <a:ext cx="2192040" cy="83844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топ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9"/>
          <p:cNvSpPr/>
          <p:nvPr/>
        </p:nvSpPr>
        <p:spPr>
          <a:xfrm>
            <a:off x="2209680" y="49528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0"/>
          <p:cNvSpPr/>
          <p:nvPr/>
        </p:nvSpPr>
        <p:spPr>
          <a:xfrm>
            <a:off x="2971800" y="4724280"/>
            <a:ext cx="6095880" cy="838440"/>
          </a:xfrm>
          <a:prstGeom prst="rect">
            <a:avLst/>
          </a:prstGeom>
          <a:gradFill rotWithShape="0">
            <a:gsLst>
              <a:gs pos="0">
                <a:srgbClr val="99ff33"/>
              </a:gs>
              <a:gs pos="100000">
                <a:srgbClr val="00cc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возникающие при наводнениях, разрушения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гидротехнических сооружениях, цунами, селях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других природных явлен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21"/>
          <p:cNvSpPr/>
          <p:nvPr/>
        </p:nvSpPr>
        <p:spPr>
          <a:xfrm>
            <a:off x="76320" y="5715000"/>
            <a:ext cx="2192040" cy="1066680"/>
          </a:xfrm>
          <a:prstGeom prst="beve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пидеми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пизооти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пифитот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2"/>
          <p:cNvSpPr/>
          <p:nvPr/>
        </p:nvSpPr>
        <p:spPr>
          <a:xfrm>
            <a:off x="2209680" y="6019920"/>
            <a:ext cx="685800" cy="38088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3"/>
          <p:cNvSpPr/>
          <p:nvPr/>
        </p:nvSpPr>
        <p:spPr>
          <a:xfrm>
            <a:off x="2971800" y="5791320"/>
            <a:ext cx="6095880" cy="914400"/>
          </a:xfrm>
          <a:prstGeom prst="rect">
            <a:avLst/>
          </a:prstGeom>
          <a:gradFill rotWithShape="0">
            <a:gsLst>
              <a:gs pos="0">
                <a:srgbClr val="99ff33"/>
              </a:gs>
              <a:gs pos="100000">
                <a:srgbClr val="00cc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массовые заболевания люд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сельскохозяйственных животных и раст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6"/>
          <p:cNvSpPr/>
          <p:nvPr/>
        </p:nvSpPr>
        <p:spPr>
          <a:xfrm>
            <a:off x="2209680" y="19810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24">
            <a:hlinkClick r:id="" action="ppaction://hlinkshowjump?jump=nextslide"/>
          </p:cNvPr>
          <p:cNvSpPr/>
          <p:nvPr/>
        </p:nvSpPr>
        <p:spPr>
          <a:xfrm>
            <a:off x="2411280" y="6453360"/>
            <a:ext cx="505080" cy="40464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57" h="21600">
                <a:moveTo>
                  <a:pt x="0" y="0"/>
                </a:moveTo>
                <a:lnTo>
                  <a:pt x="26957" y="0"/>
                </a:lnTo>
                <a:lnTo>
                  <a:pt x="26957" y="21600"/>
                </a:lnTo>
                <a:lnTo>
                  <a:pt x="0" y="21600"/>
                </a:lnTo>
                <a:close/>
              </a:path>
              <a:path fill="lightenLess" w="26957" h="21600">
                <a:moveTo>
                  <a:pt x="0" y="0"/>
                </a:moveTo>
                <a:lnTo>
                  <a:pt x="26957" y="0"/>
                </a:lnTo>
                <a:lnTo>
                  <a:pt x="25557" y="1400"/>
                </a:lnTo>
                <a:lnTo>
                  <a:pt x="1400" y="1400"/>
                </a:lnTo>
                <a:close/>
              </a:path>
              <a:path fill="darken" w="26957" h="21600">
                <a:moveTo>
                  <a:pt x="26957" y="0"/>
                </a:moveTo>
                <a:lnTo>
                  <a:pt x="26957" y="21600"/>
                </a:lnTo>
                <a:lnTo>
                  <a:pt x="25557" y="20200"/>
                </a:lnTo>
                <a:lnTo>
                  <a:pt x="25557" y="1400"/>
                </a:lnTo>
                <a:close/>
              </a:path>
              <a:path fill="darkenLess" w="26957" h="21600">
                <a:moveTo>
                  <a:pt x="269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7" y="20200"/>
                </a:lnTo>
                <a:close/>
              </a:path>
              <a:path fill="lighten" w="269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7" h="21600">
                <a:moveTo>
                  <a:pt x="6472" y="3794"/>
                </a:moveTo>
                <a:lnTo>
                  <a:pt x="20485" y="10800"/>
                </a:lnTo>
                <a:lnTo>
                  <a:pt x="6472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69696"/>
            </a:gs>
            <a:gs pos="100000">
              <a:srgbClr val="dddddd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52000" y="1628640"/>
            <a:ext cx="86374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Аварийно-спасательные работ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это действия по спасению людей, материальных и культурных ценностей, защите природной среды в зоне ЧС, локализации ЧС, подавлению или доведению до минимально возможного уровня воздействия характерных для них опасных факто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арийно-спасательные работы характеризуются наличием факторов, угрожающих жизни и здоровью проводящих эти работы людей, и требуют специальной подготовки, экипировки и оснащ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Цель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розыск и деблокирование пострадавших, оказание им первой медицинской помощи и эвакуация из опасной з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0" y="33336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АВАРИЙНО-СПАСАТЕЛЬНЫЕ И ДРУГИЕ НЕОТЛОЖНЫЕ РАБОТЫ В ОЧАГАХ ПОРА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9"/>
          <p:cNvSpPr/>
          <p:nvPr/>
        </p:nvSpPr>
        <p:spPr>
          <a:xfrm>
            <a:off x="7164360" y="6021360"/>
            <a:ext cx="1152720" cy="620640"/>
          </a:xfrm>
          <a:custGeom>
            <a:avLst/>
            <a:gdLst>
              <a:gd name="textAreaLeft" fmla="*/ 39960 w 1152720"/>
              <a:gd name="textAreaRight" fmla="*/ 1112760 w 1152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40107" h="21600">
                <a:moveTo>
                  <a:pt x="0" y="0"/>
                </a:moveTo>
                <a:lnTo>
                  <a:pt x="40107" y="0"/>
                </a:lnTo>
                <a:lnTo>
                  <a:pt x="40107" y="21600"/>
                </a:lnTo>
                <a:lnTo>
                  <a:pt x="0" y="21600"/>
                </a:lnTo>
                <a:close/>
              </a:path>
              <a:path fill="lightenLess" w="40107" h="21600">
                <a:moveTo>
                  <a:pt x="0" y="0"/>
                </a:moveTo>
                <a:lnTo>
                  <a:pt x="40107" y="0"/>
                </a:lnTo>
                <a:lnTo>
                  <a:pt x="38707" y="1400"/>
                </a:lnTo>
                <a:lnTo>
                  <a:pt x="1400" y="1400"/>
                </a:lnTo>
                <a:close/>
              </a:path>
              <a:path fill="darken" w="40107" h="21600">
                <a:moveTo>
                  <a:pt x="40107" y="0"/>
                </a:moveTo>
                <a:lnTo>
                  <a:pt x="40107" y="21600"/>
                </a:lnTo>
                <a:lnTo>
                  <a:pt x="38707" y="20200"/>
                </a:lnTo>
                <a:lnTo>
                  <a:pt x="38707" y="1400"/>
                </a:lnTo>
                <a:close/>
              </a:path>
              <a:path fill="darkenLess" w="40107" h="21600">
                <a:moveTo>
                  <a:pt x="401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07" y="20200"/>
                </a:lnTo>
                <a:close/>
              </a:path>
              <a:path fill="lighten" w="401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107" h="21600">
                <a:moveTo>
                  <a:pt x="13047" y="7301"/>
                </a:moveTo>
                <a:lnTo>
                  <a:pt x="13961" y="7301"/>
                </a:lnTo>
                <a:lnTo>
                  <a:pt x="14344" y="7667"/>
                </a:lnTo>
                <a:lnTo>
                  <a:pt x="23552" y="7667"/>
                </a:lnTo>
                <a:lnTo>
                  <a:pt x="24109" y="8224"/>
                </a:lnTo>
                <a:lnTo>
                  <a:pt x="24109" y="8772"/>
                </a:lnTo>
                <a:lnTo>
                  <a:pt x="25955" y="8772"/>
                </a:lnTo>
                <a:lnTo>
                  <a:pt x="26320" y="8224"/>
                </a:lnTo>
                <a:lnTo>
                  <a:pt x="27060" y="8224"/>
                </a:lnTo>
                <a:lnTo>
                  <a:pt x="27060" y="13376"/>
                </a:lnTo>
                <a:lnTo>
                  <a:pt x="26320" y="13376"/>
                </a:lnTo>
                <a:lnTo>
                  <a:pt x="25955" y="12828"/>
                </a:lnTo>
                <a:lnTo>
                  <a:pt x="24109" y="12828"/>
                </a:lnTo>
                <a:lnTo>
                  <a:pt x="24109" y="14107"/>
                </a:lnTo>
                <a:lnTo>
                  <a:pt x="14527" y="14107"/>
                </a:lnTo>
                <a:lnTo>
                  <a:pt x="14527" y="9877"/>
                </a:lnTo>
                <a:lnTo>
                  <a:pt x="14344" y="9877"/>
                </a:lnTo>
                <a:lnTo>
                  <a:pt x="13961" y="10243"/>
                </a:lnTo>
                <a:lnTo>
                  <a:pt x="13047" y="10243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4" descr="Копия 0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88000" y="6021360"/>
            <a:ext cx="522360" cy="53964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15">
            <a:hlinkClick r:id="" action="ppaction://hlinkshowjump?jump=nextslide"/>
          </p:cNvPr>
          <p:cNvSpPr/>
          <p:nvPr/>
        </p:nvSpPr>
        <p:spPr>
          <a:xfrm>
            <a:off x="8459640" y="6165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3794"/>
                </a:moveTo>
                <a:lnTo>
                  <a:pt x="20473" y="10800"/>
                </a:lnTo>
                <a:lnTo>
                  <a:pt x="6460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3" presetSubtype="5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1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3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5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5500"/>
                            </p:stCondLst>
                            <p:childTnLst>
                              <p:par>
                                <p:cTn id="254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7000"/>
                            </p:stCondLst>
                            <p:childTnLst>
                              <p:par>
                                <p:cTn id="261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69696"/>
            </a:gs>
            <a:gs pos="100000">
              <a:srgbClr val="dddddd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Аварийно-спасательные работы в очагах поражения включаю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8569080" cy="57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ведку маршрутов движения и участков рабо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окализацию и тушение пожаров на маршрутах движения и участках рабо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авление или доведение до минимально возможного уровня возникших в результате ЧС вредных и опасных факторов, препятствующих ведению спасательных рабо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зыск пораженных и извлечение их из поврежденных и горящих зданий, загазованных, затопленных и задымленных помещений, завал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крытие разрушенных, поврежденных и заваленных ЗС и спасение находящихся в них люд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ачу воздуха в заваленные ЗС с поврежденной фильтровентиляционной систем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казание первой медицинской и врачебной помощи пострадавшим и эвакуацию их в лечебные учрежд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воз (вывод) населения из опасных мест в безопасные район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нитарную обработку людей, ветеринарную обработку с/х животных, дезактивацию и дегазацию техники, средств защиты и одежды, обеззараживание территорий и сооружений, продовольствия, воды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2" descr="Копия 0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812000" y="6165720"/>
            <a:ext cx="522360" cy="54000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13">
            <a:hlinkClick r:id="" action="ppaction://hlinkshowjump?jump=nextslide"/>
          </p:cNvPr>
          <p:cNvSpPr/>
          <p:nvPr/>
        </p:nvSpPr>
        <p:spPr>
          <a:xfrm>
            <a:off x="8459640" y="6237360"/>
            <a:ext cx="505080" cy="40464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57" h="21600">
                <a:moveTo>
                  <a:pt x="0" y="0"/>
                </a:moveTo>
                <a:lnTo>
                  <a:pt x="26957" y="0"/>
                </a:lnTo>
                <a:lnTo>
                  <a:pt x="26957" y="21600"/>
                </a:lnTo>
                <a:lnTo>
                  <a:pt x="0" y="21600"/>
                </a:lnTo>
                <a:close/>
              </a:path>
              <a:path fill="lightenLess" w="26957" h="21600">
                <a:moveTo>
                  <a:pt x="0" y="0"/>
                </a:moveTo>
                <a:lnTo>
                  <a:pt x="26957" y="0"/>
                </a:lnTo>
                <a:lnTo>
                  <a:pt x="25557" y="1400"/>
                </a:lnTo>
                <a:lnTo>
                  <a:pt x="1400" y="1400"/>
                </a:lnTo>
                <a:close/>
              </a:path>
              <a:path fill="darken" w="26957" h="21600">
                <a:moveTo>
                  <a:pt x="26957" y="0"/>
                </a:moveTo>
                <a:lnTo>
                  <a:pt x="26957" y="21600"/>
                </a:lnTo>
                <a:lnTo>
                  <a:pt x="25557" y="20200"/>
                </a:lnTo>
                <a:lnTo>
                  <a:pt x="25557" y="1400"/>
                </a:lnTo>
                <a:close/>
              </a:path>
              <a:path fill="darkenLess" w="26957" h="21600">
                <a:moveTo>
                  <a:pt x="269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7" y="20200"/>
                </a:lnTo>
                <a:close/>
              </a:path>
              <a:path fill="lighten" w="269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7" h="21600">
                <a:moveTo>
                  <a:pt x="6472" y="3794"/>
                </a:moveTo>
                <a:lnTo>
                  <a:pt x="20485" y="10800"/>
                </a:lnTo>
                <a:lnTo>
                  <a:pt x="6472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69696"/>
            </a:gs>
            <a:gs pos="100000">
              <a:srgbClr val="dddddd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-1659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360" y="6237360"/>
            <a:ext cx="777240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539640" y="2781360"/>
            <a:ext cx="7921800" cy="93492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00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Основные виды обеспеч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аварийно-спасательных раб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1762200" y="2349360"/>
            <a:ext cx="5616360" cy="432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00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Р а з в е д к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395280" y="260280"/>
            <a:ext cx="2879640" cy="5763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00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воздуш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95280" y="1268280"/>
            <a:ext cx="2879640" cy="5763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00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назем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5794200" y="1268280"/>
            <a:ext cx="2880000" cy="5763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00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подзем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5794200" y="260280"/>
            <a:ext cx="2880000" cy="5763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00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вод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50920" y="3860640"/>
            <a:ext cx="3166920" cy="5763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00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транспорт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0920" y="4579920"/>
            <a:ext cx="3166920" cy="5763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00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инженер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50920" y="5300640"/>
            <a:ext cx="3166920" cy="5763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00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дорож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411280" y="6093000"/>
            <a:ext cx="4178520" cy="576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00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гидрометеорологиче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5724360" y="5300640"/>
            <a:ext cx="3167280" cy="5763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00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техниче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5"/>
          <p:cNvSpPr/>
          <p:nvPr/>
        </p:nvSpPr>
        <p:spPr>
          <a:xfrm>
            <a:off x="5724360" y="4579920"/>
            <a:ext cx="3167280" cy="5763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00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материа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6"/>
          <p:cNvSpPr/>
          <p:nvPr/>
        </p:nvSpPr>
        <p:spPr>
          <a:xfrm>
            <a:off x="5724360" y="3860640"/>
            <a:ext cx="3167280" cy="5763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00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медицин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AutoShape 17"/>
          <p:cNvCxnSpPr>
            <a:stCxn id="117" idx="0"/>
            <a:endCxn id="121" idx="1"/>
          </p:cNvCxnSpPr>
          <p:nvPr/>
        </p:nvCxnSpPr>
        <p:spPr>
          <a:xfrm flipH="1" flipV="1" rot="5400000">
            <a:off x="4281840" y="837000"/>
            <a:ext cx="1800720" cy="1224360"/>
          </a:xfrm>
          <a:prstGeom prst="bentConnector2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30" name="AutoShape 18"/>
          <p:cNvCxnSpPr>
            <a:stCxn id="117" idx="0"/>
            <a:endCxn id="120" idx="1"/>
          </p:cNvCxnSpPr>
          <p:nvPr/>
        </p:nvCxnSpPr>
        <p:spPr>
          <a:xfrm flipH="1" flipV="1" rot="5400000">
            <a:off x="4785840" y="1341000"/>
            <a:ext cx="792720" cy="1224360"/>
          </a:xfrm>
          <a:prstGeom prst="bentConnector2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31" name="AutoShape 19"/>
          <p:cNvCxnSpPr>
            <a:stCxn id="117" idx="0"/>
            <a:endCxn id="118" idx="3"/>
          </p:cNvCxnSpPr>
          <p:nvPr/>
        </p:nvCxnSpPr>
        <p:spPr>
          <a:xfrm flipV="1" rot="16200000">
            <a:off x="3022200" y="801000"/>
            <a:ext cx="1800720" cy="1296360"/>
          </a:xfrm>
          <a:prstGeom prst="bentConnector2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32" name="AutoShape 20"/>
          <p:cNvCxnSpPr>
            <a:stCxn id="117" idx="0"/>
            <a:endCxn id="119" idx="3"/>
          </p:cNvCxnSpPr>
          <p:nvPr/>
        </p:nvCxnSpPr>
        <p:spPr>
          <a:xfrm flipV="1" rot="16200000">
            <a:off x="3526200" y="1305000"/>
            <a:ext cx="792720" cy="1296360"/>
          </a:xfrm>
          <a:prstGeom prst="bentConnector2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33" name="AutoShape 21"/>
          <p:cNvCxnSpPr>
            <a:stCxn id="116" idx="2"/>
            <a:endCxn id="128" idx="1"/>
          </p:cNvCxnSpPr>
          <p:nvPr/>
        </p:nvCxnSpPr>
        <p:spPr>
          <a:xfrm flipH="1" rot="16200000">
            <a:off x="4894920" y="3321000"/>
            <a:ext cx="434160" cy="1224360"/>
          </a:xfrm>
          <a:prstGeom prst="bentConnector2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34" name="AutoShape 22"/>
          <p:cNvCxnSpPr>
            <a:stCxn id="116" idx="2"/>
            <a:endCxn id="122" idx="3"/>
          </p:cNvCxnSpPr>
          <p:nvPr/>
        </p:nvCxnSpPr>
        <p:spPr>
          <a:xfrm rot="5400000">
            <a:off x="3742200" y="3391560"/>
            <a:ext cx="434160" cy="1083240"/>
          </a:xfrm>
          <a:prstGeom prst="bentConnector2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35" name="AutoShape 23"/>
          <p:cNvCxnSpPr>
            <a:stCxn id="116" idx="2"/>
            <a:endCxn id="127" idx="1"/>
          </p:cNvCxnSpPr>
          <p:nvPr/>
        </p:nvCxnSpPr>
        <p:spPr>
          <a:xfrm flipH="1" rot="16200000">
            <a:off x="4535280" y="3680640"/>
            <a:ext cx="1153440" cy="1224360"/>
          </a:xfrm>
          <a:prstGeom prst="bentConnector2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36" name="AutoShape 24"/>
          <p:cNvCxnSpPr>
            <a:stCxn id="116" idx="2"/>
            <a:endCxn id="123" idx="3"/>
          </p:cNvCxnSpPr>
          <p:nvPr/>
        </p:nvCxnSpPr>
        <p:spPr>
          <a:xfrm rot="5400000">
            <a:off x="3382560" y="3751200"/>
            <a:ext cx="1153440" cy="1083240"/>
          </a:xfrm>
          <a:prstGeom prst="bentConnector2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37" name="AutoShape 25"/>
          <p:cNvCxnSpPr>
            <a:stCxn id="116" idx="2"/>
            <a:endCxn id="126" idx="1"/>
          </p:cNvCxnSpPr>
          <p:nvPr/>
        </p:nvCxnSpPr>
        <p:spPr>
          <a:xfrm flipH="1" rot="16200000">
            <a:off x="4174920" y="4041000"/>
            <a:ext cx="1874160" cy="1224360"/>
          </a:xfrm>
          <a:prstGeom prst="bentConnector2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38" name="AutoShape 26"/>
          <p:cNvCxnSpPr>
            <a:stCxn id="116" idx="2"/>
            <a:endCxn id="124" idx="3"/>
          </p:cNvCxnSpPr>
          <p:nvPr/>
        </p:nvCxnSpPr>
        <p:spPr>
          <a:xfrm rot="5400000">
            <a:off x="3022200" y="4111560"/>
            <a:ext cx="1874160" cy="1083240"/>
          </a:xfrm>
          <a:prstGeom prst="bentConnector2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39" name="AutoShape 27"/>
          <p:cNvCxnSpPr>
            <a:stCxn id="116" idx="2"/>
            <a:endCxn id="125" idx="0"/>
          </p:cNvCxnSpPr>
          <p:nvPr/>
        </p:nvCxnSpPr>
        <p:spPr>
          <a:xfrm flipH="1">
            <a:off x="4500000" y="3716280"/>
            <a:ext cx="1080" cy="2377440"/>
          </a:xfrm>
          <a:prstGeom prst="straightConnector1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140" name="AutoShape 28">
            <a:hlinkClick r:id="" action="ppaction://hlinkshowjump?jump=nextslide"/>
          </p:cNvPr>
          <p:cNvSpPr/>
          <p:nvPr/>
        </p:nvSpPr>
        <p:spPr>
          <a:xfrm>
            <a:off x="8459640" y="6237360"/>
            <a:ext cx="505080" cy="40464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57" h="21600">
                <a:moveTo>
                  <a:pt x="0" y="0"/>
                </a:moveTo>
                <a:lnTo>
                  <a:pt x="26957" y="0"/>
                </a:lnTo>
                <a:lnTo>
                  <a:pt x="26957" y="21600"/>
                </a:lnTo>
                <a:lnTo>
                  <a:pt x="0" y="21600"/>
                </a:lnTo>
                <a:close/>
              </a:path>
              <a:path fill="lightenLess" w="26957" h="21600">
                <a:moveTo>
                  <a:pt x="0" y="0"/>
                </a:moveTo>
                <a:lnTo>
                  <a:pt x="26957" y="0"/>
                </a:lnTo>
                <a:lnTo>
                  <a:pt x="25557" y="1400"/>
                </a:lnTo>
                <a:lnTo>
                  <a:pt x="1400" y="1400"/>
                </a:lnTo>
                <a:close/>
              </a:path>
              <a:path fill="darken" w="26957" h="21600">
                <a:moveTo>
                  <a:pt x="26957" y="0"/>
                </a:moveTo>
                <a:lnTo>
                  <a:pt x="26957" y="21600"/>
                </a:lnTo>
                <a:lnTo>
                  <a:pt x="25557" y="20200"/>
                </a:lnTo>
                <a:lnTo>
                  <a:pt x="25557" y="1400"/>
                </a:lnTo>
                <a:close/>
              </a:path>
              <a:path fill="darkenLess" w="26957" h="21600">
                <a:moveTo>
                  <a:pt x="269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7" y="20200"/>
                </a:lnTo>
                <a:close/>
              </a:path>
              <a:path fill="lighten" w="269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7" h="21600">
                <a:moveTo>
                  <a:pt x="6472" y="3794"/>
                </a:moveTo>
                <a:lnTo>
                  <a:pt x="20485" y="10800"/>
                </a:lnTo>
                <a:lnTo>
                  <a:pt x="6472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xit" presetID="3" presetSubtype="10">
                                  <p:stCondLst>
                                    <p:cond delay="4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3" presetSubtype="10">
                                  <p:stCondLst>
                                    <p:cond delay="4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3" presetSubtype="10">
                                  <p:stCondLst>
                                    <p:cond delay="4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3" presetSubtype="10">
                                  <p:stCondLst>
                                    <p:cond delay="4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xit" presetID="3" presetSubtype="10">
                                  <p:stCondLst>
                                    <p:cond delay="4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3" presetSubtype="10">
                                  <p:stCondLst>
                                    <p:cond delay="4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3" presetSubtype="10">
                                  <p:stCondLst>
                                    <p:cond delay="4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3" presetSubtype="10">
                                  <p:stCondLst>
                                    <p:cond delay="4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3" presetSubtype="10">
                                  <p:stCondLst>
                                    <p:cond delay="4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6" presetSubtype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6500"/>
                            </p:stCondLst>
                            <p:childTnLst>
                              <p:par>
                                <p:cTn id="319" nodeType="afterEffect" fill="hold" presetClass="entr" presetID="16" presetSubtype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6" presetSubtype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6" presetSubtype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6" presetSubtype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6" presetSubtype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6" presetSubtype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6" presetSubtype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6" presetSubtype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6" presetSubtype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6" presetSubtype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6" presetSubtype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6" presetSubtype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6" presetSubtype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6" presetSubtype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8500"/>
                            </p:stCondLst>
                            <p:childTnLst>
                              <p:par>
                                <p:cTn id="362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69696"/>
            </a:gs>
            <a:gs pos="100000">
              <a:srgbClr val="dddddd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90560" y="26028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ругие неотложные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360" y="764640"/>
            <a:ext cx="777240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Другие неотложные работы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- это деятельность по всестороннему обеспечению аварийно-спасательных работ, оказанию населению, пострадавшему в ЧС, медицинской и других видов помощи, созданию условий, минимально необходимых для сохранения жизни и здоровья людей, поддержания их работоспособ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79280" y="4292640"/>
            <a:ext cx="855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 algn="just">
              <a:buClr>
                <a:srgbClr val="000000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 условий для проведения спасательных рабо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 algn="just">
              <a:buClr>
                <a:srgbClr val="000000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отвращение дальнейших разрушений и потерь, вызванных вторичными поражающими фактор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 algn="just">
              <a:buClr>
                <a:srgbClr val="000000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спечение жизнедеятельности объектов экономики и пострадавшего населения в условиях Ч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3276720" y="3860640"/>
            <a:ext cx="189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Це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9" descr="Копия 0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812000" y="6165720"/>
            <a:ext cx="522360" cy="540000"/>
          </a:xfrm>
          <a:prstGeom prst="rect">
            <a:avLst/>
          </a:prstGeom>
          <a:ln w="0">
            <a:noFill/>
          </a:ln>
        </p:spPr>
      </p:pic>
      <p:sp>
        <p:nvSpPr>
          <p:cNvPr id="146" name="AutoShape 10">
            <a:hlinkClick r:id="" action="ppaction://hlinkshowjump?jump=nextslide"/>
          </p:cNvPr>
          <p:cNvSpPr/>
          <p:nvPr/>
        </p:nvSpPr>
        <p:spPr>
          <a:xfrm>
            <a:off x="8459640" y="6237360"/>
            <a:ext cx="505080" cy="40464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57" h="21600">
                <a:moveTo>
                  <a:pt x="0" y="0"/>
                </a:moveTo>
                <a:lnTo>
                  <a:pt x="26957" y="0"/>
                </a:lnTo>
                <a:lnTo>
                  <a:pt x="26957" y="21600"/>
                </a:lnTo>
                <a:lnTo>
                  <a:pt x="0" y="21600"/>
                </a:lnTo>
                <a:close/>
              </a:path>
              <a:path fill="lightenLess" w="26957" h="21600">
                <a:moveTo>
                  <a:pt x="0" y="0"/>
                </a:moveTo>
                <a:lnTo>
                  <a:pt x="26957" y="0"/>
                </a:lnTo>
                <a:lnTo>
                  <a:pt x="25557" y="1400"/>
                </a:lnTo>
                <a:lnTo>
                  <a:pt x="1400" y="1400"/>
                </a:lnTo>
                <a:close/>
              </a:path>
              <a:path fill="darken" w="26957" h="21600">
                <a:moveTo>
                  <a:pt x="26957" y="0"/>
                </a:moveTo>
                <a:lnTo>
                  <a:pt x="26957" y="21600"/>
                </a:lnTo>
                <a:lnTo>
                  <a:pt x="25557" y="20200"/>
                </a:lnTo>
                <a:lnTo>
                  <a:pt x="25557" y="1400"/>
                </a:lnTo>
                <a:close/>
              </a:path>
              <a:path fill="darkenLess" w="26957" h="21600">
                <a:moveTo>
                  <a:pt x="269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7" y="20200"/>
                </a:lnTo>
                <a:close/>
              </a:path>
              <a:path fill="lighten" w="269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7" h="21600">
                <a:moveTo>
                  <a:pt x="6472" y="3794"/>
                </a:moveTo>
                <a:lnTo>
                  <a:pt x="20485" y="10800"/>
                </a:lnTo>
                <a:lnTo>
                  <a:pt x="6472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7" nodeType="afterEffect" fill="hold" presetClass="entr" presetID="2" presetSubtype="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7500"/>
                            </p:stCondLst>
                            <p:childTnLst>
                              <p:par>
                                <p:cTn id="382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4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7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0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0500"/>
                            </p:stCondLst>
                            <p:childTnLst>
                              <p:par>
                                <p:cTn id="392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99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erderidi_o</cp:lastModifiedBy>
  <dcterms:modified xsi:type="dcterms:W3CDTF">2022-12-01T12:44:06Z</dcterms:modified>
  <cp:revision>46</cp:revision>
  <dc:subject/>
  <dc:title>PowerPoint Presentation</dc:title>
</cp:coreProperties>
</file>