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4.png" ContentType="image/pn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3.png" ContentType="image/png"/>
  <Override PartName="/ppt/media/image36.jpeg" ContentType="image/jpeg"/>
  <Override PartName="/ppt/media/image18.wmf" ContentType="image/x-wmf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6CD-230F-4BC5-9A2D-A1608AFF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240-287C-4EFD-ACB5-995B1CED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2CE-BEB7-4A34-ADE7-C1C0E6A6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4E4-BDEC-492D-9DAE-90F89A6A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06D-7A54-4CEB-BD2F-D20FDF0B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294-ECA4-4202-9A68-5FE2E935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437-DB7D-4738-B3E2-E8DF851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FBD-3E8A-4D02-BD5D-919C8D56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E2F-2E69-4F33-A820-0460AB84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CDA-4C7F-47A2-AA20-B2824C01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3A3-15D2-4B9B-A460-2F55AD6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ED2-B729-4B57-AF7D-C6CC61B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C985-54DD-4F97-AA8E-D8DB5DC820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C1E573-CDDB-43AC-8044-187C87400F67}" type="datetime10">
              <a:rPr b="0" lang="ru-RU" sz="1400" spc="-1" strike="noStrike">
                <a:solidFill>
                  <a:srgbClr val="000000"/>
                </a:solidFill>
                <a:latin typeface="Arial"/>
              </a:rPr>
              <a:t>11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КАПИТУЛА В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FA20-683E-46B9-89EB-76F1C0C70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st.sampo.ru/" TargetMode="External"/><Relationship Id="rId3" Type="http://schemas.openxmlformats.org/officeDocument/2006/relationships/image" Target="../media/image3.jpeg"/><Relationship Id="rId4" Type="http://schemas.openxmlformats.org/officeDocument/2006/relationships/hyperlink" Target="file:///../&#1069;&#1051;&#1045;&#1050;&#1058;&#1056;&#1054;&#1053;&#1053;&#1054;&#1045;%20&#1059;&#1063;&#1045;&#1041;&#1053;&#1054;&#1045;%20&#1055;&#1054;&#1057;&#1054;&#1041;&#1048;&#1045;.ppt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9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slide" Target="slide12.xml"/><Relationship Id="rId4" Type="http://schemas.openxmlformats.org/officeDocument/2006/relationships/image" Target="../media/image14.png"/><Relationship Id="rId5" Type="http://schemas.openxmlformats.org/officeDocument/2006/relationships/slide" Target="slide14.xml"/><Relationship Id="rId6" Type="http://schemas.openxmlformats.org/officeDocument/2006/relationships/image" Target="../media/image14.png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2.xml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7.xml"/><Relationship Id="rId9" Type="http://schemas.openxmlformats.org/officeDocument/2006/relationships/slide" Target="slide2.xml"/><Relationship Id="rId10" Type="http://schemas.openxmlformats.org/officeDocument/2006/relationships/slide" Target="slide39.xml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20.xml"/><Relationship Id="rId4" Type="http://schemas.openxmlformats.org/officeDocument/2006/relationships/slide" Target="slide27.xml"/><Relationship Id="rId5" Type="http://schemas.openxmlformats.org/officeDocument/2006/relationships/slide" Target="slide32.xml"/><Relationship Id="rId6" Type="http://schemas.openxmlformats.org/officeDocument/2006/relationships/slide" Target="slide39.xml"/><Relationship Id="rId7" Type="http://schemas.openxmlformats.org/officeDocument/2006/relationships/slide" Target="slide39.xml"/><Relationship Id="rId8" Type="http://schemas.openxmlformats.org/officeDocument/2006/relationships/slide" Target="slide39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1844640"/>
            <a:ext cx="8785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ема: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Организация аварийно-спасательных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 других неотложных работ в зонах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чрезвычайных ситуаций (АСДН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4581000"/>
            <a:ext cx="7191360" cy="15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и отравляющими (аварийно - химически опасными) веществами, а также при стихийных бедст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Петрозаводский Строительный Технику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01080" y="-531720"/>
            <a:ext cx="12589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4">
            <a:hlinkClick r:id="" action="ppaction://hlinkshowjump?jump=endshow"/>
          </p:cNvPr>
          <p:cNvSpPr/>
          <p:nvPr/>
        </p:nvSpPr>
        <p:spPr>
          <a:xfrm>
            <a:off x="6227640" y="5950080"/>
            <a:ext cx="1332000" cy="576000"/>
          </a:xfrm>
          <a:custGeom>
            <a:avLst/>
            <a:gdLst>
              <a:gd name="textAreaLeft" fmla="*/ 37080 w 1332000"/>
              <a:gd name="textAreaRight" fmla="*/ 1294920 w 133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9932" h="21600">
                <a:moveTo>
                  <a:pt x="0" y="0"/>
                </a:moveTo>
                <a:lnTo>
                  <a:pt x="49932" y="0"/>
                </a:lnTo>
                <a:lnTo>
                  <a:pt x="49932" y="21600"/>
                </a:lnTo>
                <a:lnTo>
                  <a:pt x="0" y="21600"/>
                </a:lnTo>
                <a:close/>
              </a:path>
              <a:path fill="lightenLess" w="49932" h="21600">
                <a:moveTo>
                  <a:pt x="0" y="0"/>
                </a:moveTo>
                <a:lnTo>
                  <a:pt x="49932" y="0"/>
                </a:lnTo>
                <a:lnTo>
                  <a:pt x="48532" y="1400"/>
                </a:lnTo>
                <a:lnTo>
                  <a:pt x="1400" y="1400"/>
                </a:lnTo>
                <a:close/>
              </a:path>
              <a:path fill="darken" w="49932" h="21600">
                <a:moveTo>
                  <a:pt x="49932" y="0"/>
                </a:moveTo>
                <a:lnTo>
                  <a:pt x="49932" y="21600"/>
                </a:lnTo>
                <a:lnTo>
                  <a:pt x="48532" y="20200"/>
                </a:lnTo>
                <a:lnTo>
                  <a:pt x="48532" y="1400"/>
                </a:lnTo>
                <a:close/>
              </a:path>
              <a:path fill="darkenLess" w="49932" h="21600">
                <a:moveTo>
                  <a:pt x="49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32" y="20200"/>
                </a:lnTo>
                <a:close/>
              </a:path>
              <a:path fill="lighten" w="49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ход</a:t>
            </a: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5"/>
          <p:cNvGrpSpPr/>
          <p:nvPr/>
        </p:nvGrpSpPr>
        <p:grpSpPr>
          <a:xfrm>
            <a:off x="7669440" y="5589720"/>
            <a:ext cx="1294920" cy="912600"/>
            <a:chOff x="7669440" y="5589720"/>
            <a:chExt cx="1294920" cy="912600"/>
          </a:xfrm>
        </p:grpSpPr>
        <p:sp>
          <p:nvSpPr>
            <p:cNvPr id="46" name="AutoShape 26">
              <a:hlinkClick r:id="rId4"/>
            </p:cNvPr>
            <p:cNvSpPr/>
            <p:nvPr/>
          </p:nvSpPr>
          <p:spPr>
            <a:xfrm>
              <a:off x="7709040" y="5589720"/>
              <a:ext cx="1184040" cy="912600"/>
            </a:xfrm>
            <a:custGeom>
              <a:avLst/>
              <a:gdLst>
                <a:gd name="textAreaLeft" fmla="*/ 59040 w 1184040"/>
                <a:gd name="textAreaRight" fmla="*/ 1125000 w 1184040"/>
                <a:gd name="textAreaTop" fmla="*/ 59040 h 912600"/>
                <a:gd name="textAreaBottom" fmla="*/ 853560 h 912600"/>
              </a:gdLst>
              <a:ahLst/>
              <a:rect l="textAreaLeft" t="textAreaTop" r="textAreaRight" b="textAreaBottom"/>
              <a:pathLst>
                <a:path w="28022" h="21600">
                  <a:moveTo>
                    <a:pt x="0" y="0"/>
                  </a:moveTo>
                  <a:lnTo>
                    <a:pt x="28022" y="0"/>
                  </a:lnTo>
                  <a:lnTo>
                    <a:pt x="28022" y="21600"/>
                  </a:lnTo>
                  <a:lnTo>
                    <a:pt x="0" y="21600"/>
                  </a:lnTo>
                  <a:close/>
                </a:path>
                <a:path fill="lightenLess" w="28022" h="21600">
                  <a:moveTo>
                    <a:pt x="0" y="0"/>
                  </a:moveTo>
                  <a:lnTo>
                    <a:pt x="28022" y="0"/>
                  </a:lnTo>
                  <a:lnTo>
                    <a:pt x="26622" y="1400"/>
                  </a:lnTo>
                  <a:lnTo>
                    <a:pt x="1400" y="1400"/>
                  </a:lnTo>
                  <a:close/>
                </a:path>
                <a:path fill="darken" w="28022" h="21600">
                  <a:moveTo>
                    <a:pt x="28022" y="0"/>
                  </a:moveTo>
                  <a:lnTo>
                    <a:pt x="28022" y="21600"/>
                  </a:lnTo>
                  <a:lnTo>
                    <a:pt x="26622" y="20200"/>
                  </a:lnTo>
                  <a:lnTo>
                    <a:pt x="26622" y="1400"/>
                  </a:lnTo>
                  <a:close/>
                </a:path>
                <a:path fill="darkenLess" w="28022" h="21600">
                  <a:moveTo>
                    <a:pt x="280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622" y="20200"/>
                  </a:lnTo>
                  <a:close/>
                </a:path>
                <a:path fill="lighten" w="280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022" h="21600">
                  <a:moveTo>
                    <a:pt x="14011" y="3837"/>
                  </a:moveTo>
                  <a:lnTo>
                    <a:pt x="16587" y="6448"/>
                  </a:lnTo>
                  <a:lnTo>
                    <a:pt x="16587" y="4707"/>
                  </a:lnTo>
                  <a:lnTo>
                    <a:pt x="18363" y="4707"/>
                  </a:lnTo>
                  <a:lnTo>
                    <a:pt x="18363" y="8224"/>
                  </a:lnTo>
                  <a:lnTo>
                    <a:pt x="20974" y="10800"/>
                  </a:lnTo>
                  <a:lnTo>
                    <a:pt x="19320" y="10800"/>
                  </a:lnTo>
                  <a:lnTo>
                    <a:pt x="19320" y="17989"/>
                  </a:lnTo>
                  <a:lnTo>
                    <a:pt x="8702" y="17989"/>
                  </a:lnTo>
                  <a:lnTo>
                    <a:pt x="8702" y="10800"/>
                  </a:lnTo>
                  <a:lnTo>
                    <a:pt x="7048" y="10800"/>
                  </a:lnTo>
                  <a:close/>
                </a:path>
                <a:path fill="darkenLess" w="28022" h="21600">
                  <a:moveTo>
                    <a:pt x="16587" y="6448"/>
                  </a:moveTo>
                  <a:lnTo>
                    <a:pt x="16587" y="4707"/>
                  </a:lnTo>
                  <a:lnTo>
                    <a:pt x="18363" y="4707"/>
                  </a:lnTo>
                  <a:lnTo>
                    <a:pt x="18363" y="8224"/>
                  </a:lnTo>
                  <a:close/>
                </a:path>
                <a:path fill="darkenLess" w="28022" h="21600">
                  <a:moveTo>
                    <a:pt x="13088" y="14299"/>
                  </a:moveTo>
                  <a:lnTo>
                    <a:pt x="14934" y="14299"/>
                  </a:lnTo>
                  <a:lnTo>
                    <a:pt x="14934" y="17989"/>
                  </a:lnTo>
                  <a:lnTo>
                    <a:pt x="19320" y="17989"/>
                  </a:lnTo>
                  <a:lnTo>
                    <a:pt x="19320" y="10800"/>
                  </a:lnTo>
                  <a:lnTo>
                    <a:pt x="8702" y="10800"/>
                  </a:lnTo>
                  <a:lnTo>
                    <a:pt x="8702" y="17989"/>
                  </a:lnTo>
                  <a:lnTo>
                    <a:pt x="13088" y="17989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66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27"/>
            <p:cNvSpPr/>
            <p:nvPr/>
          </p:nvSpPr>
          <p:spPr>
            <a:xfrm>
              <a:off x="7669440" y="602136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Раздел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ДНР в очагах поражения включ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549360"/>
            <a:ext cx="914400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ладывание колонных путей и устройство проходов в завалах и на зараженных участ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кализацию аварий на газовых, энергетических, водопроводных, канализационных и технологических сетях в целях создания условий для проведения спасательн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ение или обрушение конструкций зданий и сооружений, угрожающих обвалом или препятствующих безопасному проведению спасательн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и восстановление поврежденных и разрушенных линий связи и коммунально-энергетических сетей в целях обеспечения спасательн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аружение, обезвреживание и уничтожение неразорвавшихся боеприпасов в обычном снаряжении и других взрывоопасных предм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и восстановление поврежденных защитных соору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итарная очистка территории в зоне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материальных ц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, минимально необходимых для сохранения жизни и здоровь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>
            <a:hlinkClick r:id="rId1" action="ppaction://hlinksldjump"/>
          </p:cNvPr>
          <p:cNvSpPr/>
          <p:nvPr/>
        </p:nvSpPr>
        <p:spPr>
          <a:xfrm rot="5400000">
            <a:off x="8203680" y="5918040"/>
            <a:ext cx="620640" cy="125892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1258920"/>
              <a:gd name="textAreaBottom" fmla="*/ 1218960 h 1258920"/>
            </a:gdLst>
            <a:ahLst/>
            <a:rect l="textAreaLeft" t="textAreaTop" r="textAreaRight" b="textAreaBottom"/>
            <a:pathLst>
              <a:path w="21600" h="43801">
                <a:moveTo>
                  <a:pt x="0" y="0"/>
                </a:moveTo>
                <a:lnTo>
                  <a:pt x="21600" y="0"/>
                </a:lnTo>
                <a:lnTo>
                  <a:pt x="21600" y="43801"/>
                </a:lnTo>
                <a:lnTo>
                  <a:pt x="0" y="43801"/>
                </a:lnTo>
                <a:close/>
              </a:path>
              <a:path fill="lightenLess" w="21600" h="43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801">
                <a:moveTo>
                  <a:pt x="21600" y="0"/>
                </a:moveTo>
                <a:lnTo>
                  <a:pt x="21600" y="43801"/>
                </a:lnTo>
                <a:lnTo>
                  <a:pt x="20200" y="42401"/>
                </a:lnTo>
                <a:lnTo>
                  <a:pt x="20200" y="1400"/>
                </a:lnTo>
                <a:close/>
              </a:path>
              <a:path fill="darkenLess" w="21600" h="43801">
                <a:moveTo>
                  <a:pt x="21600" y="43801"/>
                </a:moveTo>
                <a:lnTo>
                  <a:pt x="0" y="43801"/>
                </a:lnTo>
                <a:lnTo>
                  <a:pt x="1400" y="42401"/>
                </a:lnTo>
                <a:lnTo>
                  <a:pt x="20200" y="42401"/>
                </a:lnTo>
                <a:close/>
              </a:path>
              <a:path fill="lighten" w="21600" h="43801">
                <a:moveTo>
                  <a:pt x="0" y="43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401"/>
                </a:lnTo>
                <a:close/>
              </a:path>
              <a:path fill="darken" w="21600" h="43801">
                <a:moveTo>
                  <a:pt x="3794" y="14894"/>
                </a:moveTo>
                <a:lnTo>
                  <a:pt x="17806" y="21901"/>
                </a:lnTo>
                <a:lnTo>
                  <a:pt x="3794" y="28907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Копия 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3080" y="6318360"/>
            <a:ext cx="5220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ведения аварийно-спасатель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ругих неотлож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rId1" action="ppaction://hlinksldjump"/>
          </p:cNvPr>
          <p:cNvSpPr/>
          <p:nvPr/>
        </p:nvSpPr>
        <p:spPr>
          <a:xfrm>
            <a:off x="76320" y="3276720"/>
            <a:ext cx="2057400" cy="8380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3" action="ppaction://hlinksldjump"/>
          </p:cNvPr>
          <p:cNvSpPr/>
          <p:nvPr/>
        </p:nvSpPr>
        <p:spPr>
          <a:xfrm>
            <a:off x="76320" y="1600200"/>
            <a:ext cx="2057400" cy="8380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971800" y="1295280"/>
            <a:ext cx="6095880" cy="1371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99ff33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>
            <a:hlinkClick r:id="rId5" action="ppaction://hlinksldjump"/>
          </p:cNvPr>
          <p:cNvSpPr/>
          <p:nvPr/>
        </p:nvSpPr>
        <p:spPr>
          <a:xfrm>
            <a:off x="76320" y="4876920"/>
            <a:ext cx="2057400" cy="8380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I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>
            <a:hlinkClick r:id="rId7" action="ppaction://hlinksldjump"/>
          </p:cNvPr>
          <p:cNvSpPr/>
          <p:nvPr/>
        </p:nvSpPr>
        <p:spPr>
          <a:xfrm>
            <a:off x="3144960" y="1268280"/>
            <a:ext cx="5943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мероприятий по экстренной защите и спасению населения, подготовке сил и средств РСЧС к проведению АСД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2971800" y="2971800"/>
            <a:ext cx="6095880" cy="1371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99ff33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>
            <a:hlinkClick r:id="rId8" action="ppaction://hlinksldjump"/>
          </p:cNvPr>
          <p:cNvSpPr/>
          <p:nvPr/>
        </p:nvSpPr>
        <p:spPr>
          <a:xfrm>
            <a:off x="3144960" y="3141720"/>
            <a:ext cx="59436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крупномасштабных  аварийно-спасательных и других неотложных работ в зонах 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>
            <a:hlinkClick r:id="rId9" action="ppaction://hlinksldjump"/>
          </p:cNvPr>
          <p:cNvSpPr/>
          <p:nvPr/>
        </p:nvSpPr>
        <p:spPr>
          <a:xfrm>
            <a:off x="2916360" y="4648320"/>
            <a:ext cx="6095880" cy="1371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99ff33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048120" y="5029200"/>
            <a:ext cx="46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квидация последствий 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>
            <a:hlinkClick r:id="rId10" action="ppaction://hlinksldjump"/>
          </p:cNvPr>
          <p:cNvSpPr/>
          <p:nvPr/>
        </p:nvSpPr>
        <p:spPr>
          <a:xfrm>
            <a:off x="8101080" y="227664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3794"/>
                </a:moveTo>
                <a:lnTo>
                  <a:pt x="31775" y="10800"/>
                </a:lnTo>
                <a:lnTo>
                  <a:pt x="1776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>
            <a:hlinkClick r:id="rId11" action="ppaction://hlinksldjump"/>
          </p:cNvPr>
          <p:cNvSpPr/>
          <p:nvPr/>
        </p:nvSpPr>
        <p:spPr>
          <a:xfrm>
            <a:off x="8101080" y="393372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3794"/>
                </a:moveTo>
                <a:lnTo>
                  <a:pt x="31775" y="10800"/>
                </a:lnTo>
                <a:lnTo>
                  <a:pt x="1776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>
            <a:hlinkClick r:id="rId12" action="ppaction://hlinksldjump"/>
          </p:cNvPr>
          <p:cNvSpPr/>
          <p:nvPr/>
        </p:nvSpPr>
        <p:spPr>
          <a:xfrm>
            <a:off x="8101080" y="558972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3794"/>
                </a:moveTo>
                <a:lnTo>
                  <a:pt x="31775" y="10800"/>
                </a:lnTo>
                <a:lnTo>
                  <a:pt x="1776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2">
            <a:hlinkClick r:id="rId13" action="ppaction://hlinksldjump"/>
          </p:cNvPr>
          <p:cNvSpPr/>
          <p:nvPr/>
        </p:nvSpPr>
        <p:spPr>
          <a:xfrm rot="5400000">
            <a:off x="8203680" y="5918040"/>
            <a:ext cx="620640" cy="125892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1258920"/>
              <a:gd name="textAreaBottom" fmla="*/ 1218960 h 1258920"/>
            </a:gdLst>
            <a:ahLst/>
            <a:rect l="textAreaLeft" t="textAreaTop" r="textAreaRight" b="textAreaBottom"/>
            <a:pathLst>
              <a:path w="21600" h="43801">
                <a:moveTo>
                  <a:pt x="0" y="0"/>
                </a:moveTo>
                <a:lnTo>
                  <a:pt x="21600" y="0"/>
                </a:lnTo>
                <a:lnTo>
                  <a:pt x="21600" y="43801"/>
                </a:lnTo>
                <a:lnTo>
                  <a:pt x="0" y="43801"/>
                </a:lnTo>
                <a:close/>
              </a:path>
              <a:path fill="lightenLess" w="21600" h="43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801">
                <a:moveTo>
                  <a:pt x="21600" y="0"/>
                </a:moveTo>
                <a:lnTo>
                  <a:pt x="21600" y="43801"/>
                </a:lnTo>
                <a:lnTo>
                  <a:pt x="20200" y="42401"/>
                </a:lnTo>
                <a:lnTo>
                  <a:pt x="20200" y="1400"/>
                </a:lnTo>
                <a:close/>
              </a:path>
              <a:path fill="darkenLess" w="21600" h="43801">
                <a:moveTo>
                  <a:pt x="21600" y="43801"/>
                </a:moveTo>
                <a:lnTo>
                  <a:pt x="0" y="43801"/>
                </a:lnTo>
                <a:lnTo>
                  <a:pt x="1400" y="42401"/>
                </a:lnTo>
                <a:lnTo>
                  <a:pt x="20200" y="42401"/>
                </a:lnTo>
                <a:close/>
              </a:path>
              <a:path fill="lighten" w="21600" h="43801">
                <a:moveTo>
                  <a:pt x="0" y="43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401"/>
                </a:lnTo>
                <a:close/>
              </a:path>
              <a:path fill="darken" w="21600" h="43801">
                <a:moveTo>
                  <a:pt x="3794" y="14894"/>
                </a:moveTo>
                <a:lnTo>
                  <a:pt x="17806" y="21901"/>
                </a:lnTo>
                <a:lnTo>
                  <a:pt x="3794" y="28907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124000" y="3413160"/>
            <a:ext cx="863640" cy="64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124000" y="1736640"/>
            <a:ext cx="863640" cy="64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124000" y="5013360"/>
            <a:ext cx="863640" cy="64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4"/>
          <p:cNvSpPr/>
          <p:nvPr/>
        </p:nvSpPr>
        <p:spPr>
          <a:xfrm>
            <a:off x="395280" y="587700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66ffff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500"/>
                            </p:stCondLst>
                            <p:childTnLst>
                              <p:par>
                                <p:cTn id="4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9500"/>
                            </p:stCondLst>
                            <p:childTnLst>
                              <p:par>
                                <p:cTn id="476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1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I 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0" y="1066680"/>
          <a:ext cx="914400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10">
            <a:hlinkClick r:id="rId3" action="ppaction://hlinksldjump"/>
          </p:cNvPr>
          <p:cNvSpPr/>
          <p:nvPr/>
        </p:nvSpPr>
        <p:spPr>
          <a:xfrm>
            <a:off x="7812000" y="6165720"/>
            <a:ext cx="1008000" cy="466920"/>
          </a:xfrm>
          <a:custGeom>
            <a:avLst/>
            <a:gdLst>
              <a:gd name="textAreaLeft" fmla="*/ 30240 w 1008000"/>
              <a:gd name="textAreaRight" fmla="*/ 977760 w 100800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46611" h="21600">
                <a:moveTo>
                  <a:pt x="0" y="0"/>
                </a:moveTo>
                <a:lnTo>
                  <a:pt x="46611" y="0"/>
                </a:lnTo>
                <a:lnTo>
                  <a:pt x="46611" y="21600"/>
                </a:lnTo>
                <a:lnTo>
                  <a:pt x="0" y="21600"/>
                </a:lnTo>
                <a:close/>
              </a:path>
              <a:path fill="lightenLess" w="46611" h="21600">
                <a:moveTo>
                  <a:pt x="0" y="0"/>
                </a:moveTo>
                <a:lnTo>
                  <a:pt x="46611" y="0"/>
                </a:lnTo>
                <a:lnTo>
                  <a:pt x="45211" y="1400"/>
                </a:lnTo>
                <a:lnTo>
                  <a:pt x="1400" y="1400"/>
                </a:lnTo>
                <a:close/>
              </a:path>
              <a:path fill="darken" w="46611" h="21600">
                <a:moveTo>
                  <a:pt x="46611" y="0"/>
                </a:moveTo>
                <a:lnTo>
                  <a:pt x="46611" y="21600"/>
                </a:lnTo>
                <a:lnTo>
                  <a:pt x="45211" y="20200"/>
                </a:lnTo>
                <a:lnTo>
                  <a:pt x="45211" y="1400"/>
                </a:lnTo>
                <a:close/>
              </a:path>
              <a:path fill="darkenLess" w="46611" h="21600">
                <a:moveTo>
                  <a:pt x="46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11" y="20200"/>
                </a:lnTo>
                <a:close/>
              </a:path>
              <a:path fill="lighten" w="46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11" h="21600">
                <a:moveTo>
                  <a:pt x="16299" y="7493"/>
                </a:moveTo>
                <a:lnTo>
                  <a:pt x="19807" y="7493"/>
                </a:lnTo>
                <a:lnTo>
                  <a:pt x="19807" y="12828"/>
                </a:lnTo>
                <a:cubicBezTo>
                  <a:pt x="19807" y="13751"/>
                  <a:pt x="20608" y="14482"/>
                  <a:pt x="21643" y="14482"/>
                </a:cubicBezTo>
                <a:lnTo>
                  <a:pt x="23306" y="14482"/>
                </a:lnTo>
                <a:cubicBezTo>
                  <a:pt x="24341" y="14482"/>
                  <a:pt x="25142" y="13751"/>
                  <a:pt x="25142" y="12828"/>
                </a:cubicBezTo>
                <a:lnTo>
                  <a:pt x="25142" y="7493"/>
                </a:lnTo>
                <a:lnTo>
                  <a:pt x="23306" y="7493"/>
                </a:lnTo>
                <a:lnTo>
                  <a:pt x="26813" y="3985"/>
                </a:lnTo>
                <a:lnTo>
                  <a:pt x="30486" y="7493"/>
                </a:lnTo>
                <a:lnTo>
                  <a:pt x="28650" y="7493"/>
                </a:lnTo>
                <a:lnTo>
                  <a:pt x="28650" y="12828"/>
                </a:lnTo>
                <a:cubicBezTo>
                  <a:pt x="28650" y="15596"/>
                  <a:pt x="26073" y="18155"/>
                  <a:pt x="23306" y="18155"/>
                </a:cubicBezTo>
                <a:lnTo>
                  <a:pt x="21643" y="18155"/>
                </a:lnTo>
                <a:cubicBezTo>
                  <a:pt x="18876" y="18155"/>
                  <a:pt x="16299" y="15596"/>
                  <a:pt x="1629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I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I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 ЭТАП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временно продолжается выполнение начатых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этапе зада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3500280"/>
            <a:ext cx="81342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ДНР считаются завершенными после окончания розыска пострадавших, оказания им медицинской и других видов помощи и ликвидации угрозы новых поражений и ущерба в результате последствий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вывода основной части сил РСЧС в зоне ЧС остаются те формирования, которые выполняют специфические для них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0" y="1052640"/>
          <a:ext cx="914400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7"/>
          <p:cNvSpPr/>
          <p:nvPr/>
        </p:nvSpPr>
        <p:spPr>
          <a:xfrm>
            <a:off x="0" y="2781360"/>
            <a:ext cx="91440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ащивание группировки сил и средств РСЧС в районе ЧС осуществляется по мере их гото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6">
            <a:hlinkClick r:id="rId3" action="ppaction://hlinksldjump"/>
          </p:cNvPr>
          <p:cNvSpPr/>
          <p:nvPr/>
        </p:nvSpPr>
        <p:spPr>
          <a:xfrm>
            <a:off x="8207280" y="6165720"/>
            <a:ext cx="936720" cy="692280"/>
          </a:xfrm>
          <a:custGeom>
            <a:avLst/>
            <a:gdLst>
              <a:gd name="textAreaLeft" fmla="*/ 44640 w 936720"/>
              <a:gd name="textAreaRight" fmla="*/ 892080 w 936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9223" h="21600">
                <a:moveTo>
                  <a:pt x="0" y="0"/>
                </a:moveTo>
                <a:lnTo>
                  <a:pt x="29223" y="0"/>
                </a:lnTo>
                <a:lnTo>
                  <a:pt x="29223" y="21600"/>
                </a:lnTo>
                <a:lnTo>
                  <a:pt x="0" y="21600"/>
                </a:lnTo>
                <a:close/>
              </a:path>
              <a:path fill="lightenLess" w="29223" h="21600">
                <a:moveTo>
                  <a:pt x="0" y="0"/>
                </a:moveTo>
                <a:lnTo>
                  <a:pt x="29223" y="0"/>
                </a:lnTo>
                <a:lnTo>
                  <a:pt x="27823" y="1400"/>
                </a:lnTo>
                <a:lnTo>
                  <a:pt x="1400" y="1400"/>
                </a:lnTo>
                <a:close/>
              </a:path>
              <a:path fill="darken" w="29223" h="21600">
                <a:moveTo>
                  <a:pt x="29223" y="0"/>
                </a:moveTo>
                <a:lnTo>
                  <a:pt x="29223" y="21600"/>
                </a:lnTo>
                <a:lnTo>
                  <a:pt x="27823" y="20200"/>
                </a:lnTo>
                <a:lnTo>
                  <a:pt x="27823" y="1400"/>
                </a:lnTo>
                <a:close/>
              </a:path>
              <a:path fill="darkenLess" w="29223" h="21600">
                <a:moveTo>
                  <a:pt x="29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3" y="20200"/>
                </a:lnTo>
                <a:close/>
              </a:path>
              <a:path fill="lighten" w="29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3" h="21600">
                <a:moveTo>
                  <a:pt x="7605" y="7493"/>
                </a:moveTo>
                <a:lnTo>
                  <a:pt x="11113" y="7493"/>
                </a:lnTo>
                <a:lnTo>
                  <a:pt x="11113" y="12828"/>
                </a:lnTo>
                <a:cubicBezTo>
                  <a:pt x="11113" y="13751"/>
                  <a:pt x="11913" y="14482"/>
                  <a:pt x="12949" y="14482"/>
                </a:cubicBezTo>
                <a:lnTo>
                  <a:pt x="14611" y="14482"/>
                </a:lnTo>
                <a:cubicBezTo>
                  <a:pt x="15647" y="14482"/>
                  <a:pt x="16448" y="13751"/>
                  <a:pt x="16448" y="12828"/>
                </a:cubicBezTo>
                <a:lnTo>
                  <a:pt x="16448" y="7493"/>
                </a:lnTo>
                <a:lnTo>
                  <a:pt x="14611" y="7493"/>
                </a:lnTo>
                <a:lnTo>
                  <a:pt x="18119" y="3985"/>
                </a:lnTo>
                <a:lnTo>
                  <a:pt x="21792" y="7493"/>
                </a:lnTo>
                <a:lnTo>
                  <a:pt x="19956" y="7493"/>
                </a:lnTo>
                <a:lnTo>
                  <a:pt x="19956" y="12828"/>
                </a:lnTo>
                <a:cubicBezTo>
                  <a:pt x="19956" y="15596"/>
                  <a:pt x="17379" y="18155"/>
                  <a:pt x="14611" y="18155"/>
                </a:cubicBezTo>
                <a:lnTo>
                  <a:pt x="12949" y="18155"/>
                </a:lnTo>
                <a:cubicBezTo>
                  <a:pt x="10181" y="18155"/>
                  <a:pt x="7605" y="15596"/>
                  <a:pt x="760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II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I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5"/>
          <p:cNvGraphicFramePr/>
          <p:nvPr/>
        </p:nvGraphicFramePr>
        <p:xfrm>
          <a:off x="0" y="476280"/>
          <a:ext cx="91440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-14400" y="4527720"/>
          <a:ext cx="9144000" cy="23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0" y="4527720"/>
                    <a:ext cx="914400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11">
            <a:hlinkClick r:id="rId5" action="ppaction://hlinksldjump"/>
          </p:cNvPr>
          <p:cNvSpPr/>
          <p:nvPr/>
        </p:nvSpPr>
        <p:spPr>
          <a:xfrm>
            <a:off x="7812000" y="6391440"/>
            <a:ext cx="1008000" cy="466560"/>
          </a:xfrm>
          <a:custGeom>
            <a:avLst/>
            <a:gdLst>
              <a:gd name="textAreaLeft" fmla="*/ 30240 w 1008000"/>
              <a:gd name="textAreaRight" fmla="*/ 977760 w 100800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6647" h="21600">
                <a:moveTo>
                  <a:pt x="0" y="0"/>
                </a:moveTo>
                <a:lnTo>
                  <a:pt x="46647" y="0"/>
                </a:lnTo>
                <a:lnTo>
                  <a:pt x="46647" y="21600"/>
                </a:lnTo>
                <a:lnTo>
                  <a:pt x="0" y="21600"/>
                </a:lnTo>
                <a:close/>
              </a:path>
              <a:path fill="lightenLess" w="46647" h="21600">
                <a:moveTo>
                  <a:pt x="0" y="0"/>
                </a:moveTo>
                <a:lnTo>
                  <a:pt x="46647" y="0"/>
                </a:lnTo>
                <a:lnTo>
                  <a:pt x="45247" y="1400"/>
                </a:lnTo>
                <a:lnTo>
                  <a:pt x="1400" y="1400"/>
                </a:lnTo>
                <a:close/>
              </a:path>
              <a:path fill="darken" w="46647" h="21600">
                <a:moveTo>
                  <a:pt x="46647" y="0"/>
                </a:moveTo>
                <a:lnTo>
                  <a:pt x="46647" y="21600"/>
                </a:lnTo>
                <a:lnTo>
                  <a:pt x="45247" y="20200"/>
                </a:lnTo>
                <a:lnTo>
                  <a:pt x="45247" y="1400"/>
                </a:lnTo>
                <a:close/>
              </a:path>
              <a:path fill="darkenLess" w="46647" h="21600">
                <a:moveTo>
                  <a:pt x="46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7" y="20200"/>
                </a:lnTo>
                <a:close/>
              </a:path>
              <a:path fill="lighten" w="46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7" h="21600">
                <a:moveTo>
                  <a:pt x="16317" y="7493"/>
                </a:moveTo>
                <a:lnTo>
                  <a:pt x="19825" y="7493"/>
                </a:lnTo>
                <a:lnTo>
                  <a:pt x="19825" y="12828"/>
                </a:lnTo>
                <a:cubicBezTo>
                  <a:pt x="19825" y="13751"/>
                  <a:pt x="20626" y="14482"/>
                  <a:pt x="21661" y="14482"/>
                </a:cubicBezTo>
                <a:lnTo>
                  <a:pt x="23324" y="14482"/>
                </a:lnTo>
                <a:cubicBezTo>
                  <a:pt x="24359" y="14482"/>
                  <a:pt x="25160" y="13751"/>
                  <a:pt x="25160" y="12828"/>
                </a:cubicBezTo>
                <a:lnTo>
                  <a:pt x="25160" y="7493"/>
                </a:lnTo>
                <a:lnTo>
                  <a:pt x="23324" y="7493"/>
                </a:lnTo>
                <a:lnTo>
                  <a:pt x="26831" y="3985"/>
                </a:lnTo>
                <a:lnTo>
                  <a:pt x="30504" y="7493"/>
                </a:lnTo>
                <a:lnTo>
                  <a:pt x="28668" y="7493"/>
                </a:lnTo>
                <a:lnTo>
                  <a:pt x="28668" y="12828"/>
                </a:lnTo>
                <a:cubicBezTo>
                  <a:pt x="28668" y="15596"/>
                  <a:pt x="26091" y="18155"/>
                  <a:pt x="23324" y="18155"/>
                </a:cubicBezTo>
                <a:lnTo>
                  <a:pt x="21661" y="18155"/>
                </a:lnTo>
                <a:cubicBezTo>
                  <a:pt x="18893" y="18155"/>
                  <a:pt x="16317" y="15596"/>
                  <a:pt x="1631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хнология  проведения  поисково-спасательны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>
            <a:hlinkClick r:id="rId1" action="ppaction://hlinksldjump"/>
          </p:cNvPr>
          <p:cNvSpPr/>
          <p:nvPr/>
        </p:nvSpPr>
        <p:spPr>
          <a:xfrm>
            <a:off x="826920" y="1700280"/>
            <a:ext cx="3457800" cy="1512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 пострадав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>
            <a:hlinkClick r:id="rId2" action="ppaction://hlinksldjump"/>
          </p:cNvPr>
          <p:cNvSpPr/>
          <p:nvPr/>
        </p:nvSpPr>
        <p:spPr>
          <a:xfrm>
            <a:off x="826920" y="3645000"/>
            <a:ext cx="3457800" cy="1512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зание пер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>
            <a:hlinkClick r:id="rId3" action="ppaction://hlinksldjump"/>
          </p:cNvPr>
          <p:cNvSpPr/>
          <p:nvPr/>
        </p:nvSpPr>
        <p:spPr>
          <a:xfrm>
            <a:off x="5148360" y="3645000"/>
            <a:ext cx="3457440" cy="1512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ак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ранспортировк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опасных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>
            <a:hlinkClick r:id="rId4" action="ppaction://hlinksldjump"/>
          </p:cNvPr>
          <p:cNvSpPr/>
          <p:nvPr/>
        </p:nvSpPr>
        <p:spPr>
          <a:xfrm>
            <a:off x="5076720" y="1628640"/>
            <a:ext cx="3457800" cy="1513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лок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адав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>
            <a:hlinkClick r:id="rId5" action="ppaction://hlinksldjump"/>
          </p:cNvPr>
          <p:cNvSpPr/>
          <p:nvPr/>
        </p:nvSpPr>
        <p:spPr>
          <a:xfrm>
            <a:off x="3419640" y="1700280"/>
            <a:ext cx="863280" cy="288720"/>
          </a:xfrm>
          <a:custGeom>
            <a:avLst/>
            <a:gdLst>
              <a:gd name="textAreaLeft" fmla="*/ 18720 w 863280"/>
              <a:gd name="textAreaRight" fmla="*/ 844560 w 86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>
            <a:hlinkClick r:id="rId6" action="ppaction://hlinksldjump"/>
          </p:cNvPr>
          <p:cNvSpPr/>
          <p:nvPr/>
        </p:nvSpPr>
        <p:spPr>
          <a:xfrm>
            <a:off x="3419640" y="3645000"/>
            <a:ext cx="863280" cy="288720"/>
          </a:xfrm>
          <a:custGeom>
            <a:avLst/>
            <a:gdLst>
              <a:gd name="textAreaLeft" fmla="*/ 18720 w 863280"/>
              <a:gd name="textAreaRight" fmla="*/ 844560 w 86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>
            <a:hlinkClick r:id="rId7" action="ppaction://hlinksldjump"/>
          </p:cNvPr>
          <p:cNvSpPr/>
          <p:nvPr/>
        </p:nvSpPr>
        <p:spPr>
          <a:xfrm>
            <a:off x="7740720" y="3645000"/>
            <a:ext cx="863640" cy="28872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58" h="21600">
                <a:moveTo>
                  <a:pt x="0" y="0"/>
                </a:moveTo>
                <a:lnTo>
                  <a:pt x="64558" y="0"/>
                </a:lnTo>
                <a:lnTo>
                  <a:pt x="64558" y="21600"/>
                </a:lnTo>
                <a:lnTo>
                  <a:pt x="0" y="21600"/>
                </a:lnTo>
                <a:close/>
              </a:path>
              <a:path fill="lightenLess" w="64558" h="21600">
                <a:moveTo>
                  <a:pt x="0" y="0"/>
                </a:moveTo>
                <a:lnTo>
                  <a:pt x="64558" y="0"/>
                </a:lnTo>
                <a:lnTo>
                  <a:pt x="63158" y="1400"/>
                </a:lnTo>
                <a:lnTo>
                  <a:pt x="1400" y="1400"/>
                </a:lnTo>
                <a:close/>
              </a:path>
              <a:path fill="darken" w="64558" h="21600">
                <a:moveTo>
                  <a:pt x="64558" y="0"/>
                </a:moveTo>
                <a:lnTo>
                  <a:pt x="64558" y="21600"/>
                </a:lnTo>
                <a:lnTo>
                  <a:pt x="63158" y="20200"/>
                </a:lnTo>
                <a:lnTo>
                  <a:pt x="63158" y="1400"/>
                </a:lnTo>
                <a:close/>
              </a:path>
              <a:path fill="darkenLess" w="64558" h="21600">
                <a:moveTo>
                  <a:pt x="6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58" y="20200"/>
                </a:lnTo>
                <a:close/>
              </a:path>
              <a:path fill="lighten" w="6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58" h="21600">
                <a:moveTo>
                  <a:pt x="25272" y="3794"/>
                </a:moveTo>
                <a:lnTo>
                  <a:pt x="39285" y="10800"/>
                </a:lnTo>
                <a:lnTo>
                  <a:pt x="2527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>
            <a:hlinkClick r:id="rId8" action="ppaction://hlinksldjump"/>
          </p:cNvPr>
          <p:cNvSpPr/>
          <p:nvPr/>
        </p:nvSpPr>
        <p:spPr>
          <a:xfrm>
            <a:off x="7667640" y="1628640"/>
            <a:ext cx="863640" cy="28908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3794"/>
                </a:moveTo>
                <a:lnTo>
                  <a:pt x="39245" y="10800"/>
                </a:lnTo>
                <a:lnTo>
                  <a:pt x="2523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3">
            <a:hlinkClick r:id="rId9" action="ppaction://hlinksldjump"/>
          </p:cNvPr>
          <p:cNvSpPr/>
          <p:nvPr/>
        </p:nvSpPr>
        <p:spPr>
          <a:xfrm rot="5400000">
            <a:off x="8203680" y="5918040"/>
            <a:ext cx="620640" cy="125892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1258920"/>
              <a:gd name="textAreaBottom" fmla="*/ 1218960 h 1258920"/>
            </a:gdLst>
            <a:ahLst/>
            <a:rect l="textAreaLeft" t="textAreaTop" r="textAreaRight" b="textAreaBottom"/>
            <a:pathLst>
              <a:path w="21600" h="43801">
                <a:moveTo>
                  <a:pt x="0" y="0"/>
                </a:moveTo>
                <a:lnTo>
                  <a:pt x="21600" y="0"/>
                </a:lnTo>
                <a:lnTo>
                  <a:pt x="21600" y="43801"/>
                </a:lnTo>
                <a:lnTo>
                  <a:pt x="0" y="43801"/>
                </a:lnTo>
                <a:close/>
              </a:path>
              <a:path fill="lightenLess" w="21600" h="43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801">
                <a:moveTo>
                  <a:pt x="21600" y="0"/>
                </a:moveTo>
                <a:lnTo>
                  <a:pt x="21600" y="43801"/>
                </a:lnTo>
                <a:lnTo>
                  <a:pt x="20200" y="42401"/>
                </a:lnTo>
                <a:lnTo>
                  <a:pt x="20200" y="1400"/>
                </a:lnTo>
                <a:close/>
              </a:path>
              <a:path fill="darkenLess" w="21600" h="43801">
                <a:moveTo>
                  <a:pt x="21600" y="43801"/>
                </a:moveTo>
                <a:lnTo>
                  <a:pt x="0" y="43801"/>
                </a:lnTo>
                <a:lnTo>
                  <a:pt x="1400" y="42401"/>
                </a:lnTo>
                <a:lnTo>
                  <a:pt x="20200" y="42401"/>
                </a:lnTo>
                <a:close/>
              </a:path>
              <a:path fill="lighten" w="21600" h="43801">
                <a:moveTo>
                  <a:pt x="0" y="43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401"/>
                </a:lnTo>
                <a:close/>
              </a:path>
              <a:path fill="darken" w="21600" h="43801">
                <a:moveTo>
                  <a:pt x="3794" y="14894"/>
                </a:moveTo>
                <a:lnTo>
                  <a:pt x="17806" y="21901"/>
                </a:lnTo>
                <a:lnTo>
                  <a:pt x="3794" y="28907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4" descr="Копия 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236000" y="6318360"/>
            <a:ext cx="5220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8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500"/>
                            </p:stCondLst>
                            <p:childTnLst>
                              <p:par>
                                <p:cTn id="571" nodeType="afterEffect" fill="hold" presetClass="entr" presetID="8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6414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050920" y="0"/>
            <a:ext cx="4249800" cy="692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 пострадав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1968480" y="2141640"/>
            <a:ext cx="57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250920" y="836640"/>
            <a:ext cx="8640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ледование всего участка спасатель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и обозначение мест нахождения пострадавших и установление с ними свя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функционального состояния пострадавш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а травм и способов оказания ПМ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путей и способов извлечения и эвак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радавш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особ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олептическое обследование участка раб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уальное обслед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есыв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ндиров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ск по сле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ск с использованием транспортны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нологиче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ий (акустические, магнитомеры, тепловизоры радиопоисковые, оптиковолоконные зонды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видетельству очевид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отчетной и проектно-технической докум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2835360" y="2538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2889000" y="2538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2835360" y="28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2889000" y="288144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1936440" y="2995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1309320" y="3452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32"/>
          <p:cNvSpPr/>
          <p:nvPr/>
        </p:nvSpPr>
        <p:spPr>
          <a:xfrm>
            <a:off x="3195000" y="253368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6"/>
          <p:cNvSpPr/>
          <p:nvPr/>
        </p:nvSpPr>
        <p:spPr>
          <a:xfrm>
            <a:off x="3196800" y="2646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37"/>
          <p:cNvSpPr/>
          <p:nvPr/>
        </p:nvSpPr>
        <p:spPr>
          <a:xfrm>
            <a:off x="3195000" y="276228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62"/>
          <p:cNvSpPr/>
          <p:nvPr/>
        </p:nvSpPr>
        <p:spPr>
          <a:xfrm>
            <a:off x="4855680" y="3790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5"/>
          <p:cNvSpPr/>
          <p:nvPr/>
        </p:nvSpPr>
        <p:spPr>
          <a:xfrm>
            <a:off x="3279240" y="40194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5"/>
          <p:cNvSpPr/>
          <p:nvPr/>
        </p:nvSpPr>
        <p:spPr>
          <a:xfrm>
            <a:off x="3298320" y="4476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80"/>
          <p:cNvSpPr/>
          <p:nvPr/>
        </p:nvSpPr>
        <p:spPr>
          <a:xfrm>
            <a:off x="4855680" y="47052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97"/>
          <p:cNvSpPr/>
          <p:nvPr/>
        </p:nvSpPr>
        <p:spPr>
          <a:xfrm>
            <a:off x="4855680" y="53910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3"/>
          <p:cNvSpPr/>
          <p:nvPr/>
        </p:nvSpPr>
        <p:spPr>
          <a:xfrm>
            <a:off x="4802040" y="5734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4"/>
          <p:cNvSpPr/>
          <p:nvPr/>
        </p:nvSpPr>
        <p:spPr>
          <a:xfrm>
            <a:off x="4855680" y="5734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06"/>
          <p:cNvSpPr/>
          <p:nvPr/>
        </p:nvSpPr>
        <p:spPr>
          <a:xfrm>
            <a:off x="4337280" y="58500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26">
            <a:hlinkClick r:id="rId1" action="ppaction://hlinksldjump"/>
          </p:cNvPr>
          <p:cNvSpPr/>
          <p:nvPr/>
        </p:nvSpPr>
        <p:spPr>
          <a:xfrm>
            <a:off x="7885080" y="573408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7493"/>
                </a:moveTo>
                <a:lnTo>
                  <a:pt x="16998" y="7493"/>
                </a:lnTo>
                <a:lnTo>
                  <a:pt x="16998" y="12828"/>
                </a:lnTo>
                <a:cubicBezTo>
                  <a:pt x="16998" y="13751"/>
                  <a:pt x="17799" y="14482"/>
                  <a:pt x="18834" y="14482"/>
                </a:cubicBezTo>
                <a:lnTo>
                  <a:pt x="20497" y="14482"/>
                </a:lnTo>
                <a:cubicBezTo>
                  <a:pt x="21532" y="14482"/>
                  <a:pt x="22333" y="13751"/>
                  <a:pt x="22333" y="12828"/>
                </a:cubicBezTo>
                <a:lnTo>
                  <a:pt x="22333" y="7493"/>
                </a:lnTo>
                <a:lnTo>
                  <a:pt x="20497" y="7493"/>
                </a:lnTo>
                <a:lnTo>
                  <a:pt x="24004" y="3985"/>
                </a:lnTo>
                <a:lnTo>
                  <a:pt x="27677" y="7493"/>
                </a:lnTo>
                <a:lnTo>
                  <a:pt x="25841" y="7493"/>
                </a:lnTo>
                <a:lnTo>
                  <a:pt x="25841" y="12828"/>
                </a:lnTo>
                <a:cubicBezTo>
                  <a:pt x="25841" y="15596"/>
                  <a:pt x="23264" y="18155"/>
                  <a:pt x="20497" y="18155"/>
                </a:cubicBezTo>
                <a:lnTo>
                  <a:pt x="18834" y="18155"/>
                </a:lnTo>
                <a:cubicBezTo>
                  <a:pt x="16066" y="18155"/>
                  <a:pt x="13490" y="15596"/>
                  <a:pt x="13490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еблокирование пострада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468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972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овательная разборка за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ойство 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ойство галереи в грунте под зав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елывание проемов в стенах и перекрыт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автовышек подъёмников, вертол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охранившимся лестничным марш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альпинистского снар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штурмовых лест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канатных дор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спасательного рукава, различных аморт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>
            <a:hlinkClick r:id="rId1" action="ppaction://hlinksldjump"/>
          </p:cNvPr>
          <p:cNvSpPr/>
          <p:nvPr/>
        </p:nvSpPr>
        <p:spPr>
          <a:xfrm>
            <a:off x="7885080" y="6093000"/>
            <a:ext cx="1042920" cy="54900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1020" h="21600">
                <a:moveTo>
                  <a:pt x="0" y="0"/>
                </a:moveTo>
                <a:lnTo>
                  <a:pt x="41020" y="0"/>
                </a:lnTo>
                <a:lnTo>
                  <a:pt x="41020" y="21600"/>
                </a:lnTo>
                <a:lnTo>
                  <a:pt x="0" y="21600"/>
                </a:lnTo>
                <a:close/>
              </a:path>
              <a:path fill="lightenLess" w="41020" h="21600">
                <a:moveTo>
                  <a:pt x="0" y="0"/>
                </a:moveTo>
                <a:lnTo>
                  <a:pt x="41020" y="0"/>
                </a:lnTo>
                <a:lnTo>
                  <a:pt x="39620" y="1400"/>
                </a:lnTo>
                <a:lnTo>
                  <a:pt x="1400" y="1400"/>
                </a:lnTo>
                <a:close/>
              </a:path>
              <a:path fill="darken" w="41020" h="21600">
                <a:moveTo>
                  <a:pt x="41020" y="0"/>
                </a:moveTo>
                <a:lnTo>
                  <a:pt x="41020" y="21600"/>
                </a:lnTo>
                <a:lnTo>
                  <a:pt x="39620" y="20200"/>
                </a:lnTo>
                <a:lnTo>
                  <a:pt x="39620" y="1400"/>
                </a:lnTo>
                <a:close/>
              </a:path>
              <a:path fill="darkenLess" w="41020" h="21600">
                <a:moveTo>
                  <a:pt x="41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0" y="20200"/>
                </a:lnTo>
                <a:close/>
              </a:path>
              <a:path fill="lighten" w="41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0" h="21600">
                <a:moveTo>
                  <a:pt x="13504" y="7493"/>
                </a:moveTo>
                <a:lnTo>
                  <a:pt x="17011" y="7493"/>
                </a:lnTo>
                <a:lnTo>
                  <a:pt x="17011" y="12828"/>
                </a:lnTo>
                <a:cubicBezTo>
                  <a:pt x="17011" y="13751"/>
                  <a:pt x="17812" y="14482"/>
                  <a:pt x="18848" y="14482"/>
                </a:cubicBezTo>
                <a:lnTo>
                  <a:pt x="20510" y="14482"/>
                </a:lnTo>
                <a:cubicBezTo>
                  <a:pt x="21546" y="14482"/>
                  <a:pt x="22347" y="13751"/>
                  <a:pt x="22347" y="12828"/>
                </a:cubicBezTo>
                <a:lnTo>
                  <a:pt x="22347" y="7493"/>
                </a:lnTo>
                <a:lnTo>
                  <a:pt x="20510" y="7493"/>
                </a:lnTo>
                <a:lnTo>
                  <a:pt x="24018" y="3985"/>
                </a:lnTo>
                <a:lnTo>
                  <a:pt x="27691" y="7493"/>
                </a:lnTo>
                <a:lnTo>
                  <a:pt x="25854" y="7493"/>
                </a:lnTo>
                <a:lnTo>
                  <a:pt x="25854" y="12828"/>
                </a:lnTo>
                <a:cubicBezTo>
                  <a:pt x="25854" y="15596"/>
                  <a:pt x="23278" y="18155"/>
                  <a:pt x="20510" y="18155"/>
                </a:cubicBezTo>
                <a:lnTo>
                  <a:pt x="18848" y="18155"/>
                </a:lnTo>
                <a:cubicBezTo>
                  <a:pt x="16080" y="18155"/>
                  <a:pt x="13504" y="15596"/>
                  <a:pt x="1350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50920" y="1484280"/>
            <a:ext cx="3817800" cy="93672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Обеспечение досту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к пострадав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003640" y="1484280"/>
            <a:ext cx="3961080" cy="93672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Извлечение из м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блок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08000" y="3429000"/>
            <a:ext cx="4103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7777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 обломков зав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ин, ополз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4932360" y="3429000"/>
            <a:ext cx="41054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7777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замкнутых помещ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1943280" y="2708280"/>
            <a:ext cx="525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деблок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12"/>
          <p:cNvCxnSpPr>
            <a:stCxn id="224" idx="2"/>
            <a:endCxn id="228" idx="0"/>
          </p:cNvCxnSpPr>
          <p:nvPr/>
        </p:nvCxnSpPr>
        <p:spPr>
          <a:xfrm>
            <a:off x="4570200" y="917640"/>
            <a:ext cx="2414880" cy="56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13"/>
          <p:cNvCxnSpPr>
            <a:stCxn id="224" idx="2"/>
            <a:endCxn id="227" idx="0"/>
          </p:cNvCxnSpPr>
          <p:nvPr/>
        </p:nvCxnSpPr>
        <p:spPr>
          <a:xfrm flipH="1">
            <a:off x="2160360" y="917640"/>
            <a:ext cx="2410560" cy="56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14"/>
          <p:cNvCxnSpPr>
            <a:stCxn id="224" idx="2"/>
            <a:endCxn id="231" idx="0"/>
          </p:cNvCxnSpPr>
          <p:nvPr/>
        </p:nvCxnSpPr>
        <p:spPr>
          <a:xfrm>
            <a:off x="4570560" y="917640"/>
            <a:ext cx="2160" cy="179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5"/>
          <p:cNvCxnSpPr>
            <a:stCxn id="231" idx="2"/>
            <a:endCxn id="236" idx="1"/>
          </p:cNvCxnSpPr>
          <p:nvPr/>
        </p:nvCxnSpPr>
        <p:spPr>
          <a:xfrm flipH="1" rot="16200000">
            <a:off x="4200480" y="3511080"/>
            <a:ext cx="1680480" cy="937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16"/>
          <p:cNvCxnSpPr>
            <a:stCxn id="231" idx="2"/>
            <a:endCxn id="238" idx="3"/>
          </p:cNvCxnSpPr>
          <p:nvPr/>
        </p:nvCxnSpPr>
        <p:spPr>
          <a:xfrm rot="5400000">
            <a:off x="3263040" y="3511440"/>
            <a:ext cx="1680480" cy="937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17"/>
          <p:cNvCxnSpPr>
            <a:stCxn id="231" idx="2"/>
            <a:endCxn id="229" idx="3"/>
          </p:cNvCxnSpPr>
          <p:nvPr/>
        </p:nvCxnSpPr>
        <p:spPr>
          <a:xfrm rot="5400000">
            <a:off x="4030560" y="3319920"/>
            <a:ext cx="721440" cy="36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AutoShape 18"/>
          <p:cNvCxnSpPr>
            <a:stCxn id="231" idx="2"/>
            <a:endCxn id="230" idx="1"/>
          </p:cNvCxnSpPr>
          <p:nvPr/>
        </p:nvCxnSpPr>
        <p:spPr>
          <a:xfrm flipH="1" rot="16200000">
            <a:off x="4390920" y="3319920"/>
            <a:ext cx="721440" cy="36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AutoShape 19"/>
          <p:cNvSpPr/>
          <p:nvPr/>
        </p:nvSpPr>
        <p:spPr>
          <a:xfrm>
            <a:off x="5508720" y="4437000"/>
            <a:ext cx="345600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изолир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0"/>
          <p:cNvSpPr/>
          <p:nvPr/>
        </p:nvSpPr>
        <p:spPr>
          <a:xfrm>
            <a:off x="179280" y="4437000"/>
            <a:ext cx="345600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ерхних этаж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xit" presetID="3" presetSubtype="5">
                                  <p:stCondLst>
                                    <p:cond delay="4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3" presetSubtype="5">
                                  <p:stCondLst>
                                    <p:cond delay="4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3" presetSubtype="5">
                                  <p:stCondLst>
                                    <p:cond delay="4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2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3" presetSubtype="5">
                                  <p:stCondLst>
                                    <p:cond delay="4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2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8000"/>
                            </p:stCondLst>
                            <p:childTnLst>
                              <p:par>
                                <p:cTn id="659" nodeType="after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7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0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2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5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1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10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23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718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казание перв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6450120" y="2260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250920" y="1268280"/>
            <a:ext cx="85690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признаков жизни (пульс, сознание, дыхание, реагирование на свет зрач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обождение головы и груди от давления различных предметов, восстановление дыхания и пуль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новка кровотечения, обработка ран, согревание, обезболивание, иммобилизация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П выполняется спасателями, медиками и сам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адавшими непосредственно на месте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вм (или после извлечения) с использов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ельных и подруч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8"/>
          <p:cNvSpPr/>
          <p:nvPr/>
        </p:nvSpPr>
        <p:spPr>
          <a:xfrm>
            <a:off x="6451560" y="26463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2"/>
          <p:cNvSpPr/>
          <p:nvPr/>
        </p:nvSpPr>
        <p:spPr>
          <a:xfrm>
            <a:off x="6534000" y="27622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3"/>
          <p:cNvSpPr/>
          <p:nvPr/>
        </p:nvSpPr>
        <p:spPr>
          <a:xfrm>
            <a:off x="6451560" y="28764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7"/>
          <p:cNvSpPr/>
          <p:nvPr/>
        </p:nvSpPr>
        <p:spPr>
          <a:xfrm>
            <a:off x="6534000" y="2990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1"/>
          <p:cNvSpPr/>
          <p:nvPr/>
        </p:nvSpPr>
        <p:spPr>
          <a:xfrm>
            <a:off x="6451560" y="3333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2"/>
          <p:cNvSpPr/>
          <p:nvPr/>
        </p:nvSpPr>
        <p:spPr>
          <a:xfrm>
            <a:off x="6451560" y="3448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5"/>
          <p:cNvSpPr/>
          <p:nvPr/>
        </p:nvSpPr>
        <p:spPr>
          <a:xfrm>
            <a:off x="6451560" y="35622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7"/>
          <p:cNvSpPr/>
          <p:nvPr/>
        </p:nvSpPr>
        <p:spPr>
          <a:xfrm>
            <a:off x="7162920" y="35622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3"/>
          <p:cNvSpPr/>
          <p:nvPr/>
        </p:nvSpPr>
        <p:spPr>
          <a:xfrm>
            <a:off x="6724800" y="39052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6"/>
          <p:cNvSpPr/>
          <p:nvPr/>
        </p:nvSpPr>
        <p:spPr>
          <a:xfrm>
            <a:off x="6534000" y="40194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9"/>
          <p:cNvSpPr/>
          <p:nvPr/>
        </p:nvSpPr>
        <p:spPr>
          <a:xfrm>
            <a:off x="6654600" y="41338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2"/>
          <p:cNvSpPr/>
          <p:nvPr/>
        </p:nvSpPr>
        <p:spPr>
          <a:xfrm>
            <a:off x="6451560" y="4362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03"/>
          <p:cNvSpPr/>
          <p:nvPr/>
        </p:nvSpPr>
        <p:spPr>
          <a:xfrm>
            <a:off x="6451560" y="4476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6"/>
          <p:cNvSpPr/>
          <p:nvPr/>
        </p:nvSpPr>
        <p:spPr>
          <a:xfrm>
            <a:off x="6924600" y="4591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9"/>
          <p:cNvSpPr/>
          <p:nvPr/>
        </p:nvSpPr>
        <p:spPr>
          <a:xfrm>
            <a:off x="5292720" y="2276640"/>
            <a:ext cx="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23">
            <a:hlinkClick r:id="rId1" action="ppaction://hlinksldjump"/>
          </p:cNvPr>
          <p:cNvSpPr/>
          <p:nvPr/>
        </p:nvSpPr>
        <p:spPr>
          <a:xfrm>
            <a:off x="7885080" y="6093000"/>
            <a:ext cx="1042920" cy="54900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1020" h="21600">
                <a:moveTo>
                  <a:pt x="0" y="0"/>
                </a:moveTo>
                <a:lnTo>
                  <a:pt x="41020" y="0"/>
                </a:lnTo>
                <a:lnTo>
                  <a:pt x="41020" y="21600"/>
                </a:lnTo>
                <a:lnTo>
                  <a:pt x="0" y="21600"/>
                </a:lnTo>
                <a:close/>
              </a:path>
              <a:path fill="lightenLess" w="41020" h="21600">
                <a:moveTo>
                  <a:pt x="0" y="0"/>
                </a:moveTo>
                <a:lnTo>
                  <a:pt x="41020" y="0"/>
                </a:lnTo>
                <a:lnTo>
                  <a:pt x="39620" y="1400"/>
                </a:lnTo>
                <a:lnTo>
                  <a:pt x="1400" y="1400"/>
                </a:lnTo>
                <a:close/>
              </a:path>
              <a:path fill="darken" w="41020" h="21600">
                <a:moveTo>
                  <a:pt x="41020" y="0"/>
                </a:moveTo>
                <a:lnTo>
                  <a:pt x="41020" y="21600"/>
                </a:lnTo>
                <a:lnTo>
                  <a:pt x="39620" y="20200"/>
                </a:lnTo>
                <a:lnTo>
                  <a:pt x="39620" y="1400"/>
                </a:lnTo>
                <a:close/>
              </a:path>
              <a:path fill="darkenLess" w="41020" h="21600">
                <a:moveTo>
                  <a:pt x="41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0" y="20200"/>
                </a:lnTo>
                <a:close/>
              </a:path>
              <a:path fill="lighten" w="41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0" h="21600">
                <a:moveTo>
                  <a:pt x="13504" y="7493"/>
                </a:moveTo>
                <a:lnTo>
                  <a:pt x="17011" y="7493"/>
                </a:lnTo>
                <a:lnTo>
                  <a:pt x="17011" y="12828"/>
                </a:lnTo>
                <a:cubicBezTo>
                  <a:pt x="17011" y="13751"/>
                  <a:pt x="17812" y="14482"/>
                  <a:pt x="18848" y="14482"/>
                </a:cubicBezTo>
                <a:lnTo>
                  <a:pt x="20510" y="14482"/>
                </a:lnTo>
                <a:cubicBezTo>
                  <a:pt x="21546" y="14482"/>
                  <a:pt x="22347" y="13751"/>
                  <a:pt x="22347" y="12828"/>
                </a:cubicBezTo>
                <a:lnTo>
                  <a:pt x="22347" y="7493"/>
                </a:lnTo>
                <a:lnTo>
                  <a:pt x="20510" y="7493"/>
                </a:lnTo>
                <a:lnTo>
                  <a:pt x="24018" y="3985"/>
                </a:lnTo>
                <a:lnTo>
                  <a:pt x="27691" y="7493"/>
                </a:lnTo>
                <a:lnTo>
                  <a:pt x="25854" y="7493"/>
                </a:lnTo>
                <a:lnTo>
                  <a:pt x="25854" y="12828"/>
                </a:lnTo>
                <a:cubicBezTo>
                  <a:pt x="25854" y="15596"/>
                  <a:pt x="23278" y="18155"/>
                  <a:pt x="20510" y="18155"/>
                </a:cubicBezTo>
                <a:lnTo>
                  <a:pt x="18848" y="18155"/>
                </a:lnTo>
                <a:cubicBezTo>
                  <a:pt x="16080" y="18155"/>
                  <a:pt x="13504" y="15596"/>
                  <a:pt x="1350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19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вакуация (транспортировка) из опасных з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способов и маршрутов транспортир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пострадавшего и транспорт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безопасности пострадавших и спасателей страховка при преодолении препятствий, организация отдыха, контроль за состоянием пострадавши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Этапы эваку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мест блокирования до рабочей площ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рабочей площадки до пункта сбора пораженных (до медицинского учреж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пособ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узка пострадавших на транспортное сре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, с помощью спас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оска (на спине, руках, 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х, носилка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олачивание (на спине, при помощи ткани, саней 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уск, подъем (с помощью спасательного пояса, лямки, лестницы, носилок, канатной дорог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>
            <a:hlinkClick r:id="rId1" action="ppaction://hlinksldjump"/>
          </p:cNvPr>
          <p:cNvSpPr/>
          <p:nvPr/>
        </p:nvSpPr>
        <p:spPr>
          <a:xfrm>
            <a:off x="7885080" y="6093000"/>
            <a:ext cx="1042920" cy="54900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1020" h="21600">
                <a:moveTo>
                  <a:pt x="0" y="0"/>
                </a:moveTo>
                <a:lnTo>
                  <a:pt x="41020" y="0"/>
                </a:lnTo>
                <a:lnTo>
                  <a:pt x="41020" y="21600"/>
                </a:lnTo>
                <a:lnTo>
                  <a:pt x="0" y="21600"/>
                </a:lnTo>
                <a:close/>
              </a:path>
              <a:path fill="lightenLess" w="41020" h="21600">
                <a:moveTo>
                  <a:pt x="0" y="0"/>
                </a:moveTo>
                <a:lnTo>
                  <a:pt x="41020" y="0"/>
                </a:lnTo>
                <a:lnTo>
                  <a:pt x="39620" y="1400"/>
                </a:lnTo>
                <a:lnTo>
                  <a:pt x="1400" y="1400"/>
                </a:lnTo>
                <a:close/>
              </a:path>
              <a:path fill="darken" w="41020" h="21600">
                <a:moveTo>
                  <a:pt x="41020" y="0"/>
                </a:moveTo>
                <a:lnTo>
                  <a:pt x="41020" y="21600"/>
                </a:lnTo>
                <a:lnTo>
                  <a:pt x="39620" y="20200"/>
                </a:lnTo>
                <a:lnTo>
                  <a:pt x="39620" y="1400"/>
                </a:lnTo>
                <a:close/>
              </a:path>
              <a:path fill="darkenLess" w="41020" h="21600">
                <a:moveTo>
                  <a:pt x="41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0" y="20200"/>
                </a:lnTo>
                <a:close/>
              </a:path>
              <a:path fill="lighten" w="41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0" h="21600">
                <a:moveTo>
                  <a:pt x="13504" y="7493"/>
                </a:moveTo>
                <a:lnTo>
                  <a:pt x="17011" y="7493"/>
                </a:lnTo>
                <a:lnTo>
                  <a:pt x="17011" y="12828"/>
                </a:lnTo>
                <a:cubicBezTo>
                  <a:pt x="17011" y="13751"/>
                  <a:pt x="17812" y="14482"/>
                  <a:pt x="18848" y="14482"/>
                </a:cubicBezTo>
                <a:lnTo>
                  <a:pt x="20510" y="14482"/>
                </a:lnTo>
                <a:cubicBezTo>
                  <a:pt x="21546" y="14482"/>
                  <a:pt x="22347" y="13751"/>
                  <a:pt x="22347" y="12828"/>
                </a:cubicBezTo>
                <a:lnTo>
                  <a:pt x="22347" y="7493"/>
                </a:lnTo>
                <a:lnTo>
                  <a:pt x="20510" y="7493"/>
                </a:lnTo>
                <a:lnTo>
                  <a:pt x="24018" y="3985"/>
                </a:lnTo>
                <a:lnTo>
                  <a:pt x="27691" y="7493"/>
                </a:lnTo>
                <a:lnTo>
                  <a:pt x="25854" y="7493"/>
                </a:lnTo>
                <a:lnTo>
                  <a:pt x="25854" y="12828"/>
                </a:lnTo>
                <a:cubicBezTo>
                  <a:pt x="25854" y="15596"/>
                  <a:pt x="23278" y="18155"/>
                  <a:pt x="20510" y="18155"/>
                </a:cubicBezTo>
                <a:lnTo>
                  <a:pt x="18848" y="18155"/>
                </a:lnTo>
                <a:cubicBezTo>
                  <a:pt x="16080" y="18155"/>
                  <a:pt x="13504" y="15596"/>
                  <a:pt x="1350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5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8" dur="1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4" dur="1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1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0" dur="1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763272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понятия об аварийно-спасательных и других неотложных рабо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ведения аварийно-спасатель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ругих неотлож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отравляющими (аварийно - химически опасными) веще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проведения АСДНР при стихийных бедст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>
            <a:hlinkClick r:id="rId1" action="ppaction://hlinksldjump"/>
          </p:cNvPr>
          <p:cNvSpPr/>
          <p:nvPr/>
        </p:nvSpPr>
        <p:spPr>
          <a:xfrm>
            <a:off x="7885080" y="1125360"/>
            <a:ext cx="971640" cy="43200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8560" h="21600">
                <a:moveTo>
                  <a:pt x="0" y="0"/>
                </a:moveTo>
                <a:lnTo>
                  <a:pt x="48560" y="0"/>
                </a:lnTo>
                <a:lnTo>
                  <a:pt x="48560" y="21600"/>
                </a:lnTo>
                <a:lnTo>
                  <a:pt x="0" y="21600"/>
                </a:lnTo>
                <a:close/>
              </a:path>
              <a:path fill="lightenLess" w="48560" h="21600">
                <a:moveTo>
                  <a:pt x="0" y="0"/>
                </a:moveTo>
                <a:lnTo>
                  <a:pt x="48560" y="0"/>
                </a:lnTo>
                <a:lnTo>
                  <a:pt x="47160" y="1400"/>
                </a:lnTo>
                <a:lnTo>
                  <a:pt x="1400" y="1400"/>
                </a:lnTo>
                <a:close/>
              </a:path>
              <a:path fill="darken" w="48560" h="21600">
                <a:moveTo>
                  <a:pt x="48560" y="0"/>
                </a:moveTo>
                <a:lnTo>
                  <a:pt x="48560" y="21600"/>
                </a:lnTo>
                <a:lnTo>
                  <a:pt x="47160" y="20200"/>
                </a:lnTo>
                <a:lnTo>
                  <a:pt x="47160" y="1400"/>
                </a:lnTo>
                <a:close/>
              </a:path>
              <a:path fill="darkenLess" w="48560" h="21600">
                <a:moveTo>
                  <a:pt x="48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60" y="20200"/>
                </a:lnTo>
                <a:close/>
              </a:path>
              <a:path fill="lighten" w="48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60" h="21600">
                <a:moveTo>
                  <a:pt x="17273" y="3794"/>
                </a:moveTo>
                <a:lnTo>
                  <a:pt x="31286" y="10800"/>
                </a:lnTo>
                <a:lnTo>
                  <a:pt x="172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7885080" y="1989000"/>
            <a:ext cx="971640" cy="43200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8560" h="21600">
                <a:moveTo>
                  <a:pt x="0" y="0"/>
                </a:moveTo>
                <a:lnTo>
                  <a:pt x="48560" y="0"/>
                </a:lnTo>
                <a:lnTo>
                  <a:pt x="48560" y="21600"/>
                </a:lnTo>
                <a:lnTo>
                  <a:pt x="0" y="21600"/>
                </a:lnTo>
                <a:close/>
              </a:path>
              <a:path fill="lightenLess" w="48560" h="21600">
                <a:moveTo>
                  <a:pt x="0" y="0"/>
                </a:moveTo>
                <a:lnTo>
                  <a:pt x="48560" y="0"/>
                </a:lnTo>
                <a:lnTo>
                  <a:pt x="47160" y="1400"/>
                </a:lnTo>
                <a:lnTo>
                  <a:pt x="1400" y="1400"/>
                </a:lnTo>
                <a:close/>
              </a:path>
              <a:path fill="darken" w="48560" h="21600">
                <a:moveTo>
                  <a:pt x="48560" y="0"/>
                </a:moveTo>
                <a:lnTo>
                  <a:pt x="48560" y="21600"/>
                </a:lnTo>
                <a:lnTo>
                  <a:pt x="47160" y="20200"/>
                </a:lnTo>
                <a:lnTo>
                  <a:pt x="47160" y="1400"/>
                </a:lnTo>
                <a:close/>
              </a:path>
              <a:path fill="darkenLess" w="48560" h="21600">
                <a:moveTo>
                  <a:pt x="48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60" y="20200"/>
                </a:lnTo>
                <a:close/>
              </a:path>
              <a:path fill="lighten" w="48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60" h="21600">
                <a:moveTo>
                  <a:pt x="17273" y="3794"/>
                </a:moveTo>
                <a:lnTo>
                  <a:pt x="31286" y="10800"/>
                </a:lnTo>
                <a:lnTo>
                  <a:pt x="172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7885080" y="270828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885080" y="3860640"/>
            <a:ext cx="971640" cy="43200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8560" h="21600">
                <a:moveTo>
                  <a:pt x="0" y="0"/>
                </a:moveTo>
                <a:lnTo>
                  <a:pt x="48560" y="0"/>
                </a:lnTo>
                <a:lnTo>
                  <a:pt x="48560" y="21600"/>
                </a:lnTo>
                <a:lnTo>
                  <a:pt x="0" y="21600"/>
                </a:lnTo>
                <a:close/>
              </a:path>
              <a:path fill="lightenLess" w="48560" h="21600">
                <a:moveTo>
                  <a:pt x="0" y="0"/>
                </a:moveTo>
                <a:lnTo>
                  <a:pt x="48560" y="0"/>
                </a:lnTo>
                <a:lnTo>
                  <a:pt x="47160" y="1400"/>
                </a:lnTo>
                <a:lnTo>
                  <a:pt x="1400" y="1400"/>
                </a:lnTo>
                <a:close/>
              </a:path>
              <a:path fill="darken" w="48560" h="21600">
                <a:moveTo>
                  <a:pt x="48560" y="0"/>
                </a:moveTo>
                <a:lnTo>
                  <a:pt x="48560" y="21600"/>
                </a:lnTo>
                <a:lnTo>
                  <a:pt x="47160" y="20200"/>
                </a:lnTo>
                <a:lnTo>
                  <a:pt x="47160" y="1400"/>
                </a:lnTo>
                <a:close/>
              </a:path>
              <a:path fill="darkenLess" w="48560" h="21600">
                <a:moveTo>
                  <a:pt x="48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60" y="20200"/>
                </a:lnTo>
                <a:close/>
              </a:path>
              <a:path fill="lighten" w="48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60" h="21600">
                <a:moveTo>
                  <a:pt x="17273" y="3794"/>
                </a:moveTo>
                <a:lnTo>
                  <a:pt x="31286" y="10800"/>
                </a:lnTo>
                <a:lnTo>
                  <a:pt x="172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7885080" y="5445000"/>
            <a:ext cx="971640" cy="43200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8560" h="21600">
                <a:moveTo>
                  <a:pt x="0" y="0"/>
                </a:moveTo>
                <a:lnTo>
                  <a:pt x="48560" y="0"/>
                </a:lnTo>
                <a:lnTo>
                  <a:pt x="48560" y="21600"/>
                </a:lnTo>
                <a:lnTo>
                  <a:pt x="0" y="21600"/>
                </a:lnTo>
                <a:close/>
              </a:path>
              <a:path fill="lightenLess" w="48560" h="21600">
                <a:moveTo>
                  <a:pt x="0" y="0"/>
                </a:moveTo>
                <a:lnTo>
                  <a:pt x="48560" y="0"/>
                </a:lnTo>
                <a:lnTo>
                  <a:pt x="47160" y="1400"/>
                </a:lnTo>
                <a:lnTo>
                  <a:pt x="1400" y="1400"/>
                </a:lnTo>
                <a:close/>
              </a:path>
              <a:path fill="darken" w="48560" h="21600">
                <a:moveTo>
                  <a:pt x="48560" y="0"/>
                </a:moveTo>
                <a:lnTo>
                  <a:pt x="48560" y="21600"/>
                </a:lnTo>
                <a:lnTo>
                  <a:pt x="47160" y="20200"/>
                </a:lnTo>
                <a:lnTo>
                  <a:pt x="47160" y="1400"/>
                </a:lnTo>
                <a:close/>
              </a:path>
              <a:path fill="darkenLess" w="48560" h="21600">
                <a:moveTo>
                  <a:pt x="48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60" y="20200"/>
                </a:lnTo>
                <a:close/>
              </a:path>
              <a:path fill="lighten" w="48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60" h="21600">
                <a:moveTo>
                  <a:pt x="17273" y="3794"/>
                </a:moveTo>
                <a:lnTo>
                  <a:pt x="31286" y="10800"/>
                </a:lnTo>
                <a:lnTo>
                  <a:pt x="172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3"/>
          <p:cNvGrpSpPr/>
          <p:nvPr/>
        </p:nvGrpSpPr>
        <p:grpSpPr>
          <a:xfrm>
            <a:off x="4788000" y="5950080"/>
            <a:ext cx="3240000" cy="620640"/>
            <a:chOff x="4788000" y="5950080"/>
            <a:chExt cx="3240000" cy="620640"/>
          </a:xfrm>
        </p:grpSpPr>
        <p:sp>
          <p:nvSpPr>
            <p:cNvPr id="55" name="AutoShape 20">
              <a:hlinkClick r:id="rId6" action="ppaction://hlinksldjump"/>
            </p:cNvPr>
            <p:cNvSpPr/>
            <p:nvPr/>
          </p:nvSpPr>
          <p:spPr>
            <a:xfrm rot="5400000">
              <a:off x="6097680" y="4640400"/>
              <a:ext cx="620640" cy="3240000"/>
            </a:xfrm>
            <a:custGeom>
              <a:avLst/>
              <a:gdLst>
                <a:gd name="textAreaLeft" fmla="*/ 39960 w 620640"/>
                <a:gd name="textAreaRight" fmla="*/ 580680 w 620640"/>
                <a:gd name="textAreaTop" fmla="*/ 39960 h 3240000"/>
                <a:gd name="textAreaBottom" fmla="*/ 3200040 h 3240000"/>
              </a:gdLst>
              <a:ahLst/>
              <a:rect l="textAreaLeft" t="textAreaTop" r="textAreaRight" b="textAreaBottom"/>
              <a:pathLst>
                <a:path w="21600" h="112708">
                  <a:moveTo>
                    <a:pt x="0" y="0"/>
                  </a:moveTo>
                  <a:lnTo>
                    <a:pt x="21600" y="0"/>
                  </a:lnTo>
                  <a:lnTo>
                    <a:pt x="21600" y="112708"/>
                  </a:lnTo>
                  <a:lnTo>
                    <a:pt x="0" y="112708"/>
                  </a:lnTo>
                  <a:close/>
                </a:path>
                <a:path fill="lightenLess" w="21600" h="11270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112708">
                  <a:moveTo>
                    <a:pt x="21600" y="0"/>
                  </a:moveTo>
                  <a:lnTo>
                    <a:pt x="21600" y="112708"/>
                  </a:lnTo>
                  <a:lnTo>
                    <a:pt x="20200" y="111308"/>
                  </a:lnTo>
                  <a:lnTo>
                    <a:pt x="20200" y="1400"/>
                  </a:lnTo>
                  <a:close/>
                </a:path>
                <a:path fill="darkenLess" w="21600" h="112708">
                  <a:moveTo>
                    <a:pt x="21600" y="112708"/>
                  </a:moveTo>
                  <a:lnTo>
                    <a:pt x="0" y="112708"/>
                  </a:lnTo>
                  <a:lnTo>
                    <a:pt x="1400" y="111308"/>
                  </a:lnTo>
                  <a:lnTo>
                    <a:pt x="20200" y="111308"/>
                  </a:lnTo>
                  <a:close/>
                </a:path>
                <a:path fill="lighten" w="21600" h="112708">
                  <a:moveTo>
                    <a:pt x="0" y="11270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111308"/>
                  </a:lnTo>
                  <a:close/>
                </a:path>
                <a:path fill="darken" w="21600" h="112708">
                  <a:moveTo>
                    <a:pt x="3794" y="49348"/>
                  </a:moveTo>
                  <a:lnTo>
                    <a:pt x="17806" y="56354"/>
                  </a:lnTo>
                  <a:lnTo>
                    <a:pt x="3794" y="63361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1">
              <a:hlinkClick r:id="rId7" action="ppaction://hlinksldjump"/>
            </p:cNvPr>
            <p:cNvSpPr/>
            <p:nvPr/>
          </p:nvSpPr>
          <p:spPr>
            <a:xfrm>
              <a:off x="4861440" y="602172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2">
              <a:hlinkClick r:id="rId8" action="ppaction://hlinksldjump"/>
            </p:cNvPr>
            <p:cNvSpPr/>
            <p:nvPr/>
          </p:nvSpPr>
          <p:spPr>
            <a:xfrm>
              <a:off x="6589440" y="602172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WordArt 24"/>
          <p:cNvSpPr txBox="1"/>
          <p:nvPr/>
        </p:nvSpPr>
        <p:spPr>
          <a:xfrm>
            <a:off x="2340000" y="260280"/>
            <a:ext cx="44640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663300">
                    <a:alpha val="8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1" lang="en-US" sz="2600" spc="1" strike="noStrike">
              <a:ln w="15840">
                <a:solidFill>
                  <a:srgbClr val="ffff00"/>
                </a:solidFill>
                <a:miter/>
              </a:ln>
              <a:solidFill>
                <a:srgbClr val="663300">
                  <a:alpha val="8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6360" y="189000"/>
            <a:ext cx="7991280" cy="1224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ccff33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332000" y="1771560"/>
            <a:ext cx="6192720" cy="576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399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чины радиоактивного загряз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50920" y="2779560"/>
            <a:ext cx="3889440" cy="129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399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езульт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ядерного взры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116000" y="4363920"/>
            <a:ext cx="6624720" cy="1582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399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езответственное  хране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латное обращение с радиоактив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епаратами в медицине, научн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реждениях,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4716360" y="2779560"/>
            <a:ext cx="4211640" cy="129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399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езультате авари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ЭС или другой яд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нергетической у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55640" y="6854760"/>
            <a:ext cx="777240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9"/>
          <p:cNvCxnSpPr>
            <a:stCxn id="264" idx="2"/>
            <a:endCxn id="267" idx="0"/>
          </p:cNvCxnSpPr>
          <p:nvPr/>
        </p:nvCxnSpPr>
        <p:spPr>
          <a:xfrm flipH="1" rot="16200000">
            <a:off x="5424480" y="1366560"/>
            <a:ext cx="403920" cy="2394720"/>
          </a:xfrm>
          <a:prstGeom prst="bentConnector3">
            <a:avLst>
              <a:gd name="adj1" fmla="val 49955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70" name="AutoShape 10"/>
          <p:cNvCxnSpPr>
            <a:stCxn id="264" idx="2"/>
            <a:endCxn id="265" idx="0"/>
          </p:cNvCxnSpPr>
          <p:nvPr/>
        </p:nvCxnSpPr>
        <p:spPr>
          <a:xfrm rot="5400000">
            <a:off x="3110040" y="1447200"/>
            <a:ext cx="403920" cy="2234160"/>
          </a:xfrm>
          <a:prstGeom prst="bentConnector3">
            <a:avLst>
              <a:gd name="adj1" fmla="val 49955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71" name="AutoShape 11"/>
          <p:cNvCxnSpPr>
            <a:stCxn id="264" idx="2"/>
            <a:endCxn id="266" idx="0"/>
          </p:cNvCxnSpPr>
          <p:nvPr/>
        </p:nvCxnSpPr>
        <p:spPr>
          <a:xfrm flipH="1">
            <a:off x="4428360" y="2361960"/>
            <a:ext cx="1080" cy="19879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72" name="AutoShape 1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78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500"/>
                            </p:stCondLst>
                            <p:childTnLst>
                              <p:par>
                                <p:cTn id="79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Непрерывный дозиметрический конт-роль обл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дна из важнейших задач обеспечения безопасности людей. Прежде чем начинать работы в зоне радиоактивного заражения (загрязнения), необходимо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рганизовать радиационную развед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в последующем вести систематическое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наблюдение за изменениями уровней радиации и дозами обл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луча-емы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аботы в условиях радиационного заражения регламентиру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рмами радиационной безопасности" (НРБ-76/87), а теперь и НРБ-9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сновными санитарными правилами» (ОСП-72/87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ми закон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использовании атомной энергии» (1995, № 170-ФЗ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радиационной безопасности населения» (1996. № 3-ФЗ), которыми установлены правила привлечения граждан к аварийным работам и допустимые пределы обл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вышенное облучение персонала во время аварии может быть оправдано лишь спасением людей, предотвращением развития аварии и облучения большого числа граждан. Работники, получившие повышенные дозы облучения, должны быть немедленно выведены из зоны и направлены на медицинское обслед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6920" y="1412640"/>
            <a:ext cx="8748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защиты людей от вредного воздействия радиации (в первую очередь органов дыхания и кожи)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се работы в зоне радиоактивного загрязнения проводятся в противогазах, респираторах и средствах защиты к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кончании работ на радиационно загрязненной территории все участвующие в них должны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ройти санитарную обработку за пределами загрязненного рай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xit" presetID="3" presetSubtype="10">
                                  <p:stCondLst>
                                    <p:cond delay="8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3" presetSubtype="10">
                                  <p:stCondLst>
                                    <p:cond delay="8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пособы защиты населения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работников) при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04920" y="1268280"/>
            <a:ext cx="8532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вакуация населения в безопасные рай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ение непрерывной разведки на заражённой территории, сбор и обработка информации о радиационной обстан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зиметрический и радиационн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оянное информирование населения о радиационной обстановке в районе ав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4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500"/>
                            </p:stCondLst>
                            <p:childTnLst>
                              <p:par>
                                <p:cTn id="8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4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6500"/>
                            </p:stCondLst>
                            <p:childTnLst>
                              <p:par>
                                <p:cTn id="856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57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4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6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0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2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73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7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2-3"/>
          <p:cNvPicPr/>
          <p:nvPr/>
        </p:nvPicPr>
        <p:blipFill>
          <a:blip r:embed="rId1"/>
          <a:stretch/>
        </p:blipFill>
        <p:spPr>
          <a:xfrm>
            <a:off x="4572000" y="134136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0"/>
          <p:cNvSpPr/>
          <p:nvPr/>
        </p:nvSpPr>
        <p:spPr>
          <a:xfrm>
            <a:off x="605880" y="166680"/>
            <a:ext cx="829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пособы защиты насе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работников) при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50920" y="1268280"/>
            <a:ext cx="396072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дыхания и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г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пыльные тканевые ма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тно-марлевые повя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еры защитные детские, респи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ные костюмы (комбинез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6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500"/>
                            </p:stCondLst>
                            <p:childTnLst>
                              <p:par>
                                <p:cTn id="89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2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500"/>
                            </p:stCondLst>
                            <p:childTnLst>
                              <p:par>
                                <p:cTn id="913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8000"/>
                            </p:stCondLst>
                            <p:childTnLst>
                              <p:par>
                                <p:cTn id="9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9000"/>
                            </p:stCondLst>
                            <p:childTnLst>
                              <p:par>
                                <p:cTn id="92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25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ремя работы следует применять меры для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уменьшения пылеобразования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ля этого в сухую летнюю погоду, а при соответствующих условиях и в другое время года при разборке разрушенных зданий, расчистке проездов и других операциях, связанных с образованием большого количества пыли, эти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участки рекомендуется поливать и смачивать водой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акие действия, хотя и не снижают уровня радиации на местности, но значительно уменьшают количество радиоактивной п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>
            <a:hlinkClick r:id="rId1" action="ppaction://hlinksldjump"/>
          </p:cNvPr>
          <p:cNvSpPr/>
          <p:nvPr/>
        </p:nvSpPr>
        <p:spPr>
          <a:xfrm rot="5400000">
            <a:off x="8203680" y="5918040"/>
            <a:ext cx="620640" cy="125892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1258920"/>
              <a:gd name="textAreaBottom" fmla="*/ 1218960 h 1258920"/>
            </a:gdLst>
            <a:ahLst/>
            <a:rect l="textAreaLeft" t="textAreaTop" r="textAreaRight" b="textAreaBottom"/>
            <a:pathLst>
              <a:path w="21600" h="43801">
                <a:moveTo>
                  <a:pt x="0" y="0"/>
                </a:moveTo>
                <a:lnTo>
                  <a:pt x="21600" y="0"/>
                </a:lnTo>
                <a:lnTo>
                  <a:pt x="21600" y="43801"/>
                </a:lnTo>
                <a:lnTo>
                  <a:pt x="0" y="43801"/>
                </a:lnTo>
                <a:close/>
              </a:path>
              <a:path fill="lightenLess" w="21600" h="43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801">
                <a:moveTo>
                  <a:pt x="21600" y="0"/>
                </a:moveTo>
                <a:lnTo>
                  <a:pt x="21600" y="43801"/>
                </a:lnTo>
                <a:lnTo>
                  <a:pt x="20200" y="42401"/>
                </a:lnTo>
                <a:lnTo>
                  <a:pt x="20200" y="1400"/>
                </a:lnTo>
                <a:close/>
              </a:path>
              <a:path fill="darkenLess" w="21600" h="43801">
                <a:moveTo>
                  <a:pt x="21600" y="43801"/>
                </a:moveTo>
                <a:lnTo>
                  <a:pt x="0" y="43801"/>
                </a:lnTo>
                <a:lnTo>
                  <a:pt x="1400" y="42401"/>
                </a:lnTo>
                <a:lnTo>
                  <a:pt x="20200" y="42401"/>
                </a:lnTo>
                <a:close/>
              </a:path>
              <a:path fill="lighten" w="21600" h="43801">
                <a:moveTo>
                  <a:pt x="0" y="43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401"/>
                </a:lnTo>
                <a:close/>
              </a:path>
              <a:path fill="darken" w="21600" h="43801">
                <a:moveTo>
                  <a:pt x="3794" y="14894"/>
                </a:moveTo>
                <a:lnTo>
                  <a:pt x="17806" y="21901"/>
                </a:lnTo>
                <a:lnTo>
                  <a:pt x="3794" y="28907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собенности проведения АСДНР на территории, зараженной отравляющими (аварийно - химически опасными)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1114560" y="1484280"/>
            <a:ext cx="7489800" cy="5763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безопасности прежде всего зависят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187280" y="234936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а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5219640" y="234936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187280" y="3141720"/>
            <a:ext cx="3384720" cy="12970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ош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кружающ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у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5219640" y="321300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еоролог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1187280" y="479736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сти в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292720" y="566100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и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5292720" y="479736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туры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AutoShape 15"/>
          <p:cNvCxnSpPr>
            <a:stCxn id="298" idx="2"/>
            <a:endCxn id="299" idx="0"/>
          </p:cNvCxnSpPr>
          <p:nvPr/>
        </p:nvCxnSpPr>
        <p:spPr>
          <a:xfrm rot="5400000">
            <a:off x="4476960" y="2348280"/>
            <a:ext cx="837000" cy="4033080"/>
          </a:xfrm>
          <a:prstGeom prst="bentConnector3">
            <a:avLst>
              <a:gd name="adj1" fmla="val 79302"/>
            </a:avLst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3" name="AutoShape 16"/>
          <p:cNvCxnSpPr>
            <a:stCxn id="298" idx="2"/>
            <a:endCxn id="301" idx="0"/>
          </p:cNvCxnSpPr>
          <p:nvPr/>
        </p:nvCxnSpPr>
        <p:spPr>
          <a:xfrm flipH="1" rot="16200000">
            <a:off x="6529320" y="4327920"/>
            <a:ext cx="837000" cy="73800"/>
          </a:xfrm>
          <a:prstGeom prst="bentConnector3">
            <a:avLst>
              <a:gd name="adj1" fmla="val 49870"/>
            </a:avLst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4" name="Rectangle 11"/>
          <p:cNvSpPr/>
          <p:nvPr/>
        </p:nvSpPr>
        <p:spPr>
          <a:xfrm>
            <a:off x="5580000" y="4221000"/>
            <a:ext cx="2519280" cy="3589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вую очередь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46000" y="2923920"/>
            <a:ext cx="7452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324000" y="5300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Less" w="21600" h="27024">
                <a:moveTo>
                  <a:pt x="5273" y="6697"/>
                </a:moveTo>
                <a:lnTo>
                  <a:pt x="12271" y="6697"/>
                </a:lnTo>
                <a:lnTo>
                  <a:pt x="16327" y="10196"/>
                </a:lnTo>
                <a:lnTo>
                  <a:pt x="16327" y="20327"/>
                </a:lnTo>
                <a:lnTo>
                  <a:pt x="5273" y="20327"/>
                </a:lnTo>
                <a:close/>
              </a:path>
              <a:path fill="darken" w="21600" h="27024">
                <a:moveTo>
                  <a:pt x="12271" y="6697"/>
                </a:moveTo>
                <a:lnTo>
                  <a:pt x="16327" y="10196"/>
                </a:lnTo>
                <a:lnTo>
                  <a:pt x="12271" y="10196"/>
                </a:ln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8">
            <a:hlinkClick r:id="" action="ppaction://hlinkshowjump?jump=nextslide"/>
          </p:cNvPr>
          <p:cNvSpPr/>
          <p:nvPr/>
        </p:nvSpPr>
        <p:spPr>
          <a:xfrm>
            <a:off x="838836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20475" y="10800"/>
                </a:lnTo>
                <a:lnTo>
                  <a:pt x="646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47960" y="1980720"/>
            <a:ext cx="380988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500"/>
                            </p:stCondLst>
                            <p:childTnLst>
                              <p:par>
                                <p:cTn id="951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5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6500"/>
                            </p:stCondLst>
                            <p:childTnLst>
                              <p:par>
                                <p:cTn id="959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8500"/>
                            </p:stCondLst>
                            <p:childTnLst>
                              <p:par>
                                <p:cTn id="963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9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-4.50867E-006 L -0.26771 -0.59791 E">
                                      <p:cBhvr>
                                        <p:cTn id="101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3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ЕРЫ БЕЗОПАСНОСТИ ПРИ РАБОТАХ В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СЛОВИЯХ ЗАРАЖЕНИЯ А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6756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каждого предприятия, связанного с использованием вредных и опасных веществ, разрабатывают способы ликвидации аварий и соответствующие им мероприятия по безопасности, к которым помимо тщательного контроля за исправностью оборудования и состоянием воздушной среды относится оповещение о возможной химической опасности на территории самого предприятия и на соответствующих смежных территор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и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мероприятия отражаются в "Плане действий объекта по предупреждению и ликвидации ЧС"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 должны учитываться всеми руководителями аварийно-спасательных служб и формирований, участвующих в ликвидации Ч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File0037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8146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2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4" nodeType="afterEffect" fill="hold" presetClass="exit" presetID="3" presetSubtype="5">
                                  <p:stCondLst>
                                    <p:cond delay="5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6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8" nodeType="afterEffect" fill="hold" presetClass="exit" presetID="3" presetSubtype="5">
                                  <p:stCondLst>
                                    <p:cond delay="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69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2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7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ботников обеспечивают защитной одеждой и противогазами: промышленными, изолирующими, шланговыми, в зависимости от обстановки и имеющихся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изолирующий"/>
          <p:cNvPicPr/>
          <p:nvPr/>
        </p:nvPicPr>
        <p:blipFill>
          <a:blip r:embed="rId1"/>
          <a:stretch/>
        </p:blipFill>
        <p:spPr>
          <a:xfrm>
            <a:off x="0" y="2033640"/>
            <a:ext cx="5724360" cy="4824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03-5"/>
          <p:cNvPicPr/>
          <p:nvPr/>
        </p:nvPicPr>
        <p:blipFill>
          <a:blip r:embed="rId2"/>
          <a:stretch/>
        </p:blipFill>
        <p:spPr>
          <a:xfrm>
            <a:off x="2700360" y="2035080"/>
            <a:ext cx="6443640" cy="4822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ГДЗК"/>
          <p:cNvPicPr/>
          <p:nvPr/>
        </p:nvPicPr>
        <p:blipFill>
          <a:blip r:embed="rId3"/>
          <a:stretch/>
        </p:blipFill>
        <p:spPr>
          <a:xfrm>
            <a:off x="0" y="1844640"/>
            <a:ext cx="3433680" cy="5013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ПФМ-1-без текста"/>
          <p:cNvPicPr/>
          <p:nvPr/>
        </p:nvPicPr>
        <p:blipFill>
          <a:blip r:embed="rId4"/>
          <a:stretch/>
        </p:blipFill>
        <p:spPr>
          <a:xfrm>
            <a:off x="5797440" y="1808280"/>
            <a:ext cx="3346560" cy="5049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ЗАЩ КОСТ"/>
          <p:cNvPicPr/>
          <p:nvPr/>
        </p:nvPicPr>
        <p:blipFill>
          <a:blip r:embed="rId5"/>
          <a:stretch/>
        </p:blipFill>
        <p:spPr>
          <a:xfrm>
            <a:off x="3368520" y="1484280"/>
            <a:ext cx="2387880" cy="53737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4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17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905280" y="3798720"/>
            <a:ext cx="1523880" cy="3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1332000" y="450864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24000" y="4869000"/>
            <a:ext cx="211140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2495520" y="4869000"/>
            <a:ext cx="211140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г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643280" y="4869000"/>
            <a:ext cx="211140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6827760" y="4878360"/>
            <a:ext cx="211140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825280" y="411948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характеру              исто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1314360" y="44877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3524400" y="44877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5810400" y="44877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8020080" y="44877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4667400" y="4159080"/>
            <a:ext cx="0" cy="32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из важнейших задач Единой государственной системы предупреждения и ликвидации чрезвычайных ситуаций (РСЧС) - ликвидация чрезвычайных ситуаций (Ч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F:\data\images\catalog\6-3(2).jpg"/>
          <p:cNvPicPr/>
          <p:nvPr/>
        </p:nvPicPr>
        <p:blipFill>
          <a:blip r:embed="rId1"/>
          <a:stretch/>
        </p:blipFill>
        <p:spPr>
          <a:xfrm>
            <a:off x="0" y="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F:\data\images\catalog\3-10(10).jpg"/>
          <p:cNvPicPr/>
          <p:nvPr/>
        </p:nvPicPr>
        <p:blipFill>
          <a:blip r:embed="rId2"/>
          <a:stretch/>
        </p:blipFill>
        <p:spPr>
          <a:xfrm>
            <a:off x="3218040" y="0"/>
            <a:ext cx="237636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F:\data\images\catalog\3-10(5).jpg"/>
          <p:cNvPicPr/>
          <p:nvPr/>
        </p:nvPicPr>
        <p:blipFill>
          <a:blip r:embed="rId3"/>
          <a:stretch/>
        </p:blipFill>
        <p:spPr>
          <a:xfrm>
            <a:off x="6335640" y="0"/>
            <a:ext cx="2808360" cy="18464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4">
            <a:hlinkClick r:id="" action="ppaction://hlinkshowjump?jump=nextslide"/>
          </p:cNvPr>
          <p:cNvSpPr/>
          <p:nvPr/>
        </p:nvSpPr>
        <p:spPr>
          <a:xfrm>
            <a:off x="8459640" y="6453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500"/>
                            </p:stCondLst>
                            <p:childTnLst>
                              <p:par>
                                <p:cTn id="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отравляющими (аварийно - химически опасными)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обходимо помнить, что промышленными 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фильтрующими противогазами можно пользоваться только при содержании кислорода в помещениях (загазованной зоне) не менее 18% (по объему) и только при определенном содержании вредных примесей, а также в течение установленного времени.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ведку района заражения ведут с учетом направления ветра, для защиты территории от распространения газов на пути их движения устраивают водяные завесы, которые также осаждают и нейтрализуют вредные вещ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отравляющими (аварийно - химически опасными)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ззараживание (дегазацию) АХОВ осуществляют, большей частью, путем разлива дегазирующих растворов с помощью машин и мех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нкты сбора пострадавших располагают на незараженной местности с наветренной стороны от места разлива АХОВ, что исключает распространение его паров на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лях предотвращения распространения разлива АХОВ устраивают земляные валы или отводные каналы и котлованы для его с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який раз, когда личный состав формирований направляется в очаг поражения (зону заражения), он должен быть тщательно проинструктирован специалистами и врач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1" descr="{49B5361C-2001-4F4D-B5A5-282F881E8251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10"/>
          <p:cNvSpPr/>
          <p:nvPr/>
        </p:nvSpPr>
        <p:spPr>
          <a:xfrm rot="5400000">
            <a:off x="8024040" y="5917680"/>
            <a:ext cx="620640" cy="97128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971280"/>
              <a:gd name="textAreaBottom" fmla="*/ 931320 h 971280"/>
            </a:gdLst>
            <a:ahLst/>
            <a:rect l="textAreaLeft" t="textAreaTop" r="textAreaRight" b="textAreaBottom"/>
            <a:pathLst>
              <a:path w="21600" h="33796">
                <a:moveTo>
                  <a:pt x="0" y="0"/>
                </a:moveTo>
                <a:lnTo>
                  <a:pt x="21600" y="0"/>
                </a:lnTo>
                <a:lnTo>
                  <a:pt x="21600" y="33796"/>
                </a:lnTo>
                <a:lnTo>
                  <a:pt x="0" y="33796"/>
                </a:lnTo>
                <a:close/>
              </a:path>
              <a:path fill="lightenLess" w="21600" h="33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796">
                <a:moveTo>
                  <a:pt x="21600" y="0"/>
                </a:moveTo>
                <a:lnTo>
                  <a:pt x="21600" y="33796"/>
                </a:lnTo>
                <a:lnTo>
                  <a:pt x="20200" y="32396"/>
                </a:lnTo>
                <a:lnTo>
                  <a:pt x="20200" y="1400"/>
                </a:lnTo>
                <a:close/>
              </a:path>
              <a:path fill="darkenLess" w="21600" h="33796">
                <a:moveTo>
                  <a:pt x="21600" y="33796"/>
                </a:moveTo>
                <a:lnTo>
                  <a:pt x="0" y="33796"/>
                </a:lnTo>
                <a:lnTo>
                  <a:pt x="1400" y="32396"/>
                </a:lnTo>
                <a:lnTo>
                  <a:pt x="20200" y="32396"/>
                </a:lnTo>
                <a:close/>
              </a:path>
              <a:path fill="lighten" w="21600" h="33796">
                <a:moveTo>
                  <a:pt x="0" y="33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32396"/>
                </a:lnTo>
                <a:close/>
              </a:path>
              <a:path fill="darken" w="21600" h="33796">
                <a:moveTo>
                  <a:pt x="3794" y="9892"/>
                </a:moveTo>
                <a:lnTo>
                  <a:pt x="17806" y="16898"/>
                </a:lnTo>
                <a:lnTo>
                  <a:pt x="3794" y="23905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2" descr="Копия 06"/>
          <p:cNvPicPr/>
          <p:nvPr/>
        </p:nvPicPr>
        <p:blipFill>
          <a:blip r:embed="rId2"/>
          <a:stretch/>
        </p:blipFill>
        <p:spPr>
          <a:xfrm>
            <a:off x="7093080" y="6318360"/>
            <a:ext cx="5220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1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8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собенности проведения АСДНР при стихийных бедст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6200" y="1052280"/>
            <a:ext cx="820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ts val="22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хождение среди разрушенных зданий и сооружений связано с повышенной опасностью. Толчки, сотрясения грунта способны вызвать дополнительные разрушения. Поэтому перед началом работы требуется тщательная инженерная разведка и всесторонняя оценка обстан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ts val="22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реждения сетей коммунально-энерге-тического хозяйства намного усложняют ведение спасательных и других неотложных работ, создают ряд дополнительных трудностей: затопления, загазованность, опасность пораже-ния электротоко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{89772A55-67C4-4C95-9501-8DC6F7408046}"/>
          <p:cNvPicPr/>
          <p:nvPr/>
        </p:nvPicPr>
        <p:blipFill>
          <a:blip r:embed="rId1"/>
          <a:stretch/>
        </p:blipFill>
        <p:spPr>
          <a:xfrm>
            <a:off x="665280" y="995400"/>
            <a:ext cx="7812000" cy="58626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682200" y="1410840"/>
            <a:ext cx="7777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жде всего, необходимо вести тщательное наблюдение за состоянием и устойчивостью конструкций и крупных элементов завала. При возникновении трещин, просадок и других деформаций необходимо немедленно остановиться и вывести людей из опасной зоны. У проездов и входов на территорию, где ведутся работы, вывешивают знаки и надписи, предупреждающие об 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2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5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62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3" presetSubtype="5">
                                  <p:stCondLst>
                                    <p:cond delay="1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8929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ми техники безопасности запрещается разбирать конструкционные элементы здания одновременно в нескольких ярусах. Работая, надо следить, чтобы внезапно не обрушилась другая часть зд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аиболее надежным местом для защиты служат балки перекрытий. Здесь целесообразнее всего размещать подъемные механизмы и люде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рпичные своды больших проемов необходимо разбирать вручную от верха к опорам свод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F:\data\images\catalog\3-4(3).jpg"/>
          <p:cNvPicPr/>
          <p:nvPr/>
        </p:nvPicPr>
        <p:blipFill>
          <a:blip r:embed="rId1"/>
          <a:stretch/>
        </p:blipFill>
        <p:spPr>
          <a:xfrm>
            <a:off x="2365200" y="1052640"/>
            <a:ext cx="4413600" cy="58053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923040" y="141120"/>
            <a:ext cx="7450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Особенности проведения АСДНР пр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стихийных бедств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4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8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3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7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21840" y="1014480"/>
            <a:ext cx="8497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устойчивые конструкции поврежденных зданий укрепляют или обрушают. Например, кирпичную стену, отклонившуюся от вертикали более чем на одну треть ее толщины, крепят стойками, подкосами, растяжками, а также при помощи простейших приемов с использованием подсобны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ушение неустойчивых, грозящих обвалом элементов зданий выполняют тремя основными способ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ктором или лебед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 - бабой, подвешенной к крану или экскаватор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ым взры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прещается перемещать в завале экскаватор с наполненным ковшом, кран с поднятым гру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допустимо нахождение людей вблизи натянутых т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собенности проведения АСДНР при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ихийных бедст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afterEffect" fill="hold" presetClass="entr" presetID="16" presetSubtype="4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6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8" nodeType="after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0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ременное крепление конструкций, угрожающих обва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25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4"/>
          <p:cNvGrpSpPr/>
          <p:nvPr/>
        </p:nvGrpSpPr>
        <p:grpSpPr>
          <a:xfrm>
            <a:off x="468360" y="1268280"/>
            <a:ext cx="6084000" cy="5329080"/>
            <a:chOff x="468360" y="1268280"/>
            <a:chExt cx="6084000" cy="5329080"/>
          </a:xfrm>
        </p:grpSpPr>
        <p:pic>
          <p:nvPicPr>
            <p:cNvPr id="343" name="Picture 4" descr="односторонняя растяжка и подкос"/>
            <p:cNvPicPr/>
            <p:nvPr/>
          </p:nvPicPr>
          <p:blipFill>
            <a:blip r:embed="rId1"/>
            <a:stretch/>
          </p:blipFill>
          <p:spPr>
            <a:xfrm>
              <a:off x="468360" y="1268280"/>
              <a:ext cx="608400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68360" y="1523880"/>
              <a:ext cx="59641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дносторонняя растяжка и подк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5"/>
          <p:cNvGrpSpPr/>
          <p:nvPr/>
        </p:nvGrpSpPr>
        <p:grpSpPr>
          <a:xfrm>
            <a:off x="2287440" y="1268280"/>
            <a:ext cx="4566960" cy="5329080"/>
            <a:chOff x="2287440" y="1268280"/>
            <a:chExt cx="4566960" cy="5329080"/>
          </a:xfrm>
        </p:grpSpPr>
        <p:pic>
          <p:nvPicPr>
            <p:cNvPr id="346" name="Picture 6" descr="5-2"/>
            <p:cNvPicPr/>
            <p:nvPr/>
          </p:nvPicPr>
          <p:blipFill>
            <a:blip r:embed="rId2"/>
            <a:stretch/>
          </p:blipFill>
          <p:spPr>
            <a:xfrm>
              <a:off x="2287440" y="1268280"/>
              <a:ext cx="456696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8"/>
            <p:cNvSpPr/>
            <p:nvPr/>
          </p:nvSpPr>
          <p:spPr>
            <a:xfrm>
              <a:off x="2454120" y="1536480"/>
              <a:ext cx="412956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дносторонний подк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6"/>
          <p:cNvGrpSpPr/>
          <p:nvPr/>
        </p:nvGrpSpPr>
        <p:grpSpPr>
          <a:xfrm>
            <a:off x="2843280" y="1268280"/>
            <a:ext cx="5940000" cy="5329080"/>
            <a:chOff x="2843280" y="1268280"/>
            <a:chExt cx="5940000" cy="5329080"/>
          </a:xfrm>
        </p:grpSpPr>
        <p:pic>
          <p:nvPicPr>
            <p:cNvPr id="349" name="Picture 5" descr="растяжка с 2 сторон"/>
            <p:cNvPicPr/>
            <p:nvPr/>
          </p:nvPicPr>
          <p:blipFill>
            <a:blip r:embed="rId3"/>
            <a:stretch/>
          </p:blipFill>
          <p:spPr>
            <a:xfrm>
              <a:off x="2843280" y="1268280"/>
              <a:ext cx="594000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9"/>
            <p:cNvSpPr/>
            <p:nvPr/>
          </p:nvSpPr>
          <p:spPr>
            <a:xfrm>
              <a:off x="3381840" y="1289520"/>
              <a:ext cx="476964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Растяжки с двух сторо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AutoShape 17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6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4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8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брушение конструкций, угрожающих обва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432440" y="1916280"/>
            <a:ext cx="6307200" cy="970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исающие над завалом констру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ов перекрытий (балки, плиты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низы, балконные фермы и строп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951200" y="5516640"/>
            <a:ext cx="5241600" cy="678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 конструкции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гут обрушить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со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476360" y="4363920"/>
            <a:ext cx="6264360" cy="970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ны или отдельные участки стен, имеющие отклонение от вертикали более 1/3 толщины с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1476360" y="3213000"/>
            <a:ext cx="6264360" cy="970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жёлые элементы внутренн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женерного и технолог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я з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2124000" y="1125360"/>
            <a:ext cx="4753080" cy="52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брушению подлеж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6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0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4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8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459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ьезную опасность для пострадавших представляют пожары в завалах, особенно тлеющие. Они сопровождаются выделением окиси углерода (угарного газа), содержание которого в воздухе даже в незначительных количествах создает реальную угрозу для человек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68360" y="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собенности проведения АСДН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и стихийных бедст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F:\data\images\catalog\0-1(8)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250920" y="1374840"/>
            <a:ext cx="86421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разборке завала над пострадавшими необходимо строго соблюдать меры безопасности, так как в случае неустойчивости завала и нарушения взаимосвязи между поврежденными и обрушившимися конструкциями не исключено самопроизвольное перемещение отдельных элементов и осадка всей массы завала, что грозит опасностью, как спасателям, так и пострадавшим (находящимся в завале). В связи с этим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недопустимы резкие рывки при извлечении из завала крупных элементов, их расшатывание и сильные уда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0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собенности проведения АСДНР при стихийных бедст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7280" y="112500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обождая людей из-под завалов или отдельных обломков, не следует сдвигать элементы завала (обломки, плиты, балки), чтобы не нанести пострадавшим дополнительных травм. В первую очередь необходимо освободить голову и верхнюю часть туловища. После их извлечения, а если позволит обстановка, то и до извлечения, пораженному оказывают первую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спасения людей, находящихся под обломками зданий, необходимо устраивать узкие проходы - галереи, штреки в самом завале, а не разбирать его свер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3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для провер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80629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йте определение аварийно-спасатель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ходит в перечень аварийно-спасательных работ в очагах по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йте определение других неотлож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ходит в перечень других неотложных работ в очагах по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а технология  проведения  поисково-спасатель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числите особенности проведения АСДНР на территории, зараженной (загрязненной) отравляющими (аварийно - химически опасными) веще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размещают применяемые при разборке завалов машины и механизмы?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1619280" y="5661000"/>
            <a:ext cx="6769080" cy="1197000"/>
          </a:xfrm>
          <a:prstGeom prst="rightArrow">
            <a:avLst>
              <a:gd name="adj1" fmla="val 50000"/>
              <a:gd name="adj2" fmla="val 14137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04-do"/>
          <p:cNvPicPr/>
          <p:nvPr/>
        </p:nvPicPr>
        <p:blipFill>
          <a:blip r:embed="rId3"/>
          <a:stretch/>
        </p:blipFill>
        <p:spPr>
          <a:xfrm>
            <a:off x="1116000" y="5516640"/>
            <a:ext cx="844560" cy="112392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6"/>
          <p:cNvSpPr/>
          <p:nvPr/>
        </p:nvSpPr>
        <p:spPr>
          <a:xfrm>
            <a:off x="212400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28432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428472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>
            <a:off x="5003640" y="6021360"/>
            <a:ext cx="648000" cy="620640"/>
          </a:xfrm>
          <a:custGeom>
            <a:avLst/>
            <a:gdLst>
              <a:gd name="textAreaLeft" fmla="*/ 39960 w 648000"/>
              <a:gd name="textAreaRight" fmla="*/ 608040 w 64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52" h="21600">
                <a:moveTo>
                  <a:pt x="0" y="0"/>
                </a:moveTo>
                <a:lnTo>
                  <a:pt x="22552" y="0"/>
                </a:lnTo>
                <a:lnTo>
                  <a:pt x="22552" y="21600"/>
                </a:lnTo>
                <a:lnTo>
                  <a:pt x="0" y="21600"/>
                </a:lnTo>
                <a:close/>
              </a:path>
              <a:path fill="lightenLess" w="22552" h="21600">
                <a:moveTo>
                  <a:pt x="0" y="0"/>
                </a:moveTo>
                <a:lnTo>
                  <a:pt x="22552" y="0"/>
                </a:lnTo>
                <a:lnTo>
                  <a:pt x="21152" y="1400"/>
                </a:lnTo>
                <a:lnTo>
                  <a:pt x="1400" y="1400"/>
                </a:lnTo>
                <a:close/>
              </a:path>
              <a:path fill="darken" w="22552" h="21600">
                <a:moveTo>
                  <a:pt x="22552" y="0"/>
                </a:moveTo>
                <a:lnTo>
                  <a:pt x="22552" y="21600"/>
                </a:lnTo>
                <a:lnTo>
                  <a:pt x="21152" y="20200"/>
                </a:lnTo>
                <a:lnTo>
                  <a:pt x="21152" y="1400"/>
                </a:lnTo>
                <a:close/>
              </a:path>
              <a:path fill="darkenLess" w="22552" h="21600">
                <a:moveTo>
                  <a:pt x="2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2" y="20200"/>
                </a:lnTo>
                <a:close/>
              </a:path>
              <a:path fill="lighten" w="2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52" h="21600">
                <a:moveTo>
                  <a:pt x="1127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52" h="21600">
                <a:moveTo>
                  <a:pt x="1127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52" h="21600">
                <a:moveTo>
                  <a:pt x="8700" y="8224"/>
                </a:moveTo>
                <a:lnTo>
                  <a:pt x="12564" y="8224"/>
                </a:lnTo>
                <a:lnTo>
                  <a:pt x="12564" y="15221"/>
                </a:lnTo>
                <a:lnTo>
                  <a:pt x="13852" y="15221"/>
                </a:lnTo>
                <a:lnTo>
                  <a:pt x="13852" y="16144"/>
                </a:lnTo>
                <a:lnTo>
                  <a:pt x="8700" y="16144"/>
                </a:lnTo>
                <a:lnTo>
                  <a:pt x="8700" y="15221"/>
                </a:lnTo>
                <a:lnTo>
                  <a:pt x="9988" y="15221"/>
                </a:lnTo>
                <a:lnTo>
                  <a:pt x="9988" y="9129"/>
                </a:lnTo>
                <a:lnTo>
                  <a:pt x="8700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644364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1"/>
          <p:cNvSpPr/>
          <p:nvPr/>
        </p:nvSpPr>
        <p:spPr>
          <a:xfrm>
            <a:off x="5724360" y="6021360"/>
            <a:ext cx="648000" cy="620640"/>
          </a:xfrm>
          <a:custGeom>
            <a:avLst/>
            <a:gdLst>
              <a:gd name="textAreaLeft" fmla="*/ 39960 w 648000"/>
              <a:gd name="textAreaRight" fmla="*/ 608040 w 64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52" h="21600">
                <a:moveTo>
                  <a:pt x="0" y="0"/>
                </a:moveTo>
                <a:lnTo>
                  <a:pt x="22552" y="0"/>
                </a:lnTo>
                <a:lnTo>
                  <a:pt x="22552" y="21600"/>
                </a:lnTo>
                <a:lnTo>
                  <a:pt x="0" y="21600"/>
                </a:lnTo>
                <a:close/>
              </a:path>
              <a:path fill="lightenLess" w="22552" h="21600">
                <a:moveTo>
                  <a:pt x="0" y="0"/>
                </a:moveTo>
                <a:lnTo>
                  <a:pt x="22552" y="0"/>
                </a:lnTo>
                <a:lnTo>
                  <a:pt x="21152" y="1400"/>
                </a:lnTo>
                <a:lnTo>
                  <a:pt x="1400" y="1400"/>
                </a:lnTo>
                <a:close/>
              </a:path>
              <a:path fill="darken" w="22552" h="21600">
                <a:moveTo>
                  <a:pt x="22552" y="0"/>
                </a:moveTo>
                <a:lnTo>
                  <a:pt x="22552" y="21600"/>
                </a:lnTo>
                <a:lnTo>
                  <a:pt x="21152" y="20200"/>
                </a:lnTo>
                <a:lnTo>
                  <a:pt x="21152" y="1400"/>
                </a:lnTo>
                <a:close/>
              </a:path>
              <a:path fill="darkenLess" w="22552" h="21600">
                <a:moveTo>
                  <a:pt x="2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2" y="20200"/>
                </a:lnTo>
                <a:close/>
              </a:path>
              <a:path fill="lighten" w="2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52" h="21600">
                <a:moveTo>
                  <a:pt x="1127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52" h="21600">
                <a:moveTo>
                  <a:pt x="1127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52" h="21600">
                <a:moveTo>
                  <a:pt x="8700" y="8224"/>
                </a:moveTo>
                <a:lnTo>
                  <a:pt x="12564" y="8224"/>
                </a:lnTo>
                <a:lnTo>
                  <a:pt x="12564" y="15221"/>
                </a:lnTo>
                <a:lnTo>
                  <a:pt x="13852" y="15221"/>
                </a:lnTo>
                <a:lnTo>
                  <a:pt x="13852" y="16144"/>
                </a:lnTo>
                <a:lnTo>
                  <a:pt x="8700" y="16144"/>
                </a:lnTo>
                <a:lnTo>
                  <a:pt x="8700" y="15221"/>
                </a:lnTo>
                <a:lnTo>
                  <a:pt x="9988" y="15221"/>
                </a:lnTo>
                <a:lnTo>
                  <a:pt x="9988" y="9129"/>
                </a:lnTo>
                <a:lnTo>
                  <a:pt x="8700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356400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F:\data\images\catalog\4-4(2).jpg"/>
          <p:cNvPicPr/>
          <p:nvPr/>
        </p:nvPicPr>
        <p:blipFill>
          <a:blip r:embed="rId1"/>
          <a:stretch/>
        </p:blipFill>
        <p:spPr>
          <a:xfrm>
            <a:off x="6012000" y="189000"/>
            <a:ext cx="2906640" cy="43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F:\data\images\catalog\3-8(4).jpg"/>
          <p:cNvPicPr/>
          <p:nvPr/>
        </p:nvPicPr>
        <p:blipFill>
          <a:blip r:embed="rId2"/>
          <a:stretch/>
        </p:blipFill>
        <p:spPr>
          <a:xfrm>
            <a:off x="2627280" y="189000"/>
            <a:ext cx="3529080" cy="2361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2637000"/>
            <a:ext cx="594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200" spc="-1" strike="noStrike" u="sng">
                <a:solidFill>
                  <a:srgbClr val="ff3300"/>
                </a:solidFill>
                <a:uFillTx/>
                <a:latin typeface="Arial"/>
              </a:rPr>
              <a:t>Чрезвычайная ситуаци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- это обстановка на определенной территории, сложившаяся в результате аварии, опасного природного явления, катастрофы, стихийного или иного бедствия, которые могут повлечь или повлекли за собой человеческие жертвы, ущерб здоровью людей или окружающей природной среде, значительные материальные потери и нарушение условий жизнедеятельности люд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F:\data\images\catalog\0-1(3).jpg"/>
          <p:cNvPicPr/>
          <p:nvPr/>
        </p:nvPicPr>
        <p:blipFill>
          <a:blip r:embed="rId3"/>
          <a:stretch/>
        </p:blipFill>
        <p:spPr>
          <a:xfrm>
            <a:off x="179280" y="18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:\data\images\catalog\0-1(5).jpg"/>
          <p:cNvPicPr/>
          <p:nvPr/>
        </p:nvPicPr>
        <p:blipFill>
          <a:blip r:embed="rId4"/>
          <a:stretch/>
        </p:blipFill>
        <p:spPr>
          <a:xfrm>
            <a:off x="6156360" y="4724280"/>
            <a:ext cx="2692440" cy="20196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>
            <a:hlinkClick r:id="" action="ppaction://hlinkshowjump?jump=nextslide"/>
          </p:cNvPr>
          <p:cNvSpPr/>
          <p:nvPr/>
        </p:nvSpPr>
        <p:spPr>
          <a:xfrm>
            <a:off x="550872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20475" y="10800"/>
                </a:lnTo>
                <a:lnTo>
                  <a:pt x="646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80629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З «О защите населения и территорий от чрезвычайных ситуаций природного и техногенного характера». Принят ГД   11 ноября 1994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З «О гражданской обороне »,  Принят ГД 26 декабря 199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30 декабря 2003 г. N 794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ложение о единой государственной системе предупреждения и ликвидации ЧС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10 июня 1999 г. N 62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Положение о гражданских организациях гражданской оборо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ложение о войсках гражданской обороны РФ» в ред. Указа Президента РФ от 05.08.2002 N 84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ложение о Министерстве РФ по делам гражданской обороны, чрезвычайным ситуациям и ликвидации последствий стихийных бедствий», в ред. Указа Президента РФ от 05.08.2002 N 846 от 11 июля 200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разработки по темам программы обучения л/с формирований ГО, ПСТ, 2002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mercom.gov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o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8"/>
          <p:cNvGrpSpPr/>
          <p:nvPr/>
        </p:nvGrpSpPr>
        <p:grpSpPr>
          <a:xfrm>
            <a:off x="5938920" y="5805360"/>
            <a:ext cx="3205080" cy="863640"/>
            <a:chOff x="5938920" y="5805360"/>
            <a:chExt cx="3205080" cy="863640"/>
          </a:xfrm>
        </p:grpSpPr>
        <p:sp>
          <p:nvSpPr>
            <p:cNvPr id="381" name="AutoShape 5"/>
            <p:cNvSpPr/>
            <p:nvPr/>
          </p:nvSpPr>
          <p:spPr>
            <a:xfrm>
              <a:off x="5938920" y="5805360"/>
              <a:ext cx="2449440" cy="647640"/>
            </a:xfrm>
            <a:custGeom>
              <a:avLst/>
              <a:gdLst>
                <a:gd name="textAreaLeft" fmla="*/ 41760 w 2449440"/>
                <a:gd name="textAreaRight" fmla="*/ 2407680 w 24494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81660" h="21600">
                  <a:moveTo>
                    <a:pt x="0" y="0"/>
                  </a:moveTo>
                  <a:lnTo>
                    <a:pt x="81660" y="0"/>
                  </a:lnTo>
                  <a:lnTo>
                    <a:pt x="81660" y="21600"/>
                  </a:lnTo>
                  <a:lnTo>
                    <a:pt x="0" y="21600"/>
                  </a:lnTo>
                  <a:close/>
                </a:path>
                <a:path fill="lightenLess" w="81660" h="21600">
                  <a:moveTo>
                    <a:pt x="0" y="0"/>
                  </a:moveTo>
                  <a:lnTo>
                    <a:pt x="81660" y="0"/>
                  </a:lnTo>
                  <a:lnTo>
                    <a:pt x="80260" y="1400"/>
                  </a:lnTo>
                  <a:lnTo>
                    <a:pt x="1400" y="1400"/>
                  </a:lnTo>
                  <a:close/>
                </a:path>
                <a:path fill="darken" w="81660" h="21600">
                  <a:moveTo>
                    <a:pt x="81660" y="0"/>
                  </a:moveTo>
                  <a:lnTo>
                    <a:pt x="81660" y="21600"/>
                  </a:lnTo>
                  <a:lnTo>
                    <a:pt x="80260" y="20200"/>
                  </a:lnTo>
                  <a:lnTo>
                    <a:pt x="80260" y="1400"/>
                  </a:lnTo>
                  <a:close/>
                </a:path>
                <a:path fill="darkenLess" w="81660" h="21600">
                  <a:moveTo>
                    <a:pt x="816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0260" y="20200"/>
                  </a:lnTo>
                  <a:close/>
                </a:path>
                <a:path fill="lighten" w="816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33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00"/>
                  </a:solidFill>
                  <a:latin typeface="Arial"/>
                </a:rPr>
                <a:t>глоссари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6"/>
            <p:cNvSpPr/>
            <p:nvPr/>
          </p:nvSpPr>
          <p:spPr>
            <a:xfrm>
              <a:off x="5938920" y="6381720"/>
              <a:ext cx="3205080" cy="287280"/>
            </a:xfrm>
            <a:custGeom>
              <a:avLst/>
              <a:gdLst>
                <a:gd name="textAreaLeft" fmla="*/ 500040 w 3205080"/>
                <a:gd name="textAreaRight" fmla="*/ 2805120 w 3205080"/>
                <a:gd name="textAreaTop" fmla="*/ 71280 h 287280"/>
                <a:gd name="textAreaBottom" fmla="*/ 2160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3399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8560" y="1268280"/>
            <a:ext cx="8785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Тема: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Организация аварийно-спасательных и других неотложных работ в зонах чрезвычайных ситуаций (АСДНР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116000" y="4076640"/>
            <a:ext cx="719136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и отравляющими (аварийно - химически опасными) веществами, а также при стихийных бедст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0"/>
          <p:cNvGrpSpPr/>
          <p:nvPr/>
        </p:nvGrpSpPr>
        <p:grpSpPr>
          <a:xfrm>
            <a:off x="7669440" y="5589720"/>
            <a:ext cx="1294920" cy="912600"/>
            <a:chOff x="7669440" y="5589720"/>
            <a:chExt cx="1294920" cy="912600"/>
          </a:xfrm>
        </p:grpSpPr>
        <p:sp>
          <p:nvSpPr>
            <p:cNvPr id="386" name="AutoShape 5"/>
            <p:cNvSpPr/>
            <p:nvPr/>
          </p:nvSpPr>
          <p:spPr>
            <a:xfrm>
              <a:off x="7709040" y="5589720"/>
              <a:ext cx="1184040" cy="912600"/>
            </a:xfrm>
            <a:custGeom>
              <a:avLst/>
              <a:gdLst>
                <a:gd name="textAreaLeft" fmla="*/ 59040 w 1184040"/>
                <a:gd name="textAreaRight" fmla="*/ 1125000 w 1184040"/>
                <a:gd name="textAreaTop" fmla="*/ 59040 h 912600"/>
                <a:gd name="textAreaBottom" fmla="*/ 853560 h 912600"/>
              </a:gdLst>
              <a:ahLst/>
              <a:rect l="textAreaLeft" t="textAreaTop" r="textAreaRight" b="textAreaBottom"/>
              <a:pathLst>
                <a:path w="28022" h="21600">
                  <a:moveTo>
                    <a:pt x="0" y="0"/>
                  </a:moveTo>
                  <a:lnTo>
                    <a:pt x="28022" y="0"/>
                  </a:lnTo>
                  <a:lnTo>
                    <a:pt x="28022" y="21600"/>
                  </a:lnTo>
                  <a:lnTo>
                    <a:pt x="0" y="21600"/>
                  </a:lnTo>
                  <a:close/>
                </a:path>
                <a:path fill="lightenLess" w="28022" h="21600">
                  <a:moveTo>
                    <a:pt x="0" y="0"/>
                  </a:moveTo>
                  <a:lnTo>
                    <a:pt x="28022" y="0"/>
                  </a:lnTo>
                  <a:lnTo>
                    <a:pt x="26622" y="1400"/>
                  </a:lnTo>
                  <a:lnTo>
                    <a:pt x="1400" y="1400"/>
                  </a:lnTo>
                  <a:close/>
                </a:path>
                <a:path fill="darken" w="28022" h="21600">
                  <a:moveTo>
                    <a:pt x="28022" y="0"/>
                  </a:moveTo>
                  <a:lnTo>
                    <a:pt x="28022" y="21600"/>
                  </a:lnTo>
                  <a:lnTo>
                    <a:pt x="26622" y="20200"/>
                  </a:lnTo>
                  <a:lnTo>
                    <a:pt x="26622" y="1400"/>
                  </a:lnTo>
                  <a:close/>
                </a:path>
                <a:path fill="darkenLess" w="28022" h="21600">
                  <a:moveTo>
                    <a:pt x="280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622" y="20200"/>
                  </a:lnTo>
                  <a:close/>
                </a:path>
                <a:path fill="lighten" w="280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022" h="21600">
                  <a:moveTo>
                    <a:pt x="14011" y="3837"/>
                  </a:moveTo>
                  <a:lnTo>
                    <a:pt x="16587" y="6448"/>
                  </a:lnTo>
                  <a:lnTo>
                    <a:pt x="16587" y="4707"/>
                  </a:lnTo>
                  <a:lnTo>
                    <a:pt x="18363" y="4707"/>
                  </a:lnTo>
                  <a:lnTo>
                    <a:pt x="18363" y="8224"/>
                  </a:lnTo>
                  <a:lnTo>
                    <a:pt x="20974" y="10800"/>
                  </a:lnTo>
                  <a:lnTo>
                    <a:pt x="19320" y="10800"/>
                  </a:lnTo>
                  <a:lnTo>
                    <a:pt x="19320" y="17989"/>
                  </a:lnTo>
                  <a:lnTo>
                    <a:pt x="8702" y="17989"/>
                  </a:lnTo>
                  <a:lnTo>
                    <a:pt x="8702" y="10800"/>
                  </a:lnTo>
                  <a:lnTo>
                    <a:pt x="7048" y="10800"/>
                  </a:lnTo>
                  <a:close/>
                </a:path>
                <a:path fill="darkenLess" w="28022" h="21600">
                  <a:moveTo>
                    <a:pt x="16587" y="6448"/>
                  </a:moveTo>
                  <a:lnTo>
                    <a:pt x="16587" y="4707"/>
                  </a:lnTo>
                  <a:lnTo>
                    <a:pt x="18363" y="4707"/>
                  </a:lnTo>
                  <a:lnTo>
                    <a:pt x="18363" y="8224"/>
                  </a:lnTo>
                  <a:close/>
                </a:path>
                <a:path fill="darkenLess" w="28022" h="21600">
                  <a:moveTo>
                    <a:pt x="13088" y="14299"/>
                  </a:moveTo>
                  <a:lnTo>
                    <a:pt x="14934" y="14299"/>
                  </a:lnTo>
                  <a:lnTo>
                    <a:pt x="14934" y="17989"/>
                  </a:lnTo>
                  <a:lnTo>
                    <a:pt x="19320" y="17989"/>
                  </a:lnTo>
                  <a:lnTo>
                    <a:pt x="19320" y="10800"/>
                  </a:lnTo>
                  <a:lnTo>
                    <a:pt x="8702" y="10800"/>
                  </a:lnTo>
                  <a:lnTo>
                    <a:pt x="8702" y="17989"/>
                  </a:lnTo>
                  <a:lnTo>
                    <a:pt x="13088" y="17989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66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"/>
            <p:cNvSpPr/>
            <p:nvPr/>
          </p:nvSpPr>
          <p:spPr>
            <a:xfrm>
              <a:off x="7669440" y="602136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Раздел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AutoShape 9">
            <a:hlinkClick r:id="" action="ppaction://hlinkshowjump?jump=endshow"/>
          </p:cNvPr>
          <p:cNvSpPr/>
          <p:nvPr/>
        </p:nvSpPr>
        <p:spPr>
          <a:xfrm>
            <a:off x="5796000" y="5805360"/>
            <a:ext cx="1332000" cy="576360"/>
          </a:xfrm>
          <a:custGeom>
            <a:avLst/>
            <a:gdLst>
              <a:gd name="textAreaLeft" fmla="*/ 37080 w 1332000"/>
              <a:gd name="textAreaRight" fmla="*/ 1294920 w 13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9901" h="21600">
                <a:moveTo>
                  <a:pt x="0" y="0"/>
                </a:moveTo>
                <a:lnTo>
                  <a:pt x="49901" y="0"/>
                </a:lnTo>
                <a:lnTo>
                  <a:pt x="49901" y="21600"/>
                </a:lnTo>
                <a:lnTo>
                  <a:pt x="0" y="21600"/>
                </a:lnTo>
                <a:close/>
              </a:path>
              <a:path fill="lightenLess" w="49901" h="21600">
                <a:moveTo>
                  <a:pt x="0" y="0"/>
                </a:moveTo>
                <a:lnTo>
                  <a:pt x="49901" y="0"/>
                </a:lnTo>
                <a:lnTo>
                  <a:pt x="48501" y="1400"/>
                </a:lnTo>
                <a:lnTo>
                  <a:pt x="1400" y="1400"/>
                </a:lnTo>
                <a:close/>
              </a:path>
              <a:path fill="darken" w="49901" h="21600">
                <a:moveTo>
                  <a:pt x="49901" y="0"/>
                </a:moveTo>
                <a:lnTo>
                  <a:pt x="49901" y="21600"/>
                </a:lnTo>
                <a:lnTo>
                  <a:pt x="48501" y="20200"/>
                </a:lnTo>
                <a:lnTo>
                  <a:pt x="48501" y="1400"/>
                </a:lnTo>
                <a:close/>
              </a:path>
              <a:path fill="darkenLess" w="49901" h="21600">
                <a:moveTo>
                  <a:pt x="4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01" y="20200"/>
                </a:lnTo>
                <a:close/>
              </a:path>
              <a:path fill="lighten" w="4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0099cc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иболее характерные последствия Ч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76320" y="1752480"/>
            <a:ext cx="2192040" cy="83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оакти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ряз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2971800" y="1752480"/>
            <a:ext cx="6095880" cy="83844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следствие аварий на радиационно опасных объект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аварий транспортных средств с ядерными энерге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ческими установками или перевозящими радиоакти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76320" y="762120"/>
            <a:ext cx="2192040" cy="8380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2209680" y="9907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971800" y="762120"/>
            <a:ext cx="6095880" cy="8380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зникающие при землетрясениях, взрывах, пож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оизводственных авариях, ураганах, смерч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бвалах, с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76320" y="2743200"/>
            <a:ext cx="2192040" cy="8380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им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2209680" y="297180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971800" y="2666880"/>
            <a:ext cx="6095880" cy="990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результате аварий на химически опасных объект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водящих к разрушению емкостей и технолог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оммуникаций, содержащих АХОВ, а также авар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 транспорте, перевозящем указан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76320" y="3733920"/>
            <a:ext cx="2192040" cy="8380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ж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2209680" y="39625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2971800" y="3733920"/>
            <a:ext cx="6095880" cy="8380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являющиеся следствием природных явлений, авар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есоблюдения правил пожар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76320" y="4724280"/>
            <a:ext cx="2192040" cy="83844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о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2209680" y="49528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2971800" y="4724280"/>
            <a:ext cx="6095880" cy="83844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зникающие при наводнениях, разруше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дротехнических сооружениях, цунами, селя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ругих природных я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1"/>
          <p:cNvSpPr/>
          <p:nvPr/>
        </p:nvSpPr>
        <p:spPr>
          <a:xfrm>
            <a:off x="76320" y="5715000"/>
            <a:ext cx="2192040" cy="10666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м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зоот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фито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2209680" y="60199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2971800" y="5791320"/>
            <a:ext cx="6095880" cy="9144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массовые заболевания лю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ельскохозяйственных животных и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2209680" y="19810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4">
            <a:hlinkClick r:id="" action="ppaction://hlinkshowjump?jump=nextslide"/>
          </p:cNvPr>
          <p:cNvSpPr/>
          <p:nvPr/>
        </p:nvSpPr>
        <p:spPr>
          <a:xfrm>
            <a:off x="2411280" y="6453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2000" y="1628640"/>
            <a:ext cx="8637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Аварийно-спасательные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действия по спасению людей, материальных и культурных ценностей, защите природной среды в зоне ЧС, локализации ЧС, подавлению или доведению до минимально возможного уровня воздействия характерных для них опасны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арийно-спасательные работы характеризуются наличием факторов, угрожающих жизни и здоровью проводящих эти работы людей, и требуют специальной подготовки, экипировки и осна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озыск и деблокирование пострадавших, оказание им первой медицинской помощи и эвакуация из опасной з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33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ВАРИЙНО-СПАСАТЕЛЬНЫЕ И ДРУГИЕ НЕОТЛОЖНЫЕ РАБОТЫ В ОЧАГАХ ПО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7164360" y="6021360"/>
            <a:ext cx="1152720" cy="620640"/>
          </a:xfrm>
          <a:custGeom>
            <a:avLst/>
            <a:gdLst>
              <a:gd name="textAreaLeft" fmla="*/ 39960 w 1152720"/>
              <a:gd name="textAreaRight" fmla="*/ 1112760 w 1152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0107" h="21600">
                <a:moveTo>
                  <a:pt x="0" y="0"/>
                </a:moveTo>
                <a:lnTo>
                  <a:pt x="40107" y="0"/>
                </a:lnTo>
                <a:lnTo>
                  <a:pt x="40107" y="21600"/>
                </a:lnTo>
                <a:lnTo>
                  <a:pt x="0" y="21600"/>
                </a:lnTo>
                <a:close/>
              </a:path>
              <a:path fill="lightenLess" w="40107" h="21600">
                <a:moveTo>
                  <a:pt x="0" y="0"/>
                </a:moveTo>
                <a:lnTo>
                  <a:pt x="40107" y="0"/>
                </a:lnTo>
                <a:lnTo>
                  <a:pt x="38707" y="1400"/>
                </a:lnTo>
                <a:lnTo>
                  <a:pt x="1400" y="1400"/>
                </a:lnTo>
                <a:close/>
              </a:path>
              <a:path fill="darken" w="40107" h="21600">
                <a:moveTo>
                  <a:pt x="40107" y="0"/>
                </a:moveTo>
                <a:lnTo>
                  <a:pt x="40107" y="21600"/>
                </a:lnTo>
                <a:lnTo>
                  <a:pt x="38707" y="20200"/>
                </a:lnTo>
                <a:lnTo>
                  <a:pt x="38707" y="1400"/>
                </a:lnTo>
                <a:close/>
              </a:path>
              <a:path fill="darkenLess" w="40107" h="21600">
                <a:moveTo>
                  <a:pt x="40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7" y="20200"/>
                </a:lnTo>
                <a:close/>
              </a:path>
              <a:path fill="lighten" w="40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7" h="21600">
                <a:moveTo>
                  <a:pt x="13047" y="7301"/>
                </a:moveTo>
                <a:lnTo>
                  <a:pt x="13961" y="7301"/>
                </a:lnTo>
                <a:lnTo>
                  <a:pt x="14344" y="7667"/>
                </a:lnTo>
                <a:lnTo>
                  <a:pt x="23552" y="7667"/>
                </a:lnTo>
                <a:lnTo>
                  <a:pt x="24109" y="8224"/>
                </a:lnTo>
                <a:lnTo>
                  <a:pt x="24109" y="8772"/>
                </a:lnTo>
                <a:lnTo>
                  <a:pt x="25955" y="8772"/>
                </a:lnTo>
                <a:lnTo>
                  <a:pt x="26320" y="8224"/>
                </a:lnTo>
                <a:lnTo>
                  <a:pt x="27060" y="8224"/>
                </a:lnTo>
                <a:lnTo>
                  <a:pt x="27060" y="13376"/>
                </a:lnTo>
                <a:lnTo>
                  <a:pt x="26320" y="13376"/>
                </a:lnTo>
                <a:lnTo>
                  <a:pt x="25955" y="12828"/>
                </a:lnTo>
                <a:lnTo>
                  <a:pt x="24109" y="12828"/>
                </a:lnTo>
                <a:lnTo>
                  <a:pt x="24109" y="14107"/>
                </a:lnTo>
                <a:lnTo>
                  <a:pt x="14527" y="14107"/>
                </a:lnTo>
                <a:lnTo>
                  <a:pt x="14527" y="9877"/>
                </a:lnTo>
                <a:lnTo>
                  <a:pt x="14344" y="9877"/>
                </a:lnTo>
                <a:lnTo>
                  <a:pt x="13961" y="10243"/>
                </a:lnTo>
                <a:lnTo>
                  <a:pt x="13047" y="1024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Копия 0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6021360"/>
            <a:ext cx="522360" cy="539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5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3794"/>
                </a:moveTo>
                <a:lnTo>
                  <a:pt x="20473" y="10800"/>
                </a:lnTo>
                <a:lnTo>
                  <a:pt x="64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варийно-спасательные работы в очагах поражения включ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дку маршрутов движения и участков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изацию и тушение пожаров на маршрутах движения и участка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авление или доведение до минимально возможного уровня возникших в результате ЧС вредных и опасных факторов, препятствующих ведению спасательн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ыск пораженных и извлечение их из поврежденных и горящих зданий, загазованных, затопленных и задымленных помещений, зава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крытие разрушенных, поврежденных и заваленных ЗС и спасение находящихся в них люд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ачу воздуха в заваленные ЗС с поврежденной фильтровентиляционной сис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первой медицинской и врачебной помощи пострадавшим и эвакуацию их в лечебные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з (вывод) населения из опасных мест в безопасные рай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итарную обработку людей, ветеринарную обработку с/х животных, дезактивацию и дегазацию техники, средств защиты и одежды, обеззараживание территорий и сооружений, продовольствия, вод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Копия 0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6165720"/>
            <a:ext cx="522360" cy="540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-165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6237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9640" y="2781360"/>
            <a:ext cx="7921800" cy="9349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Основные виды обесп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аварийно-спасатель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762200" y="2349360"/>
            <a:ext cx="5616360" cy="43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 а з в е д к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260280"/>
            <a:ext cx="287964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5280" y="1268280"/>
            <a:ext cx="287964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зем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794200" y="1268280"/>
            <a:ext cx="288000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дзем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5794200" y="260280"/>
            <a:ext cx="288000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3860640"/>
            <a:ext cx="316692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ранспор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0920" y="4579920"/>
            <a:ext cx="316692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нжене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50920" y="5300640"/>
            <a:ext cx="316692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дор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411280" y="6093000"/>
            <a:ext cx="4178520" cy="576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гидрометеор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5724360" y="5300640"/>
            <a:ext cx="316728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ех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5724360" y="4579920"/>
            <a:ext cx="316728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5724360" y="3860640"/>
            <a:ext cx="316728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едицин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17"/>
          <p:cNvCxnSpPr>
            <a:stCxn id="117" idx="0"/>
            <a:endCxn id="121" idx="1"/>
          </p:cNvCxnSpPr>
          <p:nvPr/>
        </p:nvCxnSpPr>
        <p:spPr>
          <a:xfrm flipH="1" flipV="1" rot="5400000">
            <a:off x="4281840" y="837000"/>
            <a:ext cx="180072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0" name="AutoShape 18"/>
          <p:cNvCxnSpPr>
            <a:stCxn id="117" idx="0"/>
            <a:endCxn id="120" idx="1"/>
          </p:cNvCxnSpPr>
          <p:nvPr/>
        </p:nvCxnSpPr>
        <p:spPr>
          <a:xfrm flipH="1" flipV="1" rot="5400000">
            <a:off x="4785840" y="1341000"/>
            <a:ext cx="79272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1" name="AutoShape 19"/>
          <p:cNvCxnSpPr>
            <a:stCxn id="117" idx="0"/>
            <a:endCxn id="118" idx="3"/>
          </p:cNvCxnSpPr>
          <p:nvPr/>
        </p:nvCxnSpPr>
        <p:spPr>
          <a:xfrm flipV="1" rot="16200000">
            <a:off x="3022200" y="801000"/>
            <a:ext cx="1800720" cy="1296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2" name="AutoShape 20"/>
          <p:cNvCxnSpPr>
            <a:stCxn id="117" idx="0"/>
            <a:endCxn id="119" idx="3"/>
          </p:cNvCxnSpPr>
          <p:nvPr/>
        </p:nvCxnSpPr>
        <p:spPr>
          <a:xfrm flipV="1" rot="16200000">
            <a:off x="3526200" y="1305000"/>
            <a:ext cx="792720" cy="1296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3" name="AutoShape 21"/>
          <p:cNvCxnSpPr>
            <a:stCxn id="116" idx="2"/>
            <a:endCxn id="128" idx="1"/>
          </p:cNvCxnSpPr>
          <p:nvPr/>
        </p:nvCxnSpPr>
        <p:spPr>
          <a:xfrm flipH="1" rot="16200000">
            <a:off x="4894920" y="3321000"/>
            <a:ext cx="43416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4" name="AutoShape 22"/>
          <p:cNvCxnSpPr>
            <a:stCxn id="116" idx="2"/>
            <a:endCxn id="122" idx="3"/>
          </p:cNvCxnSpPr>
          <p:nvPr/>
        </p:nvCxnSpPr>
        <p:spPr>
          <a:xfrm rot="5400000">
            <a:off x="3742200" y="3391560"/>
            <a:ext cx="434160" cy="108324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5" name="AutoShape 23"/>
          <p:cNvCxnSpPr>
            <a:stCxn id="116" idx="2"/>
            <a:endCxn id="127" idx="1"/>
          </p:cNvCxnSpPr>
          <p:nvPr/>
        </p:nvCxnSpPr>
        <p:spPr>
          <a:xfrm flipH="1" rot="16200000">
            <a:off x="4535280" y="3680640"/>
            <a:ext cx="115344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6" name="AutoShape 24"/>
          <p:cNvCxnSpPr>
            <a:stCxn id="116" idx="2"/>
            <a:endCxn id="123" idx="3"/>
          </p:cNvCxnSpPr>
          <p:nvPr/>
        </p:nvCxnSpPr>
        <p:spPr>
          <a:xfrm rot="5400000">
            <a:off x="3382560" y="3751200"/>
            <a:ext cx="1153440" cy="108324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7" name="AutoShape 25"/>
          <p:cNvCxnSpPr>
            <a:stCxn id="116" idx="2"/>
            <a:endCxn id="126" idx="1"/>
          </p:cNvCxnSpPr>
          <p:nvPr/>
        </p:nvCxnSpPr>
        <p:spPr>
          <a:xfrm flipH="1" rot="16200000">
            <a:off x="4174920" y="4041000"/>
            <a:ext cx="187416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8" name="AutoShape 26"/>
          <p:cNvCxnSpPr>
            <a:stCxn id="116" idx="2"/>
            <a:endCxn id="124" idx="3"/>
          </p:cNvCxnSpPr>
          <p:nvPr/>
        </p:nvCxnSpPr>
        <p:spPr>
          <a:xfrm rot="5400000">
            <a:off x="3022200" y="4111560"/>
            <a:ext cx="1874160" cy="108324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9" name="AutoShape 27"/>
          <p:cNvCxnSpPr>
            <a:stCxn id="116" idx="2"/>
            <a:endCxn id="125" idx="0"/>
          </p:cNvCxnSpPr>
          <p:nvPr/>
        </p:nvCxnSpPr>
        <p:spPr>
          <a:xfrm flipH="1">
            <a:off x="4500000" y="3716280"/>
            <a:ext cx="1080" cy="23774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0" name="AutoShape 28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6" presetSubtype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9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500"/>
                            </p:stCondLst>
                            <p:childTnLst>
                              <p:par>
                                <p:cTn id="36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0560" y="26028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неотложны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76464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Другие неотложные рабо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это деятельность по всестороннему обеспечению аварийно-спасательных работ, оказанию населению, пострадавшему в ЧС, медицинской и других видов помощи, созданию условий, минимально необходимых для сохранения жизни и здоровья людей, поддержания их работо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79280" y="4292640"/>
            <a:ext cx="855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проведения спасательн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твращение дальнейших разрушений и потерь, вызванных вторичными поражающими факто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жизнедеятельности объектов экономики и пострадавшего населения в условиях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76720" y="3860640"/>
            <a:ext cx="18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Копия 0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6165720"/>
            <a:ext cx="522360" cy="5400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500"/>
                            </p:stCondLst>
                            <p:childTnLst>
                              <p:par>
                                <p:cTn id="38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deridi_o</cp:lastModifiedBy>
  <dcterms:modified xsi:type="dcterms:W3CDTF">2022-12-01T12:44:06Z</dcterms:modified>
  <cp:revision>46</cp:revision>
  <dc:subject/>
  <dc:title>PowerPoint Presentation</dc:title>
</cp:coreProperties>
</file>