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13D-827B-47BA-BD33-4F31A955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9A6-A7E4-45BE-970C-FEC8DD8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704-ECAF-4907-BDBC-82DF69C6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AC2-EC3D-4AA4-912E-E3C50539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20F-8BB1-4840-9AFC-E4FB74B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0A0-B2AC-40E2-AD59-5574CAA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3D4-ACD6-4934-A342-D5A8B953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216-A580-49FA-95D3-1E604191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B8A-BBD8-4C64-A109-4024EE80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C0A-4C20-45C2-AA9F-7C252ACD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505-E050-4039-B1B3-1A68C01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144-F8FC-4BDD-BE39-133BD47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751-7668-4DA8-9024-6CB6D7AD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674000">
            <a:off x="150480" y="5941440"/>
            <a:ext cx="2514600" cy="685800"/>
          </a:xfrm>
          <a:prstGeom prst="wedgeRoundRectCallout">
            <a:avLst>
              <a:gd name="adj1" fmla="val -40462"/>
              <a:gd name="adj2" fmla="val 74953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тский сад 45</cp:lastModifiedBy>
  <dcterms:modified xsi:type="dcterms:W3CDTF">2013-07-10T08:20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