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A68-8C72-48F4-B6C6-40C5B406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7F4-54F1-4742-B560-8B7F73CB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53F-6DED-47CF-93CE-B7E4B98A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942-2B20-4600-9099-A2B570AF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A1A-A608-4E4E-ACA3-7990F32B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688-EB87-42F0-8244-8E3FFBE8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AB8-DFB9-4D53-A943-82C2DDC8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40E-54C2-4CF6-9357-F8A68B65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116-B07B-4402-9FC2-4C5C970C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684-961A-4F0B-A27D-4BF099C8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E8A-1D37-48D5-8F2C-E8B4A312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DCB-D102-4FF8-A627-DCFE0EFB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7534-2234-47C8-9D53-A6D686B09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0674000">
            <a:off x="150480" y="5941440"/>
            <a:ext cx="2514600" cy="685800"/>
          </a:xfrm>
          <a:prstGeom prst="wedgeRoundRectCallout">
            <a:avLst>
              <a:gd name="adj1" fmla="val -40462"/>
              <a:gd name="adj2" fmla="val 74953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етский сад 45</cp:lastModifiedBy>
  <dcterms:modified xsi:type="dcterms:W3CDTF">2013-07-10T08:20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