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4D8-4D10-4A74-A1C9-A4345BB8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08F-F7FB-4EA5-AA8D-F3A1B8C6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F5F-20E5-41D8-B078-63C47764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E1C-AE76-4475-AB28-1B9AFDF6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B74A-3B93-46B5-A04A-55EA4F52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AD7A-1184-42A0-B773-835E2969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2C88-BD41-4533-9FEA-58BB5BE2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7251-1834-4026-9B60-CFD60731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803B-D0EA-4E81-9D47-C758A627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7DD0-491E-4A92-88CA-A9DD50EC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2C6F-AEEA-48F6-A20D-EC23AA2C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433-3B09-4E40-80AD-7B42076F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D1BB-DDE6-4E66-8D39-44759A5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2265-9960-4D84-BCB5-528DE6E0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F995-1879-411B-9DBA-61D944BB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BAA4-BF34-4809-9BBF-2B9FD8EE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EB18-E0EB-4B00-9C10-C6C9DB94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FA06-08EA-4045-B0DA-0FA13776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A6C2-3B32-4AFF-8B53-7F609CCE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7D2E-63FE-433B-B643-8C71D23B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DCA3-0871-417E-9F76-419E93F9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D32D6-5760-450F-9AC3-746FC466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6E4-ADE2-4B47-B972-B66E04AB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E814-E252-4C6D-A33F-88155C61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8A02-D99A-413F-8099-B0FDBB6E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36C9-FEB3-49F0-8F5F-81B64404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865E-8BDC-4AAA-8EB1-8784380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03631-14A8-400D-BD89-C67071E2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13A1-1A76-45CF-97F9-F9733CA0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6E0A-61B3-47C6-B2E2-489DED3C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2C75-5EB3-4CF6-B87E-724C348A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DF05-5943-4DC8-9F25-D9FFE3C8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E281-64AB-428B-80D4-283881EC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C00-7943-44D8-89AD-A0D34D1E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9E44-2F22-414B-93C3-7D5AB855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D4DF-6836-4643-97D3-B963791B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C834-D965-4153-A148-ED755404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A16E-3FB8-487F-88F3-EE88F09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F494-1B13-4248-A733-70CF9853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53068-6100-4904-881B-6DD6381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278E-AFC0-47E9-85B8-31A97A2D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52A7-D8BF-49CC-9334-EE8CB4BB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612A-233A-4A20-AB37-90121694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1BC2-024F-460A-8108-C692507F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D79-7548-4893-A662-62F58DE2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C149-21F8-4B66-9556-5440FAD6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F101-0056-4C6E-BD2B-F316CC03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967E-E527-417F-B8CE-B5A0DC25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2E5C2-1533-4C16-A3D4-4BA7E1A2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2867-90E1-4280-93C5-E150DBD5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4F732-87B2-45AB-8E8B-E2381F9F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B30F-FBEE-4699-A150-01B47FDA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8F119-B555-42D9-AEF6-3FD3700A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A253F-7268-4133-B7CB-17643EEB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E372C-B0F0-465E-86E4-2B375CFF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869-39D3-47CC-B9E9-28BE50A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75479-3206-4190-8E28-985570E3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B02D5-CC91-443A-99D4-1225DC4F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4363C-4ED4-479E-9787-9ED4E7D8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498D-97BD-4503-BCCD-23C6D52A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1F9B-1BD2-4CF2-A733-F46150A0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75C27-ACAF-4114-91F7-64A87AAB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2722-8872-4392-A225-5B26D5B5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8CC8-B879-4B2A-B51F-D38F69D4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21C1-A5CF-44D3-AFF3-D300A07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EBADF-0A42-4091-B344-0C31C69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358-8256-4C3F-A795-068A105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B137E-2F90-4DFC-8755-C63003B9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A740-1022-44CC-AA75-EEA3613E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13821-8038-445E-BF12-334D6AEA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0C49-8035-4789-B732-FDD6AC88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7C048-C390-495A-8E31-BAE09F28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F13E-5388-45C4-9205-D15A732A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7DD98-54F4-491E-8B11-93A2717A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C8AC0-C244-46CE-AB7E-6571F805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B3E46-3217-4A7F-9674-A775A9A5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B5B15-7971-4958-BD44-74295277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F8C-DCF2-429F-83B9-AF771041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D8139-E45C-41DA-A64F-3A9DED0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ACDDB-8349-4D00-99CF-2706DC7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B9D58-3AE1-4660-AA78-EE623C2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E601-03E9-4E72-B922-31014CE6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227D-E925-42E6-8803-0A4BF848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725EF-5F47-4A46-9F3B-411F7D58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343C2-5F1E-4EA5-B5AE-BE20D474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3E935-660E-4A8C-BE3A-C7CC6AE8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E993B-15C5-4E3F-A2E2-7E6B0C53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F2C7F-8DDF-42AE-9946-70040C01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8F7-E21F-48AF-928E-DCA18045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31263-28F8-4717-9355-ABA24DB1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37604-A090-488C-A4F5-26D165D0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5645E-E258-42B5-B155-A857C7C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DEF14-A6C2-447A-B069-54ECC21D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7302-EE55-4158-BF2E-7A566A2B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466B2-E308-4A8A-8E75-F8FF0BD4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68D34-21AE-40BC-88DC-51CEC961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B0A9-05AD-4E9A-9680-2369A340584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4BD7-4314-43F3-B418-DE9969C8D3B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6235-0E8B-4252-9DFB-5B243ED82A9F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4886-6EB0-43E5-BA70-00289D9DEEA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C89E-BB48-4139-8749-3239E3467D1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7EFC-2DCA-4FEA-B259-13DC0B145D3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05A9-0024-4034-B748-93C6E5C2007E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C0BC-9173-4B0A-9E21-30FA5BF3E6B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52940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«Читающий рюкзачок»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3" name="Рисунок 2" descr=""/>
          <p:cNvPicPr/>
          <p:nvPr/>
        </p:nvPicPr>
        <p:blipFill>
          <a:blip r:embed="rId1"/>
          <a:stretch/>
        </p:blipFill>
        <p:spPr>
          <a:xfrm>
            <a:off x="2008080" y="1406520"/>
            <a:ext cx="4508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В нашей группе существует традиция – в долгий круговой путь, от читателя к читателю, путешествует самый настоящий Читающий рюкзачок с интересной детской книгой – увлекательной и захватывающей, в новенькой яркой обложке и игрушкой по теме, красочным альбомом с рисунками к прочитанным произведениям и рассказами детей, записанных в тетрадь .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12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Times New Roman"/>
              </a:rPr>
              <a:t>Цель  нашей традиции – возродить семейное чтение.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6" name="Рисунок 3" descr=""/>
          <p:cNvPicPr/>
          <p:nvPr/>
        </p:nvPicPr>
        <p:blipFill>
          <a:blip r:embed="rId1"/>
          <a:stretch/>
        </p:blipFill>
        <p:spPr>
          <a:xfrm>
            <a:off x="5364000" y="1482840"/>
            <a:ext cx="3060720" cy="40798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993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же это т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юкзачок, который путешествует по семь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ем он интересе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рюкзачке лежит интересная книга, которую дети читают вместе с родителями . После того, как  книга прочитана, ребята обсуждают с родителями содержание произ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 еще что есть в рюкзач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льбом и карандаши- дети вместе с родителями рисуют иллюстрацию к сказ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578320" cy="55897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2274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21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емейное чтение это повод интересно и познавательно провести время с родителями, а еще и научиться понимать содержание произведения и пересказывать его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17859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4653"/>
                </a:solidFill>
                <a:latin typeface="Cambria"/>
              </a:rPr>
              <a:t>Спасибо за внимание!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9T17:37:25Z</dcterms:created>
  <dc:creator>й1</dc:creator>
  <dc:description/>
  <dc:language>en-US</dc:language>
  <cp:lastModifiedBy>sueta</cp:lastModifiedBy>
  <dcterms:modified xsi:type="dcterms:W3CDTF">2021-12-13T14:59:33Z</dcterms:modified>
  <cp:revision>27</cp:revision>
  <dc:subject/>
  <dc:title>МИНИСТЕРСТВО ОБРАЗОВАНИЯ И НАУКИ РОССИЙСКОЙ ФЕДЕРАЦИИ БИРСКИЙ ФИЛИАЛ ФЕДЕРАЛЬНОГО ГОСУДАРСТВЕННОГО БЮДЖЕТНОГО ОБРАЗОВАТЕЛЬНОГО УЧРЕЖДЕНИЯ ВЫСШЕГО ОБРАЗОВАНИЯ «БАШКИРСКИЙ ГОСУДАРСТВЕННЫЙ УНИВЕРСИТЕТ»</dc:title>
</cp:coreProperties>
</file>