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2167-1D64-4633-A09B-8197EF38E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1CFC-9243-4F57-A34C-9B3857EB4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0DC1-3CF6-4D85-9395-225560748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AF03-3737-43FA-8A94-3AE2EB5F6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B2A24-556E-44DE-9F78-58CA72848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C1AE2-C8B8-4403-90D1-269917EF3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20EAD-87DF-474A-9F4B-2F3E769C1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E79D7-3FE2-44C1-B199-5A5E55209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F8142-61F8-41D4-8C18-8830BB21D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D60F4-E9F3-4C7A-878B-004BD1FD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6F502-A318-4EFE-9ADA-680B849C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441D-9AE6-4F00-8DB8-9887257E8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8909D-AEF7-450D-8AA1-89C2B130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F7890-8C58-47FF-9684-E8F1E2D0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63D2B-CFCB-4005-8D64-F036FCD53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53890-5042-40B7-B0CD-86F32AF7F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D29AE-3D05-446A-840F-D99BEE742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2A47C-91C3-4478-9DCC-EFA0D2EB2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79146-F9DB-4468-85BD-3498FF39F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3AEE4-B28B-4D32-87D3-FD939A1F9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CB941-5AD3-4E74-AE1D-A8A8237DB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70AA2-B43C-45DD-B132-983FAFF5C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3B8B-FEAA-424D-87EE-9E7351519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96062-CD8F-467A-8901-5334C5A6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53C50-3C33-4907-9692-53544071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EDE05-D831-4F82-95B9-C3DB4C675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1DA08-69EC-4BB4-942C-BCF78A2B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372B9-3896-4FE2-816A-6CC43F666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CAEDD-0F46-418F-88D3-926F4A796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D01A0-2EE2-4970-BBAD-3F27734A6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EE766-E06C-405C-BAB3-A6B47ACA2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FCE39-23AC-442A-8C02-330700AF3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44493-EDF8-48DE-9A1E-FCBE24CD5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143A-71B1-4BBF-82E4-0851C4859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35833-CA07-4311-BE66-54DA32440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0BAA1-68B9-4E2C-9C16-7EE244A84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ABF7C-00A3-4281-B4E8-1E157F7FB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4A3CA-D664-4B61-A5D9-EA86E661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96F30-434E-48CF-BC25-7943CBAF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C2A62-A6E4-43A9-BC49-67307E56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879FE-E4A0-4016-8DE3-0FB0C644E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3E870-2132-4249-99CD-A1D4CFA2F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80947-A3F7-4D49-9097-664EE279A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6019D-3BFE-4A91-834F-45BA9AA75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58CD-A946-47EA-832D-7B6A3E567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08EE7-1692-4F7A-BAB8-79DD91A62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DE36D-2006-447D-B51D-D8961EB6F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0A8BD-8C73-4EB1-BFB5-C8AE7E512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9B273-A244-4964-879E-C695D78AF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4D462-038C-411F-BB63-9962D1E6D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578E1-ECB6-43C7-A001-4F88D119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E5E1A-1DC9-49A3-816D-8A324991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ABAEF-EDCD-42E9-857E-D4D3BE0F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05FF5-6317-4871-BDB2-E9A516402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76AD0-9811-4A9A-9402-8B8ADAF61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CC30-2AF0-4D26-9083-90A6C7DF1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1C0B5-00A0-46EF-B68B-C4B7EB3D2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DA5E1-71BD-48F6-A26E-68639FD23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EB1C6-276A-4665-991C-B53E541D2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70754-EA77-4996-85F5-9034F68F3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04371-5DA6-4A5F-AF93-1F586BBA6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AC8A9-CA0A-4B26-B7F1-FED3CEFA7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CE3DF-66AC-459F-8F53-239B3938E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446713-16E9-4B0E-AEB5-D7E70FC6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089EA4-36F0-454B-99FA-73A543CC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62AD1-7B45-462B-995D-0F330E13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47BD-D473-4AAD-8A1E-9803424F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5DCAA-3603-4844-994E-106357C59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0CEA95-68B5-4525-9548-7EFC7C4E3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83012-C653-40AA-AF5A-C36B082A9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C75013-AF60-43EA-98D8-043335FA6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42B47-EA8E-4FB0-AB93-0489EF9EC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A0A92-8042-40D5-AB24-9812ABFF7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B281A-B8AB-4961-8B3A-7DBB6A649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55A08-0A18-47D1-ABB7-2E8674247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2C529C-027E-466F-BB24-990AA36DF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757F3B-0E78-41A6-A940-FC57A44CB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6888-FD5C-48C7-90AA-87864E03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AEBFA-AE5B-4599-B107-2D2497BF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4C00F5-2FF0-4024-87D9-FF831ACE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7980D1-9883-456D-906B-00C2457C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F6DCD-52F8-4C22-9DD4-E601F4913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B5718-3112-4CCC-A1B9-5591AB7A3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2660FE-4D31-4055-B93F-707B8AAC2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2F8D08-FDBD-4D13-8B8F-D8844BF77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8494AB-930F-41F5-8149-839602864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A8F644-AFFC-410E-BC20-2277F26DF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A9E94-1D27-4B47-93D1-61C814E90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0CF8-E22E-4130-AA59-760E0A66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89EC19-8AFB-49E7-BAF1-22B9ABE1B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BE6B45-5903-4EB3-B267-2F545187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F95144-C78D-4CED-B98A-293A7606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E4C47B-2715-4B34-B820-86E3CB26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E0454B-0EF5-49C9-9CF4-DF0B6E46A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A157BD-EDD6-4230-B7D4-EEEA368E1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D3909E-78F2-4330-B7AB-B371F76CB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0B47-C509-46E0-B1F5-AABC91EFD0FF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2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32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21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31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BC34B-1E5A-4A6E-8A51-F1A98232B46D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6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7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e9ec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8CD93-44CD-4396-8BEB-841D8CD2A2DF}" type="slidenum">
              <a:rPr b="0" lang="ru-RU" sz="1400" spc="-1" strike="noStrike">
                <a:solidFill>
                  <a:srgbClr val="dde9e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Равнобедренный треугольник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1FA05-87D2-4A02-8B3F-3F4DC5368487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4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Равнобедренный треугольник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BC5F8-E11A-4C3D-AAAE-A43933BF1B27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9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Равнобедренный треугольник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8D12E-74F6-4229-922D-743CD020E521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Равнобедренный треугольник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9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e9ec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A7545-BD7D-42A7-83F5-2396A18E4B2B}" type="slidenum">
              <a:rPr b="0" lang="ru-RU" sz="1400" spc="-1" strike="noStrike">
                <a:solidFill>
                  <a:srgbClr val="dde9e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Равнобедренный треугольник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ая соединительная линия 8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EFAB2-4A25-4D20-A035-5B653F6554B6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71320" y="499680"/>
            <a:ext cx="7529400" cy="5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464653"/>
                </a:solidFill>
                <a:latin typeface="Cambria"/>
              </a:rPr>
              <a:t>«Читающий рюкзачок»</a:t>
            </a:r>
            <a:endParaRPr b="0" lang="en-US" sz="28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53" name="Рисунок 2" descr=""/>
          <p:cNvPicPr/>
          <p:nvPr/>
        </p:nvPicPr>
        <p:blipFill>
          <a:blip r:embed="rId1"/>
          <a:stretch/>
        </p:blipFill>
        <p:spPr>
          <a:xfrm>
            <a:off x="2008080" y="1406520"/>
            <a:ext cx="450864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000" y="1125000"/>
            <a:ext cx="8064360" cy="403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64653"/>
                </a:solidFill>
                <a:latin typeface="Cambria"/>
              </a:rPr>
              <a:t>В нашей группе существует традиция – в долгий круговой путь, от читателя к читателю, путешествует самый настоящий Читающий рюкзачок с интересной детской книгой – увлекательной и захватывающей, в новенькой яркой обложке и игрушкой по теме, красочным альбомом с рисунками к прочитанным произведениям и рассказами детей, записанных в тетрадь .</a:t>
            </a:r>
            <a:endParaRPr b="0" lang="en-US" sz="2800" spc="-1" strike="noStrike">
              <a:solidFill>
                <a:srgbClr val="464653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71276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4653"/>
                </a:solidFill>
                <a:latin typeface="Times New Roman"/>
              </a:rPr>
              <a:t>Цель  нашей традиции – возродить семейное чтение.</a:t>
            </a:r>
            <a:endParaRPr b="0" lang="en-US" sz="24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56" name="Рисунок 3" descr=""/>
          <p:cNvPicPr/>
          <p:nvPr/>
        </p:nvPicPr>
        <p:blipFill>
          <a:blip r:embed="rId1"/>
          <a:stretch/>
        </p:blipFill>
        <p:spPr>
          <a:xfrm>
            <a:off x="5364000" y="1482840"/>
            <a:ext cx="3060720" cy="4079880"/>
          </a:xfrm>
          <a:prstGeom prst="rect">
            <a:avLst/>
          </a:prstGeom>
          <a:ln w="0">
            <a:noFill/>
          </a:ln>
        </p:spPr>
      </p:pic>
      <p:pic>
        <p:nvPicPr>
          <p:cNvPr id="357" name="Рисунок 4" descr=""/>
          <p:cNvPicPr/>
          <p:nvPr/>
        </p:nvPicPr>
        <p:blipFill>
          <a:blip r:embed="rId2"/>
          <a:stretch/>
        </p:blipFill>
        <p:spPr>
          <a:xfrm>
            <a:off x="684360" y="1844640"/>
            <a:ext cx="399384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Что же это тако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Рюкзачок, который путешествует по семья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Чем он интересен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В рюкзачке лежит интересная книга, которую дети читают вместе с родителями . После того, как  книга прочитана, ребята обсуждают с родителями содержание произведен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А еще что есть в рюкзачк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Альбом и карандаши- дети вместе с родителями рисуют иллюстрацию к сказк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Рисунок 2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2578320" cy="5589720"/>
          </a:xfrm>
          <a:prstGeom prst="rect">
            <a:avLst/>
          </a:prstGeom>
          <a:ln w="0">
            <a:noFill/>
          </a:ln>
        </p:spPr>
      </p:pic>
      <p:pic>
        <p:nvPicPr>
          <p:cNvPr id="360" name="Рисунок 4" descr=""/>
          <p:cNvPicPr/>
          <p:nvPr/>
        </p:nvPicPr>
        <p:blipFill>
          <a:blip r:embed="rId2"/>
          <a:stretch/>
        </p:blipFill>
        <p:spPr>
          <a:xfrm>
            <a:off x="4643280" y="620640"/>
            <a:ext cx="3227400" cy="56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9640" y="32130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Cambria"/>
              </a:rPr>
              <a:t>    </a:t>
            </a:r>
            <a:r>
              <a:rPr b="0" lang="ru-RU" sz="3200" spc="-1" strike="noStrike">
                <a:solidFill>
                  <a:srgbClr val="464653"/>
                </a:solidFill>
                <a:latin typeface="Cambria"/>
              </a:rPr>
              <a:t>Семейное чтение это повод интересно и познавательно провести время с родителями, а еще и научиться понимать содержание произведения и пересказывать его.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178596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64653"/>
                </a:solidFill>
                <a:latin typeface="Cambria"/>
              </a:rPr>
              <a:t>Спасибо за внимание!</a:t>
            </a:r>
            <a:endParaRPr b="0" lang="en-US" sz="4400" spc="-1" strike="noStrike">
              <a:solidFill>
                <a:srgbClr val="464653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9T17:37:25Z</dcterms:created>
  <dc:creator>й1</dc:creator>
  <dc:description/>
  <dc:language>en-US</dc:language>
  <cp:lastModifiedBy>sueta</cp:lastModifiedBy>
  <dcterms:modified xsi:type="dcterms:W3CDTF">2021-12-13T14:59:33Z</dcterms:modified>
  <cp:revision>27</cp:revision>
  <dc:subject/>
  <dc:title>МИНИСТЕРСТВО ОБРАЗОВАНИЯ И НАУКИ РОССИЙСКОЙ ФЕДЕРАЦИИ БИРСКИЙ ФИЛИАЛ ФЕДЕРАЛЬНОГО ГОСУДАРСТВЕННОГО БЮДЖЕТНОГО ОБРАЗОВАТЕЛЬНОГО УЧРЕЖДЕНИЯ ВЫСШЕГО ОБРАЗОВАНИЯ «БАШКИРСКИЙ ГОСУДАРСТВЕННЫЙ УНИВЕРСИТЕТ»</dc:title>
</cp:coreProperties>
</file>