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A3A-8554-4F5C-B469-F85798AE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337-8081-42FC-B904-85C1C992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492-FD8D-4BEA-B17E-BAA51CB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5D0-5F90-45C9-B8C3-2A8DAF22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389-600C-4D9E-84C3-C9545BF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B4C-B25F-4FA2-B150-33B6EDA3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FB1-051F-4522-88C3-7885267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C5F-1E64-4396-8BD2-88C54989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3D3-0904-4E31-BFCE-358BD057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0E8-04CB-4CDE-BD93-3AC44B1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EB9-4FB6-4AFE-A47A-6980E1F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F99-2450-41F9-A842-4CF69605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9FC0-B7DF-4582-9063-779A8937FA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0" y="2968560"/>
            <a:ext cx="9144000" cy="156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0" y="550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БДОУ №67 Моско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узова Вер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кош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Users\Vera\Documents\DetSad\Картинки\быт\кокошник.jpg"/>
          <p:cNvPicPr/>
          <p:nvPr/>
        </p:nvPicPr>
        <p:blipFill>
          <a:blip r:embed="rId1"/>
          <a:stretch/>
        </p:blipFill>
        <p:spPr>
          <a:xfrm>
            <a:off x="428760" y="1785960"/>
            <a:ext cx="3214440" cy="240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Vera\Documents\DetSad\Картинки\быт\кокошник2.jpg"/>
          <p:cNvPicPr/>
          <p:nvPr/>
        </p:nvPicPr>
        <p:blipFill>
          <a:blip r:embed="rId2"/>
          <a:stretch/>
        </p:blipFill>
        <p:spPr>
          <a:xfrm>
            <a:off x="5786280" y="1571760"/>
            <a:ext cx="2152800" cy="3157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74000" y="5214960"/>
            <a:ext cx="53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Головное украш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878400" y="585792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орона для царев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но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C:\Users\Vera\Documents\DetSad\Картинки\быт\сноп1.jpg"/>
          <p:cNvPicPr/>
          <p:nvPr/>
        </p:nvPicPr>
        <p:blipFill>
          <a:blip r:embed="rId1"/>
          <a:stretch/>
        </p:blipFill>
        <p:spPr>
          <a:xfrm>
            <a:off x="571680" y="1857240"/>
            <a:ext cx="3357360" cy="222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Vera\Documents\DetSad\Картинки\быт\сноп3.jpg"/>
          <p:cNvPicPr/>
          <p:nvPr/>
        </p:nvPicPr>
        <p:blipFill>
          <a:blip r:embed="rId2"/>
          <a:stretch/>
        </p:blipFill>
        <p:spPr>
          <a:xfrm>
            <a:off x="4714920" y="2143080"/>
            <a:ext cx="4140000" cy="1833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99920" y="5072040"/>
            <a:ext cx="30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ено в куч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867960" y="58579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чка се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унду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C:\Users\Vera\Documents\DetSad\Картинки\быт\сундук1.jpg"/>
          <p:cNvPicPr/>
          <p:nvPr/>
        </p:nvPicPr>
        <p:blipFill>
          <a:blip r:embed="rId1"/>
          <a:stretch/>
        </p:blipFill>
        <p:spPr>
          <a:xfrm>
            <a:off x="785880" y="207180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Vera\Documents\DetSad\Картинки\быт\сундук2.jpg"/>
          <p:cNvPicPr/>
          <p:nvPr/>
        </p:nvPicPr>
        <p:blipFill>
          <a:blip r:embed="rId2"/>
          <a:stretch/>
        </p:blipFill>
        <p:spPr>
          <a:xfrm>
            <a:off x="4500720" y="1857240"/>
            <a:ext cx="3786120" cy="2919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3840" y="5072040"/>
            <a:ext cx="908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Ящичек который закрывается на ключ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83400" y="5929200"/>
            <a:ext cx="46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Ящик для сокровищ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уш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C:\Users\Vera\Documents\DetSad\Картинки\быт\рушник.jpg"/>
          <p:cNvPicPr/>
          <p:nvPr/>
        </p:nvPicPr>
        <p:blipFill>
          <a:blip r:embed="rId1"/>
          <a:stretch/>
        </p:blipFill>
        <p:spPr>
          <a:xfrm>
            <a:off x="500040" y="19288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Vera\Documents\DetSad\Картинки\быт\рушник2.jpg"/>
          <p:cNvPicPr/>
          <p:nvPr/>
        </p:nvPicPr>
        <p:blipFill>
          <a:blip r:embed="rId2"/>
          <a:stretch/>
        </p:blipFill>
        <p:spPr>
          <a:xfrm>
            <a:off x="5286240" y="200016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865440" y="5500800"/>
            <a:ext cx="48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олотенце для ру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ор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C:\Users\Vera\Documents\DetSad\Картинки\быт\горница.jpg"/>
          <p:cNvPicPr/>
          <p:nvPr/>
        </p:nvPicPr>
        <p:blipFill>
          <a:blip r:embed="rId1"/>
          <a:stretch/>
        </p:blipFill>
        <p:spPr>
          <a:xfrm>
            <a:off x="2428920" y="1571760"/>
            <a:ext cx="4378320" cy="3392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298160" y="5500800"/>
            <a:ext cx="42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омната на го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словотворч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ширять словарный запа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вать воображ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вать творчеств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писание игр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вать незнакомое детям слово. Попросить их объяснить слово, как они его понимаю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хват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C:\Users\Vera\Documents\DetSad\Картинки\быт\ухват.jpg"/>
          <p:cNvPicPr/>
          <p:nvPr/>
        </p:nvPicPr>
        <p:blipFill>
          <a:blip r:embed="rId1"/>
          <a:stretch/>
        </p:blipFill>
        <p:spPr>
          <a:xfrm>
            <a:off x="857160" y="1428840"/>
            <a:ext cx="4286520" cy="32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Vera\Documents\DetSad\Картинки\быт\ухват2.jpg"/>
          <p:cNvPicPr/>
          <p:nvPr/>
        </p:nvPicPr>
        <p:blipFill>
          <a:blip r:embed="rId2"/>
          <a:stretch/>
        </p:blipFill>
        <p:spPr>
          <a:xfrm>
            <a:off x="5572080" y="1428840"/>
            <a:ext cx="2043000" cy="3149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70800" y="485784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Большая прихват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14640" y="5500800"/>
            <a:ext cx="854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для вытаскивания кастрюл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руб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Vera\Documents\DetSad\Картинки\быт\прорубь1.jpg"/>
          <p:cNvPicPr/>
          <p:nvPr/>
        </p:nvPicPr>
        <p:blipFill>
          <a:blip r:embed="rId1"/>
          <a:stretch/>
        </p:blipFill>
        <p:spPr>
          <a:xfrm>
            <a:off x="571680" y="1643040"/>
            <a:ext cx="3605040" cy="247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Vera\Documents\DetSad\Картинки\быт\прорубь2.jpg"/>
          <p:cNvPicPr/>
          <p:nvPr/>
        </p:nvPicPr>
        <p:blipFill>
          <a:blip r:embed="rId2"/>
          <a:stretch/>
        </p:blipFill>
        <p:spPr>
          <a:xfrm>
            <a:off x="5143680" y="1643040"/>
            <a:ext cx="3433680" cy="2500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14440" y="4857840"/>
            <a:ext cx="51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ырка, а вокруг ле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54120" y="5715000"/>
            <a:ext cx="47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ырочка для в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ромысл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Users\Vera\Documents\DetSad\Картинки\быт\Коромысло.jpg"/>
          <p:cNvPicPr/>
          <p:nvPr/>
        </p:nvPicPr>
        <p:blipFill>
          <a:blip r:embed="rId1"/>
          <a:stretch/>
        </p:blipFill>
        <p:spPr>
          <a:xfrm>
            <a:off x="785880" y="1714680"/>
            <a:ext cx="3786120" cy="283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era\Documents\DetSad\Картинки\быт\коромысло2.jpg"/>
          <p:cNvPicPr/>
          <p:nvPr/>
        </p:nvPicPr>
        <p:blipFill>
          <a:blip r:embed="rId2"/>
          <a:stretch/>
        </p:blipFill>
        <p:spPr>
          <a:xfrm>
            <a:off x="5643720" y="1712880"/>
            <a:ext cx="292896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34760" y="507204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на плечи для вед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952560" y="5786280"/>
            <a:ext cx="73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Изогнутая палочка для вед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я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Vera\Documents\DetSad\Картинки\быт\прялка2.jpg"/>
          <p:cNvPicPr/>
          <p:nvPr/>
        </p:nvPicPr>
        <p:blipFill>
          <a:blip r:embed="rId1"/>
          <a:stretch/>
        </p:blipFill>
        <p:spPr>
          <a:xfrm>
            <a:off x="500040" y="1571760"/>
            <a:ext cx="2889360" cy="330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Vera\Documents\DetSad\Картинки\быт\прялка3.jpg"/>
          <p:cNvPicPr/>
          <p:nvPr/>
        </p:nvPicPr>
        <p:blipFill>
          <a:blip r:embed="rId2"/>
          <a:stretch/>
        </p:blipFill>
        <p:spPr>
          <a:xfrm>
            <a:off x="4214880" y="1643040"/>
            <a:ext cx="400032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700200" y="5643720"/>
            <a:ext cx="502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То чем крутят нит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а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Users\Vera\Documents\DetSad\Картинки\быт\скалка1.jpg"/>
          <p:cNvPicPr/>
          <p:nvPr/>
        </p:nvPicPr>
        <p:blipFill>
          <a:blip r:embed="rId1"/>
          <a:stretch/>
        </p:blipFill>
        <p:spPr>
          <a:xfrm>
            <a:off x="1071720" y="1643040"/>
            <a:ext cx="215892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Vera\Documents\DetSad\Картинки\быт\скалка2.jpg"/>
          <p:cNvPicPr/>
          <p:nvPr/>
        </p:nvPicPr>
        <p:blipFill>
          <a:blip r:embed="rId2"/>
          <a:stretch/>
        </p:blipFill>
        <p:spPr>
          <a:xfrm>
            <a:off x="4857840" y="1785960"/>
            <a:ext cx="360180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924480" y="5072040"/>
            <a:ext cx="54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которая скач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44640" y="5786280"/>
            <a:ext cx="46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очка для т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уп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C:\Users\Vera\Documents\DetSad\Картинки\быт\ступа1.jpg"/>
          <p:cNvPicPr/>
          <p:nvPr/>
        </p:nvPicPr>
        <p:blipFill>
          <a:blip r:embed="rId1"/>
          <a:stretch/>
        </p:blipFill>
        <p:spPr>
          <a:xfrm>
            <a:off x="428760" y="1571760"/>
            <a:ext cx="428616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Vera\Documents\DetSad\Картинки\быт\ступа2.jpg"/>
          <p:cNvPicPr/>
          <p:nvPr/>
        </p:nvPicPr>
        <p:blipFill>
          <a:blip r:embed="rId2"/>
          <a:stretch/>
        </p:blipFill>
        <p:spPr>
          <a:xfrm>
            <a:off x="5929200" y="1643040"/>
            <a:ext cx="2309760" cy="3201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40800" y="5143680"/>
            <a:ext cx="53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Бочка которая лет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83280" y="5857920"/>
            <a:ext cx="412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То куда ступаю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ретен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C:\Users\Vera\Documents\DetSad\Картинки\быт\vereteno1.jpg"/>
          <p:cNvPicPr/>
          <p:nvPr/>
        </p:nvPicPr>
        <p:blipFill>
          <a:blip r:embed="rId1"/>
          <a:stretch/>
        </p:blipFill>
        <p:spPr>
          <a:xfrm>
            <a:off x="571680" y="1928880"/>
            <a:ext cx="3357360" cy="25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Vera\Documents\DetSad\Картинки\быт\Vereteno.jpg"/>
          <p:cNvPicPr/>
          <p:nvPr/>
        </p:nvPicPr>
        <p:blipFill>
          <a:blip r:embed="rId2"/>
          <a:stretch/>
        </p:blipFill>
        <p:spPr>
          <a:xfrm>
            <a:off x="4357800" y="2143080"/>
            <a:ext cx="4405320" cy="2328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73000" y="4857840"/>
            <a:ext cx="47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очка для нито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882720" y="5643720"/>
            <a:ext cx="619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ля накручивания нито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09:43Z</dcterms:created>
  <dc:creator>Vera</dc:creator>
  <dc:description/>
  <dc:language>en-US</dc:language>
  <cp:lastModifiedBy>Vera</cp:lastModifiedBy>
  <dcterms:modified xsi:type="dcterms:W3CDTF">2022-01-17T17:22:42Z</dcterms:modified>
  <cp:revision>51</cp:revision>
  <dc:subject/>
  <dc:title>Слайд 1</dc:title>
</cp:coreProperties>
</file>