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5DC-EA3C-4ECA-9D2E-5096581A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5B8-7FAF-4768-BDB8-7B43606B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3FF-4E36-4ED8-895D-43910458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9E8-2600-43C9-8686-3EFCF8D9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EB0-C60B-4014-96DD-DFDE202A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C4E-21CC-486B-AE11-24143690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D15-4255-4A33-B7CB-CF67B44F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940-92CE-4138-88DB-F98F7535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19B-2B18-4A1A-BA9F-9159EC61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E5A-EF3A-4D99-8AC4-3CA59859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806-AC70-4C0F-9B07-7D499B14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FFA-2674-4CF4-9C7A-C649E04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D065-33E8-4CD2-987E-97F0421D23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0" y="2968560"/>
            <a:ext cx="9144000" cy="1567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0" y="5500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БДОУ №67 Московского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тузова Вера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кошни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Users\Vera\Documents\DetSad\Картинки\быт\кокошник.jpg"/>
          <p:cNvPicPr/>
          <p:nvPr/>
        </p:nvPicPr>
        <p:blipFill>
          <a:blip r:embed="rId1"/>
          <a:stretch/>
        </p:blipFill>
        <p:spPr>
          <a:xfrm>
            <a:off x="428760" y="1785960"/>
            <a:ext cx="3214440" cy="240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Vera\Documents\DetSad\Картинки\быт\кокошник2.jpg"/>
          <p:cNvPicPr/>
          <p:nvPr/>
        </p:nvPicPr>
        <p:blipFill>
          <a:blip r:embed="rId2"/>
          <a:stretch/>
        </p:blipFill>
        <p:spPr>
          <a:xfrm>
            <a:off x="5786280" y="1571760"/>
            <a:ext cx="2152800" cy="315756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774000" y="5214960"/>
            <a:ext cx="534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Головное украше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878400" y="585792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орона для царевн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ноп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C:\Users\Vera\Documents\DetSad\Картинки\быт\сноп1.jpg"/>
          <p:cNvPicPr/>
          <p:nvPr/>
        </p:nvPicPr>
        <p:blipFill>
          <a:blip r:embed="rId1"/>
          <a:stretch/>
        </p:blipFill>
        <p:spPr>
          <a:xfrm>
            <a:off x="571680" y="1857240"/>
            <a:ext cx="3357360" cy="222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Vera\Documents\DetSad\Картинки\быт\сноп3.jpg"/>
          <p:cNvPicPr/>
          <p:nvPr/>
        </p:nvPicPr>
        <p:blipFill>
          <a:blip r:embed="rId2"/>
          <a:stretch/>
        </p:blipFill>
        <p:spPr>
          <a:xfrm>
            <a:off x="4714920" y="2143080"/>
            <a:ext cx="4140000" cy="1833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99920" y="5072040"/>
            <a:ext cx="306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Сено в куч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867960" y="5857920"/>
            <a:ext cx="29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чка се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унду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3" descr="C:\Users\Vera\Documents\DetSad\Картинки\быт\сундук1.jpg"/>
          <p:cNvPicPr/>
          <p:nvPr/>
        </p:nvPicPr>
        <p:blipFill>
          <a:blip r:embed="rId1"/>
          <a:stretch/>
        </p:blipFill>
        <p:spPr>
          <a:xfrm>
            <a:off x="785880" y="207180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Vera\Documents\DetSad\Картинки\быт\сундук2.jpg"/>
          <p:cNvPicPr/>
          <p:nvPr/>
        </p:nvPicPr>
        <p:blipFill>
          <a:blip r:embed="rId2"/>
          <a:stretch/>
        </p:blipFill>
        <p:spPr>
          <a:xfrm>
            <a:off x="4500720" y="1857240"/>
            <a:ext cx="3786120" cy="2919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33840" y="5072040"/>
            <a:ext cx="908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Ящичек который закрывается на ключ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83400" y="5929200"/>
            <a:ext cx="46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Ящик для сокровищ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ушни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C:\Users\Vera\Documents\DetSad\Картинки\быт\рушник.jpg"/>
          <p:cNvPicPr/>
          <p:nvPr/>
        </p:nvPicPr>
        <p:blipFill>
          <a:blip r:embed="rId1"/>
          <a:stretch/>
        </p:blipFill>
        <p:spPr>
          <a:xfrm>
            <a:off x="500040" y="192888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Vera\Documents\DetSad\Картинки\быт\рушник2.jpg"/>
          <p:cNvPicPr/>
          <p:nvPr/>
        </p:nvPicPr>
        <p:blipFill>
          <a:blip r:embed="rId2"/>
          <a:stretch/>
        </p:blipFill>
        <p:spPr>
          <a:xfrm>
            <a:off x="5286240" y="200016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865440" y="5500800"/>
            <a:ext cx="48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олотенце для ру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орниц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C:\Users\Vera\Documents\DetSad\Картинки\быт\горница.jpg"/>
          <p:cNvPicPr/>
          <p:nvPr/>
        </p:nvPicPr>
        <p:blipFill>
          <a:blip r:embed="rId1"/>
          <a:stretch/>
        </p:blipFill>
        <p:spPr>
          <a:xfrm>
            <a:off x="2428920" y="1571760"/>
            <a:ext cx="4378320" cy="3392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1298160" y="5500800"/>
            <a:ext cx="42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омната на гор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Цель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витие словотворчеств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ширять словарный запа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вивать воображе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вивать творчеств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Описание игры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вать незнакомое детям слово. Попросить их объяснить слово, как они его понимают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Ухват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2" descr="C:\Users\Vera\Documents\DetSad\Картинки\быт\ухват.jpg"/>
          <p:cNvPicPr/>
          <p:nvPr/>
        </p:nvPicPr>
        <p:blipFill>
          <a:blip r:embed="rId1"/>
          <a:stretch/>
        </p:blipFill>
        <p:spPr>
          <a:xfrm>
            <a:off x="857160" y="1428840"/>
            <a:ext cx="4286520" cy="32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Vera\Documents\DetSad\Картинки\быт\ухват2.jpg"/>
          <p:cNvPicPr/>
          <p:nvPr/>
        </p:nvPicPr>
        <p:blipFill>
          <a:blip r:embed="rId2"/>
          <a:stretch/>
        </p:blipFill>
        <p:spPr>
          <a:xfrm>
            <a:off x="5572080" y="1428840"/>
            <a:ext cx="2043000" cy="3149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370800" y="4857840"/>
            <a:ext cx="49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Большая прихват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14640" y="5500800"/>
            <a:ext cx="854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лка для вытаскивания кастрюл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оруб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C:\Users\Vera\Documents\DetSad\Картинки\быт\прорубь1.jpg"/>
          <p:cNvPicPr/>
          <p:nvPr/>
        </p:nvPicPr>
        <p:blipFill>
          <a:blip r:embed="rId1"/>
          <a:stretch/>
        </p:blipFill>
        <p:spPr>
          <a:xfrm>
            <a:off x="571680" y="1643040"/>
            <a:ext cx="3605040" cy="247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Vera\Documents\DetSad\Картинки\быт\прорубь2.jpg"/>
          <p:cNvPicPr/>
          <p:nvPr/>
        </p:nvPicPr>
        <p:blipFill>
          <a:blip r:embed="rId2"/>
          <a:stretch/>
        </p:blipFill>
        <p:spPr>
          <a:xfrm>
            <a:off x="5143680" y="1643040"/>
            <a:ext cx="3433680" cy="2500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514440" y="4857840"/>
            <a:ext cx="510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Дырка, а вокруг лед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54120" y="5715000"/>
            <a:ext cx="47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Дырочка для вод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ромысл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Users\Vera\Documents\DetSad\Картинки\быт\Коромысло.jpg"/>
          <p:cNvPicPr/>
          <p:nvPr/>
        </p:nvPicPr>
        <p:blipFill>
          <a:blip r:embed="rId1"/>
          <a:stretch/>
        </p:blipFill>
        <p:spPr>
          <a:xfrm>
            <a:off x="785880" y="1714680"/>
            <a:ext cx="3786120" cy="283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Vera\Documents\DetSad\Картинки\быт\коромысло2.jpg"/>
          <p:cNvPicPr/>
          <p:nvPr/>
        </p:nvPicPr>
        <p:blipFill>
          <a:blip r:embed="rId2"/>
          <a:stretch/>
        </p:blipFill>
        <p:spPr>
          <a:xfrm>
            <a:off x="5643720" y="1712880"/>
            <a:ext cx="2928960" cy="2941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734760" y="5072040"/>
            <a:ext cx="653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лка на плечи для веде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952560" y="5786280"/>
            <a:ext cx="731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Изогнутая палочка для веде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ял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Users\Vera\Documents\DetSad\Картинки\быт\прялка2.jpg"/>
          <p:cNvPicPr/>
          <p:nvPr/>
        </p:nvPicPr>
        <p:blipFill>
          <a:blip r:embed="rId1"/>
          <a:stretch/>
        </p:blipFill>
        <p:spPr>
          <a:xfrm>
            <a:off x="500040" y="1571760"/>
            <a:ext cx="2889360" cy="330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Vera\Documents\DetSad\Картинки\быт\прялка3.jpg"/>
          <p:cNvPicPr/>
          <p:nvPr/>
        </p:nvPicPr>
        <p:blipFill>
          <a:blip r:embed="rId2"/>
          <a:stretch/>
        </p:blipFill>
        <p:spPr>
          <a:xfrm>
            <a:off x="4214880" y="1643040"/>
            <a:ext cx="4000320" cy="32288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700200" y="5643720"/>
            <a:ext cx="502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То чем крутят нитк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кал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C:\Users\Vera\Documents\DetSad\Картинки\быт\скалка1.jpg"/>
          <p:cNvPicPr/>
          <p:nvPr/>
        </p:nvPicPr>
        <p:blipFill>
          <a:blip r:embed="rId1"/>
          <a:stretch/>
        </p:blipFill>
        <p:spPr>
          <a:xfrm>
            <a:off x="1071720" y="1643040"/>
            <a:ext cx="2158920" cy="32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Vera\Documents\DetSad\Картинки\быт\скалка2.jpg"/>
          <p:cNvPicPr/>
          <p:nvPr/>
        </p:nvPicPr>
        <p:blipFill>
          <a:blip r:embed="rId2"/>
          <a:stretch/>
        </p:blipFill>
        <p:spPr>
          <a:xfrm>
            <a:off x="4857840" y="1785960"/>
            <a:ext cx="3601800" cy="2913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924480" y="5072040"/>
            <a:ext cx="54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лка которая скач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944640" y="5786280"/>
            <a:ext cx="464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лочка для тес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уп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C:\Users\Vera\Documents\DetSad\Картинки\быт\ступа1.jpg"/>
          <p:cNvPicPr/>
          <p:nvPr/>
        </p:nvPicPr>
        <p:blipFill>
          <a:blip r:embed="rId1"/>
          <a:stretch/>
        </p:blipFill>
        <p:spPr>
          <a:xfrm>
            <a:off x="428760" y="1571760"/>
            <a:ext cx="428616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Vera\Documents\DetSad\Картинки\быт\ступа2.jpg"/>
          <p:cNvPicPr/>
          <p:nvPr/>
        </p:nvPicPr>
        <p:blipFill>
          <a:blip r:embed="rId2"/>
          <a:stretch/>
        </p:blipFill>
        <p:spPr>
          <a:xfrm>
            <a:off x="5929200" y="1643040"/>
            <a:ext cx="2309760" cy="3201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640800" y="5143680"/>
            <a:ext cx="53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Бочка которая лета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83280" y="5857920"/>
            <a:ext cx="412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То куда ступаю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еретен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3" descr="C:\Users\Vera\Documents\DetSad\Картинки\быт\vereteno1.jpg"/>
          <p:cNvPicPr/>
          <p:nvPr/>
        </p:nvPicPr>
        <p:blipFill>
          <a:blip r:embed="rId1"/>
          <a:stretch/>
        </p:blipFill>
        <p:spPr>
          <a:xfrm>
            <a:off x="571680" y="1928880"/>
            <a:ext cx="3357360" cy="251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Vera\Documents\DetSad\Картинки\быт\Vereteno.jpg"/>
          <p:cNvPicPr/>
          <p:nvPr/>
        </p:nvPicPr>
        <p:blipFill>
          <a:blip r:embed="rId2"/>
          <a:stretch/>
        </p:blipFill>
        <p:spPr>
          <a:xfrm>
            <a:off x="4357800" y="2143080"/>
            <a:ext cx="4405320" cy="2328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873000" y="4857840"/>
            <a:ext cx="47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Палочка для нито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882720" y="5643720"/>
            <a:ext cx="619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Для накручивания нито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4:09:43Z</dcterms:created>
  <dc:creator>Vera</dc:creator>
  <dc:description/>
  <dc:language>en-US</dc:language>
  <cp:lastModifiedBy>Vera</cp:lastModifiedBy>
  <dcterms:modified xsi:type="dcterms:W3CDTF">2022-01-17T17:22:42Z</dcterms:modified>
  <cp:revision>51</cp:revision>
  <dc:subject/>
  <dc:title>Слайд 1</dc:title>
</cp:coreProperties>
</file>