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CA61E-6A13-44BD-BEFE-0EBCC3287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F56B5-403B-4197-B314-B9C0273D9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1BD2DC-8F7D-4958-911B-0EC9E2690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2E2AD1-C3DD-4004-B55A-AF83B839C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426D31-EEA6-4652-A945-07FC220CD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BD02D5-10C1-48EF-8536-134006C9B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872CE4-C873-4B6A-B91F-D7076FE15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F358E3-5B95-4137-94C6-BE782A3B5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661DD4-E0A1-4377-A568-19905190A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253726-E73F-4DA8-808C-401B8E7DD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8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9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C03174-32A4-4A3A-A3CA-CE6A7AA48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D54536-6B1A-4BC0-BB53-DC6CCC031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C5F5E-8EE7-411D-9F3B-9A08A4676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D3A23A-5D4D-473C-9BC3-C073E3A69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E6D274-273E-4E1B-AD5D-CA0079163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E87BD6-A44B-4485-BEB4-F16CA21D0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9B6417-C310-4D1B-869C-E2F2A9002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3B9E35-08E6-44D2-9C46-4F95D5228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453770-E141-4EA4-A65D-E6AC5062B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8A6006-3982-47D2-8C42-96FC84AB9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6C44EB-EB78-4702-B6EF-97E00C14A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AFAA2A-AAA1-47E0-A362-6F969C774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AD8855-BAB7-4D18-BF34-08D3A4A4F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AFE99-08E1-4ACE-89DE-3B1BBCA16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E9105F-C311-4E08-80BC-B6335B793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1BBCC5-C370-4E85-8985-B7A1FB556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9B75A7-71D7-4AFC-B743-2D0742255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A94877-9C24-4890-B6B1-9310AAAB3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B0ABDE-450A-44C3-987A-CB7B6B32F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64E9CF-7F2A-4BDD-8C99-2C9C07789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D7763A-3F89-4F77-8C4C-46409967A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8F4D3A-8F7F-42F8-83B8-A42843FDB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99B745-6A48-4F40-827F-3D682530A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911F8F-1B82-4F02-A2B0-80D72D761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D2D1E-B208-43BB-80C1-CB540005C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06A232-EAEE-4526-8EA8-B713B3078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0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3453AF-9871-44C7-8057-627B38974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6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7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DC7475-5778-4D39-AD94-8582F6518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E034B5-548E-4105-8089-7B2D53E86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0C925B-536F-442A-A07B-F10696C60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BFF5C0-EDF0-4AAD-827A-DF7CFC372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741552-DF00-45A4-BB9B-3B517BB28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CA9F1B-FB38-40D9-BEA4-DAF031816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CE44BA-1DF9-4E3C-9035-77414DE4A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6E57B2-80E5-41BB-B925-7B105E3B6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3D272-E812-43EE-9201-99C64FD4A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4665A2-35FB-4F09-A715-575A52305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F3780F-A6DE-44F3-B631-A1B942228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14C42E-AB62-4A1E-9BB8-421739276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1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6FF2C3-AC59-4135-81CB-561EB8CA6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7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8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84724B-EAE6-4CE2-A0B7-84CE0F042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AC9555A-1A27-4948-8ED9-4F0FBC6AD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FB484CD-7AB5-4A14-9866-194C30D58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3996665-B571-433C-A065-9257DEDD8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D1E899D-C9A0-4426-BEF6-8B5339B3D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2645F12-85DB-496B-915B-14926B92C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60283-C893-4137-845D-B0F52A9BD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C7EBF0B-0913-47A8-B043-B0C4D8E9D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7AC2F53-83BD-4B01-BD56-D2B552393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BF09A32-A659-4660-8723-E851BF9B3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CD15875-C653-4F36-BB3E-3C423A99B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39E4991-89F7-4369-B7C5-F164E61BE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0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D24A843-8620-4104-9823-A73957258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6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7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F078EA5-4877-4F2E-8B70-918D74C53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3DC2E4F-5533-4F36-8867-7DC96ECDE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6AA6A71-E485-496D-ACB5-B29A3669B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A7428FA-8C83-492E-9173-6E67B49F0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52889-9495-45A2-B6AE-5A959D001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64B8750-4CBB-4590-A7E7-7C196A8CF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DDE3D7B-8929-4415-AB5E-8111D1C5D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8937737-0745-4CC2-8EA8-3E0768270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0016089-A1FF-4866-853B-BBE391438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907451D-3626-4EBB-BD85-AE209A1F2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5EFC38D-0CA2-4298-9BBF-0949F1A5D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B3665B7-13C4-4E39-8C9E-A0ABEEC56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1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E234F1D-FA3E-407F-A9CB-F899F2FAB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6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7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8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B9A3462-FD41-4F4F-A82F-945FA87B1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0D3C826-8DF0-44AB-BBFC-59F7DCE2B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5A7C5-408B-455C-B9AD-514DC0E76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4A9AAB6-762B-4884-9EE6-692D26F1B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98155F6-EBDF-482C-AEAA-417AE505C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B8D1AFA-5315-4FA1-9484-07F936EFA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FA0CD93-2EB5-425B-8EA1-DFD203362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ECABD59-A717-4027-A8A5-19C8F934D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ABF16E1-CCED-4BC6-AEC3-10A19D5A2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1DE97F9-E81E-4257-946B-181C2CBF0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B9E2620-25D4-4E3C-9DEE-9B54B1A0C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BE38772-5FEA-42A3-B741-FF0E7F930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0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2FB4C55-07FF-4B4C-A510-6F93DC460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2FDF5-9C87-4FFD-A3AA-B3C9CC7B5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6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7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97AECCE-2159-4471-A8DD-6B7C74766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DC5A426-A5A1-4B95-83B5-D0AD7CD00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1F24BE3-C007-417D-AF2F-1E122CEF4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F02B57D-E1F6-4473-9366-C70F1B8F8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2242C71-094F-41CB-96F4-0950EA3B6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F1796DF-7296-48CE-BF3C-FD831F62B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2DBE36E-4CB1-440E-8C63-1D0B8A197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A4999BF-D483-4B46-B234-2744B7277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97AE1AF-EB7D-49AA-91AD-02290C54E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3098818-D281-4933-B50F-12E91669D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07C86-7582-4349-9F23-39611D1B7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5FB39D8-73A9-4BCB-9E99-345D9F0F2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C5AFBAE-F867-4FA0-8D7D-B51F08563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C11A0A8-197C-47C7-9D83-E959D0801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50D0691-B474-4035-A47A-137089EA5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6E62D4A-7A14-4A5E-B3F2-0718B9491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59577F9-F478-4414-B642-1EBB70766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139FCA1-3EE9-4E40-BF30-97CC91B6C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C362B51-8937-4117-A25B-E537E50B6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657132A-C466-4B71-BBF2-EB9AE5C26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0C7BF62-08AC-45D8-8711-9A415A19E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5BB23-9E6D-41B7-85D1-600850AAA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B216C-B260-45EE-8DA1-B7FC69520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A9915B0-6ED8-40CC-859C-85F492C24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C4BA7A1-6125-4467-BCF3-5EBDB82F9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B7450EA-8978-4DBD-9C10-5C9DB4A61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8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A2C8C6D-91EB-4ACE-A55F-25E9332AE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3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4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5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9573F4D-2C40-4B47-BACA-DC40189EF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B5641-45B8-42C5-B449-C6178FB63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0C1BC-ABAC-4948-8BA5-C3F990674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F190D-3871-4DEE-9A83-26C8BED8E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FF5F2-F89B-4F05-AB1E-E39D05681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B3F750-06E0-4951-AD29-D1D569203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DAA5E9-65C1-480E-A88D-ECF0DBF9B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5A1659-143F-46EC-9998-DB97CAB50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2D5223-C9FD-4901-ADAA-7CF3C1D47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564594-47B5-4230-8B23-247427C95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C5CB1-34BD-4B38-B038-29E2B09E0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C9098A-145D-4303-ABFA-A66621DAD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3260EA-241C-47EC-8296-C9D4BFCE7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B1CCF9-4AA4-4EBB-AC2F-F40096EB6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A5CB5D-8002-4F14-B48E-F0C72C04E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F164A5-4F4B-4783-8831-4409F8F84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B24FCE-3BA8-4444-B837-4D92D483B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33EC32-F4E4-4F42-8192-4C0FD23BD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A42E46-9ADE-4B12-BBB9-D6BAA5FD9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954A4E-48DD-401C-B76B-CD4C8A92A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5E42BA-E4FB-4988-AAAA-55AF0154C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C7885-9B4D-41E9-8B0C-767AEE0D6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B9A4B7-914B-4883-B4D5-F80BC10EE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11BED2-E3AA-428D-8BC7-EF3E3AF58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E75BEB-E006-45A1-866E-24AAFDB51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F73DB2-91C3-43A2-B55A-71F0FF0F8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C833D1-404D-43D3-A51D-0E51DF66E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042799-A6E1-4255-AA0D-529EA7DF4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C21168-4D11-4BAE-A20B-C9DF2E386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93A399-21C5-4EEA-8963-A537AB2A0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8DCBE7-5DA0-4123-A8FE-BA322692F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5EE0CC-1AB3-4F23-B50C-5C0738D06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7D5CB-4EF3-41DF-B996-48EDA7EBF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F8A271-3461-496D-8753-FC7F2ABCB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B01CB9-4299-46BA-95BD-CF1922009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E31C29-DC58-4A51-A453-4F5D5CA1D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3E67A8-E8BE-4945-911A-BA52C89E7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6D5F88-275E-418D-ACFD-070744425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08F0A8-6FF1-4E1B-A1F9-BB4800E42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F1A069-A6C9-4BCC-B412-DDBF6BA27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ED8F88-4B51-4BF1-B47C-7F18AD7C0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8B3255-D8B1-4FDE-8E2D-12F8CC4AB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527ACF-1892-4A13-90DA-790517FDD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97E69-A8D5-4A72-9F79-BFF493D31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D467C3-C000-40B1-9A00-28D313FF4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81784F-0527-4C13-A44B-10082435F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5AA938-F577-40BC-8FB4-EB198C388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BFF8A5-A87B-48DB-834F-6E8DCBAC3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E73FD6-F8E7-4B9D-BE1B-88367C8C9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AE2A1D-999D-4913-953B-16D4E40A8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B4484E-D07B-4E7E-AF59-5F07ECF6C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6D396B-6AEB-42B7-AC55-AE67752E2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255A7D-E08D-44BD-AD82-26DA0F0CB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A08627-F81F-40E5-A9D5-1D4FD1BE4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73016-5CDB-44C1-8F26-CE5C9F10D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E7D79B-FBE8-4DBA-ACDA-A3D5F1F60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8F036F-83E2-4449-A6A2-030D76FD2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94AB82-E933-4EC0-932B-0B78C7699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000C98-8902-4814-83D4-7EACF55A0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BDCCE5-9577-4F28-AF52-A8811F840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D59B54-31E2-4EDA-A814-651263134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1F494A-49F3-4022-BEE3-52ED2FF1E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6B199F-B391-4156-B8C7-5653CE2B0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99F52C-0D03-43C2-B090-0009F1130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5965A9-C388-4437-9FDE-0A08D2A6C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61A71-A54E-4FC5-B0F4-F99BCDFA9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36D230-B587-4711-A0A4-F1E05DC38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559B9F-BF0C-4E47-B04E-733B07AEF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B467FB-7BE1-47C6-8389-C005A4689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6FFC42-F347-4592-846D-45E774C57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34EFC7-70AD-46A4-8DF8-8181313DB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CFDBB5-1906-47B8-9A6B-D1A69B097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DDB76E-6F8F-4E32-879E-1E321086D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1A0F0B-50A2-4EFA-93AA-7F9EA7837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E45E8F-7520-45B9-8AD9-FB2CE4FCA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C96CCC-BB27-4393-AB20-127600631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D56C8-F72E-48E3-B5E8-0D44936E3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BAE2B9-2114-484C-8EF6-C77A24D08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BBA8E6-69B5-40D2-BEAD-E832692C2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464EF0-8080-4B2A-916D-A80844045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71099B-0B07-465F-9A8B-9EE646772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90088A-B4D3-4263-B9B6-75A1295A1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3D0BDA-5DA6-4997-B267-074B6A3DD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9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0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05CEB8-707A-4C69-A733-A258C45D4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ADC042-ED3A-4E3B-923C-630022649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23C9FF-00FC-40EB-B0DF-46E260519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63134C-37F9-47BB-9530-2F13EA245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1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3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14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7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5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6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82E8C6-42A5-4FB9-BA56-F1895E0591D5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0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621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2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3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4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5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6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7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8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9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0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1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2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633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634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5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6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7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8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9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0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1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2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3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4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5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646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7" name="Freeform 11"/>
          <p:cNvSpPr/>
          <p:nvPr/>
        </p:nvSpPr>
        <p:spPr>
          <a:xfrm flipV="1">
            <a:off x="-4320" y="491112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28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29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30"/>
          </p:nvPr>
        </p:nvSpPr>
        <p:spPr>
          <a:xfrm>
            <a:off x="531360" y="49831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260A35C-0B7D-4B69-AFFB-0AD973C6C15B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9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690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1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2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3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4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5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6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7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8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9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0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1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702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703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4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5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6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7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8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9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0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1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2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3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4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715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6" name="Freeform 11"/>
          <p:cNvSpPr/>
          <p:nvPr/>
        </p:nvSpPr>
        <p:spPr>
          <a:xfrm flipV="1">
            <a:off x="-4320" y="31773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 type="dt" idx="31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 type="ftr" idx="32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 type="sldNum" idx="33"/>
          </p:nvPr>
        </p:nvSpPr>
        <p:spPr>
          <a:xfrm>
            <a:off x="531360" y="3244320"/>
            <a:ext cx="779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252D93-E2E6-45E9-A018-AF247C4890A5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8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759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0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1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2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3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4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5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6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7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8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9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0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771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772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3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4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5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6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7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8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9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0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1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2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3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784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5" name="Freeform 11"/>
          <p:cNvSpPr/>
          <p:nvPr/>
        </p:nvSpPr>
        <p:spPr>
          <a:xfrm flipV="1">
            <a:off x="-4320" y="31773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6" name="TextBox 36"/>
          <p:cNvSpPr/>
          <p:nvPr/>
        </p:nvSpPr>
        <p:spPr>
          <a:xfrm>
            <a:off x="2467080" y="647640"/>
            <a:ext cx="60948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7" name="TextBox 37"/>
          <p:cNvSpPr/>
          <p:nvPr/>
        </p:nvSpPr>
        <p:spPr>
          <a:xfrm>
            <a:off x="11113920" y="2905200"/>
            <a:ext cx="6098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 type="dt" idx="34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 type="ftr" idx="35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2" name="PlaceHolder 5"/>
          <p:cNvSpPr>
            <a:spLocks noGrp="1"/>
          </p:cNvSpPr>
          <p:nvPr>
            <p:ph type="sldNum" idx="36"/>
          </p:nvPr>
        </p:nvSpPr>
        <p:spPr>
          <a:xfrm>
            <a:off x="531360" y="3244320"/>
            <a:ext cx="779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72D371-31AE-416D-BBCE-C71D6A114516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9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830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1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2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3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4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5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6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7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8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9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0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1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842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843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4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5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6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7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8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9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0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1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2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3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4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855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6" name="Freeform 11"/>
          <p:cNvSpPr/>
          <p:nvPr/>
        </p:nvSpPr>
        <p:spPr>
          <a:xfrm flipV="1">
            <a:off x="-4320" y="491112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 type="dt" idx="37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 type="ftr" idx="38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61" name="PlaceHolder 5"/>
          <p:cNvSpPr>
            <a:spLocks noGrp="1"/>
          </p:cNvSpPr>
          <p:nvPr>
            <p:ph type="sldNum" idx="39"/>
          </p:nvPr>
        </p:nvSpPr>
        <p:spPr>
          <a:xfrm>
            <a:off x="531360" y="49831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EEB68C-8FB2-4A8E-828B-C526A64822A9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8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899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0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1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2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3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4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5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6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7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8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9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0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911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912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3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4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5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6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7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8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9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0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1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2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3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924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5" name="Freeform 11"/>
          <p:cNvSpPr/>
          <p:nvPr/>
        </p:nvSpPr>
        <p:spPr>
          <a:xfrm flipV="1">
            <a:off x="-4320" y="491112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6" name="TextBox 36"/>
          <p:cNvSpPr/>
          <p:nvPr/>
        </p:nvSpPr>
        <p:spPr>
          <a:xfrm>
            <a:off x="2467080" y="647640"/>
            <a:ext cx="60948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7" name="TextBox 37"/>
          <p:cNvSpPr/>
          <p:nvPr/>
        </p:nvSpPr>
        <p:spPr>
          <a:xfrm>
            <a:off x="11113920" y="2905200"/>
            <a:ext cx="6098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 type="dt" idx="40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 type="ftr" idx="41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32" name="PlaceHolder 5"/>
          <p:cNvSpPr>
            <a:spLocks noGrp="1"/>
          </p:cNvSpPr>
          <p:nvPr>
            <p:ph type="sldNum" idx="42"/>
          </p:nvPr>
        </p:nvSpPr>
        <p:spPr>
          <a:xfrm>
            <a:off x="531360" y="49831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E0CA9FC-CF84-4370-9AD9-49FF41889592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9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970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1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2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3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4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5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6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7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8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9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0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1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982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983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4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5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6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7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8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9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0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1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2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3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4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995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96" name="Freeform 11"/>
          <p:cNvSpPr/>
          <p:nvPr/>
        </p:nvSpPr>
        <p:spPr>
          <a:xfrm flipV="1">
            <a:off x="-4320" y="491112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 type="dt" idx="43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 type="ftr" idx="44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01" name="PlaceHolder 5"/>
          <p:cNvSpPr>
            <a:spLocks noGrp="1"/>
          </p:cNvSpPr>
          <p:nvPr>
            <p:ph type="sldNum" idx="45"/>
          </p:nvPr>
        </p:nvSpPr>
        <p:spPr>
          <a:xfrm>
            <a:off x="531360" y="49831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8A865D9-C1FA-46F9-908F-9A9DC6D3CAD0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8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1039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0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1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2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3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4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5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6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7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8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9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0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051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1052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3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4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5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6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7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8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9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0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1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2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3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064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65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 type="dt" idx="46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 type="ftr" idx="47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 type="sldNum" idx="48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A6F9FE-35D2-4558-90B1-26596B115424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7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1108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09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0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1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2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3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4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5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6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7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8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9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120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1121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2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3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4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5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6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7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8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9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0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1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2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133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4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 type="dt" idx="49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PlaceHolder 4"/>
          <p:cNvSpPr>
            <a:spLocks noGrp="1"/>
          </p:cNvSpPr>
          <p:nvPr>
            <p:ph type="ftr" idx="50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9" name="PlaceHolder 5"/>
          <p:cNvSpPr>
            <a:spLocks noGrp="1"/>
          </p:cNvSpPr>
          <p:nvPr>
            <p:ph type="sldNum" idx="51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B4995A-A657-4DBE-90B1-F51594C5874E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69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9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0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81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82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6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7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8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9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3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94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5" name="Freeform 6"/>
          <p:cNvSpPr/>
          <p:nvPr/>
        </p:nvSpPr>
        <p:spPr>
          <a:xfrm>
            <a:off x="0" y="4324320"/>
            <a:ext cx="1744560" cy="777960"/>
          </a:xfrm>
          <a:custGeom>
            <a:avLst/>
            <a:gdLst/>
            <a:ahLst/>
            <a:rect l="l" t="t" r="r" b="b"/>
            <a:pathLst>
              <a:path w="372" h="166">
                <a:moveTo>
                  <a:pt x="287" y="166"/>
                </a:moveTo>
                <a:cubicBezTo>
                  <a:pt x="290" y="166"/>
                  <a:pt x="292" y="165"/>
                  <a:pt x="293" y="164"/>
                </a:cubicBezTo>
                <a:cubicBezTo>
                  <a:pt x="293" y="163"/>
                  <a:pt x="294" y="163"/>
                  <a:pt x="294" y="163"/>
                </a:cubicBezTo>
                <a:cubicBezTo>
                  <a:pt x="370" y="87"/>
                  <a:pt x="370" y="87"/>
                  <a:pt x="370" y="87"/>
                </a:cubicBezTo>
                <a:cubicBezTo>
                  <a:pt x="372" y="85"/>
                  <a:pt x="372" y="81"/>
                  <a:pt x="370" y="78"/>
                </a:cubicBezTo>
                <a:cubicBezTo>
                  <a:pt x="294" y="3"/>
                  <a:pt x="294" y="3"/>
                  <a:pt x="294" y="3"/>
                </a:cubicBezTo>
                <a:cubicBezTo>
                  <a:pt x="294" y="2"/>
                  <a:pt x="293" y="2"/>
                  <a:pt x="293" y="2"/>
                </a:cubicBezTo>
                <a:cubicBezTo>
                  <a:pt x="292" y="1"/>
                  <a:pt x="290" y="0"/>
                  <a:pt x="287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66"/>
                  <a:pt x="0" y="166"/>
                  <a:pt x="0" y="166"/>
                </a:cubicBezTo>
                <a:lnTo>
                  <a:pt x="287" y="166"/>
                </a:ln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4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5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6"/>
          </p:nvPr>
        </p:nvSpPr>
        <p:spPr>
          <a:xfrm>
            <a:off x="531360" y="452916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E6FDAE-6A35-4F71-846E-0057912986E3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138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39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0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1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2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3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4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5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6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7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8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9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50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151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2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3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4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5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6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7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8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9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0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1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2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63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4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7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8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9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52A4963-2CEB-4E8A-BFBC-14FBEF2BCAD0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207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8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9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0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1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2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3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4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5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6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7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8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219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220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1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2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3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4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5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6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7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8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9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0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1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32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3" name="Freeform 11"/>
          <p:cNvSpPr/>
          <p:nvPr/>
        </p:nvSpPr>
        <p:spPr>
          <a:xfrm flipV="1">
            <a:off x="-4320" y="31773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dt" idx="10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ftr" idx="11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sldNum" idx="12"/>
          </p:nvPr>
        </p:nvSpPr>
        <p:spPr>
          <a:xfrm>
            <a:off x="531360" y="3244320"/>
            <a:ext cx="779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8416001-948C-4593-8BB2-0C0D3CB1F8E7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5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276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7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8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9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0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1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2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3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4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5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6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7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288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289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0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1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2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3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4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5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6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7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8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9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00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01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2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13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14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15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4FFAD1-77AF-4C34-A9A2-77D0672DEFEF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4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345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6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7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8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9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0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1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2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3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4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5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6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357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358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9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0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1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2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3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4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5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6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7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8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9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70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1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16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17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18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F4BE42D-623F-468E-8D5E-69D13B9DAE35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3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414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5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6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7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8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9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0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1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2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3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4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5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426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427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8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9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0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1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2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3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4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5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6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7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8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439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0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dt" idx="19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ftr" idx="20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sldNum" idx="21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5615A8E-DC54-4ABC-96C0-AC796513FFEE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2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483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4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5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6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7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8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9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0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1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2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3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4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495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496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7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8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9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0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1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2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3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4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5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6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7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508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9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 type="dt" idx="22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 type="ftr" idx="23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 type="sldNum" idx="24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1FC2E0A-B765-45BF-9D12-52F39972F9A9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1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552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3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4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5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6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7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8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9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0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1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2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3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564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565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6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7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8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9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0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1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2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3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4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5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6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577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8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 type="dt" idx="25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 type="ftr" idx="26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 type="sldNum" idx="27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208CB4C-881D-4027-9D8E-48751E973FEB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2588760" y="2514600"/>
            <a:ext cx="8915400" cy="226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6500" spc="-1" strike="noStrike">
                <a:solidFill>
                  <a:srgbClr val="262626"/>
                </a:solidFill>
                <a:latin typeface="Century Gothic"/>
              </a:rPr>
              <a:t>Подсказки для экспериментов</a:t>
            </a:r>
            <a:endParaRPr b="0" lang="en-US" sz="6500" spc="-1" strike="noStrike">
              <a:solidFill>
                <a:srgbClr val="26262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7" name="Объект 3" descr=""/>
          <p:cNvPicPr/>
          <p:nvPr/>
        </p:nvPicPr>
        <p:blipFill>
          <a:blip r:embed="rId1"/>
          <a:stretch/>
        </p:blipFill>
        <p:spPr>
          <a:xfrm>
            <a:off x="2892600" y="1819440"/>
            <a:ext cx="6756120" cy="4860720"/>
          </a:xfrm>
          <a:prstGeom prst="rect">
            <a:avLst/>
          </a:prstGeom>
          <a:ln w="0">
            <a:noFill/>
          </a:ln>
        </p:spPr>
      </p:pic>
      <p:sp>
        <p:nvSpPr>
          <p:cNvPr id="1178" name="Прямоугольник 1"/>
          <p:cNvSpPr/>
          <p:nvPr/>
        </p:nvSpPr>
        <p:spPr>
          <a:xfrm>
            <a:off x="2448000" y="249120"/>
            <a:ext cx="8824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111111"/>
                </a:solidFill>
                <a:latin typeface="Arial"/>
              </a:rPr>
              <a:t>Опыт: «Что растворяется в воде?»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111111"/>
                </a:solidFill>
                <a:latin typeface="Arial"/>
              </a:rPr>
              <a:t>Дать детям с водой, сахар, соль и предложить растворить в воде. (Вода с солью и сахаром растворились, стали невидимы в воде)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9" name="Picture 2" descr="ÐÐ°ÑÑÐ¸Ð½ÐºÐ¸ Ð¿Ð¾ Ð·Ð°Ð¿ÑÐ¾ÑÑ Ð°Ð»Ð³Ð¾ÑÐ¸ÑÐ¼ Ð¿ÑÐ¾Ð²ÐµÐ´ÐµÐ½Ð¸Ñ Ð¾Ð¿ÑÑÐ¾Ð²"/>
          <p:cNvPicPr/>
          <p:nvPr/>
        </p:nvPicPr>
        <p:blipFill>
          <a:blip r:embed="rId1"/>
          <a:stretch/>
        </p:blipFill>
        <p:spPr>
          <a:xfrm>
            <a:off x="7824960" y="831960"/>
            <a:ext cx="3933720" cy="5686200"/>
          </a:xfrm>
          <a:prstGeom prst="rect">
            <a:avLst/>
          </a:prstGeom>
          <a:ln w="0">
            <a:noFill/>
          </a:ln>
        </p:spPr>
      </p:pic>
      <p:sp>
        <p:nvSpPr>
          <p:cNvPr id="1180" name="Прямоугольник 1"/>
          <p:cNvSpPr/>
          <p:nvPr/>
        </p:nvSpPr>
        <p:spPr>
          <a:xfrm>
            <a:off x="1519200" y="1089000"/>
            <a:ext cx="6095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«Дружба красок»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1. Берем три банки гуаши (красный., желтый, синий)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2. Берем три стакана с водой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3. В первом стакане смешиваем красный и желтый цвета – получился оранжевый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4. Во втором стакане смешиваем синий и красный – получаем фиолетовый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5. В третьем стакане смешиваем желтый и синий – получаем зеленый. Почему?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1" name="Picture 2" descr="ÐÐ°ÑÑÐ¸Ð½ÐºÐ¸ Ð¿Ð¾ Ð·Ð°Ð¿ÑÐ¾ÑÑ Ð°Ð»Ð³Ð¾ÑÐ¸ÑÐ¼ Ð¿ÑÐ¾Ð²ÐµÐ´ÐµÐ½Ð¸Ñ Ð¾Ð¿ÑÑÐ¾Ð²"/>
          <p:cNvPicPr/>
          <p:nvPr/>
        </p:nvPicPr>
        <p:blipFill>
          <a:blip r:embed="rId1"/>
          <a:stretch/>
        </p:blipFill>
        <p:spPr>
          <a:xfrm>
            <a:off x="4518000" y="888840"/>
            <a:ext cx="7434360" cy="5077080"/>
          </a:xfrm>
          <a:prstGeom prst="rect">
            <a:avLst/>
          </a:prstGeom>
          <a:ln w="0">
            <a:noFill/>
          </a:ln>
        </p:spPr>
      </p:pic>
      <p:sp>
        <p:nvSpPr>
          <p:cNvPr id="1182" name="Прямоугольник 1"/>
          <p:cNvSpPr/>
          <p:nvPr/>
        </p:nvSpPr>
        <p:spPr>
          <a:xfrm>
            <a:off x="495360" y="144360"/>
            <a:ext cx="402264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Загадочная бумага»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Ставим два одинаковых стакана, кладем на них лист бумаги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На этот лист ставим третий стакан. Что произошло?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Бумага не выдержала веса стакана и прогнулась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Складываем тот же лист гармошкой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Кладем, сложенный гармошкой лист, на два стакана, а сверху третий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Что произошло? Почему?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3" name="Picture 2" descr="ÐÐ°ÑÑÐ¸Ð½ÐºÐ¸ Ð¿Ð¾ Ð·Ð°Ð¿ÑÐ¾ÑÑ Ð°Ð»Ð³Ð¾ÑÐ¸ÑÐ¼ Ð¿ÑÐ¾Ð²ÐµÐ´ÐµÐ½Ð¸Ñ Ð¾Ð¿ÑÑÐ¾Ð²"/>
          <p:cNvPicPr/>
          <p:nvPr/>
        </p:nvPicPr>
        <p:blipFill>
          <a:blip r:embed="rId1"/>
          <a:stretch/>
        </p:blipFill>
        <p:spPr>
          <a:xfrm>
            <a:off x="5308560" y="623880"/>
            <a:ext cx="6537240" cy="5589720"/>
          </a:xfrm>
          <a:prstGeom prst="rect">
            <a:avLst/>
          </a:prstGeom>
          <a:ln w="0">
            <a:noFill/>
          </a:ln>
        </p:spPr>
      </p:pic>
      <p:sp>
        <p:nvSpPr>
          <p:cNvPr id="1184" name="Прямоугольник 1"/>
          <p:cNvSpPr/>
          <p:nvPr/>
        </p:nvSpPr>
        <p:spPr>
          <a:xfrm>
            <a:off x="660240" y="1295280"/>
            <a:ext cx="4648320" cy="338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Крашеные цветы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надобится: цветы, емкости для воды, вода, пищевые красители, ножницы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ультат: вода поднимется по стеблям и окрасит лепестки в разные цвета. Произойдет это примерно через сутки. Поговорим? Обследуйте каждую часть цветка, чтобы увидеть, как поднималась вода. Закрашены ли стебель и листья? Как долго сохранится цвет?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5" name="Picture 2" descr="ÐÐ°ÑÑÐ¸Ð½ÐºÐ¸ Ð¿Ð¾ Ð·Ð°Ð¿ÑÐ¾ÑÑ Ð°Ð»Ð³Ð¾ÑÐ¸ÑÐ¼ Ð¿ÑÐ¾Ð²ÐµÐ´ÐµÐ½Ð¸Ñ Ð¾Ð¿ÑÑÐ¾Ð²"/>
          <p:cNvPicPr/>
          <p:nvPr/>
        </p:nvPicPr>
        <p:blipFill>
          <a:blip r:embed="rId1"/>
          <a:stretch/>
        </p:blipFill>
        <p:spPr>
          <a:xfrm>
            <a:off x="5281560" y="623880"/>
            <a:ext cx="6678720" cy="5164200"/>
          </a:xfrm>
          <a:prstGeom prst="rect">
            <a:avLst/>
          </a:prstGeom>
          <a:ln w="0">
            <a:noFill/>
          </a:ln>
        </p:spPr>
      </p:pic>
      <p:sp>
        <p:nvSpPr>
          <p:cNvPr id="1186" name="Прямоугольник 2"/>
          <p:cNvSpPr/>
          <p:nvPr/>
        </p:nvSpPr>
        <p:spPr>
          <a:xfrm>
            <a:off x="1523880" y="1087560"/>
            <a:ext cx="3757680" cy="439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Опыт :«Чудо магнит»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 развитие познавательной активности детей в процессе знакомства со свойством магнитов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Действует ли магнит в воде»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вод.  Магнит притягивает металлические предметы через воду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7" name="Picture 4" descr="ÐÐ°ÑÑÐ¸Ð½ÐºÐ¸ Ð¿Ð¾ Ð·Ð°Ð¿ÑÐ¾ÑÑ ÑÐºÑÐ¿ÐµÑÐ¸Ð¼ÐµÐ½ÑÑ Ñ Ð²Ð¾Ð´Ð¾Ð¹"/>
          <p:cNvPicPr/>
          <p:nvPr/>
        </p:nvPicPr>
        <p:blipFill>
          <a:blip r:embed="rId1"/>
          <a:stretch/>
        </p:blipFill>
        <p:spPr>
          <a:xfrm>
            <a:off x="5403960" y="679320"/>
            <a:ext cx="6127560" cy="5273640"/>
          </a:xfrm>
          <a:prstGeom prst="rect">
            <a:avLst/>
          </a:prstGeom>
          <a:ln w="0">
            <a:noFill/>
          </a:ln>
        </p:spPr>
      </p:pic>
      <p:sp>
        <p:nvSpPr>
          <p:cNvPr id="1188" name="Прямоугольник 1"/>
          <p:cNvSpPr/>
          <p:nvPr/>
        </p:nvSpPr>
        <p:spPr>
          <a:xfrm>
            <a:off x="1150920" y="1244520"/>
            <a:ext cx="40892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Всплывающее яйцо»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леная вода более плотная, чем обычная водопроводная вода, а чем плотнее жидкость, тем легче предмету плавать в ней. 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гда вы опускаете яйцо в первый стакан с обычной водой, яйцо опускается на дно стакана, поскольку плотность воды низкая. Когда вы опускаете яйцо в третий стакан, в котором находится только соляной раствор, яйцо остается на поверхности поскольку плотность соленой воды высокая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9" name="Picture 4" descr="ÐÐ°ÑÑÐ¸Ð½ÐºÐ¸ Ð¿Ð¾ Ð·Ð°Ð¿ÑÐ¾ÑÑ Ð¾Ð¿ÑÑ ÑÐ²ÐµÑÐ¾Ðº Ð»Ð¾ÑÐ¾ÑÐ°"/>
          <p:cNvPicPr/>
          <p:nvPr/>
        </p:nvPicPr>
        <p:blipFill>
          <a:blip r:embed="rId1"/>
          <a:stretch/>
        </p:blipFill>
        <p:spPr>
          <a:xfrm>
            <a:off x="324000" y="407880"/>
            <a:ext cx="3643200" cy="2730600"/>
          </a:xfrm>
          <a:prstGeom prst="rect">
            <a:avLst/>
          </a:prstGeom>
          <a:ln w="0">
            <a:noFill/>
          </a:ln>
        </p:spPr>
      </p:pic>
      <p:pic>
        <p:nvPicPr>
          <p:cNvPr id="1190" name="Picture 6" descr="ÐÐ¾ÑÐ¾Ð¶ÐµÐµ Ð¸Ð·Ð¾Ð±ÑÐ°Ð¶ÐµÐ½Ð¸Ðµ"/>
          <p:cNvPicPr/>
          <p:nvPr/>
        </p:nvPicPr>
        <p:blipFill>
          <a:blip r:embed="rId2"/>
          <a:stretch/>
        </p:blipFill>
        <p:spPr>
          <a:xfrm>
            <a:off x="3967200" y="2120760"/>
            <a:ext cx="4259160" cy="3194280"/>
          </a:xfrm>
          <a:prstGeom prst="rect">
            <a:avLst/>
          </a:prstGeom>
          <a:ln w="0">
            <a:noFill/>
          </a:ln>
        </p:spPr>
      </p:pic>
      <p:pic>
        <p:nvPicPr>
          <p:cNvPr id="1191" name="Picture 8" descr="ÐÐ°ÑÑÐ¸Ð½ÐºÐ¸ Ð¿Ð¾ Ð·Ð°Ð¿ÑÐ¾ÑÑ Ð¾Ð¿ÑÑ ÑÐ²ÐµÑÐ¾Ðº Ð»Ð¾ÑÐ¾ÑÐ°"/>
          <p:cNvPicPr/>
          <p:nvPr/>
        </p:nvPicPr>
        <p:blipFill>
          <a:blip r:embed="rId3"/>
          <a:srcRect l="5039" t="0" r="9485" b="5131"/>
          <a:stretch/>
        </p:blipFill>
        <p:spPr>
          <a:xfrm>
            <a:off x="8226360" y="3718080"/>
            <a:ext cx="3411720" cy="2838240"/>
          </a:xfrm>
          <a:prstGeom prst="rect">
            <a:avLst/>
          </a:prstGeom>
          <a:ln w="0">
            <a:noFill/>
          </a:ln>
        </p:spPr>
      </p:pic>
      <p:sp>
        <p:nvSpPr>
          <p:cNvPr id="1192" name="Прямоугольник 1"/>
          <p:cNvSpPr/>
          <p:nvPr/>
        </p:nvSpPr>
        <p:spPr>
          <a:xfrm>
            <a:off x="5541840" y="573120"/>
            <a:ext cx="6096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ыт «Цветы лотоса»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вод. Вода впитывается в пористые предметы, которые в неё попадают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3" name="Picture 2" descr="ÐÐ°ÑÑÐ¸Ð½ÐºÐ¸ Ð¿Ð¾ Ð·Ð°Ð¿ÑÐ¾ÑÑ Ð¾Ð¿ÑÑ ÑÑÐ´ÐµÑÐ½ÑÐµ ÑÐ¿Ð¸ÑÐºÐ¸"/>
          <p:cNvPicPr/>
          <p:nvPr/>
        </p:nvPicPr>
        <p:blipFill>
          <a:blip r:embed="rId1"/>
          <a:srcRect l="0" t="3538" r="0" b="6017"/>
          <a:stretch/>
        </p:blipFill>
        <p:spPr>
          <a:xfrm>
            <a:off x="4913280" y="650880"/>
            <a:ext cx="6945480" cy="4923000"/>
          </a:xfrm>
          <a:prstGeom prst="rect">
            <a:avLst/>
          </a:prstGeom>
          <a:ln w="0">
            <a:noFill/>
          </a:ln>
        </p:spPr>
      </p:pic>
      <p:sp>
        <p:nvSpPr>
          <p:cNvPr id="1194" name="Прямоугольник 1"/>
          <p:cNvSpPr/>
          <p:nvPr/>
        </p:nvSpPr>
        <p:spPr>
          <a:xfrm>
            <a:off x="1424160" y="1033560"/>
            <a:ext cx="365256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Чудесные спички»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вод. Причина этого явления, которое называется капиллярность, в том, что волокна дерева впитывают влагу. Она ползет все дальше по капиллярам. Дерево набухает, а его уцелевшие волокна "толстеют", и они уже не могут сильно сгибаться и начинают расправляться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9T10:48:32Z</dcterms:created>
  <dc:creator>User</dc:creator>
  <dc:description/>
  <dc:language>en-US</dc:language>
  <cp:lastModifiedBy>User</cp:lastModifiedBy>
  <dcterms:modified xsi:type="dcterms:W3CDTF">2019-01-31T11:30:50Z</dcterms:modified>
  <cp:revision>8</cp:revision>
  <dc:subject/>
  <dc:title>Презентация PowerPoint</dc:title>
</cp:coreProperties>
</file>