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1ED-3E98-40F8-A273-63149F93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27E-DB5F-4EF0-AD80-47A5E123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736D4-C821-4208-9C62-BFEFF81B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6CE16-4DC1-4FFD-9588-73C9DF8A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1FFE0-B200-492E-B1EE-71FBB90E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1132D-1F2E-47BC-97EB-494B2251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69451-B37E-477D-9562-636295C0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AA7D1-D840-4A1E-94FA-10918BB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46013-3126-45FB-A564-F2271E4C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F9D07-DE8B-4CC5-B7F2-A99D2257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A10F7-38E8-4E91-8F4F-A9DB149F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6F3A0-9913-4587-A1E6-206EEB23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E04-FAF6-481A-BE01-324A1E33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20CC2-9878-4C94-88C5-7065EFA7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61F3A-D800-4250-B614-4494881D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445B6-C3FE-4EE6-A685-4C3ADFDD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0BF13-8CDB-42A3-B17A-8DB5F084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97AFA-ECE4-4636-93AF-E03D9736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A6302-AE6A-4837-985D-2E2BBD8F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16B5B-1CFB-4A07-9886-D0DD9C7C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703E7-C489-454A-87D3-AB6195C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CEF8A-6E0C-4560-ABEB-7D0C2821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84835-0945-472B-8920-E577581C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8D8-9E46-4B6C-B695-ABC0F797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3B2B1-63B6-422E-9909-B25DF001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49F9B-7351-473A-B75D-1D2C9F6A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8CCDB-1217-4529-A3D8-251751ED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B6261-1774-4712-B293-5853C242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2A1D9-FD97-4FDA-8434-E91A51ED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122F6-1496-4A6D-B705-CF2E1609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1F27A-B989-4F87-993D-A4A15E95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1670E-D40E-400E-9490-ADF1E6F2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CDAC6-C9B5-4D69-AB50-E8A815C3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26AEA-CB29-4158-8F26-09187EE5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06EC-E7EE-416D-B4C6-E5C74748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8847B-371E-44DA-BEE8-98FEBA9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0B3AB-B148-4AC4-9A06-427D2F6D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BABD4-E45D-4FE1-8F67-46DD9AE9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11881-0987-4437-B662-6CB8B9B6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0BE0D-21B8-4110-918C-12DBB5AD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B72F6-74F6-4FAE-8197-620C763A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39E38-4648-4AC2-A051-869C87BD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96D8B-691A-4A25-BCDD-8D3798B9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A9D1A-9819-4DDF-B396-6DC430EF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298A0-9D24-41A9-9778-AC1742AD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A712-D118-4A44-9BFC-96053CCB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416BC-6852-461C-B4A3-AB41AA14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BA7DB-3812-470F-BAA7-478DF88F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E3E78-B087-4A1F-BCBB-797B4D24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B07A9-E083-4A84-BC15-9965064F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B28E8-61AA-4475-9254-01E28D31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57DDF-0AA4-4B26-88E3-67306FA1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0C41B-FB57-4B1D-9CAC-90750B7D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BF346-0848-484E-BFD1-ADF43967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3DC66-25DE-462C-86BF-E39CE3A0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2B884-3F3C-4904-B0B7-AC558C6C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26F3-452D-43C3-85A5-BDA8BA50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569B4-47B8-4E56-B821-C8C0F528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74454-AAAA-408D-B985-E56ECA38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167EE-5260-4F65-8072-3CF48D5C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9A8C0-15B7-4584-8B1C-306CCCDB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3A16C-C2B8-491F-B852-E58A281F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5EA77-2778-4834-9169-AA19F82A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9087F-8313-4F2D-99B9-D9195AA6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649BE-5F5B-4E28-9688-690F5E5A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9BB1C-8DC6-4D39-8A50-ACA95F13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52719-140B-4FC3-ABE9-F4654837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A53B-7F2B-4558-8FE9-45213F50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941DB-C0E1-48EC-9AA1-79FE6060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1FF06-7979-4CE3-88C1-1C623051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57326-9156-47EA-BD98-9F258C20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AF13D-0DA6-4FA5-9861-4BFE4230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C959B-6797-44BB-87E7-EBEBC1DC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2AA9B-D49D-410C-9ED4-5248C9A7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ED2DD6-649C-4558-9173-0F7FC085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C0B85-6247-4E8A-9E39-9BC5CFDF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123C3-7C5B-431D-943A-FB54C4EA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2EFAF-A2F2-4CD7-9E9B-82B64924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2C4B-8394-4BFE-86BB-CF225835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754B0-2A33-41C9-8951-892BB5B3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090FE-8A62-460E-9DF1-BE2977C1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2E9A2-0930-4643-A380-1BEA9793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948E5-9DD1-4CAA-8E03-8E94037C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5D8F9-2759-4652-BC08-0235FAB6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1C3AF-1774-482C-B706-BE389D93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8C689-975F-4C55-9BD1-556FB938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2F660-B940-42A5-B7EC-9098259F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345BF-F291-4D0F-9C07-35D7B633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A7100-66DD-47BF-AD15-13900B3A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7288-2117-4FA5-A768-B69D7A17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88E89-775B-48EE-92FA-BED20541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BCE2C-7B47-4EDD-9486-EC731C72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93AB9-081D-4EA0-A143-56545D02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79297-47F5-428E-A9F8-23804915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43ECF-9298-460F-9737-8180250C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2A6FF-145E-4093-9EC6-C7BF2E15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0F26D-5830-420D-AB3A-81EE5565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712C9-15CE-4FFC-AE24-63CA9BD2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AA0D5B-C344-4D1E-A526-B13E4424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624D6-1B54-4307-B08C-CBBECFD6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B63C-226D-491F-B86A-59C2C83E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0B3BF-664D-4AB9-B15A-7CA6590F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B7BBE-292C-49C7-9862-F916295B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6CD9C-8DE9-425F-9C19-3704AE9B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1C29E-EDFC-4483-B03C-884EFFE1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76287-87B9-4DF6-BC2D-CDFBF2F6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806A1-60B2-4808-94AA-49D69F29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E6835-1577-4722-AA7A-93E420E4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E885A-3500-41C6-B57D-C357D465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2C3E9-D2A3-4BC3-A17F-7737AB51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BE8CF-619F-4666-8719-85D867AF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99F-C7AB-4293-BC7E-9BEAB47A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07C0-E20B-4267-8181-E69266BB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65397-0456-4369-B7EA-4447F2F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78D9C-7E44-46D1-98FF-93BD5646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2680A9-EA65-4636-92FC-E0CBCA1B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D3A034-572A-40C9-B729-7408581F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BA0E0B-22AD-4B2F-A603-0FECA5CA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67AA-97E4-46D7-AAFC-9D9A100A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4B08-CAC6-4A81-B410-6DAF4E63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3484-439A-46F3-8206-BC7155C2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8D2F-B5B5-47DF-BEBF-FB854422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FFB7-3517-457C-8167-35157B9B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1E76-870D-4E9C-9A05-E44F731C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7DD88-6EBB-4046-BF71-FEB54090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73A46-0235-43BF-8A89-513E4366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9F719-D3EC-4339-9635-14D4B814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FF3-A503-4419-9261-7D5206C5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C6F6-4A6C-4A0C-877C-2E6737F8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589C-D246-410F-AF73-B985D78C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B831-2C45-4CFA-A485-99E26A7F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19A2-0865-4B47-8DCD-CBB70444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E317-1D98-4A21-AF1C-92C32C2B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D56F-E7F6-4D31-B681-32DC9121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1577-8560-45B3-80D8-018BD52D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AE40-6760-4F93-BE7B-ECCB31B1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AFDC2-F2A3-40A7-B799-A9AAC42B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29624-6163-4607-A270-85FAECC6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84C-D998-4FE7-81DC-BEA34465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CE033-1E54-4E3A-820E-0407E81C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BD8B9-60EF-4D0D-BCA8-0A62B31A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6F8D-B944-41D0-A9E9-E4E9045A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F6CB1-4BDB-4F84-B0FA-6B8157CC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1F3A5-EC39-4217-BE90-0EA0666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EFF24-6D4F-417D-B7DC-EE7A33E0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AA83D-5398-400E-A1A7-6D361679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A5D7-048F-4C5D-83FC-3AE94EF0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75A3F-6CC0-49CD-87CA-4B97717F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58D5D-AE13-4363-AC39-BF5E5190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78F-5B62-4CDC-A8B5-31A2A51E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B14F1-D445-4D99-B7CF-91758B0E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E9E4C-5FD1-4A0D-A151-2E96C1D4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3232D-67B1-4E81-BCB9-647F4EBA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40D5-2F19-46BD-AD82-CD8DCA65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E53F-9DFD-4A35-98CA-3D73F184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632A-E570-42D2-895C-5F155C2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FEE4D-6947-4E84-B16B-5A2D0798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4CFB6-25C5-48B7-B817-72A38490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52A36-4B5B-4163-8508-C16F0E2D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40036-CA50-4E19-B19B-A1E2A3FD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0A2-5758-4610-A4AC-734E5574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098E5-AF23-4972-9752-642C3E7E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3A84-0035-4F71-BADC-C9104B8D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2A813-51D6-42C2-A1CE-41C31B8B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AA2EC-FC37-41FE-B829-9EC04201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CAFC6-720C-4E50-A19D-58419C70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797EF-75F3-4D1A-9373-9B1035EF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3191-DBC3-4A4B-9EF0-EDA8B20C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531F5-385C-4D3A-8A5F-5693F84F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B6F2E-9322-4245-94ED-B4B5D9DB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BB7B-02C3-451C-87B3-AD9ADD07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FB6-251C-44F7-9959-C9309BBF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429B2-F2AC-45CD-8108-5E86EBED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A8B58-4850-4AB3-95FB-4E560E40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36B6B-EB6A-4293-91BB-D79DC9A4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41894-393F-43AA-B066-D61EA39C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7966A-5B4F-4E01-B022-A7AE8DBC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F4899-54F2-4E64-B8F7-F2373670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3E852-5568-4401-B707-F80388D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411A-AF5C-4DFB-B50F-5CA45ADB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0948D-9EEB-44D3-80A7-6A5EDE76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020E6-312E-4CCB-8E5E-A7C603D1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F43-2695-47CD-ACC9-8828120A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4FD23-792C-4ED3-B582-D3C41979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1242B-FC1C-4B96-9B62-BF7C1BB0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C2B9B-47BA-450F-8128-6DAFE7E8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CBA0-173C-4B90-A713-7810B2C1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E584A-AAEC-4DDA-9901-33C82F2B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07D8B-C297-4A7C-960B-54267A63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78BEA-CF5E-43E7-B2E0-184ED034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46E84-E681-4C6B-85C8-1777C6EF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EA4FE-12CC-4751-91FB-44A05C3D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6A2C1-69F2-4425-94A7-DE5FDBEF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B98-0015-4FC1-9749-2CBC3F73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8FF6B-5399-4730-A69E-56C69584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9A4C1-62D1-479B-BB25-1092CBAE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0B0A9-5777-437F-92C0-D8C409C2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D75B2-5CF1-4DFC-AAC7-F59AF3E3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4480D-57EC-4174-82C6-677B36C2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B80FB-6CAE-4359-8ECC-FCD58AF4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8242A-FF31-4FE4-9382-3BE6C18F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87F0F-C05B-4BF0-8E3F-0F53A091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27256-290C-41C0-BC81-4D57919B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4C78A-CC57-4C22-BD8A-E80BAEF8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57778-9B6C-4618-B64A-9DE3D5590B8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6C26C-96CC-46CE-99C8-64D245E6684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67469-E92D-445B-979B-46B1D12FB0B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AB564-3363-48F6-9B15-F25260A66C4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5B9E0-72D1-49D1-B50F-22353C85744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1241B-CD21-40A5-8C8D-5BEAB9EA5EA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EFE82-4222-4274-A888-AA65FB3A2A0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66DBE-CBD1-44B9-8C10-31F0DDB19F8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95158-734A-4285-BEC4-F6576F9C0AD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BB4B1-9A1A-45E5-9BC3-3B0080B89F8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02627-E9C0-4EAD-8FC1-4C0EAA895CD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43C66-3158-429C-9E53-D41B036BD70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632EF-47C8-4499-B7C5-C9AE4D2DED1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4FAD5-E733-4507-93CB-F6A98A0F3EC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24DF4-74E0-4671-97FF-F5DC1E819E8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4F1BE-E0D9-4706-B763-7D180C4038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16BD1-B653-42C5-B9B6-928276E7D0E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500" spc="-1" strike="noStrike">
                <a:solidFill>
                  <a:srgbClr val="262626"/>
                </a:solidFill>
                <a:latin typeface="Century Gothic"/>
              </a:rPr>
              <a:t>Подсказки для экспериментов</a:t>
            </a:r>
            <a:endParaRPr b="0" lang="en-US" sz="65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Объект 3" descr=""/>
          <p:cNvPicPr/>
          <p:nvPr/>
        </p:nvPicPr>
        <p:blipFill>
          <a:blip r:embed="rId1"/>
          <a:stretch/>
        </p:blipFill>
        <p:spPr>
          <a:xfrm>
            <a:off x="2892600" y="1819440"/>
            <a:ext cx="6756120" cy="4860720"/>
          </a:xfrm>
          <a:prstGeom prst="rect">
            <a:avLst/>
          </a:prstGeom>
          <a:ln w="0">
            <a:noFill/>
          </a:ln>
        </p:spPr>
      </p:pic>
      <p:sp>
        <p:nvSpPr>
          <p:cNvPr id="1178" name="Прямоугольник 1"/>
          <p:cNvSpPr/>
          <p:nvPr/>
        </p:nvSpPr>
        <p:spPr>
          <a:xfrm>
            <a:off x="2448000" y="249120"/>
            <a:ext cx="88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Arial"/>
              </a:rPr>
              <a:t>Опыт: «Что растворяется в воде?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Дать детям с водой, сахар, соль и предложить растворить в воде. (Вода с солью и сахаром растворились, стали невидимы в воде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Picture 2" descr="ÐÐ°ÑÑÐ¸Ð½ÐºÐ¸ Ð¿Ð¾ Ð·Ð°Ð¿ÑÐ¾ÑÑ Ð°Ð»Ð³Ð¾ÑÐ¸ÑÐ¼ Ð¿ÑÐ¾Ð²ÐµÐ´ÐµÐ½Ð¸Ñ Ð¾Ð¿ÑÑÐ¾Ð²"/>
          <p:cNvPicPr/>
          <p:nvPr/>
        </p:nvPicPr>
        <p:blipFill>
          <a:blip r:embed="rId1"/>
          <a:stretch/>
        </p:blipFill>
        <p:spPr>
          <a:xfrm>
            <a:off x="7824960" y="831960"/>
            <a:ext cx="3933720" cy="5686200"/>
          </a:xfrm>
          <a:prstGeom prst="rect">
            <a:avLst/>
          </a:prstGeom>
          <a:ln w="0">
            <a:noFill/>
          </a:ln>
        </p:spPr>
      </p:pic>
      <p:sp>
        <p:nvSpPr>
          <p:cNvPr id="1180" name="Прямоугольник 1"/>
          <p:cNvSpPr/>
          <p:nvPr/>
        </p:nvSpPr>
        <p:spPr>
          <a:xfrm>
            <a:off x="1519200" y="1089000"/>
            <a:ext cx="6095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«Дружба красок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 Берем три банки гуаши (красный., желтый, синий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Берем три стакана с водо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 В первом стакане смешиваем красный и желтый цвета – получился оранжевы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4. Во втором стакане смешиваем синий и красный – получаем фиолетовы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5. В третьем стакане смешиваем желтый и синий – получаем зеленый. Почему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ÐÐ°ÑÑÐ¸Ð½ÐºÐ¸ Ð¿Ð¾ Ð·Ð°Ð¿ÑÐ¾ÑÑ Ð°Ð»Ð³Ð¾ÑÐ¸ÑÐ¼ Ð¿ÑÐ¾Ð²ÐµÐ´ÐµÐ½Ð¸Ñ Ð¾Ð¿ÑÑÐ¾Ð²"/>
          <p:cNvPicPr/>
          <p:nvPr/>
        </p:nvPicPr>
        <p:blipFill>
          <a:blip r:embed="rId1"/>
          <a:stretch/>
        </p:blipFill>
        <p:spPr>
          <a:xfrm>
            <a:off x="4518000" y="888840"/>
            <a:ext cx="7434360" cy="5077080"/>
          </a:xfrm>
          <a:prstGeom prst="rect">
            <a:avLst/>
          </a:prstGeom>
          <a:ln w="0">
            <a:noFill/>
          </a:ln>
        </p:spPr>
      </p:pic>
      <p:sp>
        <p:nvSpPr>
          <p:cNvPr id="1182" name="Прямоугольник 1"/>
          <p:cNvSpPr/>
          <p:nvPr/>
        </p:nvSpPr>
        <p:spPr>
          <a:xfrm>
            <a:off x="495360" y="144360"/>
            <a:ext cx="4022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агадочная бумага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авим два одинаковых стакана, кладем на них лист бумаг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этот лист ставим третий стакан. Что произошло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умага не выдержала веса стакана и прогнулась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кладываем тот же лист гармошко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ладем, сложенный гармошкой лист, на два стакана, а сверху трети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произошло? Почему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2" descr="ÐÐ°ÑÑÐ¸Ð½ÐºÐ¸ Ð¿Ð¾ Ð·Ð°Ð¿ÑÐ¾ÑÑ Ð°Ð»Ð³Ð¾ÑÐ¸ÑÐ¼ Ð¿ÑÐ¾Ð²ÐµÐ´ÐµÐ½Ð¸Ñ Ð¾Ð¿ÑÑÐ¾Ð²"/>
          <p:cNvPicPr/>
          <p:nvPr/>
        </p:nvPicPr>
        <p:blipFill>
          <a:blip r:embed="rId1"/>
          <a:stretch/>
        </p:blipFill>
        <p:spPr>
          <a:xfrm>
            <a:off x="5308560" y="623880"/>
            <a:ext cx="6537240" cy="5589720"/>
          </a:xfrm>
          <a:prstGeom prst="rect">
            <a:avLst/>
          </a:prstGeom>
          <a:ln w="0">
            <a:noFill/>
          </a:ln>
        </p:spPr>
      </p:pic>
      <p:sp>
        <p:nvSpPr>
          <p:cNvPr id="1184" name="Прямоугольник 1"/>
          <p:cNvSpPr/>
          <p:nvPr/>
        </p:nvSpPr>
        <p:spPr>
          <a:xfrm>
            <a:off x="660240" y="1295280"/>
            <a:ext cx="464832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рашеные цвет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добится: цветы, емкости для воды, вода, пищевые красители, ножниц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 вода поднимется по стеблям и окрасит лепестки в разные цвета. Произойдет это примерно через сутки. Поговорим? Обследуйте каждую часть цветка, чтобы увидеть, как поднималась вода. Закрашены ли стебель и листья? Как долго сохранится цвет?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2" descr="ÐÐ°ÑÑÐ¸Ð½ÐºÐ¸ Ð¿Ð¾ Ð·Ð°Ð¿ÑÐ¾ÑÑ Ð°Ð»Ð³Ð¾ÑÐ¸ÑÐ¼ Ð¿ÑÐ¾Ð²ÐµÐ´ÐµÐ½Ð¸Ñ Ð¾Ð¿ÑÑÐ¾Ð²"/>
          <p:cNvPicPr/>
          <p:nvPr/>
        </p:nvPicPr>
        <p:blipFill>
          <a:blip r:embed="rId1"/>
          <a:stretch/>
        </p:blipFill>
        <p:spPr>
          <a:xfrm>
            <a:off x="5281560" y="623880"/>
            <a:ext cx="6678720" cy="5164200"/>
          </a:xfrm>
          <a:prstGeom prst="rect">
            <a:avLst/>
          </a:prstGeom>
          <a:ln w="0">
            <a:noFill/>
          </a:ln>
        </p:spPr>
      </p:pic>
      <p:sp>
        <p:nvSpPr>
          <p:cNvPr id="1186" name="Прямоугольник 2"/>
          <p:cNvSpPr/>
          <p:nvPr/>
        </p:nvSpPr>
        <p:spPr>
          <a:xfrm>
            <a:off x="1523880" y="1087560"/>
            <a:ext cx="37576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пыт :«Чудо магнит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звитие познавательной активности детей в процессе знакомства со свойством магнит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йствует ли магнит в воде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.  Магнит притягивает металлические предметы через вод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4" descr="ÐÐ°ÑÑÐ¸Ð½ÐºÐ¸ Ð¿Ð¾ Ð·Ð°Ð¿ÑÐ¾ÑÑ ÑÐºÑÐ¿ÐµÑÐ¸Ð¼ÐµÐ½ÑÑ Ñ Ð²Ð¾Ð´Ð¾Ð¹"/>
          <p:cNvPicPr/>
          <p:nvPr/>
        </p:nvPicPr>
        <p:blipFill>
          <a:blip r:embed="rId1"/>
          <a:stretch/>
        </p:blipFill>
        <p:spPr>
          <a:xfrm>
            <a:off x="5403960" y="679320"/>
            <a:ext cx="6127560" cy="5273640"/>
          </a:xfrm>
          <a:prstGeom prst="rect">
            <a:avLst/>
          </a:prstGeom>
          <a:ln w="0">
            <a:noFill/>
          </a:ln>
        </p:spPr>
      </p:pic>
      <p:sp>
        <p:nvSpPr>
          <p:cNvPr id="1188" name="Прямоугольник 1"/>
          <p:cNvSpPr/>
          <p:nvPr/>
        </p:nvSpPr>
        <p:spPr>
          <a:xfrm>
            <a:off x="1150920" y="1244520"/>
            <a:ext cx="4089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плывающее яйцо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еная вода более плотная, чем обычная водопроводная вода, а чем плотнее жидкость, тем легче предмету плавать в ней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ы опускаете яйцо в первый стакан с обычной водой, яйцо опускается на дно стакана, поскольку плотность воды низкая. Когда вы опускаете яйцо в третий стакан, в котором находится только соляной раствор, яйцо остается на поверхности поскольку плотность соленой воды высока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Picture 4" descr="ÐÐ°ÑÑÐ¸Ð½ÐºÐ¸ Ð¿Ð¾ Ð·Ð°Ð¿ÑÐ¾ÑÑ Ð¾Ð¿ÑÑ ÑÐ²ÐµÑÐ¾Ðº Ð»Ð¾ÑÐ¾ÑÐ°"/>
          <p:cNvPicPr/>
          <p:nvPr/>
        </p:nvPicPr>
        <p:blipFill>
          <a:blip r:embed="rId1"/>
          <a:stretch/>
        </p:blipFill>
        <p:spPr>
          <a:xfrm>
            <a:off x="324000" y="407880"/>
            <a:ext cx="3643200" cy="273060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6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3967200" y="2120760"/>
            <a:ext cx="4259160" cy="319428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8" descr="ÐÐ°ÑÑÐ¸Ð½ÐºÐ¸ Ð¿Ð¾ Ð·Ð°Ð¿ÑÐ¾ÑÑ Ð¾Ð¿ÑÑ ÑÐ²ÐµÑÐ¾Ðº Ð»Ð¾ÑÐ¾ÑÐ°"/>
          <p:cNvPicPr/>
          <p:nvPr/>
        </p:nvPicPr>
        <p:blipFill>
          <a:blip r:embed="rId3"/>
          <a:srcRect l="5039" t="0" r="9485" b="5131"/>
          <a:stretch/>
        </p:blipFill>
        <p:spPr>
          <a:xfrm>
            <a:off x="8226360" y="3718080"/>
            <a:ext cx="3411720" cy="2838240"/>
          </a:xfrm>
          <a:prstGeom prst="rect">
            <a:avLst/>
          </a:prstGeom>
          <a:ln w="0">
            <a:noFill/>
          </a:ln>
        </p:spPr>
      </p:pic>
      <p:sp>
        <p:nvSpPr>
          <p:cNvPr id="1192" name="Прямоугольник 1"/>
          <p:cNvSpPr/>
          <p:nvPr/>
        </p:nvSpPr>
        <p:spPr>
          <a:xfrm>
            <a:off x="5541840" y="5731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«Цветы лотоса»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. Вода впитывается в пористые предметы, которые в неё попадают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Picture 2" descr="ÐÐ°ÑÑÐ¸Ð½ÐºÐ¸ Ð¿Ð¾ Ð·Ð°Ð¿ÑÐ¾ÑÑ Ð¾Ð¿ÑÑ ÑÑÐ´ÐµÑÐ½ÑÐµ ÑÐ¿Ð¸ÑÐºÐ¸"/>
          <p:cNvPicPr/>
          <p:nvPr/>
        </p:nvPicPr>
        <p:blipFill>
          <a:blip r:embed="rId1"/>
          <a:srcRect l="0" t="3538" r="0" b="6017"/>
          <a:stretch/>
        </p:blipFill>
        <p:spPr>
          <a:xfrm>
            <a:off x="4913280" y="650880"/>
            <a:ext cx="6945480" cy="4923000"/>
          </a:xfrm>
          <a:prstGeom prst="rect">
            <a:avLst/>
          </a:prstGeom>
          <a:ln w="0">
            <a:noFill/>
          </a:ln>
        </p:spPr>
      </p:pic>
      <p:sp>
        <p:nvSpPr>
          <p:cNvPr id="1194" name="Прямоугольник 1"/>
          <p:cNvSpPr/>
          <p:nvPr/>
        </p:nvSpPr>
        <p:spPr>
          <a:xfrm>
            <a:off x="1424160" y="1033560"/>
            <a:ext cx="365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есные спички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. Причина этого явления, которое называется капиллярность, в том, что волокна дерева впитывают влагу. Она ползет все дальше по капиллярам. Дерево набухает, а его уцелевшие волокна "толстеют", и они уже не могут сильно сгибаться и начинают расправлятьс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0:48:32Z</dcterms:created>
  <dc:creator>User</dc:creator>
  <dc:description/>
  <dc:language>en-US</dc:language>
  <cp:lastModifiedBy>User</cp:lastModifiedBy>
  <dcterms:modified xsi:type="dcterms:W3CDTF">2019-01-31T11:30:50Z</dcterms:modified>
  <cp:revision>8</cp:revision>
  <dc:subject/>
  <dc:title>Презентация PowerPoint</dc:title>
</cp:coreProperties>
</file>