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gif" ContentType="image/gif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7682-9039-4088-86B4-6CF7015D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998-DD47-438D-AC99-B3966438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64CE-B7A1-4F3F-8656-8DCD0D3B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1DC-8F2E-4A99-A32F-2DF2F586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12C3-7625-4603-98EF-B584A0F9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FE6-4069-497B-9911-EF3B3AF5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DED-A7CE-498A-84CB-D1850911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B6AC-609D-4166-BC52-62B523AE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B7A2-8285-4F74-B559-7E9CE0D3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810-6080-4391-BCBB-4CAB9FD3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3516-3B0B-419E-ADB4-A98C0385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23F0-ECF1-470E-B3E7-048FF6D2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607E-591C-44B2-B1CD-87E1A0FF3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исание поздравительной открытки к Новому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 немец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БОУ «Гимназия №127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лодина Марина Пет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писание открытки- пожел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eber Vater Fro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h war das ganze Jahr so…(gut, brav, hilsbereit, höflic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nke mir,bitte, in diesem Jahre ein(eine, ein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957240"/>
            <a:ext cx="2919240" cy="28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3085920" cy="2314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320840" y="3938760"/>
            <a:ext cx="3106800" cy="2941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364000" y="3498840"/>
            <a:ext cx="31687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писание поздр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248000" cy="2421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780000" cy="265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4551480" cy="2730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364000" y="3860640"/>
            <a:ext cx="34578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638280"/>
            <a:ext cx="856908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316080"/>
            <a:ext cx="828036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7T16:34:17Z</dcterms:created>
  <dc:creator>Star</dc:creator>
  <dc:description/>
  <dc:language>en-US</dc:language>
  <cp:lastModifiedBy>Volodina</cp:lastModifiedBy>
  <dcterms:modified xsi:type="dcterms:W3CDTF">2022-12-01T06:33:25Z</dcterms:modified>
  <cp:revision>4</cp:revision>
  <dc:subject/>
  <dc:title>Слайд 1</dc:title>
</cp:coreProperties>
</file>