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26C-3A95-482F-9E1D-BB4B06A0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882-D44B-4667-B480-B7D9415C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783-2475-45FD-815B-4784FD84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27D-057C-4971-BE78-B6D36754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D4F-D4C0-4B90-A11A-A4FBCC39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AA6-5CB6-47A3-BBE1-EFEF3196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B95-71F4-4610-A380-F06CF43F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14B-8F3E-46A6-8B4D-BE70EDEB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443-13B1-47F1-BB8A-57A449D9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7F5-47A7-48B2-825B-F14F676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14C-F715-4055-A43C-33BD08EB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E5F-2F35-46A9-A4DA-D95B4A2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D303-8A87-40E8-9C4B-249B34B1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исание поздравительной открытки к Новому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немец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ОУ «Гимназия №127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одина Ма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писание открытки- пожел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ber Vater Fr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war das ganze Jahr so…(gut, brav, hilsbereit, höflic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nke mir,bitte, in diesem Jahre ein(eine, ei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957240"/>
            <a:ext cx="2919240" cy="28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085920" cy="23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20840" y="3938760"/>
            <a:ext cx="3106800" cy="294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64000" y="3498840"/>
            <a:ext cx="3168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писание позд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24800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780000" cy="26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551480" cy="273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64000" y="3860640"/>
            <a:ext cx="3457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638280"/>
            <a:ext cx="856908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16080"/>
            <a:ext cx="82803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7T16:34:17Z</dcterms:created>
  <dc:creator>Star</dc:creator>
  <dc:description/>
  <dc:language>en-US</dc:language>
  <cp:lastModifiedBy>Volodina</cp:lastModifiedBy>
  <dcterms:modified xsi:type="dcterms:W3CDTF">2022-12-01T06:33:25Z</dcterms:modified>
  <cp:revision>4</cp:revision>
  <dc:subject/>
  <dc:title>Слайд 1</dc:title>
</cp:coreProperties>
</file>