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58B-1548-4D89-A4EE-D9FE6CD3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EDD-7C3F-4B1E-92D1-183C2238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46D-5A6F-45D1-858B-0BE5C939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432F-5BF4-4F31-88F1-CA13F8D3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7CBE-597D-4CD8-9CDA-10163DB6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5FCD-8754-44F0-BF32-98CB80AD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C880-BFC0-415E-B0B3-246134BA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BB07-492D-48ED-B172-F3B852AF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584C-1CAA-445F-B1A7-1A313C7A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2FD4-7749-4083-9907-686467A4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CF12-D500-4DE8-BC39-89A16FAC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54E-AD4F-43B9-892E-38DD802B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40B4-9141-4489-AFAD-EAEAC4B2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AB63-6C99-451C-B506-14F0A863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0BF7-30B5-4C4D-9465-291D5F89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92D4-A9DF-46FD-9636-894CB39F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FE32-B7B7-486B-935B-C08D0226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618A4-39D3-4E9C-8FD7-0D0040E5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674AC-6E84-4051-999F-AAEE8EBB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40EC1-1526-47CB-BC4D-E677CDA5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307C6-237B-4C8B-A23F-DB8745E9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EDEE-91C9-4CBF-AF32-9B7C258A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28D-6FCE-46F1-8B29-F359D192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A57D5-3C61-4D1F-99A2-1F5E7D6B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5A8F-A901-49D0-BF2D-C8D1D43C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E75D7-8493-481A-B61A-5B4248A3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7A8F8-311A-4A34-A3FD-D217E4F7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7D32-2C59-4FAA-BC6C-6AF95951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2D844-AA87-40CB-B74A-378393C0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809D-07E1-4BE2-B83E-FEB98B14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5C46B-5BAE-4E68-88BC-24A8C8C7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2511-A9E8-4CCE-9CA4-34E4EB7D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D2B19-4A82-4DF2-A032-2B890D50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054-D163-4EE1-AFF5-D71A6EB6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FB75F-C309-41A1-9B70-B8F80B29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7030F-B606-4D80-9773-DA9A9C7C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1A25A-7B3F-4237-BA27-4A3220B9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C2A68-3C60-4BCF-B400-7E5F81FF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36A3B-981F-4FA7-8430-8208A75B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F62CE-85D6-4FF8-AE08-693D2DC4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DDE1C-A8B5-419B-ADF9-FCC40FB5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14CFA-764D-47FC-8354-6A336593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E5C7E-B7B6-4D50-AA27-02914544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618-49CA-41AB-B1EB-45F8D72B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857-93D7-49DC-9FD9-DE3CDEC6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A33-0C33-4878-996E-4DED8596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017-B092-4425-A265-5BACECA4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C3F-E589-498B-961F-D25A4469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2325-BB34-48E4-A8A6-D5E21DA1E4B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6F41-F2CF-45AC-954C-6953FDD3AF2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53D0-18C3-43BD-BE30-835941A1501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BC5C-0AAD-4075-B429-7E05DAC3F62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0;&#1090;&#1072;&#1085;&#1080;&#1077;" TargetMode="External"/><Relationship Id="rId2" Type="http://schemas.openxmlformats.org/officeDocument/2006/relationships/hyperlink" Target="https://ru.wikipedia.org/wiki/&#1047;&#1076;&#1086;&#1088;&#1086;&#1074;&#1100;&#1077;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0;&#1088;&#1091;&#1082;&#1090;" TargetMode="External"/><Relationship Id="rId2" Type="http://schemas.openxmlformats.org/officeDocument/2006/relationships/hyperlink" Target="https://ru.wikipedia.org/wiki/&#1054;&#1074;&#1086;&#1097;&#1080;" TargetMode="External"/><Relationship Id="rId3" Type="http://schemas.openxmlformats.org/officeDocument/2006/relationships/hyperlink" Target="https://ru.wikipedia.org/wiki/&#1062;&#1077;&#1083;&#1100;&#1085;&#1086;&#1079;&#1077;&#1088;&#1085;&#1086;&#1074;&#1099;&#1077;_&#1087;&#1088;&#1086;&#1076;&#1091;&#1082;&#1090;&#1099;" TargetMode="External"/><Relationship Id="rId4" Type="http://schemas.openxmlformats.org/officeDocument/2006/relationships/hyperlink" Target="https://ru.wikipedia.org/wiki/&#1041;&#1086;&#1073;&#1086;&#1074;&#1099;&#1077;_&#1082;&#1091;&#1083;&#1100;&#1090;&#1091;&#1088;&#1099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nestlebaby.ru/products/gerber-fruktovoye-pure-tolko-yabloko-i-yagody" TargetMode="External"/><Relationship Id="rId2" Type="http://schemas.openxmlformats.org/officeDocument/2006/relationships/hyperlink" Target="https://www.nestlebaby.ru/products/gerber-fruktovoye-pure-tolko-yabloko-i-yagody" TargetMode="External"/><Relationship Id="rId3" Type="http://schemas.openxmlformats.org/officeDocument/2006/relationships/hyperlink" Target="https://www.nestlebaby.ru/products/gerber-fruktovoye-pure-tolko-yabloko-i-yagody" TargetMode="External"/><Relationship Id="rId4" Type="http://schemas.openxmlformats.org/officeDocument/2006/relationships/hyperlink" Target="https://www.nestlebaby.ru/products/gerber-fruktovoye-pure-tolko-yabloko-i-yagody" TargetMode="External"/><Relationship Id="rId5" Type="http://schemas.openxmlformats.org/officeDocument/2006/relationships/hyperlink" Target="https://www.nestlebaby.ru/products/gerber-fruktovoye-pure-tolko-yabloko-i-yagody" TargetMode="External"/><Relationship Id="rId6" Type="http://schemas.openxmlformats.org/officeDocument/2006/relationships/hyperlink" Target="https://www.nestlebaby.ru/products/gerber-pure-yabloko-i-tykva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1905120" y="-53388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8800" spc="-1" strike="noStrike">
                <a:solidFill>
                  <a:srgbClr val="ff0000"/>
                </a:solidFill>
                <a:latin typeface="Trebuchet MS"/>
              </a:rPr>
              <a:t>ПИРАМИДА ЗДОРОВОГО ПИТАНИЯ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457200" y="4038120"/>
            <a:ext cx="910584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ru-RU" sz="2800" spc="-1" strike="noStrike">
                <a:solidFill>
                  <a:srgbClr val="3100bc"/>
                </a:solidFill>
                <a:latin typeface="Trebuchet MS"/>
              </a:rPr>
              <a:t>Джураева Шаходат Шадмановн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ru-RU" sz="2800" spc="-1" strike="noStrike">
                <a:solidFill>
                  <a:srgbClr val="3100bc"/>
                </a:solidFill>
                <a:latin typeface="Trebuchet MS"/>
              </a:rPr>
              <a:t>Воспитатель ГПД, ГБОУ школа № 561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ru-RU" sz="2800" spc="-1" strike="noStrike">
                <a:solidFill>
                  <a:srgbClr val="3100bc"/>
                </a:solidFill>
                <a:latin typeface="Trebuchet MS"/>
              </a:rPr>
              <a:t>Калининского район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ru-RU" sz="2800" spc="-1" strike="noStrike">
                <a:solidFill>
                  <a:srgbClr val="3100bc"/>
                </a:solidFill>
                <a:latin typeface="Trebuchet MS"/>
              </a:rPr>
              <a:t>города Санкт - Петербург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4000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1498680"/>
            <a:ext cx="279108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671640" y="145800"/>
            <a:ext cx="556236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Благодарим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за внимание!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2776320"/>
            <a:ext cx="279108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Объект 3" descr=""/>
          <p:cNvPicPr/>
          <p:nvPr/>
        </p:nvPicPr>
        <p:blipFill>
          <a:blip r:embed="rId1"/>
          <a:stretch/>
        </p:blipFill>
        <p:spPr>
          <a:xfrm>
            <a:off x="1066680" y="-3168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5" descr=""/>
          <p:cNvPicPr/>
          <p:nvPr/>
        </p:nvPicPr>
        <p:blipFill>
          <a:blip r:embed="rId2"/>
          <a:srcRect l="0" t="5644" r="1662" b="5397"/>
          <a:stretch/>
        </p:blipFill>
        <p:spPr>
          <a:xfrm>
            <a:off x="0" y="1676520"/>
            <a:ext cx="9144000" cy="51879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457200" y="610920"/>
            <a:ext cx="674064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rebuchet MS"/>
              </a:rPr>
              <a:t>Здорóвое питáние</a:t>
            </a:r>
            <a:r>
              <a:rPr b="0" i="1" lang="ru-RU" sz="6600" spc="-1" strike="noStrike">
                <a:solidFill>
                  <a:srgbClr val="ff0000"/>
                </a:solidFill>
                <a:latin typeface="Trebuchet MS"/>
              </a:rPr>
              <a:t> —</a:t>
            </a:r>
            <a:endParaRPr b="0" lang="en-US" sz="6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28240" y="22860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Trebuchet MS"/>
              </a:rPr>
              <a:t> </a:t>
            </a:r>
            <a:r>
              <a:rPr b="0" lang="ru-RU" sz="4000" spc="-1" strike="noStrike" u="sng">
                <a:solidFill>
                  <a:srgbClr val="99ca3c"/>
                </a:solidFill>
                <a:uFillTx/>
                <a:latin typeface="Trebuchet MS"/>
                <a:ea typeface="Aharoni"/>
                <a:hlinkClick r:id="rId1"/>
              </a:rPr>
              <a:t>питание</a:t>
            </a:r>
            <a:r>
              <a:rPr b="1" i="1" lang="ru-RU" sz="4000" spc="-1" strike="noStrike" u="sng">
                <a:solidFill>
                  <a:srgbClr val="3100bc"/>
                </a:solidFill>
                <a:uFillTx/>
                <a:latin typeface="Trebuchet MS"/>
                <a:ea typeface="Aharoni"/>
              </a:rPr>
              <a:t>, обеспечивающее рост, нормальное развитие и жизнедеятельность человека, способствующее укреплению его </a:t>
            </a:r>
            <a:r>
              <a:rPr b="0" lang="ru-RU" sz="4000" spc="-1" strike="noStrike" u="sng">
                <a:solidFill>
                  <a:srgbClr val="99ca3c"/>
                </a:solidFill>
                <a:uFillTx/>
                <a:latin typeface="Trebuchet MS"/>
                <a:ea typeface="Aharoni"/>
                <a:hlinkClick r:id="rId2"/>
              </a:rPr>
              <a:t>здоровья</a:t>
            </a:r>
            <a:r>
              <a:rPr b="1" i="1" lang="ru-RU" sz="4000" spc="-1" strike="noStrike" u="sng">
                <a:solidFill>
                  <a:srgbClr val="3100bc"/>
                </a:solidFill>
                <a:uFillTx/>
                <a:latin typeface="Trebuchet MS"/>
                <a:ea typeface="Aharoni"/>
              </a:rPr>
              <a:t> и профилактике заболеваний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1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0" y="0"/>
            <a:ext cx="929628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Comic Sans MS"/>
              </a:rPr>
              <a:t>С хорошим общим сост оянием здоровья и со сниженным риском хронических заболеваний ассоциирует ся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238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9600" spc="-1" strike="noStrike">
                <a:solidFill>
                  <a:srgbClr val="ff0000"/>
                </a:solidFill>
                <a:latin typeface="Trebuchet MS"/>
              </a:rPr>
              <a:t>питание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52388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7200" spc="-1" strike="noStrike">
                <a:solidFill>
                  <a:srgbClr val="c00000"/>
                </a:solidFill>
                <a:latin typeface="Trebuchet MS"/>
              </a:rPr>
              <a:t>богатая 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фруктами</a:t>
            </a:r>
            <a:r>
              <a:rPr b="1" i="1" lang="ru-RU" sz="5400" spc="-1" strike="noStrike">
                <a:solidFill>
                  <a:srgbClr val="e76618"/>
                </a:solidFill>
                <a:latin typeface="Trebuchet MS"/>
              </a:rPr>
              <a:t>, </a:t>
            </a:r>
            <a:r>
              <a:rPr b="0" lang="ru-RU" sz="54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овощами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6200" y="16761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 u="sng">
                <a:solidFill>
                  <a:srgbClr val="99ca3c"/>
                </a:solidFill>
                <a:uFillTx/>
                <a:latin typeface="Trebuchet MS"/>
                <a:hlinkClick r:id="rId3"/>
              </a:rPr>
              <a:t>цельным зерном</a:t>
            </a:r>
            <a:r>
              <a:rPr b="0" i="1" lang="ru-RU" sz="6000" spc="-1" strike="noStrike" u="sng">
                <a:solidFill>
                  <a:srgbClr val="ff0000"/>
                </a:solidFill>
                <a:uFillTx/>
                <a:latin typeface="Trebuchet MS"/>
              </a:rPr>
              <a:t>, 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 u="sng">
                <a:solidFill>
                  <a:srgbClr val="99ca3c"/>
                </a:solidFill>
                <a:uFillTx/>
                <a:latin typeface="Trebuchet MS"/>
                <a:hlinkClick r:id="rId4"/>
              </a:rPr>
              <a:t>бобовым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1000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Еда,  богатая фруктами, 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240" y="2160360"/>
            <a:ext cx="346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вощами, 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цельным зерном, 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бобовыми,  орехами и 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рыбой,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68200" y="2160360"/>
            <a:ext cx="37515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трансжиров и сахара и ограниченным потреблением соли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1000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648320" cy="35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Trebuchet MS"/>
              </a:rPr>
              <a:t>Пирамида здорового питания нашего класса: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Объект 4" descr=""/>
          <p:cNvPicPr/>
          <p:nvPr/>
        </p:nvPicPr>
        <p:blipFill>
          <a:blip r:embed="rId1"/>
          <a:srcRect l="7233" t="3332" r="7460" b="2606"/>
          <a:stretch/>
        </p:blipFill>
        <p:spPr>
          <a:xfrm>
            <a:off x="4648320" y="-9360"/>
            <a:ext cx="4495680" cy="6867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4038480" cy="31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rebuchet MS"/>
              </a:rPr>
              <a:t>Любим яблоко, грушу, бананы, киви, виноград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rebuchet MS"/>
              </a:rPr>
              <a:t>апельсин и мандарины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1000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Молоко и кисломолочные продукты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10666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Особенно необходимы данные продукты детям школьного возраста. В этот период идет стремительное развитие организма, укрепление костно-мышечной системы, а для этого необходим кальций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1000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228600" y="380520"/>
            <a:ext cx="7189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Они поставляют углеводы и клетчатку, при этом не содержат вредных жиров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152280" y="484200"/>
            <a:ext cx="665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da8dd"/>
                </a:solidFill>
                <a:latin typeface="RotonBol"/>
              </a:rPr>
              <a:t>Крупяные и макарон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da8dd"/>
                </a:solidFill>
                <a:latin typeface="RotonBol"/>
              </a:rPr>
              <a:t> </a:t>
            </a:r>
            <a:r>
              <a:rPr b="0" i="1" lang="ru-RU" sz="4400" spc="-1" strike="noStrike">
                <a:solidFill>
                  <a:srgbClr val="1da8dd"/>
                </a:solidFill>
                <a:latin typeface="RotonBol"/>
              </a:rPr>
              <a:t>изделия, хле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94800" y="151920"/>
            <a:ext cx="68742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90c226"/>
                </a:solidFill>
                <a:latin typeface="Trebuchet MS"/>
              </a:rPr>
              <a:t>Овощи, ягоды и фрукты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143000"/>
            <a:ext cx="38685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Они богаты витаминами и минералами. Особенно полезны для детей зеленые и темно-оранжевые овощи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580920" y="81288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32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Фруктовое пюре </a:t>
            </a:r>
            <a:r>
              <a:rPr b="0" lang="en-US" sz="32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Gerber</a:t>
            </a:r>
            <a:r>
              <a:rPr b="0" lang="en-US" sz="3200" spc="-1" strike="noStrike" u="sng" baseline="30000">
                <a:solidFill>
                  <a:srgbClr val="99ca3c"/>
                </a:solidFill>
                <a:uFillTx/>
                <a:latin typeface="Trebuchet MS"/>
                <a:hlinkClick r:id="rId3"/>
              </a:rPr>
              <a:t>®</a:t>
            </a:r>
            <a:r>
              <a:rPr b="0" lang="en-US" sz="3200" spc="-1" strike="noStrike" u="sng" baseline="30000">
                <a:solidFill>
                  <a:srgbClr val="99ca3c"/>
                </a:solidFill>
                <a:uFillTx/>
                <a:latin typeface="Trebuchet MS"/>
                <a:hlinkClick r:id="rId4"/>
              </a:rPr>
              <a:t> «</a:t>
            </a:r>
            <a:r>
              <a:rPr b="0" lang="ru-RU" sz="3200" spc="-1" strike="noStrike" u="sng" baseline="30000">
                <a:solidFill>
                  <a:srgbClr val="99ca3c"/>
                </a:solidFill>
                <a:uFillTx/>
                <a:latin typeface="Trebuchet MS"/>
                <a:hlinkClick r:id="rId5"/>
              </a:rPr>
              <a:t>Только яблоко и ягоды»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, </a:t>
            </a:r>
            <a:r>
              <a:rPr b="0" lang="ru-RU" sz="3200" spc="-1" strike="noStrike" u="sng">
                <a:solidFill>
                  <a:srgbClr val="99ca3c"/>
                </a:solidFill>
                <a:uFillTx/>
                <a:latin typeface="Trebuchet MS"/>
                <a:hlinkClick r:id="rId6"/>
              </a:rPr>
              <a:t>фруктово-овощное пюре </a:t>
            </a: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Gerber</a:t>
            </a:r>
            <a:r>
              <a:rPr b="1" lang="en-US" sz="3200" spc="-1" strike="noStrike" baseline="30000">
                <a:solidFill>
                  <a:srgbClr val="404040"/>
                </a:solidFill>
                <a:latin typeface="Trebuchet MS"/>
              </a:rPr>
              <a:t>®</a:t>
            </a: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 «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Только яблоко и тыква»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, 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овощное пюре </a:t>
            </a: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Gerber</a:t>
            </a:r>
            <a:r>
              <a:rPr b="1" lang="en-US" sz="3200" spc="-1" strike="noStrike" baseline="30000">
                <a:solidFill>
                  <a:srgbClr val="404040"/>
                </a:solidFill>
                <a:latin typeface="Trebuchet MS"/>
              </a:rPr>
              <a:t>®</a:t>
            </a: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 «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Овощной салатик»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1000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cep</dc:creator>
  <dc:description/>
  <dc:language>en-US</dc:language>
  <cp:lastModifiedBy>Recep</cp:lastModifiedBy>
  <dcterms:modified xsi:type="dcterms:W3CDTF">2022-11-26T15:14:42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