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48FA-513E-4333-8FC1-D7AD7D256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685F-037A-466D-B120-3949216C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727B-8AE4-43A6-9376-C9BD2282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2687-C0FD-4CDA-8735-6868C972D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A901-712F-46E5-B0FC-AE36BA121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82B1-6DAA-4AE1-AA5A-844BBB0A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4DBB-EB3D-40CF-BA13-F8BDABC1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6DB1-5FF4-4B18-A3F1-94B2332C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A52F-1853-4E02-A6ED-63705CAA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C8C5-FE43-4A5C-891B-2CDB588D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4640-B08D-4A45-A4A0-E7544335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0C01-44B3-4D77-9CE9-B7EB4326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AEEF-C292-4C0C-A745-C5E870D8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021A-9BC7-47D1-BAAD-ACFE246C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C491-A80D-4A8E-B787-B7573BE9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1831-02CC-4CB2-9388-EF2A8BA95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A58E-EA82-46C4-A0BA-0D32C0419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2F0DB-0AB1-4757-AB71-6742841A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74720-45F0-4CE8-B0C3-8A73657B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A5BAF-CD95-414A-B283-AD865020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01B32-1C18-424C-A003-B013F99C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43E3E-5744-4FCE-BFAB-84896170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E9B3-CFAF-474A-8B79-70C54ADE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468B9-9D11-41AA-AA19-21697603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A1814-3055-4E79-97F2-A9E3006A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4CAC9-076F-447F-8F3A-883D7C1C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07176-F7FF-4CCC-BDF9-06D3BBE6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08855-F66F-42A3-B622-45B3F381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5A94D-3939-45BB-B07A-92FDED46C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19D24-D338-4AA2-A602-61125D9A0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A4608-069A-4BB6-9BD3-1701F1C49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F03AB-74FD-4FEB-9A8B-F60B5EDB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7B4C0-B036-4BBC-A25B-3FEF9166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D13D-2BCB-400D-89B4-1DA7A8A3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25FA6-3CDF-4347-98B7-ADD30F4F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BB20A-023D-4CD3-B4B6-037A6B48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909F5-350E-41DD-9D3B-499B535B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17C76-F379-4D67-B61A-0E860334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CB2C1-C7A8-4945-9675-9D3EF3C0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4AB3F-F443-44BC-BA12-D35BF2FD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C1612-7467-42B9-A070-5C9CBF3C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999D0-6F3F-49B2-AA6D-5EE2EA891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D186E-1EAA-4334-B848-B9618EB13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A1F5-FA82-4C84-A434-6AD46966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32D6-12EB-40C2-B105-04379549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6404-B103-4589-B87B-348D6226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2A8D-8386-4A62-B54E-D8A0D02B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D7F9-98B1-4122-BC32-9FBF5C8C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8137-95CE-4DBE-98FC-4AE413B0C08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83D3-539F-4A35-8A30-F04DEFA8783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1711-468C-43B6-B8F0-663922AC00F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812F-81EC-4B03-90A6-D53781E70F3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5;&#1080;&#1090;&#1072;&#1085;&#1080;&#1077;" TargetMode="External"/><Relationship Id="rId2" Type="http://schemas.openxmlformats.org/officeDocument/2006/relationships/hyperlink" Target="https://ru.wikipedia.org/wiki/&#1047;&#1076;&#1086;&#1088;&#1086;&#1074;&#1100;&#1077;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60;&#1088;&#1091;&#1082;&#1090;" TargetMode="External"/><Relationship Id="rId2" Type="http://schemas.openxmlformats.org/officeDocument/2006/relationships/hyperlink" Target="https://ru.wikipedia.org/wiki/&#1054;&#1074;&#1086;&#1097;&#1080;" TargetMode="External"/><Relationship Id="rId3" Type="http://schemas.openxmlformats.org/officeDocument/2006/relationships/hyperlink" Target="https://ru.wikipedia.org/wiki/&#1062;&#1077;&#1083;&#1100;&#1085;&#1086;&#1079;&#1077;&#1088;&#1085;&#1086;&#1074;&#1099;&#1077;_&#1087;&#1088;&#1086;&#1076;&#1091;&#1082;&#1090;&#1099;" TargetMode="External"/><Relationship Id="rId4" Type="http://schemas.openxmlformats.org/officeDocument/2006/relationships/hyperlink" Target="https://ru.wikipedia.org/wiki/&#1041;&#1086;&#1073;&#1086;&#1074;&#1099;&#1077;_&#1082;&#1091;&#1083;&#1100;&#1090;&#1091;&#1088;&#1099;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nestlebaby.ru/products/gerber-fruktovoye-pure-tolko-yabloko-i-yagody" TargetMode="External"/><Relationship Id="rId2" Type="http://schemas.openxmlformats.org/officeDocument/2006/relationships/hyperlink" Target="https://www.nestlebaby.ru/products/gerber-fruktovoye-pure-tolko-yabloko-i-yagody" TargetMode="External"/><Relationship Id="rId3" Type="http://schemas.openxmlformats.org/officeDocument/2006/relationships/hyperlink" Target="https://www.nestlebaby.ru/products/gerber-fruktovoye-pure-tolko-yabloko-i-yagody" TargetMode="External"/><Relationship Id="rId4" Type="http://schemas.openxmlformats.org/officeDocument/2006/relationships/hyperlink" Target="https://www.nestlebaby.ru/products/gerber-fruktovoye-pure-tolko-yabloko-i-yagody" TargetMode="External"/><Relationship Id="rId5" Type="http://schemas.openxmlformats.org/officeDocument/2006/relationships/hyperlink" Target="https://www.nestlebaby.ru/products/gerber-fruktovoye-pure-tolko-yabloko-i-yagody" TargetMode="External"/><Relationship Id="rId6" Type="http://schemas.openxmlformats.org/officeDocument/2006/relationships/hyperlink" Target="https://www.nestlebaby.ru/products/gerber-pure-yabloko-i-tykva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1905120" y="-53388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8800" spc="-1" strike="noStrike">
                <a:solidFill>
                  <a:srgbClr val="ff0000"/>
                </a:solidFill>
                <a:latin typeface="Trebuchet MS"/>
              </a:rPr>
              <a:t>ПИРАМИДА ЗДОРОВОГО ПИТАНИЯ</a:t>
            </a:r>
            <a:endParaRPr b="0" lang="en-US" sz="8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-457200" y="4038120"/>
            <a:ext cx="9105840" cy="18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500" spc="-1" strike="noStrike">
              <a:solidFill>
                <a:srgbClr val="404040"/>
              </a:solidFill>
              <a:latin typeface="Trebuchet MS"/>
            </a:endParaRPr>
          </a:p>
          <a:p>
            <a:pPr lvl="2" marL="91440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i="1" lang="ru-RU" sz="2800" spc="-1" strike="noStrike">
                <a:solidFill>
                  <a:srgbClr val="3100bc"/>
                </a:solidFill>
                <a:latin typeface="Trebuchet MS"/>
              </a:rPr>
              <a:t>Джураева Шаходат Шадмановн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2" marL="91440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i="1" lang="ru-RU" sz="2800" spc="-1" strike="noStrike">
                <a:solidFill>
                  <a:srgbClr val="3100bc"/>
                </a:solidFill>
                <a:latin typeface="Trebuchet MS"/>
              </a:rPr>
              <a:t>Воспитатель ГПД, ГБОУ школа № 561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2" marL="91440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i="1" lang="ru-RU" sz="2800" spc="-1" strike="noStrike">
                <a:solidFill>
                  <a:srgbClr val="3100bc"/>
                </a:solidFill>
                <a:latin typeface="Trebuchet MS"/>
              </a:rPr>
              <a:t>Калининского район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2" marL="91440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i="1" lang="ru-RU" sz="2800" spc="-1" strike="noStrike">
                <a:solidFill>
                  <a:srgbClr val="3100bc"/>
                </a:solidFill>
                <a:latin typeface="Trebuchet MS"/>
              </a:rPr>
              <a:t>города Санкт - Петербург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 advTm="4000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1498680"/>
            <a:ext cx="279108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671640" y="145800"/>
            <a:ext cx="5562360" cy="63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rebuchet MS"/>
              </a:rPr>
              <a:t>Благодарим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rebuchet MS"/>
              </a:rPr>
              <a:t>за внимание!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120" y="2776320"/>
            <a:ext cx="2791080" cy="25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Объект 3" descr=""/>
          <p:cNvPicPr/>
          <p:nvPr/>
        </p:nvPicPr>
        <p:blipFill>
          <a:blip r:embed="rId1"/>
          <a:stretch/>
        </p:blipFill>
        <p:spPr>
          <a:xfrm>
            <a:off x="1066680" y="-31680"/>
            <a:ext cx="2057400" cy="167616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5" descr=""/>
          <p:cNvPicPr/>
          <p:nvPr/>
        </p:nvPicPr>
        <p:blipFill>
          <a:blip r:embed="rId2"/>
          <a:srcRect l="0" t="5644" r="1662" b="5397"/>
          <a:stretch/>
        </p:blipFill>
        <p:spPr>
          <a:xfrm>
            <a:off x="0" y="1676520"/>
            <a:ext cx="9144000" cy="518796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457200" y="610920"/>
            <a:ext cx="674064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Trebuchet MS"/>
              </a:rPr>
              <a:t>Здорóвое питáние</a:t>
            </a:r>
            <a:r>
              <a:rPr b="0" i="1" lang="ru-RU" sz="6600" spc="-1" strike="noStrike">
                <a:solidFill>
                  <a:srgbClr val="ff0000"/>
                </a:solidFill>
                <a:latin typeface="Trebuchet MS"/>
              </a:rPr>
              <a:t> —</a:t>
            </a:r>
            <a:endParaRPr b="0" lang="en-US" sz="6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28240" y="22860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Trebuchet MS"/>
              </a:rPr>
              <a:t> </a:t>
            </a:r>
            <a:r>
              <a:rPr b="0" lang="ru-RU" sz="4000" spc="-1" strike="noStrike" u="sng">
                <a:solidFill>
                  <a:srgbClr val="99ca3c"/>
                </a:solidFill>
                <a:uFillTx/>
                <a:latin typeface="Trebuchet MS"/>
                <a:ea typeface="Aharoni"/>
                <a:hlinkClick r:id="rId1"/>
              </a:rPr>
              <a:t>питание</a:t>
            </a:r>
            <a:r>
              <a:rPr b="1" i="1" lang="ru-RU" sz="4000" spc="-1" strike="noStrike" u="sng">
                <a:solidFill>
                  <a:srgbClr val="3100bc"/>
                </a:solidFill>
                <a:uFillTx/>
                <a:latin typeface="Trebuchet MS"/>
                <a:ea typeface="Aharoni"/>
              </a:rPr>
              <a:t>, обеспечивающее рост, нормальное развитие и жизнедеятельность человека, способствующее укреплению его </a:t>
            </a:r>
            <a:r>
              <a:rPr b="0" lang="ru-RU" sz="4000" spc="-1" strike="noStrike" u="sng">
                <a:solidFill>
                  <a:srgbClr val="99ca3c"/>
                </a:solidFill>
                <a:uFillTx/>
                <a:latin typeface="Trebuchet MS"/>
                <a:ea typeface="Aharoni"/>
                <a:hlinkClick r:id="rId2"/>
              </a:rPr>
              <a:t>здоровья</a:t>
            </a:r>
            <a:r>
              <a:rPr b="1" i="1" lang="ru-RU" sz="4000" spc="-1" strike="noStrike" u="sng">
                <a:solidFill>
                  <a:srgbClr val="3100bc"/>
                </a:solidFill>
                <a:uFillTx/>
                <a:latin typeface="Trebuchet MS"/>
                <a:ea typeface="Aharoni"/>
              </a:rPr>
              <a:t> и профилактике заболеваний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 advTm="1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0" y="0"/>
            <a:ext cx="9296280" cy="71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Comic Sans MS"/>
              </a:rPr>
              <a:t>С хорошим общим сост оянием здоровья и со сниженным риском хронических заболеваний ассоциирует ся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000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238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9600" spc="-1" strike="noStrike">
                <a:solidFill>
                  <a:srgbClr val="ff0000"/>
                </a:solidFill>
                <a:latin typeface="Trebuchet MS"/>
              </a:rPr>
              <a:t>питание</a:t>
            </a:r>
            <a:endParaRPr b="0" lang="en-US" sz="9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523880"/>
            <a:ext cx="4191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7200" spc="-1" strike="noStrike">
                <a:solidFill>
                  <a:srgbClr val="c00000"/>
                </a:solidFill>
                <a:latin typeface="Trebuchet MS"/>
              </a:rPr>
              <a:t>богатая </a:t>
            </a:r>
            <a:endParaRPr b="0" lang="en-US" sz="7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 u="sng">
                <a:solidFill>
                  <a:srgbClr val="99ca3c"/>
                </a:solidFill>
                <a:uFillTx/>
                <a:latin typeface="Trebuchet MS"/>
                <a:hlinkClick r:id="rId1"/>
              </a:rPr>
              <a:t>фруктами</a:t>
            </a:r>
            <a:r>
              <a:rPr b="1" i="1" lang="ru-RU" sz="5400" spc="-1" strike="noStrike">
                <a:solidFill>
                  <a:srgbClr val="e76618"/>
                </a:solidFill>
                <a:latin typeface="Trebuchet MS"/>
              </a:rPr>
              <a:t>, </a:t>
            </a:r>
            <a:r>
              <a:rPr b="0" lang="ru-RU" sz="5400" spc="-1" strike="noStrike" u="sng">
                <a:solidFill>
                  <a:srgbClr val="99ca3c"/>
                </a:solidFill>
                <a:uFillTx/>
                <a:latin typeface="Trebuchet MS"/>
                <a:hlinkClick r:id="rId2"/>
              </a:rPr>
              <a:t>овощами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86200" y="167616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 u="sng">
                <a:solidFill>
                  <a:srgbClr val="99ca3c"/>
                </a:solidFill>
                <a:uFillTx/>
                <a:latin typeface="Trebuchet MS"/>
                <a:hlinkClick r:id="rId3"/>
              </a:rPr>
              <a:t>цельным зерном</a:t>
            </a:r>
            <a:r>
              <a:rPr b="0" i="1" lang="ru-RU" sz="6000" spc="-1" strike="noStrike" u="sng">
                <a:solidFill>
                  <a:srgbClr val="ff0000"/>
                </a:solidFill>
                <a:uFillTx/>
                <a:latin typeface="Trebuchet MS"/>
              </a:rPr>
              <a:t>, 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 u="sng">
                <a:solidFill>
                  <a:srgbClr val="99ca3c"/>
                </a:solidFill>
                <a:uFillTx/>
                <a:latin typeface="Trebuchet MS"/>
                <a:hlinkClick r:id="rId4"/>
              </a:rPr>
              <a:t>бобовым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 advTm="1000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Еда,  богатая фруктами, 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28240" y="2160360"/>
            <a:ext cx="346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овощами, 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цельным зерном, 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бобовыми,  орехами и 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рыбой,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68200" y="2160360"/>
            <a:ext cx="37515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трансжиров и сахара и ограниченным потреблением соли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 advTm="1000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648320" cy="350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Trebuchet MS"/>
              </a:rPr>
              <a:t>Пирамида здорового питания нашего класса: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4" name="Объект 4" descr=""/>
          <p:cNvPicPr/>
          <p:nvPr/>
        </p:nvPicPr>
        <p:blipFill>
          <a:blip r:embed="rId1"/>
          <a:srcRect l="7233" t="3332" r="7460" b="2606"/>
          <a:stretch/>
        </p:blipFill>
        <p:spPr>
          <a:xfrm>
            <a:off x="4648320" y="-9360"/>
            <a:ext cx="4495680" cy="68673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520" y="3505320"/>
            <a:ext cx="4038480" cy="31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Trebuchet MS"/>
              </a:rPr>
              <a:t>Любим яблоко, грушу, бананы, киви, виноград,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Trebuchet MS"/>
              </a:rPr>
              <a:t>апельсин и мандарины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 advTm="1000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Молоко и кисломолочные продукты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106668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rebuchet MS"/>
              </a:rPr>
              <a:t>Особенно необходимы данные продукты детям школьного возраста. В этот период идет стремительное развитие организма, укрепление костно-мышечной системы, а для этого необходим кальций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 advTm="1000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228600" y="380520"/>
            <a:ext cx="71899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rebuchet MS"/>
              </a:rPr>
              <a:t>Они поставляют углеводы и клетчатку, при этом не содержат вредных жиров</a:t>
            </a: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Прямоугольник 3"/>
          <p:cNvSpPr/>
          <p:nvPr/>
        </p:nvSpPr>
        <p:spPr>
          <a:xfrm>
            <a:off x="152280" y="484200"/>
            <a:ext cx="6653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da8dd"/>
                </a:solidFill>
                <a:latin typeface="RotonBol"/>
              </a:rPr>
              <a:t>Крупяные и макаронны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da8dd"/>
                </a:solidFill>
                <a:latin typeface="RotonBol"/>
              </a:rPr>
              <a:t> </a:t>
            </a:r>
            <a:r>
              <a:rPr b="0" i="1" lang="ru-RU" sz="4400" spc="-1" strike="noStrike">
                <a:solidFill>
                  <a:srgbClr val="1da8dd"/>
                </a:solidFill>
                <a:latin typeface="RotonBol"/>
              </a:rPr>
              <a:t>изделия, хле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000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94800" y="151920"/>
            <a:ext cx="68742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90c226"/>
                </a:solidFill>
                <a:latin typeface="Trebuchet MS"/>
              </a:rPr>
              <a:t>Овощи, ягоды и фрукты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1143000"/>
            <a:ext cx="38685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Они богаты витаминами и минералами. Особенно полезны для детей зеленые и темно-оранжевые овощи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580920" y="812880"/>
            <a:ext cx="3886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0" lang="ru-RU" sz="3200" spc="-1" strike="noStrike" u="sng">
                <a:solidFill>
                  <a:srgbClr val="99ca3c"/>
                </a:solidFill>
                <a:uFillTx/>
                <a:latin typeface="Trebuchet MS"/>
                <a:hlinkClick r:id="rId1"/>
              </a:rPr>
              <a:t>Фруктовое пюре </a:t>
            </a:r>
            <a:r>
              <a:rPr b="0" lang="en-US" sz="3200" spc="-1" strike="noStrike" u="sng">
                <a:solidFill>
                  <a:srgbClr val="99ca3c"/>
                </a:solidFill>
                <a:uFillTx/>
                <a:latin typeface="Trebuchet MS"/>
                <a:hlinkClick r:id="rId2"/>
              </a:rPr>
              <a:t>Gerber</a:t>
            </a:r>
            <a:r>
              <a:rPr b="0" lang="en-US" sz="3200" spc="-1" strike="noStrike" u="sng" baseline="30000">
                <a:solidFill>
                  <a:srgbClr val="99ca3c"/>
                </a:solidFill>
                <a:uFillTx/>
                <a:latin typeface="Trebuchet MS"/>
                <a:hlinkClick r:id="rId3"/>
              </a:rPr>
              <a:t>®</a:t>
            </a:r>
            <a:r>
              <a:rPr b="0" lang="en-US" sz="3200" spc="-1" strike="noStrike" u="sng" baseline="30000">
                <a:solidFill>
                  <a:srgbClr val="99ca3c"/>
                </a:solidFill>
                <a:uFillTx/>
                <a:latin typeface="Trebuchet MS"/>
                <a:hlinkClick r:id="rId4"/>
              </a:rPr>
              <a:t> «</a:t>
            </a:r>
            <a:r>
              <a:rPr b="0" lang="ru-RU" sz="3200" spc="-1" strike="noStrike" u="sng" baseline="30000">
                <a:solidFill>
                  <a:srgbClr val="99ca3c"/>
                </a:solidFill>
                <a:uFillTx/>
                <a:latin typeface="Trebuchet MS"/>
                <a:hlinkClick r:id="rId5"/>
              </a:rPr>
              <a:t>Только яблоко и ягоды»</a:t>
            </a: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, </a:t>
            </a:r>
            <a:r>
              <a:rPr b="0" lang="ru-RU" sz="3200" spc="-1" strike="noStrike" u="sng">
                <a:solidFill>
                  <a:srgbClr val="99ca3c"/>
                </a:solidFill>
                <a:uFillTx/>
                <a:latin typeface="Trebuchet MS"/>
                <a:hlinkClick r:id="rId6"/>
              </a:rPr>
              <a:t>фруктово-овощное пюре </a:t>
            </a: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Gerber</a:t>
            </a:r>
            <a:r>
              <a:rPr b="1" lang="en-US" sz="3200" spc="-1" strike="noStrike" baseline="30000">
                <a:solidFill>
                  <a:srgbClr val="404040"/>
                </a:solidFill>
                <a:latin typeface="Trebuchet MS"/>
              </a:rPr>
              <a:t>®</a:t>
            </a: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 «</a:t>
            </a: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Только яблоко и тыква»</a:t>
            </a: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, </a:t>
            </a: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овощное пюре </a:t>
            </a: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Gerber</a:t>
            </a:r>
            <a:r>
              <a:rPr b="1" lang="en-US" sz="3200" spc="-1" strike="noStrike" baseline="30000">
                <a:solidFill>
                  <a:srgbClr val="404040"/>
                </a:solidFill>
                <a:latin typeface="Trebuchet MS"/>
              </a:rPr>
              <a:t>®</a:t>
            </a: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 «</a:t>
            </a: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Овощной салатик»</a:t>
            </a: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 advTm="1000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ecep</dc:creator>
  <dc:description/>
  <dc:language>en-US</dc:language>
  <cp:lastModifiedBy>Recep</cp:lastModifiedBy>
  <dcterms:modified xsi:type="dcterms:W3CDTF">2022-11-26T15:14:42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