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1D1C-FF9D-4E8D-9362-C91C802A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8BF6-56FE-405C-A485-66ED7B1C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8E2-9DA0-4BC8-BB1B-C3659042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B306-6745-45A7-9C1E-8E207B0A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8EE8-5488-4298-840E-D94A83A0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9403-1920-488D-A206-FA55071A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1C20-A490-4590-B49C-348A5083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29B6-642C-458E-9181-E5ADB8D5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A3E1-37A1-4844-9401-B894EA23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5E3A-7346-4349-A28D-1D536C02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2145-39A7-4001-A913-BB5D6161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76C7-7969-4189-8D28-0BD0B962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6884-4A12-47E3-8B52-388723C2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B50B-F721-4B32-B20B-7AEBF01E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3037-696E-4565-B7D8-1F6D1F71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4E5F-2135-4075-B4B9-83B47A59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2B04-40F4-4FCA-8ABB-A97A75FE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2A25C-AAE8-423B-8300-C109E95D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3B0D8-D9CE-42D0-9FA9-4B090BC3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69131-A96D-4475-B6A8-6ED85A21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BCABF-3ECD-4767-A056-AE40B47F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2C655-737F-4F24-B35A-D9703213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38F-CBCC-4C01-8174-75804EE0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4FC25-48B5-4751-9993-7A150751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ACE5B-93FD-4AA0-BD60-9FDFA1F2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6B759-BC81-40F0-A041-56E241F6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00053-B98C-47EA-A74C-C50C3410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E0EC2-E7E1-4FD4-AEBE-52D409A3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620FB-61D5-426E-9B19-9A1DF558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2C3D2-DBEE-46C6-B160-B966B1D8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2AB4C-9841-4BD1-A026-929CD716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EF000-AFAF-4EF2-8B18-545C5557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B2E14-B7AB-4F8C-A4B6-FAAF1587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E50-1834-419D-8868-77640CE5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37B28-7340-448C-A94D-F8B9E4FF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6EF5C-FC7E-4BAA-9A2E-14EF9723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BE647-A65C-49C6-891A-BCAC504E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67702-1892-42AF-BDDB-9F8A4323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01E08-6BEA-4F7E-ADC6-57DC35EB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F96EC-C9E2-4473-A327-E0D406EE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3AF9B-377D-4DD9-BC95-D8374DE0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CDA9C-7D9A-442C-A3C2-2030E816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85DB8-39DA-4D55-9421-19692CBD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233BB-B411-400D-9988-3F3A7ECB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8C25-E70F-4411-B630-16C7848B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FA457-1B81-4213-9A65-C47FA8F6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ED270-66A3-4E34-A0FC-CCDF1357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659CF-308C-416C-B243-2131A441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398BE-27D7-4D1B-9551-63F0AED7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9872D-C0B4-4E70-9415-2C22FFA2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CFC1C-ADC8-45D9-9AE9-894E42FA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D7B1B-AC15-48BE-A684-B4801F87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3B71D-C448-413E-B6D3-96E7AD53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37B7A-D29A-4F71-9FD8-0F389A72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B452F-DBAE-4F0B-89B5-B4DADD60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86E8-B009-453B-8D55-FDC4CB1B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71909-C268-4CF7-B525-F63DBE36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395F0-E71C-43C4-BCD9-B7B02CC0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8C7C9-3A56-4697-9BEF-F83353A7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F64A4-123B-4696-AF2C-B2573658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B1173-DB3D-4BC1-9A7E-E30FFE5A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63806-1E58-444D-81DA-0DE73C6D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DEF51-A952-456B-BB26-B85B36F7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E121E-CEBD-43BB-84A5-7EBB247B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B8F71-1948-4D92-9812-5F9C2D10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7FBC3-AD8A-4317-9AE9-E33021C6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233-8582-4AA7-A447-67ACC91D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2FDCD-2E8F-45E1-A746-6CDF43CD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FAFA0-4DBB-4F02-BDC8-96B131C6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9E48D-B5C4-4726-8B68-EE6E62AB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50E3B-7509-49C6-B3CA-1B3DFE9B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DE115-4BBA-47DB-9D62-592E4747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71FA0-EC19-4186-A7CE-CDDE3B94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6CFF2-BFD5-4AC0-8F98-22DCEDF0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9A985-B0D2-453C-9086-C460E195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2831F-3854-4053-960A-3E9DF030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54A77-EEF2-4574-838B-161B6C2E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494-1536-4006-B92A-D8F794F1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06D61-CB5F-4E7F-A1EE-B5374803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C0A3A-6C16-49C9-8C0D-66777366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C8922-B009-4C4D-A1AA-816E74E8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13B68-D843-4286-A7CD-FB88D519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BD795-276A-4A9B-960B-D50149A3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2DD20-1CC9-426B-A113-EDBD00F6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CA6BC-42B1-41E7-936C-15E6B96A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F408B-5F09-4281-A394-FC376259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ED138-54B5-46C7-9A87-A17FD9B2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A2644-C026-40BE-8407-97B8AE16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290-D5B5-4744-A1EB-3D985AA9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75822-BD23-44FE-8144-6DB0807F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46536-387E-4BBB-A5E5-F316375D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E95CB-C2E2-414E-A0F7-3CDB669F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16BC6-EE1C-4905-ADB7-67D3C1B2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1BC8E-580A-4513-8EE2-68986593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919B2-4637-4882-8685-486E00AC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24475-FDE4-4336-8154-36F391B3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06A5-AF5D-4B46-B9B9-D1F5D5ECA98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66F4-4EAC-4706-AB09-75049E90A4B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3935-5731-4944-989A-5287A0BBE04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E828-3CB9-4BFC-80C9-4BCCED97BF6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C4BF-3BA3-438A-8DD3-30063FFAA82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081A-66FD-41AB-82FA-483ECBA9A4B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F87D-191B-4C58-843B-D8717D468C1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1816-6209-4EB8-B544-7536F1D4CC0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"/>
          <p:cNvSpPr/>
          <p:nvPr/>
        </p:nvSpPr>
        <p:spPr>
          <a:xfrm>
            <a:off x="108000" y="189000"/>
            <a:ext cx="8496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иал муниципального бюджетного общеобразовательного учреждения           Дивеев-Усадской средней школы – Маресевская основ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"Онимическое пространство говора села Маресева                                                 Починковского района Нижегородской области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ы 9 класса                                                                                                                   Турлаевой Алёны Сергее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Бегаутова Мария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1"/>
          <p:cNvSpPr/>
          <p:nvPr/>
        </p:nvSpPr>
        <p:spPr>
          <a:xfrm>
            <a:off x="324000" y="260280"/>
            <a:ext cx="8640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мотивировочных призн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анализе собранного материала выяснилось, что в говоре села Маресева Починковского района Нижегородской области неофициальные антропонимы возникли на базе следующих 8 мотивировочных призна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"особенности поведения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"род занятий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"особенности речи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"внешний ви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«цвет волос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«особенности внешнего вид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«телосложен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«место жительств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«официальные имя или фамилия предков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«событие, случай, происшествие в жизни человек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« ассоциация с чем-либ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многочисленными мотивировочными признаками являются «официальные имя или фамилия предков» - 8. Остальных мотивировочных признаков зафиксировано меньше: «ассоциация с чем-либо», «особенности речи» и «род занятий» по 4 единицы у каждого, а «случай из жизни» было зафиксировано всего 1 неофициальный антропон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3"/>
          <p:cNvSpPr/>
          <p:nvPr/>
        </p:nvSpPr>
        <p:spPr>
          <a:xfrm>
            <a:off x="539640" y="404640"/>
            <a:ext cx="792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сследовании собранных микротопонимов выяснилось, что они в данной местности предположительно возникли на базе 6 мотивировочных призна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«размер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форм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«рельеф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«особенности флоры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«расположени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«принадлежность к какому-нибудь лицу, предмету, объект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1"/>
          <p:cNvSpPr/>
          <p:nvPr/>
        </p:nvSpPr>
        <p:spPr>
          <a:xfrm>
            <a:off x="468360" y="141300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ный нами материал можно использовать на уроках русского языка по теме «Лексика» в 6 классе или на факультативных занятиях по русскому языку, позволяющих глубже изучить диалектные особенности го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нашей работы могут пополнить краеведческие материалы о нашем селе, собранные в сельской библиоте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Прямоугольник 2" descr=""/>
          <p:cNvPicPr/>
          <p:nvPr/>
        </p:nvPicPr>
        <p:blipFill>
          <a:blip r:embed="rId1"/>
          <a:stretch/>
        </p:blipFill>
        <p:spPr>
          <a:xfrm>
            <a:off x="-30240" y="92160"/>
            <a:ext cx="938232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468360" y="907920"/>
            <a:ext cx="80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й состав неофициальных имён собственных отражает то, что представляет практическую значимость для сельского жителя. Система микротопонимов и антропонимов характеризуется количественным и качественным разнообразием, о чем свидетельствует, в частности, их тематическая классифик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фициальные антропонимы и микротопонимы в говоре села Новоспасского Починковского района Нижегородской области достаточно разнообразны, о чем свидетельствует их количественный (23 прозвища, 10 уличных фамилий и 29 микротопонимов) и качественный состав, выраженный в 5 тематических группах неофициальных антропонимов: «особенность поведения», «происхождение человека, связь его с местом жительства», «особенности внешности человека», «имена предков». В тематическую группу микротопонимов входят следующие подгруппы: микрооронимы, микрогидронимы, микрогодонимы, микроагроонимы, микроойконимы, микродримонимы, микроспелеонимы, микродромонимы. Было установлено, что эти единицы образуют в говоре села Маресева микросистему с присущими ей особенност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Прямоугольник 2" descr=""/>
          <p:cNvPicPr/>
          <p:nvPr/>
        </p:nvPicPr>
        <p:blipFill>
          <a:blip r:embed="rId1"/>
          <a:stretch/>
        </p:blipFill>
        <p:spPr>
          <a:xfrm>
            <a:off x="2170080" y="-42840"/>
            <a:ext cx="3870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0" y="765000"/>
            <a:ext cx="91440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Березин Ф.М., Головин Б.Н. Общее языкознание: Учебное пособие для студентов пед. ин-тов по спец. № 2101 «Рус. яз. и лит.». - М.: Просвещение, 197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линова О.С. Проблемы диалектной лексикологии. АДД. Саратов, 197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Горбаневский М.В. В мире имен и названий. - М.: Знание, 198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аль В.И. Толковый словарь живого великорусского языка. В 4-х томах. - М., 1978-198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Живёт в родной сторонке Маресево село…Сборник краеведческих материалов. – Починки: центральная библиотека, 202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люшечкин В.П. Починки и Починковский район Нижегородской области. – Нижний Новгород, 199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Климкова Л.А. Нижегородская микротопонимия в языковой картине мира: монография / Л.А. Климкова; науч. ред. И.А. Ширшов; МПГУ. – Арзамас: АГПИ,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лимкова Л.А. Нижегородская микротопонимия: разноаспектный анализ: монография / Л.А. Климкова; МПГУ. – Арзамас: АГПИ, 2008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Климкова Л.А. Региональная ономастика: Учебное пособие к спецкурсу. - Горький: ГГПИ им. М. Горького, 1985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жегов С.И. и Шведова Н.Ю. Толковый словарь русского языка: 80 000 слов и фразеологических выражений / Российская академия наук. Инстирут русского языка им. В.В. Виноградова. – М.: ООО "А ТЕМП", 20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тиха З.А. Школьный словарь строения слов русского языка: Пособие для учащихся. – М.: Просвещение, 198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орфографический словарь: около 200 000 слов / Российская академия наук. Институт русского языка и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.В. Виноградова / Под ред. В.В. Лопатина, О.Е. Ивановой. – М.: АСТ-ПРЕСС КНИГА, 201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временный толковый словарь русского языка. / РАН, Институт лингвистических исследований. – М.: Ридерз Дайджест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Прямоугольник 2" descr=""/>
          <p:cNvPicPr/>
          <p:nvPr/>
        </p:nvPicPr>
        <p:blipFill>
          <a:blip r:embed="rId1"/>
          <a:stretch/>
        </p:blipFill>
        <p:spPr>
          <a:xfrm>
            <a:off x="1951200" y="-225360"/>
            <a:ext cx="44989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1"/>
          <p:cNvSpPr/>
          <p:nvPr/>
        </p:nvSpPr>
        <p:spPr>
          <a:xfrm>
            <a:off x="1187280" y="155736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неофициальных антропонимов и микротопонимов, функционирующих в говоре села Маресева Починковского района Нижегород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Прямоугольник 2" descr=""/>
          <p:cNvPicPr/>
          <p:nvPr/>
        </p:nvPicPr>
        <p:blipFill>
          <a:blip r:embed="rId1"/>
          <a:stretch/>
        </p:blipFill>
        <p:spPr>
          <a:xfrm>
            <a:off x="-55440" y="-42840"/>
            <a:ext cx="7072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1"/>
          <p:cNvSpPr/>
          <p:nvPr/>
        </p:nvSpPr>
        <p:spPr>
          <a:xfrm>
            <a:off x="684360" y="2060640"/>
            <a:ext cx="799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количественный и качественный состав неофициальных антропонимов и микротопонимов в говоре села Маресева Починковского района Нижегородской обла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тематический состав микротопонимов и неофициальных антропони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ь систему мотивировочных признаков, действующих в системе неофициальных антропонимов и микротопони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Прямоугольник 2" descr=""/>
          <p:cNvPicPr/>
          <p:nvPr/>
        </p:nvPicPr>
        <p:blipFill>
          <a:blip r:embed="rId1"/>
          <a:stretch/>
        </p:blipFill>
        <p:spPr>
          <a:xfrm>
            <a:off x="92160" y="249120"/>
            <a:ext cx="76374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1"/>
          <p:cNvSpPr/>
          <p:nvPr/>
        </p:nvSpPr>
        <p:spPr>
          <a:xfrm>
            <a:off x="611280" y="4508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фициальные антропонимы и микротопонимы, функционирующие в говоре села Маресева Починковского района Нижегород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Прямоугольник 2" descr=""/>
          <p:cNvPicPr/>
          <p:nvPr/>
        </p:nvPicPr>
        <p:blipFill>
          <a:blip r:embed="rId1"/>
          <a:stretch/>
        </p:blipFill>
        <p:spPr>
          <a:xfrm>
            <a:off x="378000" y="-42840"/>
            <a:ext cx="778500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3" descr=""/>
          <p:cNvPicPr/>
          <p:nvPr/>
        </p:nvPicPr>
        <p:blipFill>
          <a:blip r:embed="rId2"/>
          <a:stretch/>
        </p:blipFill>
        <p:spPr>
          <a:xfrm>
            <a:off x="-19080" y="2987640"/>
            <a:ext cx="8151840" cy="1157400"/>
          </a:xfrm>
          <a:prstGeom prst="rect">
            <a:avLst/>
          </a:prstGeom>
          <a:ln w="0">
            <a:noFill/>
          </a:ln>
        </p:spPr>
      </p:pic>
      <p:sp>
        <p:nvSpPr>
          <p:cNvPr id="378" name="TextBox 4"/>
          <p:cNvSpPr/>
          <p:nvPr/>
        </p:nvSpPr>
        <p:spPr>
          <a:xfrm>
            <a:off x="826920" y="1197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и их родители, жители с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1"/>
          <p:cNvSpPr/>
          <p:nvPr/>
        </p:nvSpPr>
        <p:spPr>
          <a:xfrm>
            <a:off x="179280" y="620640"/>
            <a:ext cx="856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, или полевой, метод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сбор материала самим исследователем непосредственно на месте, в полевых условиях. Он дает возможность исследователю на месте не только собирать, классифицировать диалектные явления, но и обеспечивает полноту и неоднократную проверку собираемых фа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 метод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истема исследовательских приёмов, применяемых для характеристики явлений языка на данном этапе его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Прямоугольник 3" descr=""/>
          <p:cNvPicPr/>
          <p:nvPr/>
        </p:nvPicPr>
        <p:blipFill>
          <a:blip r:embed="rId1"/>
          <a:stretch/>
        </p:blipFill>
        <p:spPr>
          <a:xfrm>
            <a:off x="-298440" y="-401760"/>
            <a:ext cx="7961400" cy="1157400"/>
          </a:xfrm>
          <a:prstGeom prst="rect">
            <a:avLst/>
          </a:prstGeom>
          <a:ln w="0">
            <a:noFill/>
          </a:ln>
        </p:spPr>
      </p:pic>
      <p:sp>
        <p:nvSpPr>
          <p:cNvPr id="381" name="TextBox 4"/>
          <p:cNvSpPr/>
          <p:nvPr/>
        </p:nvSpPr>
        <p:spPr>
          <a:xfrm>
            <a:off x="250920" y="378936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непосредственного наблюд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естественно, стихийно возникающей речью, прежде всего - диалогическ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опроса информатор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 этом, как правило, избегается вопросно-ответная форма, которая не раскрывает характер и особенности функционирования единиц. При использовании этого приёма наибольший эффект даёт наблюдение за монологической речью информатора, в которой как раз прослеживаются особенности системной организации, функционирования, наличие - отсутствие окраски антропони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Прямоугольник 5" descr=""/>
          <p:cNvPicPr/>
          <p:nvPr/>
        </p:nvPicPr>
        <p:blipFill>
          <a:blip r:embed="rId2"/>
          <a:stretch/>
        </p:blipFill>
        <p:spPr>
          <a:xfrm>
            <a:off x="-298440" y="2627280"/>
            <a:ext cx="8101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G:\проект Турлаева\WhatsApp Image 2021-04-21 at 18.35.46.jpeg"/>
          <p:cNvPicPr/>
          <p:nvPr/>
        </p:nvPicPr>
        <p:blipFill>
          <a:blip r:embed="rId1"/>
          <a:stretch/>
        </p:blipFill>
        <p:spPr>
          <a:xfrm>
            <a:off x="5148360" y="260280"/>
            <a:ext cx="3530520" cy="2619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G:\проект Турлаева\WhatsApp Image 2021-05-11 at 11.14.05.jpeg"/>
          <p:cNvPicPr/>
          <p:nvPr/>
        </p:nvPicPr>
        <p:blipFill>
          <a:blip r:embed="rId2"/>
          <a:stretch/>
        </p:blipFill>
        <p:spPr>
          <a:xfrm>
            <a:off x="5227560" y="3500280"/>
            <a:ext cx="3592440" cy="2665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G:\проект Турлаева\WhatsApp Image 2021-04-20 at 18.24.06.jpeg"/>
          <p:cNvPicPr/>
          <p:nvPr/>
        </p:nvPicPr>
        <p:blipFill>
          <a:blip r:embed="rId3"/>
          <a:stretch/>
        </p:blipFill>
        <p:spPr>
          <a:xfrm>
            <a:off x="611280" y="2133720"/>
            <a:ext cx="3816360" cy="2828880"/>
          </a:xfrm>
          <a:prstGeom prst="rect">
            <a:avLst/>
          </a:prstGeom>
          <a:ln w="0">
            <a:noFill/>
          </a:ln>
        </p:spPr>
      </p:pic>
      <p:sp>
        <p:nvSpPr>
          <p:cNvPr id="386" name="TextBox 6"/>
          <p:cNvSpPr/>
          <p:nvPr/>
        </p:nvSpPr>
        <p:spPr>
          <a:xfrm>
            <a:off x="684360" y="566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орТурлаева Н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508720" y="6237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орТурлаева М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5148360" y="2997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ор Филимонова Л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Прямоугольник 9" descr=""/>
          <p:cNvPicPr/>
          <p:nvPr/>
        </p:nvPicPr>
        <p:blipFill>
          <a:blip r:embed="rId4"/>
          <a:stretch/>
        </p:blipFill>
        <p:spPr>
          <a:xfrm>
            <a:off x="-6480" y="158760"/>
            <a:ext cx="48704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1"/>
          <p:cNvSpPr/>
          <p:nvPr/>
        </p:nvSpPr>
        <p:spPr>
          <a:xfrm>
            <a:off x="179280" y="1197000"/>
            <a:ext cx="878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фициальные антропонимы и микротопонимы ярко показывают быт, уклад жизни, психологию населения данного села. Их изучение выявляет взаимоотношения среди людей, которые употребляют данные антропонимы и микротопонимы. По многообразию микротопонимов можно изучать историю сел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материал актуален в сегодняшнее время, так как ярко показывает культуру общения и правила поведения в обществе. Употребление в обществе неофициальных антропонимов не только невежественно и неделикатно, а является обидным и оскорбительным для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данной темой позволяет исследовать вопросы о том, почему возникали и возникают данные единицы, в каких отношениях находится носитель и создатель неофициальных антропонимов, как общество относится к их употреблению в речи. Кроме того, на выбор темы работы повлиял и личный интерес автора, проживающего в данном населённом пун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сказанное выше обусловило актуальность данного исследования, а тот факт, что ставший её предметом диалектный материал до настоящего времени не был объектом отдельного изучения, определило её новиз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Прямоугольник 2" descr=""/>
          <p:cNvPicPr/>
          <p:nvPr/>
        </p:nvPicPr>
        <p:blipFill>
          <a:blip r:embed="rId1"/>
          <a:stretch/>
        </p:blipFill>
        <p:spPr>
          <a:xfrm>
            <a:off x="176040" y="30240"/>
            <a:ext cx="7267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1"/>
          <p:cNvSpPr/>
          <p:nvPr/>
        </p:nvSpPr>
        <p:spPr>
          <a:xfrm>
            <a:off x="539640" y="1268280"/>
            <a:ext cx="80647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ерритории села Маресева Починковского района Нижегородской области нами было зафиксировано 29 микротопонимов, разнообразных по своему тематическому составу. Все микротопонимы разделяются на несколько груп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кроагроонимы (поля, луга)  8 еди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Микроспелеонимы (колодцы, ключи)  4 ед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Микрогидронимы (водные источники)  3 ед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. Микродромонимы (дороги, тропинки) 1 ед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. Микрооронимы (объекты рельефа)  8 еди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. Микродримонимы (сады, урочища)  3 ед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7. Микроойконимы (поселения)1 ед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8. Микрогодонимы (улицы) 1 един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Прямоугольник 3" descr=""/>
          <p:cNvPicPr/>
          <p:nvPr/>
        </p:nvPicPr>
        <p:blipFill>
          <a:blip r:embed="rId1"/>
          <a:stretch/>
        </p:blipFill>
        <p:spPr>
          <a:xfrm>
            <a:off x="493560" y="92160"/>
            <a:ext cx="83520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1"/>
          <p:cNvSpPr/>
          <p:nvPr/>
        </p:nvSpPr>
        <p:spPr>
          <a:xfrm>
            <a:off x="324000" y="33336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воре села Маресева Починковского района Нижегородской области зафиксировано около 35 неофициальных антропонимов, которые неоднородны по тематическому составу. Все неофициальные антропонимы входят в состав 2-х групп – прозвища и уличные фамилии. В тематическом отношении они разнообраз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звища, в которых отражаются особенности поведения человека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вища и уличные фамилии, отражающие особенности рода занятий их нос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фициальные антропонимы, в которых отражается происхождение человека, связь его с местом житель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групп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фициальные антропонимы, отражающие особенности внешности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групп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фициальные антропонимы, которые связаны с именами пред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енному составу наибольшими из тематических групп являются группы: «особенности поведения» - 10 единиц; «особенности внешности человека» - 5 единиц; «имена предков» - 9 един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08T08:30:04Z</dcterms:created>
  <dc:creator>User</dc:creator>
  <dc:description/>
  <dc:language>en-US</dc:language>
  <cp:lastModifiedBy>User</cp:lastModifiedBy>
  <dcterms:modified xsi:type="dcterms:W3CDTF">2021-05-11T20:29:11Z</dcterms:modified>
  <cp:revision>14</cp:revision>
  <dc:subject/>
  <dc:title>Слайд 1</dc:title>
</cp:coreProperties>
</file>