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EFF-9ABD-4AC4-8EE7-6A48AFCF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7C8-73F1-4816-9397-7931069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23A-692E-4511-978B-52C1C8DE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4C2-5703-49CB-9EF6-5F844716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0176-14F4-44D6-B3FE-3D569F85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C8CA-834E-46E9-8574-2670E14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70B8-7BF7-4FB1-B573-9524944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5C92-8A74-4444-AAD7-F2A16BD6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A8D2-5ECE-4E09-8741-F325331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8857-3ED5-4FE4-BC67-DE380211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A7C0-7A2D-4025-8A5D-702C3B8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848-C373-41E0-8F2B-B46ABBE4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4D9B-F9B3-4EE7-B795-3FC4CE2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BFF-4CFE-44EB-BB80-26ABE38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B28-2277-4483-B343-44BFE04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EF2-7F1E-4ED8-A68E-57F36084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274E-45F9-4771-ADD5-DAA5741E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7A6A-1B68-4822-A0E8-DFB20FD2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4353-57C4-4F54-A775-6BF716A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9E0B-89FD-4DC4-A765-0CA6CDC7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2F4B-D12A-4ECC-8B11-5C704FF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9196-26DF-4307-8AA4-F593206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3F8-6041-4467-A22B-9DC83DD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F36E-00E0-480F-A9B9-E9A02D1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C047-68BD-483C-AA2C-50FF185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CABE-C06D-4409-8FEA-26EBBA2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3796-972F-49D6-B493-8F0E98F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223F-0188-4DF2-B6A8-B62C7FD2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6997-F76B-432A-BFEA-24C53FC2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54B7-FDFD-4787-9B90-07EF47D9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1DD2-31B0-4A9E-B0F5-B6310FC5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D161-00CD-4C40-B3B6-73E8AE0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20EF-DBFF-4291-9DB9-422E62AD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FC4-FAB7-48E9-AFB3-5829114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5DA7-7E35-4390-A16F-8899EA7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2E42-3C1C-41D2-B138-704EDFD7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E7AE-40FF-4EE1-8113-93BF0A2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8C18-1B26-4C09-B29C-19AA00A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D2C2-181F-46A0-A57C-E088A35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63EA-BFF6-4290-976F-91C81F1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7BC5-D2AB-41D0-88A9-5238622C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FE81-72EA-42D8-AA20-F0961DE2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50D1-AEA1-48AC-A545-84DF5C98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0FFC0-C3D5-4275-9047-096DA146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454-4443-454E-A26C-366EC8F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3D23F-65A9-4881-89E6-FEB132F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5087-0D01-4790-A32F-3347123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E5FD-6267-4450-9FBA-90A0B06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5CE0-257E-4F97-AEBB-D9FBE40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A910-C381-4DA2-B663-79E9912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1B56-2FDA-4683-8407-3394F84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5F8A-B1A4-475B-9A33-9AD52A9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9339-DB48-4054-9619-C0DE0E2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B16DA-9CEB-4E46-A514-A11551EF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DB29-0939-4DA2-ADCE-B5340B09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67A-FF83-405F-B823-6D3182EF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3152-89A0-4F23-BB96-C397374D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D7F42-A166-4063-ADA4-892127DF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B5D11-5B2E-4D22-944C-2E2A7DEB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CC5F-2DE3-4C8F-965D-D009DC3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544E-DC11-49DA-88EA-2AD612B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47C5-A923-4260-A630-14E7B7DD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991F-D04E-424C-A025-0AEE02A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6CB4-2D73-4937-B0AF-3A5629C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6638-F5D2-442E-95ED-A9AA4C8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057C-E5D9-4F4D-A2AA-EE659A5A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871-792F-4A78-993B-97DE179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09AD3-7A81-4AC1-91A9-F16CF269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37D5-51C7-4FC1-8056-66E57218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0BB3D-1A63-4794-9F32-9FA5E5E3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02FC1-987C-4296-8473-D3E1F6CE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4213-FEFD-4E9F-B97A-34C6C353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A432-D2EC-4D51-9268-A7C17D03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F600-4C6B-45F8-98D2-D7195E5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5335-5D7D-4308-9EBE-35DE482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1E41-6B1B-46DB-8D6A-079375A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9347-3993-436F-BFD3-CA3DDC9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6F0-1639-4AAC-909D-01E9E66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A2719-1CF8-4A29-9CBB-77EA259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E055-20BA-4E62-8F33-266679A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50A9-DF88-43EC-8CDF-0856305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FB88-90C5-4E2F-B7C1-651E3E2A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A162-245C-4F85-83EA-08625B4E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7570-DD99-48E6-9491-D2A5487A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BEC6-C9C5-4331-846A-F86954E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94625-B20E-4A3B-823F-35CE02D4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6017-79D0-4FE6-A550-C0A4FB7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2C37E-203F-4DFE-A1F0-FCCD501D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C74-CED2-4237-9220-EB362E8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59A9-6301-4970-A756-E6E85AE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29698-50FE-4DF5-AA4B-6DDBE69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6317-DE9F-4FCA-9B19-62AF176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27C2A-B400-4772-9292-163832B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1046-1D7A-4031-BCAB-B43C881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3EAE-B5A2-469C-AF7A-98EDFAE9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4150-32F7-40B8-A8E5-05A9809E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3EB-7ECF-4911-9907-1F6186B4487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4AD2-C600-42D8-9425-6AD59F63CA4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E9D-1609-4EAA-AF9B-CDADE936720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4CC-0504-41D1-A2D4-8AD501120B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A01-B9BE-41EC-BA6B-37D6912B97F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0A58-C2E9-4277-83D9-109F810A4A7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D6E0-8961-4E38-8936-20701AA22DF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D4A-961B-4DBB-BC24-9649C0FC058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108000" y="189000"/>
            <a:ext cx="849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ал муниципального бюджетного общеобразовательного учреждения           Дивеев-Усадской средней школы – Маресевская 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Онимическое пространство говора села Маресева                                                 Починковского района Нижегородской област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9 класса                                                                                                                   Турлаевой Алёны Серге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Бегаутова Мар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324000" y="26028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тивировочных при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ализе собранного материала выяснилось, что в говоре села Маресева Починковского района Нижегородской области неофициальные антропонимы возникли на базе следующих 8 мотивировочных призн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"особенности поведения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"род занятий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"особенности речи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"внешний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цвет воло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особенности внешнего вид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телослож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место жительств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официальные имя или фамилия пред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событие, случай, происшествие в жизни челове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« ассоциация с чем-либ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многочисленными мотивировочными признаками являются «официальные имя или фамилия предков» - 8. Остальных мотивировочных признаков зафиксировано меньше: «ассоциация с чем-либо», «особенности речи» и «род занятий» по 4 единицы у каждого, а «случай из жизни» было зафиксировано всего 1 неофициальный антропо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539640" y="40464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следовании собранных микротопонимов выяснилось, что они в данной местности предположительно возникли на базе 6 мотивировочных призна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разме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форм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рельеф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«особенности флоры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расположен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принадлежность к какому-нибудь лицу, предмету, объект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468360" y="14130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ный нами материал можно использовать на уроках русского языка по теме «Лексика» в 6 классе или на факультативных занятиях по русскому языку, позволяющих глубже изучить диалектные особенности 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нашей работы могут пополнить краеведческие материалы о нашем селе, собранные в сельской библиот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Прямоугольник 2" descr=""/>
          <p:cNvPicPr/>
          <p:nvPr/>
        </p:nvPicPr>
        <p:blipFill>
          <a:blip r:embed="rId1"/>
          <a:stretch/>
        </p:blipFill>
        <p:spPr>
          <a:xfrm>
            <a:off x="-30240" y="92160"/>
            <a:ext cx="93823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468360" y="90792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й состав неофициальных имён собственных отражает то, что представляет практическую значимость для сельского жителя. Система микротопонимов и антропонимов характеризуется количественным и качественным разнообразием, о чем свидетельствует, в частности, их тематическая классифик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 в говоре села Новоспасского Починковского района Нижегородской области достаточно разнообразны, о чем свидетельствует их количественный (23 прозвища, 10 уличных фамилий и 29 микротопонимов) и качественный состав, выраженный в 5 тематических группах неофициальных антропонимов: «особенность поведения», «происхождение человека, связь его с местом жительства», «особенности внешности человека», «имена предков». В тематическую группу микротопонимов входят следующие подгруппы: микрооронимы, микрогидронимы, микрогодонимы, микроагроонимы, микроойконимы, микродримонимы, микроспелеонимы, микродромонимы. Было установлено, что эти единицы образуют в говоре села Маресева микросистему с присущими ей особен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Прямоугольник 2" descr=""/>
          <p:cNvPicPr/>
          <p:nvPr/>
        </p:nvPicPr>
        <p:blipFill>
          <a:blip r:embed="rId1"/>
          <a:stretch/>
        </p:blipFill>
        <p:spPr>
          <a:xfrm>
            <a:off x="2170080" y="-42840"/>
            <a:ext cx="3870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765000"/>
            <a:ext cx="9144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ерезин Ф.М., Головин Б.Н. Общее языкознание: Учебное пособие для студентов пед. ин-тов по спец. № 2101 «Рус. яз. и лит.». - М.: Просвещение, 197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линова О.С. Проблемы диалектной лексикологии. АДД. Саратов, 197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орбаневский М.В. В мире имен и названий. - М.: Знание, 19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аль В.И. Толковый словарь живого великорусского языка. В 4-х томах. - М., 1978-198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ивёт в родной сторонке Маресево село…Сборник краеведческих материалов. – Починки: центральная библиотека, 202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люшечкин В.П. Починки и Починковский район Нижегородской области. – Нижний Новгород, 199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лимкова Л.А. Нижегородская микротопонимия в языковой картине мира: монография / Л.А. Климкова; науч. ред. И.А. Ширшов; МПГУ. – Арзамас: АГПИ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лимкова Л.А. Нижегородская микротопонимия: разноаспектный анализ: монография / Л.А. Климкова; МПГУ. – Арзамас: АГПИ, 200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лимкова Л.А. Региональная ономастика: Учебное пособие к спецкурсу. - Горький: ГГПИ им. М. Горького, 198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жегов С.И. и Шведова Н.Ю. Толковый словарь русского языка: 80 000 слов и фразеологических выражений / Российская академия наук. Инстирут русского языка им. В.В. Виноградова. – М.: ООО "А ТЕМП",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тиха З.А. Школьный словарь строения слов русского языка: Пособие для учащихся. – М.: Просвещение, 198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орфографический словарь: около 200 000 слов / Российская академия наук. Институт русского языка 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.В. Виноградова / Под ред. В.В. Лопатина, О.Е. Ивановой. – М.: АСТ-ПРЕСС КНИГА, 20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временный толковый словарь русского языка. / РАН, Институт лингвистических исследований. – М.: Ридерз Дайджест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Прямоугольник 2" descr=""/>
          <p:cNvPicPr/>
          <p:nvPr/>
        </p:nvPicPr>
        <p:blipFill>
          <a:blip r:embed="rId1"/>
          <a:stretch/>
        </p:blipFill>
        <p:spPr>
          <a:xfrm>
            <a:off x="1951200" y="-225360"/>
            <a:ext cx="44989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1187280" y="15573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неофициальных антропонимов и микротопонимов, функционирующих в говоре села Маресева Починковского района Ниже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Прямоугольник 2" descr=""/>
          <p:cNvPicPr/>
          <p:nvPr/>
        </p:nvPicPr>
        <p:blipFill>
          <a:blip r:embed="rId1"/>
          <a:stretch/>
        </p:blipFill>
        <p:spPr>
          <a:xfrm>
            <a:off x="-55440" y="-42840"/>
            <a:ext cx="707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684360" y="206064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количественный и качественный состав неофициальных антропонимов и микротопонимов в говоре села Маресева Починковского района Нижегородской об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тематический состав микротопонимов и неофициальных антропони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систему мотивировочных признаков, действующих в системе неофициальных антропонимов и микротопони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7637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611280" y="4508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, функционирующие в говоре села Маресева Починковского района Ниже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2987640"/>
            <a:ext cx="8151840" cy="1157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826920" y="1197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и их родители, жители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179280" y="620640"/>
            <a:ext cx="856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или полевой,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бор материала самим исследователем непосредственно на месте, в полевых условиях. Он дает возможность исследователю на месте не только собирать, классифицировать диалектные явления, но и обеспечивает полноту и неоднократную проверку собираемых ф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а исследовательских приёмов, применяемых для характеристики явлений языка на данном этапе е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Прямоугольник 3" descr=""/>
          <p:cNvPicPr/>
          <p:nvPr/>
        </p:nvPicPr>
        <p:blipFill>
          <a:blip r:embed="rId1"/>
          <a:stretch/>
        </p:blipFill>
        <p:spPr>
          <a:xfrm>
            <a:off x="-298440" y="-401760"/>
            <a:ext cx="7961400" cy="11574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250920" y="378936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непосредственного наблюд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стественно, стихийно возникающей речью, прежде всего - диалогиче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опроса информато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этом, как правило, избегается вопросно-ответная форма, которая не раскрывает характер и особенности функционирования единиц. При использовании этого приёма наибольший эффект даёт наблюдение за монологической речью информатора, в которой как раз прослеживаются особенности системной организации, функционирования, наличие - отсутствие окраски антроп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5" descr=""/>
          <p:cNvPicPr/>
          <p:nvPr/>
        </p:nvPicPr>
        <p:blipFill>
          <a:blip r:embed="rId2"/>
          <a:stretch/>
        </p:blipFill>
        <p:spPr>
          <a:xfrm>
            <a:off x="-298440" y="2627280"/>
            <a:ext cx="8101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G:\проект Турлаева\WhatsApp Image 2021-04-21 at 18.35.46.jpeg"/>
          <p:cNvPicPr/>
          <p:nvPr/>
        </p:nvPicPr>
        <p:blipFill>
          <a:blip r:embed="rId1"/>
          <a:stretch/>
        </p:blipFill>
        <p:spPr>
          <a:xfrm>
            <a:off x="5148360" y="260280"/>
            <a:ext cx="3530520" cy="2619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роект Турлаева\WhatsApp Image 2021-05-11 at 11.14.05.jpeg"/>
          <p:cNvPicPr/>
          <p:nvPr/>
        </p:nvPicPr>
        <p:blipFill>
          <a:blip r:embed="rId2"/>
          <a:stretch/>
        </p:blipFill>
        <p:spPr>
          <a:xfrm>
            <a:off x="5227560" y="3500280"/>
            <a:ext cx="3592440" cy="2665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G:\проект Турлаева\WhatsApp Image 2021-04-20 at 18.24.06.jpeg"/>
          <p:cNvPicPr/>
          <p:nvPr/>
        </p:nvPicPr>
        <p:blipFill>
          <a:blip r:embed="rId3"/>
          <a:stretch/>
        </p:blipFill>
        <p:spPr>
          <a:xfrm>
            <a:off x="611280" y="2133720"/>
            <a:ext cx="3816360" cy="28288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68436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Турлаев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508720" y="623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Турлаева М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148360" y="2997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ор Филимонова Л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Прямоугольник 9" descr=""/>
          <p:cNvPicPr/>
          <p:nvPr/>
        </p:nvPicPr>
        <p:blipFill>
          <a:blip r:embed="rId4"/>
          <a:stretch/>
        </p:blipFill>
        <p:spPr>
          <a:xfrm>
            <a:off x="-6480" y="158760"/>
            <a:ext cx="48704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179280" y="119700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 и микротопонимы ярко показывают быт, уклад жизни, психологию населения данного села. Их изучение выявляет взаимоотношения среди людей, которые употребляют данные антропонимы и микротопонимы. По многообразию микротопонимов можно изучать историю сел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материал актуален в сегодняшнее время, так как ярко показывает культуру общения и правила поведения в обществе. Употребление в обществе неофициальных антропонимов не только невежественно и неделикатно, а является обидным и оскорбительным для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данной темой позволяет исследовать вопросы о том, почему возникали и возникают данные единицы, в каких отношениях находится носитель и создатель неофициальных антропонимов, как общество относится к их употреблению в речи. Кроме того, на выбор темы работы повлиял и личный интерес автора, проживающего в данном населённом пун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сказанное выше обусловило актуальность данного исследования, а тот факт, что ставший её предметом диалектный материал до настоящего времени не был объектом отдельного изучения, определило её новиз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Прямоугольник 2" descr=""/>
          <p:cNvPicPr/>
          <p:nvPr/>
        </p:nvPicPr>
        <p:blipFill>
          <a:blip r:embed="rId1"/>
          <a:stretch/>
        </p:blipFill>
        <p:spPr>
          <a:xfrm>
            <a:off x="176040" y="30240"/>
            <a:ext cx="726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539640" y="1268280"/>
            <a:ext cx="806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ела Маресева Починковского района Нижегородской области нами было зафиксировано 29 микротопонимов, разнообразных по своему тематическому составу. Все микротопонимы разделяются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агроонимы (поля, луга)  8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Микроспелеонимы (колодцы, ключи)  4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Микрогидронимы (водные источники)  3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Микродромонимы (дороги, тропинки) 1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Микрооронимы (объекты рельефа)  8 ед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 Микродримонимы (сады, урочища)  3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. Микроойконимы (поселения)1 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. Микрогодонимы (улицы) 1 еди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92160"/>
            <a:ext cx="8352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324000" y="333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воре села Маресева Починковского района Нижегородской области зафиксировано около 35 неофициальных антропонимов, которые неоднородны по тематическому составу. Все неофициальные антропонимы входят в состав 2-х групп – прозвища и уличные фамилии. В тематическом отношении они разнообраз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ища, в которых отражаются особенности поведения человек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а и уличные фамилии, отражающие особенности рода занятий их нос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фициальные антропонимы, в которых отражается происхождение человека, связь его с местом жи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, отражающие особенности внеш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упп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ые антропонимы, которые связаны с именами пре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енному составу наибольшими из тематических групп являются группы: «особенности поведения» - 10 единиц; «особенности внешности человека» - 5 единиц; «имена предков» - 9 еди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8T08:30:04Z</dcterms:created>
  <dc:creator>User</dc:creator>
  <dc:description/>
  <dc:language>en-US</dc:language>
  <cp:lastModifiedBy>User</cp:lastModifiedBy>
  <dcterms:modified xsi:type="dcterms:W3CDTF">2021-05-11T20:29:11Z</dcterms:modified>
  <cp:revision>14</cp:revision>
  <dc:subject/>
  <dc:title>Слайд 1</dc:title>
</cp:coreProperties>
</file>