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AD3-22EF-48E4-A8DD-17107065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C33-BC47-4798-8B9B-18CB5092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0E8-E275-4CBC-AEA7-72D3BE6A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C29-185C-4574-A14E-34EF62DC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B520-0894-42BE-9B43-DAC844E5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63C5-8F24-4C5C-8D16-2F37CDED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01E1-C391-4E2C-9EBA-B39956D1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AD78-CCA6-456B-BC40-C9DE467B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27D3-0629-4BE6-8135-4C777ABF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957A-34DA-4E51-B781-5DC626E5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D628-915A-48EF-8CB6-5C922AB1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849-A71C-4876-9831-98705902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FA90-A7E7-435B-8334-62CB3F9A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976E-705C-4620-8781-C0019B70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50D1-1E02-4E6B-9EA3-6A1D85C0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37D9-687F-4A47-B032-4C180927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3119-D461-46AE-A752-8EB9BC5A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5C675-AD88-4489-82BB-64D05FBE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36BF-012C-4A18-80D5-0FCD7F7A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C5D5-83E8-4005-912B-3D83F045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FC4EB-425B-4D9B-A64F-37849385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5CDD-F2DC-4593-8085-E61919A6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04D-93B0-409C-8622-21785D13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72F3-8F70-4C3B-934E-C34DBB3E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AB345-C27B-4AD8-BACD-F47DC091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2483-9DA6-40D7-9A1B-8E4C25D7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902E-603E-449E-AC75-34052E65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3B64-4CDF-4F76-8DE4-1211C720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AA6C-4F03-460C-ACDC-67D416E7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BD84-EFF4-4D97-ADD1-EECC6771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B34E-0B3B-48B4-BBC1-9149CB32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E1F7A-369B-425A-A06A-7B3E0439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1BBA-BA93-498C-A43B-3DC1645C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C2B-BF38-408D-82D6-5E5F8C4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07997-1E03-4089-9940-535DD2DA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48DCE-9277-427B-9A53-D5431298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612E-A242-4754-B79D-A63A5ED1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74A8-6068-4B41-876B-313BC592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417AE-7E4E-44E1-8DE5-E87E4CE3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37C63-29E2-46C3-8EF6-0B496FCC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0253-4582-41C4-BDFB-4612E7EE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124CC-D9C7-431F-BDCB-3ED1A5DA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6F389-03E9-4E51-A122-242FB158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AB5-D7A0-4C25-911B-E27E6FAA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8BF-55C0-4D74-A623-8ADF8C1C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841-B1E5-487C-B0E7-13A0CD15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F25-2F35-4B3C-AD8D-06539C7B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1E9-681D-4C4F-8845-B78EFC8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7957-11D9-442D-83DC-901899F2D57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86E1-C3C3-4EEF-BABD-1122A375888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4980-50CC-4C9D-8907-6444F43189A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ED02-0209-45E4-962F-9776B98D262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iro86.ru/index.php/meropriyatiya/konkursi/1471-zozh-na-kazhdom-uroke-khorosh-v-khanty-mansijskom-avtonomnom-okruge-yugre-v-2021-godu-21-10-2021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s://iro86.ru/index.php/meropriyatiya/konkursi/1471-zozh-na-kazhdom-uroke-khorosh-v-khanty-mansijskom-avtonomnom-okruge-yugre-v-2021-godu-21-10-2021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66640" y="719280"/>
            <a:ext cx="7864560" cy="318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39290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Моржанаева И.Н., учител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37960" y="133200"/>
            <a:ext cx="8425080" cy="22989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"/>
          <p:cNvPicPr/>
          <p:nvPr/>
        </p:nvPicPr>
        <p:blipFill>
          <a:blip r:embed="rId2"/>
          <a:srcRect l="27222" t="28909" r="48374" b="30185"/>
          <a:stretch/>
        </p:blipFill>
        <p:spPr>
          <a:xfrm>
            <a:off x="1357200" y="2143080"/>
            <a:ext cx="4214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3357720"/>
            <a:ext cx="8229600" cy="14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br>
              <a:rPr sz="1800"/>
            </a:br>
            <a:br>
              <a:rPr sz="1800"/>
            </a:br>
            <a:br>
              <a:rPr sz="4500"/>
            </a:br>
            <a:br>
              <a:rPr sz="45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Рисунок 3" descr=""/>
          <p:cNvPicPr/>
          <p:nvPr/>
        </p:nvPicPr>
        <p:blipFill>
          <a:blip r:embed="rId2"/>
          <a:srcRect l="14221" t="14223" r="15149" b="6173"/>
          <a:stretch/>
        </p:blipFill>
        <p:spPr>
          <a:xfrm>
            <a:off x="357120" y="3714840"/>
            <a:ext cx="4186440" cy="28764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5" descr=""/>
          <p:cNvPicPr/>
          <p:nvPr/>
        </p:nvPicPr>
        <p:blipFill>
          <a:blip r:embed="rId3"/>
          <a:srcRect l="34491" t="23437" r="37399" b="13283"/>
          <a:stretch/>
        </p:blipFill>
        <p:spPr>
          <a:xfrm>
            <a:off x="4786200" y="371484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6"/>
          <p:cNvSpPr/>
          <p:nvPr/>
        </p:nvSpPr>
        <p:spPr>
          <a:xfrm>
            <a:off x="428760" y="285840"/>
            <a:ext cx="850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ие в конкурсах различного уровня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4"/>
              </a:rPr>
              <a:t> «ЗОЖ- на каждом уроке хорош!», Региональный  конкурс   22 октября - 26 ноября 2021 г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.Ханты-Мансийск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9595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Всероссийский конкурс  "Моя лучшая методическая разработка"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Фонд образовательной и научной деятельности Х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ЕК  г.Москва, 3 место , декабр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89000" y="633240"/>
            <a:ext cx="86565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714240" y="700200"/>
            <a:ext cx="8072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Вывод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план работы по самообразованию на по итогам 1 полугодия реализован, в результате работы повысились компетенции по транслированию собственного опыта.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ако работа по систематизация методического материала требует продолжения, более качественного наполнени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ирование регулятивных базовых учебных действий у обучающихся с интеллектуальными нарушениями в условиях внедрения ФГОС»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Цель работы по самообразо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Повышение профессиональных компетенций на основе формирование регулятивных базовых учебных действий у обучающихся с интеллектуальными  нарушениями обучения в условиях внедрения ФГОС»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214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Задачи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Изучить психолого-педагогическую и методическую литературу по проблем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Изучить технологию формирования БУД, регулятивных учебных действ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Разработать диагностический инструментарий, методические рекомендации, дидактический материа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Апробировать приемы в работе с обучающими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.Проанализировать результаты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6. Обобщить опыт рабо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Этапы рабо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этап – Формирующий-2018 – 2019г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 этап – Внедрение-2019-2020г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 этап – Корректировки-2020-2021г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 этап – Обобщение-2021-2022г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400" y="99972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 этап – Обобщение-2021-2022гг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результатов работы по самообразованию - его обобщение и  представление материал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стематизировать и обобщить педагогический опы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иражирование опы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500040" y="709560"/>
          <a:ext cx="8286840" cy="5506920"/>
        </p:xfrm>
        <a:graphic>
          <a:graphicData uri="http://schemas.openxmlformats.org/drawingml/2006/table">
            <a:tbl>
              <a:tblPr/>
              <a:tblGrid>
                <a:gridCol w="706320"/>
                <a:gridCol w="2293920"/>
                <a:gridCol w="449280"/>
                <a:gridCol w="604800"/>
                <a:gridCol w="605160"/>
                <a:gridCol w="603000"/>
                <a:gridCol w="604800"/>
                <a:gridCol w="605160"/>
                <a:gridCol w="604800"/>
                <a:gridCol w="603000"/>
                <a:gridCol w="606600"/>
              </a:tblGrid>
              <a:tr h="1122120">
                <a:tc gridSpan="11"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этап – Обоб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тизация и обобщение педагогического опы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ражирование опы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( год, месяц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 2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тизация матери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открытых уро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Участие в конкурсах различного уров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3796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тевом взаимодействии в рамках профессиональных сообще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4096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упление на методической конференции, </a:t>
                      </a:r>
                      <a:r>
                        <a:rPr b="0" lang="ru-RU" sz="12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Оформление методических рекоменд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24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езультатов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0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20840" y="743040"/>
            <a:ext cx="8454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79200" y="-1676520"/>
            <a:ext cx="8626680" cy="36086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"/>
          <p:cNvPicPr/>
          <p:nvPr/>
        </p:nvPicPr>
        <p:blipFill>
          <a:blip r:embed="rId2"/>
          <a:srcRect l="22550" t="20111" r="19843" b="22576"/>
          <a:stretch/>
        </p:blipFill>
        <p:spPr>
          <a:xfrm>
            <a:off x="571680" y="2071800"/>
            <a:ext cx="80010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25T14:07:47Z</dcterms:created>
  <dc:creator>Алексей</dc:creator>
  <dc:description/>
  <dc:language>en-US</dc:language>
  <cp:lastModifiedBy>Алексей</cp:lastModifiedBy>
  <dcterms:modified xsi:type="dcterms:W3CDTF">2021-12-25T16:06:07Z</dcterms:modified>
  <cp:revision>1</cp:revision>
  <dc:subject/>
  <dc:title> Отчет по самообразованию за 1 полугодие  2021-2022 учебного года  </dc:title>
</cp:coreProperties>
</file>