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9F3-C90B-4395-8FA0-12EC68F6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BF2-E6E9-4EDF-BE90-B600540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968-CF00-4C61-891C-F1D9AEFA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A87-D5FE-4007-B675-2B45B7AE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E6BC4-7095-4771-A38C-8DA58CDF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885C-D3F1-49AD-BF67-2E39950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718F9-BBF4-4BCD-9A97-0E7A5993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0DA97-C6DF-4DE7-9CD3-09974516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3AF61-DEC6-4BE7-9030-667DEEEC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8CCD0-04B6-4B55-9DDB-84048023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0885D-D085-4355-828C-C490F4D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546-B978-4C4B-9889-3E9287A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4D92-29BB-4AF0-8427-5AE5DAA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588EC-9DF2-4CB1-8D5D-C9E50B2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0B6E6-0F8E-487D-AFB0-F4F979C6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8164-1FA0-4B15-9CED-6C80552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5A30B-F74E-4233-B9F9-13D8CA56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5E1-061B-4F4F-B4D3-47B60AC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49D-8B65-435B-893B-B4033DF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235-D8D4-482B-ABED-6BB4C62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790-7B77-4C8E-A522-B2124FA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B1E-22CE-40CA-92B0-25BE01A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30A-18A6-40F8-A0C0-22F752B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B63-7CA5-418A-8354-EFBB3DD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1F0D-2F53-4C38-B861-F57A73812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12BE-4B02-4636-B0CA-C72EB05D68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619280" y="476280"/>
            <a:ext cx="5759280" cy="32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Причаст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835280" y="333360"/>
            <a:ext cx="52578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писание гласных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1547640" y="1125360"/>
            <a:ext cx="626436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страдательных причасти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2421000"/>
          <a:ext cx="7702560" cy="4103640"/>
        </p:xfrm>
        <a:graphic>
          <a:graphicData uri="http://schemas.openxmlformats.org/drawingml/2006/table">
            <a:tbl>
              <a:tblPr/>
              <a:tblGrid>
                <a:gridCol w="3821040"/>
                <a:gridCol w="38815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, 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образовано от глаголов на — ать(-ять)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ержать - задержанный - задержан вспахать - вспаханный - вспах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образовано от любых других глаголов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ный - изучен купи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енный - купл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4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уффиксе -еин-после шипящих под ударением пишется е(ё), хотя произносится [о]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жжённый, оешё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WordArt 49"/>
          <p:cNvSpPr txBox="1"/>
          <p:nvPr/>
        </p:nvSpPr>
        <p:spPr>
          <a:xfrm>
            <a:off x="1692360" y="1844640"/>
            <a:ext cx="534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сные перед -Я- и -НН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755640" y="979200"/>
            <a:ext cx="799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емл...щий великан; туман расстила...щийся над рекой; стро...щая школу бригада; из отта...вшей земли; разъезж...(н, нн)ая машинами дорога, подстрел...(н, нн)ый заяц, колебл...щийся камыш; вид...мая на небе звезда, (не) сдела(н, нн)ое задание; (не) кош...(н, нн)ая фермером трава; (не) подмете(н, нн)ый пол, рожь (не) сжата; реше(н, нн)ая проблема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риа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е...(н, нн)ые ветром; услыш...(н, нн)ый шорох; чита...щий мальчик; та...щий снег; тяжело дыш...щий спортсмен; связ...(н, нн)ая веревка, (не) распустившийся цветок; ране(н, нн)ый в голову боец; трава (не)скош...(н,нн)а; (не) провере(н, нн)ая учителем работа; афиши (не) раскле...(н, нн)ы; замеш...(н, нн)ый в преступлении; вяза(н, нн)ый свитер; соле  (н, нн)ые в маринаде грибы. а; ране(н, нн)ый боец, лицо взволнова(н, нн)о, поле (не) зас...(н, нн)о, стро...вший школу подрядчик, рассе...(н,нн)ый|лунный свет, масля(н, нн)ые краски, смеш...(н, нн)ые се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95280" y="404640"/>
            <a:ext cx="831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очки по правописанию причасти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755640" y="6238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гда не думала, что на старости лет пойду работать в дом ребёнка. Но, как видно, руки, огрубевшие за многие годы работы на стройке, и зачерствевшая душа вдруг пожелали смягчиться и очиститься. В душе стали просыпаться доселе неизвестные чувства и стремления, и особенно когда на глаза попадались статьи о брошенных дет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частье, которое ежедневно испытывает ребёнок в семье, несравнимо с одним счастливым днём ребёнка, воспитывающегося в детском доме. Как многого лишены наши сироты! Они как цветы, выращенные в теплице. Сколько здесь детей - столько и маленьких разбитых сердец, настоящих человеческих трагедий. Хотелось что-то сделать для них, одарить каждого сердечной лаской и душевным теп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627280" y="189000"/>
            <a:ext cx="39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кст для анализа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11280" y="1855440"/>
            <a:ext cx="72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бро- есть вечная высшая цель нашей жизни. (Л.Н.Толст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счастье? Соучастие в добрых человеческих делах. (Н.Асее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миру с добром пойдёшь, утраченное счастье найдёшь. (Послов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предложений с причастиями на тему «Доброе дело питает и разум, и тел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332000" y="476280"/>
            <a:ext cx="57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сказывания писателе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592200" y="63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106800" y="2030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частие 1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50920" y="563400"/>
            <a:ext cx="88930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астия отвечают на вопрос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Кто? Чт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Как? Каким образо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Что делать? Что сдел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Какой? Какая? Какие?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йдите неверное утвержд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причастие в предложении обычно бывает определ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написание суффиксов действительных причастий настоящего времени зависит от спряжения глагола, от которого образовано это причас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гласные в падежных окончаниях причастий определяем по вопрос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причастия, как и глагол, изменяются по лиц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словосочетание с причаст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ребряный колокольч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сутствовать на уро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мотрящий в ок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ренняя ро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19120" y="419040"/>
            <a:ext cx="808524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льзя образовать страдательное причастие настоящего времени    от глагол0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обрабаты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нарисо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 запол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гн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радательные причастия прошедшего времени не образуются с помощью суффикс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-н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-ен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-ш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-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 причастие с зависимым слово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дремлющего стар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1" action="ppaction://hlinksldjump"/>
              </a:rPr>
              <a:t>развевающиеся гирлян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2" action="ppaction://hlinksldjump"/>
              </a:rPr>
              <a:t>написанная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гоняемая вет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95440" y="419040"/>
            <a:ext cx="86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предложения с причастным оборо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ззвучно падают бесчисленные золотисто-жёлтые лист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доль усеянного острыми камнями берега разведчикаи вышли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елёному пол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безветренную погоду по извивающейся тропинке м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звращались с ох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пятые необходимы: Человек (1) успешно преодолевающий (2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ою лень (3) может многого (4) добиться в жиз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, 2,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, 3,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, 3,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амматическая ошибка в предложен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рхушки берёз, колеблемые ветром, приветствовали нов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столом  сидела читаемая девуш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ыпанная листьями тропинка вела к д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летевшее слово на коне не догониш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56920" y="419040"/>
            <a:ext cx="87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жите правильно построенное предлож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пристани толпились ожидающие пассажиры посадки на кате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пинка ведёт к полю протоптанная в ягодниках и мх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небе летали встревоженные птицы надвигающейся бур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Я долго любовался расстилавшейся перед моими глазами карти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979640" y="1773360"/>
            <a:ext cx="5256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UTurnArrow"/>
          <p:cNvSpPr/>
          <p:nvPr/>
        </p:nvSpPr>
        <p:spPr>
          <a:xfrm rot="16200000">
            <a:off x="482400" y="4925880"/>
            <a:ext cx="1482480" cy="1368360"/>
          </a:xfrm>
          <a:custGeom>
            <a:avLst/>
            <a:gdLst>
              <a:gd name="textAreaLeft" fmla="*/ 0 w 1482480"/>
              <a:gd name="textAreaRight" fmla="*/ 382320 w 1482480"/>
              <a:gd name="textAreaTop" fmla="*/ 52632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2556000" y="1773360"/>
            <a:ext cx="446400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UTurnArrow"/>
          <p:cNvSpPr/>
          <p:nvPr/>
        </p:nvSpPr>
        <p:spPr>
          <a:xfrm rot="16200000">
            <a:off x="698400" y="4854600"/>
            <a:ext cx="1419120" cy="1447560"/>
          </a:xfrm>
          <a:custGeom>
            <a:avLst/>
            <a:gdLst>
              <a:gd name="textAreaLeft" fmla="*/ 0 w 1419120"/>
              <a:gd name="textAreaRight" fmla="*/ 366120 w 1419120"/>
              <a:gd name="textAreaTop" fmla="*/ 55692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826920" y="1125360"/>
          <a:ext cx="7705800" cy="4896000"/>
        </p:xfrm>
        <a:graphic>
          <a:graphicData uri="http://schemas.openxmlformats.org/drawingml/2006/table">
            <a:tbl>
              <a:tblPr/>
              <a:tblGrid>
                <a:gridCol w="2697480"/>
                <a:gridCol w="500832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Общее грамматическое 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часть речи, обозначает признак предмета по действию, отвечает на вопросы какой? что делающий? что сделавший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Морфологические признаки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1)  признаки прилагательного у 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2) признаки глагола у причас­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меняется по родам, числам, падежам, согласуясь с опре­деляемым существительным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я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.р.,ед.ч.,им.п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ет прочитанным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н.ч.,тв.пад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ми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причастия могут иметь полную и краткую формы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ый - прочитан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ные и невозвратные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ваю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возвр.)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вающийс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озвр.) - имеют вид того глагола, от которого они образованы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.в.)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авш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.в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ну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ов. в.)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гнувш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ов. в.) - имеют формы настоящего и прошедшего времени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каю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ст.вр.) —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кавш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ш.вр.) - может быть действительным и страдательным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ящ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ейств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лёт - выуче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ад.)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WordArt 63"/>
          <p:cNvSpPr txBox="1"/>
          <p:nvPr/>
        </p:nvSpPr>
        <p:spPr>
          <a:xfrm>
            <a:off x="2700360" y="333360"/>
            <a:ext cx="3600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частие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16000" y="1413000"/>
          <a:ext cx="6985080" cy="4392360"/>
        </p:xfrm>
        <a:graphic>
          <a:graphicData uri="http://schemas.openxmlformats.org/drawingml/2006/table">
            <a:tbl>
              <a:tblPr/>
              <a:tblGrid>
                <a:gridCol w="3203640"/>
                <a:gridCol w="3781440"/>
              </a:tblGrid>
              <a:tr h="18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ный оборот = причастие + зависимое сло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нутые заморозком листья пожелтел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Если причастный оборот стоит после определяемого слова, то он с обеих сторон выделяется запяты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, написанная, известным писателем, вышла из печати. Написанная известным писателем книга вышла из печа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WordArt 58"/>
          <p:cNvSpPr txBox="1"/>
          <p:nvPr/>
        </p:nvSpPr>
        <p:spPr>
          <a:xfrm>
            <a:off x="2124000" y="260280"/>
            <a:ext cx="5327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частный оборот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ree"/>
          <p:cNvSpPr/>
          <p:nvPr/>
        </p:nvSpPr>
        <p:spPr>
          <a:xfrm>
            <a:off x="6227640" y="184464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ree"/>
          <p:cNvSpPr/>
          <p:nvPr/>
        </p:nvSpPr>
        <p:spPr>
          <a:xfrm>
            <a:off x="1042920" y="4724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900000" y="0"/>
            <a:ext cx="718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 отличаются действительные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1258920" y="692280"/>
            <a:ext cx="618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частия от страдательных?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12" descr="BD21298_"/>
          <p:cNvPicPr/>
          <p:nvPr/>
        </p:nvPicPr>
        <p:blipFill>
          <a:blip r:embed="rId1"/>
          <a:stretch/>
        </p:blipFill>
        <p:spPr>
          <a:xfrm>
            <a:off x="3564000" y="1844640"/>
            <a:ext cx="1439640" cy="576360"/>
          </a:xfrm>
          <a:prstGeom prst="rect">
            <a:avLst/>
          </a:prstGeom>
          <a:ln w="0">
            <a:noFill/>
          </a:ln>
        </p:spPr>
      </p:pic>
      <p:sp>
        <p:nvSpPr>
          <p:cNvPr id="95" name="WordArt 13"/>
          <p:cNvSpPr txBox="1"/>
          <p:nvPr/>
        </p:nvSpPr>
        <p:spPr>
          <a:xfrm>
            <a:off x="3419640" y="2637000"/>
            <a:ext cx="27367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жающий</a:t>
            </a:r>
            <a:endParaRPr b="0" i="1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14" descr="BD21298_"/>
          <p:cNvPicPr/>
          <p:nvPr/>
        </p:nvPicPr>
        <p:blipFill>
          <a:blip r:embed="rId2"/>
          <a:stretch/>
        </p:blipFill>
        <p:spPr>
          <a:xfrm>
            <a:off x="3708360" y="4365720"/>
            <a:ext cx="1440000" cy="576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15"/>
          <p:cNvSpPr txBox="1"/>
          <p:nvPr/>
        </p:nvSpPr>
        <p:spPr>
          <a:xfrm>
            <a:off x="3348000" y="530064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ажен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20" descr="j0297551"/>
          <p:cNvPicPr/>
          <p:nvPr/>
        </p:nvPicPr>
        <p:blipFill>
          <a:blip r:embed="rId3"/>
          <a:stretch/>
        </p:blipFill>
        <p:spPr>
          <a:xfrm>
            <a:off x="971640" y="1413000"/>
            <a:ext cx="1604880" cy="24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j0297551"/>
          <p:cNvPicPr/>
          <p:nvPr/>
        </p:nvPicPr>
        <p:blipFill>
          <a:blip r:embed="rId4"/>
          <a:stretch/>
        </p:blipFill>
        <p:spPr>
          <a:xfrm>
            <a:off x="6588000" y="4005360"/>
            <a:ext cx="16052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1700280"/>
          <a:ext cx="6913800" cy="4465440"/>
        </p:xfrm>
        <a:graphic>
          <a:graphicData uri="http://schemas.openxmlformats.org/drawingml/2006/table">
            <a:tbl>
              <a:tblPr/>
              <a:tblGrid>
                <a:gridCol w="1389240"/>
                <a:gridCol w="555480"/>
                <a:gridCol w="2635200"/>
                <a:gridCol w="2333880"/>
              </a:tblGrid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Глаголы настоя­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пря­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уффиксы действительных при­частий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Действительные причастия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ет работает улыбаютс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щ- (-ющ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ущий ,работающ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лыбающий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шат крася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щ- (-ящ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шащ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ящ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WordArt 97"/>
          <p:cNvSpPr txBox="1"/>
          <p:nvPr/>
        </p:nvSpPr>
        <p:spPr>
          <a:xfrm>
            <a:off x="1403280" y="189000"/>
            <a:ext cx="612144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йствительные причастия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98"/>
          <p:cNvSpPr txBox="1"/>
          <p:nvPr/>
        </p:nvSpPr>
        <p:spPr>
          <a:xfrm>
            <a:off x="1835280" y="765000"/>
            <a:ext cx="4495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оящ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99"/>
          <p:cNvSpPr txBox="1"/>
          <p:nvPr/>
        </p:nvSpPr>
        <p:spPr>
          <a:xfrm>
            <a:off x="2268360" y="765000"/>
            <a:ext cx="46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шедш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700280"/>
          <a:ext cx="7272360" cy="451800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Неопределённая форма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уффиксы действительных причастий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Действительные причастия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               . засеять расколоть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-вш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вш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еявший расколовший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ш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ёсш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WordArt 240"/>
          <p:cNvSpPr txBox="1"/>
          <p:nvPr/>
        </p:nvSpPr>
        <p:spPr>
          <a:xfrm>
            <a:off x="1692360" y="260280"/>
            <a:ext cx="57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дательные причастия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243"/>
          <p:cNvSpPr txBox="1"/>
          <p:nvPr/>
        </p:nvSpPr>
        <p:spPr>
          <a:xfrm>
            <a:off x="2195640" y="836640"/>
            <a:ext cx="44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оящ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844640"/>
          <a:ext cx="7129440" cy="4392720"/>
        </p:xfrm>
        <a:graphic>
          <a:graphicData uri="http://schemas.openxmlformats.org/drawingml/2006/table">
            <a:tbl>
              <a:tblPr/>
              <a:tblGrid>
                <a:gridCol w="1782720"/>
                <a:gridCol w="1781280"/>
                <a:gridCol w="1782720"/>
                <a:gridCol w="1782720"/>
              </a:tblGrid>
              <a:tr h="32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Глаголы настоя­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пря­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уффиксы страдательных при­частий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традательные причастия настоящ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ем- (-ом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ем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я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им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им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WordArt 321"/>
          <p:cNvSpPr txBox="1"/>
          <p:nvPr/>
        </p:nvSpPr>
        <p:spPr>
          <a:xfrm>
            <a:off x="2124000" y="765000"/>
            <a:ext cx="46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шедшего времен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773360"/>
          <a:ext cx="7343640" cy="4464000"/>
        </p:xfrm>
        <a:graphic>
          <a:graphicData uri="http://schemas.openxmlformats.org/drawingml/2006/table">
            <a:tbl>
              <a:tblPr/>
              <a:tblGrid>
                <a:gridCol w="2070000"/>
                <a:gridCol w="2585880"/>
                <a:gridCol w="2687760"/>
              </a:tblGrid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Неопределённая форма глаг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уффиксы страдательных при­частий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Страдательные причастия прошедш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идеть, построить ,решить ,прин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енн- (-ённ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иденный, достроенный, решённый ,принесё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900000" y="333360"/>
            <a:ext cx="7164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Н-, НН- в суффиксах причастий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628640"/>
          <a:ext cx="7200720" cy="4392720"/>
        </p:xfrm>
        <a:graphic>
          <a:graphicData uri="http://schemas.openxmlformats.org/drawingml/2006/table">
            <a:tbl>
              <a:tblPr/>
              <a:tblGrid>
                <a:gridCol w="3484440"/>
                <a:gridCol w="37162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84848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ратких страдательных причастиях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ец ранен, диктант напис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и наличии приставок (кроме не-)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рашенная, пораненный, слома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При наличии пояснительных слов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шенный ими пол, раненный пулей боец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В словах на -ованный (-еванный)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нованный, арестова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Образованные от глаголов совершенного вида: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енный, реше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971640" y="765000"/>
            <a:ext cx="72342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писание НЕ с причастиям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5370480" y="2916360"/>
            <a:ext cx="1371600" cy="571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5484960" y="2916360"/>
            <a:ext cx="12571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68360" y="155520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ьно                                         сли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763640" y="2529000"/>
            <a:ext cx="569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к. причаст.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годую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.+завис.сл.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завис. с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gt;,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&gt;,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&l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826920" y="476280"/>
            <a:ext cx="719784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нтаксическая роль причастия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2000" y="2124000"/>
          <a:ext cx="5976720" cy="2960640"/>
        </p:xfrm>
        <a:graphic>
          <a:graphicData uri="http://schemas.openxmlformats.org/drawingml/2006/table">
            <a:tbl>
              <a:tblPr/>
              <a:tblGrid>
                <a:gridCol w="2093760"/>
                <a:gridCol w="3882960"/>
              </a:tblGrid>
              <a:tr h="29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34343"/>
                          </a:solidFill>
                          <a:latin typeface="Times New Roman"/>
                          <a:ea typeface="Times New Roman"/>
                        </a:rPr>
                        <a:t>Синтаксическая р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; краткое причастие- сказуемое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ванный цветок увял. - Цветок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был сорв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9"/>
          <p:cNvSpPr/>
          <p:nvPr/>
        </p:nvSpPr>
        <p:spPr>
          <a:xfrm>
            <a:off x="2365200" y="2729880"/>
            <a:ext cx="2313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5680" rIns="15966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4000" y="692280"/>
            <a:ext cx="856296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писание суффиксов в причастия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44440" y="891360"/>
            <a:ext cx="8656560" cy="72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1360" rIns="2485080" tIns="914040" bIns="45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І сп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ВАЖА - ЕМ -УВАЖА-ЕМ- 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ЮБ- ИМ -ЛЮБ-ИМ- 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2133720"/>
          <a:ext cx="7345440" cy="396072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с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с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Д-УТ -&gt; ИД-У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ЫШ-АТ -&gt; СЛЫШ-А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-ЮТ -&gt;ПО-Ю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-ЯТ -&gt; ВИД –ЯЩ-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4:13:07Z</dcterms:created>
  <dc:creator>*</dc:creator>
  <dc:description/>
  <dc:language>en-US</dc:language>
  <cp:lastModifiedBy>Фаррахутдиноа  Зиля</cp:lastModifiedBy>
  <dcterms:modified xsi:type="dcterms:W3CDTF">2012-05-01T17:01:30Z</dcterms:modified>
  <cp:revision>8</cp:revision>
  <dc:subject/>
  <dc:title>Слайд 1</dc:title>
</cp:coreProperties>
</file>