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FA9B-0A31-41F0-9739-92AE6AAE2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F062-530A-4CD3-897C-DD4597650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04A1-4E87-4E87-8505-E793D9F17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0A82-94C2-4608-A7A0-42A3E9DAA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A6800-DFBD-4607-8910-4567ED2B8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13E9B-9235-42ED-9511-98A5E1EB1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473ED-CE85-47FD-B738-27AE6F7FC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4050B-A712-4049-ADD0-892C81414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D79E8-395C-40F6-9891-A7F1C3BD2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4186D-354E-4F4E-924C-707057C57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3C972-E156-43AA-83F1-BB8CF7598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23E3-3E97-4151-B13D-96E0436B6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96772-A126-4FC4-B128-964D05DA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B71E2-0563-4F8E-9DEB-6B27DB9D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68EDC-04F4-4FAB-BA2A-DC1D6622B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69B1E-F319-4000-B15E-62C6552FC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B7D23-910A-474C-8ECC-9E1394C37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00AE-EBEF-44D9-A20B-028FD90C4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98F5-9347-40CA-8180-0A2F2D67F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7ADC-75E2-4FFD-99F3-079AD032A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9D64-A75F-441E-88E1-ED857702F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4712-21C6-4EA7-91E2-52DD140B8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2FE2-5FC0-4D66-939A-7B1C9C5F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ABC0-4AC8-4C90-9F5C-DF1027DEE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30A5ADC-36B8-4CAE-B709-A952EE36EAFF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56D381A-B751-4EA2-80EE-958501399600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3492000" y="908640"/>
            <a:ext cx="117252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1" i="1" lang="ru-RU" sz="3600" spc="-1" strike="noStrike">
              <a:solidFill>
                <a:srgbClr val="c00000"/>
              </a:solidFill>
              <a:latin typeface="Calibri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569880" y="908640"/>
            <a:ext cx="8003880" cy="1728000"/>
          </a:xfrm>
          <a:prstGeom prst="rect">
            <a:avLst/>
          </a:prstGeom>
          <a:ln w="0">
            <a:noFill/>
          </a:ln>
        </p:spPr>
      </p:pic>
      <p:sp>
        <p:nvSpPr>
          <p:cNvPr id="84" name="Рисунок 2"/>
          <p:cNvSpPr/>
          <p:nvPr/>
        </p:nvSpPr>
        <p:spPr>
          <a:xfrm>
            <a:off x="1828800" y="2678760"/>
            <a:ext cx="5409720" cy="34228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softEdge rad="1126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1"/>
          <p:cNvSpPr/>
          <p:nvPr/>
        </p:nvSpPr>
        <p:spPr>
          <a:xfrm>
            <a:off x="611640" y="836640"/>
            <a:ext cx="7848360" cy="59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</a:pPr>
            <a:r>
              <a:rPr b="1" lang="ru-RU" sz="24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«Губная гармош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576"/>
              </a:lnSpc>
              <a:spcBef>
                <a:spcPts val="1125"/>
              </a:spcBef>
              <a:spcAft>
                <a:spcPts val="1125"/>
              </a:spcAf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дложите ребенку стать музыкантом, пусть он поиграет на губной гармошке. При этом ваша задача не в том, чтобы научить его играть, потому не обращайте внимание на мелодию. Важно, чтобы ребенок вдыхал воздух через губную гармошку и выдыхал в нее ж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576"/>
              </a:lnSpc>
              <a:spcBef>
                <a:spcPts val="1125"/>
              </a:spcBef>
              <a:spcAft>
                <a:spcPts val="1125"/>
              </a:spcAft>
            </a:pPr>
            <a:r>
              <a:rPr b="1" lang="ru-RU" sz="24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«Бабоч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576"/>
              </a:lnSpc>
              <a:spcBef>
                <a:spcPts val="1125"/>
              </a:spcBef>
              <a:spcAft>
                <a:spcPts val="1125"/>
              </a:spcAf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тянуть губы вперед трубочкой и подуть на бумажную бабочку. К бабочке привязать нитку и прикрепить так, чтобы бабочка висела на уровне лица ребенка. Ребенок делает длительный плавный выдох. Достаточно 3-5 повторений. Следить, чтобы не надувались щеки, для этого их можно слегка придерживать пальцами. Не допускать, чтобы воздушная струя была прерывиста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576"/>
              </a:lnSpc>
              <a:spcBef>
                <a:spcPts val="1125"/>
              </a:spcBef>
              <a:spcAft>
                <a:spcPts val="1125"/>
              </a:spcAf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абочка-бабочка,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576"/>
              </a:lnSpc>
              <a:spcBef>
                <a:spcPts val="1125"/>
              </a:spcBef>
              <a:spcAft>
                <a:spcPts val="1125"/>
              </a:spcAf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лети на облачк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576"/>
              </a:lnSpc>
              <a:spcBef>
                <a:spcPts val="1125"/>
              </a:spcBef>
              <a:spcAft>
                <a:spcPts val="1125"/>
              </a:spcAf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ам твои детки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576"/>
              </a:lnSpc>
              <a:spcBef>
                <a:spcPts val="1125"/>
              </a:spcBef>
              <a:spcAft>
                <a:spcPts val="1125"/>
              </a:spcAf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березовой ветк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576"/>
              </a:lnSpc>
              <a:spcBef>
                <a:spcPts val="1125"/>
              </a:spcBef>
              <a:spcAft>
                <a:spcPts val="1125"/>
              </a:spcAf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4500000" y="188640"/>
            <a:ext cx="1794240" cy="12956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03" name="Picture 3" descr=""/>
          <p:cNvPicPr/>
          <p:nvPr/>
        </p:nvPicPr>
        <p:blipFill>
          <a:blip r:embed="rId2"/>
          <a:stretch/>
        </p:blipFill>
        <p:spPr>
          <a:xfrm>
            <a:off x="5806080" y="4365000"/>
            <a:ext cx="2047320" cy="19490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"/>
          <p:cNvSpPr/>
          <p:nvPr/>
        </p:nvSpPr>
        <p:spPr>
          <a:xfrm>
            <a:off x="683640" y="476640"/>
            <a:ext cx="7704360" cy="38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 u="sng">
                <a:solidFill>
                  <a:srgbClr val="0070c0"/>
                </a:solidFill>
                <a:uFillTx/>
                <a:latin typeface="Times New Roman"/>
              </a:rPr>
              <a:t>«Шторм в стакане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Кладется соломинка для коктейля, конец которой опускается в стакан с водой. Ребенок дует через соломинку, чтобы вода забурлила. Достаточно 3-5 повторений. Многократное выполнение таких упражнений может привести к головокружению. Следить, чтобы не надувались щеки, для этого их можно слегка придерживать пальцами. Не допускать, чтобы воздушная струя была прерывист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icture 2"/>
          <p:cNvSpPr/>
          <p:nvPr/>
        </p:nvSpPr>
        <p:spPr>
          <a:xfrm>
            <a:off x="5508000" y="3809520"/>
            <a:ext cx="1872000" cy="175968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algn="tl" blurRad="76320" dir="7800819" dist="38073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contrasting">
              <a:rot lat="0" lon="0" rev="4200000"/>
            </a:lightRig>
          </a:scene3d>
          <a:sp3d prstMaterial="plastic">
            <a:bevelT prst="relaxedInset" w="381000" h="114300"/>
            <a:contourClr>
              <a:srgbClr val="969696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3" descr="C:\Users\Home\Desktop\РОЛИК\IMG_20191030_140852.jpg"/>
          <p:cNvPicPr/>
          <p:nvPr/>
        </p:nvPicPr>
        <p:blipFill>
          <a:blip r:embed="rId1"/>
          <a:stretch/>
        </p:blipFill>
        <p:spPr>
          <a:xfrm>
            <a:off x="755640" y="764640"/>
            <a:ext cx="7730280" cy="54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971640" y="548280"/>
            <a:ext cx="2088000" cy="22255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08" name="Picture 3" descr=""/>
          <p:cNvPicPr/>
          <p:nvPr/>
        </p:nvPicPr>
        <p:blipFill>
          <a:blip r:embed="rId2"/>
          <a:stretch/>
        </p:blipFill>
        <p:spPr>
          <a:xfrm>
            <a:off x="3636000" y="469080"/>
            <a:ext cx="2189520" cy="23043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09" name="Picture 3" descr="C:\Users\Home\Desktop\IMG_20211210_093548_resized_20211210_093739553 (1).jpg"/>
          <p:cNvPicPr/>
          <p:nvPr/>
        </p:nvPicPr>
        <p:blipFill>
          <a:blip r:embed="rId3"/>
          <a:stretch/>
        </p:blipFill>
        <p:spPr>
          <a:xfrm>
            <a:off x="2498760" y="3213000"/>
            <a:ext cx="3744000" cy="28382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10" name="Picture 4" descr="C:\Users\Home\Desktop\РОЛИК\IMG_20211207_161938_resized_20211210_091657733.jpg"/>
          <p:cNvPicPr/>
          <p:nvPr/>
        </p:nvPicPr>
        <p:blipFill>
          <a:blip r:embed="rId4"/>
          <a:stretch/>
        </p:blipFill>
        <p:spPr>
          <a:xfrm>
            <a:off x="6243120" y="704520"/>
            <a:ext cx="1928880" cy="206928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1"/>
          <p:cNvSpPr/>
          <p:nvPr/>
        </p:nvSpPr>
        <p:spPr>
          <a:xfrm>
            <a:off x="611640" y="908640"/>
            <a:ext cx="770436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 u="sng">
                <a:solidFill>
                  <a:srgbClr val="0070c0"/>
                </a:solidFill>
                <a:uFillTx/>
                <a:latin typeface="Times New Roman"/>
              </a:rPr>
              <a:t>Лети перыш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Положить ребенку на ладонь перышко и предложить подуть так, чтобы оно полете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 u="sng">
                <a:solidFill>
                  <a:srgbClr val="0070c0"/>
                </a:solidFill>
                <a:uFillTx/>
                <a:latin typeface="Times New Roman"/>
              </a:rPr>
              <a:t>Покатай каранда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бенок сидит за столом. На столе на расстоянии 20 см от ребенка положите карандаш. Сначала взрослый показывает, как с силой дуть на карандаш, чтобы он укатился на противоположный конец стола. Затем предлагает ребенку подуть на карандаш. Можно продолжить игру, сидя напротив друг друга, и перекатывая друг другу карандаш с одного конца стола на другой.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5436000" y="601200"/>
            <a:ext cx="1171440" cy="1023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C:\Users\Home\Desktop\IMG_20211201_104952.jpg"/>
          <p:cNvPicPr/>
          <p:nvPr/>
        </p:nvPicPr>
        <p:blipFill>
          <a:blip r:embed="rId2"/>
          <a:stretch/>
        </p:blipFill>
        <p:spPr>
          <a:xfrm>
            <a:off x="5632200" y="4869000"/>
            <a:ext cx="1891440" cy="14187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3640" y="476640"/>
            <a:ext cx="763236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16000"/>
          </a:bodyPr>
          <a:p>
            <a:pPr indent="0">
              <a:lnSpc>
                <a:spcPct val="100000"/>
              </a:lnSpc>
              <a:buNone/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27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Снег идёт!</a:t>
            </a:r>
            <a:br>
              <a:rPr sz="4400"/>
            </a:br>
            <a:br>
              <a:rPr sz="2400"/>
            </a:b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ложите на столе кусочки ваты.</a:t>
            </a:r>
            <a:br>
              <a:rPr sz="2200"/>
            </a:b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Представь, что сейчас зима. На улице снежок падает. Давайте подуем на снежинки!</a:t>
            </a: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зрослый показывает, как дуть на вату, ребёнок повторяет. Затем все поднимаете вату, и игра повторяется снова.</a:t>
            </a:r>
            <a:endParaRPr b="0" lang="ru-RU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1187640" y="4083840"/>
            <a:ext cx="2514240" cy="1819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C:\Users\Home\Desktop\IMG_20211201_102528.jpg"/>
          <p:cNvPicPr/>
          <p:nvPr/>
        </p:nvPicPr>
        <p:blipFill>
          <a:blip r:embed="rId2"/>
          <a:stretch/>
        </p:blipFill>
        <p:spPr>
          <a:xfrm>
            <a:off x="5436000" y="3731040"/>
            <a:ext cx="2160000" cy="252468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1"/>
          <p:cNvSpPr/>
          <p:nvPr/>
        </p:nvSpPr>
        <p:spPr>
          <a:xfrm>
            <a:off x="539640" y="548640"/>
            <a:ext cx="7920360" cy="49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Воздушный шарик</a:t>
            </a:r>
            <a:br>
              <a:rPr sz="1800"/>
            </a:br>
            <a:br>
              <a:rPr sz="1800"/>
            </a:b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весьте воздушный шар на уровне лица ребенка. Подуйте на шар так, чтобы он высоко взлетел, затем предложите подуть ребенку.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зможен более сложный вариант игры. Подбросьте воздушный шарик вверх. Предложите ребенку подуть на шарик несколько раз так, чтобы он подольше не опускался на пол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Давай дуть на шарик, чтобы он не упал вниз. Вот так! Сильнее!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жно поиграть с воздушным шаром, наполненным газом. В этом случае шар привязывается к стульчику или чему-нибудь на полу (желательно, чтобы ниточка оставалась длинной). На шар нужно дуть так, чтобы он улетел как можно дальше вперед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7380360" y="4941000"/>
            <a:ext cx="1199160" cy="145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1"/>
          <p:cNvSpPr/>
          <p:nvPr/>
        </p:nvSpPr>
        <p:spPr>
          <a:xfrm>
            <a:off x="827640" y="908640"/>
            <a:ext cx="7632360" cy="41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 u="sng">
                <a:solidFill>
                  <a:srgbClr val="0070c0"/>
                </a:solidFill>
                <a:uFillTx/>
                <a:latin typeface="Times New Roman"/>
              </a:rPr>
              <a:t>Плыви, кораблик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На невысокий стол поставьте таз с водой, в котором плавает бумажный кораблик. Поначалу лучше использовать пластмассовый кораблик, так как бумажные кораблики быстро размокают и тонут. Взрослый дует на кораблик, затем предлагает подуть ребен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-  Представь, что это море. Давай пустим в плавание кораблик. Смотри, какой сильный ветер! Как быстро поплыл наш корабль. А теперь ты попробуй. Молодец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- Игру можно усложнить, предложив ребенку покататься на кораблике из одного города в другой, обозначив города значками на краях таза. В этом случае струя воздуха во время ротового выдоха должна быть не только сильной, но и направлен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icture 3"/>
          <p:cNvSpPr/>
          <p:nvPr/>
        </p:nvSpPr>
        <p:spPr>
          <a:xfrm>
            <a:off x="6156000" y="5063760"/>
            <a:ext cx="1810080" cy="120672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1"/>
          <p:cNvSpPr/>
          <p:nvPr/>
        </p:nvSpPr>
        <p:spPr>
          <a:xfrm>
            <a:off x="539640" y="692640"/>
            <a:ext cx="7992360" cy="56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 u="sng">
                <a:solidFill>
                  <a:srgbClr val="0070c0"/>
                </a:solidFill>
                <a:uFillTx/>
                <a:latin typeface="Times New Roman"/>
              </a:rPr>
              <a:t>Буль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В стакан, наполовину наполненный водой, опустите коктейльную трубочку и подуйте в нее - пузыри с громким бульканьем будут подниматься на поверхность. Затем дайте трубочку ребенку и предложите поду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- Давай сделаем веселые бульки! Возьми трубочку и подуй в стакан воды. Если дуть слабо - получаются маленькие бульки. А если подуть сильно, то получается целая буря! Давай устроим бурю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По "буре" в воде можно легко оценить силу выдоха и его длительность. В начале занятий диаметр трубочки должен быть 5-6 мм, в дальнейшем можно использовать более тонкие трубоч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Многие дети, которые привыкли пить сок из пакетиков через трубочку, не сразу понимают, что от них требуется, могут начать пить воду (поэтому на всякий случай лучше использовать очищенную питьевую воду). В этом случае сначала предложите подуть через трубочку на кусочек ватки на столе или на ладошку, чтобы почувствовать выходящий из трубочки возду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1"/>
          <p:cNvSpPr/>
          <p:nvPr/>
        </p:nvSpPr>
        <p:spPr>
          <a:xfrm>
            <a:off x="755640" y="620640"/>
            <a:ext cx="7560360" cy="43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 u="sng">
                <a:solidFill>
                  <a:srgbClr val="0070c0"/>
                </a:solidFill>
                <a:uFillTx/>
                <a:latin typeface="Times New Roman"/>
              </a:rPr>
              <a:t>«Мыльные пузыр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Поиграйте с ребенком в мыльные пузыри: сначала взрослый выдувает пузыри, а ребенок наблюдает и ловит их. Затем предложите ребенку выдуть пузыри самостоятельно. Следует учесть, что выдувание мыльных пузырей часто оказывается для малышей довольно трудной задачей. Постарайтесь помочь ребенку - подберите разные рамки и трубочки, чтобы ребенок пробовал и выбирал, с помощью чего легче добиться результата. Можно самостоятельно изготовить жидкость для мыльных пузырей: добавить в воду немного жидкости для мытья посуды и сахара. Не забывайте следить за безопасностью ребенка - не позволяйте пробовать и пить жидк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5508000" y="4652640"/>
            <a:ext cx="2638080" cy="17521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1"/>
          <p:cNvSpPr/>
          <p:nvPr/>
        </p:nvSpPr>
        <p:spPr>
          <a:xfrm>
            <a:off x="539640" y="620640"/>
            <a:ext cx="799236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 u="sng">
                <a:solidFill>
                  <a:srgbClr val="0070c0"/>
                </a:solidFill>
                <a:uFillTx/>
                <a:latin typeface="Times New Roman"/>
              </a:rPr>
              <a:t>«Полицейски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- Кто знает, что есть у настоящего полицейского? Пистолет, дубинка и, конечно, свисток. Вот тебе свисток - давайте поиграем в полицейских! Вот полицейский увидел нарушителя - свистим в свисток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StarSymbol"/>
              <a:buChar char="-"/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Игру можно повторить несколько раз. Следите, чтобы ребёнок дул не напрягаясь, не переутомлялся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 u="sng">
                <a:solidFill>
                  <a:srgbClr val="0070c0"/>
                </a:solidFill>
                <a:uFillTx/>
                <a:latin typeface="Times New Roman"/>
              </a:rPr>
              <a:t>"Мычалка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- Развивать фонационный (озвученный) выдо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- Соревнуемся, кто дольше "промычит" на одном выдох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Делаются два спокойных вдоха и два спокойных выдоха, а после третьего глубокого вдоха, медленно выдыхая носом, произносить звук "М-М-М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5436000" y="641520"/>
            <a:ext cx="613800" cy="73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"/>
          <p:cNvSpPr/>
          <p:nvPr/>
        </p:nvSpPr>
        <p:spPr>
          <a:xfrm>
            <a:off x="539640" y="260640"/>
            <a:ext cx="7920360" cy="59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 u="sng">
                <a:solidFill>
                  <a:srgbClr val="0070c0"/>
                </a:solidFill>
                <a:uFillTx/>
                <a:latin typeface="Times New Roman"/>
              </a:rPr>
              <a:t>«Музыкальный пузырё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чистый стеклянный пузырёк (высота пузырька около 7 см, диаметр горлышка 1-1,5 см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Покажите ребёнку пузырё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- Как ты думаешь, что это такое? Правильно, пузырёк. Что можно делать с пузырьком? Налить в него воду. Насыпать в пузырёк витаминки. А еще? Не знаете! Сейчас я тебе покажу фокус! Вот такой музыкальный пузырёк - гудит как тру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- Взрослый подносит пузырек к губам, дует в горлышко, извлекая из него звук. Затем предлагает ребёнку подуть в другой пузырек. Следует помнить: чтобы пузырек загудел, нижняя губа должна слегка касаться края его горлышка. Струя воздуха должна быть сильной. Дуть следует несколько секунд, не напрягаясь. Так как в игре необходимо использовать стеклянные пузырьки, не забывайте о  безопасности. Если у кого-то из детей не получается это задание, не настаивайте. Возможно, лучше вернуться к нему позже, когда ребенок немного подраст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  <Words>848</Words>
  <Paragraphs>58</Paragraphs>
  <Company>Hom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15:42:41Z</dcterms:created>
  <dc:creator>Пользователь Windows</dc:creator>
  <dc:description/>
  <dc:language>en-US</dc:language>
  <cp:lastModifiedBy>Home</cp:lastModifiedBy>
  <dcterms:modified xsi:type="dcterms:W3CDTF">2022-01-11T16:45:10Z</dcterms:modified>
  <cp:revision>36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3</vt:r8>
  </property>
</Properties>
</file>