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869-BD96-474E-B415-B18AD0E7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DE7-D5A8-485D-A603-4253340A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604-CE04-4F80-9D4C-97120F45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0D15-B493-464B-B8B2-908B2319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88A4-E277-4219-A8A6-CED5DFFF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5D04-FD36-454A-BC56-56DB1201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2FC1-961F-44D3-A2C3-2FBA0E33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33CB-155B-4B0F-B1BA-A90C6BDD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1612-1A10-4521-9C67-A2215B62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13D2-E0B5-43A0-B909-298CA5A4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6635-0218-4B95-AAD2-AE1D50F8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331-2AE8-465B-AE78-79F37A10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B29E-6F6F-4311-AA04-75EFCC8A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9A61-5983-47DF-B90F-7B637BDC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8DC9-5BC0-4A43-B9FD-EA1A5BC8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249A-19D2-4D44-9AAE-3E51C3EA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8643-C584-4926-9A45-5C5078D1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D7C-5B07-4205-8379-85A18833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848-34E2-4824-9780-C88DE327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39A-CB03-452B-9A9C-4151B504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86F-9216-4511-B9C7-3906CC1F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8E5-340F-4670-B4B3-75E84F93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656-2FB5-43DC-A508-3FB69C4C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41C-F926-4B3D-A52D-C49E466E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2EB1A5-98BD-4429-A7C9-7FE5E926BC6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382D0F-EFD6-48E4-9241-EFA1B8EC107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492000" y="908640"/>
            <a:ext cx="1172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i="1" lang="ru-RU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569880" y="908640"/>
            <a:ext cx="8003880" cy="1728000"/>
          </a:xfrm>
          <a:prstGeom prst="rect">
            <a:avLst/>
          </a:prstGeom>
          <a:ln w="0">
            <a:noFill/>
          </a:ln>
        </p:spPr>
      </p:pic>
      <p:sp>
        <p:nvSpPr>
          <p:cNvPr id="84" name="Рисунок 2"/>
          <p:cNvSpPr/>
          <p:nvPr/>
        </p:nvSpPr>
        <p:spPr>
          <a:xfrm>
            <a:off x="1828800" y="2678760"/>
            <a:ext cx="5409720" cy="3422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611640" y="836640"/>
            <a:ext cx="78483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«Губная гармо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6"/>
              </a:lnSpc>
              <a:spcBef>
                <a:spcPts val="1125"/>
              </a:spcBef>
              <a:spcAft>
                <a:spcPts val="1125"/>
              </a:spcAf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ложите ребенку стать музыкантом, пусть он поиграет на губной гармошке. При этом ваша задача не в том, чтобы научить его играть, потому не обращайте внимание на мелодию. Важно, чтобы ребенок вдыхал воздух через губную гармошку и выдыхал в нее 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6"/>
              </a:lnSpc>
              <a:spcBef>
                <a:spcPts val="1125"/>
              </a:spcBef>
              <a:spcAft>
                <a:spcPts val="1125"/>
              </a:spcAf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«Бабо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6"/>
              </a:lnSpc>
              <a:spcBef>
                <a:spcPts val="1125"/>
              </a:spcBef>
              <a:spcAft>
                <a:spcPts val="1125"/>
              </a:spcAf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тянуть губы вперед трубочкой и подуть на бумажную бабочку. К бабочке привязать нитку и прикрепить так, чтобы бабочка висела на уровне лица ребенка. Ребенок делает длительный плавный выдох. Достаточно 3-5 повторений. Следить, чтобы не надувались щеки, для этого их можно слегка придерживать пальцами. Не допускать, чтобы воздушная струя была прерывист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6"/>
              </a:lnSpc>
              <a:spcBef>
                <a:spcPts val="1125"/>
              </a:spcBef>
              <a:spcAft>
                <a:spcPts val="1125"/>
              </a:spcAf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бочка-бабочка,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6"/>
              </a:lnSpc>
              <a:spcBef>
                <a:spcPts val="1125"/>
              </a:spcBef>
              <a:spcAft>
                <a:spcPts val="1125"/>
              </a:spcAf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ети на облач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6"/>
              </a:lnSpc>
              <a:spcBef>
                <a:spcPts val="1125"/>
              </a:spcBef>
              <a:spcAft>
                <a:spcPts val="1125"/>
              </a:spcAf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м твои детк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6"/>
              </a:lnSpc>
              <a:spcBef>
                <a:spcPts val="1125"/>
              </a:spcBef>
              <a:spcAft>
                <a:spcPts val="1125"/>
              </a:spcAf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березовой ветк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6"/>
              </a:lnSpc>
              <a:spcBef>
                <a:spcPts val="1125"/>
              </a:spcBef>
              <a:spcAft>
                <a:spcPts val="1125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500000" y="188640"/>
            <a:ext cx="1794240" cy="1295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5806080" y="4365000"/>
            <a:ext cx="2047320" cy="19490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83640" y="476640"/>
            <a:ext cx="770436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«Шторм в стакан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Кладется соломинка для коктейля, конец которой опускается в стакан с водой. Ребенок дует через соломинку, чтобы вода забурлила. Достаточно 3-5 повторений. Многократное выполнение таких упражнений может привести к головокружению. Следить, чтобы не надувались щеки, для этого их можно слегка придерживать пальцами. Не допускать, чтобы воздушная струя была прерыв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icture 2"/>
          <p:cNvSpPr/>
          <p:nvPr/>
        </p:nvSpPr>
        <p:spPr>
          <a:xfrm>
            <a:off x="5508000" y="3809520"/>
            <a:ext cx="1872000" cy="17596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Home\Desktop\РОЛИК\IMG_20191030_140852.jpg"/>
          <p:cNvPicPr/>
          <p:nvPr/>
        </p:nvPicPr>
        <p:blipFill>
          <a:blip r:embed="rId1"/>
          <a:stretch/>
        </p:blipFill>
        <p:spPr>
          <a:xfrm>
            <a:off x="755640" y="764640"/>
            <a:ext cx="773028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971640" y="548280"/>
            <a:ext cx="2088000" cy="222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3636000" y="469080"/>
            <a:ext cx="2189520" cy="2304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9" name="Picture 3" descr="C:\Users\Home\Desktop\IMG_20211210_093548_resized_20211210_093739553 (1).jpg"/>
          <p:cNvPicPr/>
          <p:nvPr/>
        </p:nvPicPr>
        <p:blipFill>
          <a:blip r:embed="rId3"/>
          <a:stretch/>
        </p:blipFill>
        <p:spPr>
          <a:xfrm>
            <a:off x="2498760" y="3213000"/>
            <a:ext cx="3744000" cy="2838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10" name="Picture 4" descr="C:\Users\Home\Desktop\РОЛИК\IMG_20211207_161938_resized_20211210_091657733.jpg"/>
          <p:cNvPicPr/>
          <p:nvPr/>
        </p:nvPicPr>
        <p:blipFill>
          <a:blip r:embed="rId4"/>
          <a:stretch/>
        </p:blipFill>
        <p:spPr>
          <a:xfrm>
            <a:off x="6243120" y="704520"/>
            <a:ext cx="1928880" cy="2069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611640" y="908640"/>
            <a:ext cx="77043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Лети перыш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ложить ребенку на ладонь перышко и предложить подуть так, чтобы оно поле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Покатай каранд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ок сидит за столом. На столе на расстоянии 20 см от ребенка положите карандаш. Сначала взрослый показывает, как с силой дуть на карандаш, чтобы он укатился на противоположный конец стола. Затем предлагает ребенку подуть на карандаш. Можно продолжить игру, сидя напротив друг друга, и перекатывая друг другу карандаш с одного конца стола на другой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5436000" y="601200"/>
            <a:ext cx="1171440" cy="1023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Home\Desktop\IMG_20211201_104952.jpg"/>
          <p:cNvPicPr/>
          <p:nvPr/>
        </p:nvPicPr>
        <p:blipFill>
          <a:blip r:embed="rId2"/>
          <a:stretch/>
        </p:blipFill>
        <p:spPr>
          <a:xfrm>
            <a:off x="5632200" y="4869000"/>
            <a:ext cx="1891440" cy="1418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3640" y="476640"/>
            <a:ext cx="76323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6000"/>
          </a:bodyPr>
          <a:p>
            <a:pPr indent="0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2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Снег идёт!</a:t>
            </a:r>
            <a:br>
              <a:rPr sz="4400"/>
            </a:br>
            <a:br>
              <a:rPr sz="2400"/>
            </a:b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ложите на столе кусочки ваты.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дставь, что сейчас зима. На улице снежок падает. Давайте подуем на снежинки!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рослый показывает, как дуть на вату, ребёнок повторяет. Затем все поднимаете вату, и игра повторяется снова.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187640" y="4083840"/>
            <a:ext cx="2514240" cy="181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Users\Home\Desktop\IMG_20211201_102528.jpg"/>
          <p:cNvPicPr/>
          <p:nvPr/>
        </p:nvPicPr>
        <p:blipFill>
          <a:blip r:embed="rId2"/>
          <a:stretch/>
        </p:blipFill>
        <p:spPr>
          <a:xfrm>
            <a:off x="5436000" y="3731040"/>
            <a:ext cx="2160000" cy="2524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539640" y="548640"/>
            <a:ext cx="792036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оздушный шарик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есьте воздушный шар на уровне лица ребенка. Подуйте на шар так, чтобы он высоко взлетел, затем предложите подуть ребенку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ен более сложный вариант игры. Подбросьте воздушный шарик вверх. Предложите ребенку подуть на шарик несколько раз так, чтобы он подольше не опускался на пол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Давай дуть на шарик, чтобы он не упал вниз. Вот так! Сильнее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но поиграть с воздушным шаром, наполненным газом. В этом случае шар привязывается к стульчику или чему-нибудь на полу (желательно, чтобы ниточка оставалась длинной). На шар нужно дуть так, чтобы он улетел как можно дальше впере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380360" y="4941000"/>
            <a:ext cx="1199160" cy="14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827640" y="908640"/>
            <a:ext cx="763236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Плыви, корабли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На невысокий стол поставьте таз с водой, в котором плавает бумажный кораблик. Поначалу лучше использовать пластмассовый кораблик, так как бумажные кораблики быстро размокают и тонут. Взрослый дует на кораблик, затем предлагает подуть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 Представь, что это море. Давай пустим в плавание кораблик. Смотри, какой сильный ветер! Как быстро поплыл наш корабль. А теперь ты попробуй. Молодец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Игру можно усложнить, предложив ребенку покататься на кораблике из одного города в другой, обозначив города значками на краях таза. В этом случае струя воздуха во время ротового выдоха должна быть не только сильной, но и направл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icture 3"/>
          <p:cNvSpPr/>
          <p:nvPr/>
        </p:nvSpPr>
        <p:spPr>
          <a:xfrm>
            <a:off x="6156000" y="5063760"/>
            <a:ext cx="1810080" cy="12067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539640" y="692640"/>
            <a:ext cx="7992360" cy="56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Бул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В стакан, наполовину наполненный водой, опустите коктейльную трубочку и подуйте в нее - пузыри с громким бульканьем будут подниматься на поверхность. Затем дайте трубочку ребенку и предложите под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Давай сделаем веселые бульки! Возьми трубочку и подуй в стакан воды. Если дуть слабо - получаются маленькие бульки. А если подуть сильно, то получается целая буря! Давай устроим бур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о "буре" в воде можно легко оценить силу выдоха и его длительность. В начале занятий диаметр трубочки должен быть 5-6 мм, в дальнейшем можно использовать более тонкие труб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Многие дети, которые привыкли пить сок из пакетиков через трубочку, не сразу понимают, что от них требуется, могут начать пить воду (поэтому на всякий случай лучше использовать очищенную питьевую воду). В этом случае сначала предложите подуть через трубочку на кусочек ватки на столе или на ладошку, чтобы почувствовать выходящий из трубочки возд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755640" y="620640"/>
            <a:ext cx="7560360" cy="43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«Мыльные пузы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играйте с ребенком в мыльные пузыри: сначала взрослый выдувает пузыри, а ребенок наблюдает и ловит их. Затем предложите ребенку выдуть пузыри самостоятельно. Следует учесть, что выдувание мыльных пузырей часто оказывается для малышей довольно трудной задачей. Постарайтесь помочь ребенку - подберите разные рамки и трубочки, чтобы ребенок пробовал и выбирал, с помощью чего легче добиться результата. Можно самостоятельно изготовить жидкость для мыльных пузырей: добавить в воду немного жидкости для мытья посуды и сахара. Не забывайте следить за безопасностью ребенка - не позволяйте пробовать и пить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508000" y="4652640"/>
            <a:ext cx="2638080" cy="1752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539640" y="620640"/>
            <a:ext cx="7992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«Полицейск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Кто знает, что есть у настоящего полицейского? Пистолет, дубинка и, конечно, свисток. Вот тебе свисток - давайте поиграем в полицейских! Вот полицейский увидел нарушителя - свистим в свисто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Char char="-"/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Игру можно повторить несколько раз. Следите, чтобы ребёнок дул не напрягаясь, не переутомлялся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"Мычалк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Развивать фонационный (озвученный) выдо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Соревнуемся, кто дольше "промычит" на одном выдох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Делаются два спокойных вдоха и два спокойных выдоха, а после третьего глубокого вдоха, медленно выдыхая носом, произносить звук "М-М-М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436000" y="641520"/>
            <a:ext cx="61380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539640" y="260640"/>
            <a:ext cx="792036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«Музыкальный пузырё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чистый стеклянный пузырёк (высота пузырька около 7 см, диаметр горлышка 1-1,5 с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кажите ребёнку пузыр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Как ты думаешь, что это такое? Правильно, пузырёк. Что можно делать с пузырьком? Налить в него воду. Насыпать в пузырёк витаминки. А еще? Не знаете! Сейчас я тебе покажу фокус! Вот такой музыкальный пузырёк - гудит как тр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Взрослый подносит пузырек к губам, дует в горлышко, извлекая из него звук. Затем предлагает ребёнку подуть в другой пузырек. Следует помнить: чтобы пузырек загудел, нижняя губа должна слегка касаться края его горлышка. Струя воздуха должна быть сильной. Дуть следует несколько секунд, не напрягаясь. Так как в игре необходимо использовать стеклянные пузырьки, не забывайте о  безопасности. Если у кого-то из детей не получается это задание, не настаивайте. Возможно, лучше вернуться к нему позже, когда ребенок немного подрас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  <Words>848</Words>
  <Paragraphs>58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5:42:41Z</dcterms:created>
  <dc:creator>Пользователь Windows</dc:creator>
  <dc:description/>
  <dc:language>en-US</dc:language>
  <cp:lastModifiedBy>Home</cp:lastModifiedBy>
  <dcterms:modified xsi:type="dcterms:W3CDTF">2022-01-11T16:45:10Z</dcterms:modified>
  <cp:revision>3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