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A04A-CA4C-43C8-8B4F-A0C84086BC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56AD-611A-43A6-A573-AECEADD4954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2662-1DA3-4AC0-83F8-18107886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527-4951-4E4D-9BDA-AB3AFE88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6CF-0453-424B-8DF5-E9DBAE04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4A1A-CE00-4356-B3C8-D07A7143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1610-FCAC-4671-B3A7-3F20437A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5037-9B9C-49D6-9EA6-A65A7490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A3E5-7DA0-48F6-A0EC-A5B4B0BF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CA7B-462A-43A4-AE84-681EE48A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4CD5-B2D9-4627-A2F8-118FA84C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4763-2E23-44C1-B78E-B070A06B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90ED-6EA7-457A-BB0B-E99C3C4A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54C-219D-4AC3-B664-1884DC35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2211-3923-4690-9AEB-CFCBF431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BF55-00AC-444B-83FB-69430C9E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A9EB-EBE5-4683-BC5C-570FC318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B743-B386-4B79-BE39-7D482FF5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1887-B314-478D-85EF-472FEAEE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E425-0CB5-4F29-A9F6-A7F3D642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E7D9-282B-4159-A424-274DEB8E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FF8-D85D-44A1-84BB-811B4D4C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D839-3C32-474F-A136-76CAEBC5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05E0-F0C1-42D1-91C4-781A3BE7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62DE-40B6-4C91-8D2D-2530D068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5C46-E992-4F0C-8AB6-E9DE576E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9381-D45F-469F-B1D5-9C7398DD054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B6CD-D697-431E-9962-94AAFA7A5D0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1160" y="863280"/>
            <a:ext cx="8712360" cy="13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Родительское собрание</a:t>
            </a:r>
            <a:br>
              <a:rPr sz="3200"/>
            </a:br>
            <a:br>
              <a:rPr sz="24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23320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Патриотическое воспитание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етей дошкольного возраста в семье»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5" descr="49659686"/>
          <p:cNvPicPr/>
          <p:nvPr/>
        </p:nvPicPr>
        <p:blipFill>
          <a:blip r:embed="rId1"/>
          <a:stretch/>
        </p:blipFill>
        <p:spPr>
          <a:xfrm>
            <a:off x="838080" y="3121200"/>
            <a:ext cx="5867640" cy="357156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6"/>
          <p:cNvSpPr/>
          <p:nvPr/>
        </p:nvSpPr>
        <p:spPr>
          <a:xfrm>
            <a:off x="6172200" y="411480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БДОУ «ЦРР- д/с «Сказка» ОП «Детский сад «Светлячок» к/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оспитатели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усакова Л.И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селова Т.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. Ковылкино 2022г.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86400" y="6055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39621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Патриотизм – это любовь к родине, преданность ей, стремление своими действиями служить ее интересам, ощущение неразрывной связи со своим народом, с его языком, культурой, бытом и нравами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4" descr="img4"/>
          <p:cNvPicPr/>
          <p:nvPr/>
        </p:nvPicPr>
        <p:blipFill>
          <a:blip r:embed="rId1"/>
          <a:stretch/>
        </p:blipFill>
        <p:spPr>
          <a:xfrm>
            <a:off x="3048120" y="0"/>
            <a:ext cx="51051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ак научить детей любить свою Родину? Как научить проявлять уважение к труду предков, сохранивших для них и этот мир, и эту страну? Как научить быть достойными их памяти? Т.е. быть патрио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1760" y="335268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нравственно-патриотическом воспитании огромное значение имеет пример взрослых, в особенности же близких людей. На конкретных фактах из жизни старших членов семьи ((пра)дедушек и (пра)бабушек, участников Великой Отечественной войны, их фронтовых и трудовых подвигов) необходимо привить детям такие важные понятия, как "любовь к Отечеству",  "трудовой подвиг" и т.д. Важно подвести ребенка к пониманию, что мы победили потому, что любим свою Отчизну, Родина чтит своих героев, отдавших жизнь за счастье людей. Их имена увековечены в названиях городов, улиц, площадей, в их честь воздвигнуты памятник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5" descr="f09303cfc36d1795629cd9331dac772f"/>
          <p:cNvPicPr/>
          <p:nvPr/>
        </p:nvPicPr>
        <p:blipFill>
          <a:blip r:embed="rId1"/>
          <a:stretch/>
        </p:blipFill>
        <p:spPr>
          <a:xfrm>
            <a:off x="3505320" y="152280"/>
            <a:ext cx="502920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нимая активное участие в жизни детского сада, вы, уважаемые родители, подаете самый яркий и позитивный пример своим детям!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 закончить это родительское собрание</a:t>
            </a: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 хочется  стихотворением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– русский человек, и русская приро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юбовна мне, и я ее по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– русский человек, сын своего народ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с гордостью гляжу на Родину сво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ы сыновей растишь – пилотов, мореходов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 крымских скал, в полуночном кра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– русский человек, сын своего народ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с гордостью гляжу на Родину сво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img26"/>
          <p:cNvPicPr/>
          <p:nvPr/>
        </p:nvPicPr>
        <p:blipFill>
          <a:blip r:embed="rId1"/>
          <a:stretch/>
        </p:blipFill>
        <p:spPr>
          <a:xfrm>
            <a:off x="1066680" y="838080"/>
            <a:ext cx="709956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ормировать обобщенное представление 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дителей в вопросах воспитания патриотизма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4" descr="adafdf2a10141cdd6a5d8c68e42de049"/>
          <p:cNvPicPr/>
          <p:nvPr/>
        </p:nvPicPr>
        <p:blipFill>
          <a:blip r:embed="rId1"/>
          <a:stretch/>
        </p:blipFill>
        <p:spPr>
          <a:xfrm>
            <a:off x="4800600" y="3809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Задачи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емонстрировать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одителям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 необходимость обсуждения нравственных тем в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мье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рганизовать взаимодействие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одителей и воспитателя в организации патриотического воспитания детей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ормировать нравственную культуру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мьи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асширить знания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одителей о роли семьи в воспитании патриотических чувств детей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знакомить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одителей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 с приёмами и методами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триотического воспитания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Быть гражданином - значит сознательно и активно выполнять гражданские обязанности и гражданский долг перед обществом, Родиной, обладать такими качествами личности, как патриотизм. 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724280" y="30481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Зачатки этих качеств надо формировать в ребенке как можно раньш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slide1"/>
          <p:cNvPicPr/>
          <p:nvPr/>
        </p:nvPicPr>
        <p:blipFill>
          <a:blip r:embed="rId1"/>
          <a:stretch/>
        </p:blipFill>
        <p:spPr>
          <a:xfrm>
            <a:off x="0" y="396252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8380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бенок впервые открывает Родину в семье. Это ближайшее его окружение, где он черпает такие понятия, как "труд", "долг", "честь", "Родина"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Чувство 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одины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 начинается у ребенка с отношения к самым близким людям - отцу, матери, дедушке, бабушке. Это корни, связывающие его с родным домом и ближайшим окружение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1464161654_10"/>
          <p:cNvPicPr/>
          <p:nvPr/>
        </p:nvPicPr>
        <p:blipFill>
          <a:blip r:embed="rId1"/>
          <a:stretch/>
        </p:blipFill>
        <p:spPr>
          <a:xfrm>
            <a:off x="3886200" y="342900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2920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Бабушкин сундук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4" descr="1-1"/>
          <p:cNvPicPr/>
          <p:nvPr/>
        </p:nvPicPr>
        <p:blipFill>
          <a:blip r:embed="rId1"/>
          <a:stretch/>
        </p:blipFill>
        <p:spPr>
          <a:xfrm>
            <a:off x="1143000" y="1371600"/>
            <a:ext cx="68436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сундуке находитс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ольшая красивая книга русских народных сказок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уквар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анка варенья, шоколад, конфет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тенок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аринные семейные фотограф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арая одежд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крытки памятников города Клинц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ртинки с изображением орденов и медал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улинарная книга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2a3a72131cc468e8cecd4e6a96--dlya-doma-interera-shkatulka-staryj-babushkin"/>
          <p:cNvPicPr/>
          <p:nvPr/>
        </p:nvPicPr>
        <p:blipFill>
          <a:blip r:embed="rId1"/>
          <a:stretch/>
        </p:blipFill>
        <p:spPr>
          <a:xfrm>
            <a:off x="6629400" y="152280"/>
            <a:ext cx="214956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современной жизни нам часто приходится слышать слова «патриот», патриотизм», «гражданин». Этим словам несколько тысяч ле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- Как вы понимаете смысл этих понятий?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1480" y="834120"/>
            <a:ext cx="8389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Arial"/>
              </a:rPr>
              <a:t>Как Бы на этот вопрос ответили Вы и как бы пояснили значение этих понятий ребенку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Это тот человек который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юбит то место, где родился и вырос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от, кто любит и не забывает свою мать, свой д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то с гордостью осознаёт, что нет на Земле страны лучше наш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отов стать на защиту Отечеств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ет государственную символику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ет свой родной язык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ет историю своей страны, гордится своими предк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23T15:53:54Z</dcterms:created>
  <dc:creator>Maestro</dc:creator>
  <dc:description/>
  <dc:language>en-US</dc:language>
  <cp:lastModifiedBy>1</cp:lastModifiedBy>
  <dcterms:modified xsi:type="dcterms:W3CDTF">2022-11-30T06:51:4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