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BC33-72FF-4658-A5A0-579669E7E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A6C9-72CB-45F2-8C28-6D40E95B67A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C3F-533C-4E44-BA98-34364DDE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8BD-EAB7-40CD-AB92-160779FD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A50-5CF0-4401-B787-BF959790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07B-3B80-4476-8354-A14BB9D8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DA38-3A1D-40A7-849F-8D0E0BBF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DA26-77FF-441B-95AC-8D22A12C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A38F-2412-41B5-BD73-E48F33CD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CD5F-A27D-46CD-9A6F-C700D6B4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009A-7D6A-4F1C-9C01-87D9075A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AC1E-5B9B-4D04-A380-749F5073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664E-5536-42A4-A25C-B456D5FA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3C9-D590-4C8A-81E3-24895CA6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7D0C-3C8F-4AFB-B252-1512D84B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BADD-51A1-494C-B368-507470C2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8EF9-C419-4877-B2BE-5DB95358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B367-1AB6-4DBB-B3CF-D4EC346B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2D8E-A983-438D-808E-50570F25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7B3-7589-4E14-9C0C-8B6C6D27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509-49BF-4C3E-A671-F16E9A36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550-549A-4F31-8190-419601B8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5B1-5E2C-4788-986D-4176973D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20F-9A9B-4D2A-B2CE-A114EDCC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A9D-1F2B-4B04-A5C4-5B4D3205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DAF-F259-465E-910E-A664FBA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C936-2BC5-47F2-A904-28FDC2A5F38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9E69-78CB-4DE0-B241-429254D3245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1160" y="863280"/>
            <a:ext cx="8712360" cy="13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одительское собрание</a:t>
            </a:r>
            <a:br>
              <a:rPr sz="3200"/>
            </a:br>
            <a:br>
              <a:rPr sz="24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Патриотическое воспитани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тей дошкольного возраста в семье»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5" descr="49659686"/>
          <p:cNvPicPr/>
          <p:nvPr/>
        </p:nvPicPr>
        <p:blipFill>
          <a:blip r:embed="rId1"/>
          <a:stretch/>
        </p:blipFill>
        <p:spPr>
          <a:xfrm>
            <a:off x="838080" y="3121200"/>
            <a:ext cx="5867640" cy="35715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6172200" y="41148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БДОУ «ЦРР- д/с «Сказка» ОП «Детский сад «Светлячок» к/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спитатели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усакова Л.И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селова Т.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Ковылкино 2022г.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86400" y="6055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3962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Патриотизм – это любовь к родине, преданность ей, стремление своими действиями служить ее интересам, ощущение неразрывной связи со своим народом, с его языком, культурой, бытом и нравам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img4"/>
          <p:cNvPicPr/>
          <p:nvPr/>
        </p:nvPicPr>
        <p:blipFill>
          <a:blip r:embed="rId1"/>
          <a:stretch/>
        </p:blipFill>
        <p:spPr>
          <a:xfrm>
            <a:off x="3048120" y="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ак научить детей любить свою Родину? Как научить проявлять уважение к труду предков, сохранивших для них и этот мир, и эту страну? Как научить быть достойными их памяти? Т.е. быть патрио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33526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нравственно-патриотическом воспитании огромное значение имеет пример взрослых, в особенности же близких людей. На конкретных фактах из жизни старших членов семьи ((пра)дедушек и (пра)бабушек, участников Великой Отечественной войны, их фронтовых и трудовых подвигов) необходимо привить детям такие важные понятия, как "любовь к Отечеству",  "трудовой подвиг" и т.д. Важно подвести ребенка к пониманию, что мы победили потому, что любим свою Отчизну, 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f09303cfc36d1795629cd9331dac772f"/>
          <p:cNvPicPr/>
          <p:nvPr/>
        </p:nvPicPr>
        <p:blipFill>
          <a:blip r:embed="rId1"/>
          <a:stretch/>
        </p:blipFill>
        <p:spPr>
          <a:xfrm>
            <a:off x="3505320" y="152280"/>
            <a:ext cx="50292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нимая активное участие в жизни детского сада, вы, уважаемые родители, подаете самый яркий и позитивный пример своим детям!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 закончить это родительское собрание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хочется  стихотворение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и русская при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овна мне, и я ее п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ы сыновей растишь – пилотов, мореходов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крымских скал, в полуночном кра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img26"/>
          <p:cNvPicPr/>
          <p:nvPr/>
        </p:nvPicPr>
        <p:blipFill>
          <a:blip r:embed="rId1"/>
          <a:stretch/>
        </p:blipFill>
        <p:spPr>
          <a:xfrm>
            <a:off x="1066680" y="838080"/>
            <a:ext cx="709956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ировать обобщенное представление 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дителей в вопросах воспитания патриотизм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4" descr="adafdf2a10141cdd6a5d8c68e42de049"/>
          <p:cNvPicPr/>
          <p:nvPr/>
        </p:nvPicPr>
        <p:blipFill>
          <a:blip r:embed="rId1"/>
          <a:stretch/>
        </p:blipFill>
        <p:spPr>
          <a:xfrm>
            <a:off x="480060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Задач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монстрировать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ям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 необходимость обсуждения нравственных тем в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е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зовать взаимодействие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 и воспитателя в организации патриотического воспитания дет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ормировать нравственную культуру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и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сширить знания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 о роли семьи в воспитании патриотических чувств дет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знакомить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 с приёмами и методами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триотического воспитания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ыть гражданином - значит сознательно и активно выполнять гражданские обязанности и гражданский долг перед обществом, Родиной, обладать такими качествами личности, как патриотизм. 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724280" y="30481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Зачатки этих качеств надо формировать в ребенке как можно раньш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slide1"/>
          <p:cNvPicPr/>
          <p:nvPr/>
        </p:nvPicPr>
        <p:blipFill>
          <a:blip r:embed="rId1"/>
          <a:stretch/>
        </p:blipFill>
        <p:spPr>
          <a:xfrm>
            <a:off x="0" y="39625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бенок впервые открывает Родину в семье. Это ближайшее его окружение, где он черпает такие понятия, как "труд", "долг", "честь", "Родина"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увство 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один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 начинается у ребенка с отношения к самым близким людям - отцу, матери, дедушке, бабушке. Это корни, связывающие его с родным домом и ближайшим окружение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1464161654_10"/>
          <p:cNvPicPr/>
          <p:nvPr/>
        </p:nvPicPr>
        <p:blipFill>
          <a:blip r:embed="rId1"/>
          <a:stretch/>
        </p:blipFill>
        <p:spPr>
          <a:xfrm>
            <a:off x="38862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2920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Бабушкин сундук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4" descr="1-1"/>
          <p:cNvPicPr/>
          <p:nvPr/>
        </p:nvPicPr>
        <p:blipFill>
          <a:blip r:embed="rId1"/>
          <a:stretch/>
        </p:blipFill>
        <p:spPr>
          <a:xfrm>
            <a:off x="1143000" y="1371600"/>
            <a:ext cx="6843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ундуке находи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ольшая красивая книга русских народных сказ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укв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анка варенья, шоколад, конфет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тен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инные семейные фотограф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ая одежд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крытки памятников города Клинц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ртинки с изображением орденов и медал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инарная книг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2a3a72131cc468e8cecd4e6a96--dlya-doma-interera-shkatulka-staryj-babushkin"/>
          <p:cNvPicPr/>
          <p:nvPr/>
        </p:nvPicPr>
        <p:blipFill>
          <a:blip r:embed="rId1"/>
          <a:stretch/>
        </p:blipFill>
        <p:spPr>
          <a:xfrm>
            <a:off x="6629400" y="152280"/>
            <a:ext cx="214956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современной жизни нам часто приходится слышать слова «патриот», патриотизм», «гражданин». Этим словам несколько тысяч л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 Как вы понимаете смысл этих понятий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1480" y="834120"/>
            <a:ext cx="8389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Как Бы на этот вопрос ответили Вы и как бы пояснили значение этих понятий ребенку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Это тот человек которы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ит то место, где родился и выро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от, кто любит и не забывает свою мать, свой д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то с гордостью осознаёт, что нет на Земле страны лучше наш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тов стать на защиту Отече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государственную символик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свой родной язы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историю своей страны, гордится своими предк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3T15:53:54Z</dcterms:created>
  <dc:creator>Maestro</dc:creator>
  <dc:description/>
  <dc:language>en-US</dc:language>
  <cp:lastModifiedBy>1</cp:lastModifiedBy>
  <dcterms:modified xsi:type="dcterms:W3CDTF">2022-11-30T06:51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