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FC91-5D36-4C1C-9B0F-B4177185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89E-D25F-40CE-8099-F561F714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6E1-511C-4107-9826-54BDFF32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D8A-D8BC-47AB-8657-A12413D6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0E33-DC6F-4A4E-9BF7-1A8925C4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732-9E6A-46A9-800C-EE526D1E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2E0-7BEE-4F74-A66D-C1C26B37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45D-5546-4E10-8CC9-ACFEF3A2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DF9-E35F-4CC3-AD9B-75D049CA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163-D9DC-436F-9E0D-BE65B5E7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066-B7D9-4FDA-BBBB-7AA35BD6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7A0-F9DD-4703-933D-4FA26013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3652-53FF-4FB1-BE82-9EC4D8B038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.gi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4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40168976_star0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" descr="2990a9b8319ec859ecde6ad98231d966.gif"/>
          <p:cNvPicPr/>
          <p:nvPr/>
        </p:nvPicPr>
        <p:blipFill>
          <a:blip r:embed="rId2"/>
          <a:stretch/>
        </p:blipFill>
        <p:spPr>
          <a:xfrm>
            <a:off x="1835280" y="3776760"/>
            <a:ext cx="1314360" cy="1214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-252360" y="1185840"/>
            <a:ext cx="914400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Arial"/>
              </a:rPr>
              <a:t>      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Техника безопасно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во время занят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в кружке «АППЛИКАЦ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5" descr="2990a9b8319ec859ecde6ad98231d966.gif"/>
          <p:cNvPicPr/>
          <p:nvPr/>
        </p:nvPicPr>
        <p:blipFill>
          <a:blip r:embed="rId3"/>
          <a:stretch/>
        </p:blipFill>
        <p:spPr>
          <a:xfrm>
            <a:off x="5021280" y="4724280"/>
            <a:ext cx="1314360" cy="12146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2990a9b8319ec859ecde6ad98231d966.gif"/>
          <p:cNvPicPr/>
          <p:nvPr/>
        </p:nvPicPr>
        <p:blipFill>
          <a:blip r:embed="rId4"/>
          <a:stretch/>
        </p:blipFill>
        <p:spPr>
          <a:xfrm>
            <a:off x="7281720" y="1911240"/>
            <a:ext cx="131472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Мои документы\Мои рисунки\Рисунок1м.gif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ожницы необходи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ередавать друг друг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ержась з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8" descr="dae16173fa749239667b3dbc6aadc569.gif"/>
          <p:cNvPicPr/>
          <p:nvPr/>
        </p:nvPicPr>
        <p:blipFill>
          <a:blip r:embed="rId2"/>
          <a:stretch/>
        </p:blipFill>
        <p:spPr>
          <a:xfrm>
            <a:off x="3654360" y="3716280"/>
            <a:ext cx="2286000" cy="30006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1" descr="Vive_la_Rentree_Stephanie_el (23).png"/>
          <p:cNvPicPr/>
          <p:nvPr/>
        </p:nvPicPr>
        <p:blipFill>
          <a:blip r:embed="rId3"/>
          <a:stretch/>
        </p:blipFill>
        <p:spPr>
          <a:xfrm rot="18655200">
            <a:off x="190440" y="3261960"/>
            <a:ext cx="3714840" cy="37148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2" descr="Vive_la_Rentree_Stephanie_el (23).png"/>
          <p:cNvPicPr/>
          <p:nvPr/>
        </p:nvPicPr>
        <p:blipFill>
          <a:blip r:embed="rId4"/>
          <a:stretch/>
        </p:blipFill>
        <p:spPr>
          <a:xfrm rot="18655200">
            <a:off x="2892600" y="850680"/>
            <a:ext cx="3714480" cy="37144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3" descr="Vive_la_Rentree_Stephanie_el (23).png"/>
          <p:cNvPicPr/>
          <p:nvPr/>
        </p:nvPicPr>
        <p:blipFill>
          <a:blip r:embed="rId5"/>
          <a:stretch/>
        </p:blipFill>
        <p:spPr>
          <a:xfrm rot="19503000">
            <a:off x="5300640" y="3228480"/>
            <a:ext cx="3714840" cy="37148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4"/>
          <p:cNvSpPr/>
          <p:nvPr/>
        </p:nvSpPr>
        <p:spPr>
          <a:xfrm>
            <a:off x="868320" y="4424400"/>
            <a:ext cx="23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ажно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3564000" y="234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ль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6483240" y="479412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з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7" descr="2990a9b8319ec859ecde6ad98231d966.gif"/>
          <p:cNvPicPr/>
          <p:nvPr/>
        </p:nvPicPr>
        <p:blipFill>
          <a:blip r:embed="rId6"/>
          <a:stretch/>
        </p:blipFill>
        <p:spPr>
          <a:xfrm>
            <a:off x="4071960" y="4572000"/>
            <a:ext cx="1171440" cy="1082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"/>
          <p:cNvPicPr/>
          <p:nvPr/>
        </p:nvPicPr>
        <p:blipFill>
          <a:blip r:embed="rId7"/>
          <a:stretch/>
        </p:blipFill>
        <p:spPr>
          <a:xfrm>
            <a:off x="0" y="0"/>
            <a:ext cx="240048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Мои документы\Мои рисунки\Рисунок1м.gif"/>
          <p:cNvPicPr/>
          <p:nvPr/>
        </p:nvPicPr>
        <p:blipFill>
          <a:blip r:embed="rId1"/>
          <a:stretch/>
        </p:blipFill>
        <p:spPr>
          <a:xfrm>
            <a:off x="249120" y="7920"/>
            <a:ext cx="9052200" cy="6708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817560" y="210960"/>
            <a:ext cx="64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о время работы с режущим инструментом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3" descr="Vive_la_Rentree_Stephanie_el (23).png"/>
          <p:cNvPicPr/>
          <p:nvPr/>
        </p:nvPicPr>
        <p:blipFill>
          <a:blip r:embed="rId2"/>
          <a:stretch/>
        </p:blipFill>
        <p:spPr>
          <a:xfrm>
            <a:off x="-738360" y="914400"/>
            <a:ext cx="6596280" cy="520056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1395360" y="2459160"/>
            <a:ext cx="233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змахивать рук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вертеться за пар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Vive_la_Rentree_Stephanie_el (23).png"/>
          <p:cNvPicPr/>
          <p:nvPr/>
        </p:nvPicPr>
        <p:blipFill>
          <a:blip r:embed="rId3"/>
          <a:stretch/>
        </p:blipFill>
        <p:spPr>
          <a:xfrm rot="18655200">
            <a:off x="4941360" y="3219840"/>
            <a:ext cx="4074840" cy="371484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6332400" y="4473720"/>
            <a:ext cx="178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ти себя, как захоч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7" descr="dae16173fa749239667b3dbc6aadc569.gif"/>
          <p:cNvPicPr/>
          <p:nvPr/>
        </p:nvPicPr>
        <p:blipFill>
          <a:blip r:embed="rId4"/>
          <a:stretch/>
        </p:blipFill>
        <p:spPr>
          <a:xfrm>
            <a:off x="3809880" y="1014480"/>
            <a:ext cx="1928880" cy="25002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8" descr="2990a9b8319ec859ecde6ad98231d966.gif"/>
          <p:cNvPicPr/>
          <p:nvPr/>
        </p:nvPicPr>
        <p:blipFill>
          <a:blip r:embed="rId5"/>
          <a:stretch/>
        </p:blipFill>
        <p:spPr>
          <a:xfrm>
            <a:off x="6946920" y="703440"/>
            <a:ext cx="117144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Мои документы\Мои рисунки\Рисунок1м.gif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384120" y="255600"/>
            <a:ext cx="613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 использовании клея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Vive_la_Rentree_Stephanie_el (23).png"/>
          <p:cNvPicPr/>
          <p:nvPr/>
        </p:nvPicPr>
        <p:blipFill>
          <a:blip r:embed="rId2"/>
          <a:stretch/>
        </p:blipFill>
        <p:spPr>
          <a:xfrm rot="18655200">
            <a:off x="506880" y="2678400"/>
            <a:ext cx="4243320" cy="45594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Vive_la_Rentree_Stephanie_el (23).png"/>
          <p:cNvPicPr/>
          <p:nvPr/>
        </p:nvPicPr>
        <p:blipFill>
          <a:blip r:embed="rId3"/>
          <a:stretch/>
        </p:blipFill>
        <p:spPr>
          <a:xfrm rot="18655200">
            <a:off x="4469400" y="1815120"/>
            <a:ext cx="5114880" cy="4481640"/>
          </a:xfrm>
          <a:prstGeom prst="rect">
            <a:avLst/>
          </a:prstGeom>
          <a:ln w="0">
            <a:noFill/>
          </a:ln>
        </p:spPr>
      </p:pic>
      <p:sp>
        <p:nvSpPr>
          <p:cNvPr id="69" name="TextBox 8"/>
          <p:cNvSpPr/>
          <p:nvPr/>
        </p:nvSpPr>
        <p:spPr>
          <a:xfrm>
            <a:off x="5940360" y="3633840"/>
            <a:ext cx="24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азывать пальчиком ру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нося много кл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11" descr="dae16173fa749239667b3dbc6aadc569.gif"/>
          <p:cNvPicPr/>
          <p:nvPr/>
        </p:nvPicPr>
        <p:blipFill>
          <a:blip r:embed="rId4"/>
          <a:stretch/>
        </p:blipFill>
        <p:spPr>
          <a:xfrm>
            <a:off x="1658880" y="733320"/>
            <a:ext cx="2286000" cy="3786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2" descr="2990a9b8319ec859ecde6ad98231d966.gif"/>
          <p:cNvPicPr/>
          <p:nvPr/>
        </p:nvPicPr>
        <p:blipFill>
          <a:blip r:embed="rId5"/>
          <a:stretch/>
        </p:blipFill>
        <p:spPr>
          <a:xfrm>
            <a:off x="4057560" y="2314440"/>
            <a:ext cx="1171800" cy="10828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5"/>
          <p:cNvSpPr/>
          <p:nvPr/>
        </p:nvSpPr>
        <p:spPr>
          <a:xfrm>
            <a:off x="1398600" y="4089240"/>
            <a:ext cx="28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ьзоваться кисточкой и салфеткой –работать акку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Мои документы\Мои рисунки\Рисунок1м.gif"/>
          <p:cNvPicPr/>
          <p:nvPr/>
        </p:nvPicPr>
        <p:blipFill>
          <a:blip r:embed="rId1"/>
          <a:stretch/>
        </p:blipFill>
        <p:spPr>
          <a:xfrm>
            <a:off x="-23760" y="936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Vive_la_Rentree_Stephanie_el (23).png"/>
          <p:cNvPicPr/>
          <p:nvPr/>
        </p:nvPicPr>
        <p:blipFill>
          <a:blip r:embed="rId2"/>
          <a:stretch/>
        </p:blipFill>
        <p:spPr>
          <a:xfrm rot="18655200">
            <a:off x="-22680" y="1747080"/>
            <a:ext cx="4836960" cy="52768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5"/>
          <p:cNvSpPr/>
          <p:nvPr/>
        </p:nvSpPr>
        <p:spPr>
          <a:xfrm>
            <a:off x="785880" y="214200"/>
            <a:ext cx="814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1130400" y="3416400"/>
            <a:ext cx="2622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дать педагогу раздаточный матери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брать своё рабочее мес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ыть р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6012000" y="4869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ру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8" descr="Vive_la_Rentree_Stephanie_el (23).png"/>
          <p:cNvPicPr/>
          <p:nvPr/>
        </p:nvPicPr>
        <p:blipFill>
          <a:blip r:embed="rId3"/>
          <a:stretch/>
        </p:blipFill>
        <p:spPr>
          <a:xfrm rot="18655200">
            <a:off x="4335480" y="34920"/>
            <a:ext cx="4130640" cy="5096160"/>
          </a:xfrm>
          <a:prstGeom prst="rect">
            <a:avLst/>
          </a:prstGeom>
          <a:ln w="0">
            <a:noFill/>
          </a:ln>
        </p:spPr>
      </p:pic>
      <p:sp>
        <p:nvSpPr>
          <p:cNvPr id="79" name="TextBox 9"/>
          <p:cNvSpPr/>
          <p:nvPr/>
        </p:nvSpPr>
        <p:spPr>
          <a:xfrm>
            <a:off x="5022720" y="197172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брать свою поделку и пойти до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0" descr="dae16173fa749239667b3dbc6aadc569.gif"/>
          <p:cNvPicPr/>
          <p:nvPr/>
        </p:nvPicPr>
        <p:blipFill>
          <a:blip r:embed="rId4"/>
          <a:stretch/>
        </p:blipFill>
        <p:spPr>
          <a:xfrm>
            <a:off x="0" y="0"/>
            <a:ext cx="2286000" cy="36432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1" descr="2990a9b8319ec859ecde6ad98231d966.gif"/>
          <p:cNvPicPr/>
          <p:nvPr/>
        </p:nvPicPr>
        <p:blipFill>
          <a:blip r:embed="rId5"/>
          <a:stretch/>
        </p:blipFill>
        <p:spPr>
          <a:xfrm>
            <a:off x="500040" y="1500120"/>
            <a:ext cx="1171440" cy="1082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4"/>
          <p:cNvSpPr/>
          <p:nvPr/>
        </p:nvSpPr>
        <p:spPr>
          <a:xfrm>
            <a:off x="0" y="168120"/>
            <a:ext cx="62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о завершению работы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91440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Segoe Script"/>
                <a:ea typeface="MV Boli"/>
              </a:rPr>
              <a:t>Ребята, вы молодцы!</a:t>
            </a:r>
            <a:br>
              <a:rPr sz="4400"/>
            </a:br>
            <a:r>
              <a:rPr b="0" lang="ru-RU" sz="4400" spc="-1" strike="noStrike">
                <a:solidFill>
                  <a:srgbClr val="6666ff"/>
                </a:solidFill>
                <a:latin typeface="Segoe Script"/>
                <a:ea typeface="MV Boli"/>
              </a:rPr>
              <a:t>Мы еще раз вспомнили про технику безопасности </a:t>
            </a:r>
            <a:br>
              <a:rPr sz="4400"/>
            </a:br>
            <a:r>
              <a:rPr b="0" lang="ru-RU" sz="4400" spc="-1" strike="noStrike">
                <a:solidFill>
                  <a:srgbClr val="6666ff"/>
                </a:solidFill>
                <a:latin typeface="Segoe Script"/>
                <a:ea typeface="MV Boli"/>
              </a:rPr>
              <a:t>во время работы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WordArt 10"/>
          <p:cNvSpPr txBox="1"/>
          <p:nvPr/>
        </p:nvSpPr>
        <p:spPr>
          <a:xfrm>
            <a:off x="755640" y="3933720"/>
            <a:ext cx="8064360" cy="19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ступаем к работе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ворческих всем успехов 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6:34:14Z</dcterms:created>
  <dc:creator>Admin</dc:creator>
  <dc:description/>
  <dc:language>en-US</dc:language>
  <cp:lastModifiedBy>Алексей</cp:lastModifiedBy>
  <dcterms:modified xsi:type="dcterms:W3CDTF">2022-12-01T21:13:02Z</dcterms:modified>
  <cp:revision>87</cp:revision>
  <dc:subject/>
  <dc:title>Слайд 1</dc:title>
</cp:coreProperties>
</file>