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C5C-032B-41B8-B4A7-F3406DBB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3EF-A637-405C-979B-600385F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DEC-4646-4129-B70F-5638EB71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2A9-6800-4684-8CDE-A112C9F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9AF-5BC7-4202-A44F-11A82804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A4D-B37F-4606-BE1F-9439A98D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F94-EA69-4169-85BA-1ADA2AAD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A33-9935-452D-9B32-3C545A8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156-5279-4448-8F5A-0DE19C1B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496-D273-486D-A180-3407AB24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1B7-92A6-4915-937C-370FAAA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74B-5771-464E-85DA-1C748DB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DCC-B13F-4F2C-8728-27425B84C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40168976_star0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2990a9b8319ec859ecde6ad98231d966.gif"/>
          <p:cNvPicPr/>
          <p:nvPr/>
        </p:nvPicPr>
        <p:blipFill>
          <a:blip r:embed="rId2"/>
          <a:stretch/>
        </p:blipFill>
        <p:spPr>
          <a:xfrm>
            <a:off x="1835280" y="3776760"/>
            <a:ext cx="1314360" cy="1214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-252360" y="1185840"/>
            <a:ext cx="914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ехника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во время занят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в кружке «АППЛИК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2990a9b8319ec859ecde6ad98231d966.gif"/>
          <p:cNvPicPr/>
          <p:nvPr/>
        </p:nvPicPr>
        <p:blipFill>
          <a:blip r:embed="rId3"/>
          <a:stretch/>
        </p:blipFill>
        <p:spPr>
          <a:xfrm>
            <a:off x="5021280" y="4724280"/>
            <a:ext cx="1314360" cy="1214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2990a9b8319ec859ecde6ad98231d966.gif"/>
          <p:cNvPicPr/>
          <p:nvPr/>
        </p:nvPicPr>
        <p:blipFill>
          <a:blip r:embed="rId4"/>
          <a:stretch/>
        </p:blipFill>
        <p:spPr>
          <a:xfrm>
            <a:off x="7281720" y="1911240"/>
            <a:ext cx="1314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жницы необход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давать друг д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ржась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dae16173fa749239667b3dbc6aadc569.gif"/>
          <p:cNvPicPr/>
          <p:nvPr/>
        </p:nvPicPr>
        <p:blipFill>
          <a:blip r:embed="rId2"/>
          <a:stretch/>
        </p:blipFill>
        <p:spPr>
          <a:xfrm>
            <a:off x="3654360" y="3716280"/>
            <a:ext cx="2286000" cy="300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190440" y="3261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Vive_la_Rentree_Stephanie_el (23).png"/>
          <p:cNvPicPr/>
          <p:nvPr/>
        </p:nvPicPr>
        <p:blipFill>
          <a:blip r:embed="rId4"/>
          <a:stretch/>
        </p:blipFill>
        <p:spPr>
          <a:xfrm rot="18655200">
            <a:off x="2892600" y="850680"/>
            <a:ext cx="3714480" cy="3714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Vive_la_Rentree_Stephanie_el (23).png"/>
          <p:cNvPicPr/>
          <p:nvPr/>
        </p:nvPicPr>
        <p:blipFill>
          <a:blip r:embed="rId5"/>
          <a:stretch/>
        </p:blipFill>
        <p:spPr>
          <a:xfrm rot="19503000">
            <a:off x="5300640" y="322848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868320" y="442440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жно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56400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6483240" y="47941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з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2990a9b8319ec859ecde6ad98231d966.gif"/>
          <p:cNvPicPr/>
          <p:nvPr/>
        </p:nvPicPr>
        <p:blipFill>
          <a:blip r:embed="rId6"/>
          <a:stretch/>
        </p:blipFill>
        <p:spPr>
          <a:xfrm>
            <a:off x="4071960" y="4572000"/>
            <a:ext cx="1171440" cy="108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7"/>
          <a:stretch/>
        </p:blipFill>
        <p:spPr>
          <a:xfrm>
            <a:off x="0" y="0"/>
            <a:ext cx="24004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249120" y="7920"/>
            <a:ext cx="9052200" cy="6708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817560" y="210960"/>
            <a:ext cx="64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 время работы с режущим инструменто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Vive_la_Rentree_Stephanie_el (23).png"/>
          <p:cNvPicPr/>
          <p:nvPr/>
        </p:nvPicPr>
        <p:blipFill>
          <a:blip r:embed="rId2"/>
          <a:stretch/>
        </p:blipFill>
        <p:spPr>
          <a:xfrm>
            <a:off x="-738360" y="914400"/>
            <a:ext cx="6596280" cy="5200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395360" y="2459160"/>
            <a:ext cx="23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змахивать ру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ертеться за пар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941360" y="3219840"/>
            <a:ext cx="4074840" cy="3714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6332400" y="44737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ти себя, как захоч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dae16173fa749239667b3dbc6aadc569.gif"/>
          <p:cNvPicPr/>
          <p:nvPr/>
        </p:nvPicPr>
        <p:blipFill>
          <a:blip r:embed="rId4"/>
          <a:stretch/>
        </p:blipFill>
        <p:spPr>
          <a:xfrm>
            <a:off x="3809880" y="1014480"/>
            <a:ext cx="1928880" cy="2500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2990a9b8319ec859ecde6ad98231d966.gif"/>
          <p:cNvPicPr/>
          <p:nvPr/>
        </p:nvPicPr>
        <p:blipFill>
          <a:blip r:embed="rId5"/>
          <a:stretch/>
        </p:blipFill>
        <p:spPr>
          <a:xfrm>
            <a:off x="6946920" y="703440"/>
            <a:ext cx="11714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384120" y="255600"/>
            <a:ext cx="61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использовании кле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Vive_la_Rentree_Stephanie_el (23).png"/>
          <p:cNvPicPr/>
          <p:nvPr/>
        </p:nvPicPr>
        <p:blipFill>
          <a:blip r:embed="rId2"/>
          <a:stretch/>
        </p:blipFill>
        <p:spPr>
          <a:xfrm rot="18655200">
            <a:off x="506880" y="2678400"/>
            <a:ext cx="4243320" cy="4559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469400" y="1815120"/>
            <a:ext cx="5114880" cy="4481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5940360" y="363384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азывать пальчиком р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нося много кл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dae16173fa749239667b3dbc6aadc569.gif"/>
          <p:cNvPicPr/>
          <p:nvPr/>
        </p:nvPicPr>
        <p:blipFill>
          <a:blip r:embed="rId4"/>
          <a:stretch/>
        </p:blipFill>
        <p:spPr>
          <a:xfrm>
            <a:off x="1658880" y="733320"/>
            <a:ext cx="228600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2990a9b8319ec859ecde6ad98231d966.gif"/>
          <p:cNvPicPr/>
          <p:nvPr/>
        </p:nvPicPr>
        <p:blipFill>
          <a:blip r:embed="rId5"/>
          <a:stretch/>
        </p:blipFill>
        <p:spPr>
          <a:xfrm>
            <a:off x="4057560" y="2314440"/>
            <a:ext cx="1171800" cy="1082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5"/>
          <p:cNvSpPr/>
          <p:nvPr/>
        </p:nvSpPr>
        <p:spPr>
          <a:xfrm>
            <a:off x="1398600" y="40892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зоваться кисточкой и салфеткой –работать акку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Мои документы\Мои рисунки\Рисунок1м.gif"/>
          <p:cNvPicPr/>
          <p:nvPr/>
        </p:nvPicPr>
        <p:blipFill>
          <a:blip r:embed="rId1"/>
          <a:stretch/>
        </p:blipFill>
        <p:spPr>
          <a:xfrm>
            <a:off x="-23760" y="936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Vive_la_Rentree_Stephanie_el (23).png"/>
          <p:cNvPicPr/>
          <p:nvPr/>
        </p:nvPicPr>
        <p:blipFill>
          <a:blip r:embed="rId2"/>
          <a:stretch/>
        </p:blipFill>
        <p:spPr>
          <a:xfrm rot="18655200">
            <a:off x="-22680" y="1747080"/>
            <a:ext cx="48369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785880" y="214200"/>
            <a:ext cx="814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130400" y="3416400"/>
            <a:ext cx="2622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дать педагогу раздаточный матери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брать своё рабочее мес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ыть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6012000" y="486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Vive_la_Rentree_Stephanie_el (23).png"/>
          <p:cNvPicPr/>
          <p:nvPr/>
        </p:nvPicPr>
        <p:blipFill>
          <a:blip r:embed="rId3"/>
          <a:stretch/>
        </p:blipFill>
        <p:spPr>
          <a:xfrm rot="18655200">
            <a:off x="4335480" y="34920"/>
            <a:ext cx="4130640" cy="5096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5022720" y="197172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брать свою поделку и пойти 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dae16173fa749239667b3dbc6aadc569.gif"/>
          <p:cNvPicPr/>
          <p:nvPr/>
        </p:nvPicPr>
        <p:blipFill>
          <a:blip r:embed="rId4"/>
          <a:stretch/>
        </p:blipFill>
        <p:spPr>
          <a:xfrm>
            <a:off x="0" y="0"/>
            <a:ext cx="2286000" cy="3643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2990a9b8319ec859ecde6ad98231d966.gif"/>
          <p:cNvPicPr/>
          <p:nvPr/>
        </p:nvPicPr>
        <p:blipFill>
          <a:blip r:embed="rId5"/>
          <a:stretch/>
        </p:blipFill>
        <p:spPr>
          <a:xfrm>
            <a:off x="500040" y="1500120"/>
            <a:ext cx="1171440" cy="108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4"/>
          <p:cNvSpPr/>
          <p:nvPr/>
        </p:nvSpPr>
        <p:spPr>
          <a:xfrm>
            <a:off x="0" y="168120"/>
            <a:ext cx="62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 завершению работы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Ребята, вы молодцы!</a:t>
            </a:r>
            <a:br>
              <a:rPr sz="4400"/>
            </a:b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Мы еще раз вспомнили про технику безопасности </a:t>
            </a:r>
            <a:br>
              <a:rPr sz="4400"/>
            </a:br>
            <a:r>
              <a:rPr b="0" lang="ru-RU" sz="4400" spc="-1" strike="noStrike">
                <a:solidFill>
                  <a:srgbClr val="6666ff"/>
                </a:solidFill>
                <a:latin typeface="Segoe Script"/>
                <a:ea typeface="MV Boli"/>
              </a:rPr>
              <a:t>во время работ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755640" y="3933720"/>
            <a:ext cx="806436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ступаем к работе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х всем успехов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6:34:14Z</dcterms:created>
  <dc:creator>Admin</dc:creator>
  <dc:description/>
  <dc:language>en-US</dc:language>
  <cp:lastModifiedBy>Алексей</cp:lastModifiedBy>
  <dcterms:modified xsi:type="dcterms:W3CDTF">2022-12-01T21:13:02Z</dcterms:modified>
  <cp:revision>87</cp:revision>
  <dc:subject/>
  <dc:title>Слайд 1</dc:title>
</cp:coreProperties>
</file>