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973-771E-45E5-8DCE-FD6DA663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9CD-B6FD-405E-84B5-536F325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C19-3CB5-43BA-871D-BDD9E8A0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D5B-9E44-4FBA-9B09-EB88F5BD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6C1-5C7A-4AE4-A6EA-781B5CC5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03B-65EC-474C-89A9-39F75701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892-648B-4AA8-A94E-9DFE0BE1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EED-2EB5-404F-97AC-71AA3235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80C-9B7D-4AA0-B557-A462CB2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A0D-58B1-4E38-A11F-DDF464E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D0B-C866-45D4-8606-7BD49B5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965-1450-4FCB-8A33-CAE1A1E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EC3D-2E2B-490A-8A28-CFAB76ADDA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20000"/>
                </a:solidFill>
                <a:latin typeface="Monotype Corsiva"/>
              </a:rPr>
              <a:t>Весёлые дудочки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2707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узыкально-дидактическая игра для детей 4-5 лет для развития ритмического слу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Admin\Рабочий стол\веселые дудочки\картинки\дудка.png"/>
          <p:cNvPicPr/>
          <p:nvPr/>
        </p:nvPicPr>
        <p:blipFill>
          <a:blip r:embed="rId2"/>
          <a:stretch/>
        </p:blipFill>
        <p:spPr>
          <a:xfrm rot="4055400">
            <a:off x="3643920" y="4258440"/>
            <a:ext cx="1182600" cy="175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\Рабочий стол\веселые дудочки\картинки\44.png"/>
          <p:cNvPicPr/>
          <p:nvPr/>
        </p:nvPicPr>
        <p:blipFill>
          <a:blip r:embed="rId3"/>
          <a:stretch/>
        </p:blipFill>
        <p:spPr>
          <a:xfrm rot="18270600">
            <a:off x="1499400" y="3949920"/>
            <a:ext cx="23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\Рабочий стол\веселые дудочки\картинки\труба.PNG"/>
          <p:cNvPicPr/>
          <p:nvPr/>
        </p:nvPicPr>
        <p:blipFill>
          <a:blip r:embed="rId4"/>
          <a:stretch/>
        </p:blipFill>
        <p:spPr>
          <a:xfrm rot="2296800">
            <a:off x="5619240" y="4091040"/>
            <a:ext cx="29718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\Рабочий стол\веселые дудочки\пи ПИ.PNG"/>
          <p:cNvPicPr/>
          <p:nvPr/>
        </p:nvPicPr>
        <p:blipFill>
          <a:blip r:embed="rId1"/>
          <a:stretch/>
        </p:blipFill>
        <p:spPr>
          <a:xfrm>
            <a:off x="485640" y="836640"/>
            <a:ext cx="531036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Admin\Рабочий стол\веселые дудочки\ТРА ЛЯ.PNG"/>
          <p:cNvPicPr/>
          <p:nvPr/>
        </p:nvPicPr>
        <p:blipFill>
          <a:blip r:embed="rId2"/>
          <a:stretch/>
        </p:blipFill>
        <p:spPr>
          <a:xfrm>
            <a:off x="485640" y="2708280"/>
            <a:ext cx="5996160" cy="1244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Admin\Рабочий стол\веселые дудочки\ТУРУ.PNG"/>
          <p:cNvPicPr/>
          <p:nvPr/>
        </p:nvPicPr>
        <p:blipFill>
          <a:blip r:embed="rId3"/>
          <a:stretch/>
        </p:blipFill>
        <p:spPr>
          <a:xfrm>
            <a:off x="582480" y="4440240"/>
            <a:ext cx="4997520" cy="1389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Admin\Рабочий стол\веселые дудочки\мышка с дудочкой.png"/>
          <p:cNvPicPr/>
          <p:nvPr/>
        </p:nvPicPr>
        <p:blipFill>
          <a:blip r:embed="rId4"/>
          <a:stretch/>
        </p:blipFill>
        <p:spPr>
          <a:xfrm>
            <a:off x="6156360" y="2131920"/>
            <a:ext cx="240012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алее 1"/>
          <p:cNvSpPr/>
          <p:nvPr/>
        </p:nvSpPr>
        <p:spPr>
          <a:xfrm>
            <a:off x="8028000" y="5829480"/>
            <a:ext cx="647640" cy="623880"/>
          </a:xfrm>
          <a:custGeom>
            <a:avLst/>
            <a:gdLst>
              <a:gd name="textAreaLeft" fmla="*/ 40320 w 647640"/>
              <a:gd name="textAreaRight" fmla="*/ 607320 w 64764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2422" h="21600">
                <a:moveTo>
                  <a:pt x="0" y="0"/>
                </a:moveTo>
                <a:lnTo>
                  <a:pt x="22422" y="0"/>
                </a:lnTo>
                <a:lnTo>
                  <a:pt x="22422" y="21600"/>
                </a:lnTo>
                <a:lnTo>
                  <a:pt x="0" y="21600"/>
                </a:lnTo>
                <a:close/>
              </a:path>
              <a:path fill="lightenLess" w="22422" h="21600">
                <a:moveTo>
                  <a:pt x="0" y="0"/>
                </a:moveTo>
                <a:lnTo>
                  <a:pt x="22422" y="0"/>
                </a:lnTo>
                <a:lnTo>
                  <a:pt x="21022" y="1400"/>
                </a:lnTo>
                <a:lnTo>
                  <a:pt x="1400" y="1400"/>
                </a:lnTo>
                <a:close/>
              </a:path>
              <a:path fill="darken" w="22422" h="21600">
                <a:moveTo>
                  <a:pt x="22422" y="0"/>
                </a:moveTo>
                <a:lnTo>
                  <a:pt x="22422" y="21600"/>
                </a:lnTo>
                <a:lnTo>
                  <a:pt x="21022" y="20200"/>
                </a:lnTo>
                <a:lnTo>
                  <a:pt x="21022" y="1400"/>
                </a:lnTo>
                <a:close/>
              </a:path>
              <a:path fill="darkenLess" w="22422" h="21600">
                <a:moveTo>
                  <a:pt x="22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2" y="20200"/>
                </a:lnTo>
                <a:close/>
              </a:path>
              <a:path fill="lighten" w="22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2" h="21600">
                <a:moveTo>
                  <a:pt x="4205" y="3794"/>
                </a:moveTo>
                <a:lnTo>
                  <a:pt x="18218" y="10800"/>
                </a:lnTo>
                <a:lnTo>
                  <a:pt x="42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задание флейта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473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Documents and Settings\Admin\Рабочий стол\веселые дудочки\ТУРУ.PNG"/>
          <p:cNvPicPr/>
          <p:nvPr/>
        </p:nvPicPr>
        <p:blipFill>
          <a:blip r:embed="rId1"/>
          <a:stretch/>
        </p:blipFill>
        <p:spPr>
          <a:xfrm>
            <a:off x="557280" y="4237200"/>
            <a:ext cx="5032440" cy="14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Admin\Рабочий стол\веселые дудочки\пи ПИ.PNG"/>
          <p:cNvPicPr/>
          <p:nvPr/>
        </p:nvPicPr>
        <p:blipFill>
          <a:blip r:embed="rId2"/>
          <a:stretch/>
        </p:blipFill>
        <p:spPr>
          <a:xfrm>
            <a:off x="557280" y="2565360"/>
            <a:ext cx="531000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Admin\Рабочий стол\веселые дудочки\ТРА ЛЯ.PNG"/>
          <p:cNvPicPr/>
          <p:nvPr/>
        </p:nvPicPr>
        <p:blipFill>
          <a:blip r:embed="rId3"/>
          <a:stretch/>
        </p:blipFill>
        <p:spPr>
          <a:xfrm>
            <a:off x="395280" y="1125360"/>
            <a:ext cx="5996160" cy="124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Admin\Рабочий стол\веселые дудочки\мишка с трубойr.png"/>
          <p:cNvPicPr/>
          <p:nvPr/>
        </p:nvPicPr>
        <p:blipFill>
          <a:blip r:embed="rId4"/>
          <a:stretch/>
        </p:blipFill>
        <p:spPr>
          <a:xfrm>
            <a:off x="6018120" y="1770120"/>
            <a:ext cx="2729160" cy="308124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далее 1"/>
          <p:cNvSpPr/>
          <p:nvPr/>
        </p:nvSpPr>
        <p:spPr>
          <a:xfrm>
            <a:off x="8028000" y="5637240"/>
            <a:ext cx="719280" cy="7444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44480"/>
              <a:gd name="textAreaBottom" fmla="*/ 698040 h 744480"/>
            </a:gdLst>
            <a:ahLst/>
            <a:rect l="textAreaLeft" t="textAreaTop" r="textAreaRight" b="textAreaBottom"/>
            <a:pathLst>
              <a:path w="21600" h="22356">
                <a:moveTo>
                  <a:pt x="0" y="0"/>
                </a:moveTo>
                <a:lnTo>
                  <a:pt x="21600" y="0"/>
                </a:lnTo>
                <a:lnTo>
                  <a:pt x="21600" y="22356"/>
                </a:lnTo>
                <a:lnTo>
                  <a:pt x="0" y="22356"/>
                </a:lnTo>
                <a:close/>
              </a:path>
              <a:path fill="lightenLess" w="21600" h="223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56">
                <a:moveTo>
                  <a:pt x="21600" y="0"/>
                </a:moveTo>
                <a:lnTo>
                  <a:pt x="21600" y="22356"/>
                </a:lnTo>
                <a:lnTo>
                  <a:pt x="20200" y="20956"/>
                </a:lnTo>
                <a:lnTo>
                  <a:pt x="20200" y="1400"/>
                </a:lnTo>
                <a:close/>
              </a:path>
              <a:path fill="darkenLess" w="21600" h="22356">
                <a:moveTo>
                  <a:pt x="21600" y="22356"/>
                </a:moveTo>
                <a:lnTo>
                  <a:pt x="0" y="22356"/>
                </a:lnTo>
                <a:lnTo>
                  <a:pt x="1400" y="20956"/>
                </a:lnTo>
                <a:lnTo>
                  <a:pt x="20200" y="20956"/>
                </a:lnTo>
                <a:close/>
              </a:path>
              <a:path fill="lighten" w="21600" h="22356">
                <a:moveTo>
                  <a:pt x="0" y="223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56"/>
                </a:lnTo>
                <a:close/>
              </a:path>
              <a:path fill="darken" w="21600" h="22356">
                <a:moveTo>
                  <a:pt x="3794" y="4172"/>
                </a:moveTo>
                <a:lnTo>
                  <a:pt x="17806" y="11178"/>
                </a:lnTo>
                <a:lnTo>
                  <a:pt x="3794" y="1818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задание труба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329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Documents and Settings\Admin\Рабочий стол\веселые дудочки\ТРА ЛЯ.PNG"/>
          <p:cNvPicPr/>
          <p:nvPr/>
        </p:nvPicPr>
        <p:blipFill>
          <a:blip r:embed="rId1"/>
          <a:stretch/>
        </p:blipFill>
        <p:spPr>
          <a:xfrm>
            <a:off x="539640" y="900000"/>
            <a:ext cx="5996160" cy="124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Admin\Рабочий стол\веселые дудочки\ТУРУ.PNG"/>
          <p:cNvPicPr/>
          <p:nvPr/>
        </p:nvPicPr>
        <p:blipFill>
          <a:blip r:embed="rId2"/>
          <a:stretch/>
        </p:blipFill>
        <p:spPr>
          <a:xfrm>
            <a:off x="752400" y="2637000"/>
            <a:ext cx="5526000" cy="153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Admin\Рабочий стол\веселые дудочки\пи ПИ.PNG"/>
          <p:cNvPicPr/>
          <p:nvPr/>
        </p:nvPicPr>
        <p:blipFill>
          <a:blip r:embed="rId3"/>
          <a:stretch/>
        </p:blipFill>
        <p:spPr>
          <a:xfrm>
            <a:off x="860400" y="4437000"/>
            <a:ext cx="5310360" cy="129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Admin\Рабочий стол\веселые дудочки\лисичка кларнет.png"/>
          <p:cNvPicPr/>
          <p:nvPr/>
        </p:nvPicPr>
        <p:blipFill>
          <a:blip r:embed="rId4"/>
          <a:stretch/>
        </p:blipFill>
        <p:spPr>
          <a:xfrm>
            <a:off x="6300720" y="1814400"/>
            <a:ext cx="2175120" cy="2816280"/>
          </a:xfrm>
          <a:prstGeom prst="rect">
            <a:avLst/>
          </a:prstGeom>
          <a:ln w="0">
            <a:noFill/>
          </a:ln>
        </p:spPr>
      </p:pic>
      <p:sp>
        <p:nvSpPr>
          <p:cNvPr id="99" name="Управляющая кнопка: далее 1"/>
          <p:cNvSpPr/>
          <p:nvPr/>
        </p:nvSpPr>
        <p:spPr>
          <a:xfrm>
            <a:off x="8028000" y="5789520"/>
            <a:ext cx="663480" cy="649440"/>
          </a:xfrm>
          <a:custGeom>
            <a:avLst/>
            <a:gdLst>
              <a:gd name="textAreaLeft" fmla="*/ 41760 w 663480"/>
              <a:gd name="textAreaRight" fmla="*/ 621720 w 6634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2067" h="21600">
                <a:moveTo>
                  <a:pt x="0" y="0"/>
                </a:moveTo>
                <a:lnTo>
                  <a:pt x="22067" y="0"/>
                </a:lnTo>
                <a:lnTo>
                  <a:pt x="22067" y="21600"/>
                </a:lnTo>
                <a:lnTo>
                  <a:pt x="0" y="21600"/>
                </a:lnTo>
                <a:close/>
              </a:path>
              <a:path fill="lightenLess" w="22067" h="21600">
                <a:moveTo>
                  <a:pt x="0" y="0"/>
                </a:moveTo>
                <a:lnTo>
                  <a:pt x="22067" y="0"/>
                </a:lnTo>
                <a:lnTo>
                  <a:pt x="20667" y="1400"/>
                </a:lnTo>
                <a:lnTo>
                  <a:pt x="1400" y="1400"/>
                </a:lnTo>
                <a:close/>
              </a:path>
              <a:path fill="darken" w="22067" h="21600">
                <a:moveTo>
                  <a:pt x="22067" y="0"/>
                </a:moveTo>
                <a:lnTo>
                  <a:pt x="22067" y="21600"/>
                </a:lnTo>
                <a:lnTo>
                  <a:pt x="20667" y="20200"/>
                </a:lnTo>
                <a:lnTo>
                  <a:pt x="20667" y="1400"/>
                </a:lnTo>
                <a:close/>
              </a:path>
              <a:path fill="darkenLess" w="22067" h="21600">
                <a:moveTo>
                  <a:pt x="22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7" y="20200"/>
                </a:lnTo>
                <a:close/>
              </a:path>
              <a:path fill="lighten" w="22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67" h="21600">
                <a:moveTo>
                  <a:pt x="4027" y="3794"/>
                </a:moveTo>
                <a:lnTo>
                  <a:pt x="18040" y="10800"/>
                </a:lnTo>
                <a:lnTo>
                  <a:pt x="40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задание кларнет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363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img-fotki.yandex.ru/get/5109/vasiliew-nikolai2012.2/0_62bd5_674e691f_M.gif"/>
          <p:cNvPicPr/>
          <p:nvPr/>
        </p:nvPicPr>
        <p:blipFill>
          <a:blip r:embed="rId2"/>
          <a:stretch/>
        </p:blipFill>
        <p:spPr>
          <a:xfrm>
            <a:off x="3203640" y="2492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" descr=""/>
          <p:cNvPicPr/>
          <p:nvPr/>
        </p:nvPicPr>
        <p:blipFill>
          <a:blip r:embed="rId3"/>
          <a:stretch/>
        </p:blipFill>
        <p:spPr>
          <a:xfrm>
            <a:off x="1474920" y="1566720"/>
            <a:ext cx="6267240" cy="1322640"/>
          </a:xfrm>
          <a:prstGeom prst="rect">
            <a:avLst/>
          </a:prstGeom>
          <a:ln w="0">
            <a:noFill/>
          </a:ln>
        </p:spPr>
      </p:pic>
      <p:pic>
        <p:nvPicPr>
          <p:cNvPr id="103" name="Fanfary_-_Tush_3_(get-tune.net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069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Monotype Corsiva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жнять детей в восприятии и различении 3-х ритмических рисунков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обходимо знание песни «Веселые дудочки» Левкодим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трубе медведь игр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у-ру, ту-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лясали все в круг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у-ру, ту-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-ля-ля – лиса игр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-ля-ля. Тра-ля-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х на пляску приглаш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-ля-ля. Тра-ля-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м мышонок заигра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-пи-пи-пи-п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йка полечку спляса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я-ля-ля-ля-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530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ТУ – РУ, ТУ – Р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Admin\Рабочий стол\веселые дудочки\мишка с трубойr.png"/>
          <p:cNvPicPr/>
          <p:nvPr/>
        </p:nvPicPr>
        <p:blipFill>
          <a:blip r:embed="rId1"/>
          <a:stretch/>
        </p:blipFill>
        <p:spPr>
          <a:xfrm>
            <a:off x="2685960" y="404640"/>
            <a:ext cx="3600720" cy="406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веселые дудочки\ТУРУ.PNG"/>
          <p:cNvPicPr/>
          <p:nvPr/>
        </p:nvPicPr>
        <p:blipFill>
          <a:blip r:embed="rId2"/>
          <a:stretch/>
        </p:blipFill>
        <p:spPr>
          <a:xfrm>
            <a:off x="1908000" y="4149720"/>
            <a:ext cx="5526360" cy="153684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1"/>
          <p:cNvSpPr/>
          <p:nvPr/>
        </p:nvSpPr>
        <p:spPr>
          <a:xfrm>
            <a:off x="8028000" y="5805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1 мишку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6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8680" y="530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тра-ля-ЛЯ, тра-ля-Л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Documents and Settings\Admin\Рабочий стол\веселые дудочки\лисичка кларнет.png"/>
          <p:cNvPicPr/>
          <p:nvPr/>
        </p:nvPicPr>
        <p:blipFill>
          <a:blip r:embed="rId1"/>
          <a:stretch/>
        </p:blipFill>
        <p:spPr>
          <a:xfrm>
            <a:off x="3497400" y="1090440"/>
            <a:ext cx="2376360" cy="307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Admin\Рабочий стол\веселые дудочки\ТРА ЛЯ.PNG"/>
          <p:cNvPicPr/>
          <p:nvPr/>
        </p:nvPicPr>
        <p:blipFill>
          <a:blip r:embed="rId2"/>
          <a:stretch/>
        </p:blipFill>
        <p:spPr>
          <a:xfrm>
            <a:off x="1754280" y="4199040"/>
            <a:ext cx="5995800" cy="124452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1"/>
          <p:cNvSpPr/>
          <p:nvPr/>
        </p:nvSpPr>
        <p:spPr>
          <a:xfrm>
            <a:off x="8172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 лису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92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5013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пи-пи-пи-пи-П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Admin\Рабочий стол\веселые дудочки\мышка с дудочкой.png"/>
          <p:cNvPicPr/>
          <p:nvPr/>
        </p:nvPicPr>
        <p:blipFill>
          <a:blip r:embed="rId1"/>
          <a:stretch/>
        </p:blipFill>
        <p:spPr>
          <a:xfrm>
            <a:off x="3132000" y="1197000"/>
            <a:ext cx="2613240" cy="2820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Admin\Рабочий стол\веселые дудочки\пи ПИ.PNG"/>
          <p:cNvPicPr/>
          <p:nvPr/>
        </p:nvPicPr>
        <p:blipFill>
          <a:blip r:embed="rId2"/>
          <a:stretch/>
        </p:blipFill>
        <p:spPr>
          <a:xfrm>
            <a:off x="1998720" y="3933720"/>
            <a:ext cx="5310000" cy="129564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алее 1"/>
          <p:cNvSpPr/>
          <p:nvPr/>
        </p:nvSpPr>
        <p:spPr>
          <a:xfrm>
            <a:off x="8244000" y="587700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5136"/>
                </a:moveTo>
                <a:lnTo>
                  <a:pt x="17806" y="12142"/>
                </a:lnTo>
                <a:lnTo>
                  <a:pt x="3794" y="1914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 мышь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455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Admin\Рабочий стол\веселые дудочки\мишка.png"/>
          <p:cNvPicPr/>
          <p:nvPr/>
        </p:nvPicPr>
        <p:blipFill>
          <a:blip r:embed="rId1"/>
          <a:stretch/>
        </p:blipFill>
        <p:spPr>
          <a:xfrm>
            <a:off x="3276720" y="523800"/>
            <a:ext cx="257652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Admin\Рабочий стол\веселые дудочки\лиса.png"/>
          <p:cNvPicPr/>
          <p:nvPr/>
        </p:nvPicPr>
        <p:blipFill>
          <a:blip r:embed="rId2"/>
          <a:stretch/>
        </p:blipFill>
        <p:spPr>
          <a:xfrm>
            <a:off x="5491080" y="322596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Admin\Рабочий стол\веселые дудочки\мышь.png"/>
          <p:cNvPicPr/>
          <p:nvPr/>
        </p:nvPicPr>
        <p:blipFill>
          <a:blip r:embed="rId3"/>
          <a:stretch/>
        </p:blipFill>
        <p:spPr>
          <a:xfrm>
            <a:off x="1042920" y="3225960"/>
            <a:ext cx="2540160" cy="253980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далее 1"/>
          <p:cNvSpPr/>
          <p:nvPr/>
        </p:nvSpPr>
        <p:spPr>
          <a:xfrm>
            <a:off x="8172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тм флейта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10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Documents and Settings\Admin\Рабочий стол\веселые дудочки\мишка.png"/>
          <p:cNvPicPr/>
          <p:nvPr/>
        </p:nvPicPr>
        <p:blipFill>
          <a:blip r:embed="rId1"/>
          <a:stretch/>
        </p:blipFill>
        <p:spPr>
          <a:xfrm>
            <a:off x="5378400" y="3201840"/>
            <a:ext cx="2719440" cy="271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Admin\Рабочий стол\веселые дудочки\мышь.png"/>
          <p:cNvPicPr/>
          <p:nvPr/>
        </p:nvPicPr>
        <p:blipFill>
          <a:blip r:embed="rId2"/>
          <a:stretch/>
        </p:blipFill>
        <p:spPr>
          <a:xfrm>
            <a:off x="3419640" y="404640"/>
            <a:ext cx="266508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Documents and Settings\Admin\Рабочий стол\веселые дудочки\лиса.png"/>
          <p:cNvPicPr/>
          <p:nvPr/>
        </p:nvPicPr>
        <p:blipFill>
          <a:blip r:embed="rId3"/>
          <a:stretch/>
        </p:blipFill>
        <p:spPr>
          <a:xfrm>
            <a:off x="1332000" y="3144960"/>
            <a:ext cx="2774880" cy="277488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/>
          <p:cNvSpPr/>
          <p:nvPr/>
        </p:nvSpPr>
        <p:spPr>
          <a:xfrm>
            <a:off x="8097840" y="5919840"/>
            <a:ext cx="650880" cy="604800"/>
          </a:xfrm>
          <a:custGeom>
            <a:avLst/>
            <a:gdLst>
              <a:gd name="textAreaLeft" fmla="*/ 38880 w 650880"/>
              <a:gd name="textAreaRight" fmla="*/ 612000 w 6508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3245" h="21600">
                <a:moveTo>
                  <a:pt x="0" y="0"/>
                </a:moveTo>
                <a:lnTo>
                  <a:pt x="23245" y="0"/>
                </a:lnTo>
                <a:lnTo>
                  <a:pt x="23245" y="21600"/>
                </a:lnTo>
                <a:lnTo>
                  <a:pt x="0" y="21600"/>
                </a:lnTo>
                <a:close/>
              </a:path>
              <a:path fill="lightenLess" w="23245" h="21600">
                <a:moveTo>
                  <a:pt x="0" y="0"/>
                </a:moveTo>
                <a:lnTo>
                  <a:pt x="23245" y="0"/>
                </a:lnTo>
                <a:lnTo>
                  <a:pt x="21845" y="1400"/>
                </a:lnTo>
                <a:lnTo>
                  <a:pt x="1400" y="1400"/>
                </a:lnTo>
                <a:close/>
              </a:path>
              <a:path fill="darken" w="23245" h="21600">
                <a:moveTo>
                  <a:pt x="23245" y="0"/>
                </a:moveTo>
                <a:lnTo>
                  <a:pt x="23245" y="21600"/>
                </a:lnTo>
                <a:lnTo>
                  <a:pt x="21845" y="20200"/>
                </a:lnTo>
                <a:lnTo>
                  <a:pt x="21845" y="1400"/>
                </a:lnTo>
                <a:close/>
              </a:path>
              <a:path fill="darkenLess" w="23245" h="21600">
                <a:moveTo>
                  <a:pt x="232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5" y="20200"/>
                </a:lnTo>
                <a:close/>
              </a:path>
              <a:path fill="lighten" w="232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5" h="21600">
                <a:moveTo>
                  <a:pt x="4616" y="3794"/>
                </a:moveTo>
                <a:lnTo>
                  <a:pt x="18629" y="10800"/>
                </a:lnTo>
                <a:lnTo>
                  <a:pt x="461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тм труба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22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веселые дудочки\лиса.png"/>
          <p:cNvPicPr/>
          <p:nvPr/>
        </p:nvPicPr>
        <p:blipFill>
          <a:blip r:embed="rId1"/>
          <a:stretch/>
        </p:blipFill>
        <p:spPr>
          <a:xfrm>
            <a:off x="3132000" y="3284640"/>
            <a:ext cx="2908440" cy="290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Admin\Рабочий стол\веселые дудочки\мышь.png"/>
          <p:cNvPicPr/>
          <p:nvPr/>
        </p:nvPicPr>
        <p:blipFill>
          <a:blip r:embed="rId2"/>
          <a:stretch/>
        </p:blipFill>
        <p:spPr>
          <a:xfrm>
            <a:off x="5292720" y="32544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Admin\Рабочий стол\веселые дудочки\мишка.png"/>
          <p:cNvPicPr/>
          <p:nvPr/>
        </p:nvPicPr>
        <p:blipFill>
          <a:blip r:embed="rId3"/>
          <a:stretch/>
        </p:blipFill>
        <p:spPr>
          <a:xfrm>
            <a:off x="971640" y="287280"/>
            <a:ext cx="2738520" cy="273996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алее 1"/>
          <p:cNvSpPr/>
          <p:nvPr/>
        </p:nvSpPr>
        <p:spPr>
          <a:xfrm>
            <a:off x="8101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тм флейта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410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cuments and Settings\Admin\Рабочий стол\веселые дудочки\лиса.png"/>
          <p:cNvPicPr/>
          <p:nvPr/>
        </p:nvPicPr>
        <p:blipFill>
          <a:blip r:embed="rId1"/>
          <a:stretch/>
        </p:blipFill>
        <p:spPr>
          <a:xfrm>
            <a:off x="5364000" y="324972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Admin\Рабочий стол\веселые дудочки\мишка.png"/>
          <p:cNvPicPr/>
          <p:nvPr/>
        </p:nvPicPr>
        <p:blipFill>
          <a:blip r:embed="rId2"/>
          <a:stretch/>
        </p:blipFill>
        <p:spPr>
          <a:xfrm>
            <a:off x="1187280" y="3274920"/>
            <a:ext cx="2737080" cy="273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Admin\Рабочий стол\веселые дудочки\мышь.png"/>
          <p:cNvPicPr/>
          <p:nvPr/>
        </p:nvPicPr>
        <p:blipFill>
          <a:blip r:embed="rId3"/>
          <a:stretch/>
        </p:blipFill>
        <p:spPr>
          <a:xfrm>
            <a:off x="3276720" y="37944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алее 1"/>
          <p:cNvSpPr/>
          <p:nvPr/>
        </p:nvSpPr>
        <p:spPr>
          <a:xfrm>
            <a:off x="8126280" y="6012000"/>
            <a:ext cx="622440" cy="512640"/>
          </a:xfrm>
          <a:custGeom>
            <a:avLst/>
            <a:gdLst>
              <a:gd name="textAreaLeft" fmla="*/ 33120 w 622440"/>
              <a:gd name="textAreaRight" fmla="*/ 589320 w 622440"/>
              <a:gd name="textAreaTop" fmla="*/ 33120 h 512640"/>
              <a:gd name="textAreaBottom" fmla="*/ 479520 h 512640"/>
            </a:gdLst>
            <a:ahLst/>
            <a:rect l="textAreaLeft" t="textAreaTop" r="textAreaRight" b="textAreaBottom"/>
            <a:pathLst>
              <a:path w="26223" h="21600">
                <a:moveTo>
                  <a:pt x="0" y="0"/>
                </a:moveTo>
                <a:lnTo>
                  <a:pt x="26223" y="0"/>
                </a:lnTo>
                <a:lnTo>
                  <a:pt x="26223" y="21600"/>
                </a:lnTo>
                <a:lnTo>
                  <a:pt x="0" y="21600"/>
                </a:lnTo>
                <a:close/>
              </a:path>
              <a:path fill="lightenLess" w="26223" h="21600">
                <a:moveTo>
                  <a:pt x="0" y="0"/>
                </a:moveTo>
                <a:lnTo>
                  <a:pt x="26223" y="0"/>
                </a:lnTo>
                <a:lnTo>
                  <a:pt x="24823" y="1400"/>
                </a:lnTo>
                <a:lnTo>
                  <a:pt x="1400" y="1400"/>
                </a:lnTo>
                <a:close/>
              </a:path>
              <a:path fill="darken" w="26223" h="21600">
                <a:moveTo>
                  <a:pt x="26223" y="0"/>
                </a:moveTo>
                <a:lnTo>
                  <a:pt x="26223" y="21600"/>
                </a:lnTo>
                <a:lnTo>
                  <a:pt x="24823" y="20200"/>
                </a:lnTo>
                <a:lnTo>
                  <a:pt x="24823" y="1400"/>
                </a:lnTo>
                <a:close/>
              </a:path>
              <a:path fill="darkenLess" w="26223" h="21600">
                <a:moveTo>
                  <a:pt x="26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3" y="20200"/>
                </a:lnTo>
                <a:close/>
              </a:path>
              <a:path fill="lighten" w="26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3" h="21600">
                <a:moveTo>
                  <a:pt x="6105" y="3794"/>
                </a:moveTo>
                <a:lnTo>
                  <a:pt x="20118" y="10800"/>
                </a:lnTo>
                <a:lnTo>
                  <a:pt x="61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ритм кларнет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3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22-12-02T11:45:16Z</dcterms:modified>
  <cp:revision>61</cp:revision>
  <dc:subject/>
  <dc:title>Слайд 1</dc:title>
</cp:coreProperties>
</file>