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52F-4FCC-4308-8592-1614E199B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A8D-5A93-40FF-8C62-830DE39C9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5F2-5F13-48C0-817E-03AAEA4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76A-F831-4917-A0E7-D42B19E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3CE-69C8-4B9E-A4F9-A10456EA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0B3-C89E-4E84-9ACE-0382B185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C40-D605-4287-9C42-E5683BD8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9A5-A723-4F34-ADE5-C7BA4367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C6D-8034-4D12-BD47-A34AF29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640-B7A4-4BF5-9D92-F1521EC0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14F-7082-45AD-BE33-2EE4F1C4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A2C-938B-48D2-A0C0-2561772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CC9-D68D-4827-8093-5E04E9A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2FD-5543-4DF6-B9E6-973A1003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D38-42BB-4E55-9D95-0D9F29799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5.xml"/><Relationship Id="rId8" Type="http://schemas.openxmlformats.org/officeDocument/2006/relationships/slide" Target="slide36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39.xml"/><Relationship Id="rId12" Type="http://schemas.openxmlformats.org/officeDocument/2006/relationships/slide" Target="slide40.xml"/><Relationship Id="rId13" Type="http://schemas.openxmlformats.org/officeDocument/2006/relationships/slide" Target="slide41.xml"/><Relationship Id="rId14" Type="http://schemas.openxmlformats.org/officeDocument/2006/relationships/slide" Target="slide42.xml"/><Relationship Id="rId15" Type="http://schemas.openxmlformats.org/officeDocument/2006/relationships/slide" Target="slide43.xml"/><Relationship Id="rId16" Type="http://schemas.openxmlformats.org/officeDocument/2006/relationships/slide" Target="slide44.xml"/><Relationship Id="rId17" Type="http://schemas.openxmlformats.org/officeDocument/2006/relationships/slide" Target="slide45.xml"/><Relationship Id="rId18" Type="http://schemas.openxmlformats.org/officeDocument/2006/relationships/slide" Target="slide46.xml"/><Relationship Id="rId19" Type="http://schemas.openxmlformats.org/officeDocument/2006/relationships/slide" Target="slide47.xml"/><Relationship Id="rId20" Type="http://schemas.openxmlformats.org/officeDocument/2006/relationships/slide" Target="slide48.xml"/><Relationship Id="rId21" Type="http://schemas.openxmlformats.org/officeDocument/2006/relationships/slide" Target="slide49.xml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54.xml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5" descr=""/>
          <p:cNvPicPr/>
          <p:nvPr/>
        </p:nvPicPr>
        <p:blipFill>
          <a:blip r:embed="rId1"/>
          <a:stretch/>
        </p:blipFill>
        <p:spPr>
          <a:xfrm>
            <a:off x="285840" y="1176480"/>
            <a:ext cx="8431200" cy="46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зеркальном на катке, На единственном коньке, Он проехался разок — И распался весь ка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 Стекло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94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 - работник дело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хожу в работу с голов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е, молодц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ляпка - очень к лиц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0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вижу лежебоку, что валяется без проку, Я прижму его к доске, да как стукну по башке, В доску спрячется бедняжка, чуть видна его фураж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Мол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06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слово - уга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и в нем - загад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ая - нота, вторая - иг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ое встретится у столя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До-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12" name="AutoShape 7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е дерево дятла пои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Береза 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http://images.pictureshunt.com/pics/b/birch_trees-11880.jpg"/>
          <p:cNvPicPr/>
          <p:nvPr/>
        </p:nvPicPr>
        <p:blipFill>
          <a:blip r:embed="rId1"/>
          <a:stretch/>
        </p:blipFill>
        <p:spPr>
          <a:xfrm>
            <a:off x="5357880" y="1857240"/>
            <a:ext cx="310680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1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">
              <a:hlinkClick r:id="rId2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ран пол к куску кус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малюсеньких дос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Пар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2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Рисунок 8" descr="http://im4-tub-ru.yandex.net/i?id=198280347-45-72&amp;n=21"/>
          <p:cNvPicPr/>
          <p:nvPr/>
        </p:nvPicPr>
        <p:blipFill>
          <a:blip r:embed="rId2"/>
          <a:stretch/>
        </p:blipFill>
        <p:spPr>
          <a:xfrm>
            <a:off x="5786280" y="3000240"/>
            <a:ext cx="3003840" cy="28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год на нем с ох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стают вертолё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аль, что каждый верт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сего один по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лен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32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7" descr="http://im7-tub-ru.yandex.net/i?id=299594119-28-72&amp;n=21"/>
          <p:cNvPicPr/>
          <p:nvPr/>
        </p:nvPicPr>
        <p:blipFill>
          <a:blip r:embed="rId2"/>
          <a:stretch/>
        </p:blipFill>
        <p:spPr>
          <a:xfrm>
            <a:off x="6072120" y="3786120"/>
            <a:ext cx="262116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виду, вроде, схожа с фе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ключишь- продырявит ст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Др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3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Рисунок 7" descr="http://www.omar.ru/img/model/960/41960/1-500.jpg"/>
          <p:cNvPicPr/>
          <p:nvPr/>
        </p:nvPicPr>
        <p:blipFill>
          <a:blip r:embed="rId2"/>
          <a:stretch/>
        </p:blipFill>
        <p:spPr>
          <a:xfrm>
            <a:off x="3357720" y="3929040"/>
            <a:ext cx="33573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опросы плотникам;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подумай и назови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овите деталь книжного шк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состоит из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гласной бук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Пол-ка</a:t>
            </a:r>
            <a:r>
              <a:rPr b="0" lang="ru-RU" sz="28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4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Рисунок 7" descr="http://www.best-mebel-shop.ru/sites/default/files/imagecache/img-with-watermark/964862bd9c33eb5f009a71abd9b303de.jpg"/>
          <p:cNvPicPr/>
          <p:nvPr/>
        </p:nvPicPr>
        <p:blipFill>
          <a:blip r:embed="rId2"/>
          <a:stretch/>
        </p:blipFill>
        <p:spPr>
          <a:xfrm>
            <a:off x="5815080" y="3760920"/>
            <a:ext cx="313380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ющий инструмент передают ручкой вперёд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5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НИЙ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21488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6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гадай загад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просы плот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ехника безопас-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 доме мо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лки с верстака можно сду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59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 ножовки должен быть развод зубь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65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метку на древесине производят гвоздём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r>
              <a:rPr b="0" lang="ru-RU" sz="3200" spc="-1" strike="noStrike" u="sng">
                <a:solidFill>
                  <a:srgbClr val="00e5e5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Техника безопасности. </a:t>
            </a:r>
            <a:br>
              <a:rPr sz="3200"/>
            </a:b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Ответь «да» или «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ку используют для разметки прямых углов.</a:t>
            </a: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7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а соснова,  стек желе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Кр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83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7" descr="http://im7-tub-ru.yandex.net/i?id=132859979-00-72&amp;n=21"/>
          <p:cNvPicPr/>
          <p:nvPr/>
        </p:nvPicPr>
        <p:blipFill>
          <a:blip r:embed="rId2"/>
          <a:stretch/>
        </p:blipFill>
        <p:spPr>
          <a:xfrm>
            <a:off x="4786200" y="3071880"/>
            <a:ext cx="37990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енях ходит, да и в избу не заходи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0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Рисунок 7" descr="http://im2-tub-ru.yandex.net/i?id=367768017-41-72&amp;n=21"/>
          <p:cNvPicPr/>
          <p:nvPr/>
        </p:nvPicPr>
        <p:blipFill>
          <a:blip r:embed="rId2"/>
          <a:stretch/>
        </p:blipFill>
        <p:spPr>
          <a:xfrm>
            <a:off x="4286160" y="2857680"/>
            <a:ext cx="2500560" cy="32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спина, а не лежит, четыре ноги, а не ходит, но всегда сам стоит и всем сидеть вел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2c12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Ст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197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Рисунок 7" descr="http://cdn.sellbe.com/shop-2541/product/138/624362.jpeg"/>
          <p:cNvPicPr/>
          <p:nvPr/>
        </p:nvPicPr>
        <p:blipFill>
          <a:blip r:embed="rId1"/>
          <a:stretch/>
        </p:blipFill>
        <p:spPr>
          <a:xfrm>
            <a:off x="5857920" y="3500280"/>
            <a:ext cx="246708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ряжен наряд из ста ребят, все приколочены  сто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Ответ: Изгородь, плет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04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Рисунок 7" descr="http://www.mukhin.ru/besthome/fence/23_170.jpg"/>
          <p:cNvPicPr/>
          <p:nvPr/>
        </p:nvPicPr>
        <p:blipFill>
          <a:blip r:embed="rId1"/>
          <a:stretch/>
        </p:blipFill>
        <p:spPr>
          <a:xfrm>
            <a:off x="642960" y="4143240"/>
            <a:ext cx="3357720" cy="22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Тема: В доме моем.</a:t>
            </a:r>
            <a:br>
              <a:rPr sz="3600"/>
            </a:br>
            <a:r>
              <a:rPr b="1" lang="ru-RU" sz="3600" spc="-1" strike="noStrike" u="sng">
                <a:solidFill>
                  <a:srgbClr val="ffe701"/>
                </a:solidFill>
                <a:uFillTx/>
                <a:latin typeface="Arial"/>
              </a:rPr>
              <a:t>Отгадай элементы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ждый ходит и бегает  по мне летом и зимой, а ездить никому нель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e5e5"/>
                </a:solidFill>
                <a:latin typeface="Arial"/>
              </a:rPr>
              <a:t>Ответ: Лес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211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6"/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Рисунок 7" descr="http://im3-tub-ru.yandex.net/i?id=418017210-25-72&amp;n=21"/>
          <p:cNvPicPr/>
          <p:nvPr/>
        </p:nvPicPr>
        <p:blipFill>
          <a:blip r:embed="rId1"/>
          <a:srcRect l="0" t="0" r="40569" b="0"/>
          <a:stretch/>
        </p:blipFill>
        <p:spPr>
          <a:xfrm>
            <a:off x="4429080" y="3429000"/>
            <a:ext cx="29289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шет, сеет, зерно убирает. К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Хлебо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http://agro2b.ru/mediadb/6839.jpeg"/>
          <p:cNvPicPr/>
          <p:nvPr/>
        </p:nvPicPr>
        <p:blipFill>
          <a:blip r:embed="rId2"/>
          <a:stretch/>
        </p:blipFill>
        <p:spPr>
          <a:xfrm>
            <a:off x="714240" y="3571920"/>
            <a:ext cx="37864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ЫЙ    РА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87920"/>
        </p:xfrm>
        <a:graphic>
          <a:graphicData uri="http://schemas.openxmlformats.org/drawingml/2006/table">
            <a:tbl>
              <a:tblPr/>
              <a:tblGrid>
                <a:gridCol w="1593720"/>
                <a:gridCol w="1149480"/>
                <a:gridCol w="1371600"/>
                <a:gridCol w="1371600"/>
                <a:gridCol w="1371600"/>
                <a:gridCol w="137160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лов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дин из тре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то потеря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вер-ты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5050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2c12"/>
                    </a:solidFill>
                  </a:tcPr>
                </a:tc>
              </a:tr>
            </a:tbl>
          </a:graphicData>
        </a:graphic>
      </p:graphicFrame>
      <p:sp>
        <p:nvSpPr>
          <p:cNvPr id="54" name="4-конечная звезда 3">
            <a:hlinkClick r:id="rId26" action="ppaction://hlinksldjump"/>
          </p:cNvPr>
          <p:cNvSpPr/>
          <p:nvPr/>
        </p:nvSpPr>
        <p:spPr>
          <a:xfrm>
            <a:off x="714240" y="500040"/>
            <a:ext cx="785880" cy="714240"/>
          </a:xfrm>
          <a:custGeom>
            <a:avLst/>
            <a:gdLst>
              <a:gd name="textAreaLeft" fmla="*/ 323640 w 785880"/>
              <a:gd name="textAreaRight" fmla="*/ 462240 w 785880"/>
              <a:gd name="textAreaTop" fmla="*/ 294120 h 714240"/>
              <a:gd name="textAreaBottom" fmla="*/ 420120 h 71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евает кто нас модно? Кто костюм шьёт выходной? Всем известно – он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 Порт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http://img0.liveinternet.ru/images/attach/c/9/105/776/105776636_tailormeasure.jpg"/>
          <p:cNvPicPr/>
          <p:nvPr/>
        </p:nvPicPr>
        <p:blipFill>
          <a:blip r:embed="rId2"/>
          <a:stretch/>
        </p:blipFill>
        <p:spPr>
          <a:xfrm>
            <a:off x="714240" y="3786120"/>
            <a:ext cx="364356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ужит дорогой Отчизне старший  брат. Охраняет  наши жизни, он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http://www.emeklilikhaber.com/wp-content/uploads/gaxxi/1334666222yedek-subay-sinavi.jpg"/>
          <p:cNvPicPr/>
          <p:nvPr/>
        </p:nvPicPr>
        <p:blipFill>
          <a:blip r:embed="rId2"/>
          <a:stretch/>
        </p:blipFill>
        <p:spPr>
          <a:xfrm>
            <a:off x="642960" y="3357720"/>
            <a:ext cx="3143160" cy="30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ло ухо у кота, поднялася в доме суета, дед ворчит, сестрёнка хнычет, суп в кошачьей миске стынет. Что же делать? Как же быть? Кто котёнка может полеч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Ветерин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http://t2.ftcdn.net/jpg/00/19/13/89/400_F_19138932_WwJlYFcHlq7kDyNKJGruWAG6TyImXAqt.jpg"/>
          <p:cNvPicPr/>
          <p:nvPr/>
        </p:nvPicPr>
        <p:blipFill>
          <a:blip r:embed="rId2"/>
          <a:stretch/>
        </p:blipFill>
        <p:spPr>
          <a:xfrm>
            <a:off x="357120" y="4214880"/>
            <a:ext cx="21034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Угадай профе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илась сестрёнка Даша – радость наша, горе наше. Хлеб не ест, плюётся кашей, к кому идти  с сестрёнкой Даш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К педи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http://navolyni.com/modules/goods/images/351_vyklyk-pediatra-dodomu-lutsk.jpg"/>
          <p:cNvPicPr/>
          <p:nvPr/>
        </p:nvPicPr>
        <p:blipFill>
          <a:blip r:embed="rId2"/>
          <a:stretch/>
        </p:blipFill>
        <p:spPr>
          <a:xfrm>
            <a:off x="714240" y="421488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пешишь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людей насм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труд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вытащишь и рыбку из п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dde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в поле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е во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й сто рублей,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а имей сто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Назови 2 часть 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пословицы о тр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о не воробей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вылетит, не пойм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атериалы используются для прозрачной отделки изде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эмульсионная 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к, ол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патлё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87700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уд - кормит, а лен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59ffff"/>
                </a:solidFill>
                <a:latin typeface="Arial"/>
              </a:rPr>
              <a:t>порт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58" name="AutoShape 8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9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столярное соединение используется при изготовлении ра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ящ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середи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овое конц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является основанием токарного ст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няя ба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учник с каре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9680" y="1628640"/>
            <a:ext cx="82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смолянистая древес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б, берёза, гр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хта, ель, к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па, ива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один из трех.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Выбери один правильный ответ из трех вариа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каких деревьев древесина имеет кольцесосудистое 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ина, тополь, оль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ша, клён,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ёза, дуб, 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http://www.wiki.vladimir.i-edu.ru/images/thumb/6/6e/%D0%A3%D1%87%D0%B8%D1%82%D0%B5%D0%BB%D1%8C_%D1%81_%D1%83%D0%BA%D0%B0%D0%B7%D0%BA%D0%BE%D0%B9.jpg/468px-%D0%A3%D1%87%D0%B8%D1%82%D0%B5%D0%BB%D1%8C_%D1%81_%D1%83%D0%BA%D0%B0%D0%B7%D0%BA%D0%BE%D0%B9.jpg"/>
          <p:cNvPicPr/>
          <p:nvPr/>
        </p:nvPicPr>
        <p:blipFill>
          <a:blip r:embed="rId2"/>
          <a:stretch/>
        </p:blipFill>
        <p:spPr>
          <a:xfrm>
            <a:off x="714240" y="2857680"/>
            <a:ext cx="307188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м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 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http://images.colourbox.com/thumb_COLOURBOX2465857.jpg"/>
          <p:cNvPicPr/>
          <p:nvPr/>
        </p:nvPicPr>
        <p:blipFill>
          <a:blip r:embed="rId2"/>
          <a:stretch/>
        </p:blipFill>
        <p:spPr>
          <a:xfrm>
            <a:off x="285840" y="3500280"/>
            <a:ext cx="457200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Кондитер, 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кнопка кр"/>
          <p:cNvPicPr/>
          <p:nvPr/>
        </p:nvPicPr>
        <p:blipFill>
          <a:blip r:embed="rId1"/>
          <a:stretch/>
        </p:blipFill>
        <p:spPr>
          <a:xfrm>
            <a:off x="7956720" y="5950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http://beato.ru/site/21/2158.jpg"/>
          <p:cNvPicPr/>
          <p:nvPr/>
        </p:nvPicPr>
        <p:blipFill>
          <a:blip r:embed="rId2"/>
          <a:stretch/>
        </p:blipFill>
        <p:spPr>
          <a:xfrm>
            <a:off x="785880" y="264312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некен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Шв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http://im3-tub-ru.yandex.net/i?id=139294426-22-72&amp;n=21"/>
          <p:cNvPicPr/>
          <p:nvPr/>
        </p:nvPicPr>
        <p:blipFill>
          <a:blip r:embed="rId2"/>
          <a:stretch/>
        </p:blipFill>
        <p:spPr>
          <a:xfrm>
            <a:off x="714240" y="278604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Тема: Кто потерял?:</a:t>
            </a:r>
            <a:br>
              <a:rPr sz="3600"/>
            </a:br>
            <a:r>
              <a:rPr b="1" lang="ru-RU" sz="3600" spc="-1" strike="noStrike" u="sng">
                <a:solidFill>
                  <a:srgbClr val="d3a219"/>
                </a:solidFill>
                <a:uFillTx/>
                <a:latin typeface="Arial"/>
              </a:rPr>
              <a:t>Какая профессия связана с данным инструмен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п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: Штук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http://smetnov.com/wp-content/uploads/2011/03/shpatel.gif"/>
          <p:cNvPicPr/>
          <p:nvPr/>
        </p:nvPicPr>
        <p:blipFill>
          <a:blip r:embed="rId2"/>
          <a:stretch/>
        </p:blipFill>
        <p:spPr>
          <a:xfrm>
            <a:off x="357120" y="3643200"/>
            <a:ext cx="357192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Щ И К Л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Кл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 раз отмерь-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59ffff"/>
                </a:solidFill>
                <a:latin typeface="Arial"/>
              </a:rPr>
              <a:t>отре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64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Р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Руб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dee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Ё К А О Т Р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Отве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кнопка кр"/>
          <p:cNvPicPr/>
          <p:nvPr/>
        </p:nvPicPr>
        <p:blipFill>
          <a:blip r:embed="rId1"/>
          <a:stretch/>
        </p:blipFill>
        <p:spPr>
          <a:xfrm>
            <a:off x="8101080" y="5950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 Ь П И Н А И К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Нап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кнопка кр"/>
          <p:cNvPicPr/>
          <p:nvPr/>
        </p:nvPicPr>
        <p:blipFill>
          <a:blip r:embed="rId1"/>
          <a:stretch/>
        </p:blipFill>
        <p:spPr>
          <a:xfrm>
            <a:off x="7596360" y="5734080"/>
            <a:ext cx="79200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Тема: Перевертыши:</a:t>
            </a:r>
            <a:br>
              <a:rPr sz="3200"/>
            </a:br>
            <a:r>
              <a:rPr b="1" lang="ru-RU" sz="3200" spc="-1" strike="noStrike" u="sng">
                <a:solidFill>
                  <a:srgbClr val="d3a219"/>
                </a:solidFill>
                <a:uFillTx/>
                <a:latin typeface="Arial"/>
              </a:rPr>
              <a:t>Собери слово из данных букв (столярный инстр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dee7"/>
                </a:solidFill>
                <a:latin typeface="Arial"/>
              </a:rPr>
              <a:t>У С Й С М Р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твет: Рейсм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кнопка кр"/>
          <p:cNvPicPr/>
          <p:nvPr/>
        </p:nvPicPr>
        <p:blipFill>
          <a:blip r:embed="rId1"/>
          <a:stretch/>
        </p:blipFill>
        <p:spPr>
          <a:xfrm>
            <a:off x="8172360" y="5950080"/>
            <a:ext cx="79236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12600" y="1143000"/>
            <a:ext cx="89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ТУТ” у столя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 под ру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14200" y="3786120"/>
          <a:ext cx="8715600" cy="2071800"/>
        </p:xfrm>
        <a:graphic>
          <a:graphicData uri="http://schemas.openxmlformats.org/drawingml/2006/table">
            <a:tbl>
              <a:tblPr/>
              <a:tblGrid>
                <a:gridCol w="919440"/>
                <a:gridCol w="866520"/>
                <a:gridCol w="865440"/>
                <a:gridCol w="866520"/>
                <a:gridCol w="866880"/>
                <a:gridCol w="865080"/>
                <a:gridCol w="1036800"/>
                <a:gridCol w="696960"/>
                <a:gridCol w="865080"/>
                <a:gridCol w="866880"/>
              </a:tblGrid>
              <a:tr h="207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500040" y="2571840"/>
          <a:ext cx="7715160" cy="1682640"/>
        </p:xfrm>
        <a:graphic>
          <a:graphicData uri="http://schemas.openxmlformats.org/drawingml/2006/table">
            <a:tbl>
              <a:tblPr/>
              <a:tblGrid>
                <a:gridCol w="814320"/>
                <a:gridCol w="766800"/>
                <a:gridCol w="766800"/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1"/>
          <p:cNvSpPr/>
          <p:nvPr/>
        </p:nvSpPr>
        <p:spPr>
          <a:xfrm>
            <a:off x="366840" y="74880"/>
            <a:ext cx="8410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т “Е” у столяра в столе (инструмент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http://900igr.net/datai/literatura/Ionych-CHekhova/0004-008-Pravila-vedenija-spora.jpg"/>
          <p:cNvPicPr/>
          <p:nvPr/>
        </p:nvPicPr>
        <p:blipFill>
          <a:blip r:embed="rId1"/>
          <a:stretch/>
        </p:blipFill>
        <p:spPr>
          <a:xfrm>
            <a:off x="-285840" y="-237960"/>
            <a:ext cx="9753840" cy="70959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6" descr=""/>
          <p:cNvPicPr/>
          <p:nvPr/>
        </p:nvPicPr>
        <p:blipFill>
          <a:blip r:embed="rId2"/>
          <a:stretch/>
        </p:blipFill>
        <p:spPr>
          <a:xfrm>
            <a:off x="-195120" y="792000"/>
            <a:ext cx="95342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прос на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у –время, потехе –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0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енькое дело, лучше больш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бездел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76" name="AutoShape 5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6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7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Пословицы –закончи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лог день до вечера, коли дел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e5e5"/>
                </a:solidFill>
                <a:latin typeface="Arial"/>
              </a:rPr>
              <a:t>не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82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"/>
              </a:rPr>
              <a:t>Тема:  Отгадай зага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убов много, А ничего не 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e5e5"/>
                </a:solidFill>
                <a:latin typeface="Arial"/>
              </a:rPr>
              <a:t>Ответ: П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6300720" y="6237360"/>
            <a:ext cx="1447920" cy="231840"/>
            <a:chOff x="6300720" y="6237360"/>
            <a:chExt cx="1447920" cy="231840"/>
          </a:xfrm>
        </p:grpSpPr>
        <p:sp>
          <p:nvSpPr>
            <p:cNvPr id="88" name="AutoShape 6">
              <a:hlinkClick r:id="" action="ppaction://hlinkshowjump?jump=nextslide"/>
            </p:cNvPr>
            <p:cNvSpPr/>
            <p:nvPr/>
          </p:nvSpPr>
          <p:spPr>
            <a:xfrm>
              <a:off x="7301880" y="6315120"/>
              <a:ext cx="446760" cy="154080"/>
            </a:xfrm>
            <a:prstGeom prst="rightArrow">
              <a:avLst>
                <a:gd name="adj1" fmla="val 50000"/>
                <a:gd name="adj2" fmla="val 72045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">
              <a:hlinkClick r:id="rId1" action="ppaction://hlinksldjump"/>
            </p:cNvPr>
            <p:cNvSpPr/>
            <p:nvPr/>
          </p:nvSpPr>
          <p:spPr>
            <a:xfrm>
              <a:off x="6801840" y="6237360"/>
              <a:ext cx="445320" cy="205920"/>
            </a:xfrm>
            <a:custGeom>
              <a:avLst/>
              <a:gdLst>
                <a:gd name="textAreaLeft" fmla="*/ 13320 w 445320"/>
                <a:gd name="textAreaRight" fmla="*/ 432000 w 445320"/>
                <a:gd name="textAreaTop" fmla="*/ 13320 h 205920"/>
                <a:gd name="textAreaBottom" fmla="*/ 192600 h 205920"/>
              </a:gdLst>
              <a:ahLst/>
              <a:rect l="textAreaLeft" t="textAreaTop" r="textAreaRight" b="textAreaBottom"/>
              <a:pathLst>
                <a:path w="46668" h="21600">
                  <a:moveTo>
                    <a:pt x="0" y="0"/>
                  </a:moveTo>
                  <a:lnTo>
                    <a:pt x="46668" y="0"/>
                  </a:lnTo>
                  <a:lnTo>
                    <a:pt x="46668" y="21600"/>
                  </a:lnTo>
                  <a:lnTo>
                    <a:pt x="0" y="21600"/>
                  </a:lnTo>
                  <a:close/>
                </a:path>
                <a:path fill="lightenLess" w="46668" h="21600">
                  <a:moveTo>
                    <a:pt x="0" y="0"/>
                  </a:moveTo>
                  <a:lnTo>
                    <a:pt x="46668" y="0"/>
                  </a:lnTo>
                  <a:lnTo>
                    <a:pt x="45268" y="1400"/>
                  </a:lnTo>
                  <a:lnTo>
                    <a:pt x="1400" y="1400"/>
                  </a:lnTo>
                  <a:close/>
                </a:path>
                <a:path fill="darken" w="46668" h="21600">
                  <a:moveTo>
                    <a:pt x="46668" y="0"/>
                  </a:moveTo>
                  <a:lnTo>
                    <a:pt x="46668" y="21600"/>
                  </a:lnTo>
                  <a:lnTo>
                    <a:pt x="45268" y="20200"/>
                  </a:lnTo>
                  <a:lnTo>
                    <a:pt x="45268" y="1400"/>
                  </a:lnTo>
                  <a:close/>
                </a:path>
                <a:path fill="darkenLess" w="46668" h="21600">
                  <a:moveTo>
                    <a:pt x="466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8" y="20200"/>
                  </a:lnTo>
                  <a:close/>
                </a:path>
                <a:path fill="lighten" w="466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8" h="21600">
                  <a:moveTo>
                    <a:pt x="16328" y="7493"/>
                  </a:moveTo>
                  <a:lnTo>
                    <a:pt x="19835" y="7493"/>
                  </a:lnTo>
                  <a:lnTo>
                    <a:pt x="19835" y="12828"/>
                  </a:lnTo>
                  <a:cubicBezTo>
                    <a:pt x="19835" y="13751"/>
                    <a:pt x="20636" y="14482"/>
                    <a:pt x="21672" y="14482"/>
                  </a:cubicBezTo>
                  <a:lnTo>
                    <a:pt x="23334" y="14482"/>
                  </a:lnTo>
                  <a:cubicBezTo>
                    <a:pt x="24370" y="14482"/>
                    <a:pt x="25171" y="13751"/>
                    <a:pt x="25171" y="12828"/>
                  </a:cubicBezTo>
                  <a:lnTo>
                    <a:pt x="25171" y="7493"/>
                  </a:lnTo>
                  <a:lnTo>
                    <a:pt x="23334" y="7493"/>
                  </a:lnTo>
                  <a:lnTo>
                    <a:pt x="26842" y="3985"/>
                  </a:lnTo>
                  <a:lnTo>
                    <a:pt x="30515" y="7493"/>
                  </a:lnTo>
                  <a:lnTo>
                    <a:pt x="28678" y="7493"/>
                  </a:lnTo>
                  <a:lnTo>
                    <a:pt x="28678" y="12828"/>
                  </a:lnTo>
                  <a:cubicBezTo>
                    <a:pt x="28678" y="15596"/>
                    <a:pt x="26102" y="18155"/>
                    <a:pt x="23334" y="18155"/>
                  </a:cubicBezTo>
                  <a:lnTo>
                    <a:pt x="21672" y="18155"/>
                  </a:lnTo>
                  <a:cubicBezTo>
                    <a:pt x="18904" y="18155"/>
                    <a:pt x="16328" y="15596"/>
                    <a:pt x="16328" y="12828"/>
                  </a:cubicBez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8">
              <a:hlinkClick r:id="" action="ppaction://hlinkshowjump?jump=previousslide"/>
            </p:cNvPr>
            <p:cNvSpPr/>
            <p:nvPr/>
          </p:nvSpPr>
          <p:spPr>
            <a:xfrm flipH="1">
              <a:off x="6300720" y="6315120"/>
              <a:ext cx="446400" cy="154080"/>
            </a:xfrm>
            <a:prstGeom prst="rightArrow">
              <a:avLst>
                <a:gd name="adj1" fmla="val 50000"/>
                <a:gd name="adj2" fmla="val 71987"/>
              </a:avLst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1f3d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07:23Z</dcterms:created>
  <dc:creator>Admin</dc:creator>
  <dc:description/>
  <dc:language>en-US</dc:language>
  <cp:lastModifiedBy>Lena</cp:lastModifiedBy>
  <dcterms:modified xsi:type="dcterms:W3CDTF">2022-11-19T19:40:33Z</dcterms:modified>
  <cp:revision>55</cp:revision>
  <dc:subject/>
  <dc:title>СИНИЙ РАУНД</dc:title>
</cp:coreProperties>
</file>