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679E-BF09-4DC1-9D08-68B89D43C1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CAE7-8456-433A-8BB1-5EF413C5AD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28C-DBFF-4325-B674-0A92E379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2E5-7B16-422E-AD31-35D6FD69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A9E-B154-43B3-A993-47AEAF83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798-527B-4EDF-8704-1228B971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4AC8-51D6-4764-A607-D482A0FD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CA59-EEBD-406F-8CE8-FE697C00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0BE6-00DF-436B-A7F7-9D17E7AB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437E-00E6-47E7-AFBF-60D14DEE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B4FA-EEC7-44BE-9120-1D5CFC02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49F5-B78F-434E-BAFA-88AD3187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38A7-6809-45DA-972E-965A0FC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EBA-12EF-41F0-B7C1-6B1EECFA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BB19-518D-48CE-B330-99DADE10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85B8-D24D-4813-9739-3C20E48B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0253-C448-4800-B164-2EC20B92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8B5F-1C4D-46DC-869B-90A1B163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35C4-4681-4797-88BC-86FE2A8C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0663B-CEC4-43AD-A284-CE97871F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3FAC6-CAE5-4983-AA63-754B3474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E9997-75A0-49C4-8EF8-68D3E241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575AD-B7CE-4609-BE45-1E4E7102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6146E-12F1-4B47-A443-06288210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701-85D7-4AD7-ABFD-1F505247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4C326-162B-4E88-8552-8DB82AB5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41DB9-054D-4773-8443-9EDCE60D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FEC4D-0694-4EBA-AEF0-408BE255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0BF0B-2C08-4B28-A588-EF8BAB60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99A50-7EB3-49EA-B8D9-49A5D81D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AE30D-D1D8-41B2-994F-9437F53B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DE662-E6C7-4050-8563-A1183050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9B812-A2EF-430B-BC80-A0E895AB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5ADA2-A408-44A2-8706-D505AAA9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AAFDE-A4D5-4E0A-91AD-46CDB11A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044-2DB5-485A-B655-26FE7042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56533-EC94-40B3-8A98-89D08C1E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B5A5-CFCA-4D75-A09D-8B3138F0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7EBC-531C-4DF9-98BD-D8E1FDA2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51A4-F53E-4387-946D-8FADBE57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21608-1BD9-4A1E-9641-DC2F89D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9FA8D-2EB9-441C-A9D9-3611F35E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EE630-6D36-4A55-843C-38307268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6BAD0-9D1A-4E22-B93C-530800D9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58E96-A0A7-4963-A34E-0BC405E1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E16-437D-45D2-9DEC-C256B1D5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5BA-DF6A-4725-81CB-F33C4120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ED3-821E-4520-A8E0-7C4E68E4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8EF-0766-43DD-99F8-C9B1676C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AC8-83A5-4CA4-A114-ADA796E4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DF18-BE46-4F36-A521-ED622764625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5006-FCA1-47DB-97D3-458EFE2933A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5A3B-2FB9-471E-B952-33AFD97CBA9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7BE3-3F00-45FD-BD98-00EC61954FD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845820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Функции семьи и ОУ в современных условиях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Формы работы с родителями. 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rebuchet MS"/>
              </a:rPr>
              <a:t>Проблемы взаимодействия семьи и ОУ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ссивность родителей, безразличное отношение к своему ребенку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резмерная занятость родителей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доверие родителей к педагогам, нежелание идти на контакт, отсутствие конструктивного взаимодействия педагогов с родителям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грессивное восприятие информации, идущей от воспитателя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достаток времени у воспитателей для полноценного взаимодействия с семьей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заимодействие с разными категориями родителей одновременно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компетентность (педагога либо родителей) в вопросах воспитания ребенка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циальная неустойчивость семь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500040" y="2857680"/>
            <a:ext cx="3500640" cy="18572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гармоничные семьи 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(талантливые, активные семьи; семьи благополучные в психолого-педагогическом отношени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7"/>
          <p:cNvSpPr/>
          <p:nvPr/>
        </p:nvSpPr>
        <p:spPr>
          <a:xfrm>
            <a:off x="5214960" y="2857680"/>
            <a:ext cx="3500280" cy="18572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облемные семьи 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(требующие длительной помощи кризисные семьи, семьи групп ри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8"/>
          <p:cNvSpPr/>
          <p:nvPr/>
        </p:nvSpPr>
        <p:spPr>
          <a:xfrm>
            <a:off x="2571840" y="1214280"/>
            <a:ext cx="3929040" cy="10717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группы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трелка вниз 11"/>
          <p:cNvSpPr/>
          <p:nvPr/>
        </p:nvSpPr>
        <p:spPr>
          <a:xfrm>
            <a:off x="2714760" y="2286000"/>
            <a:ext cx="100008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12"/>
          <p:cNvSpPr/>
          <p:nvPr/>
        </p:nvSpPr>
        <p:spPr>
          <a:xfrm>
            <a:off x="5429160" y="2286000"/>
            <a:ext cx="1000080" cy="571680"/>
          </a:xfrm>
          <a:prstGeom prst="downArrow">
            <a:avLst>
              <a:gd name="adj1" fmla="val 50000"/>
              <a:gd name="adj2" fmla="val 53199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8" name="Содержимое 2" descr=""/>
          <p:cNvPicPr/>
          <p:nvPr/>
        </p:nvPicPr>
        <p:blipFill>
          <a:blip r:embed="rId1"/>
          <a:stretch/>
        </p:blipFill>
        <p:spPr>
          <a:xfrm>
            <a:off x="450720" y="974880"/>
            <a:ext cx="8242560" cy="56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06028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Times New Roman"/>
              </a:rPr>
              <a:t>Приобщить родителей к воспитательной и коррекционной работ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  <a:ea typeface="Times New Roman"/>
              </a:rPr>
              <a:t>Познакомить с приемами обучения и развития ребенк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омочь родителям увидеть актуальную ситуацию развития  ребенка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Убедить в успешности освоения им определенных знаний и умени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Информировать родителей о возрастных особенностях развития ребенка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,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о результатах психолого-педагогического и логопедического обследов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Обучить родителей приемам коррекционно-развивающей работы с ребенком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0bd0d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ривлечь родителей к активному участию в  коррекционном процесс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324000" y="90792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чи ОУ по совместной деятельности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 родителями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Багетная рамка 3"/>
          <p:cNvSpPr/>
          <p:nvPr/>
        </p:nvSpPr>
        <p:spPr>
          <a:xfrm>
            <a:off x="1857240" y="785880"/>
            <a:ext cx="5500800" cy="1428840"/>
          </a:xfrm>
          <a:prstGeom prst="bevel">
            <a:avLst>
              <a:gd name="adj" fmla="val 12500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Организация взаимодействия        </a:t>
            </a:r>
            <a:br>
              <a:rPr sz="2200"/>
            </a:br>
            <a:r>
              <a:rPr b="1" i="1" lang="ru-RU" sz="2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 родителями  (по В.А. Петровском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агетная рамка 4"/>
          <p:cNvSpPr/>
          <p:nvPr/>
        </p:nvSpPr>
        <p:spPr>
          <a:xfrm>
            <a:off x="468360" y="2571840"/>
            <a:ext cx="8104320" cy="785880"/>
          </a:xfrm>
          <a:prstGeom prst="bevel">
            <a:avLst>
              <a:gd name="adj" fmla="val 12500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Багетная рамка 5"/>
          <p:cNvSpPr/>
          <p:nvPr/>
        </p:nvSpPr>
        <p:spPr>
          <a:xfrm>
            <a:off x="428760" y="3500280"/>
            <a:ext cx="8143920" cy="785880"/>
          </a:xfrm>
          <a:prstGeom prst="bevel">
            <a:avLst>
              <a:gd name="adj" fmla="val 12500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рансляция родителям знаний о ребенке, которых они бы не могли получить в семье» - </a:t>
            </a: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  сообщает об успехах и развитии дошкольника, особенностях общения его с другими детьми, результатах совместной деятельност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Багетная рамка 6"/>
          <p:cNvSpPr/>
          <p:nvPr/>
        </p:nvSpPr>
        <p:spPr>
          <a:xfrm>
            <a:off x="428760" y="4429080"/>
            <a:ext cx="8143920" cy="785880"/>
          </a:xfrm>
          <a:prstGeom prst="bevel">
            <a:avLst>
              <a:gd name="adj" fmla="val 12500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агетная рамка 7"/>
          <p:cNvSpPr/>
          <p:nvPr/>
        </p:nvSpPr>
        <p:spPr>
          <a:xfrm>
            <a:off x="428760" y="5357880"/>
            <a:ext cx="8143920" cy="785880"/>
          </a:xfrm>
          <a:prstGeom prst="bevel">
            <a:avLst>
              <a:gd name="adj" fmla="val 12500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овместное исследование и формирование личности ребенка» - </a:t>
            </a: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теперь педагог, завоевавший доверие родителей при успешном проведении предыдущих этапов, может начинать осторожно давать советы родителям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84360" y="2699280"/>
            <a:ext cx="770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«Трансляция родителям положительного образа ребенка» - </a:t>
            </a: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педагог  никогда не жалуется на ребенка. Даже если он что-то натворил. Беседа проходит под  девизом: «Ваш ребенок лучше всех»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"/>
          <p:cNvSpPr/>
          <p:nvPr/>
        </p:nvSpPr>
        <p:spPr>
          <a:xfrm>
            <a:off x="539640" y="4401000"/>
            <a:ext cx="7777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2060"/>
                </a:solidFill>
                <a:latin typeface="Calibri"/>
                <a:ea typeface="Calibri"/>
              </a:rPr>
              <a:t>«</a:t>
            </a:r>
            <a:r>
              <a:rPr b="1" i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Ознакомление педагога с проблемами</a:t>
            </a: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i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семьи в воспитании и обучении ребенка</a:t>
            </a:r>
            <a:r>
              <a:rPr b="1" i="1" lang="ru-RU" sz="1300" spc="-1" strike="noStrike">
                <a:solidFill>
                  <a:srgbClr val="002060"/>
                </a:solidFill>
                <a:latin typeface="Calibri"/>
                <a:ea typeface="Calibri"/>
              </a:rPr>
              <a:t>»</a:t>
            </a:r>
            <a:r>
              <a:rPr b="1" i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300" spc="-1" strike="noStrike">
                <a:solidFill>
                  <a:srgbClr val="002060"/>
                </a:solidFill>
                <a:latin typeface="Times New Roman"/>
                <a:ea typeface="Calibri"/>
              </a:rPr>
              <a:t>- здесь активная роль принадлежит родителям, педагог только поддерживает диалог. Не давая оценочных суждени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0" name="Содержимое 2"/>
          <p:cNvSpPr/>
          <p:nvPr/>
        </p:nvSpPr>
        <p:spPr>
          <a:xfrm>
            <a:off x="642960" y="1428840"/>
            <a:ext cx="822960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Современные  формы работы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8"/>
          <p:cNvSpPr/>
          <p:nvPr/>
        </p:nvSpPr>
        <p:spPr>
          <a:xfrm>
            <a:off x="971640" y="1916280"/>
            <a:ext cx="756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1. ИНФОРМАЦИОННО – ПРОСВЕТИТЕ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2. РАЗВИВАЮЩЕЕ ОБЩЕСТВЕННОЕ УПРАВЛ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3. ТРАДИ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4 ИНТЕРАКТИВНЫ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5. ТВОРЧЕСКО – ПРОДУКТИВНЫ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6. ОБРАТНАЯ СВЯЗ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5" name="Содержимое 2"/>
          <p:cNvSpPr/>
          <p:nvPr/>
        </p:nvSpPr>
        <p:spPr>
          <a:xfrm>
            <a:off x="642960" y="1428840"/>
            <a:ext cx="822960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395280" y="1268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ИНФОРМАЦИОННО – ПРОСВЕТИТЕЛЬ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468360" y="2276640"/>
            <a:ext cx="806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ЕЧЕР ВОПРОСОВ И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ЖУРНАЛ – ГАЗЕТА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НФОРМАЦИОННЫЕ САЙ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ЕМАТИЧЕСКИЕ КОНСУЛЬТ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УКЛЕТЫ, ПАМЯТКИ , БРОШЮ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ОДИТЕЛЬСКИЕ СОБР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1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250920" y="692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РАЗВИВАЮЩЕЕ ОБЩЕСТВЕННОЕ У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9"/>
          <p:cNvSpPr/>
          <p:nvPr/>
        </p:nvSpPr>
        <p:spPr>
          <a:xfrm>
            <a:off x="611280" y="227664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ВЕТ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ЧАСТИЕ РОДИТЕЛЕЙ В ПЕДАГОГИЧЕСКИХ СОВЕ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ВОРЧЕСКАЯ ГРУП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НИЦИАТИВНАЯ ГРУП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01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6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7"/>
          <p:cNvSpPr/>
          <p:nvPr/>
        </p:nvSpPr>
        <p:spPr>
          <a:xfrm>
            <a:off x="395280" y="1268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ТРАДИЦИОННЫЕ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611280" y="1996920"/>
            <a:ext cx="624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диционные фор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ятся на следующие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одительские собрания, групповые консультации, конфере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индивидуальные консультации, бес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гляд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апки – передвижки, стенды, выставки, фото, дни открытых дверей.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01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1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7"/>
          <p:cNvSpPr/>
          <p:nvPr/>
        </p:nvSpPr>
        <p:spPr>
          <a:xfrm>
            <a:off x="395280" y="1268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ИНТЕРАК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9"/>
          <p:cNvSpPr/>
          <p:nvPr/>
        </p:nvSpPr>
        <p:spPr>
          <a:xfrm>
            <a:off x="900000" y="1989000"/>
            <a:ext cx="59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ИКТО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ИСКУССИОННЫЙ КРУГЛЫЙ СТ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РЕНИН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АСТЕР – 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ЕЗЕНТАЦИЯ 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ОМАШНЯЯ ИГРОТЕКА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ЕДЕРАЛЬНЫЙ ЗАКОН РФ 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"ОБ ОБРАЗОВАНИИ В РОССИЙСКОЙ ФЕДЕРАЦИИ"</a:t>
            </a: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татья 64. Дошкольное образова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Дошкольное 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направлено на формирование общей культуры, развитие физических, интеллектуальных, нравственных, эстетических и личностных качеств, формирование предпосылок учебной деятельности, сохранение и укрепление здоровья дет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одител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(законные представители) несовершеннолетних обучающихся, обеспечивающие получение детьми дошкольного образования в форме семейного образования,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имеют право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на получение методической, психолого-педагогической, диагностической и консультативной помощи без взимания платы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, в том числе в дошкольных образовательных организациях и общеобразовательных организациях, если в них созданы соответствующие консультационные центры. Обеспечение предоставления таких видов помощи осуществляется органами государственной власти субъектов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01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6" name="Заголовок 1"/>
          <p:cNvSpPr/>
          <p:nvPr/>
        </p:nvSpPr>
        <p:spPr>
          <a:xfrm>
            <a:off x="324000" y="426960"/>
            <a:ext cx="65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ТВОРЧЕСКО – ПРОДУК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7"/>
          <p:cNvSpPr/>
          <p:nvPr/>
        </p:nvSpPr>
        <p:spPr>
          <a:xfrm>
            <a:off x="395280" y="1268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9"/>
          <p:cNvSpPr/>
          <p:nvPr/>
        </p:nvSpPr>
        <p:spPr>
          <a:xfrm>
            <a:off x="900000" y="1700280"/>
            <a:ext cx="748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ВОРЧЕСК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ЗГОТОВЛЕНИЕ НЕТРАДИЦИОННОГО ОБОРУДОВАНИЯ ПРИ ОРГАНИЗАЦИИ РАЗВИВАЮЩЕЙ СР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ТРЕННИКИ, СОВМЕСТНЫЕ ПРАЗДНИКИ, ГДЕ РОДИТЕЛИ В РОЛИ ПЕРСОНАЖЕЙ НА ПРАЗДНИ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ЕМАТИЧЕСКИЕ ВЕЧЕРА (БАБУШКИНЫ ПОСИДЕЛКИ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ХОДЫ, 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01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91" name="Заголовок 1"/>
          <p:cNvSpPr/>
          <p:nvPr/>
        </p:nvSpPr>
        <p:spPr>
          <a:xfrm>
            <a:off x="324000" y="426960"/>
            <a:ext cx="65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395280" y="1268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9"/>
          <p:cNvSpPr/>
          <p:nvPr/>
        </p:nvSpPr>
        <p:spPr>
          <a:xfrm>
            <a:off x="179280" y="620640"/>
            <a:ext cx="568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ОБРАТНАЯ СВЯЗ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0"/>
          <p:cNvSpPr/>
          <p:nvPr/>
        </p:nvSpPr>
        <p:spPr>
          <a:xfrm>
            <a:off x="611280" y="1773360"/>
            <a:ext cx="624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НКЕТ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ЭКСПРЕСС –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НИГА ДОВЕРИЯ, ПОЧТА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ЖУРНАЛ «ВАШЕ МНЕНИЕ ВАЖНО ДЛЯ НА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ЕСЕДА, НАБЛЮ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ЕЙТИНГ МЕРОПРИЯТИЙ НА СА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НЕВНИК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НФОРМАЦИОННАЯ КОРЗ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01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97" name="Заголовок 1"/>
          <p:cNvSpPr/>
          <p:nvPr/>
        </p:nvSpPr>
        <p:spPr>
          <a:xfrm>
            <a:off x="324000" y="426960"/>
            <a:ext cx="65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684360" y="3715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395280" y="1268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179280" y="620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ПРИЕМЫ ВЗАИМОДЕЙСТВИЯ С РОДИТЕЛ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611280" y="1773360"/>
            <a:ext cx="624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оброжелательный стиль общения педагога с родителе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ндивидуальный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трудниче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готовимся серьез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инам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7"/>
          <p:cNvSpPr/>
          <p:nvPr/>
        </p:nvSpPr>
        <p:spPr>
          <a:xfrm>
            <a:off x="900000" y="836640"/>
            <a:ext cx="727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Организация работы с семьей – это длительный процесс и очень кропотливый труд, не имеющий готовых технологий и рецептов. Её успех определяется интуицией, инициативой, терпением педагога и его умением неуклонно следовать выбранной ц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C:\Users\Поляковы\Desktop\img26.jpg"/>
          <p:cNvPicPr/>
          <p:nvPr/>
        </p:nvPicPr>
        <p:blipFill>
          <a:blip r:embed="rId1"/>
          <a:stretch/>
        </p:blipFill>
        <p:spPr>
          <a:xfrm>
            <a:off x="250920" y="380880"/>
            <a:ext cx="86421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C:\Users\Поляковы\Desktop\img27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C:\Users\Поляковы\Desktop\img28.jpg"/>
          <p:cNvPicPr/>
          <p:nvPr/>
        </p:nvPicPr>
        <p:blipFill>
          <a:blip r:embed="rId1"/>
          <a:stretch/>
        </p:blipFill>
        <p:spPr>
          <a:xfrm>
            <a:off x="507960" y="692280"/>
            <a:ext cx="84567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 проявление у родителей интереса к содержанию образовательного процесса с детьми; возникновение дискуссий, диспутов по их инициативе; ответы на вопросы родителей ими самими; приведение примеров из собственного опыта; увеличение количества вопросов к педагогу, касающихся личности ребенка, его внутреннего мира; стремление взрослых к индивидуальным контактам с воспитателем; размышление родителей о правильности использования тех или иных методов воспитания; повышение их активности при анализе педагогических ситуаций, решение задач и обсуждение дискуссионных вопросов.   "/>
          <p:cNvPicPr/>
          <p:nvPr/>
        </p:nvPicPr>
        <p:blipFill>
          <a:blip r:embed="rId1"/>
          <a:stretch/>
        </p:blipFill>
        <p:spPr>
          <a:xfrm>
            <a:off x="250920" y="620640"/>
            <a:ext cx="87138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/>
          <p:cNvSpPr/>
          <p:nvPr/>
        </p:nvSpPr>
        <p:spPr>
          <a:xfrm>
            <a:off x="971640" y="692280"/>
            <a:ext cx="720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ные функции семьи и ОУ различны, но для всестороннего развития личности ребёнка необходимо их взаимо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ым условием преемственности является установление доверительного делового контакта между семьей и дошкольным учрежд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 разнообразных форм работы помогает родителям  из «зрителей» и «наблюдателей»                    становиться  активными  участниками  образовательного и воспитательного процесса и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357120" y="16430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b5395"/>
                </a:solidFill>
                <a:latin typeface="Georgia"/>
              </a:rPr>
              <a:t>БЛАГОДАРЮ ЗА ВНИМАНИЕ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00720" y="1033920"/>
            <a:ext cx="418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5" name="Picture 2" descr="C:\Users\Поляковы\Desktop\img7.jpg"/>
          <p:cNvPicPr/>
          <p:nvPr/>
        </p:nvPicPr>
        <p:blipFill>
          <a:blip r:embed="rId1"/>
          <a:stretch/>
        </p:blipFill>
        <p:spPr>
          <a:xfrm>
            <a:off x="468360" y="692280"/>
            <a:ext cx="835164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Trebuchet MS"/>
              </a:rPr>
              <a:t>Блиц опрос «Методика  организации двигательной активности  дошкольников»</a:t>
            </a:r>
            <a:endParaRPr b="0" lang="en-US" sz="18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. Назовите основные виды движен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.Назовите строевые упражнения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. Какие вы знаете спортивные упражнения?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4.  Назовите виды подвижных игр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5.  Важно соблюдать все 5 этапов организации прогулки. Назовите и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6. Детский туризм это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 Это является для ребенка особым радостным событием, сюда входят разнообразные физические упражнения и веселые подвижные игры, включаются движения, предварительно разученные на физкультурном занят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8. Одна из основных моделей организации образовательного процесса детей дошкольного возраста. Условия - создание педагогами предметно-развивающей образовательной среды  позволяющей ему взаимодействовать со сверстниками или действовать индивидуально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9.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Служит удовлетворению потребности дошкольника в движении, имеет определённую наполняемость соответствующую возрасту детей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Принятие  решения педагогического совета</a:t>
            </a:r>
            <a:endParaRPr b="0" lang="en-US" sz="2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править усилия педагогического коллектива на повышение уровня работы с родителя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особствовать поиску и освоению новых подходов в работе с родителями через проведение проектной деятельности с целью эффективного решения задач физического воспитания и оздоровления воспитанников. Закрепить теоретические знания и практические навыки педагогов по работе с родителя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rebuchet MS"/>
              </a:rPr>
              <a:t>ФГОС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0756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 соответствии с ФГОС дошкольное учреждение  обязана 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информировать родителей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(законных представителей) и 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общественность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относительно целей дошкольного образования, общих для всего образовательного пространства Российской Федерации, а также о Программе, и не только семье, но и всем заинтересованным лицам, вовлечённым в образовательную деятельность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обеспечить открытость дошкольно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создавать условия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 для участия родителей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(законных представителей) в образовательной деятельност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оддерживать родителей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(законных представителей) в воспитании детей, охране и укреплении их здоровья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обеспечить вовлечение семей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епосредственно в образовательную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еятельность, в том числе посредством создания образовательных проектов совместно с семьёй на основе выявления потребностей и поддержки образовательных инициатив семь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создавать условия для взрослых по поиску, использованию материалов, обеспечивающих реализацию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, в том числе в информационной среде, а также для обсуждения с родителями (законными представителями) детей вопросов, связанных с реализацией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ЕМЕЙНЫЙ КОДЕКС Р.Ф. СТ. 63</a:t>
            </a: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73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1.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Georgia"/>
              </a:rPr>
              <a:t>Родители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 имеют право и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Georgia"/>
              </a:rPr>
              <a:t>обязаны воспитывать своих детей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.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Georgia"/>
              </a:rPr>
              <a:t>Родители несут ответственность за воспитание и развитие своих детей. Они обязаны заботиться о здоровье, физическом, психическом, духовном и нравственном развитии своих детей.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 Родители имеют преимущественное право на обучение и воспитание своих детей перед всеми другими лицам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2. Родители обязаны обеспечить получение детьми общего образования. Родители имеют право выбора образовательной организации, формы получения детьми образования и формы их обучения с учетом мнения детей до получения ими основного общего образования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.</a:t>
            </a:r>
            <a:br>
              <a:rPr sz="4400"/>
            </a:b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05228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емья и дошкольное учреждение - два важных института развития и воспитания детей. Их воспитательные функции различны, но для всестороннего развития ребенка необходимо их взаимодействие. В дошкольном учреждение ребенок получает образование, приобретает умение взаимодействовать с другими детьми и взрослыми, организовывать собственную деятельность. Но, насколько эффективно ребенок будет овладевать этими навыками, зависит от отношения семьи к дошкольному учреждению. Гармоничное развитие дошкольника без активного участия его родителей в образовательном процессе невозможно.    Роль семьи в воспитании и развитии ребенка  нельзя недооценива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3" name="Содержимое 2" descr=""/>
          <p:cNvPicPr/>
          <p:nvPr/>
        </p:nvPicPr>
        <p:blipFill>
          <a:blip r:embed="rId1"/>
          <a:stretch/>
        </p:blipFill>
        <p:spPr>
          <a:xfrm>
            <a:off x="450720" y="974880"/>
            <a:ext cx="8291520" cy="56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5400"/>
            </a:b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5" name="Содержимое 2" descr=""/>
          <p:cNvPicPr/>
          <p:nvPr/>
        </p:nvPicPr>
        <p:blipFill>
          <a:blip r:embed="rId1"/>
          <a:stretch/>
        </p:blipFill>
        <p:spPr>
          <a:xfrm>
            <a:off x="450720" y="974880"/>
            <a:ext cx="8364600" cy="56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Trebuchet MS"/>
              </a:rPr>
              <a:t>Функции</a:t>
            </a: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rebuchet MS"/>
              </a:rPr>
              <a:t>взаимодействия образовательного учреждения с семьей:</a:t>
            </a:r>
            <a:endParaRPr b="0" lang="en-US" sz="2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лого-педагогическое просвещение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влечение родителей в совместную с детьми и педагогами деятельность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мощь семьям, испытывающим какие-либо трудности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заимодействие педагогов с общественными организациями родителей – родительский комитет, Совет О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31:45Z</dcterms:created>
  <dc:creator>Admin</dc:creator>
  <dc:description/>
  <dc:language>en-US</dc:language>
  <cp:lastModifiedBy>Поляковы</cp:lastModifiedBy>
  <dcterms:modified xsi:type="dcterms:W3CDTF">2022-10-17T07:36:47Z</dcterms:modified>
  <cp:revision>118</cp:revision>
  <dc:subject/>
  <dc:title>« Заикание у дошкольников»</dc:title>
</cp:coreProperties>
</file>