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44D9-A38F-457B-B373-B0270B38FE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7A3F-D730-46E4-839B-276229270F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4BA-9AC1-4B7D-9007-537F1D1C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F5B-3564-44DC-AB58-C01CC8C8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257-BB78-4FFF-9372-46301BC6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714-CF74-4E5A-96DA-F6AE843C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9045-E8C3-4BBC-BF6C-19F71667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50CB-BED4-4A52-AA98-E4A0F6C8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D055-A255-42A0-ADFE-D394658E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09ED-D57D-43B1-99CE-5506FC1E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D3C4-B8D8-4DF2-8285-47ED9C8F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30A6-E64C-4C03-8877-634817A4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8A88-C1D1-44C7-A30E-DE346ED9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5DD-087E-41CB-8751-78E761EE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1F5F-9B8F-4326-BB31-C36AE6A7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9CDE-8187-4ED6-A55F-43D5B2A5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C530-5618-4641-9D86-7829E992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65B7-AAAE-4A7A-AC57-10D04F4F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3C39-C0CA-453D-8EF1-C7E08BE6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CAF1B-EA1A-48DF-B73C-AC713AF4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89BA1-CF95-4C58-A0AE-0A55E019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8495C-3FDB-4899-9FCD-75DA5D81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F2B0F-911B-4292-AE3E-2D5DFC17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1ACEE-F540-4E3F-98F1-244EE5E4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142-4B3B-4636-8DE3-1420EEAF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79EE2-E289-48DF-8FEC-104641B6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9601F-489F-4AE6-8517-7E08EB5E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C4634-FFA5-49EF-BD87-B0871173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3258D-54BB-4D1E-9DEB-D8732063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5B81B-0C32-4C37-8247-526799B9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9C491-85CA-42A8-BBA4-68F719B9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DEC10-DA9D-435A-A126-DDDB09A6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E1156-79CF-469D-A004-1CAE4A7A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24470-AF0E-412D-8C5D-8D4A8C97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AD29C-E4D8-45D4-9290-6837E757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20F-F046-4C15-B11F-9394B7BF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04AE7-14C5-413A-BF22-1A318F18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7738A-B0B4-4855-A36C-E5D2E0D8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00D39-68F2-4895-AE11-373EF6FC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209D0-AF4B-4AD1-AA39-27298764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009EC-E2E6-4F53-A164-273F4E0C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ABC9E-A0C9-42A1-8F03-C936AB9A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F1889-B023-4837-9920-5436F018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86523-FDB4-47CB-8D54-F01CC42B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08C9B-E461-4496-B489-0BF66BB6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8D76-A03F-4CB7-8D0B-3341A271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3B3E-B622-4083-9F38-1E480D42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EF2-76B5-4CAC-A8A8-9AA686A8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766A-FA2D-42B7-BBD6-26625744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E248-B48C-47D5-9AE1-EDC44961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BACB-3341-4275-AAA9-971F7367B60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A9F8-3E75-452B-BB2E-18272EFF27E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8D84-4519-466D-8EC6-3B05CAD3429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756F-930A-42F9-9864-7E6BAD94288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980640"/>
            <a:ext cx="8458200" cy="23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Функции семьи и ОУ в современных условиях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 Формы работы с родителями. </a:t>
            </a:r>
            <a:endParaRPr b="0" lang="en-US" sz="4400" spc="-1" strike="noStrike">
              <a:solidFill>
                <a:srgbClr val="04617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rebuchet MS"/>
              </a:rPr>
              <a:t>Проблемы взаимодействия семьи и ОУ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ассивность родителей, безразличное отношение к своему ребенку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чрезмерная занятость родителей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едоверие родителей к педагогам, нежелание идти на контакт, отсутствие конструктивного взаимодействия педагогов с родителями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грессивное восприятие информации, идущей от воспитателя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едостаток времени у воспитателей для полноценного взаимодействия с семьей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заимодействие с разными категориями родителей одновременно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екомпетентность (педагога либо родителей) в вопросах воспитания ребенка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циальная неустойчивость семь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1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4"/>
          <p:cNvSpPr/>
          <p:nvPr/>
        </p:nvSpPr>
        <p:spPr>
          <a:xfrm>
            <a:off x="500040" y="2857680"/>
            <a:ext cx="3500640" cy="18572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гармоничные семьи 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(талантливые, активные семьи; семьи благополучные в психолого-педагогическом отношени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7"/>
          <p:cNvSpPr/>
          <p:nvPr/>
        </p:nvSpPr>
        <p:spPr>
          <a:xfrm>
            <a:off x="5214960" y="2857680"/>
            <a:ext cx="3500280" cy="18572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роблемные семьи 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(требующие длительной помощи кризисные семьи, семьи групп рис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8"/>
          <p:cNvSpPr/>
          <p:nvPr/>
        </p:nvSpPr>
        <p:spPr>
          <a:xfrm>
            <a:off x="2571840" y="1214280"/>
            <a:ext cx="3929040" cy="10717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группы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трелка вниз 11"/>
          <p:cNvSpPr/>
          <p:nvPr/>
        </p:nvSpPr>
        <p:spPr>
          <a:xfrm>
            <a:off x="2714760" y="2286000"/>
            <a:ext cx="100008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12"/>
          <p:cNvSpPr/>
          <p:nvPr/>
        </p:nvSpPr>
        <p:spPr>
          <a:xfrm>
            <a:off x="5429160" y="2286000"/>
            <a:ext cx="1000080" cy="571680"/>
          </a:xfrm>
          <a:prstGeom prst="downArrow">
            <a:avLst>
              <a:gd name="adj1" fmla="val 50000"/>
              <a:gd name="adj2" fmla="val 53199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br>
              <a:rPr sz="5400"/>
            </a:br>
            <a:endParaRPr b="0" lang="en-US" sz="24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48" name="Содержимое 2" descr=""/>
          <p:cNvPicPr/>
          <p:nvPr/>
        </p:nvPicPr>
        <p:blipFill>
          <a:blip r:embed="rId1"/>
          <a:stretch/>
        </p:blipFill>
        <p:spPr>
          <a:xfrm>
            <a:off x="450720" y="974880"/>
            <a:ext cx="8242560" cy="56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br>
              <a:rPr sz="5400"/>
            </a:br>
            <a:endParaRPr b="0" lang="en-US" sz="24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06028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0bd0d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  <a:ea typeface="Times New Roman"/>
              </a:rPr>
              <a:t>Приобщить родителей к воспитательной и коррекционной работ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0bd0d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  <a:ea typeface="Times New Roman"/>
              </a:rPr>
              <a:t>Познакомить с приемами обучения и развития ребенк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0bd0d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Помочь родителям увидеть актуальную ситуацию развития  ребенка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0bd0d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Убедить в успешности освоения им определенных знаний и умени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0bd0d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Информировать родителей о возрастных особенностях развития ребенка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,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о результатах психолого-педагогического и логопедического обследова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0bd0d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Обучить родителей приемам коррекционно-развивающей работы с ребенком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0bd0d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Привлечь родителей к активному участию в  коррекционном процесс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324000" y="90792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дачи ОУ по совместной деятельности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 родителями до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Багетная рамка 3"/>
          <p:cNvSpPr/>
          <p:nvPr/>
        </p:nvSpPr>
        <p:spPr>
          <a:xfrm>
            <a:off x="1857240" y="785880"/>
            <a:ext cx="5500800" cy="1428840"/>
          </a:xfrm>
          <a:prstGeom prst="bevel">
            <a:avLst>
              <a:gd name="adj" fmla="val 12500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Организация взаимодействия        </a:t>
            </a:r>
            <a:br>
              <a:rPr sz="2200"/>
            </a:br>
            <a:r>
              <a:rPr b="1" i="1" lang="ru-RU" sz="22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с родителями  (по В.А. Петровском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агетная рамка 4"/>
          <p:cNvSpPr/>
          <p:nvPr/>
        </p:nvSpPr>
        <p:spPr>
          <a:xfrm>
            <a:off x="468360" y="2571840"/>
            <a:ext cx="8104320" cy="785880"/>
          </a:xfrm>
          <a:prstGeom prst="bevel">
            <a:avLst>
              <a:gd name="adj" fmla="val 12500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Багетная рамка 5"/>
          <p:cNvSpPr/>
          <p:nvPr/>
        </p:nvSpPr>
        <p:spPr>
          <a:xfrm>
            <a:off x="428760" y="3500280"/>
            <a:ext cx="8143920" cy="785880"/>
          </a:xfrm>
          <a:prstGeom prst="bevel">
            <a:avLst>
              <a:gd name="adj" fmla="val 12500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рансляция родителям знаний о ребенке, которых они бы не могли получить в семье» - </a:t>
            </a:r>
            <a:r>
              <a:rPr b="1" lang="ru-RU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  сообщает об успехах и развитии дошкольника, особенностях общения его с другими детьми, результатах совместной деятельност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Багетная рамка 6"/>
          <p:cNvSpPr/>
          <p:nvPr/>
        </p:nvSpPr>
        <p:spPr>
          <a:xfrm>
            <a:off x="428760" y="4429080"/>
            <a:ext cx="8143920" cy="785880"/>
          </a:xfrm>
          <a:prstGeom prst="bevel">
            <a:avLst>
              <a:gd name="adj" fmla="val 12500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агетная рамка 7"/>
          <p:cNvSpPr/>
          <p:nvPr/>
        </p:nvSpPr>
        <p:spPr>
          <a:xfrm>
            <a:off x="428760" y="5357880"/>
            <a:ext cx="8143920" cy="785880"/>
          </a:xfrm>
          <a:prstGeom prst="bevel">
            <a:avLst>
              <a:gd name="adj" fmla="val 12500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овместное исследование и формирование личности ребенка» - </a:t>
            </a:r>
            <a:r>
              <a:rPr b="1" lang="ru-RU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лько теперь педагог, завоевавший доверие родителей при успешном проведении предыдущих этапов, может начинать осторожно давать советы родителям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84360" y="2699280"/>
            <a:ext cx="770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2060"/>
                </a:solidFill>
                <a:latin typeface="Times New Roman"/>
                <a:ea typeface="Calibri"/>
              </a:rPr>
              <a:t>«Трансляция родителям положительного образа ребенка» - </a:t>
            </a:r>
            <a:r>
              <a:rPr b="1" lang="ru-RU" sz="1300" spc="-1" strike="noStrike">
                <a:solidFill>
                  <a:srgbClr val="002060"/>
                </a:solidFill>
                <a:latin typeface="Times New Roman"/>
                <a:ea typeface="Calibri"/>
              </a:rPr>
              <a:t>педагог  никогда не жалуется на ребенка. Даже если он что-то натворил. Беседа проходит под  девизом: «Ваш ребенок лучше всех»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"/>
          <p:cNvSpPr/>
          <p:nvPr/>
        </p:nvSpPr>
        <p:spPr>
          <a:xfrm>
            <a:off x="539640" y="4401000"/>
            <a:ext cx="77774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2060"/>
                </a:solidFill>
                <a:latin typeface="Calibri"/>
                <a:ea typeface="Calibri"/>
              </a:rPr>
              <a:t>«</a:t>
            </a:r>
            <a:r>
              <a:rPr b="1" i="1" lang="ru-RU" sz="1300" spc="-1" strike="noStrike">
                <a:solidFill>
                  <a:srgbClr val="002060"/>
                </a:solidFill>
                <a:latin typeface="Times New Roman"/>
                <a:ea typeface="Calibri"/>
              </a:rPr>
              <a:t>Ознакомление педагога с проблемами</a:t>
            </a:r>
            <a:r>
              <a:rPr b="1" lang="ru-RU" sz="13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i="1" lang="ru-RU" sz="1300" spc="-1" strike="noStrike">
                <a:solidFill>
                  <a:srgbClr val="002060"/>
                </a:solidFill>
                <a:latin typeface="Times New Roman"/>
                <a:ea typeface="Calibri"/>
              </a:rPr>
              <a:t>семьи в воспитании и обучении ребенка</a:t>
            </a:r>
            <a:r>
              <a:rPr b="1" i="1" lang="ru-RU" sz="1300" spc="-1" strike="noStrike">
                <a:solidFill>
                  <a:srgbClr val="002060"/>
                </a:solidFill>
                <a:latin typeface="Calibri"/>
                <a:ea typeface="Calibri"/>
              </a:rPr>
              <a:t>»</a:t>
            </a:r>
            <a:r>
              <a:rPr b="1" i="1" lang="ru-RU" sz="13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1300" spc="-1" strike="noStrike">
                <a:solidFill>
                  <a:srgbClr val="002060"/>
                </a:solidFill>
                <a:latin typeface="Times New Roman"/>
                <a:ea typeface="Calibri"/>
              </a:rPr>
              <a:t>- здесь активная роль принадлежит родителям, педагог только поддерживает диалог. Не давая оценочных суждений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0" name="Содержимое 2"/>
          <p:cNvSpPr/>
          <p:nvPr/>
        </p:nvSpPr>
        <p:spPr>
          <a:xfrm>
            <a:off x="642960" y="1428840"/>
            <a:ext cx="822960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8"/>
          <p:cNvSpPr/>
          <p:nvPr/>
        </p:nvSpPr>
        <p:spPr>
          <a:xfrm>
            <a:off x="684360" y="3715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Современные  формы работы 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8"/>
          <p:cNvSpPr/>
          <p:nvPr/>
        </p:nvSpPr>
        <p:spPr>
          <a:xfrm>
            <a:off x="971640" y="1916280"/>
            <a:ext cx="756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1. ИНФОРМАЦИОННО – ПРОСВЕТИТЕЛЬ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2. РАЗВИВАЮЩЕЕ ОБЩЕСТВЕННОЕ УПРАВЛЕ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3. ТРАДИЦИО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4 ИНТЕРАКТИВНЫ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5. ТВОРЧЕСКО – ПРОДУКТИВНЫ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6. ОБРАТНАЯ СВЯЗ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5" name="Содержимое 2"/>
          <p:cNvSpPr/>
          <p:nvPr/>
        </p:nvSpPr>
        <p:spPr>
          <a:xfrm>
            <a:off x="642960" y="1428840"/>
            <a:ext cx="822960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8"/>
          <p:cNvSpPr/>
          <p:nvPr/>
        </p:nvSpPr>
        <p:spPr>
          <a:xfrm>
            <a:off x="684360" y="3715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7"/>
          <p:cNvSpPr/>
          <p:nvPr/>
        </p:nvSpPr>
        <p:spPr>
          <a:xfrm>
            <a:off x="395280" y="1268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ИНФОРМАЦИОННО – ПРОСВЕТИТЕЛЬ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9"/>
          <p:cNvSpPr/>
          <p:nvPr/>
        </p:nvSpPr>
        <p:spPr>
          <a:xfrm>
            <a:off x="468360" y="2276640"/>
            <a:ext cx="806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ЕЧЕР ВОПРОСОВ И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ЖУРНАЛ – ГАЗЕТА 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НФОРМАЦИОННЫЕ САЙ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ЕМАТИЧЕСКИЕ КОНСУЛЬТ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УКЛЕТЫ, ПАМЯТКИ , БРОШЮ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ОДИТЕЛЬСКИЕ СОБР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71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684360" y="3715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7"/>
          <p:cNvSpPr/>
          <p:nvPr/>
        </p:nvSpPr>
        <p:spPr>
          <a:xfrm>
            <a:off x="250920" y="692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РАЗВИВАЮЩЕЕ ОБЩЕСТВЕННОЕ УПР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9"/>
          <p:cNvSpPr/>
          <p:nvPr/>
        </p:nvSpPr>
        <p:spPr>
          <a:xfrm>
            <a:off x="611280" y="227664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ОВЕТ РОД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УЧАСТИЕ РОДИТЕЛЕЙ В ПЕДАГОГИЧЕСКИХ СОВЕ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ВОРЧЕСКАЯ ГРУП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НИЦИАТИВНАЯ ГРУП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013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76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684360" y="3715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7"/>
          <p:cNvSpPr/>
          <p:nvPr/>
        </p:nvSpPr>
        <p:spPr>
          <a:xfrm>
            <a:off x="395280" y="1268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ТРАДИЦИОННЫЕ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8"/>
          <p:cNvSpPr/>
          <p:nvPr/>
        </p:nvSpPr>
        <p:spPr>
          <a:xfrm>
            <a:off x="611280" y="1996920"/>
            <a:ext cx="624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диционные фор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ятся на следующие груп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ллек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одительские собрания, групповые консультации, конферен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индивидуальные консультации, бесе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гляд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апки – передвижки, стенды, выставки, фото, дни открытых дверей.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013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1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8"/>
          <p:cNvSpPr/>
          <p:nvPr/>
        </p:nvSpPr>
        <p:spPr>
          <a:xfrm>
            <a:off x="684360" y="3715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7"/>
          <p:cNvSpPr/>
          <p:nvPr/>
        </p:nvSpPr>
        <p:spPr>
          <a:xfrm>
            <a:off x="395280" y="1268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ИНТЕРАКТИ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9"/>
          <p:cNvSpPr/>
          <p:nvPr/>
        </p:nvSpPr>
        <p:spPr>
          <a:xfrm>
            <a:off x="900000" y="1989000"/>
            <a:ext cx="595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ИКТОР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ИСКУССИОННЫЙ КРУГЛЫЙ СТ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РЕНИН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АСТЕР – КЛА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ЕЗЕНТАЦИЯ  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ОМАШНЯЯ ИГРОТЕКА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ФЕДЕРАЛЬНЫЙ ЗАКОН РФ 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"ОБ ОБРАЗОВАНИИ В РОССИЙСКОЙ ФЕДЕРАЦИИ"</a:t>
            </a: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br>
              <a:rPr sz="5400"/>
            </a:br>
            <a:endParaRPr b="0" lang="en-US" sz="24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татья 64. Дошкольное образова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.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Дошкольное образов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направлено на формирование общей культуры, развитие физических, интеллектуальных, нравственных, эстетических и личностных качеств, формирование предпосылок учебной деятельности, сохранение и укрепление здоровья дете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.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Родители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(законные представители) несовершеннолетних обучающихся, обеспечивающие получение детьми дошкольного образования в форме семейного образования,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имеют право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на получение методической, психолого-педагогической, диагностической и консультативной помощи без взимания платы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, в том числе в дошкольных образовательных организациях и общеобразовательных организациях, если в них созданы соответствующие консультационные центры. Обеспечение предоставления таких видов помощи осуществляется органами государственной власти субъектов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013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6" name="Заголовок 1"/>
          <p:cNvSpPr/>
          <p:nvPr/>
        </p:nvSpPr>
        <p:spPr>
          <a:xfrm>
            <a:off x="324000" y="426960"/>
            <a:ext cx="655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ТВОРЧЕСКО – ПРОДУКТИ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684360" y="3715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7"/>
          <p:cNvSpPr/>
          <p:nvPr/>
        </p:nvSpPr>
        <p:spPr>
          <a:xfrm>
            <a:off x="395280" y="1268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9"/>
          <p:cNvSpPr/>
          <p:nvPr/>
        </p:nvSpPr>
        <p:spPr>
          <a:xfrm>
            <a:off x="900000" y="1700280"/>
            <a:ext cx="748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ВОРЧЕСКАЯ МАСТЕР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ЗГОТОВЛЕНИЕ НЕТРАДИЦИОННОГО ОБОРУДОВАНИЯ ПРИ ОРГАНИЗАЦИИ РАЗВИВАЮЩЕЙ СРЕ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УТРЕННИКИ, СОВМЕСТНЫЕ ПРАЗДНИКИ, ГДЕ РОДИТЕЛИ В РОЛИ ПЕРСОНАЖЕЙ НА ПРАЗДНИ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ЕМАТИЧЕСКИЕ ВЕЧЕРА (БАБУШКИНЫ ПОСИДЕЛКИ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ХОДЫ, ЭКСКУР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013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91" name="Заголовок 1"/>
          <p:cNvSpPr/>
          <p:nvPr/>
        </p:nvSpPr>
        <p:spPr>
          <a:xfrm>
            <a:off x="324000" y="426960"/>
            <a:ext cx="655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8"/>
          <p:cNvSpPr/>
          <p:nvPr/>
        </p:nvSpPr>
        <p:spPr>
          <a:xfrm>
            <a:off x="684360" y="3715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7"/>
          <p:cNvSpPr/>
          <p:nvPr/>
        </p:nvSpPr>
        <p:spPr>
          <a:xfrm>
            <a:off x="395280" y="1268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9"/>
          <p:cNvSpPr/>
          <p:nvPr/>
        </p:nvSpPr>
        <p:spPr>
          <a:xfrm>
            <a:off x="179280" y="620640"/>
            <a:ext cx="568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ОБРАТНАЯ СВЯЗ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0"/>
          <p:cNvSpPr/>
          <p:nvPr/>
        </p:nvSpPr>
        <p:spPr>
          <a:xfrm>
            <a:off x="611280" y="1773360"/>
            <a:ext cx="624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НКЕТ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ЭКСПРЕСС – 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НИГА ДОВЕРИЯ, ПОЧТА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ЖУРНАЛ «ВАШЕ МНЕНИЕ ВАЖНО ДЛЯ НА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ЕСЕДА, НАБЛЮ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ЕЙТИНГ МЕРОПРИЯТИЙ НА СА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НЕВНИК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НФОРМАЦИОННАЯ КОРЗ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013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97" name="Заголовок 1"/>
          <p:cNvSpPr/>
          <p:nvPr/>
        </p:nvSpPr>
        <p:spPr>
          <a:xfrm>
            <a:off x="324000" y="426960"/>
            <a:ext cx="655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684360" y="3715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7"/>
          <p:cNvSpPr/>
          <p:nvPr/>
        </p:nvSpPr>
        <p:spPr>
          <a:xfrm>
            <a:off x="395280" y="1268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9"/>
          <p:cNvSpPr/>
          <p:nvPr/>
        </p:nvSpPr>
        <p:spPr>
          <a:xfrm>
            <a:off x="179280" y="6206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ПРИЕМЫ ВЗАИМОДЕЙСТВИЯ С РОДИТЕЛ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0"/>
          <p:cNvSpPr/>
          <p:nvPr/>
        </p:nvSpPr>
        <p:spPr>
          <a:xfrm>
            <a:off x="611280" y="1773360"/>
            <a:ext cx="624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оброжелательный стиль общения педагога с родителе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ндивидуальный подх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отрудниче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готовимся серьез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инам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7"/>
          <p:cNvSpPr/>
          <p:nvPr/>
        </p:nvSpPr>
        <p:spPr>
          <a:xfrm>
            <a:off x="900000" y="836640"/>
            <a:ext cx="727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Организация работы с семьей – это длительный процесс и очень кропотливый труд, не имеющий готовых технологий и рецептов. Её успех определяется интуицией, инициативой, терпением педагога и его умением неуклонно следовать выбранной ц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C:\Users\Поляковы\Desktop\img26.jpg"/>
          <p:cNvPicPr/>
          <p:nvPr/>
        </p:nvPicPr>
        <p:blipFill>
          <a:blip r:embed="rId1"/>
          <a:stretch/>
        </p:blipFill>
        <p:spPr>
          <a:xfrm>
            <a:off x="250920" y="380880"/>
            <a:ext cx="86421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C:\Users\Поляковы\Desktop\img27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" descr="C:\Users\Поляковы\Desktop\img28.jpg"/>
          <p:cNvPicPr/>
          <p:nvPr/>
        </p:nvPicPr>
        <p:blipFill>
          <a:blip r:embed="rId1"/>
          <a:stretch/>
        </p:blipFill>
        <p:spPr>
          <a:xfrm>
            <a:off x="507960" y="692280"/>
            <a:ext cx="84567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 проявление у родителей интереса к содержанию образовательного процесса с детьми; возникновение дискуссий, диспутов по их инициативе; ответы на вопросы родителей ими самими; приведение примеров из собственного опыта; увеличение количества вопросов к педагогу, касающихся личности ребенка, его внутреннего мира; стремление взрослых к индивидуальным контактам с воспитателем; размышление родителей о правильности использования тех или иных методов воспитания; повышение их активности при анализе педагогических ситуаций, решение задач и обсуждение дискуссионных вопросов.   "/>
          <p:cNvPicPr/>
          <p:nvPr/>
        </p:nvPicPr>
        <p:blipFill>
          <a:blip r:embed="rId1"/>
          <a:stretch/>
        </p:blipFill>
        <p:spPr>
          <a:xfrm>
            <a:off x="250920" y="620640"/>
            <a:ext cx="87138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1"/>
          <p:cNvSpPr/>
          <p:nvPr/>
        </p:nvSpPr>
        <p:spPr>
          <a:xfrm>
            <a:off x="971640" y="692280"/>
            <a:ext cx="720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ные функции семьи и ОУ различны, но для всестороннего развития личности ребёнка необходимо их взаимодейств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ым условием преемственности является установление доверительного делового контакта между семьей и дошкольным учрежд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 разнообразных форм работы помогает родителям  из «зрителей» и «наблюдателей»                    становиться  активными  участниками  образовательного и воспитательного процесса их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357120" y="164304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b5395"/>
                </a:solidFill>
                <a:latin typeface="Georgia"/>
              </a:rPr>
              <a:t>БЛАГОДАРЮ ЗА ВНИМАНИЕ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00720" y="1033920"/>
            <a:ext cx="4186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5" name="Picture 2" descr="C:\Users\Поляковы\Desktop\img7.jpg"/>
          <p:cNvPicPr/>
          <p:nvPr/>
        </p:nvPicPr>
        <p:blipFill>
          <a:blip r:embed="rId1"/>
          <a:stretch/>
        </p:blipFill>
        <p:spPr>
          <a:xfrm>
            <a:off x="468360" y="692280"/>
            <a:ext cx="835164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Trebuchet MS"/>
              </a:rPr>
              <a:t>Блиц опрос «Методика  организации двигательной активности  дошкольников»</a:t>
            </a:r>
            <a:endParaRPr b="0" lang="en-US" sz="18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1. Назовите основные виды движен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2.Назовите строевые упражнения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3. Какие вы знаете спортивные упражнения?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4.  Назовите виды подвижных игр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5.  Важно соблюдать все 5 этапов организации прогулки. Назовите их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6. Детский туризм это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 Это является для ребенка особым радостным событием, сюда входят разнообразные физические упражнения и веселые подвижные игры, включаются движения, предварительно разученные на физкультурном заняти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8. Одна из основных моделей организации образовательного процесса детей дошкольного возраста. Условия - создание педагогами предметно-развивающей образовательной среды  позволяющей ему взаимодействовать со сверстниками или действовать индивидуально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9.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Служит удовлетворению потребности дошкольника в движении, имеет определённую наполняемость соответствующую возрасту детей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rebuchet MS"/>
              </a:rPr>
              <a:t>Принятие  решения педагогического совета</a:t>
            </a:r>
            <a:endParaRPr b="0" lang="en-US" sz="2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773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править усилия педагогического коллектива на повышение уровня работы с родителя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особствовать поиску и освоению новых подходов в работе с родителями через проведение проектной деятельности с целью эффективного решения задач физического воспитания и оздоровления воспитанников. Закрепить теоретические знания и практические навыки педагогов по работе с родителя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rebuchet MS"/>
              </a:rPr>
              <a:t>ФГОС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90756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В соответствии с ФГОС дошкольное учреждение  обязана 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информировать родителей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(законных представителей) и 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общественность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относительно целей дошкольного образования, общих для всего образовательного пространства Российской Федерации, а также о Программе, и не только семье, но и всем заинтересованным лицам, вовлечённым в образовательную деятельность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обеспечить открытость дошкольного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создавать условия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 для участия родителей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(законных представителей) в образовательной деятельности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поддерживать родителей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(законных представителей) в воспитании детей, охране и укреплении их здоровья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обеспечить вовлечение семей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непосредственно в образовательную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деятельность, в том числе посредством создания образовательных проектов совместно с семьёй на основе выявления потребностей и поддержки образовательных инициатив семьи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создавать условия для взрослых по поиску, использованию материалов, обеспечивающих реализацию Программы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, в том числе в информационной среде, а также для обсуждения с родителями (законными представителями) детей вопросов, связанных с реализацией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ЕМЕЙНЫЙ КОДЕКС Р.Ф. СТ. 63</a:t>
            </a: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br>
              <a:rPr sz="5400"/>
            </a:br>
            <a:endParaRPr b="0" lang="en-US" sz="24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77300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1.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Georgia"/>
              </a:rPr>
              <a:t>Родители</a:t>
            </a: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 имеют право и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Georgia"/>
              </a:rPr>
              <a:t>обязаны воспитывать своих детей</a:t>
            </a: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.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Georgia"/>
              </a:rPr>
              <a:t>Родители несут ответственность за воспитание и развитие своих детей. Они обязаны заботиться о здоровье, физическом, психическом, духовном и нравственном развитии своих детей.</a:t>
            </a: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 Родители имеют преимущественное право на обучение и воспитание своих детей перед всеми другими лицами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4720" indent="-227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2. Родители обязаны обеспечить получение детьми общего образования. Родители имеют право выбора образовательной организации, формы получения детьми образования и формы их обучения с учетом мнения детей до получения ими основного общего образования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.</a:t>
            </a:r>
            <a:br>
              <a:rPr sz="4400"/>
            </a:b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br>
              <a:rPr sz="5400"/>
            </a:br>
            <a:endParaRPr b="0" lang="en-US" sz="24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05228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Семья и дошкольное учреждение - два важных института развития и воспитания детей. Их воспитательные функции различны, но для всестороннего развития ребенка необходимо их взаимодействие. В дошкольном учреждение ребенок получает образование, приобретает умение взаимодействовать с другими детьми и взрослыми, организовывать собственную деятельность. Но, насколько эффективно ребенок будет овладевать этими навыками, зависит от отношения семьи к дошкольному учреждению. Гармоничное развитие дошкольника без активного участия его родителей в образовательном процессе невозможно.    Роль семьи в воспитании и развитии ребенка  нельзя недооценива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br>
              <a:rPr sz="5400"/>
            </a:br>
            <a:endParaRPr b="0" lang="en-US" sz="24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3" name="Содержимое 2" descr=""/>
          <p:cNvPicPr/>
          <p:nvPr/>
        </p:nvPicPr>
        <p:blipFill>
          <a:blip r:embed="rId1"/>
          <a:stretch/>
        </p:blipFill>
        <p:spPr>
          <a:xfrm>
            <a:off x="450720" y="974880"/>
            <a:ext cx="8291520" cy="56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br>
              <a:rPr sz="5400"/>
            </a:br>
            <a:endParaRPr b="0" lang="en-US" sz="24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5" name="Содержимое 2" descr=""/>
          <p:cNvPicPr/>
          <p:nvPr/>
        </p:nvPicPr>
        <p:blipFill>
          <a:blip r:embed="rId1"/>
          <a:stretch/>
        </p:blipFill>
        <p:spPr>
          <a:xfrm>
            <a:off x="450720" y="974880"/>
            <a:ext cx="8364600" cy="56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4617b"/>
                </a:solidFill>
                <a:latin typeface="Trebuchet MS"/>
              </a:rPr>
              <a:t>Функции</a:t>
            </a:r>
            <a:r>
              <a:rPr b="0" lang="ru-RU" sz="2000" spc="-1" strike="noStrike">
                <a:solidFill>
                  <a:srgbClr val="04617b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rebuchet MS"/>
              </a:rPr>
              <a:t>взаимодействия образовательного учреждения с семьей:</a:t>
            </a:r>
            <a:endParaRPr b="0" lang="en-US" sz="2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лого-педагогическое просвещение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влечение родителей в совместную с детьми и педагогами деятельность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мощь семьям, испытывающим какие-либо трудности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заимодействие педагогов с общественными организациями родителей – родительский комитет, Совет ОУ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1:31:45Z</dcterms:created>
  <dc:creator>Admin</dc:creator>
  <dc:description/>
  <dc:language>en-US</dc:language>
  <cp:lastModifiedBy>Поляковы</cp:lastModifiedBy>
  <dcterms:modified xsi:type="dcterms:W3CDTF">2022-10-17T07:36:47Z</dcterms:modified>
  <cp:revision>118</cp:revision>
  <dc:subject/>
  <dc:title>« Заикание у дошкольников»</dc:title>
</cp:coreProperties>
</file>