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9E5-592F-4384-A83F-A5016C34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3C3-B5E6-4D9D-A95D-BC9E48F7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7AC-3DC2-4515-BB43-E8B0D6DA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5F8-79BF-44FD-8CBD-A2F75EB8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DA24-C0EE-4C85-BA4B-FB0D080C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6F74-7354-43A1-B14E-055AFEB8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1151-DB16-49E6-9C1C-1BF52236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2BCB-944E-4A1A-B3D3-D8A1005A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A9E7-ECE0-46FE-A1C7-732E8ADC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6DF7-3FA5-4BEF-8E87-D92ACE06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9D23-986F-469F-9AA1-6159CA72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6D9-7D1B-4151-BC7A-6F143133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A242-457E-4660-9D40-501CF92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8B4A-39BE-4A2E-ABFB-0FD0E75E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E5DE-6FCD-4E49-BBD4-2E003E18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B340-64F5-4353-92D5-B832A974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D923-88EE-4C00-8C0B-863AF674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CAA-4159-4629-899D-8BB5C282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203-DF9C-4C67-84CA-D8A50A46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7FC-CAAE-4A25-BC88-EB7093AB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5A7-FFC3-44CF-8EC5-2C0C968F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867-5DCF-4369-B51C-585B1B66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26E-882D-4217-A18D-B1628B15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57F-3722-42EE-B66D-A62302E5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AB5E-747E-4A70-A0B6-DC91467793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67B5-F30F-47B1-B14C-C84ACE5BEC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otvoyna.ru/vorochilov.htm" TargetMode="External"/><Relationship Id="rId3" Type="http://schemas.openxmlformats.org/officeDocument/2006/relationships/hyperlink" Target="http://www.otvoyna.ru/vorochilov.htm" TargetMode="External"/><Relationship Id="rId4" Type="http://schemas.openxmlformats.org/officeDocument/2006/relationships/hyperlink" Target="http://www.otvoyna.ru/vorochilov.htm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otvoyna.ru/chuykov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tvoyna.ru/vasilevskiy.htm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tvoyna.ru/konev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tvoyna.ru/eremenko.htm" TargetMode="External"/><Relationship Id="rId2" Type="http://schemas.openxmlformats.org/officeDocument/2006/relationships/hyperlink" Target="http://www.otvoyna.ru/statya74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tvoyna.ru/rokossovskiy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tvoyna.ru/malinovskiy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tvoyna.ru/bagraman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tvoyna.ru/govorov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tvoyna.ru/merezkov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tvoyna.ru/tolbuxin.htm" TargetMode="External"/><Relationship Id="rId2" Type="http://schemas.openxmlformats.org/officeDocument/2006/relationships/hyperlink" Target="http://www.otvoyna.ru/tolbuxin.htm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tvoyna.ru/vatutin.htm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tvoyna.ru/chernixovskiy.htm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tvoyna.ru/jukov.h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tvoyna.ru/timochenko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Герои Великой Отечественной войны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к 9 клас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остин Пав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34-1940 гг. – нарком обороны СССР. В 1941-1944 гг. – член ГКО. До сентября 1941 г. – Главнокомандующий войсками Северо-Западного направления. В сентябре 1941 г. командовал войсками Ленинградского фронта. Сентябрь 1941 г. – февраль 1942 г. – представитель Ставки ВГК по формированию войсковых соединений (резервов). Февраль-сентябрь 1942 г. – представитель Ставки ВГК на Волховском фронте. Сентябрь 1942 г. – май 1943 г. – главнокомандующий партизанским движением. Май-сентябрь 1943 г. – председатель Трофейного комитета при ГКО. Сентябрь 1943 г. – июнь 1944 г. – председатель Комиссии по вопросам перемирия. В 1943 г. участвовал в работе Тегеранской конферен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41 г. под Ленинградом как командующий фронтом не смог остановить наступления немцев. В январе 1943 г. координировал действия войск Ленинградского и Волховского фронтов при прорыве блокады Ленингра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граждён 8-ю орденами Ленина, 6-ю орденами Красного Знамени, орденом Суворова 1-й степени, другими советскими и иностранными орденами и медалями. Дважды Герой Советского Союза, Герой Социалистического Труда, «Маршал Советского Союза» (1935 г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Ворошилов"/>
          <p:cNvPicPr/>
          <p:nvPr/>
        </p:nvPicPr>
        <p:blipFill>
          <a:blip r:embed="rId1"/>
          <a:stretch/>
        </p:blipFill>
        <p:spPr>
          <a:xfrm>
            <a:off x="250920" y="260280"/>
            <a:ext cx="817560" cy="11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9480" y="385560"/>
            <a:ext cx="526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Ворошилов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Климент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 Ефремович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1881-1969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Чуйков Василий Ива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900-1982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советско-финской войны 1939-1940 гг. командовал 9-й армией. 1940-1942 гг. – военный атташе в Китае. С сентября 1942 г. и до конца войны командовал 62-й (с апреля 1943 г. 8-й гвардейской) армией. С 1949 г. командовал группой советских войск в Германии, командующий войсками Киевского военного фро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андовал 62-ой армией в Сталинградской битве. Армия под командованием Чуйкова участвовала в Изюм-Барвенковской и Донбасской операциях, в битве за Днепр, Никопольско-Криворожской, Березнеговато-Снегиревской, Одесской, Белорусской, Варшавско-Познанской и Берлинской операц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гражден 9 орденами Ленина, орденом Октябрьской Революции, 4 орденами Красного Знамени (2 из них за гражданскую войну), 3 орденами Суворова 1-й степени, орденом Красной Звезды, Почетным именным оружием, иностранными орденами. В 1955 г. – присвоено звание Маршала Советского Союза. В 1944, 1945 гг. – присвоены звания Героя Советского Союз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Чуйков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Василевский Александр Михайл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985-1977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мая 1940 г. заместитель начальника, с августа 1941 г. начальник Оперативного управления, заместитель и первый заместитель начальника Генштаба. С июня 1942 г. – начальник Генерального штаба и заместитель наркома обороны. В феврале 1945 г. введён в Ставку и назначен командующим 3-м Белорусским фронтом и 1-м Прибалтийским. В июне 1945 г. назначен главнокомандующим советскими войсками на Дальнем Востоке и руководил ими в советско-японской войне 1945 г. В 1942-1944 гг. координировал действия фронтов: Юго-Западного, Донского и Сталинградского, Воронежского и Степного — в Курской битве 1943 г.; Юго-Западного и Южного — при освобождении Донбасса летом 1943 г.; 1943 г. – Острогожско–Россошанская наступательная операция. 4-го Украинского фронта и Черноморского флота при освобождении Крыма весной 1944 г.; 3-го и 4-го Украинских фронтов в операциях на Правобережной Украине; 3-го Белорусского, 1-го и 2-го Прибалтийских фронтов в операциях по освобождению Белоруссии, Латвии и Литвы летом 1944 г. 16 февраля1943 г. присвоено звание Маршала Советского Союза. В 1944 г. награжден орденом "Победа". 29 июля 1944 г. присвоено звание Героя Советского Союза. 8 сентября 1945 г. получил Золотую звезду героя Советского Союза. Награжден также 8-ю орденами Ленина, орденом Октябрьской Революции. Награждён также 2-мя орденами Красного Знамени, орденом Суворова 1-й степени, орденом Красной Звезды, 28-ю иностранными наградами (в том числе 18 иностранных орденов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Василевский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онев Иван Степа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7-1973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40–1941 гг. командовал войсками Забайкальского и Северо-Кавказского военных округов. Командовал 19-й армией, был командующим многими фронтами: Западного (с сентября до 10 октября 1941 года, с августа 1942 года по февраль 1943 года), Калининского (с 17 октября 1941 года), Северо-Западного (с марта 1943 года), Степного (с июля 1943 года), 2-го Украинского (с октября 1943 года) и 1-го Украинского (с мая 1944 года по май 1945 года). В 1946-1948 гг. главнокомандующий Сухопутными войсками — 1-й зам. министра обороны, с 1950 г. главный инспектор Советской Армии — зам. министра обороны. Войска под командованием И.С.Конева участвовали в битве под Москвой, Курской битве, в освобождении Правобережной Украины, в Восточно-Карпатской, Висло-Одерской, Берлинской и Пражской операциях За образцовое руководство войсками дважды Герой Советского Союза (29 июля 1944 года и 1 июня 1945 года) Маршал Советского Союза (20 февраля 1944 года). И.С. Конев был награжден высшим военным орденом СССР «Победа», награжден 6 орденами Ленина, орденом Октябрьской Революции, 3 орденами Красного Знамени, 2 орденами Суворова 1-й степени, 2 орденами Кутузова 1-й степени, орденом Красной Звезды, 13 иностранными орденами, медалями, званием Герой МНР (1971 год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Конев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Еременко Андрей Ива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2-1970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2 июня 1941 г. Еременко получил назначение на должность командующего Западным фронтом. В начале августа 1941 г. назначается командующим вновь созданным Брянским фронтом. В конце декабря 1941 г., назначается командующим войсками 4-й Ударной армии. В феврале 1943 г. был назначен командующим Юго-Восточным фронтом, позднее переименованным в Сталинградский фронт. В 1943 г. назначен командующим Приморской армией в Крыму. 18 апреля 1944 г. назначен командующим 2-м Прибалтийским фронтом. В марте 1945 г. назначен командующим 4-м Украинским фронтом. В октябре 1941 г. войска Брянского фронта под командованием Ерёменко попали в окружение восточнее Брянска. В 1942 г. осуществляет Торопецкую и Вележскую армейские операции. Ноябрь 1942 г. операция «Уран» - окружение группировки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Паулюс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1943 г. успешное наступление в районе Невеля. 1943 г. Смоленская операция. Февраль 1944 г. – Крымская операция. Участвовал в блокировании Курляндской группировки врага. Операции 2-го Прибалтийского фронта в 1944 г. Осень 1944 г. – освобождение Риги. В 1945 г. участвовал в освобождение Чехословакии. В 1955 г. присвоено звание Маршала Советского Союза. Награжден пятью орденами Ленина, четырьмя орденами Красного Знамени, тремя орденами Суворова 1-й степени, орденом Кутузова 1-й степени. За успехи в операциях 2-го Прибалтийского фронта при освобождении Прибалтики Еременко было присвоено звание Героя Советского Союза и воинское звание генерал армии. В 1945 г. присвоено звание Героя Чехословацкой Социалистической Республики за участие в освобождении Чехословак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Ерёменко"/>
          <p:cNvPicPr/>
          <p:nvPr/>
        </p:nvPicPr>
        <p:blipFill>
          <a:blip r:embed="rId3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Рокоссовский Константин Константи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6-1968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40 г. назначают командиром 5-го кавалерийского корпуса в Пскове, затем командиром 9-го мехкорпуса. В июле 1941 г. направлен на Западный фронт. С августа 1941 г. командовал 16-й армией. В июле 1942 г. был назначен командующим Брянским фронтом, с сентября - командующим Донским фронтом. С февраля 1943 г. – Центральным, с октября – Белорусским, с февраля 1944 г. – 1-м Белорусским, с ноября 1944 г. по июнь 1945 г. – 2-м Белорусским фронтами. В 1940 г. принимает участие в руководстве войсками при походе и освобождении Бессарабии. Успешно действовал в районе Луцка и Новгород–Волынска. В 1943 г. участвует в разгроме группы немецких армий "Центр" на Орловском направлении во время Курского сражения. Осенью 1943 г. он проводит Черниговско–Припятскую фронтовую операцию. В 1944 г. Рокоссовский проводит совместно с другими фронтами стратегическую операцию "Багратион" по освобождению Белоруссии. Разрабатывает и проводит Люблинско–Брестскую операцию. В 1940 г. награжден орденом Красного Знамени. Маршал советского Союза, Маршал Польши дважды Герой Советского Союза, 7 орденов Ленина, орден "Победы", 6 орденов Красного Знамени, ордена Суворова и Кутузова 1-й степени, медали и иностранные ордена. Командовал Парадом Победы 24 июня 1945 г. в Москв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Рокоссовский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Малиновский Родион Яковле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8-1967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арте 1941 года был назначен командиром 48-го стрелкового корпуса - войну встретил на границе по реке Прут. В августе 1941 г. стал командующим 6-й армией. В декабре 1941 г. он вступил в должность командующего Южным фронтом. С августа по октябрь 1942 г. Малиновский командовал 66-й армией, сражавшейся севернее Сталинграда. В том же году, в октябре-ноябре был заместителем командующего Воронежским фронтом. В феврале Малиновского назначили командующим Южным фронтом, а с марта того же года – командующим Юго-Западным фронтом (с 20 октября 1943 года – 3-й Украинский фронт). В мае 1944 г. Малиновского назначили командующим 2-м Украинским фронтом. С июля 1945 г. Р.Я. Малиновский - командующий Забайкальским фронтом. Войска под его командованием участвовали в освобождении Ростова и Донбасса (1943 г.), Левобережной и Правобережной Украины. Одной из самых крупных операций, подготовленной и проведенной Р.Я. Малиновским в годы Великой Отечественной войны, стала Запорожская. Весной 1944 г. фронт Малиновского успешно провел наступление в Северном Причерноморье, Березнеговато-Снигиревскую и Одесскую операции (10.04.1944 г. освобождена Одесса). В том же году Ясско-Кишиневская операция. В октябре 1944 г. – феврале 1945 г. Будапештская операция. За Ясско-Кишиневскую операцию он в 1944 году получил звание Маршала Советского Союза. За победу в советско-японской войне 1945 года Маршал Малиновский был удостоен звания Героя Советского Союза (8 сентября 1945 год) и награжден высшим советским военным орденом "Победа". Дважды Герой Советского Союза. Имеет награды: 5 орденов Ленина, 3 ордена Красного Знамени, 2 ордена Суворова 1-й степени, Орден Кутузова 1-й степени, медали СССР, иностранные наград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Малиновский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Баграмян Иван Христофор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7-1982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юнь-декабрь 1941 г. – заместитель начальника штаба и начальник оперативного отдела штаба Юго-Западного фронта, начальник оперативной группы Юго-Западного направления (до марта 1942 г.). До июня 1942 г. – начальник штаба Юго-Западного фронта. С июня 1942 г. по ноябрь 1943 г. – командующий 16-й армией (преобразованной в 11-ю гвардейскую) Западного фронта. С ноября 1943 г. командовал 1-м Прибалтийским фронтом, с февраля 1945 г. – Земландской группой войск, с апреля 1945 г. – 3-м Белорусским фронтом. Участвовал в организации танкового сражения в районе Дубно, Ровно, Луцк. В 1941 г. Со штабом фронта вышел из окружения. В 1941 г. разрабатывал план освобождения Ростов-на-Дону. В 1942 г. – неудачная Харьковская операция. Командовал 11-й армией в зимнем наступлении 1942-1943 гг. на Западном направлении. В июле 1943 г. подготовил и провел наступательную операцию в составе войск Брянского фронта на орловском направлении. 1-й Прибалтийского фронт под командованием Баграмяна провёл: в декабре 1943 г. – Городокскую; летом 1944 г. – Витебско-Оршанскую, Полоцкую и Шяуляйскую; в сентябре-октябре 1944 г. (совместно с 2-м и 3-м Прибалтийскими фронтами) – Рижскую и Мемельскую; в 1945 г. (в составе 3-го Белорусского фронта) – операции по овладению Кенигсбергом, Земландским полуостровом. Награждён: 2 Золотые Звезды Героя Советского Союза, 7 орденов Ленина, орден Октябрьской Революции, 3 ордена Красного Знамени, 2 ордена Суворова 1-й степени, орден Кутузова 1-й степени, орден «За службу Родине в Вооруженных Силах СССР» 3-й степени, 16 медалей; Почетную именную шашку с золотым Гербом СССР, 17 иностранных наград (в том числе 7 орденов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Баграмян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Говоров Леонид Александр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7-1955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июле 1941 г. – начальника артиллерии Западного направления, затем Резервного фронта, зам. командующего войсками Можайской линии обороны. В октябре 1941 г. – начальник артиллерии Западного фронта. Под Москвой командовал 5-й армией. В апреле 1942 г. командующий группой войск Ленинградского фронта. С июля 1942 г. – командующий Ленинградским фронтом. С октября 1944 г. одновременно координировал действия Ленинградского, 2-го и 3-го Прибалтийских фронтов. С февраля 1945 г. – командующий 2-м Прибалтийским и Ленинградским фронтами. После упразднения управления 2-го Прибалтийского фронта, командовал общим фронтом – Ленинградским. В 1941 г. успешно провёл Можайскую, Звенигородскую оборонительные операции, операции по освобождению Бородино. 670 из 900 блокадных дней руководил обороной Ленинграда. В январе 1943 г. руководил операциями по прорыву блокады Ленинграда (совместно с войсками Волховского фронта), в 1944 г. по снятию блокады. В 1944 г провёл Красносельско-Ропшинскую, Мгинскую, Новгородско-Лужскую, Выборгскую, Таллиннскую, Моонзундскую наступательные операции. Руководил окружением Курляндской группировки немцев и 8 мая 1945 г. принял её капитуляцию. Награждён 5 орденами Ленина, 3 орденами Красного Знамени, 2 орденами Суворова 1-й степени, орденами Кутузова 1-й степени, Красной Звезды, медалями и иностранными орденами. В 1945 г. присвоено звание Героя Советского Союза и награжден орденом «Победа». В 1944 г. присвоено звание Маршала Советского Союз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Говоров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Мерецков Кирилл Афанасье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7-1968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января 1941 г. – заместитель наркома обороны СССР. В августе – сентябре 1941 г. – представитель Ставки Северо-Западном и Карельском фронтах. С сентября 1941 г. командовал 7-й отд. армией, с ноября 1941 г. – 4-й армией. В мае – июне 1942 г. командовал 33-й армией. С декабря 1941 г. по февраль 1944 г. командовал войсками Волховского, в феврале – ноябре 1944 г. – Карельского фронтов, с апреля 1945 г. – Приморской группой войск. В августе 1945 г. – командующий войсками 1-го Дальневосточного фронта, участвовавшего в разгроме японских войск в Маньчжурии и Северной Корее. В 1941 г. – разгром немцев под Тихвином. В 1942 г во взаимодействии с Ленинградским фронтом осуществили Любанскую и Синявинскую операции, в январе 1943 г. – прорыв блокады Ленинграда, в 1944 г. – Новгородско-Лужскую операцию. В июне – августе 1944 г. командовал Свирско-Петрозаводскую операцией – освобождена Юж. Карелия, в октябре 1944 г. – Петсамо-Киркенесской – освобождены Заполярье и сев. часть Норвегии. В августе – сентябре 1945 г. – наступательная операция в Вост. Маньчжурии и Сев. Корее. Награды: 7 орденов Ленина, 4 ордена Красного Знамени, 2 ордена Суворова 1 степени, Орден Кутузова 1 степени, Орден Октябрьской Революции, Орден «Победа», иностранные ордена, медали, почетное оружие. Герой Советского Союза (21 марта 1940 г.). В 1944 г. присвоено звание Маршала Советского Союз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Мерецков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ечная Слава Героям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ечная слава! Вечная слава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ечная слава героям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лава героям! Слав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59280" y="4941720"/>
            <a:ext cx="2647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Толбухин</a:t>
            </a:r>
            <a:r>
              <a:rPr b="0" lang="ru-RU" sz="4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 Фёдор Иванович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(1894-1949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густ – декабрь 1941 г. – начальник штаба Закавказского, декабрь 1941 г. – январь 1942 г. – Кавказского, январь – март 1942 г. – Крымского фронтов. Май – июль 1942 г. – заместитель командующего войсками Сталинградского военного округа. Июль 1942 г. – февраль 1943 г. – командующий войсками 57-й армии на Сталинградском фронте, февраля 1943 г. – март 1943 г. – командующий 68-й армий на Северо-Западном фронте. С марта 1943 г. – командующий Южным (с октября 1943 г. 4-м Украинским), с мая 1944 г. по июнь 1945 г. – 3-м Украинским фронтами. Готовил план Керченско-Феодосийской десантной операции. Войска Толбухина участвовали : июль – август в 1943 г. Миусской операции, август – сентябрь 1943 г. в и, сентябрь – ноябрь 1943 г. в Мелитопольской операции, апрель – май 1944 г. в Крымской операции, август 1944 г. в Ясско-Кишинёвской операции, сентябрь 1944 г. в Румынской операции, октябрь 1944 г. в Белградской операции, октябрь 1944 г. – февраль 1945 г. в Будапештской операции, март 1945 г. в Балатонской операции, март – апрель 1945 г. в Венской операции. Награжден 2 орденами Ленина, орденом "Победа", 3 орденами Красного Знамени, 2 орденами Суворова 1-й степени, орденом Кутузова 1-й степени, орденом Красной Звезды и медалями, а также иностранными орденами и медалями. С сентября 1944 г. – Маршал Советского Союза. Звание Герой Советского Союза присвоено в 1965 г., посмерт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Толбухин"/>
          <p:cNvPicPr/>
          <p:nvPr/>
        </p:nvPicPr>
        <p:blipFill>
          <a:blip r:embed="rId3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Ватутин Николай Фёдор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901-1944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1940 г. – заместитель начальника Генерального Штаба. 30 июня 1941 г. назначен начальником штаба Северо-Западного фронта. В мае – июле 1942 г. – зам. начальника Генштаба, представитель Ставки на Брянском фронте. С июля 1942 г. – командующий войсками Воронежского фронта. С октября 1942 г. – командующий войсками Юго-Западного фронта. В марте 1943 г. был вновь назначен командующим войсками Воронежского фронта. В октябре 1943 г. назначен командующим 1-м Украинским фронтом (бывший Воронежский). В июне 1941 г. подготовил на Новгородском направлении контрудар под Сольцами. В октябре 1941 г. – контрудар в районе г. Калинина. Летом 1942 г. войска Воронежского фронта остановили немецкое наступление под Воронежем. В ноябре 1942 г. войска Юго-Западного фронта совместно со Сталинградским фронтом окружили немецкие дивизии в районе Калача и Советского. В декабре 1942 г. во взаимодействии с левым крылом Воронежского фронта войска Юго-Западного фронта провели успешную Среднедонскую операцию. Летом 1943 г. – оборонительные бои в Курской битве, большие потери. В августе 1943 г. в ходе Белгородско-Харьковской операции успешный прорыв глубоко эшелонированной обороны немцев. Осенью 1943 г. войска 1-го Украинского фронта, под командованием Ватутина, участвовали в битве за Днепр, освобождении Киева, Правобережной Украины. В январе – феврале 1944 г., совместно с войсками 2-го Украинского фронта, окружили и ликвидировали крупную группировку немцев в районе Корсунь-Шевченковского. Награжден орденом Ленина, орденами Красного Знамени, Суворова 1-й степени, Кутузова 1-й степени, чехословацким орденом. 6 мая 1965 г. присвоено звание Героя Советского Союза (посмертно). Умер 15 апреля 1944 г., после тяжёлого ране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Ватутин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Черняховский Иван Данил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906-1945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марта 1941 г. командир 28-й танковой дивизии (в декабре 1941 г. переформирована в 241-ю стрелковую) Прибалтийского Особого военного округа. Июнь – июль 1942 г. – командир 18-го танкового корпуса на Воронежском фронте. Июль 1942 г. – апрель 1944 г. – командующий войсками 60-й армии на Воронежском, Центральном и 1-м Украинском фронтах. С 15 апреля 1944 г. – командующий войсками Западного, а с 24 апреля 1944 г. – 3-го Белорусского фронтов. В 1941 г. оборонительные бои юго-западнее Шяуляя, на Западной Двине, под Сольцами и Новгородом. Начало 1942 г. – успешные бои на подступах к Воронежу. В 1943 г. – участие в Воронежско-Харьковской операции, Курской битве, форсировании рек Десна и Днепр, в Киевской, Житомирско-Бердичевской операциях. В 1944 г. – участие в Ровно-Луцкой, Черниговско-Припятской, Белорусской, Вильнюсской, Каунасской, Прибалтийской, Мемельской, Гумбинненской операциях. 1945 г. – Восточно-Прусская операция. Награжден орденом Ленина, 4 орденами Красного Знамени, 2 орденами Суворова 1-й степени, орденами Кутузова 1-й степени, Богдана Хмельницкого 1-й степени и медалями. Дважды Герой Советского Союза. Умер 18 февраля 1945 г., после смертельного ран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Чернеховский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Н.Г. Кузнец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.Г. Кузнец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дмирал флот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лен Ставки Верховного Главнокомандования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одный Комиссар Военно-Морского Флота весь период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.Д. Соколовск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.Д. Сокол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ршал Советского Союз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чальника Генерального штаба Советской Армии с 22.06.1941 по 30.07.1941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ующий Западным фронтом с 28.02.1943 по 15.04.19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А.Е. Голован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виац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ующий авиацией дальнего действия Советской Армии с 5.03.1942 по 6.12.1944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ующий 18-й воздушной армией с 6.12.1944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.Ф. Жигаре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виац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Главного управления ВВС (с 29.06.1941 — командующий ВВС Советской Армии) с 22.06.1941 по 11.04.19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.И. Голик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ршал Советского Союз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ующий Брянским фронтом с 2.04.1942 по 7.07.1942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ронежским фронтом с 9.07.1942 по 14.07.1942 и с 22.10.1942 по 28.03.1943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альник Главного управления кадров Советской Армии с апреля 1943 г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Н.Н. Ворон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ртиллер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альник Главного управления ПВО страны с июня 1941 г. по июль 1941 г.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артиллерии (с 19.11.1942 — командующий артиллерией Советской Армии) с июля 1941 г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.Ф. Жигаре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виац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Главного управления ВВС (с 29.06.1941 — командующий ВВС Советской Армии) с 22.06.1941 по 11.04.19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се далее уходит в прошлое трагическое и героическое время Великой Отечественной войны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се менее остается людей, для которых война - часть собственной жизн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се более настоятельной становится потребность понять характер событий шестидесятипятилетней давности, которые оказали воздействие на судьбы сотен миллионов людей, изменили облик многих стран и народов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Мы, новое поколение россиян, в неоплатном долгу перед героями войны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Мы обязаны помнить какой ценой была достигнута победа над фашизмом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Нашим девизом должны стать слова: « Никто не забыт! Ничто не забыто!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мандующие флот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.Е. Басисты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ице-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Черноморским флотом С 10.03.1944 по 28.03.1944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.А. Владимирски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ице-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Черноморским флотом с 24.04.1943 по 10.03.1944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.Г. Головко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Северным флотом весь период войн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.С. Октябрьски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Черноморским флотом с 22.06.1941 по 23.04.1943 и с 28.03.1944 до конца войн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.Ф. Трибуц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Краснознаменным Балтийским флотом весь период войн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.С. Юмашев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ра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андующий Тихоокеанским флотом с 22.06.1941 по 3.09.194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12000" y="5157720"/>
            <a:ext cx="1358640" cy="1700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8000" y="5157720"/>
            <a:ext cx="1271520" cy="1589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619280" y="5229360"/>
            <a:ext cx="1187280" cy="148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987640" y="5268960"/>
            <a:ext cx="1271520" cy="1589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427640" y="5195880"/>
            <a:ext cx="1330200" cy="1662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7726320" y="5084640"/>
            <a:ext cx="14176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Я.Н. Федоренко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Я.Н. Федоре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ршал бронетанковых войск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чальник Главного управления БТ и MB Советской Армии с июня 1941 года по декабрь 1942 года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командующий бронетанковыми и механизированными войсками Советской Армии с декабря 1942 года до конца вой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М.П. Воробье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ршал инженерных войск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инженерных войск Советской Армии с апреля 1942 г.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И.Т. Пересыпки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.Т. Пересып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шал войск связ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начальник войск связи Советской Армии весь период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овиков А. 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300720" y="2781360"/>
            <a:ext cx="1992240" cy="3004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авный маршал авиации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— командующий ВВС Советской Армии с 11.04.1942 до конца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.М. Шапошник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ршал Советского Союз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ститель Народного Комиссара Обороны СССР с 22.06.1941 по май 1942 г.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лен Ставки Верховного Главнокомандования Вооруженных Сил — начальник Генерального штаба Советской Армии с 1.07.1941 до мая 1942 г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р от болезни 26.03.19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22296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Задохнулись канонады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 мире- тишина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На большой земле однажды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кончилась война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Будем жить, встречать рассветы,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ерить и любить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Только не забыть бы это!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Лишь бы не забыть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от опять пронзает лето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солнечная нить.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Только не забыть бы это!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Лишь бы не забыть!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Эта память- верьте, люди,-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се земле нужна…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Если мы войну забудем,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вновь придет войн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на победы ссс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торая мировая война принесла огромные бедствия  61 государству мир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бщие людские потери во Второй мировой войне составили 48 млн. погибших, 80 млн. калек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За шесть лет войны погибло 27 миллионов советских граждан.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 них: около 10 млн. солдат и офицеров советской армии, около 11млн. узников концлагерей,  около 4млн партизан и подпольщиков, более 1 млн. мирных жителе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27 млн. – это 14 тыс. убитых ежедневно,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600 человек в один час, 10 человек каждую минуту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годы войны на защиту Родины поднялось все население страны.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На фронтах войны сражалось 418 тыс. тамбовчан, 17275 ржаксинцев, около 2000 чакинце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За годы войны орденами и медалями было награждено 7 млн. человек, из них  десятки тысяч тамбовчан, 1313- ржаксинце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ысокого звания Герой Советского Союза были удостоены 11358 человек, из них 104 – дважды, 2 – трижды, 1- четырежд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Звания Герой Советского Союза удостоено 260 –тамбовчан, 8 – ржаксинцев, 2 – чакинц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реди героев - тамбовчан 2 человека – дважды геро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 доле Героев Советского Союза Тамбовская область входит в первую 5 среди 200 регионов бывшего  СССР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Г.К. Жуков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- Маршал Советского Союза,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Начальник  Генерального штаба в годы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Великой Отечественной войны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четырежды Герой Советского Союз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264040" cy="2519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9 – медаль «Золотая Звезда» - за умелое руководство войсками в районе р. Халхин-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4 - медаль «Золотая Звезда» - за Белорусскую наступательную операцию и изгнание врага с Укра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5 – за образцовое выполнение боевых заданий по руководству операциями в районе Бер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6 – за выдающиеся заслуги перед русским нар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Жуков Георгий Константи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6-1974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40 г. назначен командующим войсками Киевского военного округа. С июля 1941 – начальник Генштаба. В 1941 ген. армии, командующий Западным фронтом. В 1942 г. – представитель Ставки ВГК на Западном и Калининском фронтах. В январе 1943 г. присвоено звание маршала Советского Союза. В октябре 1944 г. назначен командующим 1-м Белорусским фронтом. С июня 1946 г. – командует военным Одесским округом, с 1948 г. – Уральским военным округ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41-1942 гг. – Ленинградская и Московская битвы. 1942–1943 гг. – Сталинградская и Курская битвы. 1944 г. – Белорусская операция. 1944–1945 гг. – Висло-Одерская и Берлинская опера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ижды Герой Советского Союза, два ордена "Победы", орден Суворова 1-й степени. 1943 г – присвоено звание Маршала Советского Союза. 1939, 1944, 1945, 1974 гг. – присвоены звания Героя Советского Союз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.М. Буден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шал Советского Союз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еститель Наркома Обороны СССР с августа 1942 г. до конца войны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лен Ставки Верховного Главнокомандования Вооруженных Сил с 23.06.1941 по 17.02.1945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окомандующий войсками Юго-Западного направления с 10.07.1941 по 13.09.1941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окомандующий войсками Северо-Кавказского направления с 26.04.1942 по 20.05.19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Тимошенко Семен Константинович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(1895-1970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Тимошенко"/>
          <p:cNvPicPr/>
          <p:nvPr/>
        </p:nvPicPr>
        <p:blipFill>
          <a:blip r:embed="rId2"/>
          <a:stretch/>
        </p:blipFill>
        <p:spPr>
          <a:xfrm>
            <a:off x="0" y="0"/>
            <a:ext cx="1247760" cy="1743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14840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40–1941 гг. нарком обороны СССР. 1941–1942 гг. – командующий Западным и Юго-Западным военными фронтами. 1942–1943 гг. – командующий Сталинградским и Северо-Западным фронтами. Октябрь 1942 г. - март 1943 г., затем до июля 1945 г. был представителем Ставки Верховного Главнокомандования на ряде фро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41–1942 гг. –  участвовал в Ленинградской и Московской битвах. В 1943 г. – в Острогожско-Россошанской  наступательной операции. В 1943 г. – Смоленской операции, Новороссийско-Таманской операции. 1944 г. – в Ясско-Кишинёвской, 1945 г. – в Будапештской, в освобождении Ве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валер ордена "Победа", 5 орденов Ленина, орден Октябрьской Революции, 5 орденов Красного Знамени, 3 ордена Суворова 1 степени, медали, именная шашка с орденом Красного Знамени, почетная именная шашка с Золотым Гербом СССР, иностранные ордена и мед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0:54:42Z</dcterms:created>
  <dc:creator>user</dc:creator>
  <dc:description/>
  <dc:language>en-US</dc:language>
  <cp:lastModifiedBy>user</cp:lastModifiedBy>
  <dcterms:modified xsi:type="dcterms:W3CDTF">2013-04-02T05:27:54Z</dcterms:modified>
  <cp:revision>16</cp:revision>
  <dc:subject/>
  <dc:title>Слайд 1</dc:title>
</cp:coreProperties>
</file>