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7.gif" ContentType="image/gif"/>
  <Override PartName="/ppt/media/image13.png" ContentType="image/png"/>
  <Override PartName="/ppt/media/image8.png" ContentType="image/png"/>
  <Override PartName="/ppt/media/image28.gif" ContentType="image/gif"/>
  <Override PartName="/ppt/media/image6.jpeg" ContentType="image/jpeg"/>
  <Override PartName="/ppt/media/image10.jpeg" ContentType="image/jpeg"/>
  <Override PartName="/ppt/media/image25.gif" ContentType="image/gif"/>
  <Override PartName="/ppt/media/image5.jpeg" ContentType="image/jpeg"/>
  <Override PartName="/ppt/media/image26.jpeg" ContentType="image/jpeg"/>
  <Override PartName="/ppt/media/image29.png" ContentType="image/png"/>
  <Override PartName="/ppt/media/image17.png" ContentType="image/png"/>
  <Override PartName="/ppt/media/image4.jpeg" ContentType="image/jpeg"/>
  <Override PartName="/ppt/media/image24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8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3.jpeg" ContentType="image/jpeg"/>
  <Override PartName="/ppt/media/image15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577E-87A5-4718-A7A9-0389DA4BE3F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14EF-9737-4E62-A95C-9FCED903C33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A6A8-7BC9-4962-970A-9110429BA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B18F-CE13-487A-88BE-AAA93CE0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53B89-94CF-4625-879E-36D88340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C53562-BCD1-475D-953F-64CF4D79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5CD634-F7CA-422D-AC8E-456A01B6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5D32A8-F45E-41F8-8C09-3E980BA2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51E677-CCA5-4328-8946-27A09CA0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4FF511-D9A6-4B6E-B887-C1F7DE47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4B684E-25C2-443F-8B8D-BE975AE2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1FDFCE-01C8-456F-B14F-B4EC950B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4F4DD4-60A8-4BCA-A263-085A37FB0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60740E-F043-4E94-8394-025EBB71E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8E2E-C175-45BF-A1DB-7059FE323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354C40-3B55-4A60-AFC7-8912008B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9F883A-7B06-468F-B4FD-84D3B0CF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CE02DA-70F0-45C8-B22B-9117BB65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56DAC2-A0C2-4B40-9A46-CE460189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9890F5-7741-47B5-A1CF-B2AE5669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2BBA7E-B447-465E-977D-1564E9B8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FA0EC2-CE6C-4DF6-90E5-9325C3F9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7A029F-1232-4E32-9D76-26C4D937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EE9E6D-E7D7-4F0C-89F2-D360ADF1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84F2E2-DCAA-4380-A6E3-BCB77F476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6310-4C11-44A5-98D7-3A5270849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937801-B6D3-4597-8D1E-F3C381D24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89DDC-75DF-4FAC-BA29-D97CD9EC1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FCA2D-5AF9-4B7F-8655-B99EBAD5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F4A2DA-140D-49F4-95E5-351782D0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F650E-CE25-4FC4-A9A0-1BEEBBD5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2993C-017D-4E88-A474-1D47337E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CCE5ED-D103-4539-98F1-87554D48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84CA3-BAFC-4C9B-AEC4-724EFC03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B9D61E-719C-43D7-AE6A-29587526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4F480-6411-44C3-BF6A-675DA7BA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034A-CC0F-4018-ADC0-EC6BDB4D8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FA1C76-33B2-49D3-BA71-3798E985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B68792-3251-48CC-8A44-3242D52C1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03247-1B36-46C2-BA13-1AE083B4D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A6C1E4-71E4-4F55-AFC6-F8F7597FE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30E2A5-955B-4926-9389-6E01AA8C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C37974-1CDF-45DC-A32D-228A9489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C9DF85-7C42-4E59-AEE5-73757C8C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7A3BEE-D970-4804-8A18-6F63DE3D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5F0D60-7697-4208-AEFD-CB32EF83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7D8A75-2C35-45AB-AB4C-E010CED0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5C73-9A9C-4458-83DD-8954521F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444630-D82D-4A2C-9333-692192DE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3F7C69-00CD-42CD-92AE-B52CEC40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BDBC25-C3A8-497A-A1C4-44D2DAF9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C31B8E-99D0-42EA-AAAD-279D04792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974858-112A-477D-8E83-7CC5184CD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F3F183-3194-42A2-A8B0-0B7C9C4D0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C0AE59-CC8E-433E-9EDF-23343E2A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E305D2-B6C9-461F-9D89-A71799F1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793581-0E77-408F-8659-5872FFF4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8E4B97-9A2C-4EEA-A157-148F537C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91AC-B097-4773-8D54-BB14486E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7F185B-0117-4133-965F-49EFF248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62B392-2248-47C7-A78F-8530F48D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A5E1AD-86B5-4336-9489-A78C1F0F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DA42FE-8C92-4D8D-8B56-03C5A351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1C542B-CA9F-4077-A3BF-9B60EB7E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B3CC41-B1A4-4562-AB61-25EF71A3E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DDE6B4-6EE0-4371-B499-2BB8E2AF9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11E0A9-CDB5-4F8A-A975-3A278D47C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50CE1B-53FB-4365-88F7-5319397E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0BAC79-FE91-453D-9ABD-EEF01EC2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0812-826D-479F-8292-86CE73A5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989E55-140D-4207-8862-DD4B28FD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0ED939-9EE7-482E-A83C-1A2E6E91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538619-8718-4322-B24E-3EA9EC30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15CE4E-3205-4089-B1D8-AB472557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471AF8-2DBA-454D-A4FD-61D01815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4B3311-8517-44D4-B7A6-3DABB59D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D91701-BA32-47C6-B28F-1AB99D4E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ACF150-EDD1-402B-998A-C36C3044C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508BC5-2CCA-4645-A9BC-04AB2BEAF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A34F03-B4B4-4F72-8C3B-04805F7B0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38F8B-C20E-4309-BCB9-075E225E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75E83E-5D91-40E8-9BC4-8DCCEE52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986C29-EF18-4161-9E51-ED233146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BC1167-314F-4A2C-B3B2-39863B18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38ED7F-809D-4DA5-AA23-E30EEF8F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2F147B-0380-49E2-B7DB-4BA7D9C4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479B40-3DE6-4351-9482-A2904529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F02B3F-9DCC-4FB1-A079-01348346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852845-0B45-4795-AAE5-932D71FA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49511B-E0BE-484E-A91A-90BD1161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2CDCF0-A9FE-4100-9E74-F84B62C29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6E35-51A6-4B6B-BBD0-D7363FBB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8C6461-2B82-4F48-BD29-07A39B227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5BE439-D063-4311-9C55-CAE2CD8D7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3D8F68-5355-4881-A4AD-830D457A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3D2BAB-2D05-4D1D-A99D-0249DA95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DF9FA7-C27D-410D-BBAE-C3595D7B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D9AC02-7D55-46EF-9796-070BCFE0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E548AB-4532-4E1C-9DFE-91A24362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751068-79DC-4EB4-B3BB-6CDB9389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A964FD-B6F5-4192-AE0B-E0D5854B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E64747-51C6-4958-B863-7C121674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92AD-622F-471C-B97A-E1F19B94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4BC213-32C2-4B1E-9015-31B5690E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C21F9E-D576-4E3C-B38F-5031CF481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3002BA-97C7-432D-B48C-16CFA53FE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80B9E0-A6D1-40E0-9440-F8489D31B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5D1F5D-BE8C-40B1-B296-133963A5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C3DB37-6616-4E1F-8443-3C218CC1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F435B7-9E3C-4AA1-BCEE-6EF54829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FDF6E0-CF4E-46E2-A8EF-656B8706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DB7349-1390-45F1-A8B3-98C0427B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D399E0-2CBC-4DEC-A1B0-91A8A0A6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9F2D-0FBD-490A-B3C2-36265480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8644-654C-410F-8010-27382245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980815-22F6-45E9-B0C5-0AF42BF0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105CF4-DCD5-4875-B2F7-5F79FD09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AF807E-99DA-4083-A0DA-B5B4AF79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A55E30-00EC-47D8-8F05-168B7C3D9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D0D17E-6F16-4C6A-BED1-4D9CDC23B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7A46-08F8-45F0-BD55-DF06BA33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1BC7-3F15-4B1A-99BB-1B579E62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A7AE-5467-4618-9C87-AE2531BF4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FF358-C515-4D98-A0E3-F17BAC910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550F5-4D42-434A-A85D-4C955C80C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F6B55-6B9B-44C9-9768-E927CD07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3E82C-00AD-4FBB-BFA1-008F45BF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D757E-072E-441C-93B7-9713BA2F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438F8-C766-4D56-93BA-C911CCF3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E394-4AEB-4CE3-B578-849463E1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F8D17-65A8-4C92-ADE4-C8B2F550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A6471-B2DB-4D37-A7CD-0CFA5C40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219BE-96BE-4BD2-A29F-D300F155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9F0F7-81AE-4E6D-8F8D-57656B3F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40700-AC65-42F6-95B1-8973A767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010BB-D611-4511-956F-32D4AE270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B30F7-8EC4-4912-BA3C-079EA6798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80C9C-2969-479D-9D39-892F6B15B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D3C0B-1D26-490B-ADFE-593AE40E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73FCE-4829-4F82-9939-A133CC57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2FD6-11CE-420D-B942-C9492CD3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3D8C5-C505-426B-AB0B-B8EFB018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5A31E-FBEE-4347-BB8D-8E65B795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18618-53F7-4BC6-86AB-D7D63AD9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21B57-56CF-43C8-9057-C91FC7CC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0096E-614D-45A4-BB3A-E320EDCF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63EE1-C90A-4497-86B6-4AE87152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C7421-70A5-42D9-8DD4-6A58A5FB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8DDCA-BDAC-4657-97EE-59539EE54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341B8-C706-48F5-8C68-EADBDAB19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0492B-846B-4F10-8676-4858B77A4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C6E1-43AA-4E04-8CE1-1167A68A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F5B58-B8F8-489C-AC35-EFF3C7CB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9046E-FB57-46F0-A18B-25F723C8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6BF61-971D-4B8A-BE62-E2BCBBE2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E69A2-9F83-46AB-B2D2-B4D81352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DD35D-7714-4242-8791-FCF5B85D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320EF-ACC3-47AE-8DEE-9638820D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C743D-6A77-48DB-8C92-F19B4FAD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EB4D0-C8D5-47E2-9E91-D1A7B681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4C009-E8DF-49E1-85E3-B7B3E441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74CCC-B927-4DD9-B51A-7111D3220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E720-B306-45E1-A3B4-AFBD4FAC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8C4E5-5BD1-491C-87FF-FF2612AF0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777CF-B58C-4AC1-8558-237D842C8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B78FB-F60C-4CD7-B47F-95CB463E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E3B28-D136-4D79-8C5E-97159F82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26FB9-02D6-4150-93C2-8668F698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51C1C-CE24-4179-BED1-074B4E5E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3E19C-9BEF-4CA4-9DBA-99A255A3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68EC2-9CC4-4909-808B-94E55213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6F154-0A8C-4467-BDD4-08EC3D31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D2E13-5922-4E6A-B7D7-9DC428A7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B537-93B2-4103-B179-8D67DD6E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ADDAF-AE63-445C-8973-F7B6348F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A9469-F006-41D2-AE51-46F27CF43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D3CC6-74BC-4C73-98A9-8FE74C705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DC19E-84FA-41DD-95EA-341977F9C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3E4BE-1AC9-490F-884E-519BCC9A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22A5C-5D75-4700-99F4-38D21130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6BC27-881A-4AF4-845A-314BAEEC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DB46D-2766-44E3-AD88-C5E4B8AC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6DD44-1C5B-4EF4-98C3-B3CAA1E0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1E95B-2C9C-4B38-A264-D2FC553E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60EF-4E5C-4266-BA6F-7E3B4AAC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8DCF4-44AF-4606-80C5-603B137A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4C56C-D70C-4C69-8316-E8AA01B5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F14EF-0C10-4D8B-A889-EE95B01C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7C5DA-7FF0-4A8B-95B1-00030592D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A925A-676C-49DC-8532-F37F61F46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F6565-4AA7-430E-91EF-CAA59771B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BCE78-4AF5-4B0E-88EB-C4069409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11072-22C6-450E-B8CA-8597581D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F8C69-45C6-49AB-BD09-8852F6DB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1C149-DBAE-4D9D-9E8E-49DA41E9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E11C-182E-449B-8832-F6AE87B5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9B104-6AD3-4219-A204-8CBEE217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0487C-4E27-46A1-BFF0-B6AFA5BE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8B582-C82A-486A-8DD7-9F448D9B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73279-2116-4C42-953C-3CCD8558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2AB25-7B69-41A3-AE62-961F086F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34864-657A-4226-99CF-80AE10C12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7705C-8307-4293-A5CA-9F26F8C79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BBAB3-9495-413F-9988-231AA1E42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A43F5-A69D-41EE-8EB1-76E38E60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FEA63D-8285-48F3-8C9B-80798498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BD0B-FB74-4E02-9F6F-D215535817E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5B0C-651A-4297-A70D-F01F1F45309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68FC-70F4-4FDC-BC79-2A07E23528F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CF2E-069C-47E2-B0A4-07A6E82B6B2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9A65-D9C8-4C7E-9C2A-4DFCB2FCF8D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0D78-BC9D-4828-99A3-89D9CE83F5E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84A8-2650-40D6-885F-BEFC828172C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F631-D92F-40A7-8DF8-0E35905ED97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80A0-991A-4AE0-AC75-BBBA722B92C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6CDF-CB53-466E-A053-327EB0CA074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E990-A4D7-4356-B209-F8C8A4770E8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C246-6544-46FB-80B7-3F9785BFE11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EA51-E775-4E36-8EAB-C92FF223770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B772-6EE0-4902-B379-9B6F1B2C816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D861-CE4D-4B90-ABAC-63C598F4EAA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E7A1-592C-4F92-8EA5-A5459D62542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9256-4F21-482D-B245-E101885AF97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image" Target="../media/image27.gif"/><Relationship Id="rId7" Type="http://schemas.openxmlformats.org/officeDocument/2006/relationships/image" Target="../media/image27.gif"/><Relationship Id="rId8" Type="http://schemas.openxmlformats.org/officeDocument/2006/relationships/image" Target="../media/image28.gif"/><Relationship Id="rId9" Type="http://schemas.openxmlformats.org/officeDocument/2006/relationships/image" Target="../media/image28.gif"/><Relationship Id="rId10" Type="http://schemas.openxmlformats.org/officeDocument/2006/relationships/image" Target="../media/image28.gif"/><Relationship Id="rId11" Type="http://schemas.openxmlformats.org/officeDocument/2006/relationships/image" Target="../media/image28.gif"/><Relationship Id="rId12" Type="http://schemas.openxmlformats.org/officeDocument/2006/relationships/image" Target="../media/image28.gif"/><Relationship Id="rId13" Type="http://schemas.openxmlformats.org/officeDocument/2006/relationships/image" Target="../media/image28.gif"/><Relationship Id="rId1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476000" y="642960"/>
            <a:ext cx="7010280" cy="425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r>
              <a:rPr b="1" lang="ru-RU" sz="4900" spc="-1" strike="noStrike">
                <a:solidFill>
                  <a:srgbClr val="c00000"/>
                </a:solidFill>
                <a:latin typeface="Century Gothic"/>
                <a:ea typeface="Aharoni"/>
              </a:rPr>
              <a:t>Кинезиологические упражнения</a:t>
            </a:r>
            <a:br>
              <a:rPr sz="4900"/>
            </a:br>
            <a:br>
              <a:rPr sz="4900"/>
            </a:br>
            <a:r>
              <a:rPr b="0" lang="ru-RU" sz="4900" spc="-1" strike="noStrike">
                <a:solidFill>
                  <a:srgbClr val="424d22"/>
                </a:solidFill>
                <a:latin typeface="Century Gothic"/>
              </a:rPr>
              <a:t> </a:t>
            </a:r>
            <a:endParaRPr b="0" lang="en-US" sz="4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4" name="TextBox 1"/>
          <p:cNvSpPr/>
          <p:nvPr/>
        </p:nvSpPr>
        <p:spPr>
          <a:xfrm>
            <a:off x="3708360" y="4897440"/>
            <a:ext cx="496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едагог-психолог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устакимова А.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етский сад №43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Box 1"/>
          <p:cNvSpPr/>
          <p:nvPr/>
        </p:nvSpPr>
        <p:spPr>
          <a:xfrm>
            <a:off x="2981160" y="6922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21808"/>
                </a:solidFill>
                <a:latin typeface="Arial"/>
              </a:rPr>
              <a:t>Мастер-класс для педаго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"/>
          <p:cNvSpPr txBox="1"/>
          <p:nvPr/>
        </p:nvSpPr>
        <p:spPr>
          <a:xfrm>
            <a:off x="755640" y="642600"/>
            <a:ext cx="763272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584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1a1f0d"/>
                </a:solidFill>
                <a:latin typeface="Century Gothic"/>
              </a:rPr>
              <a:t>«Кулак-ребро-ладонь»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2584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Ребёнку показывают три положения руки на плоскости стола, последовательно сменяющих друг друга. Ладонь на плоскости, ладонь, сжатая в кулак, ладонь ребром на плоскости стола, распрямлённая ладонь на плоскости стола. Ребёнок выполняет пробу вместе с педагогом, затем по памяти в течение 8 – 10 повторений моторной программы. Проба выполняется сначала правой рукой, потом – левой, затем – двумя руками вместе. При усвоении программы или при затруднениях в выполнении педагог предлагает ребёнку помогать себе командами («кулак – ребро – ладонь»), произносимыми вслух или про себя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2584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02" name="Рисунок 3" descr="i_045.jpg"/>
          <p:cNvPicPr/>
          <p:nvPr/>
        </p:nvPicPr>
        <p:blipFill>
          <a:blip r:embed="rId1"/>
          <a:stretch/>
        </p:blipFill>
        <p:spPr>
          <a:xfrm>
            <a:off x="2627280" y="4076640"/>
            <a:ext cx="5516640" cy="1951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 txBox="1"/>
          <p:nvPr/>
        </p:nvSpPr>
        <p:spPr>
          <a:xfrm>
            <a:off x="755640" y="642600"/>
            <a:ext cx="763272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49560" indent="361800" algn="just">
              <a:spcBef>
                <a:spcPts val="1001"/>
              </a:spcBef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1a1f0d"/>
                </a:solidFill>
                <a:latin typeface="Century Gothic"/>
              </a:rPr>
              <a:t>«Лезгинка»</a:t>
            </a:r>
            <a:br>
              <a:rPr sz="2000"/>
            </a:br>
            <a:r>
              <a:rPr b="0" lang="ru-RU" sz="1800" spc="-1" strike="noStrike">
                <a:solidFill>
                  <a:srgbClr val="1a1f0d"/>
                </a:solidFill>
                <a:latin typeface="Century Gothic"/>
              </a:rPr>
              <a:t>Левую руку сложите в кулак, большой палец отставьте в сторону, кулак разверните пальцами к себе. Правой рукой прямой ладонью в горизонтальном положении прикоснитесь к мизинцу левой. После этого одновременно смените положение правой и левой рук. Повторить 6-8 раз. Добивайтесь высокой скорости смены положений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149560" indent="361800" algn="ctr">
              <a:spcBef>
                <a:spcPts val="1001"/>
              </a:spcBef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04" name="Рисунок 4" descr="межп1.jpg"/>
          <p:cNvPicPr/>
          <p:nvPr/>
        </p:nvPicPr>
        <p:blipFill>
          <a:blip r:embed="rId1"/>
          <a:stretch/>
        </p:blipFill>
        <p:spPr>
          <a:xfrm>
            <a:off x="611280" y="1268280"/>
            <a:ext cx="2241360" cy="1224000"/>
          </a:xfrm>
          <a:prstGeom prst="rect">
            <a:avLst/>
          </a:prstGeom>
          <a:ln w="0">
            <a:noFill/>
          </a:ln>
        </p:spPr>
      </p:pic>
      <p:sp>
        <p:nvSpPr>
          <p:cNvPr id="1205" name="Прямоугольник 5"/>
          <p:cNvSpPr/>
          <p:nvPr/>
        </p:nvSpPr>
        <p:spPr>
          <a:xfrm>
            <a:off x="1214280" y="3357720"/>
            <a:ext cx="69296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a1f0d"/>
                </a:solidFill>
                <a:latin typeface="Arial"/>
              </a:rPr>
              <a:t>«Ухо – нос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вой рукой возьмитесь за кончик носа, а правой рукой – за противоположное ухо. Одновременно отпустите ухо и нос, хлопните в ладоши, поменяйте положение рук «с точностью до наоборот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6" name="Рисунок 6" descr="межп..jpg"/>
          <p:cNvPicPr/>
          <p:nvPr/>
        </p:nvPicPr>
        <p:blipFill>
          <a:blip r:embed="rId2"/>
          <a:stretch/>
        </p:blipFill>
        <p:spPr>
          <a:xfrm>
            <a:off x="5508720" y="4941720"/>
            <a:ext cx="2555640" cy="1719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"/>
          <p:cNvSpPr txBox="1"/>
          <p:nvPr/>
        </p:nvSpPr>
        <p:spPr>
          <a:xfrm>
            <a:off x="755640" y="642600"/>
            <a:ext cx="763272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596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1a1f0d"/>
                </a:solidFill>
                <a:latin typeface="Century Gothic"/>
              </a:rPr>
              <a:t>«Зеркальное рисование»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34596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r>
              <a:rPr b="0" lang="ru-RU" sz="1800" spc="-1" strike="noStrike">
                <a:solidFill>
                  <a:srgbClr val="1a1f0d"/>
                </a:solidFill>
                <a:latin typeface="Century Gothic"/>
              </a:rPr>
              <a:t>Положите на стол чистый лист бумаги. Возьмите в обе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руки по карандашу или фломастеру. Начните рисовать одновременно обеими руками зеркально – симметричные рисунки, буквы. При выполнении этого упражнения почувствуете, как расслабляются глаза и руки. Когда деятельность обоих полушарий синхронизируется, заметно увеличится эффективность работы всего мозг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34596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34596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34596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08" name="Рисунок 3" descr=""/>
          <p:cNvPicPr/>
          <p:nvPr/>
        </p:nvPicPr>
        <p:blipFill>
          <a:blip r:embed="rId1"/>
          <a:stretch/>
        </p:blipFill>
        <p:spPr>
          <a:xfrm>
            <a:off x="1785960" y="3429000"/>
            <a:ext cx="5457960" cy="1238400"/>
          </a:xfrm>
          <a:prstGeom prst="rect">
            <a:avLst/>
          </a:prstGeom>
          <a:ln w="0">
            <a:noFill/>
          </a:ln>
        </p:spPr>
      </p:pic>
      <p:pic>
        <p:nvPicPr>
          <p:cNvPr id="1209" name="Рисунок 4" descr=""/>
          <p:cNvPicPr/>
          <p:nvPr/>
        </p:nvPicPr>
        <p:blipFill>
          <a:blip r:embed="rId2"/>
          <a:stretch/>
        </p:blipFill>
        <p:spPr>
          <a:xfrm>
            <a:off x="642960" y="4786200"/>
            <a:ext cx="2514600" cy="1181160"/>
          </a:xfrm>
          <a:prstGeom prst="rect">
            <a:avLst/>
          </a:prstGeom>
          <a:ln w="0">
            <a:noFill/>
          </a:ln>
        </p:spPr>
      </p:pic>
      <p:pic>
        <p:nvPicPr>
          <p:cNvPr id="1210" name="Рисунок 5" descr=""/>
          <p:cNvPicPr/>
          <p:nvPr/>
        </p:nvPicPr>
        <p:blipFill>
          <a:blip r:embed="rId3"/>
          <a:stretch/>
        </p:blipFill>
        <p:spPr>
          <a:xfrm>
            <a:off x="3286080" y="4857840"/>
            <a:ext cx="2638440" cy="1085760"/>
          </a:xfrm>
          <a:prstGeom prst="rect">
            <a:avLst/>
          </a:prstGeom>
          <a:ln w="0">
            <a:noFill/>
          </a:ln>
        </p:spPr>
      </p:pic>
      <p:pic>
        <p:nvPicPr>
          <p:cNvPr id="1211" name="Рисунок 6" descr=""/>
          <p:cNvPicPr/>
          <p:nvPr/>
        </p:nvPicPr>
        <p:blipFill>
          <a:blip r:embed="rId4"/>
          <a:stretch/>
        </p:blipFill>
        <p:spPr>
          <a:xfrm>
            <a:off x="6072120" y="5000760"/>
            <a:ext cx="2428920" cy="942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"/>
          <p:cNvSpPr txBox="1"/>
          <p:nvPr/>
        </p:nvSpPr>
        <p:spPr>
          <a:xfrm>
            <a:off x="755640" y="642600"/>
            <a:ext cx="763272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1a1f0d"/>
                </a:solidFill>
                <a:latin typeface="Century Gothic"/>
              </a:rPr>
              <a:t>Примеры схем для зеркального рисования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 algn="ctr">
              <a:spcBef>
                <a:spcPts val="1001"/>
              </a:spcBef>
              <a:buClr>
                <a:srgbClr val="a53010"/>
              </a:buClr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13" name="Рисунок 3" descr=""/>
          <p:cNvPicPr/>
          <p:nvPr/>
        </p:nvPicPr>
        <p:blipFill>
          <a:blip r:embed="rId1"/>
          <a:stretch/>
        </p:blipFill>
        <p:spPr>
          <a:xfrm>
            <a:off x="1928880" y="1214280"/>
            <a:ext cx="5305320" cy="1428840"/>
          </a:xfrm>
          <a:prstGeom prst="rect">
            <a:avLst/>
          </a:prstGeom>
          <a:ln w="0">
            <a:noFill/>
          </a:ln>
        </p:spPr>
      </p:pic>
      <p:pic>
        <p:nvPicPr>
          <p:cNvPr id="1214" name="Рисунок 4" descr=""/>
          <p:cNvPicPr/>
          <p:nvPr/>
        </p:nvPicPr>
        <p:blipFill>
          <a:blip r:embed="rId2"/>
          <a:stretch/>
        </p:blipFill>
        <p:spPr>
          <a:xfrm>
            <a:off x="785880" y="2786040"/>
            <a:ext cx="3895560" cy="1514520"/>
          </a:xfrm>
          <a:prstGeom prst="rect">
            <a:avLst/>
          </a:prstGeom>
          <a:ln w="0">
            <a:noFill/>
          </a:ln>
        </p:spPr>
      </p:pic>
      <p:pic>
        <p:nvPicPr>
          <p:cNvPr id="1215" name="Рисунок 5" descr=""/>
          <p:cNvPicPr/>
          <p:nvPr/>
        </p:nvPicPr>
        <p:blipFill>
          <a:blip r:embed="rId3"/>
          <a:stretch/>
        </p:blipFill>
        <p:spPr>
          <a:xfrm>
            <a:off x="1285920" y="4643280"/>
            <a:ext cx="3029040" cy="1076400"/>
          </a:xfrm>
          <a:prstGeom prst="rect">
            <a:avLst/>
          </a:prstGeom>
          <a:ln w="0">
            <a:noFill/>
          </a:ln>
        </p:spPr>
      </p:pic>
      <p:pic>
        <p:nvPicPr>
          <p:cNvPr id="1216" name="Рисунок 6" descr=""/>
          <p:cNvPicPr/>
          <p:nvPr/>
        </p:nvPicPr>
        <p:blipFill>
          <a:blip r:embed="rId4"/>
          <a:stretch/>
        </p:blipFill>
        <p:spPr>
          <a:xfrm>
            <a:off x="4786200" y="2857680"/>
            <a:ext cx="3524400" cy="1352520"/>
          </a:xfrm>
          <a:prstGeom prst="rect">
            <a:avLst/>
          </a:prstGeom>
          <a:ln w="0">
            <a:noFill/>
          </a:ln>
        </p:spPr>
      </p:pic>
      <p:pic>
        <p:nvPicPr>
          <p:cNvPr id="1217" name="Рисунок 7" descr=""/>
          <p:cNvPicPr/>
          <p:nvPr/>
        </p:nvPicPr>
        <p:blipFill>
          <a:blip r:embed="rId5"/>
          <a:stretch/>
        </p:blipFill>
        <p:spPr>
          <a:xfrm>
            <a:off x="4786200" y="4643280"/>
            <a:ext cx="3105360" cy="1105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"/>
          <p:cNvSpPr txBox="1"/>
          <p:nvPr/>
        </p:nvSpPr>
        <p:spPr>
          <a:xfrm>
            <a:off x="900000" y="1412640"/>
            <a:ext cx="763272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1a1f0d"/>
                </a:solidFill>
                <a:latin typeface="Century Gothic"/>
              </a:rPr>
              <a:t>Исследования показывают, что выполнение обычного действия «необычной» рукой активизирует новые участки мозга и помогает развивать новые контакты между клетками мозга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1a1f0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1a1f0d"/>
                </a:solidFill>
                <a:latin typeface="Century Gothic"/>
              </a:rPr>
              <a:t>Так что пробуйте, экспериментируйте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1a1f0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1a1f0d"/>
                </a:solidFill>
                <a:latin typeface="Century Gothic"/>
              </a:rPr>
              <a:t>Это не только полезно, но и весело!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9" name="Содержимое 4" descr="межп4.jpg"/>
          <p:cNvPicPr/>
          <p:nvPr/>
        </p:nvPicPr>
        <p:blipFill>
          <a:blip r:embed="rId1"/>
          <a:stretch/>
        </p:blipFill>
        <p:spPr>
          <a:xfrm>
            <a:off x="857160" y="642960"/>
            <a:ext cx="3524400" cy="5483160"/>
          </a:xfrm>
          <a:prstGeom prst="rect">
            <a:avLst/>
          </a:prstGeom>
          <a:ln w="0">
            <a:noFill/>
          </a:ln>
        </p:spPr>
      </p:pic>
      <p:pic>
        <p:nvPicPr>
          <p:cNvPr id="1220" name="Рисунок 5" descr="межп5.jpg"/>
          <p:cNvPicPr/>
          <p:nvPr/>
        </p:nvPicPr>
        <p:blipFill>
          <a:blip r:embed="rId2"/>
          <a:stretch/>
        </p:blipFill>
        <p:spPr>
          <a:xfrm>
            <a:off x="4786200" y="642960"/>
            <a:ext cx="3476880" cy="5457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1" name="Содержимое 3" descr="межп13.jpg"/>
          <p:cNvPicPr/>
          <p:nvPr/>
        </p:nvPicPr>
        <p:blipFill>
          <a:blip r:embed="rId1"/>
          <a:stretch/>
        </p:blipFill>
        <p:spPr>
          <a:xfrm>
            <a:off x="857160" y="714240"/>
            <a:ext cx="3259080" cy="5197680"/>
          </a:xfrm>
          <a:prstGeom prst="rect">
            <a:avLst/>
          </a:prstGeom>
          <a:ln w="0">
            <a:noFill/>
          </a:ln>
        </p:spPr>
      </p:pic>
      <p:pic>
        <p:nvPicPr>
          <p:cNvPr id="1222" name="Рисунок 7" descr="межп11.jpg"/>
          <p:cNvPicPr/>
          <p:nvPr/>
        </p:nvPicPr>
        <p:blipFill>
          <a:blip r:embed="rId2"/>
          <a:stretch/>
        </p:blipFill>
        <p:spPr>
          <a:xfrm>
            <a:off x="4500720" y="714240"/>
            <a:ext cx="3576600" cy="5286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7632720" cy="82440"/>
          </a:xfrm>
          <a:prstGeom prst="rect">
            <a:avLst/>
          </a:prstGeom>
          <a:noFill/>
          <a:ln w="0">
            <a:noFill/>
          </a:ln>
        </p:spPr>
        <p:txBody>
          <a:bodyPr tIns="36720" bIns="3672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1042920" y="692280"/>
            <a:ext cx="763272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180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500" spc="-1" strike="noStrike">
                <a:solidFill>
                  <a:srgbClr val="1a1f0d"/>
                </a:solidFill>
                <a:latin typeface="Century Gothic"/>
              </a:rPr>
              <a:t>Упражнение № 1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180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1a1f0d"/>
                </a:solidFill>
                <a:latin typeface="Century Gothic"/>
              </a:rPr>
              <a:t>Дышите только через одну ноздрю (сначала левую, затем правую)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180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500"/>
            </a:br>
            <a:r>
              <a:rPr b="1" lang="ru-RU" sz="1500" spc="-1" strike="noStrike">
                <a:solidFill>
                  <a:srgbClr val="1a1f0d"/>
                </a:solidFill>
                <a:latin typeface="Century Gothic"/>
              </a:rPr>
              <a:t>Упражнение № 2 «Яйцо»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180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1a1f0d"/>
                </a:solidFill>
                <a:latin typeface="Century Gothic"/>
              </a:rPr>
              <a:t>Сядьте на пол, подтяните колени к животу, обхватите их руками, голову спрячьте в колени. Раскачивайтесь из стороны в сторону, стараясь расслабиться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180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500"/>
            </a:br>
            <a:r>
              <a:rPr b="1" lang="ru-RU" sz="1500" spc="-1" strike="noStrike">
                <a:solidFill>
                  <a:srgbClr val="1a1f0d"/>
                </a:solidFill>
                <a:latin typeface="Century Gothic"/>
              </a:rPr>
              <a:t>Упражнение № 3 «Лодочка»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180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1a1f0d"/>
                </a:solidFill>
                <a:latin typeface="Century Gothic"/>
              </a:rPr>
              <a:t>Лежа на спине, вытяните руки. По команде одновременно                    поднимите прямые ноги, руки и голову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180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1a1f0d"/>
                </a:solidFill>
                <a:latin typeface="Century Gothic"/>
              </a:rPr>
              <a:t>Держите позу максимально долго. Затем выполните это упражнение, лежа на животе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180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500"/>
            </a:br>
            <a:r>
              <a:rPr b="1" lang="ru-RU" sz="1500" spc="-1" strike="noStrike">
                <a:solidFill>
                  <a:srgbClr val="1a1f0d"/>
                </a:solidFill>
                <a:latin typeface="Century Gothic"/>
              </a:rPr>
              <a:t>Упражнение № 4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180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1a1f0d"/>
                </a:solidFill>
                <a:latin typeface="Century Gothic"/>
              </a:rPr>
              <a:t>Закройте глаза. Попробуйте опознать небольшой предмет, который дадут вам в руку (ключ, пуговица, скрепка и т.д.). Другой рукой нарисуйте его на бумаге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180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500" spc="-1" strike="noStrike">
                <a:solidFill>
                  <a:srgbClr val="1a1f0d"/>
                </a:solidFill>
                <a:latin typeface="Century Gothic"/>
              </a:rPr>
              <a:t> </a:t>
            </a:r>
            <a:br>
              <a:rPr sz="1500"/>
            </a:br>
            <a:r>
              <a:rPr b="1" lang="ru-RU" sz="1500" spc="-1" strike="noStrike">
                <a:solidFill>
                  <a:srgbClr val="1a1f0d"/>
                </a:solidFill>
                <a:latin typeface="Century Gothic"/>
              </a:rPr>
              <a:t> </a:t>
            </a:r>
            <a:r>
              <a:rPr b="1" lang="ru-RU" sz="1500" spc="-1" strike="noStrike">
                <a:solidFill>
                  <a:srgbClr val="1a1f0d"/>
                </a:solidFill>
                <a:latin typeface="Century Gothic"/>
              </a:rPr>
              <a:t>Упражнение № 5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180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1a1f0d"/>
                </a:solidFill>
                <a:latin typeface="Century Gothic"/>
              </a:rPr>
              <a:t>Упражнение выполняется в парах. 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180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1a1f0d"/>
                </a:solidFill>
                <a:latin typeface="Century Gothic"/>
              </a:rPr>
              <a:t>Встаньте лицом друг к другу. Один выполняет движения руками и ногами, другой должен их зеркально отобразить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1800" algn="just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25" name="Рисунок 3" descr=""/>
          <p:cNvPicPr/>
          <p:nvPr/>
        </p:nvPicPr>
        <p:blipFill>
          <a:blip r:embed="rId1"/>
          <a:stretch/>
        </p:blipFill>
        <p:spPr>
          <a:xfrm>
            <a:off x="1403280" y="2781360"/>
            <a:ext cx="1209600" cy="847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763640" y="260280"/>
            <a:ext cx="763272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c00000"/>
                </a:solidFill>
                <a:latin typeface="Century Gothic"/>
              </a:rPr>
              <a:t>Тест лево- правополушарности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27" name="Picture 4" descr="spinning-silhouette-optical-illusion"/>
          <p:cNvPicPr/>
          <p:nvPr/>
        </p:nvPicPr>
        <p:blipFill>
          <a:blip r:embed="rId1"/>
          <a:stretch/>
        </p:blipFill>
        <p:spPr>
          <a:xfrm>
            <a:off x="3143160" y="1479600"/>
            <a:ext cx="3949920" cy="5265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8" name="Picture 24" descr="abell39_misti_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262626"/>
                </a:solidFill>
                <a:latin typeface="Century Gothic"/>
              </a:rPr>
              <a:t>Межполушарная асимметрия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324000" y="1196640"/>
            <a:ext cx="4752720" cy="5661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cffcc"/>
                </a:solidFill>
                <a:latin typeface="Century Gothic"/>
              </a:rPr>
              <a:t>Правое полушарие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cffcc"/>
                </a:solidFill>
                <a:latin typeface="Century Gothic"/>
              </a:rPr>
              <a:t>   </a:t>
            </a:r>
            <a:r>
              <a:rPr b="1" lang="ru-RU" sz="2800" spc="-1" strike="noStrike">
                <a:solidFill>
                  <a:srgbClr val="ccffcc"/>
                </a:solidFill>
                <a:latin typeface="Century Gothic"/>
              </a:rPr>
              <a:t>интуитивно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cffcc"/>
                </a:solidFill>
                <a:latin typeface="Century Gothic"/>
              </a:rPr>
              <a:t>   </a:t>
            </a:r>
            <a:r>
              <a:rPr b="1" lang="ru-RU" sz="2800" spc="-1" strike="noStrike">
                <a:solidFill>
                  <a:srgbClr val="ccffcc"/>
                </a:solidFill>
                <a:latin typeface="Century Gothic"/>
              </a:rPr>
              <a:t>живет прошлым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cffcc"/>
                </a:solidFill>
                <a:latin typeface="Century Gothic"/>
              </a:rPr>
              <a:t>   </a:t>
            </a:r>
            <a:r>
              <a:rPr b="1" lang="ru-RU" sz="2800" spc="-1" strike="noStrike">
                <a:solidFill>
                  <a:srgbClr val="ccffcc"/>
                </a:solidFill>
                <a:latin typeface="Century Gothic"/>
              </a:rPr>
              <a:t>правдиво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cffcc"/>
                </a:solidFill>
                <a:latin typeface="Century Gothic"/>
              </a:rPr>
              <a:t>   </a:t>
            </a:r>
            <a:r>
              <a:rPr b="1" lang="ru-RU" sz="2800" spc="-1" strike="noStrike">
                <a:solidFill>
                  <a:srgbClr val="ccffcc"/>
                </a:solidFill>
                <a:latin typeface="Century Gothic"/>
              </a:rPr>
              <a:t>мрачно,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cffcc"/>
                </a:solidFill>
                <a:latin typeface="Century Gothic"/>
              </a:rPr>
              <a:t>   </a:t>
            </a:r>
            <a:r>
              <a:rPr b="1" lang="ru-RU" sz="2800" spc="-1" strike="noStrike">
                <a:solidFill>
                  <a:srgbClr val="ccffcc"/>
                </a:solidFill>
                <a:latin typeface="Century Gothic"/>
              </a:rPr>
              <a:t>пессимистично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cffcc"/>
                </a:solidFill>
                <a:latin typeface="Century Gothic"/>
              </a:rPr>
              <a:t>   </a:t>
            </a:r>
            <a:r>
              <a:rPr b="1" lang="ru-RU" sz="2800" spc="-1" strike="noStrike">
                <a:solidFill>
                  <a:srgbClr val="ccffcc"/>
                </a:solidFill>
                <a:latin typeface="Century Gothic"/>
              </a:rPr>
              <a:t>не способно образовывать новые конструкции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cffcc"/>
                </a:solidFill>
                <a:latin typeface="Century Gothic"/>
              </a:rPr>
              <a:t>   </a:t>
            </a:r>
            <a:r>
              <a:rPr b="1" lang="ru-RU" sz="2800" spc="-1" strike="noStrike">
                <a:solidFill>
                  <a:srgbClr val="ccffcc"/>
                </a:solidFill>
                <a:latin typeface="Century Gothic"/>
              </a:rPr>
              <a:t>способно любить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5076720" y="1197000"/>
            <a:ext cx="4067280" cy="5472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Century Gothic"/>
              </a:rPr>
              <a:t>Левое полушарие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Century Gothic"/>
              </a:rPr>
              <a:t>   </a:t>
            </a:r>
            <a:r>
              <a:rPr b="1" lang="ru-RU" sz="2800" spc="-1" strike="noStrike">
                <a:solidFill>
                  <a:srgbClr val="ccecff"/>
                </a:solidFill>
                <a:latin typeface="Century Gothic"/>
              </a:rPr>
              <a:t>логично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Century Gothic"/>
              </a:rPr>
              <a:t>   </a:t>
            </a:r>
            <a:r>
              <a:rPr b="1" lang="ru-RU" sz="2800" spc="-1" strike="noStrike">
                <a:solidFill>
                  <a:srgbClr val="ccecff"/>
                </a:solidFill>
                <a:latin typeface="Century Gothic"/>
              </a:rPr>
              <a:t>живет будущим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Century Gothic"/>
              </a:rPr>
              <a:t>   </a:t>
            </a:r>
            <a:r>
              <a:rPr b="1" lang="ru-RU" sz="2800" spc="-1" strike="noStrike">
                <a:solidFill>
                  <a:srgbClr val="ccecff"/>
                </a:solidFill>
                <a:latin typeface="Century Gothic"/>
              </a:rPr>
              <a:t>способно ко лжи обладает чувством юмора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Century Gothic"/>
              </a:rPr>
              <a:t>   </a:t>
            </a:r>
            <a:r>
              <a:rPr b="1" lang="ru-RU" sz="2800" spc="-1" strike="noStrike">
                <a:solidFill>
                  <a:srgbClr val="ccecff"/>
                </a:solidFill>
                <a:latin typeface="Century Gothic"/>
              </a:rPr>
              <a:t>образует новые конструкции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Century Gothic"/>
              </a:rPr>
              <a:t>   </a:t>
            </a:r>
            <a:r>
              <a:rPr b="1" lang="ru-RU" sz="2800" spc="-1" strike="noStrike">
                <a:solidFill>
                  <a:srgbClr val="ccecff"/>
                </a:solidFill>
                <a:latin typeface="Century Gothic"/>
              </a:rPr>
              <a:t>способно мстить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Century Gothic"/>
              </a:rPr>
              <a:t>   </a:t>
            </a:r>
            <a:r>
              <a:rPr b="1" lang="ru-RU" sz="2800" spc="-1" strike="noStrike">
                <a:solidFill>
                  <a:srgbClr val="ccecff"/>
                </a:solidFill>
                <a:latin typeface="Century Gothic"/>
              </a:rPr>
              <a:t>и ненавидеть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32" name="Picture 9" descr="0073"/>
          <p:cNvPicPr/>
          <p:nvPr/>
        </p:nvPicPr>
        <p:blipFill>
          <a:blip r:embed="rId2"/>
          <a:stretch/>
        </p:blipFill>
        <p:spPr>
          <a:xfrm>
            <a:off x="250920" y="2276640"/>
            <a:ext cx="396720" cy="360360"/>
          </a:xfrm>
          <a:prstGeom prst="rect">
            <a:avLst/>
          </a:prstGeom>
          <a:ln w="0">
            <a:noFill/>
          </a:ln>
        </p:spPr>
      </p:pic>
      <p:pic>
        <p:nvPicPr>
          <p:cNvPr id="1233" name="Picture 18" descr="0073"/>
          <p:cNvPicPr/>
          <p:nvPr/>
        </p:nvPicPr>
        <p:blipFill>
          <a:blip r:embed="rId3"/>
          <a:stretch/>
        </p:blipFill>
        <p:spPr>
          <a:xfrm>
            <a:off x="250920" y="2781360"/>
            <a:ext cx="396720" cy="360360"/>
          </a:xfrm>
          <a:prstGeom prst="rect">
            <a:avLst/>
          </a:prstGeom>
          <a:ln w="0">
            <a:noFill/>
          </a:ln>
        </p:spPr>
      </p:pic>
      <p:pic>
        <p:nvPicPr>
          <p:cNvPr id="1234" name="Picture 19" descr="0073"/>
          <p:cNvPicPr/>
          <p:nvPr/>
        </p:nvPicPr>
        <p:blipFill>
          <a:blip r:embed="rId4"/>
          <a:stretch/>
        </p:blipFill>
        <p:spPr>
          <a:xfrm>
            <a:off x="250920" y="3284640"/>
            <a:ext cx="396720" cy="360360"/>
          </a:xfrm>
          <a:prstGeom prst="rect">
            <a:avLst/>
          </a:prstGeom>
          <a:ln w="0">
            <a:noFill/>
          </a:ln>
        </p:spPr>
      </p:pic>
      <p:pic>
        <p:nvPicPr>
          <p:cNvPr id="1235" name="Picture 20" descr="0073"/>
          <p:cNvPicPr/>
          <p:nvPr/>
        </p:nvPicPr>
        <p:blipFill>
          <a:blip r:embed="rId5"/>
          <a:stretch/>
        </p:blipFill>
        <p:spPr>
          <a:xfrm>
            <a:off x="250920" y="3716280"/>
            <a:ext cx="396720" cy="360360"/>
          </a:xfrm>
          <a:prstGeom prst="rect">
            <a:avLst/>
          </a:prstGeom>
          <a:ln w="0">
            <a:noFill/>
          </a:ln>
        </p:spPr>
      </p:pic>
      <p:pic>
        <p:nvPicPr>
          <p:cNvPr id="1236" name="Picture 21" descr="0073"/>
          <p:cNvPicPr/>
          <p:nvPr/>
        </p:nvPicPr>
        <p:blipFill>
          <a:blip r:embed="rId6"/>
          <a:stretch/>
        </p:blipFill>
        <p:spPr>
          <a:xfrm>
            <a:off x="250920" y="4653000"/>
            <a:ext cx="396720" cy="360360"/>
          </a:xfrm>
          <a:prstGeom prst="rect">
            <a:avLst/>
          </a:prstGeom>
          <a:ln w="0">
            <a:noFill/>
          </a:ln>
        </p:spPr>
      </p:pic>
      <p:pic>
        <p:nvPicPr>
          <p:cNvPr id="1237" name="Picture 22" descr="0073"/>
          <p:cNvPicPr/>
          <p:nvPr/>
        </p:nvPicPr>
        <p:blipFill>
          <a:blip r:embed="rId7"/>
          <a:stretch/>
        </p:blipFill>
        <p:spPr>
          <a:xfrm>
            <a:off x="285840" y="5429160"/>
            <a:ext cx="396720" cy="360360"/>
          </a:xfrm>
          <a:prstGeom prst="rect">
            <a:avLst/>
          </a:prstGeom>
          <a:ln w="0">
            <a:noFill/>
          </a:ln>
        </p:spPr>
      </p:pic>
      <p:pic>
        <p:nvPicPr>
          <p:cNvPr id="1238" name="Picture 19" descr="181"/>
          <p:cNvPicPr/>
          <p:nvPr/>
        </p:nvPicPr>
        <p:blipFill>
          <a:blip r:embed="rId8"/>
          <a:stretch/>
        </p:blipFill>
        <p:spPr>
          <a:xfrm>
            <a:off x="4932360" y="2349360"/>
            <a:ext cx="433440" cy="432000"/>
          </a:xfrm>
          <a:prstGeom prst="rect">
            <a:avLst/>
          </a:prstGeom>
          <a:ln w="0">
            <a:noFill/>
          </a:ln>
        </p:spPr>
      </p:pic>
      <p:pic>
        <p:nvPicPr>
          <p:cNvPr id="1239" name="Picture 20" descr="181"/>
          <p:cNvPicPr/>
          <p:nvPr/>
        </p:nvPicPr>
        <p:blipFill>
          <a:blip r:embed="rId9"/>
          <a:stretch/>
        </p:blipFill>
        <p:spPr>
          <a:xfrm>
            <a:off x="4932360" y="2852640"/>
            <a:ext cx="433440" cy="432000"/>
          </a:xfrm>
          <a:prstGeom prst="rect">
            <a:avLst/>
          </a:prstGeom>
          <a:ln w="0">
            <a:noFill/>
          </a:ln>
        </p:spPr>
      </p:pic>
      <p:pic>
        <p:nvPicPr>
          <p:cNvPr id="1240" name="Picture 21" descr="181"/>
          <p:cNvPicPr/>
          <p:nvPr/>
        </p:nvPicPr>
        <p:blipFill>
          <a:blip r:embed="rId10"/>
          <a:stretch/>
        </p:blipFill>
        <p:spPr>
          <a:xfrm>
            <a:off x="4932360" y="3284640"/>
            <a:ext cx="433440" cy="431640"/>
          </a:xfrm>
          <a:prstGeom prst="rect">
            <a:avLst/>
          </a:prstGeom>
          <a:ln w="0">
            <a:noFill/>
          </a:ln>
        </p:spPr>
      </p:pic>
      <p:pic>
        <p:nvPicPr>
          <p:cNvPr id="1241" name="Picture 22" descr="181"/>
          <p:cNvPicPr/>
          <p:nvPr/>
        </p:nvPicPr>
        <p:blipFill>
          <a:blip r:embed="rId11"/>
          <a:stretch/>
        </p:blipFill>
        <p:spPr>
          <a:xfrm>
            <a:off x="4932360" y="3645000"/>
            <a:ext cx="433440" cy="431640"/>
          </a:xfrm>
          <a:prstGeom prst="rect">
            <a:avLst/>
          </a:prstGeom>
          <a:ln w="0">
            <a:noFill/>
          </a:ln>
        </p:spPr>
      </p:pic>
      <p:pic>
        <p:nvPicPr>
          <p:cNvPr id="1242" name="Picture 23" descr="181"/>
          <p:cNvPicPr/>
          <p:nvPr/>
        </p:nvPicPr>
        <p:blipFill>
          <a:blip r:embed="rId12"/>
          <a:stretch/>
        </p:blipFill>
        <p:spPr>
          <a:xfrm>
            <a:off x="4932360" y="4508640"/>
            <a:ext cx="433440" cy="431640"/>
          </a:xfrm>
          <a:prstGeom prst="rect">
            <a:avLst/>
          </a:prstGeom>
          <a:ln w="0">
            <a:noFill/>
          </a:ln>
        </p:spPr>
      </p:pic>
      <p:pic>
        <p:nvPicPr>
          <p:cNvPr id="1243" name="Picture 24" descr="181"/>
          <p:cNvPicPr/>
          <p:nvPr/>
        </p:nvPicPr>
        <p:blipFill>
          <a:blip r:embed="rId13"/>
          <a:stretch/>
        </p:blipFill>
        <p:spPr>
          <a:xfrm>
            <a:off x="5003640" y="5373720"/>
            <a:ext cx="433440" cy="431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"/>
          <p:cNvSpPr txBox="1"/>
          <p:nvPr/>
        </p:nvSpPr>
        <p:spPr>
          <a:xfrm>
            <a:off x="1195200" y="471240"/>
            <a:ext cx="78404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entury Gothic"/>
              </a:rPr>
              <a:t>«Мозг, хорошо устроенный, стоит больше, чем мозг, хорошо наполненный»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                    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ишель де Монтень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87" name="Рисунок 1" descr=""/>
          <p:cNvPicPr/>
          <p:nvPr/>
        </p:nvPicPr>
        <p:blipFill>
          <a:blip r:embed="rId1"/>
          <a:stretch/>
        </p:blipFill>
        <p:spPr>
          <a:xfrm>
            <a:off x="1332000" y="2924280"/>
            <a:ext cx="5184720" cy="3757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 txBox="1"/>
          <p:nvPr/>
        </p:nvSpPr>
        <p:spPr>
          <a:xfrm>
            <a:off x="1258920" y="692280"/>
            <a:ext cx="7275600" cy="54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1a1f0d"/>
                </a:solidFill>
                <a:latin typeface="Century Gothic"/>
              </a:rPr>
              <a:t>Упражнения для снятия эмоционального напряжения 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1a1f0d"/>
                </a:solidFill>
                <a:latin typeface="Century Gothic"/>
              </a:rPr>
              <a:t> 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Сжимают пальцы в кулак с загнутым внутрь большим пальцем. Делая выдох спокойно, не торопясь, сжимают кулак с усилием. Затем, ослабляя сжатие кулака, делают вдох. Повторять следует 5 раз. Выполнение упражнения с закрытыми глазами удваивает эффект. Упражнение также помогает в точном запоминании важной и сложной информации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Делают двумя грецкими орехами круговые движения в каждой ладони. Упражнение так же развивает тонкую моторику рук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Слегка массируют кончик мизинца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Помещают орех на кисть руки со стороны мизинца (на ладони) и ладонью другой руки слегка нажимают и делают орехом круговые движения (3 мин)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"/>
          <p:cNvSpPr txBox="1"/>
          <p:nvPr/>
        </p:nvSpPr>
        <p:spPr>
          <a:xfrm>
            <a:off x="971640" y="404280"/>
            <a:ext cx="763272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2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1a1f0d"/>
                </a:solidFill>
                <a:latin typeface="Arial"/>
                <a:ea typeface="Arial"/>
              </a:rPr>
              <a:t>Упражнение для развития памяти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62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62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1a1f0d"/>
                </a:solidFill>
                <a:latin typeface="Arial"/>
                <a:ea typeface="Arial"/>
              </a:rPr>
              <a:t>Одновременно двумя руками «промахать» в воздухе в зеркальном отражении (записывать на листе бумаги) информацию, которую необходимо запомнить (буквы, таблица умножения,  формулы, иностранные слова и т.д.)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62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62080"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1a1f0d"/>
                </a:solidFill>
                <a:latin typeface="Arial"/>
                <a:ea typeface="Arial"/>
              </a:rPr>
              <a:t>Упражнения для развития внимания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620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620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1a1f0d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1a1f0d"/>
                </a:solidFill>
                <a:latin typeface="Arial"/>
                <a:ea typeface="Arial"/>
              </a:rPr>
              <a:t>Раскрывают пальцы левой руки, слегка нажимают точку концентрации внимания, расположенную в середине   ладони, большим пальцем правой руки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620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1a1f0d"/>
                </a:solidFill>
                <a:latin typeface="Arial"/>
                <a:ea typeface="Arial"/>
              </a:rPr>
              <a:t>Повторяют это 5 раз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620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1a1f0d"/>
                </a:solidFill>
                <a:latin typeface="Arial"/>
                <a:ea typeface="Arial"/>
              </a:rPr>
              <a:t>При нажатии делают выдох, а при ослаблении усилия — 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620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1a1f0d"/>
                </a:solidFill>
                <a:latin typeface="Arial"/>
                <a:ea typeface="Arial"/>
              </a:rPr>
              <a:t>вдох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620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1a1f0d"/>
                </a:solidFill>
                <a:latin typeface="Arial"/>
                <a:ea typeface="Arial"/>
              </a:rPr>
              <a:t>Упражнение делают спокойно, не торопясь. Потом делают 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620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1a1f0d"/>
                </a:solidFill>
                <a:latin typeface="Arial"/>
                <a:ea typeface="Arial"/>
              </a:rPr>
              <a:t>то же самое для правой руки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62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"/>
          <p:cNvSpPr txBox="1"/>
          <p:nvPr/>
        </p:nvSpPr>
        <p:spPr>
          <a:xfrm>
            <a:off x="755640" y="642600"/>
            <a:ext cx="763272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                                          </a:t>
            </a: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ЛИТЕРАТУРА</a:t>
            </a:r>
            <a:br>
              <a:rPr sz="1700"/>
            </a:br>
            <a:r>
              <a:rPr b="0" lang="ru-RU" sz="13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1. Сиротюк А. Л. Развитие интеллекта дошкольников. М, 2000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      </a:t>
            </a: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2. Сиротюк А. Л. Нейропсихологическое и психофизиологичекое сопровождение обучения. М, 2003.</a:t>
            </a:r>
            <a:br>
              <a:rPr sz="1700"/>
            </a:b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 3. Задачи и функции психолога в дошкольном учреждении. Руководство для практического психолога. М., 1991.</a:t>
            </a:r>
            <a:br>
              <a:rPr sz="1700"/>
            </a:b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4. Чиркова Т.И. Психологическая служба в детском саду. М., 2000.</a:t>
            </a:r>
            <a:br>
              <a:rPr sz="1700"/>
            </a:b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5. Забрамная С.Д., Боровик О.В. Развитие ребенка в ваших руках. М., 2000.</a:t>
            </a:r>
            <a:br>
              <a:rPr sz="1700"/>
            </a:b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 6. Безруких М.В. Дети, которых не понимают взрослые // Дошкольное воспитание. 2002. № 5.</a:t>
            </a:r>
            <a:br>
              <a:rPr sz="1700"/>
            </a:b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7. Регуш Л.А. Практикум по наблюдению и наблюдательности. Санкт- Петербург, 2001.</a:t>
            </a:r>
            <a:br>
              <a:rPr sz="1700"/>
            </a:b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8. Психолог в детском дошкольном учреждении. Методические рекомендации к практической деятельности / Под редакцией Лаврентьевой. М, 1996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300"/>
            </a:br>
            <a:r>
              <a:rPr b="0" lang="ru-RU" sz="1300" spc="-1" strike="noStrike">
                <a:solidFill>
                  <a:srgbClr val="404040"/>
                </a:solidFill>
                <a:latin typeface="Century Gothic"/>
              </a:rPr>
              <a:t> </a:t>
            </a:r>
            <a:br>
              <a:rPr sz="1300"/>
            </a:br>
            <a:r>
              <a:rPr b="0" lang="ru-RU" sz="13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7" name="Прямоугольник 1" descr=""/>
          <p:cNvPicPr/>
          <p:nvPr/>
        </p:nvPicPr>
        <p:blipFill>
          <a:blip r:embed="rId1"/>
          <a:stretch/>
        </p:blipFill>
        <p:spPr>
          <a:xfrm>
            <a:off x="828720" y="1847880"/>
            <a:ext cx="8315280" cy="2303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"/>
          <p:cNvSpPr txBox="1"/>
          <p:nvPr/>
        </p:nvSpPr>
        <p:spPr>
          <a:xfrm>
            <a:off x="1187280" y="1341000"/>
            <a:ext cx="7632720" cy="534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Кинезиология – наука о развитии умственных способностей и физического здоровья через определённые двигательные упражнения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89" name="Рисунок 1" descr=""/>
          <p:cNvPicPr/>
          <p:nvPr/>
        </p:nvPicPr>
        <p:blipFill>
          <a:blip r:embed="rId1"/>
          <a:stretch/>
        </p:blipFill>
        <p:spPr>
          <a:xfrm>
            <a:off x="2411280" y="2349360"/>
            <a:ext cx="5040360" cy="2857680"/>
          </a:xfrm>
          <a:prstGeom prst="rect">
            <a:avLst/>
          </a:prstGeom>
          <a:ln w="0">
            <a:noFill/>
          </a:ln>
        </p:spPr>
      </p:pic>
      <p:sp>
        <p:nvSpPr>
          <p:cNvPr id="1190" name="Прямоугольник 2"/>
          <p:cNvSpPr/>
          <p:nvPr/>
        </p:nvSpPr>
        <p:spPr>
          <a:xfrm>
            <a:off x="1476360" y="5483160"/>
            <a:ext cx="719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звестно, что старение организма начинается со старения мозга. Поддерживая мозг в состоянии молодости, мы не позволяем стариться всему те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"/>
          <p:cNvSpPr txBox="1"/>
          <p:nvPr/>
        </p:nvSpPr>
        <p:spPr>
          <a:xfrm>
            <a:off x="1332000" y="1125360"/>
            <a:ext cx="417672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«Правополушарные люди за лесом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не видят отдельных деревьев,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  </a:t>
            </a: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а левополушарные —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за отдельными деревьями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не видят леса»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                             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                            </a:t>
            </a: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Б. Белый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2" name="Рисунок 1" descr=""/>
          <p:cNvPicPr/>
          <p:nvPr/>
        </p:nvPicPr>
        <p:blipFill>
          <a:blip r:embed="rId1"/>
          <a:stretch/>
        </p:blipFill>
        <p:spPr>
          <a:xfrm>
            <a:off x="5364000" y="1844640"/>
            <a:ext cx="3587760" cy="3175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3" name=""/>
          <p:cNvGraphicFramePr/>
          <p:nvPr/>
        </p:nvGraphicFramePr>
        <p:xfrm>
          <a:off x="571680" y="357120"/>
          <a:ext cx="8001000" cy="6238800"/>
        </p:xfrm>
        <a:graphic>
          <a:graphicData uri="http://schemas.openxmlformats.org/drawingml/2006/table">
            <a:tbl>
              <a:tblPr/>
              <a:tblGrid>
                <a:gridCol w="2352600"/>
                <a:gridCol w="2846160"/>
                <a:gridCol w="2802240"/>
              </a:tblGrid>
              <a:tr h="478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Операционный эта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Правополушарны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Левополушарны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Восприятие материа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Целостное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Интонационная сторона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реч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Визуалисты  (зрительно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Дискретное (по частям)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Смысловая сторона речи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Аудисты (слухово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Переработка информ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Быстрая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Мгновен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Медленная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Последовате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640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Интелле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Невербальный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Интуитив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Вербальный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Логиче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Приверженность к практи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Приверженность к тео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823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Эмо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Экстравертированность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Отрицательные (страх, печаль, гнев, ярост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Интровертированность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Положительные (радость, чувство наслаждения, счасть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Памя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Непроизвольная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Наглядно-образ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Произвольная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Знако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1554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Мыш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Наглядно-образное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Оперирование образами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Спонтанное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Эмоциональное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Интуитивное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Трехмерное (в пространств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Абстрактно-логическое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Оперирование цифрами, знаками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Формальное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Рациональное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Программируемое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Двумерное (на плоско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"/>
          <p:cNvSpPr txBox="1"/>
          <p:nvPr/>
        </p:nvSpPr>
        <p:spPr>
          <a:xfrm>
            <a:off x="1258920" y="691920"/>
            <a:ext cx="7632720" cy="33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4478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ри несформированности межполушарного взаимодействия не происходит полноценного обмена информацией между правым и левым полушариями, каждое их которых постигает внешний мир по-своему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176040" indent="4478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176040" indent="4478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Такое разделение функций обеспечивает взаимную дополняемость работы полушарий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176040" indent="4478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176040" indent="4478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Для совместной работы обоих полушарий требуется их функциональная связь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5" name="Рисунок 1" descr=""/>
          <p:cNvPicPr/>
          <p:nvPr/>
        </p:nvPicPr>
        <p:blipFill>
          <a:blip r:embed="rId1"/>
          <a:stretch/>
        </p:blipFill>
        <p:spPr>
          <a:xfrm>
            <a:off x="2700360" y="3887640"/>
            <a:ext cx="4751280" cy="297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"/>
          <p:cNvSpPr txBox="1"/>
          <p:nvPr/>
        </p:nvSpPr>
        <p:spPr>
          <a:xfrm>
            <a:off x="1187280" y="620280"/>
            <a:ext cx="763272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3520" indent="4478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Самый благоприятный период для интеллектуального развития – это возраст до 10 лет, когда кора больших полушарий еще окончательно не сформирована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63520" indent="4478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63520" indent="4478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Развитие межполушарного взаимодействия является основой интеллектуального развития ребенка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63520" indent="4478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7" name="Рисунок 1" descr=""/>
          <p:cNvPicPr/>
          <p:nvPr/>
        </p:nvPicPr>
        <p:blipFill>
          <a:blip r:embed="rId1"/>
          <a:stretch/>
        </p:blipFill>
        <p:spPr>
          <a:xfrm>
            <a:off x="2195640" y="2978280"/>
            <a:ext cx="5076720" cy="3746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"/>
          <p:cNvSpPr txBox="1"/>
          <p:nvPr/>
        </p:nvSpPr>
        <p:spPr>
          <a:xfrm>
            <a:off x="610920" y="1197000"/>
            <a:ext cx="7993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3520" indent="44784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В последнее время отмечается увеличение количества детей с различными нарушениями в развитии, с затруднениями в обучении, трудностями в адаптации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63520" indent="44784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Для преодоления имеющихся у них нарушений,  укрепления психического здоровья необходимо тесное взаимодействие всех участников педагогического процесса.  Одним из составляющих элементов такой работы являются кинезиологические упражнения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"/>
          <p:cNvSpPr txBox="1"/>
          <p:nvPr/>
        </p:nvSpPr>
        <p:spPr>
          <a:xfrm>
            <a:off x="755640" y="713880"/>
            <a:ext cx="763272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3520" indent="36036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 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пособов тренировки мозга существует великое множество.  Вот лишь некоторые из тех, которые можно использовать в работе с детьми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63520" indent="36036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63520" indent="36036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1a1f0d"/>
                </a:solidFill>
                <a:latin typeface="Century Gothic"/>
              </a:rPr>
              <a:t>«Колечко»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63520" indent="36036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оочередно и как можно быстрее перебирайте пальцы рук, соединяя в кольцо с большим пальцем последовательно указательный, средний и т.д. Проба выполняется в прямом и в обратном (от мизинца к указательному пальцу) порядке. Вначале упражнение выполняется каждой рукой отдельно, затем сразу двумя руками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63520" indent="36036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00" name="Рисунок 4" descr="межп2.jpg"/>
          <p:cNvPicPr/>
          <p:nvPr/>
        </p:nvPicPr>
        <p:blipFill>
          <a:blip r:embed="rId1"/>
          <a:stretch/>
        </p:blipFill>
        <p:spPr>
          <a:xfrm>
            <a:off x="4427640" y="4869000"/>
            <a:ext cx="3247920" cy="1409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10:24:52Z</dcterms:created>
  <dc:creator>учитель</dc:creator>
  <dc:description/>
  <dc:language>en-US</dc:language>
  <cp:lastModifiedBy>User</cp:lastModifiedBy>
  <dcterms:modified xsi:type="dcterms:W3CDTF">2022-12-03T18:23:36Z</dcterms:modified>
  <cp:revision>4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080271049</vt:lpwstr>
  </property>
</Properties>
</file>