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jpeg" ContentType="image/jpeg"/>
  <Override PartName="/ppt/media/image25.gif" ContentType="image/gif"/>
  <Override PartName="/ppt/media/image5.jpeg" ContentType="image/jpeg"/>
  <Override PartName="/ppt/media/image26.jpeg" ContentType="image/jpeg"/>
  <Override PartName="/ppt/media/image29.png" ContentType="image/png"/>
  <Override PartName="/ppt/media/image17.png" ContentType="image/png"/>
  <Override PartName="/ppt/media/image4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269E-1656-4B4A-9437-93DB130B8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F275-BCCF-4948-A1B0-D74386FB76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492-D58D-4779-B792-C36F1988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D9D-C22C-4874-9BD3-9105C302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18E3C-49D7-4F4C-8FE4-46C763CD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C1939-5C7B-4AAF-822E-7EB3D826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E7593-9477-433E-9894-367434A3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A70EE-187E-4F85-A2DF-AD080ED4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E7838-1AA3-4994-AF78-D29C1C0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44FE6-D12F-47EB-90F1-600ACA52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4E7D3-CF75-48CF-AD43-ABF0AC3E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043F5-8F6D-4DFC-9118-02BBBDF5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CDB6A-85C0-419C-B913-EA59C1D5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60F6F-076C-46DD-A95D-8EC27DC1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8E9-9213-4897-8A4F-4050DFC5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22073-D766-4B6E-8ACA-34454EA8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FAB9D-9838-4AA2-9D66-91565EDE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8DEBE-D307-4752-8F08-B5CD916A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E1CC3-B2CB-4E4C-8038-42AA9B72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A7970-83AB-418F-9F7E-0424665C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5190C-C79B-4E2B-A92B-22415D88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2BA12-D77F-4A0D-96C3-4C661A1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12C43-558D-4DCD-9061-3FA043C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04584-9EF4-4F5E-B484-C4D61CEE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17432-AC76-438F-8D98-3F577D97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691-775E-4A66-81C6-C212130A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A7832-8131-41CD-9B69-076BC64B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65EF4-165F-40D7-B298-9BFB71BA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71777-B8C8-49D6-803D-9567033A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96379-959F-4C3B-939E-ADD4EFF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458B0-CB44-4E54-BB4E-9FBA55BA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4AC6C-27C0-4AD0-B46E-0217B7F9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B7ECA-F376-401A-9A19-CC9C1F5B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B929B-64A6-4271-AAE1-BDA9610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31984-7F29-45E4-867E-3E1E5F0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787EE-2717-449E-93FB-BA66AF5F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E309-534A-4464-90C9-41435838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8E828-045E-44E8-A126-BDF9FEC9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C5212-33F8-4EDB-B5DC-0AC3B4A1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31D43-0665-424B-ABAB-18CF17C5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DA230-DF96-4772-96A6-9DF3FF87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2F214-6CD0-4EF0-8F6C-BE9FF51F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EF701-AFD7-40BF-95B6-B2593606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CE8D7-2343-4FF4-A15B-2487BD30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7F2C5-60DC-4310-990D-F9B4F23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A335A-CAB4-40DA-ADF1-0C323948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D3591-85BF-4E97-88E7-4AB2D390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DF32-8EF3-4B12-913F-A76E7C1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F25A7-852B-4EC7-BA99-D96648F0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8C1F8-7E51-4E23-9562-73D5C8FC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55AD9-10F6-4ABE-8C08-346C8A1A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BF72E-24AB-48B1-8003-BE2132BC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BAA49-53E2-45CF-AF65-12E1CEA1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D993F-C5DE-4A25-A0DF-2D0C87BE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6885A-E305-45BB-8355-73CE8C3C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CE2E7-4F02-45C3-A4A5-EA86161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DCA06-E10E-43A7-AF66-21A6C66F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642E4-B669-422B-9C8A-45162668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D92B-3360-4DF6-BF99-4049E8A0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D146D-5F86-4067-8D36-25A5B19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69D14-0469-4580-9672-3A0975B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A3F5D-DED5-4B8F-AEDD-E28E21F5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E92BE-1B29-4CC9-B7BD-6766501F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BFE1F-7A36-4F83-9BC4-4EA9A95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90A60-74A9-4588-A824-1E767243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BDB43-8760-4D21-8DAD-96738C0B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74D87-F1D1-4F8A-828B-9112604A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B1345-AFBF-4A6D-BB1E-98CC0F82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1E6DB-61D0-48E1-A037-F8A2457A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8CAF-0FA2-4432-9482-00CA4EBB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B61B7-D64F-4639-89D4-900BECC5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292F3-B6F3-4A16-A12E-86511E05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DEF01-D4FF-490B-A21F-C13A9AA0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BB9C7-1A54-422C-B203-6C5F0594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8AB6D-1D4C-4F3B-BA3D-B4F0D0ED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0957D-CFE2-421C-AD49-3BDFDCE5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80370-563D-45C6-89C6-CC6E5ACF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C49D9-7F94-403B-9CAD-62371BF3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AF6F3-9729-4C13-BB83-6274E773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AD9CC-3817-4F9A-BE60-BC57E7C5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E3C1-4AFC-4D7F-B03F-670B3588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5FB76-5C51-45F5-AF55-8EEE706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D1820-46C3-4EC8-9186-5E5F4DE6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672FF-31A9-430B-8765-DA759D03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7B735-0A60-458F-A01D-F1554FD8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10384-531B-4EC6-91EA-C5A010C5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06C89-0188-4484-9298-0913E07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63885-590A-4D03-B5CB-965B7172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E786A-0B0C-4076-8FA6-5398D70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C92FF-8697-40A6-8EF6-4741A3AC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B97A7-6EA0-453C-86B4-9F230F35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6B22-2B30-456D-B32E-B152EB44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C3C1B-043F-4327-9799-0A05DBA6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05E86-BB1A-4BD1-A1AE-FBBA37FC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3A01E-A8AB-4B12-B9C7-48E65AA5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A1BDD-31E1-49AF-910D-7010FD95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02546-036B-4C9B-82FF-AEA231E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AC4C2-1C1D-4D40-B67E-B6A3B1F2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16927-1F8F-49E6-B26C-1A6CBD8A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463E3-5DD6-4857-AF60-4772734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B361A6-F39B-4028-99B1-3BA48898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F1BBF-259E-4FF9-B149-6120DEC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52E4-F62A-44DD-80B0-113FD179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0914A-E040-4AB9-A637-1AEEF504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8AE18-F58D-4A7D-A351-7021A740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D40DB-0AC1-471C-9602-2130B4D7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3E283-09BD-43E8-A367-40151B17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E6BA5-BD1C-44D8-9B9E-AE8D441E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252C7-8264-4BCD-AD0E-190D2ADD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9EC30-16C8-4E10-8F4A-79C0EAF2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4EA16-BD62-4675-86CE-43B7E3B8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82192-48E6-4DBB-BD6B-FBEA5772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44486-F482-4CF3-AF12-5340317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2FF-3FEF-4033-8CA1-DA6E87C0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1A8C-0E25-4D4E-BE98-5712AFF8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55DC1-1374-4A2D-8ADA-73DC757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3654D1-E7FD-427E-BD71-E710310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EEDFE-07FE-454C-830A-28FF171C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7D2C4-2DB7-4D43-AF4C-DD8735DD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5CD30-0ECE-4815-9263-2D0BA22B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DD9C-B2A2-40A5-B020-5A114458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46F3-AF94-4362-87D4-FEA2DA27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0186-6D73-45DE-85E3-B9333586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D8F3-A3FB-481E-AD41-525A00AB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4AFA-07BE-4D6B-A60B-A84D940A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1099-C11F-4E99-A40B-7CABDC6D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1355-DC23-4191-AF0F-D2C6023D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61B2-4379-4C74-8D50-0AFACF7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251D-D882-4E42-B9C3-3754E9C1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6AC-D0CA-4C25-AA9B-9E53E8D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9537-4AD8-469D-BCF5-097F2B72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78CB-D2D2-4ABC-BAB6-9E66A1CB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BDC5-6B24-470E-A7D8-7A0743C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9B10-B1A6-40F5-A8BA-C8B91C76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DF50-DFF2-4300-8357-019D26A2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0B3A-DADB-4F6E-A371-B1E74045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DBFE6-9D28-4991-884A-BC3BE95A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F4D2-A84D-4E40-9D06-CFBB70BF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F5BC-0E0D-4556-8B33-8E53DD27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1AEA-D068-4F8D-94E7-857894D4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BFD-6B8A-4BE2-B2DD-2ECE3AAC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EB8EC-DBF7-4049-AEE9-BCCA0902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1441-B4C9-4A3E-A649-3077C7B9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3D5EE-536F-444B-B8A9-E8B9F96E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85B9-D040-4742-8AA9-BAAA098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0D02-17D4-48A6-A102-AAB11370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0456-85E1-4E96-9678-C38B7587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1EA02-D8CD-4A30-8EA1-4313B80F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8A156-2C2B-4E78-BE5D-0AD1B736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5A84-A6F7-4D41-8C04-18AC78E8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BFCF2-C3DB-4EDA-9DD6-CA9D91F1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511-F20A-4F36-B31B-81C7284E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E47E-1926-4CA7-8A9E-4A7A3F47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3DFE6-5672-4792-8D3C-79AA1BEF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01A50-E80E-472B-BB36-8E7BB4C5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1161-4975-4C29-BDF0-D5850194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38560-0E29-44B2-82F0-2A1BE99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BEFC-4109-424D-8541-337E4BD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74249-B15A-4697-BFAE-FAC63CF2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E6DBC-02B6-46D1-B4EA-BA02FDC8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7059D-AE59-4654-A714-6A355AB3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B0D2-1A97-4873-9FC9-760E9B29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BDB-E9F3-46C2-9E51-1E355417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BBD1F-6BC4-4D64-8EA0-800C585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2C1CD-FF18-45E1-9458-963CEAB2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9590B-2080-4DF1-B1B6-842922B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D898-AFCF-4A4C-992E-199EABA6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E511-14A9-457A-AFC9-C7F7EAC3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D2937-D7F8-4583-9F20-78B15981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42F46-353D-4850-B31B-AD912F1E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53F7-DC5F-4A71-B9D1-DCA86B09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2C911-B4F1-4A4A-82BE-58297E8C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C1018-56DC-4F66-AC89-42F376A1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EF8-08EE-484F-A38A-6505492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244B1-2B76-4D01-A6A1-6194FB4A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F58EE-ABB2-48A3-A5EE-E1955891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F4EFD-1715-4018-B527-682C191F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BFEC-7A54-44B6-9A1A-B751CC28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D1F18-2989-4615-89A3-710BE673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86840-7D64-40C6-AE73-1DE7A705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2B4C9-E13F-4039-B71F-130D6B18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3CAED-EC85-4B90-A242-85D8479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B2C5D-3693-4D83-A857-A34B900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27298-23E3-4EC8-93EB-C3B990B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259-62EF-4265-8552-3FAFBAA2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EAAD3-D4B5-4461-AB10-5CDA7C17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FF7F7-4B54-4999-9577-FEC69306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013C1-BA05-483D-93C3-3E6F3115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D9A2A-D20E-46DF-B006-85F2661A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F3E2E-5324-4071-B8F7-996C38E1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55EFC-9427-488C-88DD-E15D6BB9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7CCC9-4ADB-4999-AB84-8E75178A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E217E-5155-4BB7-8B9A-5CFB0642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32E12-575C-4AD7-AF01-E4A1E21A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6F5C0-14BD-46EF-9053-4057FB22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C7E-21C2-4D36-B6B3-D34F73A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A0BE7-28D2-4ACA-8345-90A5BC22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4FF8-67B6-41D8-A735-6FBF495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CF390-246E-4A72-B1AA-90536D6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A7A95-F955-443E-A632-F5C057E5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88C77-43BF-4FBE-BF2C-E5B16661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C791A-D32B-4A1B-B594-79AC3533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5A773-8297-4F83-88CF-9FEBB740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58F99-D2A9-43A2-8847-252C0472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802C8-3011-449B-A067-6A8AF411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6C73C-87D0-441C-BAD2-A683DEB2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A801-9919-4B6C-8950-1DD3AB713E0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92F9-F23E-458C-8FB0-5AC637FB31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CD7A-369B-4568-8C3D-1DE83C351A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8ADD-584E-4DD7-B9D7-899BC0959BE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71C0-11E5-4F28-AA88-91BAFFB357E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64FF-FA7C-4B29-A59D-16CFC8CDF8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A6F6-A86F-4DBC-95AE-5FB245DA0C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BFE0-3045-43B2-8D9A-DFE922265D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B870-8CC6-41C1-B92E-BD08E65032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14B9-83A1-40DD-B6B1-DB9A692455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7D7B-2CB7-4B07-9187-325184E0C1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EF6D-A8B9-4F29-98B0-8F976DE1204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F7C3-6FFB-403E-9780-6CEF5A5395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DBC8-E2D2-4537-8F27-C2E334B6BD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2548-E708-465A-9A0E-67E0784163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76C5-F875-4053-A90E-0E524BAACF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710E-909E-43C0-AA82-5C36A93249B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76000" y="642960"/>
            <a:ext cx="7010280" cy="425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c00000"/>
                </a:solidFill>
                <a:latin typeface="Century Gothic"/>
                <a:ea typeface="Aharoni"/>
              </a:rPr>
              <a:t>Кинезиологические упражнения</a:t>
            </a: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424d22"/>
                </a:solidFill>
                <a:latin typeface="Century Gothic"/>
              </a:rPr>
              <a:t> 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TextBox 1"/>
          <p:cNvSpPr/>
          <p:nvPr/>
        </p:nvSpPr>
        <p:spPr>
          <a:xfrm>
            <a:off x="3708360" y="4897440"/>
            <a:ext cx="49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-психолог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стакимова А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ский сад №43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1"/>
          <p:cNvSpPr/>
          <p:nvPr/>
        </p:nvSpPr>
        <p:spPr>
          <a:xfrm>
            <a:off x="2981160" y="692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1808"/>
                </a:solidFill>
                <a:latin typeface="Arial"/>
              </a:rPr>
              <a:t>Мастер-класс для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584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Century Gothic"/>
              </a:rPr>
              <a:t>«Кулак-ребро-ладонь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2584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Ребёнку показывают три положения руки на плоскости стола, последовательно сменяющих друг друга. Ладонь на плоскости, ладонь, сжатая в кулак, ладонь ребром на плоскости стола, распрямлённая ладонь на плоскости стола. Ребёнок выполняет пробу вместе с педагогом, затем по памяти в течение 8 – 10 повторений моторной программы. Проба выполняется сначала правой рукой, потом – левой, затем – двумя руками вместе. При усвоении программы или при затруднениях в выполнении педагог предлагает ребёнку помогать себе командами («кулак – ребро – ладонь»), произносимыми вслух или про себя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2584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2" name="Рисунок 3" descr="i_045.jpg"/>
          <p:cNvPicPr/>
          <p:nvPr/>
        </p:nvPicPr>
        <p:blipFill>
          <a:blip r:embed="rId1"/>
          <a:stretch/>
        </p:blipFill>
        <p:spPr>
          <a:xfrm>
            <a:off x="2627280" y="4076640"/>
            <a:ext cx="5516640" cy="195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49560" indent="361800" algn="just"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Century Gothic"/>
              </a:rPr>
              <a:t>«Лезгинка»</a:t>
            </a:r>
            <a:br>
              <a:rPr sz="2000"/>
            </a:br>
            <a:r>
              <a:rPr b="0" lang="ru-RU" sz="1800" spc="-1" strike="noStrike">
                <a:solidFill>
                  <a:srgbClr val="1a1f0d"/>
                </a:solidFill>
                <a:latin typeface="Century Gothic"/>
              </a:rPr>
              <a:t>Левую руку сложите в кулак, большой палец отставьте в сторону, кулак разверните пальцами к себе. Правой рукой прямой ладонью в горизонтальном положении прикоснитесь к мизинцу левой. После этого одновременно смените положение правой и левой рук. Повторить 6-8 раз. Добивайтесь высокой скорости смены полож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149560" indent="361800" algn="ctr"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Рисунок 4" descr="межп1.jpg"/>
          <p:cNvPicPr/>
          <p:nvPr/>
        </p:nvPicPr>
        <p:blipFill>
          <a:blip r:embed="rId1"/>
          <a:stretch/>
        </p:blipFill>
        <p:spPr>
          <a:xfrm>
            <a:off x="611280" y="1268280"/>
            <a:ext cx="2241360" cy="1224000"/>
          </a:xfrm>
          <a:prstGeom prst="rect">
            <a:avLst/>
          </a:prstGeom>
          <a:ln w="0">
            <a:noFill/>
          </a:ln>
        </p:spPr>
      </p:pic>
      <p:sp>
        <p:nvSpPr>
          <p:cNvPr id="1205" name="Прямоугольник 5"/>
          <p:cNvSpPr/>
          <p:nvPr/>
        </p:nvSpPr>
        <p:spPr>
          <a:xfrm>
            <a:off x="1214280" y="3357720"/>
            <a:ext cx="6929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Arial"/>
              </a:rPr>
              <a:t>«Ухо – н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ой рукой возьмитесь за кончик носа, а правой рукой – за противоположное ухо. Одновременно отпустите ухо и нос, хлопните в ладоши, поменяйте положение рук «с точностью до наоборо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6" name="Рисунок 6" descr="межп..jpg"/>
          <p:cNvPicPr/>
          <p:nvPr/>
        </p:nvPicPr>
        <p:blipFill>
          <a:blip r:embed="rId2"/>
          <a:stretch/>
        </p:blipFill>
        <p:spPr>
          <a:xfrm>
            <a:off x="5508720" y="4941720"/>
            <a:ext cx="2555640" cy="17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5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Century Gothic"/>
              </a:rPr>
              <a:t>«Зеркальное рисование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59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ru-RU" sz="1800" spc="-1" strike="noStrike">
                <a:solidFill>
                  <a:srgbClr val="1a1f0d"/>
                </a:solidFill>
                <a:latin typeface="Century Gothic"/>
              </a:rPr>
              <a:t>Положите на стол чистый лист бумаги. Возьмите в обе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уки по карандашу или фломастеру. Начните рисовать одновременно обеими руками зеркально – симметричные рисунки, буквы. При выполнении этого упражнения почувствуете, как расслабляются глаза и руки. Когда деятельность обоих полушарий синхронизируется, заметно увеличится эффективность работы всего мозг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5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5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345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8" name="Рисунок 3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5457960" cy="1238400"/>
          </a:xfrm>
          <a:prstGeom prst="rect">
            <a:avLst/>
          </a:prstGeom>
          <a:ln w="0">
            <a:noFill/>
          </a:ln>
        </p:spPr>
      </p:pic>
      <p:pic>
        <p:nvPicPr>
          <p:cNvPr id="1209" name="Рисунок 4" descr=""/>
          <p:cNvPicPr/>
          <p:nvPr/>
        </p:nvPicPr>
        <p:blipFill>
          <a:blip r:embed="rId2"/>
          <a:stretch/>
        </p:blipFill>
        <p:spPr>
          <a:xfrm>
            <a:off x="642960" y="4786200"/>
            <a:ext cx="2514600" cy="1181160"/>
          </a:xfrm>
          <a:prstGeom prst="rect">
            <a:avLst/>
          </a:prstGeom>
          <a:ln w="0">
            <a:noFill/>
          </a:ln>
        </p:spPr>
      </p:pic>
      <p:pic>
        <p:nvPicPr>
          <p:cNvPr id="1210" name="Рисунок 5" descr=""/>
          <p:cNvPicPr/>
          <p:nvPr/>
        </p:nvPicPr>
        <p:blipFill>
          <a:blip r:embed="rId3"/>
          <a:stretch/>
        </p:blipFill>
        <p:spPr>
          <a:xfrm>
            <a:off x="3286080" y="4857840"/>
            <a:ext cx="2638440" cy="1085760"/>
          </a:xfrm>
          <a:prstGeom prst="rect">
            <a:avLst/>
          </a:prstGeom>
          <a:ln w="0">
            <a:noFill/>
          </a:ln>
        </p:spPr>
      </p:pic>
      <p:pic>
        <p:nvPicPr>
          <p:cNvPr id="1211" name="Рисунок 6" descr=""/>
          <p:cNvPicPr/>
          <p:nvPr/>
        </p:nvPicPr>
        <p:blipFill>
          <a:blip r:embed="rId4"/>
          <a:stretch/>
        </p:blipFill>
        <p:spPr>
          <a:xfrm>
            <a:off x="6072120" y="5000760"/>
            <a:ext cx="2428920" cy="942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Century Gothic"/>
              </a:rPr>
              <a:t>Примеры схем для зеркального рисования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spcBef>
                <a:spcPts val="1001"/>
              </a:spcBef>
              <a:buClr>
                <a:srgbClr val="a53010"/>
              </a:buClr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3" name="Рисунок 3" descr=""/>
          <p:cNvPicPr/>
          <p:nvPr/>
        </p:nvPicPr>
        <p:blipFill>
          <a:blip r:embed="rId1"/>
          <a:stretch/>
        </p:blipFill>
        <p:spPr>
          <a:xfrm>
            <a:off x="1928880" y="1214280"/>
            <a:ext cx="5305320" cy="1428840"/>
          </a:xfrm>
          <a:prstGeom prst="rect">
            <a:avLst/>
          </a:prstGeom>
          <a:ln w="0">
            <a:noFill/>
          </a:ln>
        </p:spPr>
      </p:pic>
      <p:pic>
        <p:nvPicPr>
          <p:cNvPr id="1214" name="Рисунок 4" descr=""/>
          <p:cNvPicPr/>
          <p:nvPr/>
        </p:nvPicPr>
        <p:blipFill>
          <a:blip r:embed="rId2"/>
          <a:stretch/>
        </p:blipFill>
        <p:spPr>
          <a:xfrm>
            <a:off x="785880" y="2786040"/>
            <a:ext cx="3895560" cy="1514520"/>
          </a:xfrm>
          <a:prstGeom prst="rect">
            <a:avLst/>
          </a:prstGeom>
          <a:ln w="0">
            <a:noFill/>
          </a:ln>
        </p:spPr>
      </p:pic>
      <p:pic>
        <p:nvPicPr>
          <p:cNvPr id="1215" name="Рисунок 5" descr=""/>
          <p:cNvPicPr/>
          <p:nvPr/>
        </p:nvPicPr>
        <p:blipFill>
          <a:blip r:embed="rId3"/>
          <a:stretch/>
        </p:blipFill>
        <p:spPr>
          <a:xfrm>
            <a:off x="1285920" y="4643280"/>
            <a:ext cx="3029040" cy="1076400"/>
          </a:xfrm>
          <a:prstGeom prst="rect">
            <a:avLst/>
          </a:prstGeom>
          <a:ln w="0">
            <a:noFill/>
          </a:ln>
        </p:spPr>
      </p:pic>
      <p:pic>
        <p:nvPicPr>
          <p:cNvPr id="1216" name="Рисунок 6" descr=""/>
          <p:cNvPicPr/>
          <p:nvPr/>
        </p:nvPicPr>
        <p:blipFill>
          <a:blip r:embed="rId4"/>
          <a:stretch/>
        </p:blipFill>
        <p:spPr>
          <a:xfrm>
            <a:off x="4786200" y="2857680"/>
            <a:ext cx="3524400" cy="1352520"/>
          </a:xfrm>
          <a:prstGeom prst="rect">
            <a:avLst/>
          </a:prstGeom>
          <a:ln w="0">
            <a:noFill/>
          </a:ln>
        </p:spPr>
      </p:pic>
      <p:pic>
        <p:nvPicPr>
          <p:cNvPr id="1217" name="Рисунок 7" descr=""/>
          <p:cNvPicPr/>
          <p:nvPr/>
        </p:nvPicPr>
        <p:blipFill>
          <a:blip r:embed="rId5"/>
          <a:stretch/>
        </p:blipFill>
        <p:spPr>
          <a:xfrm>
            <a:off x="4786200" y="4643280"/>
            <a:ext cx="3105360" cy="110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 txBox="1"/>
          <p:nvPr/>
        </p:nvSpPr>
        <p:spPr>
          <a:xfrm>
            <a:off x="900000" y="1412640"/>
            <a:ext cx="763272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Исследования показывают, что выполнение обычного действия «необычной» рукой активизирует новые участки мозга и помогает развивать новые контакты между клетками мозг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Так что пробуйте, экспериментируйт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1a1f0d"/>
                </a:solidFill>
                <a:latin typeface="Century Gothic"/>
              </a:rPr>
              <a:t>Это не только полезно, но и весело!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Содержимое 4" descr="межп4.jpg"/>
          <p:cNvPicPr/>
          <p:nvPr/>
        </p:nvPicPr>
        <p:blipFill>
          <a:blip r:embed="rId1"/>
          <a:stretch/>
        </p:blipFill>
        <p:spPr>
          <a:xfrm>
            <a:off x="857160" y="642960"/>
            <a:ext cx="3524400" cy="5483160"/>
          </a:xfrm>
          <a:prstGeom prst="rect">
            <a:avLst/>
          </a:prstGeom>
          <a:ln w="0">
            <a:noFill/>
          </a:ln>
        </p:spPr>
      </p:pic>
      <p:pic>
        <p:nvPicPr>
          <p:cNvPr id="1220" name="Рисунок 5" descr="межп5.jpg"/>
          <p:cNvPicPr/>
          <p:nvPr/>
        </p:nvPicPr>
        <p:blipFill>
          <a:blip r:embed="rId2"/>
          <a:stretch/>
        </p:blipFill>
        <p:spPr>
          <a:xfrm>
            <a:off x="4786200" y="642960"/>
            <a:ext cx="3476880" cy="54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Содержимое 3" descr="межп13.jpg"/>
          <p:cNvPicPr/>
          <p:nvPr/>
        </p:nvPicPr>
        <p:blipFill>
          <a:blip r:embed="rId1"/>
          <a:stretch/>
        </p:blipFill>
        <p:spPr>
          <a:xfrm>
            <a:off x="857160" y="714240"/>
            <a:ext cx="3259080" cy="5197680"/>
          </a:xfrm>
          <a:prstGeom prst="rect">
            <a:avLst/>
          </a:prstGeom>
          <a:ln w="0">
            <a:noFill/>
          </a:ln>
        </p:spPr>
      </p:pic>
      <p:pic>
        <p:nvPicPr>
          <p:cNvPr id="1222" name="Рисунок 7" descr="межп11.jpg"/>
          <p:cNvPicPr/>
          <p:nvPr/>
        </p:nvPicPr>
        <p:blipFill>
          <a:blip r:embed="rId2"/>
          <a:stretch/>
        </p:blipFill>
        <p:spPr>
          <a:xfrm>
            <a:off x="4500720" y="714240"/>
            <a:ext cx="3576600" cy="528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632720" cy="82440"/>
          </a:xfrm>
          <a:prstGeom prst="rect">
            <a:avLst/>
          </a:prstGeom>
          <a:noFill/>
          <a:ln w="0">
            <a:noFill/>
          </a:ln>
        </p:spPr>
        <p:txBody>
          <a:bodyPr tIns="36720" bIns="367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1042920" y="692280"/>
            <a:ext cx="7632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1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Дышите только через одну ноздрю (сначала левую, затем правую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500"/>
            </a:b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2 «Яйцо»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Сядьте на пол, подтяните колени к животу, обхватите их руками, голову спрячьте в колени. Раскачивайтесь из стороны в сторону, стараясь расслабиться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500"/>
            </a:b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3 «Лодочка»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Лежа на спине, вытяните руки. По команде одновременно                    поднимите прямые ноги, руки и голову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Держите позу максимально долго. Затем выполните это упражнение, лежа на живот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500"/>
            </a:b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4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Закройте глаза. Попробуйте опознать небольшой предмет, который дадут вам в руку (ключ, пуговица, скрепка и т.д.). Другой рукой нарисуйте его на бумаг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 </a:t>
            </a:r>
            <a:br>
              <a:rPr sz="1500"/>
            </a:b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 </a:t>
            </a:r>
            <a:r>
              <a:rPr b="1" lang="ru-RU" sz="1500" spc="-1" strike="noStrike">
                <a:solidFill>
                  <a:srgbClr val="1a1f0d"/>
                </a:solidFill>
                <a:latin typeface="Century Gothic"/>
              </a:rPr>
              <a:t>Упражнение № 5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Упражнение выполняется в парах.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1a1f0d"/>
                </a:solidFill>
                <a:latin typeface="Century Gothic"/>
              </a:rPr>
              <a:t>Встаньте лицом друг к другу. Один выполняет движения руками и ногами, другой должен их зеркально отобразить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180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5" name="Рисунок 3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1209600" cy="8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763272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entury Gothic"/>
              </a:rPr>
              <a:t>Тест лево- правополушарности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7" name="Picture 4" descr="spinning-silhouette-optical-illusion"/>
          <p:cNvPicPr/>
          <p:nvPr/>
        </p:nvPicPr>
        <p:blipFill>
          <a:blip r:embed="rId1"/>
          <a:stretch/>
        </p:blipFill>
        <p:spPr>
          <a:xfrm>
            <a:off x="3143160" y="1479600"/>
            <a:ext cx="3949920" cy="526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Picture 24" descr="abell39_misti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Межполушарная асимметр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24000" y="1196640"/>
            <a:ext cx="4752720" cy="5661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Century Gothic"/>
              </a:rPr>
              <a:t>Правое полушар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интуитивн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живет прошлы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правдив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мрачно,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пессимистичн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не способно образовывать новые конструкци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ffcc"/>
                </a:solidFill>
                <a:latin typeface="Century Gothic"/>
              </a:rPr>
              <a:t>способно люб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5076720" y="1197000"/>
            <a:ext cx="4067280" cy="54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Century Gothic"/>
              </a:rPr>
              <a:t>Левое полушар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логичн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живет будущи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способно ко лжи обладает чувством юмо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образует новые конструкци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способно мсти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Century Gothic"/>
              </a:rPr>
              <a:t>и ненавидеть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2" name="Picture 9" descr="0073"/>
          <p:cNvPicPr/>
          <p:nvPr/>
        </p:nvPicPr>
        <p:blipFill>
          <a:blip r:embed="rId2"/>
          <a:stretch/>
        </p:blipFill>
        <p:spPr>
          <a:xfrm>
            <a:off x="250920" y="227664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18" descr="0073"/>
          <p:cNvPicPr/>
          <p:nvPr/>
        </p:nvPicPr>
        <p:blipFill>
          <a:blip r:embed="rId3"/>
          <a:stretch/>
        </p:blipFill>
        <p:spPr>
          <a:xfrm>
            <a:off x="250920" y="278136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9" descr="0073"/>
          <p:cNvPicPr/>
          <p:nvPr/>
        </p:nvPicPr>
        <p:blipFill>
          <a:blip r:embed="rId4"/>
          <a:stretch/>
        </p:blipFill>
        <p:spPr>
          <a:xfrm>
            <a:off x="250920" y="328464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20" descr="0073"/>
          <p:cNvPicPr/>
          <p:nvPr/>
        </p:nvPicPr>
        <p:blipFill>
          <a:blip r:embed="rId5"/>
          <a:stretch/>
        </p:blipFill>
        <p:spPr>
          <a:xfrm>
            <a:off x="250920" y="371628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21" descr="0073"/>
          <p:cNvPicPr/>
          <p:nvPr/>
        </p:nvPicPr>
        <p:blipFill>
          <a:blip r:embed="rId6"/>
          <a:stretch/>
        </p:blipFill>
        <p:spPr>
          <a:xfrm>
            <a:off x="250920" y="465300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22" descr="0073"/>
          <p:cNvPicPr/>
          <p:nvPr/>
        </p:nvPicPr>
        <p:blipFill>
          <a:blip r:embed="rId7"/>
          <a:stretch/>
        </p:blipFill>
        <p:spPr>
          <a:xfrm>
            <a:off x="285840" y="5429160"/>
            <a:ext cx="396720" cy="3603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19" descr="181"/>
          <p:cNvPicPr/>
          <p:nvPr/>
        </p:nvPicPr>
        <p:blipFill>
          <a:blip r:embed="rId8"/>
          <a:stretch/>
        </p:blipFill>
        <p:spPr>
          <a:xfrm>
            <a:off x="4932360" y="2349360"/>
            <a:ext cx="433440" cy="4320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20" descr="181"/>
          <p:cNvPicPr/>
          <p:nvPr/>
        </p:nvPicPr>
        <p:blipFill>
          <a:blip r:embed="rId9"/>
          <a:stretch/>
        </p:blipFill>
        <p:spPr>
          <a:xfrm>
            <a:off x="4932360" y="2852640"/>
            <a:ext cx="433440" cy="4320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21" descr="181"/>
          <p:cNvPicPr/>
          <p:nvPr/>
        </p:nvPicPr>
        <p:blipFill>
          <a:blip r:embed="rId10"/>
          <a:stretch/>
        </p:blipFill>
        <p:spPr>
          <a:xfrm>
            <a:off x="4932360" y="3284640"/>
            <a:ext cx="433440" cy="43164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22" descr="181"/>
          <p:cNvPicPr/>
          <p:nvPr/>
        </p:nvPicPr>
        <p:blipFill>
          <a:blip r:embed="rId11"/>
          <a:stretch/>
        </p:blipFill>
        <p:spPr>
          <a:xfrm>
            <a:off x="4932360" y="3645000"/>
            <a:ext cx="433440" cy="43164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23" descr="181"/>
          <p:cNvPicPr/>
          <p:nvPr/>
        </p:nvPicPr>
        <p:blipFill>
          <a:blip r:embed="rId12"/>
          <a:stretch/>
        </p:blipFill>
        <p:spPr>
          <a:xfrm>
            <a:off x="4932360" y="4508640"/>
            <a:ext cx="433440" cy="43164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24" descr="181"/>
          <p:cNvPicPr/>
          <p:nvPr/>
        </p:nvPicPr>
        <p:blipFill>
          <a:blip r:embed="rId13"/>
          <a:stretch/>
        </p:blipFill>
        <p:spPr>
          <a:xfrm>
            <a:off x="5003640" y="5373720"/>
            <a:ext cx="433440" cy="43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1195200" y="471240"/>
            <a:ext cx="78404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Gothic"/>
              </a:rPr>
              <a:t>«Мозг, хорошо устроенный, стоит больше, чем мозг, хорошо наполненный»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шель де Монтен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Рисунок 1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5184720" cy="37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1258920" y="692280"/>
            <a:ext cx="72756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1a1f0d"/>
                </a:solidFill>
                <a:latin typeface="Century Gothic"/>
              </a:rPr>
              <a:t>Упражнения для снятия эмоционального напряжения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1a1f0d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Сжимают пальцы в кулак с загнутым внутрь большим пальцем. Делая выдох спокойно, не торопясь, сжимают кулак с усилием. Затем, ослабляя сжатие кулака, делают вдох. Повторять следует 5 раз. Выполнение упражнения с закрытыми глазами удваивает эффект. Упражнение также помогает в точном запоминании важной и сложной информации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Делают двумя грецкими орехами круговые движения в каждой ладони. Упражнение так же развивает тонкую моторику рук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Слегка массируют кончик мизинц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Помещают орех на кисть руки со стороны мизинца (на ладони) и ладонью другой руки слегка нажимают и делают орехом круговые движения (3 мин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971640" y="404280"/>
            <a:ext cx="76327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Упражнение для развития памяти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Одновременно двумя руками «промахать» в воздухе в зеркальном отражении (записывать на листе бумаги) информацию, которую необходимо запомнить (буквы, таблица умножения,  формулы, иностранные слова и т.д.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Упражнения для развития внимания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Раскрывают пальцы левой руки, слегка нажимают точку концентрации внимания, расположенную в середине   ладони, большим пальцем правой руки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Повторяют это 5 раз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При нажатии делают выдох, а при ослаблении усилия —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вдох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Упражнение делают спокойно, не торопясь. Потом делают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a1f0d"/>
                </a:solidFill>
                <a:latin typeface="Arial"/>
                <a:ea typeface="Arial"/>
              </a:rPr>
              <a:t>то же самое для правой рук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2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755640" y="642600"/>
            <a:ext cx="76327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                                          </a:t>
            </a: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ЛИТЕРАТУРА</a:t>
            </a:r>
            <a:br>
              <a:rPr sz="1700"/>
            </a:br>
            <a:r>
              <a:rPr b="0" lang="ru-RU" sz="13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1. Сиротюк А. Л. Развитие интеллекта дошкольников. М, 2000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2. Сиротюк А. Л. Нейропсихологическое и психофизиологичекое сопровождение обучения. М, 2003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3. Задачи и функции психолога в дошкольном учреждении. Руководство для практического психолога. М., 1991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4. Чиркова Т.И. Психологическая служба в детском саду. М., 2000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5. Забрамная С.Д., Боровик О.В. Развитие ребенка в ваших руках. М., 2000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6. Безруких М.В. Дети, которых не понимают взрослые // Дошкольное воспитание. 2002. № 5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7. Регуш Л.А. Практикум по наблюдению и наблюдательности. Санкт- Петербург, 2001.</a:t>
            </a:r>
            <a:br>
              <a:rPr sz="1700"/>
            </a:b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8. Психолог в детском дошкольном учреждении. Методические рекомендации к практической деятельности / Под редакцией Лаврентьевой. М, 1996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r>
              <a:rPr b="0" lang="ru-RU" sz="1300" spc="-1" strike="noStrike">
                <a:solidFill>
                  <a:srgbClr val="404040"/>
                </a:solidFill>
                <a:latin typeface="Century Gothic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65040" indent="-2556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Прямоугольник 1" descr=""/>
          <p:cNvPicPr/>
          <p:nvPr/>
        </p:nvPicPr>
        <p:blipFill>
          <a:blip r:embed="rId1"/>
          <a:stretch/>
        </p:blipFill>
        <p:spPr>
          <a:xfrm>
            <a:off x="828720" y="1847880"/>
            <a:ext cx="831528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1187280" y="1341000"/>
            <a:ext cx="763272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инезиология – наука о развитии умственных способностей и физического здоровья через определённые двигательные упражнени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9" name="Рисунок 1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5040360" cy="2857680"/>
          </a:xfrm>
          <a:prstGeom prst="rect">
            <a:avLst/>
          </a:prstGeom>
          <a:ln w="0">
            <a:noFill/>
          </a:ln>
        </p:spPr>
      </p:pic>
      <p:sp>
        <p:nvSpPr>
          <p:cNvPr id="1190" name="Прямоугольник 2"/>
          <p:cNvSpPr/>
          <p:nvPr/>
        </p:nvSpPr>
        <p:spPr>
          <a:xfrm>
            <a:off x="1476360" y="5483160"/>
            <a:ext cx="71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вестно, что старение организма начинается со старения мозга. Поддерживая мозг в состоянии молодости, мы не позволяем стариться всему те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1332000" y="1125360"/>
            <a:ext cx="41767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«Правополушарные люди за лесом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е видят отдельных деревьев,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а левополушарные —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за отдельными деревьям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е видят леса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    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                        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Б. Бел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Рисунок 1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587760" cy="317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3" name=""/>
          <p:cNvGraphicFramePr/>
          <p:nvPr/>
        </p:nvGraphicFramePr>
        <p:xfrm>
          <a:off x="571680" y="357120"/>
          <a:ext cx="8001000" cy="6238800"/>
        </p:xfrm>
        <a:graphic>
          <a:graphicData uri="http://schemas.openxmlformats.org/drawingml/2006/table">
            <a:tbl>
              <a:tblPr/>
              <a:tblGrid>
                <a:gridCol w="2352600"/>
                <a:gridCol w="2846160"/>
                <a:gridCol w="2802240"/>
              </a:tblGrid>
              <a:tr h="478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Операционный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авополушар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Левополушар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Восприятие матери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Целостн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онационная сторона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реч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Визуалисты  (зрительн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Дискретное (по частям)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Смысловая сторона речи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Аудисты (слухово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ереработка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Быстра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Мгнове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Медленна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оследова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елл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Невербальный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уи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Вербальный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иверженность к прак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иверженность к те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Эмо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Экстравертированнос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Отрицательные (страх, печаль, гнев, яр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ровертированнос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оложительные (радость, чувство наслаждения, счасть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ам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Непроизвольна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Наглядно-образ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оизвольна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Знак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Мыш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Наглядно-образно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Оперирование образам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Спонтанн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Эмоциональн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Интуитивн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Трехмерное (в простран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Абстрактно-логическо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Оперирование цифрами, знакам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Формально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Рациональное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Программируемое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1a1f0d"/>
                          </a:solidFill>
                          <a:latin typeface="Century Gothic"/>
                        </a:rPr>
                        <a:t>Двумерное (на плоск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1258920" y="691920"/>
            <a:ext cx="763272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несформированности межполушарного взаимодействия не происходит полноценного обмена информацией между правым и левым полушариями, каждое их которых постигает внешний мир по-своем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акое разделение функций обеспечивает взаимную дополняемость работы полушарий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17604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совместной работы обоих полушарий требуется их функциональная связь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5" name="Рисунок 1" descr=""/>
          <p:cNvPicPr/>
          <p:nvPr/>
        </p:nvPicPr>
        <p:blipFill>
          <a:blip r:embed="rId1"/>
          <a:stretch/>
        </p:blipFill>
        <p:spPr>
          <a:xfrm>
            <a:off x="2700360" y="3887640"/>
            <a:ext cx="4751280" cy="29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1187280" y="620280"/>
            <a:ext cx="7632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амый благоприятный период для интеллектуального развития – это возраст до 10 лет, когда кора больших полушарий еще окончательно не сформирован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азвитие межполушарного взаимодействия является основой интеллектуального развития ребенка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4478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7" name="Рисунок 1" descr=""/>
          <p:cNvPicPr/>
          <p:nvPr/>
        </p:nvPicPr>
        <p:blipFill>
          <a:blip r:embed="rId1"/>
          <a:stretch/>
        </p:blipFill>
        <p:spPr>
          <a:xfrm>
            <a:off x="2195640" y="2978280"/>
            <a:ext cx="5076720" cy="374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 txBox="1"/>
          <p:nvPr/>
        </p:nvSpPr>
        <p:spPr>
          <a:xfrm>
            <a:off x="610920" y="119700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44784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 последнее время отмечается увеличение количества детей с различными нарушениями в развитии, с затруднениями в обучении, трудностями в адаптации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44784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ля преодоления имеющихся у них нарушений,  укрепления психического здоровья необходимо тесное взаимодействие всех участников педагогического процесса.  Одним из составляющих элементов такой работы являются кинезиологические упражнения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755640" y="713880"/>
            <a:ext cx="76327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3603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особов тренировки мозга существует великое множество.  Вот лишь некоторые из тех, которые можно использовать в работе с детьм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3603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3603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a1f0d"/>
                </a:solidFill>
                <a:latin typeface="Century Gothic"/>
              </a:rPr>
              <a:t>«Колечко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3603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очередно и как можно быстрее перебирайте пальцы рук, соединяя в кольцо с большим пальцем последовательно указательный, средний и т.д. Проба выполняется в прямом и в обратном (от мизинца к указательному пальцу) порядке. Вначале упражнение выполняется каждой рукой отдельно, затем сразу двумя рук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63520" indent="36036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0" name="Рисунок 4" descr="межп2.jpg"/>
          <p:cNvPicPr/>
          <p:nvPr/>
        </p:nvPicPr>
        <p:blipFill>
          <a:blip r:embed="rId1"/>
          <a:stretch/>
        </p:blipFill>
        <p:spPr>
          <a:xfrm>
            <a:off x="4427640" y="4869000"/>
            <a:ext cx="3247920" cy="140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0:24:52Z</dcterms:created>
  <dc:creator>учитель</dc:creator>
  <dc:description/>
  <dc:language>en-US</dc:language>
  <cp:lastModifiedBy>User</cp:lastModifiedBy>
  <dcterms:modified xsi:type="dcterms:W3CDTF">2022-12-03T18:23:36Z</dcterms:modified>
  <cp:revision>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71049</vt:lpwstr>
  </property>
</Properties>
</file>