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2DD-3EEA-4761-81C8-5214F99B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B81-3464-41B3-9CF8-E925F788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C00-139F-462A-A7DC-4B60BAA0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267-4AF1-4A40-9070-FC39910D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6BB2-B4EF-48D1-92F8-25A9B967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85C2-FE48-495D-B1C2-78FAB2EF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4550-FF61-4D91-BEB9-5DC32956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93BF-3ADF-4D6A-8D97-942D03A2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A211-6FE0-45D5-909D-9602A607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8586-3F4F-4B95-92D6-B4CB06F2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96E7-F209-4D9C-A477-BBD4A6B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F49-BFF6-4CB3-8081-EBD65C0E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B572-308F-4B72-A49D-F78F4220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8DEC-9D1E-4FE2-8ACF-426AF61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566C-FE56-4799-8737-758C3ED6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AB0D-95E3-479E-98CD-E2343C1B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9E3F-7B76-42E5-B5B7-899E3087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AF7-9938-4AB3-BBEF-D9C21BB7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E4D-3238-4810-B6FA-7AAB0371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9A2-4804-423A-AFA8-CC3DCFEE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ADD-BA14-47BE-925D-72330917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38F-6B6F-4C00-B76F-F98C5A0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D00-6FCE-44CF-BF13-F305BB4F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625-E9B0-40A4-B19E-2C01C27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4D4E-305F-497C-9DD8-2F3F14F2DE6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9486-AF47-42F5-9623-DC26A625030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6870960" cy="33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РЕЗЕНТАЦИЯ НА ТЕМУ: «Консультация с родителями: работа над мелкой моторикой детей младшей групп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80000" y="4652640"/>
            <a:ext cx="5256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Волкова Н. 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200"/>
                </a:solidFill>
                <a:latin typeface="Comic Sans MS"/>
              </a:rPr>
              <a:t>СПАСИБО</a:t>
            </a:r>
            <a:br>
              <a:rPr sz="6600"/>
            </a:br>
            <a:r>
              <a:rPr b="0" lang="ru-RU" sz="6600" spc="-1" strike="noStrike">
                <a:solidFill>
                  <a:srgbClr val="00b200"/>
                </a:solidFill>
                <a:latin typeface="Comic Sans MS"/>
              </a:rPr>
              <a:t> ЗА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476000" y="4365720"/>
            <a:ext cx="60325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200"/>
                </a:solidFill>
                <a:latin typeface="Comic Sans MS"/>
              </a:rPr>
              <a:t>ВНИМАНИЕ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0872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Цели и задачи консульт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36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Познакомить родителей с нетрадиционными материалами для развития мелкой моторики у дет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1. выявить индивидуальные способности детей в развитии мелкой мотори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2. развивать чувствительность рук дет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3. подготовить руку ребенка к пись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4. сочетать игры и упражнения для тренировки пальцев с речью дет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Развитие мелкой моторик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10160" y="1699920"/>
            <a:ext cx="45338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- помогает развивать реч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- способствует овладению навыками мелкой мотори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- развивает внимание, память, мышление, воображени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- снимает тревожнос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- повышает работоспособность головного мозг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0" descr="Фото1848"/>
          <p:cNvPicPr/>
          <p:nvPr/>
        </p:nvPicPr>
        <p:blipFill>
          <a:blip r:embed="rId1"/>
          <a:stretch/>
        </p:blipFill>
        <p:spPr>
          <a:xfrm>
            <a:off x="468360" y="3733920"/>
            <a:ext cx="4174920" cy="243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DSC04103"/>
          <p:cNvPicPr/>
          <p:nvPr/>
        </p:nvPicPr>
        <p:blipFill>
          <a:blip r:embed="rId2"/>
          <a:stretch/>
        </p:blipFill>
        <p:spPr>
          <a:xfrm>
            <a:off x="468360" y="1341360"/>
            <a:ext cx="4174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87060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Влияние воздействия руки на мозг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Специалисты восточной медицины утверждают, что игры с участием рук и пальцев приводят в гармоничное отношение тело и разум, поддерживание мозговые системы в отличном состоя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http://www.handgum.ru/images/brain_1.jpg"/>
          <p:cNvPicPr/>
          <p:nvPr/>
        </p:nvPicPr>
        <p:blipFill>
          <a:blip r:embed="rId1"/>
          <a:stretch/>
        </p:blipFill>
        <p:spPr>
          <a:xfrm>
            <a:off x="539640" y="1989000"/>
            <a:ext cx="444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Игра «Шнуров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2560" y="422064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Развивает пространственную ориентировку, внимание, формирует навыки самообслуживания, развивает творческие способности, глазомер, укрепляет пальцы ру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Фото1843"/>
          <p:cNvPicPr/>
          <p:nvPr/>
        </p:nvPicPr>
        <p:blipFill>
          <a:blip r:embed="rId1"/>
          <a:stretch/>
        </p:blipFill>
        <p:spPr>
          <a:xfrm>
            <a:off x="1619280" y="1125360"/>
            <a:ext cx="5905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Развивающие игры для моторики пальцев ру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3500280"/>
            <a:ext cx="777384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Игры с прищепкам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1. Прикрепление прищепок по длине, краю предме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2. Развешивание разноцветных платочков после стир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Игры с пуговицам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1. Пересыпание из ладошки в ладош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2. Пересыпание пуговиц в прорезь ба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4" descr="DSC04094"/>
          <p:cNvPicPr/>
          <p:nvPr/>
        </p:nvPicPr>
        <p:blipFill>
          <a:blip r:embed="rId1"/>
          <a:stretch/>
        </p:blipFill>
        <p:spPr>
          <a:xfrm>
            <a:off x="611280" y="1413000"/>
            <a:ext cx="3744720" cy="208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DSC04084"/>
          <p:cNvPicPr/>
          <p:nvPr/>
        </p:nvPicPr>
        <p:blipFill>
          <a:blip r:embed="rId2"/>
          <a:stretch/>
        </p:blipFill>
        <p:spPr>
          <a:xfrm>
            <a:off x="4716360" y="1413000"/>
            <a:ext cx="3816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324000" y="1341360"/>
          <a:ext cx="81356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135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Упражнение для тренировки пальцев с речью дет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Готовим руку ребёнка к письм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752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Развитие кисти руки и координации движений пальцев рук- задача комплексная, охватывающая многие сферы деятельности ребенка. Она является одним из аспектов проблемы обеспечения полноценного развития в дошкольном возрасте. И поскольку общее моторное отставание наблюдается исследователями у большинства современных детей слабою руку дошкольника нужно и необходимо разви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8" descr="DSC04111"/>
          <p:cNvPicPr/>
          <p:nvPr/>
        </p:nvPicPr>
        <p:blipFill>
          <a:blip r:embed="rId1"/>
          <a:stretch/>
        </p:blipFill>
        <p:spPr>
          <a:xfrm>
            <a:off x="5076720" y="1341360"/>
            <a:ext cx="3240360" cy="252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DSC04108"/>
          <p:cNvPicPr/>
          <p:nvPr/>
        </p:nvPicPr>
        <p:blipFill>
          <a:blip r:embed="rId2"/>
          <a:stretch/>
        </p:blipFill>
        <p:spPr>
          <a:xfrm>
            <a:off x="5076720" y="4005360"/>
            <a:ext cx="331164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-171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амятка родителя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640" y="98064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Практически каждый родитель знает о необходимости развития мелкой моторики рук. Но, к сожалению, не все знают каким образом можно осуществить это развитие. И еще меньше представляют, как эту работу можно разнообразить. В настоящие время существует множество различных пособий, которые призваны помочь родителям. Можно брать их в работу. Так же можно организовать работу из «подручных» материалов, тех, которые нас окружают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1. Первый вид деятельности, который способствует развитию моторики – это шнуров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2. Застегивании пуговиц (размер пуговиц стоит выбирать, отталкиваясь от навыков ребенка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3. Следующее приспособление, которым можно воспользоваться – это бельевые прищеп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4. Для девочек очень хорошо подойдет работа по изготовлению бу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5. Для мальчиков полезным и интересным занятием будет закручивание гаек, забивание гвозде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9T13:25:34Z</dcterms:created>
  <dc:creator>Admin</dc:creator>
  <dc:description/>
  <dc:language>en-US</dc:language>
  <cp:lastModifiedBy>Ларион</cp:lastModifiedBy>
  <dcterms:modified xsi:type="dcterms:W3CDTF">2022-12-03T12:36:52Z</dcterms:modified>
  <cp:revision>19</cp:revision>
  <dc:subject/>
  <dc:title>«…Чем больше мастерства в    детской руке,  тем умнее ребёнок»          (В.А. Сухомлинский)</dc:title>
</cp:coreProperties>
</file>