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E8B-1F12-40D0-B154-83FCCABB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F93-1B4B-423C-86E7-5FD9F26E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5D9-C23B-421D-BDE4-58E82622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2C6-CA5C-4AC3-BA34-8BB4DE8F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55AD-AC2F-4B77-8F31-253ED82B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7F3B-1F32-4E69-85B3-CC925FE6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5201-E78B-41A6-BCE4-74B70992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D202-7600-4E90-932B-77D7647B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57AB-BAEB-4DA7-A49C-2D81A9CC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6863-D11E-4FE0-A9FA-2E3EDB65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5A7B-B5A3-4975-9774-FDE2AF5B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E0C-3ADE-416A-9BD9-582A15F8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4444-9F9E-4825-A4E5-662E032F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6888-F3AC-4A85-8C83-3CE0D0B5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2FEC-AA21-404F-A871-32BBA510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BE68-B869-4793-823A-64BC6537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199A-75A6-4CB7-956B-6924A0FF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5F9-25F3-482E-B0E4-4C386660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425-5A6F-4D1D-BA92-0533AC4B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5EC-0DE7-4309-8B34-34B68490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5F3-9EA8-476C-962C-78CC494B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1D8-C348-4D42-AC18-CE13FB07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8AE-96DB-4553-BD82-54152287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D23-FBCA-40C3-AC0B-B07FB3E2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36ED-DC71-4A60-8098-42497B76FC7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986C-B463-4053-9AB3-D619C6DF979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6870960" cy="33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РЕЗЕНТАЦИЯ НА ТЕМУ: «Консультация с родителями: работа над мелкой моторикой детей младшей группы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80000" y="4652640"/>
            <a:ext cx="5256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дготовил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Волкова Н. 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3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200"/>
                </a:solidFill>
                <a:latin typeface="Comic Sans MS"/>
              </a:rPr>
              <a:t>СПАСИБО</a:t>
            </a:r>
            <a:br>
              <a:rPr sz="6600"/>
            </a:br>
            <a:r>
              <a:rPr b="0" lang="ru-RU" sz="6600" spc="-1" strike="noStrike">
                <a:solidFill>
                  <a:srgbClr val="00b200"/>
                </a:solidFill>
                <a:latin typeface="Comic Sans MS"/>
              </a:rPr>
              <a:t> ЗА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476000" y="4365720"/>
            <a:ext cx="60325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200"/>
                </a:solidFill>
                <a:latin typeface="Comic Sans MS"/>
              </a:rPr>
              <a:t>ВНИМАНИЕ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0872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Цели и задачи консульт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136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Познакомить родителей с нетрадиционными материалами для развития мелкой моторики у дет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1. выявить индивидуальные способности детей в развитии мелкой мотори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2. развивать чувствительность рук дет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3. подготовить руку ребенка к пись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4. сочетать игры и упражнения для тренировки пальцев с речью дет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Развитие мелкой моторик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10160" y="1699920"/>
            <a:ext cx="45338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- помогает развивать реч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- способствует овладению навыками мелкой мотори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- развивает внимание, память, мышление, воображени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- снимает тревожнос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- повышает работоспособность головного мозг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0" descr="Фото1848"/>
          <p:cNvPicPr/>
          <p:nvPr/>
        </p:nvPicPr>
        <p:blipFill>
          <a:blip r:embed="rId1"/>
          <a:stretch/>
        </p:blipFill>
        <p:spPr>
          <a:xfrm>
            <a:off x="468360" y="3733920"/>
            <a:ext cx="4174920" cy="243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DSC04103"/>
          <p:cNvPicPr/>
          <p:nvPr/>
        </p:nvPicPr>
        <p:blipFill>
          <a:blip r:embed="rId2"/>
          <a:stretch/>
        </p:blipFill>
        <p:spPr>
          <a:xfrm>
            <a:off x="468360" y="1341360"/>
            <a:ext cx="4174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687060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Влияние воздействия руки на мозг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Специалисты восточной медицины утверждают, что игры с участием рук и пальцев приводят в гармоничное отношение тело и разум, поддерживание мозговые системы в отличном состоя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" descr="http://www.handgum.ru/images/brain_1.jpg"/>
          <p:cNvPicPr/>
          <p:nvPr/>
        </p:nvPicPr>
        <p:blipFill>
          <a:blip r:embed="rId1"/>
          <a:stretch/>
        </p:blipFill>
        <p:spPr>
          <a:xfrm>
            <a:off x="539640" y="1989000"/>
            <a:ext cx="444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Игра «Шнуровк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2560" y="422064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Развивает пространственную ориентировку, внимание, формирует навыки самообслуживания, развивает творческие способности, глазомер, укрепляет пальцы ру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Фото1843"/>
          <p:cNvPicPr/>
          <p:nvPr/>
        </p:nvPicPr>
        <p:blipFill>
          <a:blip r:embed="rId1"/>
          <a:stretch/>
        </p:blipFill>
        <p:spPr>
          <a:xfrm>
            <a:off x="1619280" y="1125360"/>
            <a:ext cx="5905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Развивающие игры для моторики пальцев ру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3500280"/>
            <a:ext cx="777384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Игры с прищепкам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1. Прикрепление прищепок по длине, краю предме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2. Развешивание разноцветных платочков после стир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Игры с пуговицам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1. Пересыпание из ладошки в ладош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2. Пересыпание пуговиц в прорезь ба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14" descr="DSC04094"/>
          <p:cNvPicPr/>
          <p:nvPr/>
        </p:nvPicPr>
        <p:blipFill>
          <a:blip r:embed="rId1"/>
          <a:stretch/>
        </p:blipFill>
        <p:spPr>
          <a:xfrm>
            <a:off x="611280" y="1413000"/>
            <a:ext cx="3744720" cy="208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DSC04084"/>
          <p:cNvPicPr/>
          <p:nvPr/>
        </p:nvPicPr>
        <p:blipFill>
          <a:blip r:embed="rId2"/>
          <a:stretch/>
        </p:blipFill>
        <p:spPr>
          <a:xfrm>
            <a:off x="4716360" y="1413000"/>
            <a:ext cx="3816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324000" y="1341360"/>
          <a:ext cx="81356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1356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865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Упражнение для тренировки пальцев с речью дет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Готовим руку ребёнка к письм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752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Развитие кисти руки и координации движений пальцев рук- задача комплексная, охватывающая многие сферы деятельности ребенка. Она является одним из аспектов проблемы обеспечения полноценного развития в дошкольном возрасте. И поскольку общее моторное отставание наблюдается исследователями у большинства современных детей слабою руку дошкольника нужно и необходимо разви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8" descr="DSC04111"/>
          <p:cNvPicPr/>
          <p:nvPr/>
        </p:nvPicPr>
        <p:blipFill>
          <a:blip r:embed="rId1"/>
          <a:stretch/>
        </p:blipFill>
        <p:spPr>
          <a:xfrm>
            <a:off x="5076720" y="1341360"/>
            <a:ext cx="3240360" cy="252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DSC04108"/>
          <p:cNvPicPr/>
          <p:nvPr/>
        </p:nvPicPr>
        <p:blipFill>
          <a:blip r:embed="rId2"/>
          <a:stretch/>
        </p:blipFill>
        <p:spPr>
          <a:xfrm>
            <a:off x="5076720" y="4005360"/>
            <a:ext cx="331164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-171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амятка родителя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640" y="980640"/>
            <a:ext cx="748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Практически каждый родитель знает о необходимости развития мелкой моторики рук. Но, к сожалению, не все знают каким образом можно осуществить это развитие. И еще меньше представляют, как эту работу можно разнообразить. В настоящие время существует множество различных пособий, которые призваны помочь родителям. Можно брать их в работу. Так же можно организовать работу из «подручных» материалов, тех, которые нас окружают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1. Первый вид деятельности, который способствует развитию моторики – это шнуров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2. Застегивании пуговиц (размер пуговиц стоит выбирать, отталкиваясь от навыков ребенка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3. Следующее приспособление, которым можно воспользоваться – это бельевые прищеп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4. Для девочек очень хорошо подойдет работа по изготовлению бу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5. Для мальчиков полезным и интересным занятием будет закручивание гаек, забивание гвозде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9T13:25:34Z</dcterms:created>
  <dc:creator>Admin</dc:creator>
  <dc:description/>
  <dc:language>en-US</dc:language>
  <cp:lastModifiedBy>Ларион</cp:lastModifiedBy>
  <dcterms:modified xsi:type="dcterms:W3CDTF">2022-12-03T12:36:52Z</dcterms:modified>
  <cp:revision>19</cp:revision>
  <dc:subject/>
  <dc:title>«…Чем больше мастерства в    детской руке,  тем умнее ребёнок»          (В.А. Сухомлинский)</dc:title>
</cp:coreProperties>
</file>