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184C-3126-4001-8AD6-828432F6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3ECA-BF16-4931-B6EC-06A0E13D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29D60-08D3-4860-B300-925C42B2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5221C-C4E8-4B7B-9560-3CD1850B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B61DC-C552-44B3-A423-F5AE195D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04BE5-A391-49D7-BF6F-78620FDA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95886-667D-4B9F-836A-9EA443F2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EA151-2465-4BA4-AB13-0662A9C5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B0E57-C391-4ED5-B176-9233C448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B6C78-DE9F-4EE1-A13D-6B25B22C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8CAD9-7385-4E8D-9A6B-01611B30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37AC0-262B-4585-9318-7D573FC0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C72-4DF7-489A-A548-AEC0588F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40241-8D9F-4AA5-B8B9-EA67EE6C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43A3A-DA13-4E8F-ABDF-76CACE84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CA113-2207-41F6-BD6F-AF3E401C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88CD6-AE32-4CAE-9B29-3BF8C8C9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5A3CE-BC5D-4754-BF00-C5BC104C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2E50C-E26E-4E68-B81F-49F506F0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A5827-880B-4664-B946-484E16E1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89FEF-B5BE-40C7-BDC1-B22BF012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6F9A9-B72B-4F60-B7B6-C83189DD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A0B1C-49DB-42B8-ADFB-A921127B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FF62-6794-41C2-AC88-A7E2A5DF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694D6-B7D0-4C73-8A8A-3ED22AF8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EDC90-37D6-477A-9A5A-FDFB2341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5884B-7CB9-4566-AE1C-C048F5FA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E2493-E899-475D-A6D1-E41AFB87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44936-67BE-4C63-95FD-CD75DF73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100DD-A0BF-4124-8A6F-4F9CE412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AEF14-E68C-4D0D-BF42-5388A72B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057D7-1A74-4D91-9A40-C184EEED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01749-560D-44B7-A9EA-D0F911BC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3ACB8-D4AB-4D37-A8EA-6E716682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0CA9-7167-42D8-8EBC-BD0AE5D6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9A612-31F7-433F-A22D-3C885948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7C53A-BE25-46FF-8B75-1E6C38A9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5F028-3533-42FB-80ED-DB8417A4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D870B-CF48-471D-8078-70335E8B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96C33-A275-4F55-8C77-F766A49B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34A3E-349D-4115-8040-A1ED8773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F76A8-44E9-467C-A6A2-2D75FF7B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1B247-9078-4D7C-9F43-F9CB3D5B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811A5-F2D8-4C1A-971C-CFB3EB82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E7604-6BEC-4E1B-813E-03049BF7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95EC-432F-49A0-A483-91FF3652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BCB84-13BD-4F58-8914-48CF781A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A1337-F7C4-4378-A22C-D3AC2E50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EA235-5112-4A8E-92BB-D36D8F54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D7EAC-3B75-42B5-844C-61D794A0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EDF26-F210-43BA-9A58-340010D7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135F6-E7FF-482C-986A-76BB977D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6DCBA-60BD-41D7-B4E8-CAA6408C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A1F38-6D84-4C8E-A2DD-132C430E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FAC373-BD12-4431-946B-1AF687C0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60733-86E4-41E5-9602-BE443881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F4C5-17E1-432E-B064-4BDF4832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16AD4-99BC-4192-8F51-A039162E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23466C-94D8-4773-8FB6-5DC5C872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318C24-E976-4298-9EA8-5C8C3FD6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E3488-7794-45CD-86B5-1FD6C819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F16CD-283E-45DF-92BA-A52AFA1B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84E5A7-597C-4AF6-AF85-373B03A9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712C5-F459-43DD-A28A-71701345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308DCE-B26C-49E1-83D9-4743B80F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233169-9174-4751-B930-E3DCBC7F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7AB7E3-2114-4204-AB2D-B8128744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2F71-39E0-4586-AE0A-256A8752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24BF9E-1A91-4A65-914B-6C216619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FED5F-E363-4FA3-8DAC-7AD507A8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7C6B01-D658-47F2-A1F4-9625E763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A4BBB6-5BC1-4F61-B885-7221C4E9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9AB61E-7E03-4678-848A-93B8443F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59EEEA-18DA-4080-8CE0-FB5F731D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4054AA-65EC-4A20-BF1D-A3E9FEF2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5C9D6F-23B2-4739-87C3-B92E2CCF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2CB46-1135-40E1-9BB1-06FD7E54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B27DB3-33B1-4E98-8B74-A8DDF92F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37A1-C218-44B1-8067-A703015F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5A6523-B174-4F74-B59C-7898F58F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38D60B-9E79-4A70-BBCC-A7FA52E7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80A527-DFD7-4306-A7AE-9A548522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A26D9C-94D9-4904-81DE-FD74718E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FC5B57-DB0D-4443-8234-53BA8838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BE3E28-4A54-492F-8DF9-0E3D48BC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E003AE-529C-492F-89B4-BE491A36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55AEDA-8BD5-4203-B159-55DCAF15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980925-A3DA-497C-BE9F-4B82830F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C7DE8E-DDC9-4861-9603-E9D32494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F85E-9439-4352-A637-EAA20727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15CDD2-ECE7-4E76-9EC5-7D1C8935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16CB55-2C1C-46B0-AE12-0CFE1F76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AB030C-B1AF-43B8-9A46-06FC739F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074B2D-552E-47F8-A10C-9FFA9E38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627D0B-3618-44F3-BCD7-8892AA8C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92C12E-1469-4055-B0AA-8DCEF797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DBEC61-EC10-4A1A-AD1B-14C2879D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394B86-AAD0-4239-A7EE-ED44D355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9A0D2-9BF8-4D09-9B85-C52E2A82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8B1EEA-9121-4726-B39C-F4A3B17B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2DB4-E7E2-4A05-A2E0-2902DCF5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786D33-083A-444E-B056-9364A6FA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A79388-2CD5-4639-BCBD-0E8AF000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B8FD2-3312-4313-98FF-5CE1A7F9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197618-9CED-4161-AE63-1F5BAD17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C5CE97-9B57-4BCE-9C0B-A6A61911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72DCA7-7CCB-4F85-8BCA-F380A9E9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6B50B5-3FF8-4869-B876-F8E1C12A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C51698-59EB-432B-AFF7-7B134EA5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F76A96-FC18-489F-AFE5-CEDE568D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EB3E51-87A1-460F-8259-8AC1890D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2580-CEBD-4CCE-98DC-A332BFCC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5571-FFDE-4F68-A2D8-03BC04D4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5A709C-8A37-4A00-A96D-3A231A55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CA62DF-2F76-4BB6-86C7-02B5639D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CE08AF-E836-45C4-9B75-45D6625A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B3346A-750A-4EF9-9D87-E3DF9933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BF7E13-CE1C-450C-8559-018718C7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75AE-CDA3-451B-95DC-81D89283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000D-0693-4764-8EFB-E8F7945A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C338-5B38-4651-8869-8725F68A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1176-659F-4E78-9F44-82F10931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F045B-B855-427D-9D1F-6479F6DA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B1C5B-DDC9-44F2-8F73-6710C5A9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3EB64-D10A-4C78-8A4A-4A208E07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BC644-17AB-46B5-9E07-4399DE32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6EADD-E916-4F3F-82C7-F8A3E189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26D-7C0C-4EB3-99B7-9DF691AE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3A85A-CE66-4E1D-8787-ED28E3BC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63877-877C-47A2-8E78-404EB620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B6CD8-CEFB-4986-A254-12CC3DB4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416E2-1BEE-4EDB-9797-C4C25B51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B9CAB-3273-4EB0-83D4-1F91F194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77773-EDDE-420A-9FD4-84DE83DD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4341F-5AA9-4E8B-A96B-1FA7CA50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82E11-5BD4-463F-BC3C-B29139E9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FF66A-80C9-4B97-A789-27585A52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335B8-FD0F-4DBC-A89C-6927FD7C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97D-A03D-4EB4-BA49-3832389C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68B42-7F50-4B98-9B71-2088C3A9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1CB16-92EC-4EDD-A3A5-FCDA7300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E88EE-21EA-4812-B5F1-43E71E54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9A7AB-4222-41E0-9506-286AC0A2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3D76E-9B14-4E94-B065-77C49C89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899D3-E80F-44EE-A39C-DC18F071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49303-2D74-4A21-A939-9AD1881E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41354-80C1-454A-B769-2DAA0C96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6804A-2B79-4B7F-A629-B0155E20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4EAD2-F202-4F4C-B05A-687D5C31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3AA-7896-4202-BECC-9722E3D2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6016E-75A3-48F2-9FFC-61ECC135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3AD97-3A05-4032-88FF-145C9B5A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672BC-FFDB-4549-BA4E-17805559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DC381-68DB-4715-AF4F-83855E2C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BA890-AA02-4542-95CD-9ECEC4DB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A523D-DA59-4B7A-B409-F6565AA5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D1D5F-0DB8-4963-8BBC-6EF92761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D7C0F-C788-497B-B502-85F112DB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5F8BB-71DA-46F4-B57A-B9D85B7F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6463B-2B93-4AD5-9427-CDA0EC79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37E-D7E0-4CFC-B97B-A4B16D90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76E78-13A8-4E83-99A6-63A8D907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68DD1-ADC5-47C3-ACD4-D64E11E4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CFADE-80D1-4BF9-B7E2-7E84F00A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97992-32BB-4C09-8901-A5933105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F9F0F-706D-44CE-9B20-F4A638EA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2558E-C8AE-4CB4-B234-A4260CAA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49E1B-5247-4E7E-B7D9-9667B496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62A67-7DF3-4A63-98F4-E6896ED9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03ABC-575A-42C3-B227-DC6FC54C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A89E9-2771-4E7B-AB83-9F976ED8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72EA-5DB6-41CC-81EF-9FB2EEC9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0BD81-6A9F-4020-AA55-65D96CEF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B01AB-5E4C-4FBA-8AE4-4B806050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77162-2BD7-48DF-9D80-B8CEBD57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1DE28-D3B5-4FFB-AE62-38691ADC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7A405-CE5E-42D5-8610-EC282F4B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E3005-CD9B-4245-88FE-CEE61A7B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413EF-6A86-420E-A34F-8A4B9B0F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1DDBC-2383-40FE-8E66-8D1A2D94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17F24-DDE9-4B2D-9B11-259BCEE9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22466-D088-4081-AD37-3EE5D7A4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051-33BE-4190-8C90-89EEAA5F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0D417-7C5A-4669-86D4-5CC00E5D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A8C1D-2199-461D-A7CF-0F7CD299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8DFEE-E1EE-4AA2-9C86-E995CECC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B7F9D-0BF9-47D8-84F5-2EA7315F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E6737-C04D-4A48-A8BB-4C95C7D7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8E78C-01EA-4B99-BD00-8FC7E240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DC996-9CB5-47CE-9ECB-FC13ABFE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0CD31-F6B2-41D0-8302-F05DE0B2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75B14-DBBC-4D36-84D5-559C4705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F5C93-4BBB-498B-8F9A-B1BAE0E9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CE6-2DF4-41C8-A847-02CCF4EC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1CC97-B0C3-433B-95B7-F9A7FAC4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FD39D-331C-476C-8D10-9B9AB6A1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D5703-4F01-480A-95F7-672895CA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89E87-E0B7-4C62-B403-46568F1B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D93E4-260B-45A8-8A56-922D87C0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09D59-206E-4588-99F9-EB9ABCD4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D14C5-CCAB-4F29-B276-35F1E2CD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17524-11B8-463F-A6E6-9CD66AB0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62CBC-7B11-4352-A607-23CB3E6F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2DEE7-F71B-42F2-95EA-D5D9D0DD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A72CD-C232-4BE6-BD12-975251CEEDF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306C5-8551-4483-8631-04C8B34F7E5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457CF-44D4-4881-9636-DFA2E742D93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7099A-A6BD-4B17-8688-399E5FBB9E4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2F22C-2AD4-451D-B0CC-C2F37012A59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075E7-E571-4AD4-9204-B17E3B4C6BE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D99E1-27BC-4476-A162-9BCF4EE1757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EC82C-EED4-48E9-9C58-585EE0EE2B7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CE834-518D-4CCF-B039-C9B416C4ADB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2750C-4EC7-4CAB-A09F-96A88F69F85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CDA28-45BB-4CF8-B4B7-70350998A3F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C4FD2-3505-4C64-B362-ABDD23EA3AD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E8A7D-7D31-4FC8-8CA3-09B8C67A3CF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E889B-FD72-4B05-B772-ABC14E4284E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C470D-5902-4D36-90E1-2C627546C88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A89A4-AF0C-47C5-9326-B283A289E5C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82CA3-EA1D-4F38-BF18-30A800DC527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176200" y="2133720"/>
            <a:ext cx="891540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9013b9"/>
                </a:solidFill>
                <a:latin typeface="AGLettericaC"/>
              </a:rPr>
              <a:t>Страны Западной </a:t>
            </a:r>
            <a:br>
              <a:rPr sz="4400"/>
            </a:br>
            <a:r>
              <a:rPr b="0" lang="ru-RU" sz="4400" spc="-1" strike="noStrike">
                <a:solidFill>
                  <a:srgbClr val="9013b9"/>
                </a:solidFill>
                <a:latin typeface="AGLettericaC"/>
              </a:rPr>
              <a:t>и Центральной Африки. </a:t>
            </a:r>
            <a:endParaRPr b="0" lang="en-US" sz="44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7" name="TextBox 4"/>
          <p:cNvSpPr/>
          <p:nvPr/>
        </p:nvSpPr>
        <p:spPr>
          <a:xfrm>
            <a:off x="4424400" y="4624560"/>
            <a:ext cx="705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GLettericaC"/>
                <a:ea typeface="Arial"/>
              </a:rPr>
              <a:t>Презентация по географии для 7 класс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GLettericaC"/>
                <a:ea typeface="Arial"/>
              </a:rPr>
              <a:t>учитель географии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БОУ № 460 Пушкинского района Санкт-Петербург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GLettericaC"/>
                <a:ea typeface="Arial"/>
              </a:rPr>
              <a:t>Смирнова Арина Дмитриевна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639800" y="59796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13b9"/>
                </a:solidFill>
                <a:latin typeface="AGLettericaC"/>
              </a:rPr>
              <a:t>Нигерийские деревн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200" name="Рисунок 4" descr=""/>
          <p:cNvPicPr/>
          <p:nvPr/>
        </p:nvPicPr>
        <p:blipFill>
          <a:blip r:embed="rId1"/>
          <a:stretch/>
        </p:blipFill>
        <p:spPr>
          <a:xfrm>
            <a:off x="3127320" y="1492200"/>
            <a:ext cx="6067440" cy="490536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/>
          <p:cNvPicPr/>
          <p:nvPr/>
        </p:nvPicPr>
        <p:blipFill>
          <a:blip r:embed="rId2"/>
          <a:stretch/>
        </p:blipFill>
        <p:spPr>
          <a:xfrm>
            <a:off x="2588760" y="2133360"/>
            <a:ext cx="89154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119400" y="244080"/>
            <a:ext cx="45576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13b9"/>
                </a:solidFill>
                <a:latin typeface="AGLettericaC"/>
              </a:rPr>
              <a:t>Нигерийские города</a:t>
            </a:r>
            <a:endParaRPr b="0" lang="en-US" sz="32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682280" y="1617480"/>
            <a:ext cx="4413240" cy="19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9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Лагос – крупнейший город Нигери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4" name="Объект 6" descr=""/>
          <p:cNvPicPr/>
          <p:nvPr/>
        </p:nvPicPr>
        <p:blipFill>
          <a:blip r:embed="rId1"/>
          <a:stretch/>
        </p:blipFill>
        <p:spPr>
          <a:xfrm>
            <a:off x="281160" y="1893960"/>
            <a:ext cx="5456160" cy="4808520"/>
          </a:xfrm>
          <a:prstGeom prst="rect">
            <a:avLst/>
          </a:prstGeom>
          <a:ln w="0">
            <a:noFill/>
          </a:ln>
        </p:spPr>
      </p:pic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7648200" y="942840"/>
            <a:ext cx="394164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Абуджа – столица с 1991 город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6" name="Объект 7" descr=""/>
          <p:cNvPicPr/>
          <p:nvPr/>
        </p:nvPicPr>
        <p:blipFill>
          <a:blip r:embed="rId2"/>
          <a:stretch/>
        </p:blipFill>
        <p:spPr>
          <a:xfrm>
            <a:off x="6324480" y="1717560"/>
            <a:ext cx="55864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863720" y="374760"/>
            <a:ext cx="974232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GLettericaC"/>
              </a:rPr>
              <a:t>Цель – познакомиться с главными особенностями природы и населения изучаемой территории, научиться составлять схемы для ответов (кластеры) по плану описания страны:</a:t>
            </a:r>
            <a:br>
              <a:rPr sz="2500"/>
            </a:br>
            <a:endParaRPr b="0" lang="en-US" sz="24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3530520" y="2253960"/>
            <a:ext cx="59040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AGLetterica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GLettericaC"/>
              </a:rPr>
              <a:t>Географическое положени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AGLetterica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GLettericaC"/>
              </a:rPr>
              <a:t>Рельеф и полезные ископаемы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AGLetterica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GLettericaC"/>
              </a:rPr>
              <a:t>Климат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AGLetterica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GLettericaC"/>
              </a:rPr>
              <a:t>Внутренние воды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AGLetterica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GLettericaC"/>
              </a:rPr>
              <a:t>Природные зоны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AGLetterica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GLettericaC"/>
              </a:rPr>
              <a:t>Население и хозяйств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79440" y="547560"/>
            <a:ext cx="109742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13b9"/>
                </a:solidFill>
                <a:latin typeface="AGLettericaC"/>
              </a:rPr>
              <a:t>Географические особенности региона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181" name="Объект 5" descr=""/>
          <p:cNvPicPr/>
          <p:nvPr/>
        </p:nvPicPr>
        <p:blipFill>
          <a:blip r:embed="rId1"/>
          <a:stretch/>
        </p:blipFill>
        <p:spPr>
          <a:xfrm>
            <a:off x="379440" y="1690560"/>
            <a:ext cx="5049720" cy="4959360"/>
          </a:xfrm>
          <a:prstGeom prst="rect">
            <a:avLst/>
          </a:prstGeom>
          <a:ln w="0">
            <a:noFill/>
          </a:ln>
        </p:spPr>
      </p:pic>
      <p:sp>
        <p:nvSpPr>
          <p:cNvPr id="1182" name=""/>
          <p:cNvSpPr txBox="1"/>
          <p:nvPr/>
        </p:nvSpPr>
        <p:spPr>
          <a:xfrm>
            <a:off x="5700600" y="1690560"/>
            <a:ext cx="61754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GLettericaC"/>
              </a:rPr>
              <a:t>-Территория региона получает наибольшее количество солнечного тепла и свет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GLettericaC"/>
              </a:rPr>
              <a:t>-очень богатый растительный и животный мир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GLettericaC"/>
              </a:rPr>
              <a:t>-Здесь сосредоточена большая часть населения материка и около половины государств континент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GLettericaC"/>
              </a:rPr>
              <a:t>-большинство народов относится к экваториальной рас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13b9"/>
                </a:solidFill>
                <a:latin typeface="AGLettericaC"/>
              </a:rPr>
              <a:t>Нигерия – «Западная Африка в миниатюре»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184" name="Объект 3" descr=""/>
          <p:cNvPicPr/>
          <p:nvPr/>
        </p:nvPicPr>
        <p:blipFill>
          <a:blip r:embed="rId1"/>
          <a:stretch/>
        </p:blipFill>
        <p:spPr>
          <a:xfrm>
            <a:off x="4021200" y="1530360"/>
            <a:ext cx="52736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41120" y="126720"/>
            <a:ext cx="1121256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13b9"/>
                </a:solidFill>
                <a:latin typeface="AGLettericaC"/>
              </a:rPr>
              <a:t>Рельеф Нигери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186" name="Объект 3" descr=""/>
          <p:cNvPicPr/>
          <p:nvPr/>
        </p:nvPicPr>
        <p:blipFill>
          <a:blip r:embed="rId1"/>
          <a:stretch/>
        </p:blipFill>
        <p:spPr>
          <a:xfrm>
            <a:off x="1220760" y="1623960"/>
            <a:ext cx="4986360" cy="4613400"/>
          </a:xfrm>
          <a:prstGeom prst="rect">
            <a:avLst/>
          </a:prstGeom>
          <a:ln w="0">
            <a:noFill/>
          </a:ln>
        </p:spPr>
      </p:pic>
      <p:sp>
        <p:nvSpPr>
          <p:cNvPr id="1187" name="TextBox 4"/>
          <p:cNvSpPr/>
          <p:nvPr/>
        </p:nvSpPr>
        <p:spPr>
          <a:xfrm>
            <a:off x="6568920" y="1055520"/>
            <a:ext cx="5623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GLettericaC"/>
                <a:ea typeface="Arial"/>
              </a:rPr>
              <a:t>Реки Нигер и Бенуэ делят страну на две части: в южной части расположена Приморская равнина, а в северной преобладают невысокие плоскогорь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GLettericaC"/>
                <a:ea typeface="Arial"/>
              </a:rPr>
              <a:t>Севернее Приморской равнины территория страны переходит в невысокое плоскогорье — плато Йоруб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GLettericaC"/>
                <a:ea typeface="Arial"/>
              </a:rPr>
              <a:t>Наиболее высокой является центральная часть плоскогорья — плато Джос, высшая точка которого — гора Шере (1735 м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13b9"/>
                </a:solidFill>
                <a:latin typeface="AGLettericaC"/>
              </a:rPr>
              <a:t>Полезные ископаемые Нигери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6194160" y="1620720"/>
            <a:ext cx="5808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AGLettericaC"/>
              </a:rPr>
              <a:t>Основные полезные ископаемые Нигерии — нефть, природный газ, каменный уголь, железная руда, руды олова, редких металлов (ниобия, тантала), нерудные строительные материалы 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0" name="Объект 4" descr=""/>
          <p:cNvPicPr/>
          <p:nvPr/>
        </p:nvPicPr>
        <p:blipFill>
          <a:blip r:embed="rId1"/>
          <a:stretch/>
        </p:blipFill>
        <p:spPr>
          <a:xfrm>
            <a:off x="496800" y="1803240"/>
            <a:ext cx="509436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25240" y="296640"/>
            <a:ext cx="1114092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13b9"/>
                </a:solidFill>
                <a:latin typeface="AGLettericaC"/>
              </a:rPr>
              <a:t>Климат Нигери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968480" y="1176480"/>
            <a:ext cx="938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404040"/>
                </a:solidFill>
                <a:latin typeface="AGLettericaC"/>
              </a:rPr>
              <a:t>Опишите климат по карте в атласе на странице 25 и составьте в тетради схему для ответа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404040"/>
                </a:solidFill>
                <a:latin typeface="AGLettericaC"/>
              </a:rPr>
              <a:t>1) В каких климатических поясах расположена страна?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404040"/>
                </a:solidFill>
                <a:latin typeface="AGLettericaC"/>
              </a:rPr>
              <a:t>2) Определите средние температуры января и июля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404040"/>
                </a:solidFill>
                <a:latin typeface="AGLettericaC"/>
              </a:rPr>
              <a:t>3)Какие имеются различия по сезонам на территории страны?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404040"/>
                </a:solidFill>
                <a:latin typeface="AGLettericaC"/>
              </a:rPr>
              <a:t>4) Определите среднегодовое количество осадков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404040"/>
                </a:solidFill>
                <a:latin typeface="AGLettericaC"/>
              </a:rPr>
              <a:t>5) Как климат влияет на особенности растительного и животного мира?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13b9"/>
                </a:solidFill>
                <a:latin typeface="AGLettericaC"/>
              </a:rPr>
              <a:t>Третья по длине река Африки - Нигер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194" name="Объект 6" descr=""/>
          <p:cNvPicPr/>
          <p:nvPr/>
        </p:nvPicPr>
        <p:blipFill>
          <a:blip r:embed="rId1"/>
          <a:stretch/>
        </p:blipFill>
        <p:spPr>
          <a:xfrm>
            <a:off x="3056040" y="1774800"/>
            <a:ext cx="713556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2176560" y="391680"/>
            <a:ext cx="987408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13b9"/>
                </a:solidFill>
                <a:latin typeface="AGLettericaC"/>
              </a:rPr>
              <a:t>Нигерия – самая плотно-населённая страна Африки.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6" name="TextBox 4"/>
          <p:cNvSpPr/>
          <p:nvPr/>
        </p:nvSpPr>
        <p:spPr>
          <a:xfrm>
            <a:off x="3859200" y="1363680"/>
            <a:ext cx="3952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2336400" y="1625760"/>
            <a:ext cx="891540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селение Нигерии 211,4 миллиона (2021 г.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8" name="Рисунок 7" descr=""/>
          <p:cNvPicPr/>
          <p:nvPr/>
        </p:nvPicPr>
        <p:blipFill>
          <a:blip r:embed="rId1"/>
          <a:stretch/>
        </p:blipFill>
        <p:spPr>
          <a:xfrm>
            <a:off x="3414600" y="2798640"/>
            <a:ext cx="56800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19:24:44Z</dcterms:created>
  <dc:creator>flashfame</dc:creator>
  <dc:description/>
  <dc:language>en-US</dc:language>
  <cp:lastModifiedBy>Арина Смирнова</cp:lastModifiedBy>
  <dcterms:modified xsi:type="dcterms:W3CDTF">2022-12-03T08:28:40Z</dcterms:modified>
  <cp:revision>27</cp:revision>
  <dc:subject/>
  <dc:title>Презентация PowerPoint</dc:title>
</cp:coreProperties>
</file>