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337-F796-47C0-94DA-933C0F67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AB8-020C-49DF-A50E-3A9E4E40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2F725-BB0F-4C7D-8C17-2AD6D9FA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411DC-F3D7-4521-9C38-D4D509EA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5DA2D-66D8-407C-999B-0E2E3ABF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CAB18-06A2-4B8A-9025-8C9F678B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3A308-672C-4AB2-B126-3CB65136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39879-E1CA-4A7F-985F-C7FF5E34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49236-4771-47C9-B9E6-D0D36CA8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D39E5-A0EC-43AD-A622-74B6DE97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0CC5A-F2FB-4E9F-80ED-CC1ACF26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FB475-DBF5-437A-9978-9CAF7534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12D-2827-49DA-A51B-0824826A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36527-042A-41D6-AB14-BF78D67A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88A16-FE79-455B-A22C-C211C18D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53FBF-B4A0-46CF-A682-278747B2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AA5E8-1A93-401C-B170-3AAE0957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41027-31DA-43F3-949D-0F78D3E3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6DBC7-A39C-47D4-AA8F-0B75FDB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C2D4E-11EF-47DA-B2F2-72B69487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6406C-1FED-4CF3-886E-E588443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B3D82-0099-4661-ACF5-ADCB993F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1F34D-5905-40E7-9A2F-19622E8D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34B-6C1F-4923-B594-FD2A3062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32F9A-996F-4661-B261-7E655C2D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63143-7E71-415D-9F6B-F18D6F7F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A02BA-A61A-483A-A27A-2C85037B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7B754-F3B5-4419-B0FA-5B34157C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159CB-3281-4B6D-BE3A-AA5C1D5D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4F384-C292-4CB4-9F3B-05C6FB1D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7EC47-69B1-49E4-9DF3-3CF95704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4D07F-9EE5-44F7-BAE3-1F134433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D17F-6287-4B9F-83AA-A37FEC3A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B5751-F2B3-4DE5-9997-02E5A1E2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EC78-F3BF-47E6-8227-86765CDC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7A33F-E491-406E-8846-4CA61070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1448C-C2ED-4901-A9BE-15F730D5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2C4AD-DD40-4C9E-8C9A-857DD376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817DC-93CD-4071-9B92-9E73E8C1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08CF8-78D1-40B6-8B16-8BF12373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4244A-5041-4E62-92AB-0A81E024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05BA9-370F-4B53-B215-A972B3F2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6C9FB-43B2-40B9-88DE-4DB240CB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19373-6924-40D9-ACF5-77B3BA3A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1B0F6-FD78-40BE-8448-92F45AA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89EA-D588-446A-912B-544D91FC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E745E-C2DC-427D-90E7-A6F3F65F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F1A3E-C69C-473C-A795-E9E9E97D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787AB-F1A4-4C14-AD84-BFC65301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1697C-FC3F-465A-8530-DCF10C96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393A2-CFCE-492C-8055-7DE34E62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B4BEA-61C2-40CA-82A9-A5E36199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BE726-0434-49D6-AA0B-C0920E7E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B4AEE-055B-48D2-8D14-4D3CDE79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C4A00-583C-4432-ABAD-4AD3FB09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1CEB0-335C-4193-AEA2-8599F134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7B54-0FEA-47D1-810C-66A62F93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3EA7E-15F1-4180-88B5-5E06279D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904B0-68DF-4A7C-8F57-33F28D1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6ED75-733A-4798-AEB9-863A2A0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9E65C-8F7E-4644-A66C-EB74AB39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412CF-E44B-4CEC-BA1C-4A23DAFC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82127-5718-4135-A475-2391EABE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C34B9-393B-4186-8D64-E0BB08E1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B9E38-877B-45A3-A533-51B1A831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0059C-FEA7-4173-B930-807ED4F0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DB5FA-2F30-47BE-8B7E-23C6DBA0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C6D9-4895-4C61-92FB-22FAF40B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0F21A-AA1E-4329-8C3E-1FA2E2F8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37089-F0E9-4612-A5DC-2227D4A8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EA715-3BD3-4193-A740-B86BF234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4293B-68A4-4285-B458-47BD4A04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50606-0FA5-4F1E-A71C-C0DB89E1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3BF19-1F81-47E9-AD82-3E8458AF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F7E60-A269-4035-86E0-F6D4FFF6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4C6BF-ED02-42AC-B6ED-FFB97E1B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B676F-69A5-4ED8-BDED-9DAC7A45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352E7-7C14-4508-853B-4401424E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E27A-ADCF-41A0-A6C2-FBEAEB28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D42E3-5A3C-4359-9208-B1F2FA51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C0ADF-CFF6-4B2A-AB1C-704B54A5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D4C43-B07A-4E29-BD9C-5C783702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80394-2399-4048-AB3A-DA839A95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D49D6D-FA0F-4EF5-9377-43CA0AF5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AFE14-07AE-404D-B7CB-0C3FD2E6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E99E7-AE71-4DE7-8440-CBD48505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78F06-B76F-46D7-B640-CBE21C7E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B91CE-D006-4532-987C-53F1796E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184480-0EF9-49AE-ADE6-91BE0AFB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3D0B-005D-48F0-A0D4-B44FE310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9DB8CB-2CB4-4A57-A521-3F98E8C0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4F5FD-C84E-4315-AD65-0F093982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42572-58DA-4075-8499-F553E385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C2005-6A51-4307-9582-51A271F1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86FA3-3D21-4052-98A9-216BA4D5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17DCA-85EC-4BC4-8921-664D6EF4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0D69F-F4CE-4961-A167-7C2EFD3F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F4F9B-39E6-4430-92D9-7317C7C8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FD370-A687-4BD5-8418-3F0ABBE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61D25-8727-4982-B2EC-AC303E82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F231-92B2-4BD9-AD56-3BC679DA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45585-B348-4262-9C83-6A0484FC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7ED2B-AF8E-4654-A80E-130078B7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AE26E-398D-4281-BB58-7C21B29D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B13501-76DC-43DD-ADD1-5B228215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D76B9-A622-48DE-BB89-4085340A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803618-487F-44DA-8A78-27B6CDAA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716DB5-5CFB-49E3-B536-C7F7C191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03E45-B023-4376-B90F-CC2DAC46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7DAFB-CA13-413D-BCD0-0EC1BBBB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9026B-0126-4B93-A8C1-203FC774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700-88B4-4F8E-86C6-0BA9436F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C94D-E3AB-4E39-A219-BD3E0C66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63C556-1063-45F2-BD2F-C0455C3E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38232-50DD-49FC-B87A-53E6DD2C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FE47C7-8E96-4923-852A-5E44EF05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463609-FEE9-4D42-9348-47DC37AA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2FF390-C7E6-42D4-9ECD-AE3DFD9E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2D2C-6195-4D98-A997-85578017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2187-78CF-42EC-8548-AB15A860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D6C4-E7E2-456A-8963-650CC540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C975-5100-41D2-BAD7-52D32706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8A5B-0023-44E2-9AA5-43AC8EB5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38F8-FC97-4D11-88AB-1907CFFA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0BF4-52A9-4273-8276-126C53C8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2EB8-4E7A-4617-84F6-97F88AD0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D9823-F007-4119-9E75-7ABA2BF2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FEF-FCFD-4A27-ADEE-073E8B9C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42A9-A757-4955-8088-C3C9311C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79BE-FEA9-48F1-A28C-3E3FEF23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89C6-0F6F-4152-9E0E-E78F56C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38DC-CF1D-40C4-B0CF-0767FCA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E020-D8D3-4269-981B-5AAE6BBE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0AC7-0F96-456C-8946-E88E2839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F256-9255-428C-A050-50E9F20B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7736-22DF-4FC3-A102-86BB1F50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F0155-A504-4438-982A-BD38FE7B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6156-E9AB-4436-957B-65EC9BB6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AEB-FD72-4D75-8B33-4578DEC2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6BEAC-8856-4330-9DF6-E544F1E4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4328-EC26-4D8A-91DD-1C4440EE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B2EA-A7FB-45B7-86B6-BD775C34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564D5-E9C6-4DD3-AE2A-0B10E936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AD30-6612-4F67-AEB0-C8BEF286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7634C-15A5-4C76-A2A2-313598A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E3198-8DA0-49F9-8520-E713AF0F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960AD-6E90-493F-BEB2-4BD2B595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41FB-6E30-496A-80D9-52C9FA59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5F990-4205-4BD7-BA8C-A4389038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938-F5F7-4E77-B595-4B72F318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1040A-0234-441C-B31F-7B12E516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4FC5-02EA-4830-A531-0A474307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43028-125C-493B-99B0-DB13D156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38714-B2FF-41B7-B9AE-70DFD6A8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8F2D8-25BD-4B69-BC65-1571BFAA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7F6D9-55C1-4F23-BD84-7E956483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2366C-BBDB-4EEF-B66D-A5803B86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A3BAD-8A43-4D4C-AF62-7DF14303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60C8-071F-4519-AD32-5CF40D58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F4049-BF57-4BD1-BF0F-70B32C30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B03-F180-4F1E-B967-D18AB2CC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05138-C73B-46E7-AD8D-E6D0AB84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1648C-DB0B-49D0-BFD5-EAE42331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021F5-D109-4EE6-8C9E-127A77E8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8F91B-322E-4C1D-BCFD-2828E71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F5443-011C-4222-9EDA-79BC6C56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74294-99AA-472E-820C-3C014CAA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F30B1-6D03-4C44-A0D4-4381DDFA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758D8-354D-4F35-9F36-5C59E4E8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D9C9-DE2B-44F6-A3B4-31726D55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CDA9-7BE5-4F7D-99FC-A18E1020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166-FA5A-41EE-8797-E56DFFD1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CD8F-A954-42DE-87C8-11D8C91E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B7008-EAA5-4E5E-858E-04DDE17A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ECBFF-2D23-41D0-AF05-95FBA6AB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829D2-844D-4C61-8AD1-64086727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9C1AF-FC25-4B7C-91C3-1E86D2EF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161C1-4031-4B0E-9575-81715C6C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21217-7521-447F-B552-A6587A90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8788B-ED6D-43FE-99AE-AED6727A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69B9D-EEAF-4D3C-85BB-536A8FF8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00D20-2AAB-4AA9-B0F3-0F87208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A36-1765-4737-BE9D-2FDD9957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A2FD2-43B8-4FA3-8C93-8020518E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4C04E-3528-49A0-B5D7-6731B277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DC644-F5C7-4DBE-BD7A-848EEC07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12809-B5B9-433B-A1DD-EFDD10BF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B318-E064-4D8A-B460-D324F0B2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6F257-C39F-48F2-A3CB-43E5C46E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F8134-2873-4B37-A0FF-8581E88C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DE471-A154-48AF-BAB4-EB73F8A5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45793-FA42-4661-B801-A682B78D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22A5D-9C27-4E01-A8D2-8328A339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5E1-9D13-45CB-828E-1D6A0D2D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5EF2C-3AF0-431E-8FB0-2D4AF550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AB70B-AF11-4495-B6AE-A882E7F8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5C26D-E499-40E5-AAC0-826A3F9F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4C529-3099-40D0-BF75-EED39E6B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17495-6F45-47DA-9332-1ADA2D47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9B08F-1CEF-41CF-92AC-2B7A4484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C0B1-24A4-47BE-9983-12C50026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4B1F2-8100-4C7A-8BC5-6AD94CB5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88F0A-7A0A-4872-B167-D7DD21AB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AC4B3-93FC-4C3F-9499-B651D7BA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ACB81-0420-4268-8A67-C04AFA7A24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16ADD-A77D-4A8B-AA70-7687AD2B341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9102D-69F1-4DC1-A94F-8B92BF4A12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020BF-56C6-4379-83A5-6315905B589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C36F8-99F0-4619-A2B0-06CF979958A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11058-2EC0-4EA2-8770-779B29315D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C382D-C115-4C95-8311-19461BA5C7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9200C-48AB-4304-86F9-A1BEBFF88E2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F8DD7-2FE7-4F60-A9D8-3041B2B5DA9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DDD1F-0101-41BD-AC7A-4F40EAAC292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A56BF-41B2-4EC7-8DEA-31369FA5D00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C7D03-D308-4987-AA8C-32929D64E3D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E7D32-91FF-4552-9E4F-BB1F1E905C7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7074F-0225-4363-809C-DA093EB13A7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90A02-0439-4207-BC75-08C90E05B7B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7CEC4-D02E-461B-9633-E14F5F09B41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9E6A3-397C-48BA-8D80-FCE417A70DA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176200" y="2133720"/>
            <a:ext cx="891540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13b9"/>
                </a:solidFill>
                <a:latin typeface="AGLettericaC"/>
              </a:rPr>
              <a:t>Страны Западной </a:t>
            </a:r>
            <a:br>
              <a:rPr sz="4400"/>
            </a:br>
            <a:r>
              <a:rPr b="0" lang="ru-RU" sz="4400" spc="-1" strike="noStrike">
                <a:solidFill>
                  <a:srgbClr val="9013b9"/>
                </a:solidFill>
                <a:latin typeface="AGLettericaC"/>
              </a:rPr>
              <a:t>и Центральной Африки. </a:t>
            </a:r>
            <a:endParaRPr b="0" lang="en-US" sz="4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7" name="TextBox 4"/>
          <p:cNvSpPr/>
          <p:nvPr/>
        </p:nvSpPr>
        <p:spPr>
          <a:xfrm>
            <a:off x="4424400" y="4624560"/>
            <a:ext cx="705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Презентация по географии для 7 класс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учитель географи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БОУ № 460 Пушкин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Смирнова Арина Дмитриевн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639800" y="59796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Нигерийские деревн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200" name="Рисунок 4" descr=""/>
          <p:cNvPicPr/>
          <p:nvPr/>
        </p:nvPicPr>
        <p:blipFill>
          <a:blip r:embed="rId1"/>
          <a:stretch/>
        </p:blipFill>
        <p:spPr>
          <a:xfrm>
            <a:off x="3127320" y="1492200"/>
            <a:ext cx="6067440" cy="490536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2588760" y="2133360"/>
            <a:ext cx="89154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119400" y="244080"/>
            <a:ext cx="4557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13b9"/>
                </a:solidFill>
                <a:latin typeface="AGLettericaC"/>
              </a:rPr>
              <a:t>Нигерийские города</a:t>
            </a: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682280" y="1617480"/>
            <a:ext cx="4413240" cy="19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Лагос – крупнейший город Нигери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Объект 6" descr=""/>
          <p:cNvPicPr/>
          <p:nvPr/>
        </p:nvPicPr>
        <p:blipFill>
          <a:blip r:embed="rId1"/>
          <a:stretch/>
        </p:blipFill>
        <p:spPr>
          <a:xfrm>
            <a:off x="281160" y="1893960"/>
            <a:ext cx="5456160" cy="480852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7648200" y="942840"/>
            <a:ext cx="394164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Абуджа – столица с 1991 город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6" name="Объект 7" descr=""/>
          <p:cNvPicPr/>
          <p:nvPr/>
        </p:nvPicPr>
        <p:blipFill>
          <a:blip r:embed="rId2"/>
          <a:stretch/>
        </p:blipFill>
        <p:spPr>
          <a:xfrm>
            <a:off x="6324480" y="1717560"/>
            <a:ext cx="55864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863720" y="374760"/>
            <a:ext cx="974232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GLettericaC"/>
              </a:rPr>
              <a:t>Цель – познакомиться с главными особенностями природы и населения изучаемой территории, научиться составлять схемы для ответов (кластеры) по плану описания страны:</a:t>
            </a:r>
            <a:br>
              <a:rPr sz="2500"/>
            </a:b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3530520" y="2253960"/>
            <a:ext cx="59040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Географическое положени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Рельеф и полезные ископаемы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Климат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Внутренние вод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Природные зон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AGLetterica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Население и хозяйств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79440" y="547560"/>
            <a:ext cx="109742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13b9"/>
                </a:solidFill>
                <a:latin typeface="AGLettericaC"/>
              </a:rPr>
              <a:t>Географические особенности региона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81" name="Объект 5" descr=""/>
          <p:cNvPicPr/>
          <p:nvPr/>
        </p:nvPicPr>
        <p:blipFill>
          <a:blip r:embed="rId1"/>
          <a:stretch/>
        </p:blipFill>
        <p:spPr>
          <a:xfrm>
            <a:off x="379440" y="1690560"/>
            <a:ext cx="5049720" cy="495936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 txBox="1"/>
          <p:nvPr/>
        </p:nvSpPr>
        <p:spPr>
          <a:xfrm>
            <a:off x="5700600" y="1690560"/>
            <a:ext cx="61754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-Территория региона получает наибольшее количество солнечного тепла и свет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-очень богатый растительный и животный мир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-Здесь сосредоточена большая часть населения материка и около половины государств континент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GLettericaC"/>
              </a:rPr>
              <a:t>-большинство народов относится к экваториальной рас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Нигерия – «Западная Африка в миниатюре»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84" name="Объект 3" descr=""/>
          <p:cNvPicPr/>
          <p:nvPr/>
        </p:nvPicPr>
        <p:blipFill>
          <a:blip r:embed="rId1"/>
          <a:stretch/>
        </p:blipFill>
        <p:spPr>
          <a:xfrm>
            <a:off x="4021200" y="1530360"/>
            <a:ext cx="52736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41120" y="126720"/>
            <a:ext cx="1121256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Рельеф Нигери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86" name="Объект 3" descr=""/>
          <p:cNvPicPr/>
          <p:nvPr/>
        </p:nvPicPr>
        <p:blipFill>
          <a:blip r:embed="rId1"/>
          <a:stretch/>
        </p:blipFill>
        <p:spPr>
          <a:xfrm>
            <a:off x="1220760" y="1623960"/>
            <a:ext cx="4986360" cy="4613400"/>
          </a:xfrm>
          <a:prstGeom prst="rect">
            <a:avLst/>
          </a:prstGeom>
          <a:ln w="0">
            <a:noFill/>
          </a:ln>
        </p:spPr>
      </p:pic>
      <p:sp>
        <p:nvSpPr>
          <p:cNvPr id="1187" name="TextBox 4"/>
          <p:cNvSpPr/>
          <p:nvPr/>
        </p:nvSpPr>
        <p:spPr>
          <a:xfrm>
            <a:off x="6568920" y="1055520"/>
            <a:ext cx="562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Реки Нигер и Бенуэ делят страну на две части: в южной части расположена Приморская равнина, а в северной преобладают невысокие плоскогорь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Севернее Приморской равнины территория страны переходит в невысокое плоскогорье — плато Йоруб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LettericaC"/>
                <a:ea typeface="Arial"/>
              </a:rPr>
              <a:t>Наиболее высокой является центральная часть плоскогорья — плато Джос, высшая точка которого — гора Шере (1735 м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13b9"/>
                </a:solidFill>
                <a:latin typeface="AGLettericaC"/>
              </a:rPr>
              <a:t>Полезные ископаемые Нигери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6194160" y="1620720"/>
            <a:ext cx="5808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AGLettericaC"/>
              </a:rPr>
              <a:t>Основные полезные ископаемые Нигерии — нефть, природный газ, каменный уголь, железная руда, руды олова, редких металлов (ниобия, тантала), нерудные строительные материалы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0" name="Объект 4" descr=""/>
          <p:cNvPicPr/>
          <p:nvPr/>
        </p:nvPicPr>
        <p:blipFill>
          <a:blip r:embed="rId1"/>
          <a:stretch/>
        </p:blipFill>
        <p:spPr>
          <a:xfrm>
            <a:off x="496800" y="1803240"/>
            <a:ext cx="509436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25240" y="296640"/>
            <a:ext cx="1114092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Климат Нигери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968480" y="1176480"/>
            <a:ext cx="938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Опишите климат по карте в атласе на странице 25 и составьте в тетради схему для ответа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1) В каких климатических поясах расположена страна?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2) Определите средние температуры января и июля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3)Какие имеются различия по сезонам на территории страны?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4) Определите среднегодовое количество осадков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AGLettericaC"/>
              </a:rPr>
              <a:t>5) Как климат влияет на особенности растительного и животного мира?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Третья по длине река Африки - Нигер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94" name="Объект 6" descr=""/>
          <p:cNvPicPr/>
          <p:nvPr/>
        </p:nvPicPr>
        <p:blipFill>
          <a:blip r:embed="rId1"/>
          <a:stretch/>
        </p:blipFill>
        <p:spPr>
          <a:xfrm>
            <a:off x="3056040" y="1774800"/>
            <a:ext cx="71355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176560" y="391680"/>
            <a:ext cx="98740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13b9"/>
                </a:solidFill>
                <a:latin typeface="AGLettericaC"/>
              </a:rPr>
              <a:t>Нигерия – самая плотно-населённая страна Африки.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6" name="TextBox 4"/>
          <p:cNvSpPr/>
          <p:nvPr/>
        </p:nvSpPr>
        <p:spPr>
          <a:xfrm>
            <a:off x="3859200" y="1363680"/>
            <a:ext cx="3952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2336400" y="1625760"/>
            <a:ext cx="89154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селение Нигерии 211,4 миллиона (2021 г.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8" name="Рисунок 7" descr=""/>
          <p:cNvPicPr/>
          <p:nvPr/>
        </p:nvPicPr>
        <p:blipFill>
          <a:blip r:embed="rId1"/>
          <a:stretch/>
        </p:blipFill>
        <p:spPr>
          <a:xfrm>
            <a:off x="3414600" y="2798640"/>
            <a:ext cx="56800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19:24:44Z</dcterms:created>
  <dc:creator>flashfame</dc:creator>
  <dc:description/>
  <dc:language>en-US</dc:language>
  <cp:lastModifiedBy>Арина Смирнова</cp:lastModifiedBy>
  <dcterms:modified xsi:type="dcterms:W3CDTF">2022-12-03T08:28:40Z</dcterms:modified>
  <cp:revision>27</cp:revision>
  <dc:subject/>
  <dc:title>Презентация PowerPoint</dc:title>
</cp:coreProperties>
</file>