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6814-796F-44F8-9655-6DF51DDE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E2B6-7F74-483C-A196-77FDC248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50EC-A5F2-4647-8708-D7AB542D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93C8-E9E5-4CDA-9DDC-ED1966B5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6347-ED12-4152-BDAC-CB3A645D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45D-DECD-496B-A37D-87499DA2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477B-BAEA-4233-B074-3F11863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68E7-6E33-41D3-8403-E149873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C58-C5D8-4CA4-83D6-928C676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4C87-43F3-4130-BDD5-FE7F1C0C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905A-F061-4287-A5CB-20C91D5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497E-720B-487D-955E-550C681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3262-DCA5-492F-8592-417B964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AED-3FEB-4EB9-BAEF-D257E58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FBD4-13DE-4685-AE5E-4674B19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A198-AD41-4AD0-A578-BAEA6ED4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1A3-C35E-4397-A346-8E3D85C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069B-3807-45E5-8B35-864075A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CC3D-C9B3-4116-94E7-E2D9A56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2F0F-6D6E-40F6-9D46-4CB2D10C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4DE1-6DD1-4355-A6B9-FB6CE6A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6420-8565-4389-A94E-DC677C7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5DCB-16FE-4E67-868A-10BC299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8A06-646F-4AD7-9748-9925B04E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4A71A3-D7BC-4EFD-9260-407AB57671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07D99D-77CB-4666-AD82-DBFA36DB43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Picture 4" descr="http://www.egom.es/egom-blog/files/2012/11/Imagen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929520" y="214200"/>
            <a:ext cx="759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ОУ «Основная общеобразовательная школа №2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000160" y="1928880"/>
            <a:ext cx="65005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но-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Причины детской заболеваемости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572000" y="3933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елов Гоша, Гармаев Арсалан,Галичкин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щие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ызова Е.А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86000" y="59292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Улан-Уд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47948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4200" y="0"/>
            <a:ext cx="761796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здоровье школьников влияют следующие фак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2" descr="C:\Users\gluhova.ea\Desktop\Профилактика заболеваемости школьников\DSC06365.jpg"/>
          <p:cNvPicPr/>
          <p:nvPr/>
        </p:nvPicPr>
        <p:blipFill>
          <a:blip r:embed="rId1"/>
          <a:stretch/>
        </p:blipFill>
        <p:spPr>
          <a:xfrm>
            <a:off x="971640" y="764640"/>
            <a:ext cx="7344360" cy="370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2699640" y="4721760"/>
            <a:ext cx="432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лохая эколог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547640" y="548640"/>
            <a:ext cx="655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правильное питание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л"/>
          <p:cNvPicPr/>
          <p:nvPr/>
        </p:nvPicPr>
        <p:blipFill>
          <a:blip r:embed="rId1"/>
          <a:stretch/>
        </p:blipFill>
        <p:spPr>
          <a:xfrm>
            <a:off x="357120" y="1857240"/>
            <a:ext cx="2285640" cy="22143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11" descr="ш"/>
          <p:cNvPicPr/>
          <p:nvPr/>
        </p:nvPicPr>
        <p:blipFill>
          <a:blip r:embed="rId2"/>
          <a:stretch/>
        </p:blipFill>
        <p:spPr>
          <a:xfrm>
            <a:off x="2843640" y="1989000"/>
            <a:ext cx="1872000" cy="1872000"/>
          </a:xfrm>
          <a:prstGeom prst="rect">
            <a:avLst/>
          </a:prstGeom>
          <a:ln w="9525">
            <a:noFill/>
          </a:ln>
        </p:spPr>
      </p:pic>
      <p:pic>
        <p:nvPicPr>
          <p:cNvPr id="129" name="Рисунок 9" descr="producers11b.jpg"/>
          <p:cNvPicPr/>
          <p:nvPr/>
        </p:nvPicPr>
        <p:blipFill>
          <a:blip r:embed="rId3"/>
          <a:stretch/>
        </p:blipFill>
        <p:spPr>
          <a:xfrm>
            <a:off x="5500800" y="2571840"/>
            <a:ext cx="1642680" cy="171432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4" descr="j0112332"/>
          <p:cNvPicPr/>
          <p:nvPr/>
        </p:nvPicPr>
        <p:blipFill>
          <a:blip r:embed="rId4"/>
          <a:stretch/>
        </p:blipFill>
        <p:spPr>
          <a:xfrm>
            <a:off x="1475640" y="3861000"/>
            <a:ext cx="1428480" cy="1499760"/>
          </a:xfrm>
          <a:prstGeom prst="rect">
            <a:avLst/>
          </a:prstGeom>
          <a:ln w="9525">
            <a:noFill/>
          </a:ln>
        </p:spPr>
      </p:pic>
      <p:pic>
        <p:nvPicPr>
          <p:cNvPr id="131" name="Рисунок 8" descr="label_cola.jpg"/>
          <p:cNvPicPr/>
          <p:nvPr/>
        </p:nvPicPr>
        <p:blipFill>
          <a:blip r:embed="rId5"/>
          <a:stretch/>
        </p:blipFill>
        <p:spPr>
          <a:xfrm>
            <a:off x="3571920" y="4429080"/>
            <a:ext cx="27144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5" descr="ру"/>
          <p:cNvPicPr/>
          <p:nvPr/>
        </p:nvPicPr>
        <p:blipFill>
          <a:blip r:embed="rId6"/>
          <a:stretch/>
        </p:blipFill>
        <p:spPr>
          <a:xfrm>
            <a:off x="1285920" y="5214960"/>
            <a:ext cx="2142720" cy="13568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7"/>
          <a:stretch/>
        </p:blipFill>
        <p:spPr>
          <a:xfrm>
            <a:off x="6786720" y="4714920"/>
            <a:ext cx="19998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043640" y="404640"/>
            <a:ext cx="756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ривязанность  к компьютеру и  телеф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C:\Users\gluhova.ea\Desktop\short.jpg"/>
          <p:cNvPicPr/>
          <p:nvPr/>
        </p:nvPicPr>
        <p:blipFill>
          <a:blip r:embed="rId1"/>
          <a:stretch/>
        </p:blipFill>
        <p:spPr>
          <a:xfrm>
            <a:off x="1835640" y="1412640"/>
            <a:ext cx="58323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827640" y="548640"/>
            <a:ext cx="777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арушение правил личной гигиен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C:\Users\gluhova.ea\Desktop\Профилактика заболеваемости школьников\1320288624_gepatit1.jpg"/>
          <p:cNvPicPr/>
          <p:nvPr/>
        </p:nvPicPr>
        <p:blipFill>
          <a:blip r:embed="rId1"/>
          <a:stretch/>
        </p:blipFill>
        <p:spPr>
          <a:xfrm>
            <a:off x="1403640" y="1772640"/>
            <a:ext cx="669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67640" y="332640"/>
            <a:ext cx="792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C:\Users\gluhova.ea\Desktop\Профилактика заболеваемости школьников\1325694654_smoking-kids-12.jpg"/>
          <p:cNvPicPr/>
          <p:nvPr/>
        </p:nvPicPr>
        <p:blipFill>
          <a:blip r:embed="rId1"/>
          <a:stretch/>
        </p:blipFill>
        <p:spPr>
          <a:xfrm>
            <a:off x="1979640" y="1268640"/>
            <a:ext cx="5184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115640" y="836640"/>
            <a:ext cx="784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улучшить наше здоровь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59640" y="1484640"/>
            <a:ext cx="61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.Занятия физической культурой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4788000" y="234900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2.Здоровый 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C:\Users\gluhova.ea\Desktop\Профилактика заболеваемости школьников\1299492629_imgfull.jpg"/>
          <p:cNvPicPr/>
          <p:nvPr/>
        </p:nvPicPr>
        <p:blipFill>
          <a:blip r:embed="rId1"/>
          <a:stretch/>
        </p:blipFill>
        <p:spPr>
          <a:xfrm flipH="1">
            <a:off x="5292360" y="2997000"/>
            <a:ext cx="385164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C:\Users\школа\Desktop\Новая папка\IMG_20210419_120023.jpg"/>
          <p:cNvPicPr/>
          <p:nvPr/>
        </p:nvPicPr>
        <p:blipFill>
          <a:blip r:embed="rId2"/>
          <a:stretch/>
        </p:blipFill>
        <p:spPr>
          <a:xfrm flipH="1">
            <a:off x="180000" y="2061000"/>
            <a:ext cx="3198240" cy="2784960"/>
          </a:xfrm>
          <a:prstGeom prst="rect">
            <a:avLst/>
          </a:prstGeom>
          <a:ln w="9525">
            <a:noFill/>
          </a:ln>
        </p:spPr>
      </p:pic>
      <p:pic>
        <p:nvPicPr>
          <p:cNvPr id="145" name="Рисунок 6" descr="C:\Users\школа\Desktop\Новая папка\IMG_20210419_120211.jpg"/>
          <p:cNvPicPr/>
          <p:nvPr/>
        </p:nvPicPr>
        <p:blipFill>
          <a:blip r:embed="rId3"/>
          <a:stretch/>
        </p:blipFill>
        <p:spPr>
          <a:xfrm>
            <a:off x="2627640" y="2925000"/>
            <a:ext cx="3411000" cy="36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115640" y="260640"/>
            <a:ext cx="633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тренняя зарядка. Физминутки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827640" y="476640"/>
            <a:ext cx="831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ртивные соревнования. Походы. Прогулки на свежем воздухе.. Зака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C:\Users\gluhova.ea\Desktop\Профилактика заболеваемости школьников\zakalivanie.jpg"/>
          <p:cNvPicPr/>
          <p:nvPr/>
        </p:nvPicPr>
        <p:blipFill>
          <a:blip r:embed="rId1"/>
          <a:stretch/>
        </p:blipFill>
        <p:spPr>
          <a:xfrm>
            <a:off x="4932000" y="1556640"/>
            <a:ext cx="3096000" cy="2527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C:\Users\школа\Documents\новогодняя деревня\IMG_20191220_081612.jpg"/>
          <p:cNvPicPr/>
          <p:nvPr/>
        </p:nvPicPr>
        <p:blipFill>
          <a:blip r:embed="rId2"/>
          <a:stretch/>
        </p:blipFill>
        <p:spPr>
          <a:xfrm>
            <a:off x="611640" y="1412640"/>
            <a:ext cx="3024000" cy="2520000"/>
          </a:xfrm>
          <a:prstGeom prst="rect">
            <a:avLst/>
          </a:prstGeom>
          <a:ln w="9525">
            <a:noFill/>
          </a:ln>
        </p:spPr>
      </p:pic>
      <p:pic>
        <p:nvPicPr>
          <p:cNvPr id="150" name="Рисунок 4" descr="C:\Users\школа\Documents\новогодняя деревня\IMG_20191220_061326.jpg"/>
          <p:cNvPicPr/>
          <p:nvPr/>
        </p:nvPicPr>
        <p:blipFill>
          <a:blip r:embed="rId3"/>
          <a:stretch/>
        </p:blipFill>
        <p:spPr>
          <a:xfrm>
            <a:off x="2728800" y="3573000"/>
            <a:ext cx="3686400" cy="295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1691640" y="222120"/>
            <a:ext cx="7452000" cy="649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быть здор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ы желаем вам, ребя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Быть здоровыми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о добитьс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возможно без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тарайтесь не лен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раз перед ед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жде чем за стол сад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Руки вымойте во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зарядкой занимайт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жедневно по утр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, конечно, закаляйтес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Это так поможет ва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вежим воздухом дыш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 возможности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 прогулки в лес ход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простуда-ерун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ы открыли вам секр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ыполняйте все со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 легко вам будет жить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4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https://ds02.infourok.ru/uploads/ex/0edd/0003a4d4-00f45360/img3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4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82160" y="1415880"/>
            <a:ext cx="919692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казывают различные исслед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школьники болеют чаще и дольше , чем 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 эффективном предупрежд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х заболеваний их количество можно сниз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что является основными прич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емост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Picture 2" descr="http://www.rusderm.ru/Templates/Prew/Medical_History_intern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406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857160" y="3933000"/>
            <a:ext cx="7345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СПАСИБО  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C:\Users\школа\Desktop\Новая папка\IMG_20210419_115936.jpg"/>
          <p:cNvPicPr/>
          <p:nvPr/>
        </p:nvPicPr>
        <p:blipFill>
          <a:blip r:embed="rId2"/>
          <a:stretch/>
        </p:blipFill>
        <p:spPr>
          <a:xfrm flipH="1">
            <a:off x="900000" y="764640"/>
            <a:ext cx="2376000" cy="2376000"/>
          </a:xfrm>
          <a:prstGeom prst="rect">
            <a:avLst/>
          </a:prstGeom>
          <a:ln w="9525">
            <a:noFill/>
          </a:ln>
        </p:spPr>
      </p:pic>
      <p:pic>
        <p:nvPicPr>
          <p:cNvPr id="161" name="Рисунок 6" descr="C:\Users\школа\Desktop\Новая папка\IMG_20210419_115917.jpg"/>
          <p:cNvPicPr/>
          <p:nvPr/>
        </p:nvPicPr>
        <p:blipFill>
          <a:blip r:embed="rId3"/>
          <a:stretch/>
        </p:blipFill>
        <p:spPr>
          <a:xfrm>
            <a:off x="3567240" y="1268640"/>
            <a:ext cx="2009160" cy="2664000"/>
          </a:xfrm>
          <a:prstGeom prst="rect">
            <a:avLst/>
          </a:prstGeom>
          <a:ln w="9525">
            <a:noFill/>
          </a:ln>
        </p:spPr>
      </p:pic>
      <p:pic>
        <p:nvPicPr>
          <p:cNvPr id="162" name="Рисунок 7" descr="C:\Users\школа\Desktop\Новая папка\IMG_20210419_120023.jpg"/>
          <p:cNvPicPr/>
          <p:nvPr/>
        </p:nvPicPr>
        <p:blipFill>
          <a:blip r:embed="rId4"/>
          <a:stretch/>
        </p:blipFill>
        <p:spPr>
          <a:xfrm>
            <a:off x="5724000" y="1700640"/>
            <a:ext cx="2232000" cy="237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ЗАДАЧИ РАБОТЫ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снить показатели детских заболеваний учащихся нашего класса    и всей начальной школ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основные причины заболеваемости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улировать правила, следуя которым можно сохранить здоровье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овать в классе профилактическую, оздоровительную работ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ть выводы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1859760"/>
            <a:ext cx="9143640" cy="29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полагаемый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Снижение уровня забол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Выработать комплекс рекомендаций и выпустить буклет для начальной школы « Здоровым быть здор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691640" y="188640"/>
            <a:ext cx="56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работы над проекто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988560"/>
            <a:ext cx="914364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Работали с программой  «Здоровым быть здор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:\Users\школа\Desktop\IMG_20210427_115127.jpg"/>
          <p:cNvPicPr/>
          <p:nvPr/>
        </p:nvPicPr>
        <p:blipFill>
          <a:blip r:embed="rId1"/>
          <a:stretch/>
        </p:blipFill>
        <p:spPr>
          <a:xfrm>
            <a:off x="683640" y="1917000"/>
            <a:ext cx="3600000" cy="3803040"/>
          </a:xfrm>
          <a:prstGeom prst="rect">
            <a:avLst/>
          </a:prstGeom>
          <a:ln w="9525">
            <a:noFill/>
          </a:ln>
        </p:spPr>
      </p:pic>
      <p:pic>
        <p:nvPicPr>
          <p:cNvPr id="112" name="Рисунок 4" descr="C:\Users\школа\Desktop\IMG_20210427_115152.jpg"/>
          <p:cNvPicPr/>
          <p:nvPr/>
        </p:nvPicPr>
        <p:blipFill>
          <a:blip r:embed="rId2"/>
          <a:stretch/>
        </p:blipFill>
        <p:spPr>
          <a:xfrm>
            <a:off x="4788000" y="1917000"/>
            <a:ext cx="4104000" cy="37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11640" y="548640"/>
            <a:ext cx="799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- Режим дня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ступление перед первокласс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школа\Desktop\IMG_20210427_084109.jpg"/>
          <p:cNvPicPr/>
          <p:nvPr/>
        </p:nvPicPr>
        <p:blipFill>
          <a:blip r:embed="rId1"/>
          <a:stretch/>
        </p:blipFill>
        <p:spPr>
          <a:xfrm>
            <a:off x="467640" y="2204640"/>
            <a:ext cx="3456000" cy="3960360"/>
          </a:xfrm>
          <a:prstGeom prst="rect">
            <a:avLst/>
          </a:prstGeom>
          <a:ln w="9525">
            <a:noFill/>
          </a:ln>
        </p:spPr>
      </p:pic>
      <p:pic>
        <p:nvPicPr>
          <p:cNvPr id="115" name="Рисунок 3" descr="C:\Users\школа\Desktop\IMG_20210427_084102.jpg"/>
          <p:cNvPicPr/>
          <p:nvPr/>
        </p:nvPicPr>
        <p:blipFill>
          <a:blip r:embed="rId2"/>
          <a:stretch/>
        </p:blipFill>
        <p:spPr>
          <a:xfrm>
            <a:off x="4140000" y="1484640"/>
            <a:ext cx="453600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95640" y="404640"/>
            <a:ext cx="777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ли анкетирование  с  учащимис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чальной    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C:\Users\школа\Desktop\Новая папка\IMG_20210421_091622.jpg"/>
          <p:cNvPicPr/>
          <p:nvPr/>
        </p:nvPicPr>
        <p:blipFill>
          <a:blip r:embed="rId1"/>
          <a:stretch/>
        </p:blipFill>
        <p:spPr>
          <a:xfrm>
            <a:off x="0" y="980640"/>
            <a:ext cx="4499640" cy="4032720"/>
          </a:xfrm>
          <a:prstGeom prst="rect">
            <a:avLst/>
          </a:prstGeom>
          <a:ln w="9525">
            <a:noFill/>
          </a:ln>
        </p:spPr>
      </p:pic>
      <p:pic>
        <p:nvPicPr>
          <p:cNvPr id="118" name="Рисунок 4" descr="C:\Users\школа\Desktop\Новая папка\IMG_20210421_092732.jpg"/>
          <p:cNvPicPr/>
          <p:nvPr/>
        </p:nvPicPr>
        <p:blipFill>
          <a:blip r:embed="rId2"/>
          <a:stretch/>
        </p:blipFill>
        <p:spPr>
          <a:xfrm>
            <a:off x="4500000" y="3213000"/>
            <a:ext cx="4643640" cy="364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395640" y="332640"/>
            <a:ext cx="799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. Провели анкетирование  с уча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чальной    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Таблица 3"/>
          <p:cNvGraphicFramePr/>
          <p:nvPr/>
        </p:nvGraphicFramePr>
        <p:xfrm>
          <a:off x="611640" y="1397160"/>
          <a:ext cx="6266520" cy="5320080"/>
        </p:xfrm>
        <a:graphic>
          <a:graphicData uri="http://schemas.openxmlformats.org/drawingml/2006/table">
            <a:tbl>
              <a:tblPr/>
              <a:tblGrid>
                <a:gridCol w="508320"/>
                <a:gridCol w="1932120"/>
                <a:gridCol w="1353600"/>
                <a:gridCol w="1159560"/>
                <a:gridCol w="1312200"/>
              </a:tblGrid>
              <a:tr h="78372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/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Заболева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ие 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Ветрянк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РВ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Бронхи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Желудочно- кишечные заболевани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Травматиз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50400" rIns="5040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2240">
                      <a:solidFill>
                        <a:srgbClr val="ff690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ff690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6903"/>
                      </a:solidFill>
                    </a:lnR>
                    <a:lnT w="12240">
                      <a:solidFill>
                        <a:srgbClr val="ff690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75640" y="836640"/>
            <a:ext cx="48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ывод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187640" y="1845000"/>
            <a:ext cx="612036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ольшинство  ребят  заболели по разным причи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одевались не по сез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гуляли без шарфа , ходили в столовую без верхней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 соблюдали режим 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имели контакт с больн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правильно пит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не занимались 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10</TotalTime>
  <Application>LibreOffice/7.4.7.2$Linux_X86_64 LibreOffice_project/40$Build-2</Application>
  <AppVersion>15.0000</AppVersion>
  <Words>412</Words>
  <Paragraphs>1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20:30Z</dcterms:created>
  <dc:creator>123</dc:creator>
  <dc:description/>
  <dc:language>en-US</dc:language>
  <cp:lastModifiedBy>школа23</cp:lastModifiedBy>
  <dcterms:modified xsi:type="dcterms:W3CDTF">2022-12-03T10:39:59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