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D93E-2887-41A2-8E85-3E5B1854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31C6-827F-4C78-BBF6-EF1FE85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101D-4810-4B8D-9446-ECC4A03A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5147-82BC-4E5E-A932-695FE41B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1E0-9E9E-408B-B503-51FFCAE9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6077-946E-4613-B8A2-7EB9B630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FE68-483F-448B-BE6E-D4591AE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C24E-0D00-4DB7-9982-C86D850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2FCC-D645-45F3-AFED-23629DA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E95E-2BF8-4114-8E72-C2422F90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634-C6C2-4B26-8DBF-CB4E195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429B-B5AA-4EC6-86D9-3C582716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AA3-7D41-4531-8C69-05FE131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379-4C96-4C0D-A97D-BE9C912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43C-30C0-47CF-A5DD-78E57D6D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1C48-5530-4697-B5E5-F84334F6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7BC7-87C7-41AB-AFA3-AB0E733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D491-706F-4ED1-8C6E-0B0DE0B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38CC-964A-4C3D-8FB2-08BB698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52ED-AFC4-4212-88D2-6401853E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9652-BD28-4199-8072-93F08CD7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417E-2D60-41AF-831C-EC9DE5A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B9AD-E8F9-4B53-A094-2CBA340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31FF-074E-4BC7-AAAF-BA286CA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BA1612-A928-4EF6-8F04-561AF228B1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01EBD7-C03C-45E7-ADE8-C3DB32BC3C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Picture 4" descr="http://www.egom.es/egom-blog/files/2012/11/Imagen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929520" y="214200"/>
            <a:ext cx="759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ОУ «Основная общеобразовательная школа №2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000160" y="1928880"/>
            <a:ext cx="65005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но-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Причины детской заболеваемости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572000" y="3933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елов Гоша, Гармаев Арсалан,Галичкин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щие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ызова Е.А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86000" y="59292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Улан-Уд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47948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4200" y="0"/>
            <a:ext cx="761796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здоровье школьников влияют следующие фак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2" descr="C:\Users\gluhova.ea\Desktop\Профилактика заболеваемости школьников\DSC06365.jpg"/>
          <p:cNvPicPr/>
          <p:nvPr/>
        </p:nvPicPr>
        <p:blipFill>
          <a:blip r:embed="rId1"/>
          <a:stretch/>
        </p:blipFill>
        <p:spPr>
          <a:xfrm>
            <a:off x="971640" y="764640"/>
            <a:ext cx="7344360" cy="370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2699640" y="4721760"/>
            <a:ext cx="432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лохая эколог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547640" y="548640"/>
            <a:ext cx="655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правильное питание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л"/>
          <p:cNvPicPr/>
          <p:nvPr/>
        </p:nvPicPr>
        <p:blipFill>
          <a:blip r:embed="rId1"/>
          <a:stretch/>
        </p:blipFill>
        <p:spPr>
          <a:xfrm>
            <a:off x="357120" y="1857240"/>
            <a:ext cx="2285640" cy="22143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11" descr="ш"/>
          <p:cNvPicPr/>
          <p:nvPr/>
        </p:nvPicPr>
        <p:blipFill>
          <a:blip r:embed="rId2"/>
          <a:stretch/>
        </p:blipFill>
        <p:spPr>
          <a:xfrm>
            <a:off x="2843640" y="1989000"/>
            <a:ext cx="1872000" cy="1872000"/>
          </a:xfrm>
          <a:prstGeom prst="rect">
            <a:avLst/>
          </a:prstGeom>
          <a:ln w="9525">
            <a:noFill/>
          </a:ln>
        </p:spPr>
      </p:pic>
      <p:pic>
        <p:nvPicPr>
          <p:cNvPr id="129" name="Рисунок 9" descr="producers11b.jpg"/>
          <p:cNvPicPr/>
          <p:nvPr/>
        </p:nvPicPr>
        <p:blipFill>
          <a:blip r:embed="rId3"/>
          <a:stretch/>
        </p:blipFill>
        <p:spPr>
          <a:xfrm>
            <a:off x="5500800" y="2571840"/>
            <a:ext cx="1642680" cy="171432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4" descr="j0112332"/>
          <p:cNvPicPr/>
          <p:nvPr/>
        </p:nvPicPr>
        <p:blipFill>
          <a:blip r:embed="rId4"/>
          <a:stretch/>
        </p:blipFill>
        <p:spPr>
          <a:xfrm>
            <a:off x="1475640" y="3861000"/>
            <a:ext cx="1428480" cy="1499760"/>
          </a:xfrm>
          <a:prstGeom prst="rect">
            <a:avLst/>
          </a:prstGeom>
          <a:ln w="9525">
            <a:noFill/>
          </a:ln>
        </p:spPr>
      </p:pic>
      <p:pic>
        <p:nvPicPr>
          <p:cNvPr id="131" name="Рисунок 8" descr="label_cola.jpg"/>
          <p:cNvPicPr/>
          <p:nvPr/>
        </p:nvPicPr>
        <p:blipFill>
          <a:blip r:embed="rId5"/>
          <a:stretch/>
        </p:blipFill>
        <p:spPr>
          <a:xfrm>
            <a:off x="3571920" y="4429080"/>
            <a:ext cx="27144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5" descr="ру"/>
          <p:cNvPicPr/>
          <p:nvPr/>
        </p:nvPicPr>
        <p:blipFill>
          <a:blip r:embed="rId6"/>
          <a:stretch/>
        </p:blipFill>
        <p:spPr>
          <a:xfrm>
            <a:off x="1285920" y="5214960"/>
            <a:ext cx="2142720" cy="13568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7"/>
          <a:stretch/>
        </p:blipFill>
        <p:spPr>
          <a:xfrm>
            <a:off x="6786720" y="4714920"/>
            <a:ext cx="19998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043640" y="404640"/>
            <a:ext cx="756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ривязанность  к компьютеру и  телеф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C:\Users\gluhova.ea\Desktop\short.jpg"/>
          <p:cNvPicPr/>
          <p:nvPr/>
        </p:nvPicPr>
        <p:blipFill>
          <a:blip r:embed="rId1"/>
          <a:stretch/>
        </p:blipFill>
        <p:spPr>
          <a:xfrm>
            <a:off x="1835640" y="1412640"/>
            <a:ext cx="58323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827640" y="548640"/>
            <a:ext cx="777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арушение правил личной гигиен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C:\Users\gluhova.ea\Desktop\Профилактика заболеваемости школьников\1320288624_gepatit1.jpg"/>
          <p:cNvPicPr/>
          <p:nvPr/>
        </p:nvPicPr>
        <p:blipFill>
          <a:blip r:embed="rId1"/>
          <a:stretch/>
        </p:blipFill>
        <p:spPr>
          <a:xfrm>
            <a:off x="1403640" y="1772640"/>
            <a:ext cx="669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67640" y="332640"/>
            <a:ext cx="792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C:\Users\gluhova.ea\Desktop\Профилактика заболеваемости школьников\1325694654_smoking-kids-12.jpg"/>
          <p:cNvPicPr/>
          <p:nvPr/>
        </p:nvPicPr>
        <p:blipFill>
          <a:blip r:embed="rId1"/>
          <a:stretch/>
        </p:blipFill>
        <p:spPr>
          <a:xfrm>
            <a:off x="1979640" y="1268640"/>
            <a:ext cx="5184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115640" y="836640"/>
            <a:ext cx="784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улучшить наше здоровь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59640" y="1484640"/>
            <a:ext cx="61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.Занятия физической культурой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788000" y="234900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2.Здоровый 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C:\Users\gluhova.ea\Desktop\Профилактика заболеваемости школьников\1299492629_imgfull.jpg"/>
          <p:cNvPicPr/>
          <p:nvPr/>
        </p:nvPicPr>
        <p:blipFill>
          <a:blip r:embed="rId1"/>
          <a:stretch/>
        </p:blipFill>
        <p:spPr>
          <a:xfrm flipH="1">
            <a:off x="5292360" y="2997000"/>
            <a:ext cx="385164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C:\Users\школа\Desktop\Новая папка\IMG_20210419_120023.jpg"/>
          <p:cNvPicPr/>
          <p:nvPr/>
        </p:nvPicPr>
        <p:blipFill>
          <a:blip r:embed="rId2"/>
          <a:stretch/>
        </p:blipFill>
        <p:spPr>
          <a:xfrm flipH="1">
            <a:off x="180000" y="2061000"/>
            <a:ext cx="3198240" cy="2784960"/>
          </a:xfrm>
          <a:prstGeom prst="rect">
            <a:avLst/>
          </a:prstGeom>
          <a:ln w="9525">
            <a:noFill/>
          </a:ln>
        </p:spPr>
      </p:pic>
      <p:pic>
        <p:nvPicPr>
          <p:cNvPr id="145" name="Рисунок 6" descr="C:\Users\школа\Desktop\Новая папка\IMG_20210419_120211.jpg"/>
          <p:cNvPicPr/>
          <p:nvPr/>
        </p:nvPicPr>
        <p:blipFill>
          <a:blip r:embed="rId3"/>
          <a:stretch/>
        </p:blipFill>
        <p:spPr>
          <a:xfrm>
            <a:off x="2627640" y="2925000"/>
            <a:ext cx="341100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115640" y="260640"/>
            <a:ext cx="633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тренняя зарядка. Физминутки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827640" y="476640"/>
            <a:ext cx="831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ртивные соревнования. Походы. Прогулки на свежем воздухе.. Зака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C:\Users\gluhova.ea\Desktop\Профилактика заболеваемости школьников\zakalivanie.jpg"/>
          <p:cNvPicPr/>
          <p:nvPr/>
        </p:nvPicPr>
        <p:blipFill>
          <a:blip r:embed="rId1"/>
          <a:stretch/>
        </p:blipFill>
        <p:spPr>
          <a:xfrm>
            <a:off x="4932000" y="1556640"/>
            <a:ext cx="3096000" cy="2527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C:\Users\школа\Documents\новогодняя деревня\IMG_20191220_081612.jpg"/>
          <p:cNvPicPr/>
          <p:nvPr/>
        </p:nvPicPr>
        <p:blipFill>
          <a:blip r:embed="rId2"/>
          <a:stretch/>
        </p:blipFill>
        <p:spPr>
          <a:xfrm>
            <a:off x="611640" y="1412640"/>
            <a:ext cx="3024000" cy="2520000"/>
          </a:xfrm>
          <a:prstGeom prst="rect">
            <a:avLst/>
          </a:prstGeom>
          <a:ln w="9525">
            <a:noFill/>
          </a:ln>
        </p:spPr>
      </p:pic>
      <p:pic>
        <p:nvPicPr>
          <p:cNvPr id="150" name="Рисунок 4" descr="C:\Users\школа\Documents\новогодняя деревня\IMG_20191220_061326.jpg"/>
          <p:cNvPicPr/>
          <p:nvPr/>
        </p:nvPicPr>
        <p:blipFill>
          <a:blip r:embed="rId3"/>
          <a:stretch/>
        </p:blipFill>
        <p:spPr>
          <a:xfrm>
            <a:off x="2728800" y="3573000"/>
            <a:ext cx="3686400" cy="295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1691640" y="222120"/>
            <a:ext cx="7452000" cy="649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быть здор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ы желаем вам, ребя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Быть здоровыми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о добитьс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возможно без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тарайтесь не лен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раз перед ед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жде чем за стол сад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уки вымойте во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зарядкой занимайт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жедневно по утр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, конечно, закаляйтес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Это так поможет в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вежим воздухом дыш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 возможности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 прогулки в лес ход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простуда-ерун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ы открыли вам секр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ыполняйте все со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легко вам будет жить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4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https://ds02.infourok.ru/uploads/ex/0edd/0003a4d4-00f45360/img3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4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82160" y="1415880"/>
            <a:ext cx="919692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казывают различные исслед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школьники болеют чаще и дольше , чем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 эффективном предупрежд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заболеваний их количество можно сниз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что является основными прич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емост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406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857160" y="3933000"/>
            <a:ext cx="7345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СПАСИБО  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C:\Users\школа\Desktop\Новая папка\IMG_20210419_115936.jpg"/>
          <p:cNvPicPr/>
          <p:nvPr/>
        </p:nvPicPr>
        <p:blipFill>
          <a:blip r:embed="rId2"/>
          <a:stretch/>
        </p:blipFill>
        <p:spPr>
          <a:xfrm flipH="1">
            <a:off x="900000" y="764640"/>
            <a:ext cx="2376000" cy="2376000"/>
          </a:xfrm>
          <a:prstGeom prst="rect">
            <a:avLst/>
          </a:prstGeom>
          <a:ln w="9525">
            <a:noFill/>
          </a:ln>
        </p:spPr>
      </p:pic>
      <p:pic>
        <p:nvPicPr>
          <p:cNvPr id="161" name="Рисунок 6" descr="C:\Users\школа\Desktop\Новая папка\IMG_20210419_115917.jpg"/>
          <p:cNvPicPr/>
          <p:nvPr/>
        </p:nvPicPr>
        <p:blipFill>
          <a:blip r:embed="rId3"/>
          <a:stretch/>
        </p:blipFill>
        <p:spPr>
          <a:xfrm>
            <a:off x="3567240" y="1268640"/>
            <a:ext cx="2009160" cy="2664000"/>
          </a:xfrm>
          <a:prstGeom prst="rect">
            <a:avLst/>
          </a:prstGeom>
          <a:ln w="9525">
            <a:noFill/>
          </a:ln>
        </p:spPr>
      </p:pic>
      <p:pic>
        <p:nvPicPr>
          <p:cNvPr id="162" name="Рисунок 7" descr="C:\Users\школа\Desktop\Новая папка\IMG_20210419_120023.jpg"/>
          <p:cNvPicPr/>
          <p:nvPr/>
        </p:nvPicPr>
        <p:blipFill>
          <a:blip r:embed="rId4"/>
          <a:stretch/>
        </p:blipFill>
        <p:spPr>
          <a:xfrm>
            <a:off x="5724000" y="1700640"/>
            <a:ext cx="2232000" cy="237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ЗАДАЧИ РАБОТЫ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снить показатели детских заболеваний учащихся нашего класса    и всей начальной школ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основные причины заболеваемост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улировать правила, следуя которым можно сохранить здоровье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овать в классе профилактическую, оздоровительную работ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ть выводы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1859760"/>
            <a:ext cx="9143640" cy="29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полагаемый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Снижение уровня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Выработать комплекс рекомендаций и выпустить буклет для начальной школы « Здоровым быть здор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691640" y="188640"/>
            <a:ext cx="56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работы над проекто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988560"/>
            <a:ext cx="914364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Работали с программой  «Здоровым быть здор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:\Users\школа\Desktop\IMG_20210427_115127.jpg"/>
          <p:cNvPicPr/>
          <p:nvPr/>
        </p:nvPicPr>
        <p:blipFill>
          <a:blip r:embed="rId1"/>
          <a:stretch/>
        </p:blipFill>
        <p:spPr>
          <a:xfrm>
            <a:off x="683640" y="1917000"/>
            <a:ext cx="3600000" cy="3803040"/>
          </a:xfrm>
          <a:prstGeom prst="rect">
            <a:avLst/>
          </a:prstGeom>
          <a:ln w="9525">
            <a:noFill/>
          </a:ln>
        </p:spPr>
      </p:pic>
      <p:pic>
        <p:nvPicPr>
          <p:cNvPr id="112" name="Рисунок 4" descr="C:\Users\школа\Desktop\IMG_20210427_115152.jpg"/>
          <p:cNvPicPr/>
          <p:nvPr/>
        </p:nvPicPr>
        <p:blipFill>
          <a:blip r:embed="rId2"/>
          <a:stretch/>
        </p:blipFill>
        <p:spPr>
          <a:xfrm>
            <a:off x="4788000" y="1917000"/>
            <a:ext cx="4104000" cy="37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11640" y="548640"/>
            <a:ext cx="799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- Режим дня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ступление перед первокласс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школа\Desktop\IMG_20210427_084109.jpg"/>
          <p:cNvPicPr/>
          <p:nvPr/>
        </p:nvPicPr>
        <p:blipFill>
          <a:blip r:embed="rId1"/>
          <a:stretch/>
        </p:blipFill>
        <p:spPr>
          <a:xfrm>
            <a:off x="467640" y="2204640"/>
            <a:ext cx="3456000" cy="3960360"/>
          </a:xfrm>
          <a:prstGeom prst="rect">
            <a:avLst/>
          </a:prstGeom>
          <a:ln w="9525">
            <a:noFill/>
          </a:ln>
        </p:spPr>
      </p:pic>
      <p:pic>
        <p:nvPicPr>
          <p:cNvPr id="115" name="Рисунок 3" descr="C:\Users\школа\Desktop\IMG_20210427_084102.jpg"/>
          <p:cNvPicPr/>
          <p:nvPr/>
        </p:nvPicPr>
        <p:blipFill>
          <a:blip r:embed="rId2"/>
          <a:stretch/>
        </p:blipFill>
        <p:spPr>
          <a:xfrm>
            <a:off x="4140000" y="1484640"/>
            <a:ext cx="453600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95640" y="404640"/>
            <a:ext cx="777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ли анкетирование  с  учащимис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чальной    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C:\Users\школа\Desktop\Новая папка\IMG_20210421_091622.jpg"/>
          <p:cNvPicPr/>
          <p:nvPr/>
        </p:nvPicPr>
        <p:blipFill>
          <a:blip r:embed="rId1"/>
          <a:stretch/>
        </p:blipFill>
        <p:spPr>
          <a:xfrm>
            <a:off x="0" y="980640"/>
            <a:ext cx="4499640" cy="4032720"/>
          </a:xfrm>
          <a:prstGeom prst="rect">
            <a:avLst/>
          </a:prstGeom>
          <a:ln w="9525">
            <a:noFill/>
          </a:ln>
        </p:spPr>
      </p:pic>
      <p:pic>
        <p:nvPicPr>
          <p:cNvPr id="118" name="Рисунок 4" descr="C:\Users\школа\Desktop\Новая папка\IMG_20210421_092732.jpg"/>
          <p:cNvPicPr/>
          <p:nvPr/>
        </p:nvPicPr>
        <p:blipFill>
          <a:blip r:embed="rId2"/>
          <a:stretch/>
        </p:blipFill>
        <p:spPr>
          <a:xfrm>
            <a:off x="4500000" y="3213000"/>
            <a:ext cx="4643640" cy="364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395640" y="332640"/>
            <a:ext cx="799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. Провели анкетирование  с уча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чальной    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Таблица 3"/>
          <p:cNvGraphicFramePr/>
          <p:nvPr/>
        </p:nvGraphicFramePr>
        <p:xfrm>
          <a:off x="611640" y="1397160"/>
          <a:ext cx="6266520" cy="5320080"/>
        </p:xfrm>
        <a:graphic>
          <a:graphicData uri="http://schemas.openxmlformats.org/drawingml/2006/table">
            <a:tbl>
              <a:tblPr/>
              <a:tblGrid>
                <a:gridCol w="508320"/>
                <a:gridCol w="1932120"/>
                <a:gridCol w="1353600"/>
                <a:gridCol w="1159560"/>
                <a:gridCol w="1312200"/>
              </a:tblGrid>
              <a:tr h="78372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/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Заболева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ие 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Ветрянк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РВ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Бронхи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Желудочно- кишечные заболевани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Травматиз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75640" y="836640"/>
            <a:ext cx="48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ывод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187640" y="1845000"/>
            <a:ext cx="612036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ольшинство  ребят  заболели по разным причи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одевались не по сез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гуляли без шарфа , ходили в столовую без верхней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 соблюдали режим 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имели контакт с больн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правильно пит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 занимались 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10</TotalTime>
  <Application>LibreOffice/7.4.7.2$Linux_X86_64 LibreOffice_project/40$Build-2</Application>
  <AppVersion>15.0000</AppVersion>
  <Words>412</Words>
  <Paragraphs>1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20:30Z</dcterms:created>
  <dc:creator>123</dc:creator>
  <dc:description/>
  <dc:language>en-US</dc:language>
  <cp:lastModifiedBy>школа23</cp:lastModifiedBy>
  <dcterms:modified xsi:type="dcterms:W3CDTF">2022-12-03T10:39:59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