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move the slide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dt" idx="28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29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30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492BA-899E-42D5-9BA3-DCEDEECE6B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D76BF-C512-49A9-8873-EEDD604C8D57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4D5E6-093A-4754-B5CD-78E0C7F94ED4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33FEB-CA9E-435C-A5B0-A46EE8C7510C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E1530-4213-406A-926C-D3F0B155BF1F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99B7B-836F-48C6-AFFC-7452AA66F4A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1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8E893-C1AB-436F-BAED-F21D3AB7DBF1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0A03A-8264-45FD-B25F-8B5641D4D901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1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376DE-947E-47C9-8543-C3AB62AC5AF9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1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441B4-83C0-4EAC-B21D-04D276BFB355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1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C3AAC-8076-4A8D-9D67-E6780892AA0D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D80D8-6B0B-44F0-9450-92322F767A81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41100-06EC-4CEC-B2BD-F4841F73F471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CFC7A-A889-48FB-9385-0E6F2E34C7ED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2F883-95CF-4522-A8B1-0712C9F95893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3BBFE-7F70-48AF-9288-638795F13673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DF11E-A928-4EFA-A61B-06351E6582F3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6055C-E00B-477C-BC9B-2A5F71F822DE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3AC6-3B97-454F-B8AE-D2C78B25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CD02-C9F6-43E5-84D1-1821DF7F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12A54-847C-4D72-9F60-22BC8FD1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1C219-AEFC-4D92-9CE8-63973F5C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62812-BFC7-46ED-966A-42CB6242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F8B21-60FC-4392-81D0-8293C7B3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4F2DD-C7F2-429B-8194-BD0BA8C8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8031A-8B62-45D4-AE39-5749FEEA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C7A01-5CB9-4A60-9DD7-6D8E3FFE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3CE7C-CCB3-4B08-B923-63ACF5CE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7FB4C-3395-4F40-B488-0880425F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C55-4AA4-4B14-885D-37A892DF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67EE-01A5-41C9-BF34-1E80FCD5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FA1CA-279C-4D88-A164-A0C42EF6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6A5E6-676A-428B-A831-0426FDF9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3857A-4967-4AFB-AED5-C0238D8D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FF9CD-9EBC-4FFF-809A-3E8B2385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7C617-97AF-4327-9E22-3FAFA23A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10BC2-0BD2-497B-BC39-D5015895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B1D11-363C-469D-A307-5E7F4D14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058C-4A11-42A5-B6AE-29D18C0E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EFF99-70E0-4ACA-95A0-9BAF7D99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5328F-6677-4E3E-B70F-705C7566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892F9-D324-480B-9FE1-A0C90C9E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E92F7-8EF0-4003-B8D1-14B5D37E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178CB-560A-4C6F-8CF3-1650AA76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E7195-1862-4BA4-A403-AE3A839E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C27B9-B01B-4D99-B109-D68E6D52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5B12BB-A156-43AA-80A3-3279CD30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5DC60-12A5-47A7-B28C-7C3BEC92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64932-7A30-4A8A-8BBD-36B793DC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05A2-81DC-42A6-8F90-FE5E2AA5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2D5E3-C608-4438-99A6-2B6A9308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4BD0F-C94A-44F9-B3CF-5A289CE0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C9D362-2DF4-4C28-8804-A333A496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E95564-9531-4889-97EE-B03FA847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B3F42-9BA9-4FB7-B3ED-67DAEA5C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3D845-A6A2-462F-926B-614A7BC5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767E45-CFF9-4A19-AD3E-4EEAA53B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BF880-3A27-4336-967C-7BB67724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A2C93-A78A-4509-BCBF-9445EDD8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CFA23-9D2D-474F-95E4-DCAF0B62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C5FC-796F-4580-9048-0E2470A9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5E187-4713-474B-9DF3-7610ED68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5D47F-9A91-47EF-A18A-D7C0A6D8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5E4E5-76DE-4F6F-BE81-65120ED9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A7E7F-3950-4D4E-A581-0485ED1F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7C5EA-D01A-45A2-BD52-00593C51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6D00D-D472-4234-8DCD-458C4A7B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D8B4E-B7EA-4C86-82F1-1905E12C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BFD03-DCB6-4B38-A018-6A5B464A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B9C49-C923-4C70-BBD0-5DF46D09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D2FFD-37F5-4AFD-A698-0F57DAF4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E6CE-F17A-4B9D-9243-92FCDE3A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1D8AE-2DA5-4B90-BBC2-DC47E77D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D22DF-F688-4A44-86B6-C7C4E88F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56A73-C0BD-4A09-B886-F35E5906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F70C8-DD24-4B16-AF21-1A65272F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451DE-59D8-4FDA-9B66-43305C02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5D5AE-2CA2-4376-AFF6-C06A870B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40C34-BD83-4A01-B9E3-3C39E19B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E767B-ABBA-4459-9264-25604FF2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6DCFF-D8FC-4705-816C-1DF8C243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EE282-4B80-4F95-AE39-CAA232B1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8D7A-4335-4198-9B21-685EDA61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665DB-2714-4CB8-996E-2414C838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AC42D-82EC-4F5D-8F2A-FBE0EC04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6665F-6C58-425D-B6A8-ADDCCD13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17FC3-28E7-4227-B280-C9B751F0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B1F16-4863-413A-AB90-8E2EDE02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B3242-4027-4981-927E-FF3A5E6B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1EE4A-6C18-48BF-8ED9-B64B24A9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B2E52-0641-450A-91A4-CD01ED10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3F92F-9FC4-4DEB-BFC7-07468E42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D7D25-5971-47E4-BAE0-B0625EDE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3181-7049-444D-8CFF-D2A33D66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92FD6-CEB5-43CF-A814-11B5E47B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34F34-78EF-40BC-A99C-8C59288F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8440C-27DF-47A7-92CE-61BAFE73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A62DE-7A1E-4ECA-9D6C-35A9E27F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21D6F-5397-4DDA-AC91-0FAB5B2E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E9643-4417-4860-93CB-F63D1976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66CC2-649F-43CD-91F3-2D877B0E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5672B-6862-4E11-B6E0-FE3CFFF2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29549-307D-486A-AB66-ED1133EF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2D366-A455-4C7D-98E2-A8882BC0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09B7-B878-45C0-A0ED-70E21C33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03184-D5AA-4ABC-9F8A-9C1AF305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52382-2551-4DFB-88EE-8BD80263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30F5F-B5D8-4C42-A4F7-0D376B71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0D4E2-CFE4-4C38-8FAB-F4DD10EC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CB1AA-03DB-4A17-8BA4-3B9705CF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444F0-C478-4707-A6E6-8CD23BAA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3BC05-683B-4B1B-8297-468562C1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5DEE8-C87F-47BB-825E-C8D6CA9C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FEEB2-55A6-4576-9A6A-2BD804A3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95E05-C548-47B5-8188-8AF4E54A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4A70-4923-4DB0-9B5D-CA85257E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4AC55-DDE4-44D7-9FED-D0EFD60D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6AC23-63B2-4475-96CA-03D549A1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17343-D6F5-4BF1-9D34-1B0EB5F7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9A1B4-A22C-47D8-B0E3-50A8683A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6E112-7EE9-4E5F-B799-2D3FCBB6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63CBF-2481-4B80-9D1C-D05A04B5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32486-AFD1-4B26-8FB3-7B37841D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DBB71-6D35-419F-9C5E-69678F7A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38EB2-FD8E-46F2-8E0E-13477EAD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8AD1E-3FEB-44CD-8080-39849583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68120" y="1801800"/>
            <a:ext cx="9736200" cy="55627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68120" y="168120"/>
            <a:ext cx="9717120" cy="148464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B3A8DF-B657-4647-99B1-589A27F2B476}" type="slidenum">
              <a:rPr b="0" lang="en-GB" sz="12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728120" y="168120"/>
            <a:ext cx="2184120" cy="72262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68120" y="169920"/>
            <a:ext cx="7393320" cy="722304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20E630-15C6-4E46-B674-1D69947C11B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28120" y="168120"/>
            <a:ext cx="2184120" cy="72262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68120" y="169920"/>
            <a:ext cx="7393320" cy="722304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7603B0-0B3E-42EF-AC2D-4709F7776368}" type="slidenum">
              <a:rPr b="0" lang="en-GB" sz="12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68120" y="166680"/>
            <a:ext cx="9736200" cy="722628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DDD658-B102-4B0B-998F-0FB9EE54DFBA}" type="slidenum">
              <a:rPr b="0" lang="en-GB" sz="12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728120" y="166680"/>
            <a:ext cx="2184120" cy="72262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68120" y="168120"/>
            <a:ext cx="7393320" cy="72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A9F49D-2A79-44AA-9BF6-8D588CBCD75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728120" y="166680"/>
            <a:ext cx="21841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8D98AE-F827-4303-9D10-52A22E7BEAF6}" type="slidenum">
              <a:rPr b="0" lang="en-GB" sz="12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68120" y="162000"/>
            <a:ext cx="7393320" cy="72277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728120" y="162000"/>
            <a:ext cx="2157120" cy="72277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851D96-29BE-40BB-B286-134A981BF57E}" type="slidenum">
              <a:rPr b="0" lang="en-GB" sz="12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168120" y="1801800"/>
            <a:ext cx="9736200" cy="55627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168120" y="168120"/>
            <a:ext cx="9717120" cy="148464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237A86-DB12-4D37-A1D6-343BF8F88737}" type="slidenum">
              <a:rPr b="0" lang="en-GB" sz="12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8"/>
          <p:cNvSpPr/>
          <p:nvPr/>
        </p:nvSpPr>
        <p:spPr>
          <a:xfrm>
            <a:off x="168120" y="1801800"/>
            <a:ext cx="9736200" cy="55627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168120" y="168120"/>
            <a:ext cx="9717120" cy="148464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B077CD-3AD0-4A11-81D3-865F20A47AA4}" type="slidenum">
              <a:rPr b="0" lang="en-GB" sz="12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1" lang="en-GB" sz="4400" spc="-1" strike="noStrike">
                <a:solidFill>
                  <a:srgbClr val="ffc000"/>
                </a:solidFill>
                <a:latin typeface="Franklin Gothic Medium"/>
              </a:rPr>
              <a:t>ШКОЛЬНАЯ ФОРМА</a:t>
            </a:r>
            <a:r>
              <a:rPr b="1" lang="en-US" sz="4400" spc="-1" strike="noStrike">
                <a:solidFill>
                  <a:srgbClr val="ffc000"/>
                </a:solidFill>
                <a:latin typeface="Franklin Gothic Medium"/>
              </a:rPr>
              <a:t>- </a:t>
            </a:r>
            <a:br>
              <a:rPr sz="4400"/>
            </a:br>
            <a:r>
              <a:rPr b="1" lang="ru-RU" sz="4400" spc="-1" strike="noStrike">
                <a:solidFill>
                  <a:srgbClr val="ffc000"/>
                </a:solidFill>
                <a:latin typeface="Franklin Gothic Medium"/>
              </a:rPr>
              <a:t>«ЗА» И «ПРОТИВ»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2920" y="2050920"/>
            <a:ext cx="907236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1" lang="ru-RU" sz="2800" spc="-1" strike="noStrike">
                <a:solidFill>
                  <a:srgbClr val="693122"/>
                </a:solidFill>
                <a:latin typeface="Franklin Gothic Medium"/>
              </a:rPr>
              <a:t>ОРКСЭ модуль «Светская этика»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1" lang="ru-RU" sz="2800" spc="-1" strike="noStrike">
                <a:solidFill>
                  <a:srgbClr val="693122"/>
                </a:solidFill>
                <a:latin typeface="Franklin Gothic Medium"/>
              </a:rPr>
              <a:t>ГБОУ лицей № 408 Пушкинского района СПб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1" lang="ru-RU" sz="2800" spc="-1" strike="noStrike">
                <a:solidFill>
                  <a:srgbClr val="693122"/>
                </a:solidFill>
                <a:latin typeface="Franklin Gothic Medium"/>
              </a:rPr>
              <a:t>учитель начальных классов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1" lang="ru-RU" sz="2800" spc="-1" strike="noStrike">
                <a:solidFill>
                  <a:srgbClr val="693122"/>
                </a:solidFill>
                <a:latin typeface="Franklin Gothic Medium"/>
              </a:rPr>
              <a:t>Панова Елена Анатольевна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AutoShape 2"/>
          <p:cNvSpPr/>
          <p:nvPr/>
        </p:nvSpPr>
        <p:spPr>
          <a:xfrm>
            <a:off x="647640" y="6083280"/>
            <a:ext cx="8785440" cy="115272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534949"/>
                </a:solidFill>
                <a:latin typeface="Arial"/>
              </a:rPr>
              <a:t>Ф</a:t>
            </a:r>
            <a:r>
              <a:rPr b="1" i="1" lang="en-GB" sz="2400" spc="-1" strike="noStrike">
                <a:solidFill>
                  <a:srgbClr val="534949"/>
                </a:solidFill>
                <a:latin typeface="Arial"/>
              </a:rPr>
              <a:t>орма </a:t>
            </a:r>
            <a:r>
              <a:rPr b="1" i="1" lang="ru-RU" sz="2400" spc="-1" strike="noStrike">
                <a:solidFill>
                  <a:srgbClr val="534949"/>
                </a:solidFill>
                <a:latin typeface="Arial"/>
              </a:rPr>
              <a:t>японских школьников</a:t>
            </a:r>
            <a:r>
              <a:rPr b="1" i="1" lang="en-GB" sz="2400" spc="-1" strike="noStrike">
                <a:solidFill>
                  <a:srgbClr val="53494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2" descr="Гордость японских школьников – ЯПОНСКИЙ ЯЗЫК"/>
          <p:cNvPicPr/>
          <p:nvPr/>
        </p:nvPicPr>
        <p:blipFill>
          <a:blip r:embed="rId1"/>
          <a:srcRect l="2313" t="0" r="18575" b="0"/>
          <a:stretch/>
        </p:blipFill>
        <p:spPr>
          <a:xfrm>
            <a:off x="1655640" y="539640"/>
            <a:ext cx="658044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AutoShape 2"/>
          <p:cNvSpPr/>
          <p:nvPr/>
        </p:nvSpPr>
        <p:spPr>
          <a:xfrm>
            <a:off x="3240" y="6156360"/>
            <a:ext cx="8785080" cy="115092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534949"/>
                </a:solidFill>
                <a:latin typeface="Arial"/>
              </a:rPr>
              <a:t>Ф</a:t>
            </a:r>
            <a:r>
              <a:rPr b="1" i="1" lang="en-GB" sz="2400" spc="-1" strike="noStrike">
                <a:solidFill>
                  <a:srgbClr val="534949"/>
                </a:solidFill>
                <a:latin typeface="Arial"/>
              </a:rPr>
              <a:t>орма </a:t>
            </a:r>
            <a:r>
              <a:rPr b="1" i="1" lang="ru-RU" sz="2400" spc="-1" strike="noStrike">
                <a:solidFill>
                  <a:srgbClr val="534949"/>
                </a:solidFill>
                <a:latin typeface="Arial"/>
              </a:rPr>
              <a:t>итальянских школьников</a:t>
            </a:r>
            <a:r>
              <a:rPr b="1" i="1" lang="en-GB" sz="2400" spc="-1" strike="noStrike">
                <a:solidFill>
                  <a:srgbClr val="53494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2" descr="В Италии на священников подали в суд за благословение школьников | CNL NEWS  — Христианские новости"/>
          <p:cNvPicPr/>
          <p:nvPr/>
        </p:nvPicPr>
        <p:blipFill>
          <a:blip r:embed="rId1"/>
          <a:srcRect l="11379" t="0" r="14145" b="0"/>
          <a:stretch/>
        </p:blipFill>
        <p:spPr>
          <a:xfrm>
            <a:off x="287280" y="1187280"/>
            <a:ext cx="5761080" cy="4032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Как выглядит школьная форма в Италии | Italiano4ka | Яндекс Дзен"/>
          <p:cNvPicPr/>
          <p:nvPr/>
        </p:nvPicPr>
        <p:blipFill>
          <a:blip r:embed="rId2"/>
          <a:srcRect l="23489" t="2442" r="5276" b="1574"/>
          <a:stretch/>
        </p:blipFill>
        <p:spPr>
          <a:xfrm>
            <a:off x="6335640" y="179280"/>
            <a:ext cx="3538440" cy="61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AutoShape 2"/>
          <p:cNvSpPr/>
          <p:nvPr/>
        </p:nvSpPr>
        <p:spPr>
          <a:xfrm>
            <a:off x="3240" y="6156360"/>
            <a:ext cx="8785080" cy="115092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534949"/>
                </a:solidFill>
                <a:latin typeface="Arial"/>
              </a:rPr>
              <a:t>Ф</a:t>
            </a:r>
            <a:r>
              <a:rPr b="1" i="1" lang="en-GB" sz="2400" spc="-1" strike="noStrike">
                <a:solidFill>
                  <a:srgbClr val="534949"/>
                </a:solidFill>
                <a:latin typeface="Arial"/>
              </a:rPr>
              <a:t>орма </a:t>
            </a:r>
            <a:r>
              <a:rPr b="1" i="1" lang="ru-RU" sz="2400" spc="-1" strike="noStrike">
                <a:solidFill>
                  <a:srgbClr val="534949"/>
                </a:solidFill>
                <a:latin typeface="Arial"/>
              </a:rPr>
              <a:t>британских школьников</a:t>
            </a:r>
            <a:r>
              <a:rPr b="1" i="1" lang="en-GB" sz="2400" spc="-1" strike="noStrike">
                <a:solidFill>
                  <a:srgbClr val="53494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2" descr="Самые стильные модели школьной формы Великобритании – The City, 01.09.2019"/>
          <p:cNvPicPr/>
          <p:nvPr/>
        </p:nvPicPr>
        <p:blipFill>
          <a:blip r:embed="rId1"/>
          <a:srcRect l="15386" t="0" r="16665" b="0"/>
          <a:stretch/>
        </p:blipFill>
        <p:spPr>
          <a:xfrm>
            <a:off x="144360" y="250920"/>
            <a:ext cx="5087880" cy="37447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Школьная форма в Великобритании"/>
          <p:cNvPicPr/>
          <p:nvPr/>
        </p:nvPicPr>
        <p:blipFill>
          <a:blip r:embed="rId2"/>
          <a:stretch/>
        </p:blipFill>
        <p:spPr>
          <a:xfrm>
            <a:off x="5327640" y="2394000"/>
            <a:ext cx="453708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461880" y="351000"/>
            <a:ext cx="90709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Gothic"/>
              </a:rPr>
              <a:t>ШКОЛЬ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MS Gothic"/>
              </a:rPr>
              <a:t>АЯ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Gothic"/>
              </a:rPr>
              <a:t> ФОР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MS Gothic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Gothic"/>
              </a:rPr>
              <a:t>«ЗА»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MS Gothic"/>
              </a:rPr>
              <a:t>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Gothic"/>
              </a:rPr>
              <a:t>«ПРОТИВ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2"/>
          <p:cNvSpPr/>
          <p:nvPr/>
        </p:nvSpPr>
        <p:spPr>
          <a:xfrm>
            <a:off x="1025640" y="1747800"/>
            <a:ext cx="9070920" cy="52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12600"/>
                <a:tab algn="l" pos="461880"/>
                <a:tab algn="l" pos="91440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396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68680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1"/>
          <p:cNvSpPr/>
          <p:nvPr/>
        </p:nvSpPr>
        <p:spPr>
          <a:xfrm>
            <a:off x="387360" y="1717560"/>
            <a:ext cx="4116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Форма дисциплинирует, выделяет от учеников других шк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Дети не завидуют друг друг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Не нужно думать, что наде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Чувство еди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3"/>
          <p:cNvSpPr/>
          <p:nvPr/>
        </p:nvSpPr>
        <p:spPr>
          <a:xfrm>
            <a:off x="5172120" y="2211480"/>
            <a:ext cx="3889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Загоняет в рам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сё равно есть поводы для зави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Не всегда удобная в нош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Не нравится большинству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imes New Roman"/>
              </a:rPr>
              <a:t>РАССМОТРИ РИСУНКИ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pic>
        <p:nvPicPr>
          <p:cNvPr id="444" name="Рисунок 6" descr="Национальный стандарт школьной формы должен повысить ее качество, не  увеличивая расходы родителей — ЯСИА"/>
          <p:cNvPicPr/>
          <p:nvPr/>
        </p:nvPicPr>
        <p:blipFill>
          <a:blip r:embed="rId1"/>
          <a:stretch/>
        </p:blipFill>
        <p:spPr>
          <a:xfrm>
            <a:off x="287280" y="1768320"/>
            <a:ext cx="4643640" cy="352440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7" descr="Дети в повседневной летней одежде на все тело | Бесплатно Фото"/>
          <p:cNvPicPr/>
          <p:nvPr/>
        </p:nvPicPr>
        <p:blipFill>
          <a:blip r:embed="rId2"/>
          <a:stretch/>
        </p:blipFill>
        <p:spPr>
          <a:xfrm>
            <a:off x="4930920" y="3308400"/>
            <a:ext cx="4986360" cy="39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287280" y="1907640"/>
            <a:ext cx="9506160" cy="525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algn="ctr">
              <a:lnSpc>
                <a:spcPct val="87000"/>
              </a:lnSpc>
              <a:spcBef>
                <a:spcPts val="649"/>
              </a:spcBef>
              <a:tabLst>
                <a:tab algn="l" pos="0"/>
                <a:tab algn="l" pos="12600"/>
                <a:tab algn="l" pos="461880"/>
                <a:tab algn="l" pos="91440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396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68680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47640" y="324000"/>
            <a:ext cx="8640720" cy="129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ru-RU" sz="5400" spc="-1" strike="noStrike">
                <a:solidFill>
                  <a:srgbClr val="92d050"/>
                </a:solidFill>
                <a:latin typeface="Franklin Gothic Medium"/>
              </a:rPr>
              <a:t>ПРАВИЛА ДРЕСС-КОДА</a:t>
            </a:r>
            <a:r>
              <a:rPr b="0" lang="ru-RU" sz="3500" spc="-1" strike="noStrike">
                <a:solidFill>
                  <a:srgbClr val="92d050"/>
                </a:solidFill>
                <a:latin typeface="Franklin Gothic Medium"/>
              </a:rPr>
              <a:t>.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48" name="TextBox 1"/>
          <p:cNvSpPr/>
          <p:nvPr/>
        </p:nvSpPr>
        <p:spPr>
          <a:xfrm>
            <a:off x="936720" y="212400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Выглядеть опрятн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Табу на яркую и броскую бижутер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Удобная обувь с закрытым носком и пяткой, но не спортив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.Даже в жаркую погоду  мальчики не должны носить шорты, а девочки должны быть в колгот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287280" y="1907640"/>
            <a:ext cx="9506160" cy="525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algn="ctr">
              <a:lnSpc>
                <a:spcPct val="87000"/>
              </a:lnSpc>
              <a:spcBef>
                <a:spcPts val="649"/>
              </a:spcBef>
              <a:tabLst>
                <a:tab algn="l" pos="0"/>
                <a:tab algn="l" pos="12600"/>
                <a:tab algn="l" pos="461880"/>
                <a:tab algn="l" pos="91440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396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68680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47640" y="324000"/>
            <a:ext cx="8640720" cy="129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92d050"/>
                </a:solidFill>
                <a:latin typeface="Franklin Gothic Medium"/>
              </a:rPr>
              <a:t>ВЫВОДЫ «ЗА» ШКОЛЬНУЮ ФОРМУ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51" name="TextBox 1"/>
          <p:cNvSpPr/>
          <p:nvPr/>
        </p:nvSpPr>
        <p:spPr>
          <a:xfrm>
            <a:off x="658800" y="2050920"/>
            <a:ext cx="8416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Помогает сгладить разницу в материальном положении среди школьни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Воспитывает в учащихся внутреннюю дисциплин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Прививает хороший вкус к элегантному деловому стил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Формирует чувства общности и сплоченности с классом, школ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Даёт возможность осознать себя учеником и членом коллекти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Помогает настроиться на работ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Не позволяет учащимся одеваться вызывающ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287280" y="1907640"/>
            <a:ext cx="9506160" cy="525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algn="ctr">
              <a:lnSpc>
                <a:spcPct val="87000"/>
              </a:lnSpc>
              <a:spcBef>
                <a:spcPts val="649"/>
              </a:spcBef>
              <a:tabLst>
                <a:tab algn="l" pos="0"/>
                <a:tab algn="l" pos="12600"/>
                <a:tab algn="l" pos="461880"/>
                <a:tab algn="l" pos="91440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396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68680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47640" y="324000"/>
            <a:ext cx="8640720" cy="129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Franklin Gothic Medium"/>
              </a:rPr>
              <a:t>РЕФЛЕКСИЯ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54" name="TextBox 1"/>
          <p:cNvSpPr/>
          <p:nvPr/>
        </p:nvSpPr>
        <p:spPr>
          <a:xfrm>
            <a:off x="287280" y="1908000"/>
            <a:ext cx="95061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было для ва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тересным на урок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зменилось ли ваше отношение к школьной форм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1" descr=""/>
          <p:cNvPicPr/>
          <p:nvPr/>
        </p:nvPicPr>
        <p:blipFill>
          <a:blip r:embed="rId1"/>
          <a:stretch/>
        </p:blipFill>
        <p:spPr>
          <a:xfrm>
            <a:off x="7201080" y="1957320"/>
            <a:ext cx="2376360" cy="404028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1" descr=""/>
          <p:cNvPicPr/>
          <p:nvPr/>
        </p:nvPicPr>
        <p:blipFill>
          <a:blip r:embed="rId2"/>
          <a:stretch/>
        </p:blipFill>
        <p:spPr>
          <a:xfrm>
            <a:off x="863640" y="3459240"/>
            <a:ext cx="3889440" cy="26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Прямоугольник 1"/>
          <p:cNvSpPr/>
          <p:nvPr/>
        </p:nvSpPr>
        <p:spPr>
          <a:xfrm>
            <a:off x="863640" y="1042920"/>
            <a:ext cx="8424720" cy="26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ные материал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s://bykm.ru/development/nuzhna-li-forma-v-shkole-klassnyi-chas-na-temu-zachem-nuzhna-shkolnaya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s://multiurok.ru/files/prezentatsiia-k-proektu-nuzhna-li-shkolnaia-forma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.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https://www.culture.ru/materials/51485/po-odezhke-vstrechay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360360" y="1279440"/>
            <a:ext cx="939636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42880"/>
                <a:tab algn="l" pos="2166840"/>
                <a:tab algn="l" pos="2890800"/>
                <a:tab algn="l" pos="36147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br>
              <a:rPr sz="3200"/>
            </a:br>
            <a:br>
              <a:rPr sz="32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агандировать деловой стиль одежды для школьников.  воспитывать осознанное отношение к внешнему вид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42880"/>
                <a:tab algn="l" pos="2166840"/>
                <a:tab algn="l" pos="2890800"/>
                <a:tab algn="l" pos="36147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лировать и аргументировать высказывание за и против школьной фор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719280"/>
                <a:tab algn="l" pos="1442880"/>
                <a:tab algn="l" pos="2166840"/>
                <a:tab algn="l" pos="2890800"/>
                <a:tab algn="l" pos="36147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Познакомить  обучающихся с историей школьной формы в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719280"/>
                <a:tab algn="l" pos="1442880"/>
                <a:tab algn="l" pos="2166840"/>
                <a:tab algn="l" pos="2890800"/>
                <a:tab algn="l" pos="36147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Представить школьную форму различных стра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719280"/>
                <a:tab algn="l" pos="1442880"/>
                <a:tab algn="l" pos="2166840"/>
                <a:tab algn="l" pos="2890800"/>
                <a:tab algn="l" pos="36147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Формировать умения красиво и правильно одеваться, соответственно определенным жизненным ситуация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719280"/>
                <a:tab algn="l" pos="1442880"/>
                <a:tab algn="l" pos="2166840"/>
                <a:tab algn="l" pos="2890800"/>
                <a:tab algn="l" pos="36147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Развивать культуру поведения и  культуру внешнего вида</a:t>
            </a:r>
            <a:br>
              <a:rPr sz="32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91640" y="301680"/>
            <a:ext cx="8783640" cy="88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imes New Roman"/>
              </a:rPr>
              <a:t>РАССМОТРИ РИСУНКИ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pic>
        <p:nvPicPr>
          <p:cNvPr id="400" name="Рисунок 6" descr="Форма для студентов военной кафедры | ВКонтакте"/>
          <p:cNvPicPr/>
          <p:nvPr/>
        </p:nvPicPr>
        <p:blipFill>
          <a:blip r:embed="rId1"/>
          <a:stretch/>
        </p:blipFill>
        <p:spPr>
          <a:xfrm>
            <a:off x="905040" y="1768320"/>
            <a:ext cx="1871640" cy="267048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7" descr="КУРТКА П/Ш полиции | Военторг - военный, армейский интернет магазин в Тюмени"/>
          <p:cNvPicPr/>
          <p:nvPr/>
        </p:nvPicPr>
        <p:blipFill>
          <a:blip r:embed="rId2"/>
          <a:stretch/>
        </p:blipFill>
        <p:spPr>
          <a:xfrm>
            <a:off x="3745080" y="1768320"/>
            <a:ext cx="1726920" cy="267048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8" descr="Боевая одежда пожарного БОП-2 купить в Москве"/>
          <p:cNvPicPr/>
          <p:nvPr/>
        </p:nvPicPr>
        <p:blipFill>
          <a:blip r:embed="rId3"/>
          <a:stretch/>
        </p:blipFill>
        <p:spPr>
          <a:xfrm>
            <a:off x="6119640" y="1768320"/>
            <a:ext cx="2233800" cy="267048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9" descr="Самые красивые российские стюардессы - PEOPLETALK"/>
          <p:cNvPicPr/>
          <p:nvPr/>
        </p:nvPicPr>
        <p:blipFill>
          <a:blip r:embed="rId4"/>
          <a:stretch/>
        </p:blipFill>
        <p:spPr>
          <a:xfrm>
            <a:off x="1727280" y="4438800"/>
            <a:ext cx="2017800" cy="232380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10" descr="Форма для врачей купить в Москве в интернет-магазине"/>
          <p:cNvPicPr/>
          <p:nvPr/>
        </p:nvPicPr>
        <p:blipFill>
          <a:blip r:embed="rId5"/>
          <a:stretch/>
        </p:blipFill>
        <p:spPr>
          <a:xfrm>
            <a:off x="4968720" y="4438800"/>
            <a:ext cx="2129040" cy="2323800"/>
          </a:xfrm>
          <a:prstGeom prst="rect">
            <a:avLst/>
          </a:prstGeom>
          <a:ln w="0">
            <a:noFill/>
          </a:ln>
        </p:spPr>
      </p:pic>
      <p:sp>
        <p:nvSpPr>
          <p:cNvPr id="405" name="TextBox 1"/>
          <p:cNvSpPr/>
          <p:nvPr/>
        </p:nvSpPr>
        <p:spPr>
          <a:xfrm>
            <a:off x="1368360" y="676260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 – это удобная и эстетичная одеж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imes New Roman"/>
              </a:rPr>
              <a:t>РАССМОТРИ РИСУНКИ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8" name="TextBox 1"/>
          <p:cNvSpPr/>
          <p:nvPr/>
        </p:nvSpPr>
        <p:spPr>
          <a:xfrm>
            <a:off x="287280" y="6845400"/>
            <a:ext cx="95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в форме внушает доверие и ува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Рисунок 7" descr="Человек В Форме Шеф-повара Держит Кастрюлю И Лицензионные фото и стоковые  изображения"/>
          <p:cNvPicPr/>
          <p:nvPr/>
        </p:nvPicPr>
        <p:blipFill>
          <a:blip r:embed="rId1"/>
          <a:srcRect l="31267" t="0" r="7496" b="0"/>
          <a:stretch/>
        </p:blipFill>
        <p:spPr>
          <a:xfrm>
            <a:off x="1152360" y="1909800"/>
            <a:ext cx="2159280" cy="243504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9" descr="Смеяться или плакать: 18 человек, которые носили одежду и аксессуары  сомнительного стиля, считая их модными"/>
          <p:cNvPicPr/>
          <p:nvPr/>
        </p:nvPicPr>
        <p:blipFill>
          <a:blip r:embed="rId2"/>
          <a:stretch/>
        </p:blipFill>
        <p:spPr>
          <a:xfrm>
            <a:off x="5761080" y="1909800"/>
            <a:ext cx="1773360" cy="234144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10" descr="Неглубокая фотография двух человек в военной форме · бесплатные стоковые  фото"/>
          <p:cNvPicPr/>
          <p:nvPr/>
        </p:nvPicPr>
        <p:blipFill>
          <a:blip r:embed="rId3"/>
          <a:srcRect l="8333" t="0" r="45826" b="0"/>
          <a:stretch/>
        </p:blipFill>
        <p:spPr>
          <a:xfrm>
            <a:off x="1152360" y="4484520"/>
            <a:ext cx="2016360" cy="236088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11" descr="Модный треш: почему грязная и рваная одежда становится популярной | ПРО  красивости: DIY и искусство | Яндекс Дзен"/>
          <p:cNvPicPr/>
          <p:nvPr/>
        </p:nvPicPr>
        <p:blipFill>
          <a:blip r:embed="rId4"/>
          <a:stretch/>
        </p:blipFill>
        <p:spPr>
          <a:xfrm>
            <a:off x="5794200" y="4484520"/>
            <a:ext cx="1740240" cy="22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imes New Roman"/>
              </a:rPr>
              <a:t>РАССМОТРИ РИСУНКИ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pic>
        <p:nvPicPr>
          <p:cNvPr id="415" name="Рисунок 4" descr="Ответы Mail.ru: Русская национальная одежда"/>
          <p:cNvPicPr/>
          <p:nvPr/>
        </p:nvPicPr>
        <p:blipFill>
          <a:blip r:embed="rId1"/>
          <a:stretch/>
        </p:blipFill>
        <p:spPr>
          <a:xfrm>
            <a:off x="831960" y="1851120"/>
            <a:ext cx="2952720" cy="491472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5" descr="Национальный костюм — LiveJournal"/>
          <p:cNvPicPr/>
          <p:nvPr/>
        </p:nvPicPr>
        <p:blipFill>
          <a:blip r:embed="rId2"/>
          <a:srcRect l="0" t="8820" r="25910" b="0"/>
          <a:stretch/>
        </p:blipFill>
        <p:spPr>
          <a:xfrm>
            <a:off x="5472000" y="1808280"/>
            <a:ext cx="3313080" cy="491472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"/>
          <p:cNvSpPr/>
          <p:nvPr/>
        </p:nvSpPr>
        <p:spPr>
          <a:xfrm>
            <a:off x="503280" y="6845400"/>
            <a:ext cx="87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ть узнаваемым, чтобы выделяться отличаться от других наро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1079640" y="666720"/>
            <a:ext cx="8567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86868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S Gothic"/>
              </a:rPr>
              <a:t>Форма, униформа (лат. forma «форма», лат. uniformis «единообразный»), мундир — одинаковая по стилю, покрою, цвету и ткани специальная (служебная) одежда для создания единого облика корпоративной групп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Picture 1" descr=""/>
          <p:cNvPicPr/>
          <p:nvPr/>
        </p:nvPicPr>
        <p:blipFill>
          <a:blip r:embed="rId1"/>
          <a:srcRect l="0" t="2551" r="0" b="5225"/>
          <a:stretch/>
        </p:blipFill>
        <p:spPr>
          <a:xfrm>
            <a:off x="3168720" y="2916360"/>
            <a:ext cx="2808360" cy="44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1" lang="en-GB" sz="4000" spc="-1" strike="noStrike">
                <a:solidFill>
                  <a:srgbClr val="92d050"/>
                </a:solidFill>
                <a:latin typeface="Times New Roman"/>
              </a:rPr>
              <a:t>ИЗ ИСТОРИИ ШКОЛЬНОЙ ФОРМЫ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Школьная форма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01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Franklin Gothic Medium"/>
              </a:rPr>
              <a:t>для девочек 1917 года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5148360" y="1743120"/>
            <a:ext cx="442728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1" descr=""/>
          <p:cNvPicPr/>
          <p:nvPr/>
        </p:nvPicPr>
        <p:blipFill>
          <a:blip r:embed="rId1"/>
          <a:stretch/>
        </p:blipFill>
        <p:spPr>
          <a:xfrm>
            <a:off x="576360" y="325440"/>
            <a:ext cx="2448000" cy="33894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2"/>
          <a:stretch/>
        </p:blipFill>
        <p:spPr>
          <a:xfrm>
            <a:off x="7061040" y="325440"/>
            <a:ext cx="2659320" cy="3416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"/>
          <p:cNvPicPr/>
          <p:nvPr/>
        </p:nvPicPr>
        <p:blipFill>
          <a:blip r:embed="rId3"/>
          <a:stretch/>
        </p:blipFill>
        <p:spPr>
          <a:xfrm>
            <a:off x="496800" y="3780000"/>
            <a:ext cx="2737080" cy="35193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"/>
          <p:cNvPicPr/>
          <p:nvPr/>
        </p:nvPicPr>
        <p:blipFill>
          <a:blip r:embed="rId4"/>
          <a:stretch/>
        </p:blipFill>
        <p:spPr>
          <a:xfrm>
            <a:off x="6910560" y="3924360"/>
            <a:ext cx="2813040" cy="3375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"/>
          <p:cNvPicPr/>
          <p:nvPr/>
        </p:nvPicPr>
        <p:blipFill>
          <a:blip r:embed="rId5"/>
          <a:stretch/>
        </p:blipFill>
        <p:spPr>
          <a:xfrm>
            <a:off x="3503520" y="1079640"/>
            <a:ext cx="328932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2"/>
          <p:cNvSpPr/>
          <p:nvPr/>
        </p:nvSpPr>
        <p:spPr>
          <a:xfrm>
            <a:off x="647640" y="6083280"/>
            <a:ext cx="8785440" cy="115272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534949"/>
                </a:solidFill>
                <a:latin typeface="Arial"/>
              </a:rPr>
              <a:t>Школьная форма в таком ви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534949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534949"/>
                </a:solidFill>
                <a:latin typeface="Arial"/>
              </a:rPr>
              <a:t>просуществовала до</a:t>
            </a:r>
            <a:r>
              <a:rPr b="1" i="1" lang="ru-RU" sz="2400" spc="-1" strike="noStrike">
                <a:solidFill>
                  <a:srgbClr val="534949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534949"/>
                </a:solidFill>
                <a:latin typeface="Arial"/>
              </a:rPr>
              <a:t>90-ых го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Рисунок 1" descr=""/>
          <p:cNvPicPr/>
          <p:nvPr/>
        </p:nvPicPr>
        <p:blipFill>
          <a:blip r:embed="rId1"/>
          <a:stretch/>
        </p:blipFill>
        <p:spPr>
          <a:xfrm>
            <a:off x="1800360" y="250920"/>
            <a:ext cx="6945120" cy="583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м</dc:creator>
  <dc:description/>
  <dc:language>en-US</dc:language>
  <cp:lastModifiedBy>дом</cp:lastModifiedBy>
  <dcterms:modified xsi:type="dcterms:W3CDTF">2022-05-23T20:09:51Z</dcterms:modified>
  <cp:revision>28</cp:revision>
  <dc:subject/>
  <dc:title>ШКОЛЬНАЯ ФОР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1d0000000000010243100207f6000400038000</vt:lpwstr>
  </property>
</Properties>
</file>