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move the slide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dt" idx="28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29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30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39E67-012A-4D42-8A1F-5C8076BDEF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CFDC4-5B6A-4190-BEA2-AB683E8A5E4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425D9-5EEF-4DD5-BCC3-F184FD5407F3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BEAF3-14F9-4D41-AA72-BD98A297312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87F70-1141-4850-BB52-10F9378BEAD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5BA38-78AD-4F70-A752-899DA070475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3FC84-1950-4786-9611-F1736B4F7D80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85709-C8D4-4CF3-B701-55393604B464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B19A4-E792-45D6-B9DF-B466D7B73A57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4C061-7D18-4A2A-B08F-F220B2361AE9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2C06C-7EC8-4E12-B875-4018F6E6C3CD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79A05-64CF-4E58-B8B7-53D8BFD1BD89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B9C04-57FE-42B5-9F62-452978ACA28E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D7046-08C4-41F7-8E9A-EEF2D8DE519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B9F29-8D21-456D-81B6-236E169E2E25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95EB4-310C-4FC2-994F-9ED0E5B14CE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49EC3-E3CC-4378-B7E7-E6C24FD5E42C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376BC-FAE9-47E3-9501-9F95EB16B34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A2D5-8052-4B42-A0D9-21FE8FD0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F94-A199-491C-A040-AE2C2656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643CB-27E7-4E13-B2E7-934BA505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C44F8-FEC1-4044-9609-CB5EE48A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29D86-E451-4F82-B218-CD7E2F91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7F2DA-5DD5-48D3-ABDA-6F1720D0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F958E-B575-4C84-8DC7-FB2BB1B3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CC716-3841-4F4D-9A83-F0162F8C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1AEA7-B090-488D-8A08-08259F2F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E66CF-C39D-4B4D-B164-0BB17134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B5C5B-E8CF-4546-B07B-E152F9EB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7F9-DA03-40B6-9810-9BEDE0B4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0A16-F168-4852-8559-23DE29E5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296BF-C5C8-4644-BBFC-1AF5ED6C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FD495-C1CD-45CE-8BF2-9734D6E4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70131-804F-48D1-813B-8F397752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B17E1-EC4A-4D89-BF22-4561E6A9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5CDDA-9621-4A64-BC2A-109D02EB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D567A-6D12-4DB7-A0ED-85217772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3BC0D-BFEE-45DF-A9E6-C38A60BD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01DD-D64A-4458-8BE7-3A001B8F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53621-CD9B-447D-B6EA-B1AE77B4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D53CC-CDDA-49A9-9CD9-97623AE8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04F6F-C9C7-4C08-87D0-4A07B49D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E570C-71D4-400D-BE95-4697EB1E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03E30-065C-4565-9ED8-CF08C43C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B9F15A-EF10-44E9-BC78-43A7B354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E201E-6C04-49DE-A86B-5946B6CC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AF668-A243-4914-930B-53DB951A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9D6AFC-53D1-4A6B-A4B2-CEF9D885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83C96-4113-4C9C-8261-7518CBFA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1B9-5595-4A3E-ABE7-D2F62149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CA3D3-FDD4-4DAD-97AF-BFF65E49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F5E4B-7AF7-4D05-8A93-855A0A90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FA232-18D6-42C9-85F4-77FF92B7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A805F-7EFD-4D01-9B0C-C1945315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F5E54-6AAD-4C76-AFC7-53F6676D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F4900-80D1-4605-A7C6-AD6EF297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32238-BC92-4FD1-9E4A-466232B1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2468B-4C2A-4790-8A9A-CE793A3D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F54D2-DEC8-4FF4-969D-586B8B01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EFE7F-9785-49F2-83B6-D1705C13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3C7-24C9-4FCF-8381-AB29660F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930E1-0033-4FB1-A54D-F97DD19E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AF1F8-7A68-4838-9B23-2E354AE5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F2E12-37FE-432E-94A9-28295CB0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83A02-45F2-4DD2-BBC5-92A550E1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E3794-61BA-4DC9-982A-BFD6FE3E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D93F4-145D-484C-B345-7A7A4761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DEDFB-4692-41B5-ADF9-AF61B726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6F8A5-1DDA-43D8-BD41-DEE54E43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77957-6845-4BD1-B701-6C7F9FD3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65FC3-AAA7-41CA-94DB-88406A75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54C6-61DB-45BB-AD62-92A75CE3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FB435-98FA-40AE-84F2-06121482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E1CC6-158F-4C2E-BFD7-E9D14EA9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2D8B0-223D-4787-ADD8-8EF2C791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81A33-A6D9-4C71-B3AF-1091462B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54109-025C-49A2-B27E-B5A883F5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FFB0B-C182-44A1-86B3-C45FD7AC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93DF0-B9AB-41AA-8379-71B7D1F9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37357-C77D-4D13-8178-FD81C37B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DEBB1-F9E0-45D0-A8E5-6529D971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2194B-9948-4C71-AE1E-52F5A4DE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9E3-0432-4636-9F73-F52EFB17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FC000-B33D-44DE-8DA4-764B8FC7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3673F-3F1A-4D8D-B52F-70E50B5D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4C1DC-961F-4C4F-B326-E03EBABB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5BC97-8167-4BF4-A84C-A93C0BA6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73B50-FB0A-4CFB-9490-2E44639D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BC2EB-4CEB-48C7-B30D-9A7E18F1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346B3-EE36-4E02-873F-57EC81AB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03F74-0342-419E-9EF0-B583CFA9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01C2C-12B8-4C23-A61D-91732354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6441C-57A2-438F-ABD5-EDEFA70D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CF9F-3C71-4088-B4D4-AD636D49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42A79-1FB4-4621-86CB-72ED220E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F7C78-A54D-451F-B203-103EFFA8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319C2-83C4-49AC-A2B8-CF547C6C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4B22C-57E7-468E-95FB-1CBD53E8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3B3FC-19FB-4F2A-BD1B-567786F2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7C73F-7D53-4332-95E0-DF178CA0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549CD-E3E7-4410-815A-14E78B70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C9D0A-8BFD-41F9-A9AC-02A6823B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68FBA-686E-49B9-89FB-14D02766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9EAF4-B85E-45E2-AA6D-BAC9F15D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918B-6E34-4FB3-B467-30A5C8F8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73FFE-1EE7-4CE1-B4C4-E02E9097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E71D8-0B0A-42F4-A5B8-CAA9D5C7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0509F-B660-47FC-A753-74D01F1C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CC07C-820C-434B-88DD-2254553C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A91B6-2DA5-4AE8-8609-BADFE7CD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38133-A9A8-47BB-A442-7FEBAC37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6EA7D-63B0-47F1-9403-58E95EED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FDE47-650B-4216-A67E-A7E7FF19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C3C7F-49A7-48B5-8CB6-40959199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650AB-3DCF-446E-BE44-FA2F3562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8053-B854-4381-A9B7-8036DD45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5A2A4-1E7C-403D-88F1-98AAABE3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D3D15-C938-4423-B181-8D857C61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BB2D3-C1EB-478A-961D-E4ADB47A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97AED-54D6-4E0C-909F-81D401CD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E1098-265B-4719-AA0E-A2D333D8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BA7D8-FD88-45E5-90CD-2E70D6E9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C6630-F159-4EE2-9E0C-51AE9F49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E7D0F-FEA6-4FAD-8496-D1C76F0C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569D6-ADF3-4EA2-9C44-DFB293B9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940FF-839C-4A7A-A4E9-DCA88A39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68120" y="1801800"/>
            <a:ext cx="9736200" cy="55627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68120" y="168120"/>
            <a:ext cx="9717120" cy="148464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3749F8-B5DA-4BE6-A279-C99CA839E9C6}" type="slidenum">
              <a:rPr b="0" lang="en-GB" sz="12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728120" y="168120"/>
            <a:ext cx="2184120" cy="72262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68120" y="169920"/>
            <a:ext cx="7393320" cy="722304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FA69A5-51B1-4A6E-8604-3AC47F828A4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28120" y="168120"/>
            <a:ext cx="2184120" cy="72262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68120" y="169920"/>
            <a:ext cx="7393320" cy="722304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709BFF-F749-420B-9BE3-6C5E186FBE7B}" type="slidenum">
              <a:rPr b="0" lang="en-GB" sz="12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68120" y="166680"/>
            <a:ext cx="9736200" cy="722628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CE3197-4658-409A-9625-4F98FE828BBB}" type="slidenum">
              <a:rPr b="0" lang="en-GB" sz="12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728120" y="166680"/>
            <a:ext cx="2184120" cy="72262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68120" y="168120"/>
            <a:ext cx="7393320" cy="72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C56991-7272-4850-9871-36D17181F04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728120" y="166680"/>
            <a:ext cx="21841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AC43DB-B22F-4E09-AF4C-B9CE2078F329}" type="slidenum">
              <a:rPr b="0" lang="en-GB" sz="12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68120" y="162000"/>
            <a:ext cx="7393320" cy="72277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728120" y="162000"/>
            <a:ext cx="2157120" cy="72277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A278AA-DD89-4098-88F8-3AD5F1F51CED}" type="slidenum">
              <a:rPr b="0" lang="en-GB" sz="12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168120" y="1801800"/>
            <a:ext cx="9736200" cy="55627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168120" y="168120"/>
            <a:ext cx="9717120" cy="148464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1D7E8E-A7A0-4A05-ACF5-56CED72A9BE4}" type="slidenum">
              <a:rPr b="0" lang="en-GB" sz="12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8"/>
          <p:cNvSpPr/>
          <p:nvPr/>
        </p:nvSpPr>
        <p:spPr>
          <a:xfrm>
            <a:off x="168120" y="1801800"/>
            <a:ext cx="9736200" cy="55627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168120" y="168120"/>
            <a:ext cx="9717120" cy="148464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B6CE45-754C-42C8-ABB0-10D25098386B}" type="slidenum">
              <a:rPr b="0" lang="en-GB" sz="12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1" lang="en-GB" sz="4400" spc="-1" strike="noStrike">
                <a:solidFill>
                  <a:srgbClr val="ffc000"/>
                </a:solidFill>
                <a:latin typeface="Franklin Gothic Medium"/>
              </a:rPr>
              <a:t>ШКОЛЬНАЯ ФОРМА</a:t>
            </a:r>
            <a:r>
              <a:rPr b="1" lang="en-US" sz="4400" spc="-1" strike="noStrike">
                <a:solidFill>
                  <a:srgbClr val="ffc000"/>
                </a:solidFill>
                <a:latin typeface="Franklin Gothic Medium"/>
              </a:rPr>
              <a:t>- </a:t>
            </a:r>
            <a:br>
              <a:rPr sz="4400"/>
            </a:br>
            <a:r>
              <a:rPr b="1" lang="ru-RU" sz="4400" spc="-1" strike="noStrike">
                <a:solidFill>
                  <a:srgbClr val="ffc000"/>
                </a:solidFill>
                <a:latin typeface="Franklin Gothic Medium"/>
              </a:rPr>
              <a:t>«ЗА» И «ПРОТИВ»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2920" y="2050920"/>
            <a:ext cx="907236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1" lang="ru-RU" sz="2800" spc="-1" strike="noStrike">
                <a:solidFill>
                  <a:srgbClr val="693122"/>
                </a:solidFill>
                <a:latin typeface="Franklin Gothic Medium"/>
              </a:rPr>
              <a:t>ОРКСЭ модуль «Светская этика»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1" lang="ru-RU" sz="2800" spc="-1" strike="noStrike">
                <a:solidFill>
                  <a:srgbClr val="693122"/>
                </a:solidFill>
                <a:latin typeface="Franklin Gothic Medium"/>
              </a:rPr>
              <a:t>ГБОУ лицей № 408 Пушкинского района СПб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1" lang="ru-RU" sz="2800" spc="-1" strike="noStrike">
                <a:solidFill>
                  <a:srgbClr val="693122"/>
                </a:solidFill>
                <a:latin typeface="Franklin Gothic Medium"/>
              </a:rPr>
              <a:t>учитель начальных классов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1" lang="ru-RU" sz="2800" spc="-1" strike="noStrike">
                <a:solidFill>
                  <a:srgbClr val="693122"/>
                </a:solidFill>
                <a:latin typeface="Franklin Gothic Medium"/>
              </a:rPr>
              <a:t>Панова Елена Анатольевна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AutoShape 2"/>
          <p:cNvSpPr/>
          <p:nvPr/>
        </p:nvSpPr>
        <p:spPr>
          <a:xfrm>
            <a:off x="647640" y="6083280"/>
            <a:ext cx="8785440" cy="115272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534949"/>
                </a:solidFill>
                <a:latin typeface="Arial"/>
              </a:rPr>
              <a:t>Ф</a:t>
            </a:r>
            <a:r>
              <a:rPr b="1" i="1" lang="en-GB" sz="2400" spc="-1" strike="noStrike">
                <a:solidFill>
                  <a:srgbClr val="534949"/>
                </a:solidFill>
                <a:latin typeface="Arial"/>
              </a:rPr>
              <a:t>орма </a:t>
            </a:r>
            <a:r>
              <a:rPr b="1" i="1" lang="ru-RU" sz="2400" spc="-1" strike="noStrike">
                <a:solidFill>
                  <a:srgbClr val="534949"/>
                </a:solidFill>
                <a:latin typeface="Arial"/>
              </a:rPr>
              <a:t>японских школьников</a:t>
            </a:r>
            <a:r>
              <a:rPr b="1" i="1" lang="en-GB" sz="2400" spc="-1" strike="noStrike">
                <a:solidFill>
                  <a:srgbClr val="53494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2" descr="Гордость японских школьников – ЯПОНСКИЙ ЯЗЫК"/>
          <p:cNvPicPr/>
          <p:nvPr/>
        </p:nvPicPr>
        <p:blipFill>
          <a:blip r:embed="rId1"/>
          <a:srcRect l="2313" t="0" r="18575" b="0"/>
          <a:stretch/>
        </p:blipFill>
        <p:spPr>
          <a:xfrm>
            <a:off x="1655640" y="539640"/>
            <a:ext cx="658044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AutoShape 2"/>
          <p:cNvSpPr/>
          <p:nvPr/>
        </p:nvSpPr>
        <p:spPr>
          <a:xfrm>
            <a:off x="3240" y="6156360"/>
            <a:ext cx="8785080" cy="115092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534949"/>
                </a:solidFill>
                <a:latin typeface="Arial"/>
              </a:rPr>
              <a:t>Ф</a:t>
            </a:r>
            <a:r>
              <a:rPr b="1" i="1" lang="en-GB" sz="2400" spc="-1" strike="noStrike">
                <a:solidFill>
                  <a:srgbClr val="534949"/>
                </a:solidFill>
                <a:latin typeface="Arial"/>
              </a:rPr>
              <a:t>орма </a:t>
            </a:r>
            <a:r>
              <a:rPr b="1" i="1" lang="ru-RU" sz="2400" spc="-1" strike="noStrike">
                <a:solidFill>
                  <a:srgbClr val="534949"/>
                </a:solidFill>
                <a:latin typeface="Arial"/>
              </a:rPr>
              <a:t>итальянских школьников</a:t>
            </a:r>
            <a:r>
              <a:rPr b="1" i="1" lang="en-GB" sz="2400" spc="-1" strike="noStrike">
                <a:solidFill>
                  <a:srgbClr val="53494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2" descr="В Италии на священников подали в суд за благословение школьников | CNL NEWS  — Христианские новости"/>
          <p:cNvPicPr/>
          <p:nvPr/>
        </p:nvPicPr>
        <p:blipFill>
          <a:blip r:embed="rId1"/>
          <a:srcRect l="11379" t="0" r="14145" b="0"/>
          <a:stretch/>
        </p:blipFill>
        <p:spPr>
          <a:xfrm>
            <a:off x="287280" y="1187280"/>
            <a:ext cx="5761080" cy="4032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Как выглядит школьная форма в Италии | Italiano4ka | Яндекс Дзен"/>
          <p:cNvPicPr/>
          <p:nvPr/>
        </p:nvPicPr>
        <p:blipFill>
          <a:blip r:embed="rId2"/>
          <a:srcRect l="23489" t="2442" r="5276" b="1574"/>
          <a:stretch/>
        </p:blipFill>
        <p:spPr>
          <a:xfrm>
            <a:off x="6335640" y="179280"/>
            <a:ext cx="3538440" cy="61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AutoShape 2"/>
          <p:cNvSpPr/>
          <p:nvPr/>
        </p:nvSpPr>
        <p:spPr>
          <a:xfrm>
            <a:off x="3240" y="6156360"/>
            <a:ext cx="8785080" cy="115092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534949"/>
                </a:solidFill>
                <a:latin typeface="Arial"/>
              </a:rPr>
              <a:t>Ф</a:t>
            </a:r>
            <a:r>
              <a:rPr b="1" i="1" lang="en-GB" sz="2400" spc="-1" strike="noStrike">
                <a:solidFill>
                  <a:srgbClr val="534949"/>
                </a:solidFill>
                <a:latin typeface="Arial"/>
              </a:rPr>
              <a:t>орма </a:t>
            </a:r>
            <a:r>
              <a:rPr b="1" i="1" lang="ru-RU" sz="2400" spc="-1" strike="noStrike">
                <a:solidFill>
                  <a:srgbClr val="534949"/>
                </a:solidFill>
                <a:latin typeface="Arial"/>
              </a:rPr>
              <a:t>британских школьников</a:t>
            </a:r>
            <a:r>
              <a:rPr b="1" i="1" lang="en-GB" sz="2400" spc="-1" strike="noStrike">
                <a:solidFill>
                  <a:srgbClr val="53494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2" descr="Самые стильные модели школьной формы Великобритании – The City, 01.09.2019"/>
          <p:cNvPicPr/>
          <p:nvPr/>
        </p:nvPicPr>
        <p:blipFill>
          <a:blip r:embed="rId1"/>
          <a:srcRect l="15386" t="0" r="16665" b="0"/>
          <a:stretch/>
        </p:blipFill>
        <p:spPr>
          <a:xfrm>
            <a:off x="144360" y="250920"/>
            <a:ext cx="5087880" cy="37447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Школьная форма в Великобритании"/>
          <p:cNvPicPr/>
          <p:nvPr/>
        </p:nvPicPr>
        <p:blipFill>
          <a:blip r:embed="rId2"/>
          <a:stretch/>
        </p:blipFill>
        <p:spPr>
          <a:xfrm>
            <a:off x="5327640" y="2394000"/>
            <a:ext cx="453708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461880" y="351000"/>
            <a:ext cx="90709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Gothic"/>
              </a:rPr>
              <a:t>ШКОЛЬ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MS Gothic"/>
              </a:rPr>
              <a:t>АЯ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Gothic"/>
              </a:rPr>
              <a:t> ФОР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MS Gothic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Gothic"/>
              </a:rPr>
              <a:t>«ЗА»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MS Gothic"/>
              </a:rPr>
              <a:t>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Gothic"/>
              </a:rPr>
              <a:t>«ПРОТИВ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2"/>
          <p:cNvSpPr/>
          <p:nvPr/>
        </p:nvSpPr>
        <p:spPr>
          <a:xfrm>
            <a:off x="1025640" y="1747800"/>
            <a:ext cx="9070920" cy="52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12600"/>
                <a:tab algn="l" pos="461880"/>
                <a:tab algn="l" pos="91440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396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68680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1"/>
          <p:cNvSpPr/>
          <p:nvPr/>
        </p:nvSpPr>
        <p:spPr>
          <a:xfrm>
            <a:off x="387360" y="1717560"/>
            <a:ext cx="4116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Форма дисциплинирует, выделяет от учеников других шк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Дети не завидуют друг дру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Не нужно думать, что наде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Чувство еди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3"/>
          <p:cNvSpPr/>
          <p:nvPr/>
        </p:nvSpPr>
        <p:spPr>
          <a:xfrm>
            <a:off x="5172120" y="2211480"/>
            <a:ext cx="388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Загоняет в рам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сё равно есть поводы для зави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Не всегда удобная в нош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Не нравится большинству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imes New Roman"/>
              </a:rPr>
              <a:t>РАССМОТРИ РИСУНКИ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pic>
        <p:nvPicPr>
          <p:cNvPr id="444" name="Рисунок 6" descr="Национальный стандарт школьной формы должен повысить ее качество, не  увеличивая расходы родителей — ЯСИА"/>
          <p:cNvPicPr/>
          <p:nvPr/>
        </p:nvPicPr>
        <p:blipFill>
          <a:blip r:embed="rId1"/>
          <a:stretch/>
        </p:blipFill>
        <p:spPr>
          <a:xfrm>
            <a:off x="287280" y="1768320"/>
            <a:ext cx="4643640" cy="352440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7" descr="Дети в повседневной летней одежде на все тело | Бесплатно Фото"/>
          <p:cNvPicPr/>
          <p:nvPr/>
        </p:nvPicPr>
        <p:blipFill>
          <a:blip r:embed="rId2"/>
          <a:stretch/>
        </p:blipFill>
        <p:spPr>
          <a:xfrm>
            <a:off x="4930920" y="3308400"/>
            <a:ext cx="4986360" cy="39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287280" y="1907640"/>
            <a:ext cx="9506160" cy="525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algn="ctr">
              <a:lnSpc>
                <a:spcPct val="87000"/>
              </a:lnSpc>
              <a:spcBef>
                <a:spcPts val="649"/>
              </a:spcBef>
              <a:tabLst>
                <a:tab algn="l" pos="0"/>
                <a:tab algn="l" pos="12600"/>
                <a:tab algn="l" pos="461880"/>
                <a:tab algn="l" pos="91440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396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68680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7640" y="324000"/>
            <a:ext cx="8640720" cy="129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ru-RU" sz="5400" spc="-1" strike="noStrike">
                <a:solidFill>
                  <a:srgbClr val="92d050"/>
                </a:solidFill>
                <a:latin typeface="Franklin Gothic Medium"/>
              </a:rPr>
              <a:t>ПРАВИЛА ДРЕСС-КОДА</a:t>
            </a:r>
            <a:r>
              <a:rPr b="0" lang="ru-RU" sz="3500" spc="-1" strike="noStrike">
                <a:solidFill>
                  <a:srgbClr val="92d050"/>
                </a:solidFill>
                <a:latin typeface="Franklin Gothic Medium"/>
              </a:rPr>
              <a:t>.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48" name="TextBox 1"/>
          <p:cNvSpPr/>
          <p:nvPr/>
        </p:nvSpPr>
        <p:spPr>
          <a:xfrm>
            <a:off x="936720" y="212400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Выглядеть опрятн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Табу на яркую и броскую бижутер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Удобная обувь с закрытым носком и пяткой, но не спортив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.Даже в жаркую погоду  мальчики не должны носить шорты, а девочки должны быть в колгот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287280" y="1907640"/>
            <a:ext cx="9506160" cy="525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algn="ctr">
              <a:lnSpc>
                <a:spcPct val="87000"/>
              </a:lnSpc>
              <a:spcBef>
                <a:spcPts val="649"/>
              </a:spcBef>
              <a:tabLst>
                <a:tab algn="l" pos="0"/>
                <a:tab algn="l" pos="12600"/>
                <a:tab algn="l" pos="461880"/>
                <a:tab algn="l" pos="91440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396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68680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47640" y="324000"/>
            <a:ext cx="8640720" cy="129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92d050"/>
                </a:solidFill>
                <a:latin typeface="Franklin Gothic Medium"/>
              </a:rPr>
              <a:t>ВЫВОДЫ «ЗА» ШКОЛЬНУЮ ФОРМУ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51" name="TextBox 1"/>
          <p:cNvSpPr/>
          <p:nvPr/>
        </p:nvSpPr>
        <p:spPr>
          <a:xfrm>
            <a:off x="658800" y="2050920"/>
            <a:ext cx="8416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Помогает сгладить разницу в материальном положении среди школьн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Воспитывает в учащихся внутреннюю дисциплин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Прививает хороший вкус к элегантному деловому стил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Формирует чувства общности и сплоченности с классом, школ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Даёт возможность осознать себя учеником и членом коллекти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Помогает настроиться на работ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Не позволяет учащимся одеваться вызывающ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287280" y="1907640"/>
            <a:ext cx="9506160" cy="525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algn="ctr">
              <a:lnSpc>
                <a:spcPct val="87000"/>
              </a:lnSpc>
              <a:spcBef>
                <a:spcPts val="649"/>
              </a:spcBef>
              <a:tabLst>
                <a:tab algn="l" pos="0"/>
                <a:tab algn="l" pos="12600"/>
                <a:tab algn="l" pos="461880"/>
                <a:tab algn="l" pos="91440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396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68680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47640" y="324000"/>
            <a:ext cx="8640720" cy="129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Franklin Gothic Medium"/>
              </a:rPr>
              <a:t>РЕФЛЕКСИЯ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54" name="TextBox 1"/>
          <p:cNvSpPr/>
          <p:nvPr/>
        </p:nvSpPr>
        <p:spPr>
          <a:xfrm>
            <a:off x="287280" y="1908000"/>
            <a:ext cx="9506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было для ва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тересным на урок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зменилось ли ваше отношение к школьной форм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1" descr=""/>
          <p:cNvPicPr/>
          <p:nvPr/>
        </p:nvPicPr>
        <p:blipFill>
          <a:blip r:embed="rId1"/>
          <a:stretch/>
        </p:blipFill>
        <p:spPr>
          <a:xfrm>
            <a:off x="7201080" y="1957320"/>
            <a:ext cx="2376360" cy="404028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" descr=""/>
          <p:cNvPicPr/>
          <p:nvPr/>
        </p:nvPicPr>
        <p:blipFill>
          <a:blip r:embed="rId2"/>
          <a:stretch/>
        </p:blipFill>
        <p:spPr>
          <a:xfrm>
            <a:off x="863640" y="3459240"/>
            <a:ext cx="3889440" cy="26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Прямоугольник 1"/>
          <p:cNvSpPr/>
          <p:nvPr/>
        </p:nvSpPr>
        <p:spPr>
          <a:xfrm>
            <a:off x="863640" y="1042920"/>
            <a:ext cx="8424720" cy="26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ные материал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s://bykm.ru/development/nuzhna-li-forma-v-shkole-klassnyi-chas-na-temu-zachem-nuzhna-shkolnaya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s://multiurok.ru/files/prezentatsiia-k-proektu-nuzhna-li-shkolnaia-form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.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https://www.culture.ru/materials/51485/po-odezhke-vstrechay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360360" y="1279440"/>
            <a:ext cx="939636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42880"/>
                <a:tab algn="l" pos="2166840"/>
                <a:tab algn="l" pos="2890800"/>
                <a:tab algn="l" pos="36147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агандировать деловой стиль одежды для школьников.  воспитывать осознанное отношение к внешнему вид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42880"/>
                <a:tab algn="l" pos="2166840"/>
                <a:tab algn="l" pos="2890800"/>
                <a:tab algn="l" pos="36147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ировать и аргументировать высказывание за и против школьной фор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719280"/>
                <a:tab algn="l" pos="1442880"/>
                <a:tab algn="l" pos="2166840"/>
                <a:tab algn="l" pos="2890800"/>
                <a:tab algn="l" pos="36147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Познакомить  обучающихся с историей школьной формы в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719280"/>
                <a:tab algn="l" pos="1442880"/>
                <a:tab algn="l" pos="2166840"/>
                <a:tab algn="l" pos="2890800"/>
                <a:tab algn="l" pos="36147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Представить школьную форму различных стра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719280"/>
                <a:tab algn="l" pos="1442880"/>
                <a:tab algn="l" pos="2166840"/>
                <a:tab algn="l" pos="2890800"/>
                <a:tab algn="l" pos="36147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Формировать умения красиво и правильно одеваться, соответственно определенным жизненным ситуация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719280"/>
                <a:tab algn="l" pos="1442880"/>
                <a:tab algn="l" pos="2166840"/>
                <a:tab algn="l" pos="2890800"/>
                <a:tab algn="l" pos="36147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Развивать культуру поведения и  культуру внешнего вида</a:t>
            </a:r>
            <a:br>
              <a:rPr sz="32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91640" y="301680"/>
            <a:ext cx="8783640" cy="88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imes New Roman"/>
              </a:rPr>
              <a:t>РАССМОТРИ РИСУНКИ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pic>
        <p:nvPicPr>
          <p:cNvPr id="400" name="Рисунок 6" descr="Форма для студентов военной кафедры | ВКонтакте"/>
          <p:cNvPicPr/>
          <p:nvPr/>
        </p:nvPicPr>
        <p:blipFill>
          <a:blip r:embed="rId1"/>
          <a:stretch/>
        </p:blipFill>
        <p:spPr>
          <a:xfrm>
            <a:off x="905040" y="1768320"/>
            <a:ext cx="1871640" cy="267048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7" descr="КУРТКА П/Ш полиции | Военторг - военный, армейский интернет магазин в Тюмени"/>
          <p:cNvPicPr/>
          <p:nvPr/>
        </p:nvPicPr>
        <p:blipFill>
          <a:blip r:embed="rId2"/>
          <a:stretch/>
        </p:blipFill>
        <p:spPr>
          <a:xfrm>
            <a:off x="3745080" y="1768320"/>
            <a:ext cx="1726920" cy="267048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8" descr="Боевая одежда пожарного БОП-2 купить в Москве"/>
          <p:cNvPicPr/>
          <p:nvPr/>
        </p:nvPicPr>
        <p:blipFill>
          <a:blip r:embed="rId3"/>
          <a:stretch/>
        </p:blipFill>
        <p:spPr>
          <a:xfrm>
            <a:off x="6119640" y="1768320"/>
            <a:ext cx="2233800" cy="267048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9" descr="Самые красивые российские стюардессы - PEOPLETALK"/>
          <p:cNvPicPr/>
          <p:nvPr/>
        </p:nvPicPr>
        <p:blipFill>
          <a:blip r:embed="rId4"/>
          <a:stretch/>
        </p:blipFill>
        <p:spPr>
          <a:xfrm>
            <a:off x="1727280" y="4438800"/>
            <a:ext cx="2017800" cy="232380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10" descr="Форма для врачей купить в Москве в интернет-магазине"/>
          <p:cNvPicPr/>
          <p:nvPr/>
        </p:nvPicPr>
        <p:blipFill>
          <a:blip r:embed="rId5"/>
          <a:stretch/>
        </p:blipFill>
        <p:spPr>
          <a:xfrm>
            <a:off x="4968720" y="4438800"/>
            <a:ext cx="2129040" cy="2323800"/>
          </a:xfrm>
          <a:prstGeom prst="rect">
            <a:avLst/>
          </a:prstGeom>
          <a:ln w="0">
            <a:noFill/>
          </a:ln>
        </p:spPr>
      </p:pic>
      <p:sp>
        <p:nvSpPr>
          <p:cNvPr id="405" name="TextBox 1"/>
          <p:cNvSpPr/>
          <p:nvPr/>
        </p:nvSpPr>
        <p:spPr>
          <a:xfrm>
            <a:off x="1368360" y="676260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– это удобная и эстетичная одеж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imes New Roman"/>
              </a:rPr>
              <a:t>РАССМОТРИ РИСУНКИ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8" name="TextBox 1"/>
          <p:cNvSpPr/>
          <p:nvPr/>
        </p:nvSpPr>
        <p:spPr>
          <a:xfrm>
            <a:off x="287280" y="6845400"/>
            <a:ext cx="95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в форме внушает доверие и ува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Рисунок 7" descr="Человек В Форме Шеф-повара Держит Кастрюлю И Лицензионные фото и стоковые  изображения"/>
          <p:cNvPicPr/>
          <p:nvPr/>
        </p:nvPicPr>
        <p:blipFill>
          <a:blip r:embed="rId1"/>
          <a:srcRect l="31267" t="0" r="7496" b="0"/>
          <a:stretch/>
        </p:blipFill>
        <p:spPr>
          <a:xfrm>
            <a:off x="1152360" y="1909800"/>
            <a:ext cx="2159280" cy="243504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9" descr="Смеяться или плакать: 18 человек, которые носили одежду и аксессуары  сомнительного стиля, считая их модными"/>
          <p:cNvPicPr/>
          <p:nvPr/>
        </p:nvPicPr>
        <p:blipFill>
          <a:blip r:embed="rId2"/>
          <a:stretch/>
        </p:blipFill>
        <p:spPr>
          <a:xfrm>
            <a:off x="5761080" y="1909800"/>
            <a:ext cx="1773360" cy="234144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10" descr="Неглубокая фотография двух человек в военной форме · бесплатные стоковые  фото"/>
          <p:cNvPicPr/>
          <p:nvPr/>
        </p:nvPicPr>
        <p:blipFill>
          <a:blip r:embed="rId3"/>
          <a:srcRect l="8333" t="0" r="45826" b="0"/>
          <a:stretch/>
        </p:blipFill>
        <p:spPr>
          <a:xfrm>
            <a:off x="1152360" y="4484520"/>
            <a:ext cx="2016360" cy="236088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11" descr="Модный треш: почему грязная и рваная одежда становится популярной | ПРО  красивости: DIY и искусство | Яндекс Дзен"/>
          <p:cNvPicPr/>
          <p:nvPr/>
        </p:nvPicPr>
        <p:blipFill>
          <a:blip r:embed="rId4"/>
          <a:stretch/>
        </p:blipFill>
        <p:spPr>
          <a:xfrm>
            <a:off x="5794200" y="4484520"/>
            <a:ext cx="1740240" cy="22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imes New Roman"/>
              </a:rPr>
              <a:t>РАССМОТРИ РИСУНКИ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pic>
        <p:nvPicPr>
          <p:cNvPr id="415" name="Рисунок 4" descr="Ответы Mail.ru: Русская национальная одежда"/>
          <p:cNvPicPr/>
          <p:nvPr/>
        </p:nvPicPr>
        <p:blipFill>
          <a:blip r:embed="rId1"/>
          <a:stretch/>
        </p:blipFill>
        <p:spPr>
          <a:xfrm>
            <a:off x="831960" y="1851120"/>
            <a:ext cx="2952720" cy="491472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5" descr="Национальный костюм — LiveJournal"/>
          <p:cNvPicPr/>
          <p:nvPr/>
        </p:nvPicPr>
        <p:blipFill>
          <a:blip r:embed="rId2"/>
          <a:srcRect l="0" t="8820" r="25910" b="0"/>
          <a:stretch/>
        </p:blipFill>
        <p:spPr>
          <a:xfrm>
            <a:off x="5472000" y="1808280"/>
            <a:ext cx="3313080" cy="491472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"/>
          <p:cNvSpPr/>
          <p:nvPr/>
        </p:nvSpPr>
        <p:spPr>
          <a:xfrm>
            <a:off x="503280" y="6845400"/>
            <a:ext cx="87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ть узнаваемым, чтобы выделяться отличаться от других нар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1079640" y="666720"/>
            <a:ext cx="8567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86868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S Gothic"/>
              </a:rPr>
              <a:t>Форма, униформа (лат. forma «форма», лат. uniformis «единообразный»), мундир — одинаковая по стилю, покрою, цвету и ткани специальная (служебная) одежда для создания единого облика корпоративной групп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1" descr=""/>
          <p:cNvPicPr/>
          <p:nvPr/>
        </p:nvPicPr>
        <p:blipFill>
          <a:blip r:embed="rId1"/>
          <a:srcRect l="0" t="2551" r="0" b="5225"/>
          <a:stretch/>
        </p:blipFill>
        <p:spPr>
          <a:xfrm>
            <a:off x="3168720" y="2916360"/>
            <a:ext cx="2808360" cy="44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1" lang="en-GB" sz="4000" spc="-1" strike="noStrike">
                <a:solidFill>
                  <a:srgbClr val="92d050"/>
                </a:solidFill>
                <a:latin typeface="Times New Roman"/>
              </a:rPr>
              <a:t>ИЗ ИСТОРИИ ШКОЛЬНОЙ ФОРМЫ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Школьная форма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для девочек 1917 года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5148360" y="1743120"/>
            <a:ext cx="442728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1" descr=""/>
          <p:cNvPicPr/>
          <p:nvPr/>
        </p:nvPicPr>
        <p:blipFill>
          <a:blip r:embed="rId1"/>
          <a:stretch/>
        </p:blipFill>
        <p:spPr>
          <a:xfrm>
            <a:off x="576360" y="325440"/>
            <a:ext cx="2448000" cy="33894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2"/>
          <a:stretch/>
        </p:blipFill>
        <p:spPr>
          <a:xfrm>
            <a:off x="7061040" y="325440"/>
            <a:ext cx="2659320" cy="3416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"/>
          <p:cNvPicPr/>
          <p:nvPr/>
        </p:nvPicPr>
        <p:blipFill>
          <a:blip r:embed="rId3"/>
          <a:stretch/>
        </p:blipFill>
        <p:spPr>
          <a:xfrm>
            <a:off x="496800" y="3780000"/>
            <a:ext cx="2737080" cy="35193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"/>
          <p:cNvPicPr/>
          <p:nvPr/>
        </p:nvPicPr>
        <p:blipFill>
          <a:blip r:embed="rId4"/>
          <a:stretch/>
        </p:blipFill>
        <p:spPr>
          <a:xfrm>
            <a:off x="6910560" y="3924360"/>
            <a:ext cx="2813040" cy="3375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"/>
          <p:cNvPicPr/>
          <p:nvPr/>
        </p:nvPicPr>
        <p:blipFill>
          <a:blip r:embed="rId5"/>
          <a:stretch/>
        </p:blipFill>
        <p:spPr>
          <a:xfrm>
            <a:off x="3503520" y="1079640"/>
            <a:ext cx="328932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2"/>
          <p:cNvSpPr/>
          <p:nvPr/>
        </p:nvSpPr>
        <p:spPr>
          <a:xfrm>
            <a:off x="647640" y="6083280"/>
            <a:ext cx="8785440" cy="115272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534949"/>
                </a:solidFill>
                <a:latin typeface="Arial"/>
              </a:rPr>
              <a:t>Школьная форма в таком ви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534949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534949"/>
                </a:solidFill>
                <a:latin typeface="Arial"/>
              </a:rPr>
              <a:t>просуществовала до</a:t>
            </a:r>
            <a:r>
              <a:rPr b="1" i="1" lang="ru-RU" sz="2400" spc="-1" strike="noStrike">
                <a:solidFill>
                  <a:srgbClr val="534949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534949"/>
                </a:solidFill>
                <a:latin typeface="Arial"/>
              </a:rPr>
              <a:t>90-ых г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Рисунок 1" descr=""/>
          <p:cNvPicPr/>
          <p:nvPr/>
        </p:nvPicPr>
        <p:blipFill>
          <a:blip r:embed="rId1"/>
          <a:stretch/>
        </p:blipFill>
        <p:spPr>
          <a:xfrm>
            <a:off x="1800360" y="250920"/>
            <a:ext cx="6945120" cy="583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</dc:creator>
  <dc:description/>
  <dc:language>en-US</dc:language>
  <cp:lastModifiedBy>дом</cp:lastModifiedBy>
  <dcterms:modified xsi:type="dcterms:W3CDTF">2022-05-23T20:09:51Z</dcterms:modified>
  <cp:revision>28</cp:revision>
  <dc:subject/>
  <dc:title>ШКОЛЬНАЯ ФОР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1d0000000000010243100207f6000400038000</vt:lpwstr>
  </property>
</Properties>
</file>