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072-D3B5-4BFF-93BD-A1E379D5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B9E-46CA-490D-A6E9-93D14494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335-7EFF-4D1E-BD7B-22EBE467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185-6E86-4745-BCB7-2D94236E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EE10-4BF3-4F41-B21E-87337EC9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47D6-59B6-4DB7-AC83-3015804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462-A28D-4A48-B0EE-2726BE8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8ED-233E-4793-B688-7328D65E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D521-4773-4C5D-8758-67827CA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42EB-9C6D-465C-8ECA-CEBAAF3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425-223B-4A2E-B1F9-AAB4687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691-EFBB-4797-BE7D-77544EEB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864-4A0B-40A6-9DD1-3473592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7AF-F659-4CF5-90F1-A8758EB8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C20-5D23-4EE3-AC79-411DC2E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0A0-6AC6-4E5F-8924-978A9F60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519B-1FE0-4FDD-A89C-6C14B660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FD4-92A1-400F-9DBD-3958C5E9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21F-5AAF-41D1-ADE6-153D26D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174-D717-467F-96ED-449720B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453-6311-4DC6-8EBA-D4393A1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A83-3345-4333-BD42-50617FF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A12-7B0E-4D77-A4F9-151166E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C35-3ABF-4168-9F42-41469CA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A79-7F7E-4BBE-A171-1DA05FDA37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59F-7650-48AA-BC1A-5DF42E913F6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4c3aa"/>
                </a:solidFill>
                <a:latin typeface="Arial"/>
              </a:rPr>
              <a:t>Храмы Петербурга – памятники православной культуры и истории города.</a:t>
            </a:r>
            <a:endParaRPr b="0" lang="en-US" sz="3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разработал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дреева Анастасия Павл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 ГБОУ СОШ 516 города Санкт-Петербург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735280" cy="3246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4105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Что символизируют фрагменты ограждения собора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етербургские храм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шают облик город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уют площад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ются составляющими архитектурных ансамб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т о связи с Византией, от которой приняла Русь христианств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Храм Вознесения Христова («Спас - на - крови»)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18920" y="1700280"/>
            <a:ext cx="298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958920" cy="4968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8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мольный собор </a:t>
            </a:r>
            <a:br>
              <a:rPr sz="4000"/>
            </a:br>
            <a:r>
              <a:rPr b="0" lang="ru-RU" sz="2400" spc="-1" strike="noStrike">
                <a:solidFill>
                  <a:srgbClr val="c4c3aa"/>
                </a:solidFill>
                <a:latin typeface="Arial"/>
              </a:rPr>
              <a:t>строится рядом с монастырем, куда собиралась удалиться от мирской суеты  Елизавета Петровна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02920" y="4076280"/>
            <a:ext cx="7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749760" cy="527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афедральные соборы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татус кафедрального собор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исваивается главному храму города, монастыр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 в православии, так и в католицизме, статус кафедрального собора присваивается храму раз и навсегда. Правящий архиерей может построить или избрать себе для нахождения кафедры другой храм, тогда этому новому храму присваивается статус кафедрального собора, за бывшим кафедральным также остается наименование собо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аакиевский соб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 Ринальди            О.Монферр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392360" cy="295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49672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Исаакиевский собор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888000" cy="5473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222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азанский соб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бор Св.Петра в Рим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ъясни связь межд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орам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724360" cy="2808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5003640" cy="3294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971640" y="1484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охороны М. И. Кутузов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Могила М. И. Кутузова в соборе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286160" cy="5281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279360" y="1341360"/>
            <a:ext cx="4076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обор Владимирской иконы Божьей  матери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1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20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пасо- Преображенский собор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2:25:37Z</dcterms:created>
  <dc:creator>Admin</dc:creator>
  <dc:description/>
  <dc:language>en-US</dc:language>
  <cp:lastModifiedBy>User Eldo</cp:lastModifiedBy>
  <dcterms:modified xsi:type="dcterms:W3CDTF">2022-12-04T12:49:18Z</dcterms:modified>
  <cp:revision>15</cp:revision>
  <dc:subject/>
  <dc:title>Православные храмы Петербурга.</dc:title>
</cp:coreProperties>
</file>