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21B-D1F9-479E-A029-32F40835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E13-E87B-47EC-B18C-DB76C7FE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B4F-4CEF-4F06-B7D1-5BECDFA7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DC8-34A6-4E36-97A5-1DBC8D2B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110D-6004-4C49-A903-A759EA4B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853-913B-4F51-925B-78D64AD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3763-728F-4AA2-BDB8-1895766B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5DBE-5365-4561-B965-22648915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9C1E-C0AB-4FD3-BA23-3F9C6BCD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C8E1-5B42-4B54-B677-73B5BD4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0132-D9B9-4805-8D4F-BD0BF386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BC4-521D-467A-A907-63CA176A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8884-9BC6-402C-9771-D0C6E42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E109-807C-4CE3-B8AF-04C41183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7BDF-B772-400E-9ACD-B4C85342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0392-47A6-46C8-A136-A00FC82F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EA3D-1B86-445E-8A90-C84F833E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AE3-F8EC-4D03-9E86-7B047717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B82-BEED-4485-BC34-6DC69E24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BD6-705E-486D-BDD0-5774F786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29F-0854-4821-96C8-1ACFF4E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968-DEDC-4CB2-AA26-DD90DB5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9D2-97BE-4CB0-BE61-BA792AF0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2F8-6BE8-4886-B762-8FED729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384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7440" y="429696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8280" y="399996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6120" y="374112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5320" y="342468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6400" y="317052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4120" y="262728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840" y="236916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3640" y="181692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2080" y="428184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5345-4FC4-419B-BF79-AF2AEFB49C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400" y="4522320"/>
                            <a:ext cx="255600" cy="4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3680" y="43333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4520" y="40363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2360" y="37774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3360" y="346140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2640" y="32068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0360" y="26636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080" y="240552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9880" y="18532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4C6E-1BED-4C65-A17D-5702C77C772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4c3aa"/>
                </a:solidFill>
                <a:latin typeface="Arial"/>
              </a:rPr>
              <a:t>Храмы Петербурга – памятники православной культуры и истории города.</a:t>
            </a:r>
            <a:endParaRPr b="0" lang="en-US" sz="3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7643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разработал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дреева Анастасия Павл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дополнительного образования ГБОУ СОШ 516 города Санкт-Петербург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735280" cy="3246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"/>
          <p:cNvPicPr/>
          <p:nvPr/>
        </p:nvPicPr>
        <p:blipFill>
          <a:blip r:embed="rId2"/>
          <a:stretch/>
        </p:blipFill>
        <p:spPr>
          <a:xfrm>
            <a:off x="3348000" y="1773360"/>
            <a:ext cx="4105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31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Что символизируют фрагменты ограждения собора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етербургские храмы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шают облик город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ируют площад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ются составляющими архитектурных ансамбл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т о связи с Византией, от которой приняла Русь христианств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Храм Вознесения Христова («Спас - на - крови»)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618920" y="1700280"/>
            <a:ext cx="298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958920" cy="4968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83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мольный собор </a:t>
            </a:r>
            <a:br>
              <a:rPr sz="4000"/>
            </a:br>
            <a:r>
              <a:rPr b="0" lang="ru-RU" sz="2400" spc="-1" strike="noStrike">
                <a:solidFill>
                  <a:srgbClr val="c4c3aa"/>
                </a:solidFill>
                <a:latin typeface="Arial"/>
              </a:rPr>
              <a:t>строится рядом с монастырем, куда собиралась удалиться от мирской суеты  Елизавета Петровна.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02920" y="4076280"/>
            <a:ext cx="7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749760" cy="5270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3816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афедральные соборы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татус кафедрального собор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исваивается главному храму города, монастыр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к в православии, так и в католицизме, статус кафедрального собора присваивается храму раз и навсегда. Правящий архиерей может построить или избрать себе для нахождения кафедры другой храм, тогда этому новому храму присваивается статус кафедрального собора, за бывшим кафедральным также остается наименование собо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аакиевский собор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 Ринальди            О.Монферр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392360" cy="295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496728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Исаакиевский собор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888000" cy="5473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222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азанский собор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бор Св.Петра в Рим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ъясни связь межд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орам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5724360" cy="2808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"/>
          <p:cNvPicPr/>
          <p:nvPr/>
        </p:nvPicPr>
        <p:blipFill>
          <a:blip r:embed="rId2"/>
          <a:stretch/>
        </p:blipFill>
        <p:spPr>
          <a:xfrm>
            <a:off x="4140360" y="3284640"/>
            <a:ext cx="5003640" cy="3294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971640" y="1484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охороны М. И. Кутузов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Могила М. И. Кутузова в соборе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4286160" cy="5281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279360" y="1341360"/>
            <a:ext cx="4076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обор Владимирской иконы Божьей  матери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1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208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пасо- Преображенский собор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22:25:37Z</dcterms:created>
  <dc:creator>Admin</dc:creator>
  <dc:description/>
  <dc:language>en-US</dc:language>
  <cp:lastModifiedBy>User Eldo</cp:lastModifiedBy>
  <dcterms:modified xsi:type="dcterms:W3CDTF">2022-12-04T12:49:18Z</dcterms:modified>
  <cp:revision>15</cp:revision>
  <dc:subject/>
  <dc:title>Православные храмы Петербурга.</dc:title>
</cp:coreProperties>
</file>